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28.wmf" ContentType="image/x-wmf"/>
  <Override PartName="/ppt/media/image39.png" ContentType="image/png"/>
  <Override PartName="/ppt/media/image24.wmf" ContentType="image/x-wmf"/>
  <Override PartName="/ppt/media/image33.wmf" ContentType="image/x-wmf"/>
  <Override PartName="/ppt/media/image34.png" ContentType="image/png"/>
  <Override PartName="/ppt/media/image40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9ED-BED7-4174-A511-696335C9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2E0-2E12-492C-A42B-0FFBA9B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C7D-59D9-4A27-91EF-06C809B1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2C0-31B2-499F-AD5A-AC78032D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B11-C0ED-43D9-8715-78D60AA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B323-21BD-45B7-8A6C-005440F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21DC-9E70-42C0-A0B7-5A7499D0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466-9639-4E01-BEE6-171956DF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06E7-0CF6-4E6A-BA7F-9E21A23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D97-58D8-4CA1-AC4A-66AEFF56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C156-896F-44FA-B2DD-30AB855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7C5-F883-4FD5-9E92-35BE9E96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C156-9480-4747-B4F6-C3346F4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CBFB-0BBE-436D-B967-60393F2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734-CB59-4673-A8FB-492D3105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E924-D8EA-4309-93BE-0F81744D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602-3495-401C-9DA4-56A4221D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9A7-E69B-4063-802E-AE368B33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0B0-EA7E-494B-992F-83220D1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726-3ABF-40D7-A8F3-703E055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CCD-4370-46D4-9B4B-A4C99D2D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84F-CD9C-44A1-809C-95E9C94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D17-E354-43AD-8B28-B141FAB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425-CDCB-4388-A12F-CD9E187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8BB-7459-41CF-BE12-B223BC6523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BE9-C7C8-4C15-8667-5360567886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2.wmf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69418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Урок обществознания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6 класс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1640" y="1915920"/>
            <a:ext cx="73371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Tahoma"/>
              </a:rPr>
              <a:t>тем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ungsuh"/>
              </a:rPr>
              <a:t>Какие бывают потребност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рамка_тонкая 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067280" y="5013360"/>
            <a:ext cx="456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ОУ Абатская СОШ №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ожкина Л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304920"/>
            <a:ext cx="799308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Ложные потреб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7" name="Picture 5" descr="bd00024_"/>
          <p:cNvPicPr/>
          <p:nvPr/>
        </p:nvPicPr>
        <p:blipFill>
          <a:blip r:embed="rId1"/>
          <a:stretch/>
        </p:blipFill>
        <p:spPr>
          <a:xfrm>
            <a:off x="1332000" y="1773360"/>
            <a:ext cx="1938240" cy="1584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8" name="Picture 6" descr="bd00026_"/>
          <p:cNvPicPr/>
          <p:nvPr/>
        </p:nvPicPr>
        <p:blipFill>
          <a:blip r:embed="rId2"/>
          <a:stretch/>
        </p:blipFill>
        <p:spPr>
          <a:xfrm>
            <a:off x="4356000" y="1844640"/>
            <a:ext cx="1752840" cy="1628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9" name="Picture 7" descr="hm00323_"/>
          <p:cNvPicPr/>
          <p:nvPr/>
        </p:nvPicPr>
        <p:blipFill>
          <a:blip r:embed="rId3"/>
          <a:stretch/>
        </p:blipFill>
        <p:spPr>
          <a:xfrm>
            <a:off x="7020000" y="1844640"/>
            <a:ext cx="1193760" cy="1600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4149720"/>
            <a:ext cx="7543800" cy="2232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редные привычки наносят человеку вред – вред его здоровью, силам, положению в обществе. Эти и другие привычки тормозят развитие личности, останавливают человека на полпути и он может легко попасть в б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543800" cy="86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ни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ыберите верные суждения о потребностях челове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) Ни одну свою потребность человек не может удовлетворить раз и навсе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) Социальные потребности необходимы человеку для того, чтобы выжить, они есть и у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)Чтобы занять свое место в обществе, недостаточно удовлетворить только биологические потре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187280" y="3068640"/>
            <a:ext cx="2808000" cy="3172680"/>
            <a:chOff x="1187280" y="3068640"/>
            <a:chExt cx="2808000" cy="3172680"/>
          </a:xfrm>
        </p:grpSpPr>
        <p:pic>
          <p:nvPicPr>
            <p:cNvPr id="245" name="Picture 6" descr="bd00146_"/>
            <p:cNvPicPr/>
            <p:nvPr/>
          </p:nvPicPr>
          <p:blipFill>
            <a:blip r:embed="rId1"/>
            <a:stretch/>
          </p:blipFill>
          <p:spPr>
            <a:xfrm>
              <a:off x="1187280" y="3068640"/>
              <a:ext cx="2808000" cy="255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46" name="Text Box 7"/>
            <p:cNvSpPr/>
            <p:nvPr/>
          </p:nvSpPr>
          <p:spPr>
            <a:xfrm>
              <a:off x="2424960" y="5784480"/>
              <a:ext cx="181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00720" y="2060280"/>
            <a:ext cx="4109760" cy="4035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§ 6,</a:t>
            </a: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с. 55 – 57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cc00ff"/>
                </a:solidFill>
                <a:latin typeface="Tahoma"/>
              </a:rPr>
              <a:t>Руб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«Проверь себя»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опросы 1, 2, с. 6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5-конечная звезда 6"/>
          <p:cNvGrpSpPr/>
          <p:nvPr/>
        </p:nvGrpSpPr>
        <p:grpSpPr>
          <a:xfrm>
            <a:off x="1596960" y="30240"/>
            <a:ext cx="5827680" cy="3760560"/>
            <a:chOff x="1596960" y="30240"/>
            <a:chExt cx="5827680" cy="3760560"/>
          </a:xfrm>
        </p:grpSpPr>
        <p:pic>
          <p:nvPicPr>
            <p:cNvPr id="249" name="5-конечная звезда 6" descr=""/>
            <p:cNvPicPr/>
            <p:nvPr/>
          </p:nvPicPr>
          <p:blipFill>
            <a:blip r:embed="rId1"/>
            <a:stretch/>
          </p:blipFill>
          <p:spPr>
            <a:xfrm>
              <a:off x="1596960" y="30240"/>
              <a:ext cx="5827680" cy="37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348000" y="1430280"/>
              <a:ext cx="23256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1" name="Rectangle 8"/>
          <p:cNvSpPr/>
          <p:nvPr/>
        </p:nvSpPr>
        <p:spPr>
          <a:xfrm>
            <a:off x="3203640" y="1700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пасибо за рабо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Рисунок 2" descr="школа 012.jpg"/>
          <p:cNvPicPr/>
          <p:nvPr/>
        </p:nvPicPr>
        <p:blipFill>
          <a:blip r:embed="rId2"/>
          <a:srcRect l="27343" t="0" r="0" b="0"/>
          <a:stretch/>
        </p:blipFill>
        <p:spPr>
          <a:xfrm>
            <a:off x="4284720" y="4292640"/>
            <a:ext cx="360036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Oval 15"/>
          <p:cNvSpPr/>
          <p:nvPr/>
        </p:nvSpPr>
        <p:spPr>
          <a:xfrm rot="9000000">
            <a:off x="968040" y="4856040"/>
            <a:ext cx="3024000" cy="123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D03-5D7D-4E1D-A6FE-25148FC4F2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Что нужно челов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BD06663_"/>
          <p:cNvPicPr/>
          <p:nvPr/>
        </p:nvPicPr>
        <p:blipFill>
          <a:blip r:embed="rId1"/>
          <a:stretch/>
        </p:blipFill>
        <p:spPr>
          <a:xfrm>
            <a:off x="6588000" y="1125360"/>
            <a:ext cx="1928880" cy="167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17" name="Group 11"/>
          <p:cNvGrpSpPr/>
          <p:nvPr/>
        </p:nvGrpSpPr>
        <p:grpSpPr>
          <a:xfrm>
            <a:off x="2050920" y="1197000"/>
            <a:ext cx="4024440" cy="892080"/>
            <a:chOff x="2050920" y="1197000"/>
            <a:chExt cx="4024440" cy="892080"/>
          </a:xfrm>
        </p:grpSpPr>
        <p:sp>
          <p:nvSpPr>
            <p:cNvPr id="118" name="WordArt 12"/>
            <p:cNvSpPr txBox="1"/>
            <p:nvPr/>
          </p:nvSpPr>
          <p:spPr>
            <a:xfrm>
              <a:off x="2050920" y="1197000"/>
              <a:ext cx="2490840" cy="89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очу!</a:t>
              </a:r>
              <a:endPara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5099040" y="14256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900000" y="2492280"/>
            <a:ext cx="7772400" cy="1632960"/>
            <a:chOff x="900000" y="2492280"/>
            <a:chExt cx="7772400" cy="1632960"/>
          </a:xfrm>
        </p:grpSpPr>
        <p:sp>
          <p:nvSpPr>
            <p:cNvPr id="121" name="Line 15"/>
            <p:cNvSpPr/>
            <p:nvPr/>
          </p:nvSpPr>
          <p:spPr>
            <a:xfrm>
              <a:off x="2652480" y="2492280"/>
              <a:ext cx="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900000" y="3178080"/>
              <a:ext cx="7772400" cy="947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сю свою жизнь человек удовлетворяет свои потребности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17"/>
          <p:cNvGrpSpPr/>
          <p:nvPr/>
        </p:nvGrpSpPr>
        <p:grpSpPr>
          <a:xfrm>
            <a:off x="539640" y="4437000"/>
            <a:ext cx="2962440" cy="2210040"/>
            <a:chOff x="539640" y="4437000"/>
            <a:chExt cx="2962440" cy="2210040"/>
          </a:xfrm>
        </p:grpSpPr>
        <p:pic>
          <p:nvPicPr>
            <p:cNvPr id="124" name="Picture 18" descr="PE02622_"/>
            <p:cNvPicPr/>
            <p:nvPr/>
          </p:nvPicPr>
          <p:blipFill>
            <a:blip r:embed="rId5"/>
            <a:stretch/>
          </p:blipFill>
          <p:spPr>
            <a:xfrm>
              <a:off x="1079280" y="4437000"/>
              <a:ext cx="1898640" cy="1540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25" name="WordArt 19"/>
            <p:cNvSpPr txBox="1"/>
            <p:nvPr/>
          </p:nvSpPr>
          <p:spPr>
            <a:xfrm>
              <a:off x="539640" y="6113520"/>
              <a:ext cx="2962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Потребность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3352680" y="4572000"/>
            <a:ext cx="5410440" cy="1371600"/>
            <a:chOff x="3352680" y="4572000"/>
            <a:chExt cx="5410440" cy="1371600"/>
          </a:xfrm>
        </p:grpSpPr>
        <p:sp>
          <p:nvSpPr>
            <p:cNvPr id="127" name="AutoShape 21"/>
            <p:cNvSpPr/>
            <p:nvPr/>
          </p:nvSpPr>
          <p:spPr>
            <a:xfrm>
              <a:off x="3352680" y="5029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WordArt 22"/>
            <p:cNvSpPr txBox="1"/>
            <p:nvPr/>
          </p:nvSpPr>
          <p:spPr>
            <a:xfrm>
              <a:off x="4572000" y="4572000"/>
              <a:ext cx="419112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ужда человека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 чём-либ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</p:spTree>
  </p:cSld>
  <p:transition advTm="0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66680" y="304920"/>
            <a:ext cx="782640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484360" y="1268280"/>
            <a:ext cx="51847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. Биологически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1619280" y="2133720"/>
            <a:ext cx="1728360" cy="2042640"/>
            <a:chOff x="1619280" y="2133720"/>
            <a:chExt cx="1728360" cy="2042640"/>
          </a:xfrm>
        </p:grpSpPr>
        <p:graphicFrame>
          <p:nvGraphicFramePr>
            <p:cNvPr id="132" name="Object 10"/>
            <p:cNvGraphicFramePr/>
            <p:nvPr/>
          </p:nvGraphicFramePr>
          <p:xfrm>
            <a:off x="1681560" y="2133720"/>
            <a:ext cx="1666080" cy="16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560" y="2133720"/>
                      <a:ext cx="1666080" cy="1608840"/>
                    </a:xfrm>
                    <a:prstGeom prst="rect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4" name="Text Box 11"/>
            <p:cNvSpPr/>
            <p:nvPr/>
          </p:nvSpPr>
          <p:spPr>
            <a:xfrm>
              <a:off x="1619280" y="3716640"/>
              <a:ext cx="1526760" cy="4597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тды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3924360" y="2205000"/>
            <a:ext cx="1828800" cy="2309040"/>
            <a:chOff x="3924360" y="2205000"/>
            <a:chExt cx="1828800" cy="2309040"/>
          </a:xfrm>
        </p:grpSpPr>
        <p:pic>
          <p:nvPicPr>
            <p:cNvPr id="136" name="Picture 16" descr="bd05393_"/>
            <p:cNvPicPr/>
            <p:nvPr/>
          </p:nvPicPr>
          <p:blipFill>
            <a:blip r:embed="rId3"/>
            <a:stretch/>
          </p:blipFill>
          <p:spPr>
            <a:xfrm>
              <a:off x="3924360" y="2205000"/>
              <a:ext cx="1828800" cy="177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4306680" y="405432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ищ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8" name="Picture 21" descr="сканирование0087"/>
          <p:cNvPicPr/>
          <p:nvPr/>
        </p:nvPicPr>
        <p:blipFill>
          <a:blip r:embed="rId4"/>
          <a:stretch/>
        </p:blipFill>
        <p:spPr>
          <a:xfrm>
            <a:off x="6588000" y="2205000"/>
            <a:ext cx="2087640" cy="1698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3"/>
          <p:cNvSpPr/>
          <p:nvPr/>
        </p:nvSpPr>
        <p:spPr>
          <a:xfrm>
            <a:off x="6894000" y="39740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4" descr="сканирование0088"/>
          <p:cNvPicPr/>
          <p:nvPr/>
        </p:nvPicPr>
        <p:blipFill>
          <a:blip r:embed="rId5"/>
          <a:stretch/>
        </p:blipFill>
        <p:spPr>
          <a:xfrm>
            <a:off x="1692360" y="4581360"/>
            <a:ext cx="1406520" cy="165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5"/>
          <p:cNvSpPr/>
          <p:nvPr/>
        </p:nvSpPr>
        <p:spPr>
          <a:xfrm>
            <a:off x="1908000" y="62060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492360" y="4797360"/>
            <a:ext cx="5400720" cy="158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ужны, чтобы жи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050920" y="126828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.матер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5508720" y="2060640"/>
            <a:ext cx="1989000" cy="2313360"/>
            <a:chOff x="5508720" y="2060640"/>
            <a:chExt cx="1989000" cy="2313360"/>
          </a:xfrm>
        </p:grpSpPr>
        <p:pic>
          <p:nvPicPr>
            <p:cNvPr id="146" name="Picture 9" descr="bd05129_"/>
            <p:cNvPicPr/>
            <p:nvPr/>
          </p:nvPicPr>
          <p:blipFill>
            <a:blip r:embed="rId1"/>
            <a:stretch/>
          </p:blipFill>
          <p:spPr>
            <a:xfrm>
              <a:off x="5508720" y="2060640"/>
              <a:ext cx="1989000" cy="177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7" name="Text Box 10"/>
            <p:cNvSpPr/>
            <p:nvPr/>
          </p:nvSpPr>
          <p:spPr>
            <a:xfrm>
              <a:off x="5999760" y="39142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дежд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Rectangle 17"/>
          <p:cNvSpPr/>
          <p:nvPr/>
        </p:nvSpPr>
        <p:spPr>
          <a:xfrm flipV="1">
            <a:off x="1476360" y="63079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Group 18"/>
          <p:cNvGrpSpPr/>
          <p:nvPr/>
        </p:nvGrpSpPr>
        <p:grpSpPr>
          <a:xfrm>
            <a:off x="1908000" y="1989000"/>
            <a:ext cx="1548720" cy="2212560"/>
            <a:chOff x="1908000" y="1989000"/>
            <a:chExt cx="1548720" cy="2212560"/>
          </a:xfrm>
        </p:grpSpPr>
        <p:pic>
          <p:nvPicPr>
            <p:cNvPr id="150" name="Picture 19" descr="bd04869_"/>
            <p:cNvPicPr/>
            <p:nvPr/>
          </p:nvPicPr>
          <p:blipFill>
            <a:blip r:embed="rId2"/>
            <a:stretch/>
          </p:blipFill>
          <p:spPr>
            <a:xfrm>
              <a:off x="1908000" y="1989000"/>
              <a:ext cx="1505160" cy="17258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20"/>
            <p:cNvSpPr/>
            <p:nvPr/>
          </p:nvSpPr>
          <p:spPr>
            <a:xfrm>
              <a:off x="1983600" y="374184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лищ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2" name="Picture 21" descr="bd00041_"/>
          <p:cNvPicPr/>
          <p:nvPr/>
        </p:nvPicPr>
        <p:blipFill>
          <a:blip r:embed="rId3"/>
          <a:stretch/>
        </p:blipFill>
        <p:spPr>
          <a:xfrm>
            <a:off x="1835280" y="4653000"/>
            <a:ext cx="1771560" cy="1609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4211640" y="4797360"/>
            <a:ext cx="475308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требности в вещ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838836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2484360" y="1268280"/>
            <a:ext cx="4464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3.соц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332000" y="2060640"/>
            <a:ext cx="1849320" cy="1948680"/>
            <a:chOff x="1332000" y="2060640"/>
            <a:chExt cx="1849320" cy="1948680"/>
          </a:xfrm>
        </p:grpSpPr>
        <p:pic>
          <p:nvPicPr>
            <p:cNvPr id="157" name="Picture 7" descr="pe02662_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1849320" cy="1467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8"/>
            <p:cNvSpPr/>
            <p:nvPr/>
          </p:nvSpPr>
          <p:spPr>
            <a:xfrm>
              <a:off x="1501200" y="3549600"/>
              <a:ext cx="152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3851280" y="1989000"/>
            <a:ext cx="1800000" cy="2763360"/>
            <a:chOff x="3851280" y="1989000"/>
            <a:chExt cx="1800000" cy="2763360"/>
          </a:xfrm>
        </p:grpSpPr>
        <p:pic>
          <p:nvPicPr>
            <p:cNvPr id="160" name="Picture 10" descr="bd10887_"/>
            <p:cNvPicPr/>
            <p:nvPr/>
          </p:nvPicPr>
          <p:blipFill>
            <a:blip r:embed="rId2"/>
            <a:stretch/>
          </p:blipFill>
          <p:spPr>
            <a:xfrm>
              <a:off x="3939120" y="1989000"/>
              <a:ext cx="1585800" cy="18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3851280" y="392688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зн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арьер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6248520" y="2057400"/>
            <a:ext cx="2666880" cy="2425680"/>
            <a:chOff x="6248520" y="2057400"/>
            <a:chExt cx="2666880" cy="2425680"/>
          </a:xfrm>
        </p:grpSpPr>
        <p:pic>
          <p:nvPicPr>
            <p:cNvPr id="163" name="Picture 13" descr="pe02396_"/>
            <p:cNvPicPr/>
            <p:nvPr/>
          </p:nvPicPr>
          <p:blipFill>
            <a:blip r:embed="rId3"/>
            <a:stretch/>
          </p:blipFill>
          <p:spPr>
            <a:xfrm>
              <a:off x="6248520" y="2057400"/>
              <a:ext cx="2666880" cy="14526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Text Box 14"/>
            <p:cNvSpPr/>
            <p:nvPr/>
          </p:nvSpPr>
          <p:spPr>
            <a:xfrm>
              <a:off x="6462360" y="3657600"/>
              <a:ext cx="229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стве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1258920" y="5084640"/>
            <a:ext cx="741672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требность в общении, тру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циальные потребности возник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олько в об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771640" y="1125360"/>
            <a:ext cx="39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4. Духовные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1190520" y="2060640"/>
            <a:ext cx="1930320" cy="2502000"/>
            <a:chOff x="1190520" y="2060640"/>
            <a:chExt cx="1930320" cy="2502000"/>
          </a:xfrm>
        </p:grpSpPr>
        <p:pic>
          <p:nvPicPr>
            <p:cNvPr id="169" name="Picture 7" descr="bd05179_"/>
            <p:cNvPicPr/>
            <p:nvPr/>
          </p:nvPicPr>
          <p:blipFill>
            <a:blip r:embed="rId1"/>
            <a:stretch/>
          </p:blipFill>
          <p:spPr>
            <a:xfrm>
              <a:off x="1339560" y="2060640"/>
              <a:ext cx="1560600" cy="167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0" name="Text Box 8"/>
            <p:cNvSpPr/>
            <p:nvPr/>
          </p:nvSpPr>
          <p:spPr>
            <a:xfrm>
              <a:off x="1190520" y="3737160"/>
              <a:ext cx="193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ремл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 знанию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4213080" y="2133720"/>
            <a:ext cx="1779480" cy="2100960"/>
            <a:chOff x="4213080" y="2133720"/>
            <a:chExt cx="1779480" cy="2100960"/>
          </a:xfrm>
        </p:grpSpPr>
        <p:pic>
          <p:nvPicPr>
            <p:cNvPr id="172" name="Picture 10" descr="PE01682_"/>
            <p:cNvPicPr/>
            <p:nvPr/>
          </p:nvPicPr>
          <p:blipFill>
            <a:blip r:embed="rId2"/>
            <a:stretch/>
          </p:blipFill>
          <p:spPr>
            <a:xfrm>
              <a:off x="4267440" y="2133720"/>
              <a:ext cx="1697040" cy="1658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3" name="Text Box 11"/>
            <p:cNvSpPr/>
            <p:nvPr/>
          </p:nvSpPr>
          <p:spPr>
            <a:xfrm>
              <a:off x="4213080" y="37749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ворчеств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7089840" y="2209680"/>
            <a:ext cx="1520640" cy="2364840"/>
            <a:chOff x="7089840" y="2209680"/>
            <a:chExt cx="1520640" cy="2364840"/>
          </a:xfrm>
        </p:grpSpPr>
        <p:pic>
          <p:nvPicPr>
            <p:cNvPr id="175" name="Picture 13" descr="bd04872_"/>
            <p:cNvPicPr/>
            <p:nvPr/>
          </p:nvPicPr>
          <p:blipFill>
            <a:blip r:embed="rId3"/>
            <a:stretch/>
          </p:blipFill>
          <p:spPr>
            <a:xfrm>
              <a:off x="7089840" y="2209680"/>
              <a:ext cx="1520640" cy="1905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6" name="Text Box 14"/>
            <p:cNvSpPr/>
            <p:nvPr/>
          </p:nvSpPr>
          <p:spPr>
            <a:xfrm>
              <a:off x="7155720" y="411480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лиг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7" name="Text Box 16"/>
          <p:cNvSpPr/>
          <p:nvPr/>
        </p:nvSpPr>
        <p:spPr>
          <a:xfrm>
            <a:off x="1116000" y="4941720"/>
            <a:ext cx="7777080" cy="136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в познании окружающего мира, получении знаний, достижении гармонии и крас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137440" cy="603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Вечны» ли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Picture 5" descr="bd06471_"/>
          <p:cNvPicPr/>
          <p:nvPr/>
        </p:nvPicPr>
        <p:blipFill>
          <a:blip r:embed="rId1"/>
          <a:stretch/>
        </p:blipFill>
        <p:spPr>
          <a:xfrm>
            <a:off x="3924360" y="2565360"/>
            <a:ext cx="1441440" cy="1371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0" name="Group 6"/>
          <p:cNvGrpSpPr/>
          <p:nvPr/>
        </p:nvGrpSpPr>
        <p:grpSpPr>
          <a:xfrm>
            <a:off x="758880" y="907920"/>
            <a:ext cx="2390400" cy="1831320"/>
            <a:chOff x="758880" y="907920"/>
            <a:chExt cx="2390400" cy="1831320"/>
          </a:xfrm>
        </p:grpSpPr>
        <p:pic>
          <p:nvPicPr>
            <p:cNvPr id="181" name="Picture 7" descr="Fistslam"/>
            <p:cNvPicPr/>
            <p:nvPr/>
          </p:nvPicPr>
          <p:blipFill>
            <a:blip r:embed="rId2"/>
            <a:stretch/>
          </p:blipFill>
          <p:spPr>
            <a:xfrm>
              <a:off x="1136520" y="907920"/>
              <a:ext cx="1676520" cy="1389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2" name="Text Box 8"/>
            <p:cNvSpPr/>
            <p:nvPr/>
          </p:nvSpPr>
          <p:spPr>
            <a:xfrm>
              <a:off x="758880" y="2279520"/>
              <a:ext cx="23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овременность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2987640" y="765000"/>
            <a:ext cx="5724360" cy="3003840"/>
            <a:chOff x="2987640" y="765000"/>
            <a:chExt cx="5724360" cy="3003840"/>
          </a:xfrm>
        </p:grpSpPr>
        <p:grpSp>
          <p:nvGrpSpPr>
            <p:cNvPr id="184" name="Group 10"/>
            <p:cNvGrpSpPr/>
            <p:nvPr/>
          </p:nvGrpSpPr>
          <p:grpSpPr>
            <a:xfrm>
              <a:off x="6873840" y="765000"/>
              <a:ext cx="1838160" cy="3003840"/>
              <a:chOff x="6873840" y="765000"/>
              <a:chExt cx="1838160" cy="3003840"/>
            </a:xfrm>
          </p:grpSpPr>
          <p:pic>
            <p:nvPicPr>
              <p:cNvPr id="185" name="Picture 11" descr="bd07030_"/>
              <p:cNvPicPr/>
              <p:nvPr/>
            </p:nvPicPr>
            <p:blipFill>
              <a:blip r:embed="rId3"/>
              <a:stretch/>
            </p:blipFill>
            <p:spPr>
              <a:xfrm>
                <a:off x="6873840" y="2136600"/>
                <a:ext cx="1838160" cy="16322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AutoShape 12"/>
              <p:cNvSpPr/>
              <p:nvPr/>
            </p:nvSpPr>
            <p:spPr>
              <a:xfrm>
                <a:off x="7102440" y="765000"/>
                <a:ext cx="1523880" cy="1295640"/>
              </a:xfrm>
              <a:prstGeom prst="cloudCallout">
                <a:avLst>
                  <a:gd name="adj1" fmla="val -43750"/>
                  <a:gd name="adj2" fmla="val 53064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WordArt 13"/>
              <p:cNvSpPr txBox="1"/>
              <p:nvPr/>
            </p:nvSpPr>
            <p:spPr>
              <a:xfrm>
                <a:off x="7331040" y="1069920"/>
                <a:ext cx="11430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2х2=?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2987640" y="2060640"/>
              <a:ext cx="365760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973080" y="3141720"/>
            <a:ext cx="2354040" cy="2253600"/>
            <a:chOff x="973080" y="3141720"/>
            <a:chExt cx="2354040" cy="2253600"/>
          </a:xfrm>
        </p:grpSpPr>
        <p:pic>
          <p:nvPicPr>
            <p:cNvPr id="190" name="Picture 16" descr="Копия Копия AMCONFUS"/>
            <p:cNvPicPr/>
            <p:nvPr/>
          </p:nvPicPr>
          <p:blipFill>
            <a:blip r:embed="rId6"/>
            <a:stretch/>
          </p:blipFill>
          <p:spPr>
            <a:xfrm>
              <a:off x="1757520" y="3141720"/>
              <a:ext cx="814320" cy="17524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17"/>
            <p:cNvSpPr/>
            <p:nvPr/>
          </p:nvSpPr>
          <p:spPr>
            <a:xfrm>
              <a:off x="973080" y="4935600"/>
              <a:ext cx="23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ервобыт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2987640" y="4149720"/>
            <a:ext cx="5715000" cy="1439640"/>
            <a:chOff x="2987640" y="4149720"/>
            <a:chExt cx="5715000" cy="1439640"/>
          </a:xfrm>
        </p:grpSpPr>
        <p:sp>
          <p:nvSpPr>
            <p:cNvPr id="193" name="Line 19"/>
            <p:cNvSpPr/>
            <p:nvPr/>
          </p:nvSpPr>
          <p:spPr>
            <a:xfrm flipV="1">
              <a:off x="2987640" y="4225320"/>
              <a:ext cx="3657600" cy="3812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94" name="Picture 20" descr="Hatecomp"/>
            <p:cNvPicPr/>
            <p:nvPr/>
          </p:nvPicPr>
          <p:blipFill>
            <a:blip r:embed="rId7"/>
            <a:stretch/>
          </p:blipFill>
          <p:spPr>
            <a:xfrm>
              <a:off x="6873840" y="4149720"/>
              <a:ext cx="1828800" cy="1439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5733720"/>
            <a:ext cx="7543800" cy="86364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зависят от условий в которых живут люди и меняются со време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Потребности и возмож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971640" y="1700280"/>
            <a:ext cx="2743200" cy="2882880"/>
            <a:chOff x="971640" y="1700280"/>
            <a:chExt cx="2743200" cy="2882880"/>
          </a:xfrm>
        </p:grpSpPr>
        <p:pic>
          <p:nvPicPr>
            <p:cNvPr id="198" name="Picture 6" descr="Amvictor"/>
            <p:cNvPicPr/>
            <p:nvPr/>
          </p:nvPicPr>
          <p:blipFill>
            <a:blip r:embed="rId1"/>
            <a:stretch/>
          </p:blipFill>
          <p:spPr>
            <a:xfrm>
              <a:off x="971640" y="2766960"/>
              <a:ext cx="1482840" cy="18162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9" name="AutoShape 7"/>
            <p:cNvSpPr/>
            <p:nvPr/>
          </p:nvSpPr>
          <p:spPr>
            <a:xfrm>
              <a:off x="1962360" y="1700280"/>
              <a:ext cx="1752480" cy="1295280"/>
            </a:xfrm>
            <a:prstGeom prst="cloudCallout">
              <a:avLst>
                <a:gd name="adj1" fmla="val -45652"/>
                <a:gd name="adj2" fmla="val 69976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2352960" y="208116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</a:rPr>
                <a:t>Хочу!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9"/>
          <p:cNvGrpSpPr/>
          <p:nvPr/>
        </p:nvGrpSpPr>
        <p:grpSpPr>
          <a:xfrm>
            <a:off x="2556000" y="1484280"/>
            <a:ext cx="2879640" cy="4105080"/>
            <a:chOff x="2556000" y="1484280"/>
            <a:chExt cx="2879640" cy="4105080"/>
          </a:xfrm>
        </p:grpSpPr>
        <p:pic>
          <p:nvPicPr>
            <p:cNvPr id="202" name="Picture 10" descr="bd05724_"/>
            <p:cNvPicPr/>
            <p:nvPr/>
          </p:nvPicPr>
          <p:blipFill>
            <a:blip r:embed="rId2"/>
            <a:stretch/>
          </p:blipFill>
          <p:spPr>
            <a:xfrm>
              <a:off x="4308840" y="1484280"/>
              <a:ext cx="1126800" cy="896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3" name="Picture 11" descr="bd05490_"/>
            <p:cNvPicPr/>
            <p:nvPr/>
          </p:nvPicPr>
          <p:blipFill>
            <a:blip r:embed="rId3"/>
            <a:stretch/>
          </p:blipFill>
          <p:spPr>
            <a:xfrm>
              <a:off x="4328280" y="2928240"/>
              <a:ext cx="1086120" cy="1066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4" name="Picture 12" descr="bd06865_"/>
            <p:cNvPicPr/>
            <p:nvPr/>
          </p:nvPicPr>
          <p:blipFill>
            <a:blip r:embed="rId4"/>
            <a:stretch/>
          </p:blipFill>
          <p:spPr>
            <a:xfrm>
              <a:off x="4316400" y="4542840"/>
              <a:ext cx="1110960" cy="104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5" name="Line 13"/>
            <p:cNvSpPr/>
            <p:nvPr/>
          </p:nvSpPr>
          <p:spPr>
            <a:xfrm flipV="1">
              <a:off x="2556000" y="2156760"/>
              <a:ext cx="1627200" cy="14054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2556000" y="3562560"/>
              <a:ext cx="15649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2556000" y="3562560"/>
              <a:ext cx="1564920" cy="1344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6732720" y="1125360"/>
            <a:ext cx="1439640" cy="2851560"/>
            <a:chOff x="6732720" y="1125360"/>
            <a:chExt cx="1439640" cy="2851560"/>
          </a:xfrm>
        </p:grpSpPr>
        <p:sp>
          <p:nvSpPr>
            <p:cNvPr id="209" name="WordArt 17"/>
            <p:cNvSpPr txBox="1"/>
            <p:nvPr/>
          </p:nvSpPr>
          <p:spPr>
            <a:xfrm>
              <a:off x="6732720" y="1125360"/>
              <a:ext cx="1439640" cy="96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grpSp>
          <p:nvGrpSpPr>
            <p:cNvPr id="210" name="Group 18"/>
            <p:cNvGrpSpPr/>
            <p:nvPr/>
          </p:nvGrpSpPr>
          <p:grpSpPr>
            <a:xfrm>
              <a:off x="6953040" y="2302560"/>
              <a:ext cx="1125720" cy="1674360"/>
              <a:chOff x="6953040" y="2302560"/>
              <a:chExt cx="1125720" cy="1674360"/>
            </a:xfrm>
          </p:grpSpPr>
          <p:pic>
            <p:nvPicPr>
              <p:cNvPr id="211" name="Picture 19" descr="in00227_"/>
              <p:cNvPicPr/>
              <p:nvPr/>
            </p:nvPicPr>
            <p:blipFill>
              <a:blip r:embed="rId5"/>
              <a:stretch/>
            </p:blipFill>
            <p:spPr>
              <a:xfrm>
                <a:off x="7034040" y="2302560"/>
                <a:ext cx="881280" cy="117576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12" name="Text Box 20"/>
              <p:cNvSpPr/>
              <p:nvPr/>
            </p:nvSpPr>
            <p:spPr>
              <a:xfrm>
                <a:off x="6953040" y="3517200"/>
                <a:ext cx="112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або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13" name="Group 21"/>
          <p:cNvGrpSpPr/>
          <p:nvPr/>
        </p:nvGrpSpPr>
        <p:grpSpPr>
          <a:xfrm>
            <a:off x="7020000" y="4005360"/>
            <a:ext cx="1008000" cy="1439640"/>
            <a:chOff x="7020000" y="4005360"/>
            <a:chExt cx="1008000" cy="1439640"/>
          </a:xfrm>
        </p:grpSpPr>
        <p:pic>
          <p:nvPicPr>
            <p:cNvPr id="214" name="Picture 22" descr="bs00709_"/>
            <p:cNvPicPr/>
            <p:nvPr/>
          </p:nvPicPr>
          <p:blipFill>
            <a:blip r:embed="rId6"/>
            <a:stretch/>
          </p:blipFill>
          <p:spPr>
            <a:xfrm>
              <a:off x="7020000" y="4375440"/>
              <a:ext cx="1008000" cy="10695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5" name="Line 23"/>
            <p:cNvSpPr/>
            <p:nvPr/>
          </p:nvSpPr>
          <p:spPr>
            <a:xfrm>
              <a:off x="7520400" y="4005360"/>
              <a:ext cx="0" cy="2880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47640" y="5805360"/>
            <a:ext cx="7058160" cy="79560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должны соответствовать возможностя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443280" y="3141720"/>
            <a:ext cx="2521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5156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Труд как потребност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1547640" y="1197000"/>
            <a:ext cx="1632240" cy="2040840"/>
            <a:chOff x="1547640" y="1197000"/>
            <a:chExt cx="1632240" cy="2040840"/>
          </a:xfrm>
        </p:grpSpPr>
        <p:pic>
          <p:nvPicPr>
            <p:cNvPr id="220" name="Picture 6" descr="j0078920"/>
            <p:cNvPicPr/>
            <p:nvPr/>
          </p:nvPicPr>
          <p:blipFill>
            <a:blip r:embed="rId1"/>
            <a:stretch/>
          </p:blipFill>
          <p:spPr>
            <a:xfrm>
              <a:off x="1547640" y="1197000"/>
              <a:ext cx="1209240" cy="1454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1" name="Text Box 7"/>
            <p:cNvSpPr/>
            <p:nvPr/>
          </p:nvSpPr>
          <p:spPr>
            <a:xfrm>
              <a:off x="1592640" y="27781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2987640" y="1125360"/>
            <a:ext cx="2655720" cy="1934640"/>
            <a:chOff x="2987640" y="1125360"/>
            <a:chExt cx="2655720" cy="1934640"/>
          </a:xfrm>
        </p:grpSpPr>
        <p:pic>
          <p:nvPicPr>
            <p:cNvPr id="223" name="Picture 9" descr="bd05186_"/>
            <p:cNvPicPr/>
            <p:nvPr/>
          </p:nvPicPr>
          <p:blipFill>
            <a:blip r:embed="rId2"/>
            <a:stretch/>
          </p:blipFill>
          <p:spPr>
            <a:xfrm>
              <a:off x="3764880" y="1125360"/>
              <a:ext cx="1878480" cy="13017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4" name="Line 10"/>
            <p:cNvSpPr/>
            <p:nvPr/>
          </p:nvSpPr>
          <p:spPr>
            <a:xfrm>
              <a:off x="2987640" y="1734480"/>
              <a:ext cx="6476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350240" y="26002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руд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2"/>
          <p:cNvGrpSpPr/>
          <p:nvPr/>
        </p:nvGrpSpPr>
        <p:grpSpPr>
          <a:xfrm>
            <a:off x="5940360" y="1052640"/>
            <a:ext cx="2520720" cy="2133360"/>
            <a:chOff x="5940360" y="1052640"/>
            <a:chExt cx="2520720" cy="2133360"/>
          </a:xfrm>
        </p:grpSpPr>
        <p:pic>
          <p:nvPicPr>
            <p:cNvPr id="227" name="Picture 13" descr="BD06784_"/>
            <p:cNvPicPr/>
            <p:nvPr/>
          </p:nvPicPr>
          <p:blipFill>
            <a:blip r:embed="rId3"/>
            <a:stretch/>
          </p:blipFill>
          <p:spPr>
            <a:xfrm>
              <a:off x="6783480" y="1052640"/>
              <a:ext cx="1677600" cy="147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8" name="Line 14"/>
            <p:cNvSpPr/>
            <p:nvPr/>
          </p:nvSpPr>
          <p:spPr>
            <a:xfrm>
              <a:off x="5940360" y="1724760"/>
              <a:ext cx="702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7022880" y="27262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1116000" y="3429000"/>
            <a:ext cx="4103280" cy="1870920"/>
            <a:chOff x="1116000" y="3429000"/>
            <a:chExt cx="4103280" cy="1870920"/>
          </a:xfrm>
        </p:grpSpPr>
        <p:grpSp>
          <p:nvGrpSpPr>
            <p:cNvPr id="231" name="Group 17"/>
            <p:cNvGrpSpPr/>
            <p:nvPr/>
          </p:nvGrpSpPr>
          <p:grpSpPr>
            <a:xfrm>
              <a:off x="1116000" y="3429000"/>
              <a:ext cx="1181160" cy="1870920"/>
              <a:chOff x="1116000" y="3429000"/>
              <a:chExt cx="1181160" cy="1870920"/>
            </a:xfrm>
          </p:grpSpPr>
          <p:pic>
            <p:nvPicPr>
              <p:cNvPr id="232" name="Picture 18" descr="bd05186_"/>
              <p:cNvPicPr/>
              <p:nvPr/>
            </p:nvPicPr>
            <p:blipFill>
              <a:blip r:embed="rId4"/>
              <a:stretch/>
            </p:blipFill>
            <p:spPr>
              <a:xfrm>
                <a:off x="1116000" y="3429000"/>
                <a:ext cx="1181160" cy="115128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33" name="WordArt 19"/>
              <p:cNvSpPr txBox="1"/>
              <p:nvPr/>
            </p:nvSpPr>
            <p:spPr>
              <a:xfrm>
                <a:off x="1488960" y="4754160"/>
                <a:ext cx="372960" cy="54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34" name="WordArt 20"/>
            <p:cNvSpPr txBox="1"/>
            <p:nvPr/>
          </p:nvSpPr>
          <p:spPr>
            <a:xfrm>
              <a:off x="2437200" y="3740400"/>
              <a:ext cx="2782080" cy="11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отребность или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еобходимость?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Text Box 26"/>
          <p:cNvSpPr/>
          <p:nvPr/>
        </p:nvSpPr>
        <p:spPr>
          <a:xfrm>
            <a:off x="5508720" y="3429000"/>
            <a:ext cx="3166920" cy="259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уд дает боль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ости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довлетво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07:51Z</dcterms:created>
  <dc:creator>Воробьёва  Елена </dc:creator>
  <dc:description/>
  <dc:language>en-US</dc:language>
  <cp:lastModifiedBy>Людмила</cp:lastModifiedBy>
  <dcterms:modified xsi:type="dcterms:W3CDTF">2024-01-06T11:27:09Z</dcterms:modified>
  <cp:revision>17</cp:revision>
  <dc:subject/>
  <dc:title>Урок обществознания 6 класс</dc:title>
</cp:coreProperties>
</file>