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127-0DDC-4FCA-BAA5-B25D7546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FFF-DF33-45FE-AB86-5A19D8A2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97AE5-348A-4EA4-918B-D624F3F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278CF-9BF5-47A7-99B3-893E516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00465-C6D5-4F8E-ACCD-5CB1CE0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3677B9-5270-4DAA-A1FE-52CCA1B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8A4A8-D9FA-438B-A67F-B6B8625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D868B-256D-46A6-BA3C-E26C28C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D3D14-23E8-41DF-AFFB-20D804F7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D3E6C-BDDF-453C-9247-3BB50476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A66E7-F737-4B17-94BC-14BB6602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9A1-AFCD-4AFD-83D6-81067124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650-F42B-467B-96F6-641B07D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8AA98-03BB-481D-8373-A33C66E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26DB-1BE9-4A7F-AD1F-9DDBD9B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714F-C10F-4068-A923-B12C0C5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5FE9-387B-408D-9C09-9F5F9AB8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B208-F8DB-476C-AD17-FB5A5A6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DDCD3-EDFD-4134-87A4-63BD2BAC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3D0C8-9645-41AE-9A30-47AB0FC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B22-ACA4-4E56-BAF1-E98F9D61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3F2F-7569-4899-A77F-014BF96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ACAE-633C-4ABA-8C52-49BB744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66AAD-0BBD-4C43-9C6C-3B5A23E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C7C1-BA2A-46ED-B4E9-2256C417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CD7DD-ECD8-4189-B555-7E807080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FA43-9257-4F45-ABDC-6DC16912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0868-6528-4162-9216-4B3ED7D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C767-E2B0-45BC-95C2-3C500E28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B4F8-E6C6-4701-939C-041F1C0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0E16-94B0-4323-9605-6B76045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DA9-985C-467C-842A-91AA0D2F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1036-C72B-4867-83D4-7F6662E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DF36-572E-4F3E-BD0B-BDADE342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1DA8-76F2-4843-BA38-6EF5B56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4972-69D9-48A7-BFED-1BF3D81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BD07-E467-489F-9402-95A85A0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649B-B63D-4C37-A041-AFF98AEF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EF85-61DD-4389-908D-832F0FC6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2234C-2C4F-45BF-879A-4D1988BB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2D37A-AC94-4424-80CC-DD004FE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7E9A9-6F70-49C3-9865-51C1003B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70F-CB20-45C7-BABC-FD5007F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98BC1-DFF1-4FD9-8E63-E4671E8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7583C-D982-4587-B431-C9799D1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58E60-4895-4EC3-8C81-77E83F8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9C201-10F2-46BE-8732-9FBD91F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A1920-5448-4389-AE86-5B8A8FC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3A95B-DCCE-4CD3-A4C2-9316CA0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D310E-A672-4B7B-A62C-F78B7BB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4E165-4A17-4BA8-82E8-8B8D3C07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861CE-DA22-475F-A032-7D33A175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D63DB-A6EE-423F-8D44-D8860BA0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063-29E4-4E9A-80A0-EE1F03D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2EDF-5732-4AF2-872E-60D4B337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55CD-3ED8-4BA8-BDDB-78D00F4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8EBF-818A-4A0C-A663-D17D682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05FB-2A55-492C-B42A-4FF4D460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6C21-52EA-4EA6-9AA5-8EDBA9CB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D1B04-F234-432E-BD5F-E28E51E7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AFA3-3BE7-4A72-B590-8AF41BD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4691-57C5-4BE8-91C8-0C2B1CB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2727-9157-4663-9CCE-73511A6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441C-2D2A-4DC3-B33E-93849DBD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456-84A1-4C5D-983E-C1D2029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D4C2-B7FA-4D2E-8B3E-D6509F9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583A3-A731-413F-844E-C6248CA9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768A-738D-48EC-9826-A8E5C35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0F6F-B7C8-4718-82EF-05CF474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F4A2-FDF2-48FC-B4F8-E510C9EB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9F0C7-9162-460F-9D3A-71E542C9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62CA-204F-4978-9C2A-D2EFDCB3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4559-1609-43F9-999D-ADF4F036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7566-B2FF-4FF9-936F-2D4A49C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9E07-0E61-434E-8579-2CEBD28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827-85B0-4A9D-A470-D4A975D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0370D-4BB9-44CE-BAE2-546E78B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8D80-99D8-432D-A047-D3E33E42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E527-0C51-4F6B-BD42-FA0A7E28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F220-C79E-493E-8962-AD6700D9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3A401-6BA5-4BFC-BD40-98A54C9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B136-1810-4E3B-A0FC-EBF4DD8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FF81-FB82-42D9-9E52-3DC3E0B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DBD1-9B0D-490A-BB56-0BB033EA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3365-6D2D-4922-9329-497ADAF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B44C-67D8-40A8-BDCF-5CD36BA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47A-1B25-4602-8143-57CFA2E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4044-F233-49BF-B200-15530EC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1585-9DFD-4029-B128-50DC0D78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75AD-A596-4E20-88E0-55FA57B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4AA7-6EB2-420E-AF60-9912FA01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A074-4DD4-48D0-8023-AA8D5F4A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D8910-6CA6-4CE7-8BD3-150D2068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2D909-DFC1-4386-8086-BDC10E1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7B2F6-74A4-4105-87E9-8189AD0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A9F69-DE3E-44A1-BE87-BA0CB98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6C656-5CCF-4527-B602-5FDCBE3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D9E-FCCE-4067-8BE6-EE6EF14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D567B-9609-44DD-9380-0ED051B8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2C2EF-3A46-45AD-9C13-E6C0215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E6AA9-8E46-43EC-B7FB-5ACB354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E825A-D5BF-4FCD-A7B5-7124BC1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A1780-DAFA-4AC6-8C22-3D349FF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424C1-E8ED-4BF0-B2E5-8F8486DA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E4A98-D833-46EA-8432-32C61C97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8953A-0D38-4A06-BB7F-AD67637E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9F11D-2713-4512-937E-D1C1922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98904-D968-4936-B87F-66995D1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A79-DCC2-4C2D-A6CC-A3BEF941FD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A61-ADA5-437A-B082-9EB6A9A2D9A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65F-0A5A-4648-9DC4-AEBA417FEEC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42D-C806-4CE6-8E2C-DD889D6FC71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7154-277E-4A21-8B7E-E7367294A6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A57-8892-4A89-9147-C250A1CB993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58E-8121-4D70-936E-7A1464B2082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D31-319D-478E-BE5E-62993AA5F15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DFE-5488-422F-A3B0-AF6C306F462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85840" y="378000"/>
            <a:ext cx="84135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3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легкой и пищевой промышлен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сельск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личной заинтересованности колхозников в результатах труд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урожай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нижение денежного налога с колхозного двор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по сельскохозяйственному налогу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организация торговл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Picture 3" descr="C:\Documents and Settings\Стас.270FEB5C1CD942F\Рабочий стол\001.jpg"/>
          <p:cNvPicPr/>
          <p:nvPr/>
        </p:nvPicPr>
        <p:blipFill>
          <a:blip r:embed="rId2"/>
          <a:stretch/>
        </p:blipFill>
        <p:spPr>
          <a:xfrm>
            <a:off x="720720" y="1646280"/>
            <a:ext cx="351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гнать развитые страны Запада («Догнать и перегнать Америку!»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ъем сельского хозяйств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величение темпов развития промышленност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вышение жизненного уровня насе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лучшение системы управ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C:\Documents and Settings\Стас.270FEB5C1CD942F\Рабочий стол\91737-157498_1.jpg"/>
          <p:cNvPicPr/>
          <p:nvPr/>
        </p:nvPicPr>
        <p:blipFill>
          <a:blip r:embed="rId2"/>
          <a:stretch/>
        </p:blipFill>
        <p:spPr>
          <a:xfrm>
            <a:off x="473040" y="1646280"/>
            <a:ext cx="400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3 – 1958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8 – 1964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4 г. - начало освоение целин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закупочных цен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колхоз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Отмена налога на личное подсобное хозяйств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величение размеров личного подсобн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ведение пенсий и паспортов  у колхозник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8 г. – ликвидация МТС и продажа техники колхозам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Укрупнение колхозов и создание агро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начало «кукурузной эпопеи»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Дек.1959 г. – курс на ликвидацию подсобных 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решение о выкупе за 2-3 года скота у колхозников и работников совхозов (завышенные задания на заготовку мяса)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Июнь 1962 г. – повышение цен на мясо и масло   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урс на ускоренное развитие промышлен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оритетное развитие предприятий группы «А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учно-технический прогресс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Экстенсивный путь развит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Documents and Settings\Стас.270FEB5C1CD942F\Рабочий стол\71.jpg"/>
          <p:cNvPicPr/>
          <p:nvPr/>
        </p:nvPicPr>
        <p:blipFill>
          <a:blip r:embed="rId2"/>
          <a:stretch/>
        </p:blipFill>
        <p:spPr>
          <a:xfrm>
            <a:off x="457200" y="162864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7 г. – замена централизованного отраслевого управления (министерств) территориальными (советами народного хозяйства – совнархозами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0 г. – создание республиканских Советов народного хозяйства (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3 г. – создание Высшего совета народного хозяйства (В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зультат: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ецентрализация управления экономикой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Нарушение единой технической политик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СНХ оказалось не в состоянии решать проблемы оперативн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1 июля 1956 г. – Постановление ЦК КПСС о развитии массового жилищного строительст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кращение выпуска облигаций госзайм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зарплаты низкооплачиваемым работ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нижение пенсионного возраста на 5 лет и повышение пенс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ведение денежной оплаты труда колхоз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становление 7-часового рабочего дн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сплатное образование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тмена налога с холостяков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диноких и бездетных гражда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розничных цен на масло и мяс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C:\Documents and Settings\Стас.270FEB5C1CD942F\Рабочий стол\kvartiry121.jpg"/>
          <p:cNvPicPr/>
          <p:nvPr/>
        </p:nvPicPr>
        <p:blipFill>
          <a:blip r:embed="rId2"/>
          <a:stretch/>
        </p:blipFill>
        <p:spPr>
          <a:xfrm>
            <a:off x="584280" y="1646280"/>
            <a:ext cx="378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НЕЖНАЯ РЕФОРМА – изменение золотого эквивалента рубля и деноминация денежных знаков: осуществление обмена старых денег на новые в соотношении 10 : 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7:44Z</dcterms:created>
  <dc:creator>Стас</dc:creator>
  <dc:description/>
  <dc:language>en-US</dc:language>
  <cp:lastModifiedBy>Стас</cp:lastModifiedBy>
  <dcterms:modified xsi:type="dcterms:W3CDTF">2011-06-18T18:21:56Z</dcterms:modified>
  <cp:revision>6</cp:revision>
  <dc:subject/>
  <dc:title>ЭКОНОМИКА СССР В 1953 – 1964 ГГ.</dc:title>
</cp:coreProperties>
</file>