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BEF-49E7-4835-90DA-87096585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115-CEEE-4951-894B-E46EDE5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7A0208-4F52-4B0A-AE43-08586C75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70E8DE-1A8C-43A1-832B-2442D63B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C8F3CC-1727-47C4-9699-7C54C66E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E58036-FE32-48D1-AE0E-181D922D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B20A84-9334-48DE-86A7-D77E6411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285C88-F76A-45FB-B305-5D7917E9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5C1A53-92A8-4FB7-8069-3416B378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7C8D7-EAC5-4611-B812-D0DFC806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A8F246-E9B1-4296-BC81-2E8E5924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6E0-0183-4CF8-B0F0-3FBD1B4C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945-3778-4C78-B360-CEC2B5ED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0F3C9-74BC-4AB7-9F00-DCDF1B01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40771-DFF7-414F-9B0B-CAD000C6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EB054-2622-482F-8185-08F59086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5A58A-ADB6-4BE8-BAB3-934295CB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2FC49-14EA-4585-8893-2B40AD0A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39786-7CC3-44F7-B1D9-C8258054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ABE95-7D37-405E-80BD-ABB945C4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89A-4C9A-4A5C-98C6-DDA8E531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DDC19-3571-41F6-A709-F860F61B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E6EA-D3B0-49E0-959C-3EC69D16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C0962-ABB5-4C7B-A7CB-A3932EC6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71877-958E-4638-A919-EFA897DA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C1F5D-2491-4D7E-AE18-50FFEC8F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310DE-0CFE-47F0-8770-6E866DEE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8DA7-28AE-48EB-806F-57BAC75B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AFA8-F968-4FD9-B2DF-E5F0949C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3F908-05C1-4C16-A63E-8D911D67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70A8-E1C0-4A52-891A-B3549CEC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1F93-8B36-49D3-9DFA-593C87B6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2ADA-4A1F-493E-9AA2-DF8F0D32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99BDF-1E4A-4D36-BB4E-A500E73F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7433F-62CF-4582-A317-BDE8BBC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28E9-D2FD-40D9-8339-BA9B688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8839-880C-47D1-8AEC-53C4D528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E29F-7741-4A67-BE32-625C3956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FC95A-5561-4B19-80AB-ED18C394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768659-9EB5-4AC8-BB4A-699ACC79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F9D2F-7286-465F-83BB-25F517C0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5081EB-7484-41FE-BBAE-D85E698A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240-FA42-4655-ABE6-AE128135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947996-B4A7-4CB2-9053-44ACBF8D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93BC9F-D70F-4AF1-9600-B0580837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84649A-0BD3-4F68-A605-DF8A3AEF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20CBA9-7391-422E-9C8C-9F9482A4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4882AE-45E8-48F3-BF62-1206A380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9FAA0-8A12-4D3E-9EDD-A119CE96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23370E-D13E-4FF6-8A70-B1584CE8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D43806-B000-44D2-9267-B80E5668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983D91-F547-45E1-A9FB-55D5D7B7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7DC3-CBED-42F8-BBBB-108B092C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794-BA5D-4B85-88C1-728F3A32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DA8D-A1F4-41D7-840D-D17F2827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C8E44-47BF-4E7C-B12F-A0A323D8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871D4-378C-4FD3-B7D8-8670A20F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882B4-8BEE-484B-91A1-4237B9CB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5E278-050E-420F-822B-F14D8669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CE05E-CA03-4341-9597-FD313B1C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6EBA4-848D-40E1-8F06-F24E905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361FD-8401-4F3C-BA46-2347F23D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0DF84-0025-4A3F-926A-5B623DB5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89605-D95A-4F6F-AD8C-D0A192CB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4E5-79F4-4F8E-BBA4-0847500B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D16B-0404-4198-B71C-3C91A17E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F3DCB-7882-43D8-A9C4-ACBD7ACB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C31D-2C04-47B7-BDB9-EC3343F8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3DF4B-572F-4C11-93BE-46454753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88EAD-BB96-4FA4-95C8-C3C3696E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32860-1C09-46CC-B8CA-9DA77FCC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368D1-3333-42AF-B4FE-8A7298A7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69C36-0E08-4189-94CF-618E7B09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D5BF1-FB9A-4973-8E08-5BD8FC90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5858B-8F67-4EEC-B6D5-69AEB662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A9E-B69D-4B8F-A45C-241B85E5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7E22F-5B1F-44D4-A54E-CF8CD49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5FCD7-F18B-4803-B23E-95183ED7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1A94D-11B8-42D5-840E-1343AFAA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4E5C7-4A72-402E-AA42-9CFA7F9B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9D410-BE84-4A15-BC6F-6EA4945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BC7DE-1CBA-4AE3-98A4-4C665ABC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C3B2C-A49E-496B-993D-D7DD9E14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A9028-F2F3-4FBF-8383-80388594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F1461-1A7D-4B13-8A96-BF0E3F40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FC939-8BE6-4032-8408-1D258D6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7FF-DE4A-466B-965D-74FFA088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1EC9F-D034-43C3-8FD0-CA8EEF00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137FE-D364-428A-9C30-C4E648DC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6B07C-A480-48A9-A370-ECE6F334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5114E-1B51-47AF-9C4E-60F5D6A7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BE078-72AF-4B1F-9897-F14EA0E1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049475-CCA1-41FB-B893-21DA998F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DDEFAB-2FAD-463F-BF38-953FAD3A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60A215-443E-4467-8602-CFB1394B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DC4CF1-206B-450A-AE40-9A5B7BA0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A42740-0A25-413E-8A6E-2B16F7A7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5FF-E31E-4A7A-BF31-BA25E89D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75CE55-5C15-4F5D-9E4C-89E04555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7D31CC-05E0-4312-81DF-588ECCBA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A05C92-8E2E-47CE-863A-F0870076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5C8598-A671-4116-8E09-FC541AD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478C90-5C56-4ADC-8D3B-80132E1F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A39CC6-FD80-4190-997E-85352C5B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0E4083-9EC7-4B37-A85F-B34EFA0B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675274-7848-49B2-B9D8-2227F7FA9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2776D8-1FE9-4222-962D-590A06CF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D1252A-12A9-4115-893D-71699DFC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216AE-D99E-4773-B7AD-B0A97474C7E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908B-91F7-4131-B668-21A0B4205E0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08E9-5328-455D-93B5-B2D9C103723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0BE9-8F18-4D80-95CB-C65068EBB36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BAC6-12B6-42FD-A43D-22A890D1E95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B18D-AD1B-47BE-B794-E362FBA680E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2649-E554-43A4-AB33-D7BAA2C0FC8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3875-C974-4500-BC0F-662FE7D4FCB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431F-3181-47EF-B105-F0FA24218EB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85840" y="378000"/>
            <a:ext cx="841356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3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азвитие легкой и пищевой промышленност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азвитие сельского хозяйств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вышение личной заинтересованности колхозников в результатах труд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вышение урожайност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нижение денежного налога с колхозного двор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писание долгов по сельскохозяйственному налогу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еорганизация торговл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8" name="Picture 3" descr="C:\Documents and Settings\Стас.270FEB5C1CD942F\Рабочий стол\001.jpg"/>
          <p:cNvPicPr/>
          <p:nvPr/>
        </p:nvPicPr>
        <p:blipFill>
          <a:blip r:embed="rId2"/>
          <a:stretch/>
        </p:blipFill>
        <p:spPr>
          <a:xfrm>
            <a:off x="720720" y="1646280"/>
            <a:ext cx="3511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4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огнать развитые страны Запада («Догнать и перегнать Америку!»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ъем сельского хозяйств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величение темпов развития промышленност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вышение жизненного уровня населен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лучшение системы управлен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Picture 2" descr="C:\Documents and Settings\Стас.270FEB5C1CD942F\Рабочий стол\91737-157498_1.jpg"/>
          <p:cNvPicPr/>
          <p:nvPr/>
        </p:nvPicPr>
        <p:blipFill>
          <a:blip r:embed="rId2"/>
          <a:stretch/>
        </p:blipFill>
        <p:spPr>
          <a:xfrm>
            <a:off x="473040" y="1646280"/>
            <a:ext cx="400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3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6352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3 – 1958 ГГ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90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8 – 1964 ГГ.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236196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98000"/>
          </a:bodyPr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4 г. - начало освоение целины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Повышение закупочных цен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Списание долгов колхозо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Отмена налога на личное подсобное хозяйство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Увеличение размеров личного подсобного хозяйства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85840" indent="-28584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Введение пенсий и паспортов  у колхозников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44720" y="236196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1958 г. – ликвидация МТС и продажа техники колхозам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Укрупнение колхозов и создание агрохозяйств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1959 г. – начало «кукурузной эпопеи»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Дек.1959 г. – курс на ликвидацию подсобных хозяйств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1959 г. – решение о выкупе за 2-3 года скота у колхозников и работников совхозов (завышенные задания на заготовку мяса)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ambria"/>
              </a:rPr>
              <a:t>Июнь 1962 г. – повышение цен на мясо и масло    </a:t>
            </a: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8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Курс на ускоренное развитие промышленности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Приоритетное развитие предприятий группы «А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Научно-технический прогресс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80080" indent="-28008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Экстенсивный путь развития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2" descr="C:\Documents and Settings\Стас.270FEB5C1CD942F\Рабочий стол\71.jpg"/>
          <p:cNvPicPr/>
          <p:nvPr/>
        </p:nvPicPr>
        <p:blipFill>
          <a:blip r:embed="rId2"/>
          <a:stretch/>
        </p:blipFill>
        <p:spPr>
          <a:xfrm>
            <a:off x="457200" y="1628640"/>
            <a:ext cx="40384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4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242560" cy="14810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57 г. – замена централизованного отраслевого управления (министерств) территориальными (советами народного хозяйства – совнархозами)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60 г. – создание республиканских Советов народного хозяйства (СНХ)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1963 г. – создание Высшего совета народного хозяйства (ВСНХ)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Результат: 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Децентрализация управления экономикой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Нарушение единой технической политики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mbria"/>
              </a:rPr>
              <a:t>ВСНХ оказалось не в состоянии решать проблемы оперативно</a:t>
            </a: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648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31 июля 1956 г. – Постановление ЦК КПСС о развитии массового жилищного строительств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екращение выпуска облигаций госзайм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вышение зарплаты низкооплачиваемым работника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нижение пенсионного возраста на 5 лет и повышение пенс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ведение денежной оплаты труда колхозника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становление 7-часового рабочего дн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Бесплатное образование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тмена налога с холостяков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диноких и бездетных гражда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282960" indent="-282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вышение розничных цен на масло и мяс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Picture 2" descr="C:\Documents and Settings\Стас.270FEB5C1CD942F\Рабочий стол\kvartiry121.jpg"/>
          <p:cNvPicPr/>
          <p:nvPr/>
        </p:nvPicPr>
        <p:blipFill>
          <a:blip r:embed="rId2"/>
          <a:stretch/>
        </p:blipFill>
        <p:spPr>
          <a:xfrm>
            <a:off x="584280" y="1646280"/>
            <a:ext cx="3784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4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242560" cy="11653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ЕНЕЖНАЯ РЕФОРМА – изменение золотого эквивалента рубля и деноминация денежных знаков: осуществление обмена старых денег на новые в соотношении 10 : 1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7:17:44Z</dcterms:created>
  <dc:creator>Стас</dc:creator>
  <dc:description/>
  <dc:language>en-US</dc:language>
  <cp:lastModifiedBy>Стас</cp:lastModifiedBy>
  <dcterms:modified xsi:type="dcterms:W3CDTF">2011-06-18T18:21:56Z</dcterms:modified>
  <cp:revision>6</cp:revision>
  <dc:subject/>
  <dc:title>ЭКОНОМИКА СССР В 1953 – 1964 ГГ.</dc:title>
</cp:coreProperties>
</file>