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DD4-9225-40C0-81E5-7B9EF582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D00-C8BA-4BAF-BA0A-C3C674C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1E46D0-2353-4D27-A1E0-9CF9B8F4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2EB3B-DDF0-4E24-B35D-EE38FB4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8FF24A-AEC1-4D6F-8E3E-07A713F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B31A0-D1B3-4C79-B4D4-929FD45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C7654A-DB93-4233-BE1D-5B02B50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62FCF4-C7E4-44D6-9449-2B345605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73F61A-0FE0-4573-8EE4-A0EECFB4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25BAF-EEB1-4376-8514-5060F91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CBE2EA-6620-4FD9-9271-001EF583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128-AABF-445A-AA21-2572EF35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876-5A79-43E0-8359-F008EF90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7E02-E406-4D9A-AF77-28B42BF9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8931-75E2-4F4E-9C79-B802C17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9CB1D-459B-4108-A2E0-80C9528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CBF6F-7219-4053-B48F-C83415D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3A5B6-5B7B-4E55-8F39-A07E24E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2D897-167A-4FE2-B9C0-F1D8456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309F-37A5-4F76-B117-54105A6A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4D8-AD77-45FA-B0BD-EC6019B1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0959A-65BF-44D7-8247-BF90918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8931-82D3-432E-BC5B-47E4B10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4AFD9-CEC0-437A-A448-EA7CAF51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0818-076E-404A-9019-4BC15B6E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D9F7A-11D9-45E6-9681-0EB6041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87FE-B4F8-4AF3-B6F0-2A2BE26E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88E1-51ED-497F-86D5-BF1B3C4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A574-2B8A-4101-BC71-5DC0CD2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5719-CB8B-4E6B-81D1-356EB06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D06A-3157-4ECC-98AF-BF9ECF2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559-D8B6-457B-8E44-55BB99D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286A-7718-40F1-9686-B6A0322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ED0B-9370-4776-87AE-F0F2353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D985-117E-4704-B188-A084621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4012-82F1-481F-8A5A-4EA60B9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C34A-5446-4E50-93E7-DE16D80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B04B-4BD9-405B-B5CC-82C5276F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C822-42E4-44FE-B68D-A3C89F5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AB41A-4DA7-4CFD-8427-906940C6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CA6F0-DE05-4FC9-8079-84D5678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1B200-C172-461C-BA2E-081C237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F3F-4C86-4283-AE83-C4561D90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899B6-921D-41EF-B3CF-9B99408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6ED7B-6BCB-4A67-BD62-0F0C043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4EE77-E398-40CE-93E5-2244810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6787C-A91F-447A-A6E9-0A2F5EC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F104C-82A7-4D55-BC2E-0ACA75C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75461-375F-4E87-9A25-9C4D271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16632-AD4F-4228-935B-DC9B953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CB01A-C9E1-42A4-AA35-62ADBC0E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9EFF6-B5EC-4C45-8838-F5E50569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2ECEA-0405-467F-8967-00753C80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117-67C2-4550-AC6C-9430F8AA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9224-A646-4503-BF86-3B16255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74C8-3B03-4A90-A908-603633C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F0D9-D3A5-4E22-A95F-F6D25813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0F9E-240B-4423-A6F0-83C7148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692B-0BEF-4C7D-AC5E-9ED7916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03EF-67FA-497C-A2CC-E9CE621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57F80-FCA8-4752-85B6-5D5E8B0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0B08-67FD-4A02-B329-6C78AFF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FE90-C531-4D57-A7B2-5C9F46AE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7A6E-C983-4D48-872C-69718064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6B8-FEF6-499F-ACF9-7CDC237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ADE8-B84A-448F-B283-E6FB3749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176DA-0418-4416-9D78-83AC3733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4E6A-8847-416C-B582-70B5779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16E6-83F8-40F6-AA5F-0874204B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7C6E-7A37-4D21-A066-DBCCFE6D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01F1-6FD6-498F-92AE-CB086FEF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CEA7-8839-4D98-B79D-ABFDA48F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39EF-80F7-470B-902E-D35F6BA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916F-36B2-424D-B1E2-178E78F5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1802-CB33-4D09-A4FA-81497C7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872-C6B8-4F09-9B4F-DB4881D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809C-B975-4EEF-90B4-4E8512F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E740-D4AC-498D-AF72-A0960144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0D92D-11C2-4C0C-A176-70325364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B399-CE7B-4929-A882-FB50D4D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75050-8B17-4F2C-BCD7-40C0BDA9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280B2-7E63-45FB-81CE-46EB505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96B61-93C6-4E8E-B16E-51F4D1C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C2995-BF9D-43EB-921A-C0DCC5D4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CE27-F100-4F58-9066-9B1E7AE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A9B5-FA77-4511-904E-D580519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A46-7A16-4E8E-A0FB-B018796B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392F-68F3-442B-BA25-45EEA2E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5811-3C54-42FC-9A10-0FF33E2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41FF-383A-4406-BE99-AE367A73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D9FC-66E4-4F76-92C2-26536742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32F66-96F1-473F-8575-B3039F80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15AE3-58A9-4683-AB86-BFB0C8B9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2228C-42FE-4181-BEEE-8D005E6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18A6F-23B3-4397-995F-4C7BA68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62744-4FA5-48B1-BD3D-1E4E2D9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F2117-BD98-4367-ADE7-51E2F78B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0C8-7130-41E4-993E-BDE1495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C0C00-7527-4E68-A3EA-102C9218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6350E-78C9-455C-A03C-C60CA68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40A83-4836-438E-9C1A-22CE3D2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A474B-1555-4415-B335-89BEB6C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18751-2B50-4288-94D1-EF600FE5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82BEB-2CD5-4271-8EAD-5D98916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B99A5-4795-47DE-BE50-68AF4CE8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92F8E-48A8-48A7-8177-A03C09DD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7353E-8EBF-4EB3-ACDE-9B9352C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645C56-5CA1-4D79-9513-9BD4BE1C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AD46-58B9-4608-A457-F2572E10DD9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6CB-FB4E-4DF2-BA6F-56AC8B245AE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6F37-74A4-444C-87B3-5F5EA742C8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DCF-6866-4D6D-972A-688FA534BF2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809-6196-417D-AF23-CB7B159811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2823-081E-4BF0-8673-412740E11C6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C8CC-0661-41AB-87F0-B8EDCF5C4A5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AD4-0AA5-4D94-8864-45FA30ADB8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4181-0314-4295-B0C0-BDD73E85049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85840" y="378000"/>
            <a:ext cx="84135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3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легкой и пищевой промышлен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сельск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личной заинтересованности колхозников в результатах труд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урожай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нижение денежного налога с колхозного двор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по сельскохозяйственному налогу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организация торговл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Picture 3" descr="C:\Documents and Settings\Стас.270FEB5C1CD942F\Рабочий стол\001.jpg"/>
          <p:cNvPicPr/>
          <p:nvPr/>
        </p:nvPicPr>
        <p:blipFill>
          <a:blip r:embed="rId2"/>
          <a:stretch/>
        </p:blipFill>
        <p:spPr>
          <a:xfrm>
            <a:off x="720720" y="1646280"/>
            <a:ext cx="351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гнать развитые страны Запада («Догнать и перегнать Америку!»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ъем сельского хозяйств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величение темпов развития промышленност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вышение жизненного уровня насе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лучшение системы управ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C:\Documents and Settings\Стас.270FEB5C1CD942F\Рабочий стол\91737-157498_1.jpg"/>
          <p:cNvPicPr/>
          <p:nvPr/>
        </p:nvPicPr>
        <p:blipFill>
          <a:blip r:embed="rId2"/>
          <a:stretch/>
        </p:blipFill>
        <p:spPr>
          <a:xfrm>
            <a:off x="473040" y="1646280"/>
            <a:ext cx="400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3 – 1958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8 – 1964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4 г. - начало освоение целин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закупочных цен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колхоз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Отмена налога на личное подсобное хозяйств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величение размеров личного подсобн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ведение пенсий и паспортов  у колхозник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8 г. – ликвидация МТС и продажа техники колхозам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Укрупнение колхозов и создание агро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начало «кукурузной эпопеи»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Дек.1959 г. – курс на ликвидацию подсобных 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решение о выкупе за 2-3 года скота у колхозников и работников совхозов (завышенные задания на заготовку мяса)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Июнь 1962 г. – повышение цен на мясо и масло   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урс на ускоренное развитие промышлен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оритетное развитие предприятий группы «А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учно-технический прогресс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Экстенсивный путь развит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Documents and Settings\Стас.270FEB5C1CD942F\Рабочий стол\71.jpg"/>
          <p:cNvPicPr/>
          <p:nvPr/>
        </p:nvPicPr>
        <p:blipFill>
          <a:blip r:embed="rId2"/>
          <a:stretch/>
        </p:blipFill>
        <p:spPr>
          <a:xfrm>
            <a:off x="457200" y="162864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7 г. – замена централизованного отраслевого управления (министерств) территориальными (советами народного хозяйства – совнархозами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0 г. – создание республиканских Советов народного хозяйства (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3 г. – создание Высшего совета народного хозяйства (В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зультат: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ецентрализация управления экономикой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Нарушение единой технической политик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СНХ оказалось не в состоянии решать проблемы оперативн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1 июля 1956 г. – Постановление ЦК КПСС о развитии массового жилищного строительст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кращение выпуска облигаций госзайм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зарплаты низкооплачиваемым работ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нижение пенсионного возраста на 5 лет и повышение пенс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ведение денежной оплаты труда колхоз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становление 7-часового рабочего дн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сплатное образование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тмена налога с холостяков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диноких и бездетных гражда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розничных цен на масло и мяс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C:\Documents and Settings\Стас.270FEB5C1CD942F\Рабочий стол\kvartiry121.jpg"/>
          <p:cNvPicPr/>
          <p:nvPr/>
        </p:nvPicPr>
        <p:blipFill>
          <a:blip r:embed="rId2"/>
          <a:stretch/>
        </p:blipFill>
        <p:spPr>
          <a:xfrm>
            <a:off x="584280" y="1646280"/>
            <a:ext cx="378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НЕЖНАЯ РЕФОРМА – изменение золотого эквивалента рубля и деноминация денежных знаков: осуществление обмена старых денег на новые в соотношении 10 : 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7:44Z</dcterms:created>
  <dc:creator>Стас</dc:creator>
  <dc:description/>
  <dc:language>en-US</dc:language>
  <cp:lastModifiedBy>Стас</cp:lastModifiedBy>
  <dcterms:modified xsi:type="dcterms:W3CDTF">2011-06-18T18:21:56Z</dcterms:modified>
  <cp:revision>6</cp:revision>
  <dc:subject/>
  <dc:title>ЭКОНОМИКА СССР В 1953 – 1964 ГГ.</dc:title>
</cp:coreProperties>
</file>