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BF9A7-6788-4370-9A5F-C230D4755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4D7CD-B6F0-41A2-889E-B3A73CF07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50EED-0717-4579-A7A6-8EF7FF08E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20BCD-FBB8-4517-B097-438C4F32B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5C38E-123F-4DBA-89BF-08F3A4530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31ED7-7BD4-4A12-B7DD-6B4AFE8AC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8F016-08CA-4B39-B2A3-9DF14080D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0ED4D-B11C-440E-B093-84E05C082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66D15-A938-4A13-AA8C-F488EE24D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D52B4-C596-4EF8-9DCD-29EB06FDA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66D92-B54B-4A6A-9131-075F33F07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39537-46A4-44DA-81E1-BC61509FA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4B884-F550-42C5-83F8-2571A29CC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DC904-D3D7-4CF3-8866-F1E0794E6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6AF5B-734C-4A21-B9AC-0E14E7F39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58EDF-6068-43FB-A8E3-F88FBE0FE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36340-1CA4-4489-A1FD-08B853B54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6E5F9-8968-4A89-A423-CD73ED43A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AC448-1C0F-4E88-B98D-8CF38AB97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FB07E-478E-45BC-8372-415C10E9C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3833B-6EA8-4259-BFF2-42B403169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A9E97-9384-4DC1-B97B-43EE9D69C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29C4F-EB9E-4728-A4DC-3088BBF42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05FFA-70D4-453C-85AF-848109B71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a58"/>
            </a:gs>
            <a:gs pos="50000">
              <a:srgbClr val="00716e"/>
            </a:gs>
            <a:gs pos="100000">
              <a:srgbClr val="005a5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2e7876"/>
                </a:gs>
                <a:gs pos="100000">
                  <a:srgbClr val="005a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2e7876"/>
                </a:gs>
                <a:gs pos="100000">
                  <a:srgbClr val="005a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2e7876"/>
                </a:gs>
                <a:gs pos="100000">
                  <a:srgbClr val="005a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2e7876"/>
                </a:gs>
                <a:gs pos="100000">
                  <a:srgbClr val="005a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2e7876"/>
                </a:gs>
                <a:gs pos="100000">
                  <a:srgbClr val="005a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2e7876"/>
                </a:gs>
                <a:gs pos="100000">
                  <a:srgbClr val="005a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d6fc7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ff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CADD8-A001-4ACE-96A5-387A0573579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a58"/>
            </a:gs>
            <a:gs pos="50000">
              <a:srgbClr val="00716e"/>
            </a:gs>
            <a:gs pos="100000">
              <a:srgbClr val="005a5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2e7876"/>
                </a:gs>
                <a:gs pos="100000">
                  <a:srgbClr val="005a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2e7876"/>
                </a:gs>
                <a:gs pos="100000">
                  <a:srgbClr val="005a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2e7876"/>
                </a:gs>
                <a:gs pos="100000">
                  <a:srgbClr val="005a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2e7876"/>
                </a:gs>
                <a:gs pos="100000">
                  <a:srgbClr val="005a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2e7876"/>
                </a:gs>
                <a:gs pos="100000">
                  <a:srgbClr val="005a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2e7876"/>
                </a:gs>
                <a:gs pos="100000">
                  <a:srgbClr val="005a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d6fc7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ff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1CB32-4590-48D1-BA20-FB6BB0B5DE05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2;&#1077;&#1078;&#1076;&#1091;&#1085;&#1072;&#1088;&#1086;&#1076;&#1085;&#1099;&#1077;_&#1086;&#1090;&#1085;&#1086;&#1096;&#1077;&#1085;&#1080;&#1103;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66"/>
                </a:solidFill>
                <a:latin typeface="Arial"/>
              </a:rPr>
              <a:t>МИРОВАЯ ЭКОНОМИКА</a:t>
            </a:r>
            <a:endParaRPr b="0" lang="en-US" sz="5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78" name="Picture 5" descr=""/>
          <p:cNvPicPr/>
          <p:nvPr/>
        </p:nvPicPr>
        <p:blipFill>
          <a:blip r:embed="rId1"/>
          <a:stretch/>
        </p:blipFill>
        <p:spPr>
          <a:xfrm>
            <a:off x="1403280" y="1484280"/>
            <a:ext cx="6245280" cy="404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66"/>
                </a:solidFill>
                <a:latin typeface="Arial"/>
              </a:rPr>
              <a:t>вывод</a:t>
            </a:r>
            <a:endParaRPr b="0" lang="en-US" sz="5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аждый, как потребитель должен быть осведомлен о преимуществе стран в торговле для осуществления </a:t>
            </a:r>
            <a:r>
              <a:rPr b="0" lang="ru-RU" sz="2800" spc="-1" strike="noStrike">
                <a:solidFill>
                  <a:srgbClr val="ffc000"/>
                </a:solidFill>
                <a:latin typeface="Tahoma"/>
              </a:rPr>
              <a:t>рационального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ыбора товаров и услуг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1" name="Picture 5" descr="krizis_510091"/>
          <p:cNvPicPr/>
          <p:nvPr/>
        </p:nvPicPr>
        <p:blipFill>
          <a:blip r:embed="rId1"/>
          <a:stretch/>
        </p:blipFill>
        <p:spPr>
          <a:xfrm>
            <a:off x="4648320" y="2392200"/>
            <a:ext cx="4038480" cy="29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66"/>
                </a:solidFill>
                <a:latin typeface="Arial"/>
              </a:rPr>
              <a:t>Определение. История.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95280" y="1197000"/>
            <a:ext cx="40384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Tahoma"/>
              </a:rPr>
              <a:t>Мировая экономика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–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многоуровневая, глобальная система хозяйствования, объединяющая национальные экономики стран мира на основе международного разделения труда посредством системы международных экономических отношений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 целом </a:t>
            </a:r>
            <a:r>
              <a:rPr b="1" lang="ru-RU" sz="3200" spc="-1" strike="noStrike" u="sng">
                <a:solidFill>
                  <a:srgbClr val="ffc000"/>
                </a:solidFill>
                <a:uFillTx/>
                <a:latin typeface="Tahoma"/>
              </a:rPr>
              <a:t>мировую экономику</a:t>
            </a:r>
            <a:r>
              <a:rPr b="0" lang="ru-RU" sz="3200" spc="-1" strike="noStrike" u="sng">
                <a:solidFill>
                  <a:srgbClr val="ffc000"/>
                </a:solidFill>
                <a:uFillTx/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можно определить как совокупность национальных хозяйств и негосударственных структур, объединенных </a:t>
            </a:r>
            <a:r>
              <a:rPr b="0" lang="ru-RU" sz="2000" spc="-1" strike="noStrike" u="sng">
                <a:solidFill>
                  <a:srgbClr val="00ffff"/>
                </a:solidFill>
                <a:uFillTx/>
                <a:latin typeface="Tahoma"/>
                <a:hlinkClick r:id="rId1"/>
              </a:rPr>
              <a:t>международными отношениями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6" name="Picture 5" descr="img6461_mirovaya_ekonomika"/>
          <p:cNvPicPr/>
          <p:nvPr/>
        </p:nvPicPr>
        <p:blipFill>
          <a:blip r:embed="rId2"/>
          <a:stretch/>
        </p:blipFill>
        <p:spPr>
          <a:xfrm>
            <a:off x="5238720" y="1731960"/>
            <a:ext cx="285768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Arial"/>
              </a:rPr>
              <a:t>Субъекты МЭО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ffc000"/>
                </a:solidFill>
                <a:uFillTx/>
                <a:latin typeface="Tahoma"/>
              </a:rPr>
              <a:t>международные экономические объединения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, в рамках которых возникают прямые тесные многочисленных связи между экономиками стран различных регионов, и включающие в себя в качестве составных частей экономики интегрирующихся стран </a:t>
            </a:r>
            <a:r>
              <a:rPr b="0" lang="ru-RU" sz="2400" spc="-1" strike="noStrike">
                <a:solidFill>
                  <a:srgbClr val="ffc000"/>
                </a:solidFill>
                <a:latin typeface="Tahoma"/>
              </a:rPr>
              <a:t>(ЕС, СНГ, НАФТА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c000"/>
                </a:solidFill>
                <a:uFillTx/>
                <a:latin typeface="Tahoma"/>
              </a:rPr>
              <a:t>международные экономические организации </a:t>
            </a:r>
            <a:r>
              <a:rPr b="0" lang="ru-RU" sz="2400" spc="-1" strike="noStrike">
                <a:solidFill>
                  <a:srgbClr val="ffc000"/>
                </a:solidFill>
                <a:latin typeface="Tahoma"/>
              </a:rPr>
              <a:t>(МБРР, ЕБРР, ОПЕК, ВТО и т. д.),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оторые представляют собой наднациональные институты, созданные для регулирования различных МЭО. Существует несколько тысяч международных экономических организаций. Условно их можно разделить на следующие группы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Arial"/>
              </a:rPr>
              <a:t>СНГ(Содру́жество Незави́симых Госуда́рств)</a:t>
            </a: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 —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2591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егиональная международная организация , призванная регулировать отношения сотрудничества между странами, ранее входившими в состав СССР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ru-RU" sz="3200" spc="-1" strike="noStrike" u="sng">
                <a:solidFill>
                  <a:srgbClr val="ffc000"/>
                </a:solidFill>
                <a:uFillTx/>
                <a:latin typeface="Tahoma"/>
              </a:rPr>
              <a:t>СНГ функционирует на добровольной основ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1" name="Picture 10" descr="sign"/>
          <p:cNvPicPr/>
          <p:nvPr/>
        </p:nvPicPr>
        <p:blipFill>
          <a:blip r:embed="rId1"/>
          <a:stretch/>
        </p:blipFill>
        <p:spPr>
          <a:xfrm>
            <a:off x="4938840" y="2270160"/>
            <a:ext cx="3457440" cy="31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ЕС (Европе́йский сою́з)—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экономическое и политическое объединение </a:t>
            </a:r>
            <a:r>
              <a:rPr b="0" lang="ru-RU" sz="3600" spc="-1" strike="noStrike">
                <a:solidFill>
                  <a:srgbClr val="ffc000"/>
                </a:solidFill>
                <a:latin typeface="Tahoma"/>
              </a:rPr>
              <a:t>27 </a:t>
            </a:r>
            <a:r>
              <a:rPr b="0" lang="ru-RU" sz="2400" spc="-1" strike="noStrike">
                <a:solidFill>
                  <a:srgbClr val="ffc000"/>
                </a:solidFill>
                <a:latin typeface="Tahoma"/>
              </a:rPr>
              <a:t>европейских государств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ацеленный на региональную интеграцию, Союз был юридически закреплён </a:t>
            </a:r>
            <a:r>
              <a:rPr b="0" lang="ru-RU" sz="3600" spc="-1" strike="noStrike">
                <a:solidFill>
                  <a:srgbClr val="ffc000"/>
                </a:solidFill>
                <a:latin typeface="Tahoma"/>
              </a:rPr>
              <a:t>Маастрихтским договором в 1992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году на принципах Европейских сообществ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4" name="Picture 6" descr="A21-6_1"/>
          <p:cNvPicPr/>
          <p:nvPr/>
        </p:nvPicPr>
        <p:blipFill>
          <a:blip r:embed="rId1"/>
          <a:stretch/>
        </p:blipFill>
        <p:spPr>
          <a:xfrm>
            <a:off x="4648320" y="2473200"/>
            <a:ext cx="4038480" cy="278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Arial"/>
              </a:rPr>
              <a:t>НАФТА-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оглашение о свободной торговле между </a:t>
            </a:r>
            <a:r>
              <a:rPr b="0" lang="ru-RU" sz="3200" spc="-1" strike="noStrike">
                <a:solidFill>
                  <a:srgbClr val="ffc000"/>
                </a:solidFill>
                <a:latin typeface="Tahoma"/>
              </a:rPr>
              <a:t>Канадой, США и Мексикой,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сновывающееся на модели Европейского Сообщества. Соглашение НАФТА было подписано 17 декабря 1992 и вступило в силу 1 января </a:t>
            </a:r>
            <a:r>
              <a:rPr b="0" lang="ru-RU" sz="2400" spc="-1" strike="noStrike">
                <a:solidFill>
                  <a:srgbClr val="ffc000"/>
                </a:solidFill>
                <a:latin typeface="Tahoma"/>
              </a:rPr>
              <a:t>1994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7" name="Picture 7" descr="NAFTA_logo"/>
          <p:cNvPicPr/>
          <p:nvPr/>
        </p:nvPicPr>
        <p:blipFill>
          <a:blip r:embed="rId1"/>
          <a:stretch/>
        </p:blipFill>
        <p:spPr>
          <a:xfrm>
            <a:off x="4648320" y="2212920"/>
            <a:ext cx="4038480" cy="33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66"/>
                </a:solidFill>
                <a:latin typeface="Arial"/>
              </a:rPr>
              <a:t>Международная торговля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66"/>
                </a:solidFill>
                <a:latin typeface="Tahoma"/>
              </a:rPr>
              <a:t>Международная торговля</a:t>
            </a:r>
            <a:r>
              <a:rPr b="0" i="1" lang="ru-RU" sz="1600" spc="-1" strike="noStrike">
                <a:solidFill>
                  <a:srgbClr val="ffffff"/>
                </a:solidFill>
                <a:latin typeface="Tahoma"/>
              </a:rPr>
              <a:t> —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это обмен товарами и услугами между разными странами, связанный со всеобщей интернационализацией хозяйственной жизни и интенсификацией международного разделения труда в условиях научно-технической революци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0" name="Picture 5" descr="mezhdunarodnaya_torgovlya_1"/>
          <p:cNvPicPr/>
          <p:nvPr/>
        </p:nvPicPr>
        <p:blipFill>
          <a:blip r:embed="rId1"/>
          <a:stretch/>
        </p:blipFill>
        <p:spPr>
          <a:xfrm>
            <a:off x="4500720" y="1989000"/>
            <a:ext cx="43923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Сущность и виды  международной торговой политики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 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Международная торговля </a:t>
            </a:r>
            <a:r>
              <a:rPr b="0" lang="ru-RU" sz="2000" spc="-1" strike="noStrike" u="sng">
                <a:solidFill>
                  <a:srgbClr val="ffffff"/>
                </a:solidFill>
                <a:uFillTx/>
                <a:latin typeface="Tahoma"/>
              </a:rPr>
              <a:t>приносит выгоду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ее участникам,является одной из наиболее богатых конфликтами сфер экономик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Развитие внешнеэкономических связей ставит вопрос о мерах их регулирования. Государства могут придерживаться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олитики свободной торговли, открывающей внутренний рынок для иностранной конкуренции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3" name="Picture 5" descr="world_economy"/>
          <p:cNvPicPr/>
          <p:nvPr/>
        </p:nvPicPr>
        <p:blipFill>
          <a:blip r:embed="rId1"/>
          <a:stretch/>
        </p:blipFill>
        <p:spPr>
          <a:xfrm>
            <a:off x="4500720" y="1700280"/>
            <a:ext cx="4319280" cy="37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66"/>
                </a:solidFill>
                <a:latin typeface="Arial"/>
              </a:rPr>
              <a:t>Глобальные проблемы развития мировой экономики.</a:t>
            </a:r>
            <a:r>
              <a:rPr b="0" lang="ru-RU" sz="40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38480" cy="467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 условиях интернационализации производства экономический и социальный прогресс всё в большей мере зависит от решения </a:t>
            </a:r>
            <a:r>
              <a:rPr b="1" lang="ru-RU" sz="2000" spc="-1" strike="noStrike" u="sng">
                <a:solidFill>
                  <a:srgbClr val="ffc000"/>
                </a:solidFill>
                <a:uFillTx/>
                <a:latin typeface="Tahoma"/>
              </a:rPr>
              <a:t>глобальных проблем:</a:t>
            </a:r>
            <a:r>
              <a:rPr b="1" lang="ru-RU" sz="20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едотвращение мировой ядерной войны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едотвращение отсталости развивающихся стран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энергетическую проблему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одовольственную проблему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мирное освоение космоса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ликвидацию опасных болезней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6" name="Picture 8" descr="15667"/>
          <p:cNvPicPr/>
          <p:nvPr/>
        </p:nvPicPr>
        <p:blipFill>
          <a:blip r:embed="rId1"/>
          <a:stretch/>
        </p:blipFill>
        <p:spPr>
          <a:xfrm>
            <a:off x="4643280" y="1916280"/>
            <a:ext cx="4321440" cy="37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9T16:02:15Z</dcterms:created>
  <dc:creator>Customer</dc:creator>
  <dc:description/>
  <dc:language>en-US</dc:language>
  <cp:lastModifiedBy>User</cp:lastModifiedBy>
  <dcterms:modified xsi:type="dcterms:W3CDTF">2013-01-12T08:14:57Z</dcterms:modified>
  <cp:revision>9</cp:revision>
  <dc:subject/>
  <dc:title>МИРОВАЯ ЭКОНОМИКА</dc:title>
</cp:coreProperties>
</file>