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15E-0C6F-422B-8B3B-C95CA009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D863-6279-497B-B7FB-C97280DB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81A-2A66-4F99-9BE5-0DFFFCEC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8CFB-84A0-4A8E-9A8B-653D8331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1EDB-0388-4F4F-B007-460BF532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B674-1325-4FBB-A7E7-2640731B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0307-246F-43CF-917B-560BE30E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5062-335E-402B-9E00-827573A8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C303-5825-47BA-95C4-93FCAB6A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C49-794C-4D37-BE11-3C6D2FD2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84F2-0E68-4EE4-AFE5-79110DB1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DBBD-90A4-46BD-BBE8-B3E5737D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CD91-7FAB-48C1-A831-40B03A3D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1BE3-DC9E-464B-A227-D27DABE3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2593-4147-47EE-9CA1-199A3D61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4A19-4713-43E9-9912-2C09748B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C6CC-F817-42BB-BFB0-BE32B9A2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CCA-74EA-470A-BE17-2CDABB63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792-DBDA-42C0-8182-96C637CE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0DE-B704-40F4-94FE-FB5E7AA6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E0D-5538-4DD4-B56E-A26B7411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947-B186-4F27-98A0-EE95F595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13A-AFED-4161-8C49-850F6A8A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D027-12E6-4F45-8BC1-DEE32DAC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0926-4E3D-43BB-A780-8D6249B03E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a58"/>
            </a:gs>
            <a:gs pos="50000">
              <a:srgbClr val="00716e"/>
            </a:gs>
            <a:gs pos="100000">
              <a:srgbClr val="005a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5a58"/>
                </a:gs>
                <a:gs pos="100000">
                  <a:srgbClr val="2e7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7876"/>
                </a:gs>
                <a:gs pos="100000">
                  <a:srgbClr val="005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F0CF-E4AE-4850-B607-37090502A7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78;&#1076;&#1091;&#1085;&#1072;&#1088;&#1086;&#1076;&#1085;&#1099;&#1077;_&#1086;&#1090;&#1085;&#1086;&#1096;&#1077;&#1085;&#1080;&#1103;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МИРОВАЯ ЭКОНОМИКА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2452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66"/>
                </a:solidFill>
                <a:latin typeface="Arial"/>
              </a:rPr>
              <a:t>вывод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, как потребитель должен быть осведомлен о преимуществе стран в торговле для осуществления </a:t>
            </a:r>
            <a:r>
              <a:rPr b="0" lang="ru-RU" sz="2800" spc="-1" strike="noStrike">
                <a:solidFill>
                  <a:srgbClr val="ffc000"/>
                </a:solidFill>
                <a:latin typeface="Tahoma"/>
              </a:rPr>
              <a:t>рационального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бора товаров и услу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krizis_510091"/>
          <p:cNvPicPr/>
          <p:nvPr/>
        </p:nvPicPr>
        <p:blipFill>
          <a:blip r:embed="rId1"/>
          <a:stretch/>
        </p:blipFill>
        <p:spPr>
          <a:xfrm>
            <a:off x="4648320" y="2392200"/>
            <a:ext cx="40384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Arial"/>
              </a:rPr>
              <a:t>Определение. История.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Мировая экономи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ногоуровневая, глобальная система хозяйствования, объединяющая национальные экономики стран мира на основе международного разделения труда посредством системы международных экономических отнош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целом </a:t>
            </a:r>
            <a:r>
              <a:rPr b="1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мировую экономику</a:t>
            </a:r>
            <a:r>
              <a:rPr b="0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жно определить как совокупность национальных хозяйств и негосударственных структур, объединенных </a:t>
            </a: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международными отношениям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5" descr="img6461_mirovaya_ekonomika"/>
          <p:cNvPicPr/>
          <p:nvPr/>
        </p:nvPicPr>
        <p:blipFill>
          <a:blip r:embed="rId2"/>
          <a:stretch/>
        </p:blipFill>
        <p:spPr>
          <a:xfrm>
            <a:off x="5238720" y="1731960"/>
            <a:ext cx="2857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убъекты МЭО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c000"/>
                </a:solidFill>
                <a:uFillTx/>
                <a:latin typeface="Tahoma"/>
              </a:rPr>
              <a:t>международные экономические объедин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 рамках которых возникают прямые тесные многочисленных связи между экономиками стран различных регионов, и включающие в себя в качестве составных частей экономики интегрирующихся стран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(ЕС, СНГ, НАФТ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международные экономические организации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(МБРР, ЕБРР, ОПЕК, ВТО и т. д.)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торые представляют собой наднациональные институты, созданные для регулирования различных МЭО. Существует несколько тысяч международных экономических организаций. Условно их можно разделить на следующие групп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НГ(Содру́жество Незави́симых Госуда́рств)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гиональная международная организация , призванная регулировать отношения сотрудничества между странами, ранее входившими в состав ССС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СНГ функционирует на добровольной осно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10" descr="sign"/>
          <p:cNvPicPr/>
          <p:nvPr/>
        </p:nvPicPr>
        <p:blipFill>
          <a:blip r:embed="rId1"/>
          <a:stretch/>
        </p:blipFill>
        <p:spPr>
          <a:xfrm>
            <a:off x="4938840" y="2270160"/>
            <a:ext cx="34574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С (Европе́йский сою́з)—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кономическое и политическое объединение </a:t>
            </a: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27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европейских государ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целенный на региональную интеграцию, Союз был юридически закреплён </a:t>
            </a: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Маастрихтским договором в 199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ду на принципах Европейских сообщест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A21-6_1"/>
          <p:cNvPicPr/>
          <p:nvPr/>
        </p:nvPicPr>
        <p:blipFill>
          <a:blip r:embed="rId1"/>
          <a:stretch/>
        </p:blipFill>
        <p:spPr>
          <a:xfrm>
            <a:off x="4648320" y="2473200"/>
            <a:ext cx="40384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НАФТА-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лашение о свободной торговле между 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Канадой, США и Мексикой,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ывающееся на модели Европейского Сообщества. Соглашение НАФТА было подписано 17 декабря 1992 и вступило в силу 1 января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1994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7" descr="NAFTA_logo"/>
          <p:cNvPicPr/>
          <p:nvPr/>
        </p:nvPicPr>
        <p:blipFill>
          <a:blip r:embed="rId1"/>
          <a:stretch/>
        </p:blipFill>
        <p:spPr>
          <a:xfrm>
            <a:off x="4648320" y="2212920"/>
            <a:ext cx="40384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Международная торговля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ahoma"/>
              </a:rPr>
              <a:t>Международная торговля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—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о обмен товарами и услугами между разными странами, связанный со всеобщей интернационализацией хозяйственной жизни и интенсификацией международного разделения труда в условиях научно-технической револю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5" descr="mezhdunarodnaya_torgovlya_1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Сущность и виды  международной торговой политик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еждународная торговл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иносит выгоду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е участникам,является одной из наиболее богатых конфликтами сфер эконом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звитие внешнеэкономических связей ставит вопрос о мерах их регулирования. Государства могут придерживатьс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итики свободной торговли, открывающей внутренний рынок для иностранной конкуренци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world_economy"/>
          <p:cNvPicPr/>
          <p:nvPr/>
        </p:nvPicPr>
        <p:blipFill>
          <a:blip r:embed="rId1"/>
          <a:stretch/>
        </p:blipFill>
        <p:spPr>
          <a:xfrm>
            <a:off x="4500720" y="1700280"/>
            <a:ext cx="4319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Глобальные проблемы развития мировой экономики.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условиях интернационализации производства экономический и социальный прогресс всё в большей мере зависит от решения </a:t>
            </a:r>
            <a:r>
              <a:rPr b="1" lang="ru-RU" sz="2000" spc="-1" strike="noStrike" u="sng">
                <a:solidFill>
                  <a:srgbClr val="ffc000"/>
                </a:solidFill>
                <a:uFillTx/>
                <a:latin typeface="Tahoma"/>
              </a:rPr>
              <a:t>глобальных проблем: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отвращение мировой ядерной войны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дотвращение отсталости развивающихся стран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нергетическую проблем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довольственную проблему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ирное освоение космос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квидацию опасных болезн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8" descr="15667"/>
          <p:cNvPicPr/>
          <p:nvPr/>
        </p:nvPicPr>
        <p:blipFill>
          <a:blip r:embed="rId1"/>
          <a:stretch/>
        </p:blipFill>
        <p:spPr>
          <a:xfrm>
            <a:off x="4643280" y="1916280"/>
            <a:ext cx="4321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6:02:15Z</dcterms:created>
  <dc:creator>Customer</dc:creator>
  <dc:description/>
  <dc:language>en-US</dc:language>
  <cp:lastModifiedBy>User</cp:lastModifiedBy>
  <dcterms:modified xsi:type="dcterms:W3CDTF">2013-01-12T08:14:57Z</dcterms:modified>
  <cp:revision>9</cp:revision>
  <dc:subject/>
  <dc:title>МИРОВАЯ ЭКОНОМИКА</dc:title>
</cp:coreProperties>
</file>