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79357-D0B5-4B4F-96FD-3A0C6AFEC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2D124-1622-4FD0-8F60-42664418B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B2F3B-545D-4CDD-BF67-3616358D4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53E7B-0DE9-4FFE-959A-E1D684EB5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C6DA5-2CEC-4F12-A080-A9E6D8596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65BE2-4FAC-4035-AED1-315EB5EAC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E824D-EC4E-4907-A9BB-49B351AC6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6274E-27EC-4914-978D-B2C716140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803F8-F655-4424-B06F-4448F300A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A126A-5318-4210-9B90-AA21332FC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D3322-D546-42EB-A34F-937633C4B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A51AC-ABC0-4C3A-8BB3-6DA3FE335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7A9EF-7527-4097-825C-A7874B63F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A3B15-79EC-46CD-AC4F-DBCB3522D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72B55-1E95-48C9-B27D-EFB952593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41AB7-D49E-48C9-940D-1987A6F87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C9586-C05F-41C1-B11F-34BCBAC29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3B825-952A-4CC5-A350-1277B4C46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E5721-4F72-4EB7-9E42-2D5B3A901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1E0BD-A754-4919-A2AB-96DE80E94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A7AE7-5BD5-4AF4-B7AF-3A38C00C4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584CB-1AE4-4D5D-8BD0-A74DB53CB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B71CC-CEFD-4453-92FC-6F54A38C1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0FE61-28CE-42F6-A154-CC4BD4CC1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a58"/>
            </a:gs>
            <a:gs pos="50000">
              <a:srgbClr val="00716e"/>
            </a:gs>
            <a:gs pos="100000">
              <a:srgbClr val="005a5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2e7876"/>
                </a:gs>
                <a:gs pos="100000">
                  <a:srgbClr val="005a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2e7876"/>
                </a:gs>
                <a:gs pos="100000">
                  <a:srgbClr val="005a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2e7876"/>
                </a:gs>
                <a:gs pos="100000">
                  <a:srgbClr val="005a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2e7876"/>
                </a:gs>
                <a:gs pos="100000">
                  <a:srgbClr val="005a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2e7876"/>
                </a:gs>
                <a:gs pos="100000">
                  <a:srgbClr val="005a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2e7876"/>
                </a:gs>
                <a:gs pos="100000">
                  <a:srgbClr val="005a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d6fc7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ff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CB954-A1AE-4E06-A40B-0D15148AC09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a58"/>
            </a:gs>
            <a:gs pos="50000">
              <a:srgbClr val="00716e"/>
            </a:gs>
            <a:gs pos="100000">
              <a:srgbClr val="005a5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2e7876"/>
                </a:gs>
                <a:gs pos="100000">
                  <a:srgbClr val="005a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2e7876"/>
                </a:gs>
                <a:gs pos="100000">
                  <a:srgbClr val="005a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2e7876"/>
                </a:gs>
                <a:gs pos="100000">
                  <a:srgbClr val="005a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2e7876"/>
                </a:gs>
                <a:gs pos="100000">
                  <a:srgbClr val="005a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2e7876"/>
                </a:gs>
                <a:gs pos="100000">
                  <a:srgbClr val="005a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2e7876"/>
                </a:gs>
                <a:gs pos="100000">
                  <a:srgbClr val="005a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d6fc7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ff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0E75D-6CA9-4F0F-9EEB-035A52B7B56A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2;&#1077;&#1078;&#1076;&#1091;&#1085;&#1072;&#1088;&#1086;&#1076;&#1085;&#1099;&#1077;_&#1086;&#1090;&#1085;&#1086;&#1096;&#1077;&#1085;&#1080;&#1103;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66"/>
                </a:solidFill>
                <a:latin typeface="Arial"/>
              </a:rPr>
              <a:t>МИРОВАЯ ЭКОНОМИКА</a:t>
            </a:r>
            <a:endParaRPr b="0" lang="en-US" sz="5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78" name="Picture 5" descr=""/>
          <p:cNvPicPr/>
          <p:nvPr/>
        </p:nvPicPr>
        <p:blipFill>
          <a:blip r:embed="rId1"/>
          <a:stretch/>
        </p:blipFill>
        <p:spPr>
          <a:xfrm>
            <a:off x="1403280" y="1484280"/>
            <a:ext cx="6245280" cy="404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66"/>
                </a:solidFill>
                <a:latin typeface="Arial"/>
              </a:rPr>
              <a:t>вывод</a:t>
            </a:r>
            <a:endParaRPr b="0" lang="en-US" sz="5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аждый, как потребитель должен быть осведомлен о преимуществе стран в торговле для осуществления </a:t>
            </a:r>
            <a:r>
              <a:rPr b="0" lang="ru-RU" sz="2800" spc="-1" strike="noStrike">
                <a:solidFill>
                  <a:srgbClr val="ffc000"/>
                </a:solidFill>
                <a:latin typeface="Tahoma"/>
              </a:rPr>
              <a:t>рационального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ыбора товаров и услуг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1" name="Picture 5" descr="krizis_510091"/>
          <p:cNvPicPr/>
          <p:nvPr/>
        </p:nvPicPr>
        <p:blipFill>
          <a:blip r:embed="rId1"/>
          <a:stretch/>
        </p:blipFill>
        <p:spPr>
          <a:xfrm>
            <a:off x="4648320" y="2392200"/>
            <a:ext cx="4038480" cy="29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66"/>
                </a:solidFill>
                <a:latin typeface="Arial"/>
              </a:rPr>
              <a:t>Определение. История.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95280" y="1197000"/>
            <a:ext cx="40384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Tahoma"/>
              </a:rPr>
              <a:t>Мировая экономика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–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многоуровневая, глобальная система хозяйствования, объединяющая национальные экономики стран мира на основе международного разделения труда посредством системы международных экономических отношений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 целом </a:t>
            </a:r>
            <a:r>
              <a:rPr b="1" lang="ru-RU" sz="3200" spc="-1" strike="noStrike" u="sng">
                <a:solidFill>
                  <a:srgbClr val="ffc000"/>
                </a:solidFill>
                <a:uFillTx/>
                <a:latin typeface="Tahoma"/>
              </a:rPr>
              <a:t>мировую экономику</a:t>
            </a:r>
            <a:r>
              <a:rPr b="0" lang="ru-RU" sz="3200" spc="-1" strike="noStrike" u="sng">
                <a:solidFill>
                  <a:srgbClr val="ffc000"/>
                </a:solidFill>
                <a:uFillTx/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можно определить как совокупность национальных хозяйств и негосударственных структур, объединенных </a:t>
            </a:r>
            <a:r>
              <a:rPr b="0" lang="ru-RU" sz="2000" spc="-1" strike="noStrike" u="sng">
                <a:solidFill>
                  <a:srgbClr val="00ffff"/>
                </a:solidFill>
                <a:uFillTx/>
                <a:latin typeface="Tahoma"/>
                <a:hlinkClick r:id="rId1"/>
              </a:rPr>
              <a:t>международными отношениями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6" name="Picture 5" descr="img6461_mirovaya_ekonomika"/>
          <p:cNvPicPr/>
          <p:nvPr/>
        </p:nvPicPr>
        <p:blipFill>
          <a:blip r:embed="rId2"/>
          <a:stretch/>
        </p:blipFill>
        <p:spPr>
          <a:xfrm>
            <a:off x="5238720" y="1731960"/>
            <a:ext cx="285768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Arial"/>
              </a:rPr>
              <a:t>Субъекты МЭО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ffc000"/>
                </a:solidFill>
                <a:uFillTx/>
                <a:latin typeface="Tahoma"/>
              </a:rPr>
              <a:t>международные экономические объединения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, в рамках которых возникают прямые тесные многочисленных связи между экономиками стран различных регионов, и включающие в себя в качестве составных частей экономики интегрирующихся стран </a:t>
            </a:r>
            <a:r>
              <a:rPr b="0" lang="ru-RU" sz="2400" spc="-1" strike="noStrike">
                <a:solidFill>
                  <a:srgbClr val="ffc000"/>
                </a:solidFill>
                <a:latin typeface="Tahoma"/>
              </a:rPr>
              <a:t>(ЕС, СНГ, НАФТА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c000"/>
                </a:solidFill>
                <a:uFillTx/>
                <a:latin typeface="Tahoma"/>
              </a:rPr>
              <a:t>международные экономические организации </a:t>
            </a:r>
            <a:r>
              <a:rPr b="0" lang="ru-RU" sz="2400" spc="-1" strike="noStrike">
                <a:solidFill>
                  <a:srgbClr val="ffc000"/>
                </a:solidFill>
                <a:latin typeface="Tahoma"/>
              </a:rPr>
              <a:t>(МБРР, ЕБРР, ОПЕК, ВТО и т. д.),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оторые представляют собой наднациональные институты, созданные для регулирования различных МЭО. Существует несколько тысяч международных экономических организаций. Условно их можно разделить на следующие группы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Arial"/>
              </a:rPr>
              <a:t>СНГ(Содру́жество Незави́симых Госуда́рств)</a:t>
            </a: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 —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2591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егиональная международная организация , призванная регулировать отношения сотрудничества между странами, ранее входившими в состав СССР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ru-RU" sz="3200" spc="-1" strike="noStrike" u="sng">
                <a:solidFill>
                  <a:srgbClr val="ffc000"/>
                </a:solidFill>
                <a:uFillTx/>
                <a:latin typeface="Tahoma"/>
              </a:rPr>
              <a:t>СНГ функционирует на добровольной основ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1" name="Picture 10" descr="sign"/>
          <p:cNvPicPr/>
          <p:nvPr/>
        </p:nvPicPr>
        <p:blipFill>
          <a:blip r:embed="rId1"/>
          <a:stretch/>
        </p:blipFill>
        <p:spPr>
          <a:xfrm>
            <a:off x="4938840" y="2270160"/>
            <a:ext cx="3457440" cy="31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ЕС (Европе́йский сою́з)—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экономическое и политическое объединение </a:t>
            </a:r>
            <a:r>
              <a:rPr b="0" lang="ru-RU" sz="3600" spc="-1" strike="noStrike">
                <a:solidFill>
                  <a:srgbClr val="ffc000"/>
                </a:solidFill>
                <a:latin typeface="Tahoma"/>
              </a:rPr>
              <a:t>27 </a:t>
            </a:r>
            <a:r>
              <a:rPr b="0" lang="ru-RU" sz="2400" spc="-1" strike="noStrike">
                <a:solidFill>
                  <a:srgbClr val="ffc000"/>
                </a:solidFill>
                <a:latin typeface="Tahoma"/>
              </a:rPr>
              <a:t>европейских государств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ацеленный на региональную интеграцию, Союз был юридически закреплён </a:t>
            </a:r>
            <a:r>
              <a:rPr b="0" lang="ru-RU" sz="3600" spc="-1" strike="noStrike">
                <a:solidFill>
                  <a:srgbClr val="ffc000"/>
                </a:solidFill>
                <a:latin typeface="Tahoma"/>
              </a:rPr>
              <a:t>Маастрихтским договором в 1992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году на принципах Европейских сообществ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4" name="Picture 6" descr="A21-6_1"/>
          <p:cNvPicPr/>
          <p:nvPr/>
        </p:nvPicPr>
        <p:blipFill>
          <a:blip r:embed="rId1"/>
          <a:stretch/>
        </p:blipFill>
        <p:spPr>
          <a:xfrm>
            <a:off x="4648320" y="2473200"/>
            <a:ext cx="4038480" cy="278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Arial"/>
              </a:rPr>
              <a:t>НАФТА-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оглашение о свободной торговле между </a:t>
            </a:r>
            <a:r>
              <a:rPr b="0" lang="ru-RU" sz="3200" spc="-1" strike="noStrike">
                <a:solidFill>
                  <a:srgbClr val="ffc000"/>
                </a:solidFill>
                <a:latin typeface="Tahoma"/>
              </a:rPr>
              <a:t>Канадой, США и Мексикой,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сновывающееся на модели Европейского Сообщества. Соглашение НАФТА было подписано 17 декабря 1992 и вступило в силу 1 января </a:t>
            </a:r>
            <a:r>
              <a:rPr b="0" lang="ru-RU" sz="2400" spc="-1" strike="noStrike">
                <a:solidFill>
                  <a:srgbClr val="ffc000"/>
                </a:solidFill>
                <a:latin typeface="Tahoma"/>
              </a:rPr>
              <a:t>1994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7" name="Picture 7" descr="NAFTA_logo"/>
          <p:cNvPicPr/>
          <p:nvPr/>
        </p:nvPicPr>
        <p:blipFill>
          <a:blip r:embed="rId1"/>
          <a:stretch/>
        </p:blipFill>
        <p:spPr>
          <a:xfrm>
            <a:off x="4648320" y="2212920"/>
            <a:ext cx="4038480" cy="33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66"/>
                </a:solidFill>
                <a:latin typeface="Arial"/>
              </a:rPr>
              <a:t>Международная торговля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66"/>
                </a:solidFill>
                <a:latin typeface="Tahoma"/>
              </a:rPr>
              <a:t>Международная торговля</a:t>
            </a:r>
            <a:r>
              <a:rPr b="0" i="1" lang="ru-RU" sz="1600" spc="-1" strike="noStrike">
                <a:solidFill>
                  <a:srgbClr val="ffffff"/>
                </a:solidFill>
                <a:latin typeface="Tahoma"/>
              </a:rPr>
              <a:t> —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это обмен товарами и услугами между разными странами, связанный со всеобщей интернационализацией хозяйственной жизни и интенсификацией международного разделения труда в условиях научно-технической революци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0" name="Picture 5" descr="mezhdunarodnaya_torgovlya_1"/>
          <p:cNvPicPr/>
          <p:nvPr/>
        </p:nvPicPr>
        <p:blipFill>
          <a:blip r:embed="rId1"/>
          <a:stretch/>
        </p:blipFill>
        <p:spPr>
          <a:xfrm>
            <a:off x="4500720" y="1989000"/>
            <a:ext cx="43923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Сущность и виды  международной торговой политики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 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Международная торговля </a:t>
            </a:r>
            <a:r>
              <a:rPr b="0" lang="ru-RU" sz="2000" spc="-1" strike="noStrike" u="sng">
                <a:solidFill>
                  <a:srgbClr val="ffffff"/>
                </a:solidFill>
                <a:uFillTx/>
                <a:latin typeface="Tahoma"/>
              </a:rPr>
              <a:t>приносит выгоду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ее участникам,является одной из наиболее богатых конфликтами сфер экономик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Развитие внешнеэкономических связей ставит вопрос о мерах их регулирования. Государства могут придерживаться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олитики свободной торговли, открывающей внутренний рынок для иностранной конкуренции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3" name="Picture 5" descr="world_economy"/>
          <p:cNvPicPr/>
          <p:nvPr/>
        </p:nvPicPr>
        <p:blipFill>
          <a:blip r:embed="rId1"/>
          <a:stretch/>
        </p:blipFill>
        <p:spPr>
          <a:xfrm>
            <a:off x="4500720" y="1700280"/>
            <a:ext cx="4319280" cy="37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66"/>
                </a:solidFill>
                <a:latin typeface="Arial"/>
              </a:rPr>
              <a:t>Глобальные проблемы развития мировой экономики.</a:t>
            </a:r>
            <a:r>
              <a:rPr b="0" lang="ru-RU" sz="40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38480" cy="467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 условиях интернационализации производства экономический и социальный прогресс всё в большей мере зависит от решения </a:t>
            </a:r>
            <a:r>
              <a:rPr b="1" lang="ru-RU" sz="2000" spc="-1" strike="noStrike" u="sng">
                <a:solidFill>
                  <a:srgbClr val="ffc000"/>
                </a:solidFill>
                <a:uFillTx/>
                <a:latin typeface="Tahoma"/>
              </a:rPr>
              <a:t>глобальных проблем:</a:t>
            </a:r>
            <a:r>
              <a:rPr b="1" lang="ru-RU" sz="20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едотвращение мировой ядерной войны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едотвращение отсталости развивающихся стран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энергетическую проблему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одовольственную проблему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мирное освоение космоса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ликвидацию опасных болезней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6" name="Picture 8" descr="15667"/>
          <p:cNvPicPr/>
          <p:nvPr/>
        </p:nvPicPr>
        <p:blipFill>
          <a:blip r:embed="rId1"/>
          <a:stretch/>
        </p:blipFill>
        <p:spPr>
          <a:xfrm>
            <a:off x="4643280" y="1916280"/>
            <a:ext cx="4321440" cy="37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9T16:02:15Z</dcterms:created>
  <dc:creator>Customer</dc:creator>
  <dc:description/>
  <dc:language>en-US</dc:language>
  <cp:lastModifiedBy>User</cp:lastModifiedBy>
  <dcterms:modified xsi:type="dcterms:W3CDTF">2013-01-12T08:14:57Z</dcterms:modified>
  <cp:revision>9</cp:revision>
  <dc:subject/>
  <dc:title>МИРОВАЯ ЭКОНОМИКА</dc:title>
</cp:coreProperties>
</file>