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0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42A1-D013-424D-95E9-A2C6CF98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19F-CC5A-4F55-AF27-7223DF35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5CA8-0262-43F0-B365-1BCBE542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DE63-F236-4789-9D56-6C77D876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D713-AADD-406B-BC4D-A665C5E7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420C-C0A3-4134-B085-D4B4D63E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8488-2154-4C54-A547-BCC36755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8F53-DCF7-43A6-B07C-9FB9DEC1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B672-9F72-4CAB-9ECF-ABB2912F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BB07-BDB6-422C-9962-1BF70EDB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0E6A-F0A5-4DAF-B24F-9D85C1E7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4841-9415-48D5-AE1D-6CB73437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2738-2940-4253-AF2F-40EFADE2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7F11-3684-4131-8B44-B388A8C3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F4E8-0197-41DD-BB67-6490EF75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45A4-1A68-4397-B785-0454D19B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369B-E385-4792-B1B6-9A29F896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2619-950B-45BE-99A2-35DB0787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8456-B18C-4730-A992-71ACCDEC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1AF2-30FB-40D7-A4DB-23111940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833B-B0F5-42FC-BD47-FFE40B19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11EE-80F0-4A97-9E71-0C868083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23E6-BB07-4B63-8F3F-9B3ED99B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E4B-3065-4F37-B80D-EDB69228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541C-4000-49B9-B16A-24EF8043D8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85C6-9477-4C86-9F85-C6D593E3CE3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1014028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2" descr=""/>
          <p:cNvPicPr/>
          <p:nvPr/>
        </p:nvPicPr>
        <p:blipFill>
          <a:blip r:embed="rId2"/>
          <a:stretch/>
        </p:blipFill>
        <p:spPr>
          <a:xfrm>
            <a:off x="1450800" y="231840"/>
            <a:ext cx="6802560" cy="2120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228600" y="2209680"/>
            <a:ext cx="449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ерней нет вывода простог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ак тут мозгами не вер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Живее  города Рост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На нашем юге не найт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алентин Ката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763920" y="5867280"/>
            <a:ext cx="72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стов-на-Дону – порт пяти морей, крупный  промышл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центр юга страны, важный узел транспортных магистра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2"/>
          <p:cNvSpPr/>
          <p:nvPr/>
        </p:nvSpPr>
        <p:spPr>
          <a:xfrm>
            <a:off x="947160" y="762120"/>
            <a:ext cx="773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ец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VII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в. – время формирования «Ростовского перекрестка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дный путь по Дону пересекается сухопутными дорог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з Центральной России на Кавказ. Ростов оказывается верши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утей, которые  простираются все дальше вглубь Кавказ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933480" y="2362320"/>
            <a:ext cx="749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"/>
              </a:rPr>
              <a:t>Французский путешественник, побывавший в Ростове в 1809г.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"/>
              </a:rPr>
              <a:t>оставил свои воспоминания:  «Ростов есть небольшой город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"/>
              </a:rPr>
              <a:t>в котором нет ничего замечательного: жители производя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"/>
              </a:rPr>
              <a:t>торг и рыбную ловлю. Здесь продают в великом множе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"/>
              </a:rPr>
              <a:t>осетров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4" descr="160837xWD"/>
          <p:cNvPicPr/>
          <p:nvPr/>
        </p:nvPicPr>
        <p:blipFill>
          <a:blip r:embed="rId1"/>
          <a:stretch/>
        </p:blipFill>
        <p:spPr>
          <a:xfrm>
            <a:off x="2286000" y="3733920"/>
            <a:ext cx="50292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643680" y="1676520"/>
            <a:ext cx="7416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начале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ка определений Ростова в ходу было вели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ножеств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ых разных – от хвалебно пышных до едко саркастическ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равнивали с другими города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усский Чикаго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зовский Ливерпул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усский Американец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даже: - маленькая Моск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зывали и однозначно прост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ород-купе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криминальной среде бытовала поговор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Ростов - папа, Одесса – мам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 путешествующий журналист Евгений Марков категорич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зрек: «Кабак-город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Прямоугольник 3" descr=""/>
          <p:cNvPicPr/>
          <p:nvPr/>
        </p:nvPicPr>
        <p:blipFill>
          <a:blip r:embed="rId1"/>
          <a:stretch/>
        </p:blipFill>
        <p:spPr>
          <a:xfrm>
            <a:off x="1828800" y="384120"/>
            <a:ext cx="520056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4191"/>
          <p:cNvPicPr/>
          <p:nvPr/>
        </p:nvPicPr>
        <p:blipFill>
          <a:blip r:embed="rId1"/>
          <a:stretch/>
        </p:blipFill>
        <p:spPr>
          <a:xfrm>
            <a:off x="84240" y="0"/>
            <a:ext cx="904536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2" descr=""/>
          <p:cNvPicPr/>
          <p:nvPr/>
        </p:nvPicPr>
        <p:blipFill>
          <a:blip r:embed="rId2"/>
          <a:stretch/>
        </p:blipFill>
        <p:spPr>
          <a:xfrm>
            <a:off x="4267080" y="231840"/>
            <a:ext cx="448632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4192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62940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3" descr=""/>
          <p:cNvPicPr/>
          <p:nvPr/>
        </p:nvPicPr>
        <p:blipFill>
          <a:blip r:embed="rId2"/>
          <a:stretch/>
        </p:blipFill>
        <p:spPr>
          <a:xfrm>
            <a:off x="231840" y="689040"/>
            <a:ext cx="754704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4367"/>
          <p:cNvPicPr/>
          <p:nvPr/>
        </p:nvPicPr>
        <p:blipFill>
          <a:blip r:embed="rId1"/>
          <a:stretch/>
        </p:blipFill>
        <p:spPr>
          <a:xfrm>
            <a:off x="166680" y="0"/>
            <a:ext cx="8977320" cy="662940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5" descr=""/>
          <p:cNvPicPr/>
          <p:nvPr/>
        </p:nvPicPr>
        <p:blipFill>
          <a:blip r:embed="rId2"/>
          <a:stretch/>
        </p:blipFill>
        <p:spPr>
          <a:xfrm>
            <a:off x="1981080" y="536400"/>
            <a:ext cx="567540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4369"/>
          <p:cNvPicPr/>
          <p:nvPr/>
        </p:nvPicPr>
        <p:blipFill>
          <a:blip r:embed="rId1"/>
          <a:stretch/>
        </p:blipFill>
        <p:spPr>
          <a:xfrm>
            <a:off x="58680" y="0"/>
            <a:ext cx="908532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Прямоугольник 3" descr=""/>
          <p:cNvPicPr/>
          <p:nvPr/>
        </p:nvPicPr>
        <p:blipFill>
          <a:blip r:embed="rId2"/>
          <a:stretch/>
        </p:blipFill>
        <p:spPr>
          <a:xfrm>
            <a:off x="2620800" y="304920"/>
            <a:ext cx="65232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4370"/>
          <p:cNvPicPr/>
          <p:nvPr/>
        </p:nvPicPr>
        <p:blipFill>
          <a:blip r:embed="rId1"/>
          <a:stretch/>
        </p:blipFill>
        <p:spPr>
          <a:xfrm>
            <a:off x="119160" y="0"/>
            <a:ext cx="892800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2" descr=""/>
          <p:cNvPicPr/>
          <p:nvPr/>
        </p:nvPicPr>
        <p:blipFill>
          <a:blip r:embed="rId2"/>
          <a:stretch/>
        </p:blipFill>
        <p:spPr>
          <a:xfrm>
            <a:off x="1146240" y="457200"/>
            <a:ext cx="754704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160837xWD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2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531036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11592568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3" descr=""/>
          <p:cNvPicPr/>
          <p:nvPr/>
        </p:nvPicPr>
        <p:blipFill>
          <a:blip r:embed="rId2"/>
          <a:stretch/>
        </p:blipFill>
        <p:spPr>
          <a:xfrm>
            <a:off x="457200" y="384120"/>
            <a:ext cx="51814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Прямоугольник 3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973920" cy="768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E:\Мои документы\ТАТЬЯНА\Ростов-наДону, виды\Виды Ростова.jpg"/>
          <p:cNvPicPr/>
          <p:nvPr/>
        </p:nvPicPr>
        <p:blipFill>
          <a:blip r:embed="rId2"/>
          <a:stretch/>
        </p:blipFill>
        <p:spPr>
          <a:xfrm>
            <a:off x="1714680" y="1371600"/>
            <a:ext cx="5715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Прямоугольник 5" descr=""/>
          <p:cNvPicPr/>
          <p:nvPr/>
        </p:nvPicPr>
        <p:blipFill>
          <a:blip r:embed="rId1"/>
          <a:stretch/>
        </p:blipFill>
        <p:spPr>
          <a:xfrm>
            <a:off x="1298520" y="231840"/>
            <a:ext cx="6723000" cy="931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E:\Мои документы\ТАТЬЯНА\Ростов-наДону, виды\Петр во время Азовских походов.jpg"/>
          <p:cNvPicPr/>
          <p:nvPr/>
        </p:nvPicPr>
        <p:blipFill>
          <a:blip r:embed="rId2"/>
          <a:stretch/>
        </p:blipFill>
        <p:spPr>
          <a:xfrm>
            <a:off x="4267080" y="1371600"/>
            <a:ext cx="4595760" cy="3276720"/>
          </a:xfrm>
          <a:prstGeom prst="rect">
            <a:avLst/>
          </a:prstGeom>
          <a:ln w="0">
            <a:noFill/>
          </a:ln>
        </p:spPr>
      </p:pic>
      <p:sp>
        <p:nvSpPr>
          <p:cNvPr id="217" name="TextBox 4"/>
          <p:cNvSpPr/>
          <p:nvPr/>
        </p:nvSpPr>
        <p:spPr>
          <a:xfrm>
            <a:off x="174600" y="3505320"/>
            <a:ext cx="577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 время Азовских пох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етра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1695-1696 гг. казаки обрати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нимание царя на крутые склоны Д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источник, который он назв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огатым колодцем, или Богатым источни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лиз источника решили заложить  крепос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о сделать это Петру не пришлось. Посл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удачного Прутского похода 1711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ссия вынуждена была отдать турк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зов, гирла Дона, срыть укрепления в Таганро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других крепост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Прямоугольник 3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973920" cy="768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E:\Мои документы\ТАТЬЯНА\Ростов-наДону, виды\PICT0001_640.jpg"/>
          <p:cNvPicPr/>
          <p:nvPr/>
        </p:nvPicPr>
        <p:blipFill>
          <a:blip r:embed="rId2"/>
          <a:stretch/>
        </p:blipFill>
        <p:spPr>
          <a:xfrm>
            <a:off x="685800" y="129528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Прямоугольник 3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973920" cy="768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E:\Мои документы\ТАТЬЯНА\Ростов-наДону, виды\Западный.jpg"/>
          <p:cNvPicPr/>
          <p:nvPr/>
        </p:nvPicPr>
        <p:blipFill>
          <a:blip r:embed="rId2"/>
          <a:stretch/>
        </p:blipFill>
        <p:spPr>
          <a:xfrm>
            <a:off x="762120" y="1290600"/>
            <a:ext cx="767844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Прямоугольник 3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973920" cy="768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E:\Мои документы\ТАТЬЯНА\Ростов-наДону, виды\Берег Дона.jpg"/>
          <p:cNvPicPr/>
          <p:nvPr/>
        </p:nvPicPr>
        <p:blipFill>
          <a:blip r:embed="rId2"/>
          <a:stretch/>
        </p:blipFill>
        <p:spPr>
          <a:xfrm>
            <a:off x="1219320" y="1274760"/>
            <a:ext cx="73850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3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973920" cy="768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E:\Мои документы\ТАТЬЯНА\Ростов-наДону, виды\Ночной Ростов.jpg"/>
          <p:cNvPicPr/>
          <p:nvPr/>
        </p:nvPicPr>
        <p:blipFill>
          <a:blip r:embed="rId2"/>
          <a:stretch/>
        </p:blipFill>
        <p:spPr>
          <a:xfrm>
            <a:off x="684360" y="1295280"/>
            <a:ext cx="754524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Прямоугольник 5" descr=""/>
          <p:cNvPicPr/>
          <p:nvPr/>
        </p:nvPicPr>
        <p:blipFill>
          <a:blip r:embed="rId1"/>
          <a:stretch/>
        </p:blipFill>
        <p:spPr>
          <a:xfrm>
            <a:off x="1298520" y="231840"/>
            <a:ext cx="6723000" cy="931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F:\Елизавета.bmp"/>
          <p:cNvPicPr/>
          <p:nvPr/>
        </p:nvPicPr>
        <p:blipFill>
          <a:blip r:embed="rId2"/>
          <a:stretch/>
        </p:blipFill>
        <p:spPr>
          <a:xfrm>
            <a:off x="228600" y="1440000"/>
            <a:ext cx="3273480" cy="42559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6"/>
          <p:cNvSpPr/>
          <p:nvPr/>
        </p:nvSpPr>
        <p:spPr>
          <a:xfrm>
            <a:off x="3684240" y="1905120"/>
            <a:ext cx="500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5 декабря 1749 г. был издан ука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мператрицы  Елизаветы Петров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 сооружении таможни «…для сбору п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арифу и внутренних пошл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 привозимых из турец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отвозимых из России за границ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оваров таможню учредить ввер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 реке Дону от устья  ре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мерник  против урочища, называем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огатого  колодезя, где  и донские каза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огут вести свою торговлю с приезжи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реками, турками и армянами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5"/>
          <p:cNvSpPr/>
          <p:nvPr/>
        </p:nvSpPr>
        <p:spPr>
          <a:xfrm>
            <a:off x="22680" y="1066680"/>
            <a:ext cx="896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Ростов-на-Дону основан в 1749 году на правом холмистом берегу Д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в 46 километрах от впадения его в Азовское море. Вначале на месте горо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была заложена Темерницкая таможня – важный торговый центр на юг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А 23 сентября 1761 года  для защиты южных русских границ началос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сооружение крепости Димитрия Ростовско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Прямоугольник 5" descr=""/>
          <p:cNvPicPr/>
          <p:nvPr/>
        </p:nvPicPr>
        <p:blipFill>
          <a:blip r:embed="rId1"/>
          <a:stretch/>
        </p:blipFill>
        <p:spPr>
          <a:xfrm>
            <a:off x="1298520" y="231840"/>
            <a:ext cx="6723000" cy="931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E:\Мои документы\ТАТЬЯНА\Ростов-наДону, виды\Крепость Димитрия Ростовского.jpg"/>
          <p:cNvPicPr/>
          <p:nvPr/>
        </p:nvPicPr>
        <p:blipFill>
          <a:blip r:embed="rId2"/>
          <a:srcRect l="0" t="13065" r="1890" b="12131"/>
          <a:stretch/>
        </p:blipFill>
        <p:spPr>
          <a:xfrm>
            <a:off x="1066680" y="2895480"/>
            <a:ext cx="726120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5"/>
          <p:cNvSpPr/>
          <p:nvPr/>
        </p:nvSpPr>
        <p:spPr>
          <a:xfrm>
            <a:off x="22320" y="1066680"/>
            <a:ext cx="864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В войне с турками Ростовская крепость служила важным  центр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операций и опорным пунктом второй русской армии. В январе 1778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в крепость Димитрия Ростовского прибыл А.В.Суворов, тогда команди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Кубанского корпуса, в целях укрепления русских позиций в Приазовь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Прямоугольник 5" descr=""/>
          <p:cNvPicPr/>
          <p:nvPr/>
        </p:nvPicPr>
        <p:blipFill>
          <a:blip r:embed="rId1"/>
          <a:stretch/>
        </p:blipFill>
        <p:spPr>
          <a:xfrm>
            <a:off x="1298520" y="231840"/>
            <a:ext cx="6723000" cy="931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D:\Россия Аванта\Avanta\Images\Normal\9N0759.jpg"/>
          <p:cNvPicPr/>
          <p:nvPr/>
        </p:nvPicPr>
        <p:blipFill>
          <a:blip r:embed="rId2"/>
          <a:stretch/>
        </p:blipFill>
        <p:spPr>
          <a:xfrm>
            <a:off x="2819520" y="2674800"/>
            <a:ext cx="2971800" cy="3969000"/>
          </a:xfrm>
          <a:prstGeom prst="rect">
            <a:avLst/>
          </a:prstGeom>
          <a:ln w="604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235440" y="457200"/>
            <a:ext cx="870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1778 году из Крыма на Дон были переселены 12 тыс. армя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20 тыс. греков.  Армяне получили земли к востоку от крепости Дмит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стовского и в 1779 г. основали город Нахичевань-на-До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реки основали в 1779 г. город Мариупол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4" descr="karta"/>
          <p:cNvPicPr/>
          <p:nvPr/>
        </p:nvPicPr>
        <p:blipFill>
          <a:blip r:embed="rId1"/>
          <a:srcRect l="0" t="0" r="1260" b="0"/>
          <a:stretch/>
        </p:blipFill>
        <p:spPr>
          <a:xfrm>
            <a:off x="685800" y="1828800"/>
            <a:ext cx="79614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5"/>
          <p:cNvSpPr/>
          <p:nvPr/>
        </p:nvSpPr>
        <p:spPr>
          <a:xfrm>
            <a:off x="54360" y="533520"/>
            <a:ext cx="896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ак только не назывался наш город: и Ростовском,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стово-Дмитриевском,  и просто Дмитриевском или Дмитриевым, а так ж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стовской крепостью  или Ростов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стов окончательно стал Ростовом-на-Дону лишь в 1806 г.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 указ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лександра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, чтобы отличить от древнего Ростова Великого, что по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Ярослав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3" descr="F:\Д.Ростовский.bmp"/>
          <p:cNvPicPr/>
          <p:nvPr/>
        </p:nvPicPr>
        <p:blipFill>
          <a:blip r:embed="rId1"/>
          <a:stretch/>
        </p:blipFill>
        <p:spPr>
          <a:xfrm>
            <a:off x="3573360" y="2133720"/>
            <a:ext cx="3436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Прямоугольник 5" descr=""/>
          <p:cNvPicPr/>
          <p:nvPr/>
        </p:nvPicPr>
        <p:blipFill>
          <a:blip r:embed="rId1"/>
          <a:stretch/>
        </p:blipFill>
        <p:spPr>
          <a:xfrm>
            <a:off x="4968720" y="231840"/>
            <a:ext cx="4175280" cy="17492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F:\Ростовский.bmp"/>
          <p:cNvPicPr/>
          <p:nvPr/>
        </p:nvPicPr>
        <p:blipFill>
          <a:blip r:embed="rId2"/>
          <a:stretch/>
        </p:blipFill>
        <p:spPr>
          <a:xfrm>
            <a:off x="5334120" y="2057400"/>
            <a:ext cx="3429000" cy="45640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"/>
          <p:cNvSpPr/>
          <p:nvPr/>
        </p:nvSpPr>
        <p:spPr>
          <a:xfrm>
            <a:off x="325080" y="609480"/>
            <a:ext cx="5984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аниил Туптало родился под Киев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семье казачьего сотника в 1651 г.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о променял казачью пику на посо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ященнослужителя. В монашеств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аниил принял новое имя Димитр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еобразие проповедей Димит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ключалась в том, что они произносилис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живым народным языком и были бли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ыкновенным людя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имитрий познакомился с Петром Перв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стал горячим сторонником его преобразов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удивит ельно,что Димитрий пользовал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царским покровительством, вскоре ст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итрополитом и по царскому указу переех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начала в Москву, а затем в Ростов Вели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д Ярославлем, который был резиденци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атриарх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Прямоугольник 1" descr=""/>
          <p:cNvPicPr/>
          <p:nvPr/>
        </p:nvPicPr>
        <p:blipFill>
          <a:blip r:embed="rId1"/>
          <a:stretch/>
        </p:blipFill>
        <p:spPr>
          <a:xfrm>
            <a:off x="4968720" y="231840"/>
            <a:ext cx="4175280" cy="17492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327600" y="1905120"/>
            <a:ext cx="6000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стал тогда величаться Димитр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итрополитом Ростовским, а пос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мерти еще и канонизирован – причисл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 лику святы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чему же все-таки  крепость назв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менем Димитрия Ростовского, вед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н умер за 40 лет  до основания креп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никогда  на Дону не быва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ожно сказать, что Димитрий Рост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мевший смотреть далеко вперед, говори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писал Петру  о том, что в степях Дикого По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до постоянно  строить новые города, укрепля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южные границы.  Таким образом о предвосхити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снование Ростова-на-Дону, хотя и не являл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го прямым основате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3" descr="F:\Д.Ростовский.bmp"/>
          <p:cNvPicPr/>
          <p:nvPr/>
        </p:nvPicPr>
        <p:blipFill>
          <a:blip r:embed="rId2"/>
          <a:stretch/>
        </p:blipFill>
        <p:spPr>
          <a:xfrm>
            <a:off x="6400800" y="1981080"/>
            <a:ext cx="2489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4-01-06T10:15:40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