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DB8-F621-4B4C-B5B8-1344B576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BD5-4D4A-4756-B9F9-2136FC73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207-90D0-4B28-85D5-3BB6BD02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E13-9DBC-4892-BCA7-4B42B3C4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2CE6-2656-46F3-A90F-129D2632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DB0C-B686-43D3-AE5D-92A4AB35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DDF7-B5B1-4285-AEFF-A52AFC07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A2C3-C572-407E-B8BB-55ECAA96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A4FB-083B-48E1-9A95-9C1D45C6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B91C-36A9-4AE4-9DB5-0E2D765C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0681-5ADB-4038-BDAC-ADA5F5B9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C02-7723-4379-B79A-82CBDDBD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3B45-911F-48DE-8423-73249A62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DAFB-3BED-4598-8A94-A1AEC6BE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DBCE-3426-4EE9-8A2D-31E5C128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A082-5F17-4DF0-99DE-99BBC5DB0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FF29-2E50-443A-82EC-2693CB8F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C865-8FFB-4095-A85E-0D37F0CB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DA7C-DE48-463F-8881-3AD976B1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A72-1934-41D3-9EB2-B4D3F794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835-1DAF-4C34-834B-000BAEA9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2337-41B0-4AF6-A8A7-E055C4E0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92E-9794-4137-81FF-BC00AA94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F5E7-13F4-4D37-90D9-22A27C50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5B11-B74B-4BC7-A5A5-91AC0840D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112F-A4EA-4820-A561-B7DF080D18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1014028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Прямоугольник 2" descr=""/>
          <p:cNvPicPr/>
          <p:nvPr/>
        </p:nvPicPr>
        <p:blipFill>
          <a:blip r:embed="rId2"/>
          <a:stretch/>
        </p:blipFill>
        <p:spPr>
          <a:xfrm>
            <a:off x="1450800" y="231840"/>
            <a:ext cx="6802560" cy="2120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228600" y="2209680"/>
            <a:ext cx="44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ерней нет вывода простог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Как тут мозгами не верт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Живее  города Росто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На нашем юге не найт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6600cc"/>
                </a:solidFill>
                <a:latin typeface="Arial"/>
              </a:rPr>
              <a:t>Валентин Катае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763920" y="5867280"/>
            <a:ext cx="723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стов-на-Дону – порт пяти морей, крупный  промышл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центр юга страны, важный узел транспортных магистра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2"/>
          <p:cNvSpPr/>
          <p:nvPr/>
        </p:nvSpPr>
        <p:spPr>
          <a:xfrm>
            <a:off x="947160" y="762120"/>
            <a:ext cx="773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нец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VII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в. – время формирования «Ростовского перекрестка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дный путь по Дону пересекается сухопутными дорог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з Центральной России на Кавказ. Ростов оказывается верши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утей, которые  простираются все дальше вглубь Кавказ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933480" y="2362320"/>
            <a:ext cx="7491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"/>
              </a:rPr>
              <a:t>Французский путешественник, побывавший в Ростове в 1809г.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"/>
              </a:rPr>
              <a:t>оставил свои воспоминания:  «Ростов есть небольшой город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"/>
              </a:rPr>
              <a:t>в котором нет ничего замечательного: жители производя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"/>
              </a:rPr>
              <a:t>торг и рыбную ловлю. Здесь продают в великом множе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ff33"/>
                </a:solidFill>
                <a:latin typeface="Arial"/>
              </a:rPr>
              <a:t>осетров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4" descr="160837xWD"/>
          <p:cNvPicPr/>
          <p:nvPr/>
        </p:nvPicPr>
        <p:blipFill>
          <a:blip r:embed="rId1"/>
          <a:stretch/>
        </p:blipFill>
        <p:spPr>
          <a:xfrm>
            <a:off x="2286000" y="3733920"/>
            <a:ext cx="50292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643680" y="1676520"/>
            <a:ext cx="7416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начале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X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ека определений Ростова в ходу было вели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ножеств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ых разных – от хвалебно пышных до едко саркастическ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равнивали с другими города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усский Чикаг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зовский Ливерпул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усский Американец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даже: - маленькая Моск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зывали и однозначно прост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род-купе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криминальной среде бытовала поговорка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Ростов - папа, Одесса – мама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 путешествующий журналист Евгений Марков категорич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зрек: «Кабак-город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Прямоугольник 3" descr=""/>
          <p:cNvPicPr/>
          <p:nvPr/>
        </p:nvPicPr>
        <p:blipFill>
          <a:blip r:embed="rId1"/>
          <a:stretch/>
        </p:blipFill>
        <p:spPr>
          <a:xfrm>
            <a:off x="1828800" y="384120"/>
            <a:ext cx="520056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4191"/>
          <p:cNvPicPr/>
          <p:nvPr/>
        </p:nvPicPr>
        <p:blipFill>
          <a:blip r:embed="rId1"/>
          <a:stretch/>
        </p:blipFill>
        <p:spPr>
          <a:xfrm>
            <a:off x="84240" y="0"/>
            <a:ext cx="904536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Прямоугольник 2" descr=""/>
          <p:cNvPicPr/>
          <p:nvPr/>
        </p:nvPicPr>
        <p:blipFill>
          <a:blip r:embed="rId2"/>
          <a:stretch/>
        </p:blipFill>
        <p:spPr>
          <a:xfrm>
            <a:off x="4267080" y="231840"/>
            <a:ext cx="448632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4192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629400"/>
          </a:xfrm>
          <a:prstGeom prst="rect">
            <a:avLst/>
          </a:prstGeom>
          <a:ln w="0">
            <a:noFill/>
          </a:ln>
        </p:spPr>
      </p:pic>
      <p:pic>
        <p:nvPicPr>
          <p:cNvPr id="245" name="Прямоугольник 3" descr=""/>
          <p:cNvPicPr/>
          <p:nvPr/>
        </p:nvPicPr>
        <p:blipFill>
          <a:blip r:embed="rId2"/>
          <a:stretch/>
        </p:blipFill>
        <p:spPr>
          <a:xfrm>
            <a:off x="231840" y="689040"/>
            <a:ext cx="754704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4367"/>
          <p:cNvPicPr/>
          <p:nvPr/>
        </p:nvPicPr>
        <p:blipFill>
          <a:blip r:embed="rId1"/>
          <a:stretch/>
        </p:blipFill>
        <p:spPr>
          <a:xfrm>
            <a:off x="166680" y="0"/>
            <a:ext cx="8977320" cy="662940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5" descr=""/>
          <p:cNvPicPr/>
          <p:nvPr/>
        </p:nvPicPr>
        <p:blipFill>
          <a:blip r:embed="rId2"/>
          <a:stretch/>
        </p:blipFill>
        <p:spPr>
          <a:xfrm>
            <a:off x="1981080" y="536400"/>
            <a:ext cx="567540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4369"/>
          <p:cNvPicPr/>
          <p:nvPr/>
        </p:nvPicPr>
        <p:blipFill>
          <a:blip r:embed="rId1"/>
          <a:stretch/>
        </p:blipFill>
        <p:spPr>
          <a:xfrm>
            <a:off x="58680" y="0"/>
            <a:ext cx="908532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Прямоугольник 3" descr=""/>
          <p:cNvPicPr/>
          <p:nvPr/>
        </p:nvPicPr>
        <p:blipFill>
          <a:blip r:embed="rId2"/>
          <a:stretch/>
        </p:blipFill>
        <p:spPr>
          <a:xfrm>
            <a:off x="2620800" y="304920"/>
            <a:ext cx="652320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4370"/>
          <p:cNvPicPr/>
          <p:nvPr/>
        </p:nvPicPr>
        <p:blipFill>
          <a:blip r:embed="rId1"/>
          <a:stretch/>
        </p:blipFill>
        <p:spPr>
          <a:xfrm>
            <a:off x="119160" y="0"/>
            <a:ext cx="892800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2" descr=""/>
          <p:cNvPicPr/>
          <p:nvPr/>
        </p:nvPicPr>
        <p:blipFill>
          <a:blip r:embed="rId2"/>
          <a:stretch/>
        </p:blipFill>
        <p:spPr>
          <a:xfrm>
            <a:off x="1146240" y="457200"/>
            <a:ext cx="754704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160837xWD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2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531036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11592568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оугольник 3" descr=""/>
          <p:cNvPicPr/>
          <p:nvPr/>
        </p:nvPicPr>
        <p:blipFill>
          <a:blip r:embed="rId2"/>
          <a:stretch/>
        </p:blipFill>
        <p:spPr>
          <a:xfrm>
            <a:off x="457200" y="384120"/>
            <a:ext cx="51814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Прямоугольник 3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973920" cy="768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E:\Мои документы\ТАТЬЯНА\Ростов-наДону, виды\Виды Ростова.jpg"/>
          <p:cNvPicPr/>
          <p:nvPr/>
        </p:nvPicPr>
        <p:blipFill>
          <a:blip r:embed="rId2"/>
          <a:stretch/>
        </p:blipFill>
        <p:spPr>
          <a:xfrm>
            <a:off x="1714680" y="1371600"/>
            <a:ext cx="5715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Прямоугольник 5" descr=""/>
          <p:cNvPicPr/>
          <p:nvPr/>
        </p:nvPicPr>
        <p:blipFill>
          <a:blip r:embed="rId1"/>
          <a:stretch/>
        </p:blipFill>
        <p:spPr>
          <a:xfrm>
            <a:off x="1298520" y="231840"/>
            <a:ext cx="6723000" cy="931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E:\Мои документы\ТАТЬЯНА\Ростов-наДону, виды\Петр во время Азовских походов.jpg"/>
          <p:cNvPicPr/>
          <p:nvPr/>
        </p:nvPicPr>
        <p:blipFill>
          <a:blip r:embed="rId2"/>
          <a:stretch/>
        </p:blipFill>
        <p:spPr>
          <a:xfrm>
            <a:off x="4267080" y="1371600"/>
            <a:ext cx="4595760" cy="32767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174600" y="3505320"/>
            <a:ext cx="577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 время Азовских пох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тра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1695-1696 гг. казаки обрати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нимание царя на крутые склоны Д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источник, который он назв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огатым колодцем, или Богатым источни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лиз источника решили заложить  крепо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о сделать это Петру не пришлось. Посл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удачного Прутского похода 171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ссия вынуждена была отдать турк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зов, гирла Дона, срыть укрепления в Таганро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других крепост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Прямоугольник 3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973920" cy="768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E:\Мои документы\ТАТЬЯНА\Ростов-наДону, виды\PICT0001_640.jpg"/>
          <p:cNvPicPr/>
          <p:nvPr/>
        </p:nvPicPr>
        <p:blipFill>
          <a:blip r:embed="rId2"/>
          <a:stretch/>
        </p:blipFill>
        <p:spPr>
          <a:xfrm>
            <a:off x="685800" y="129528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Прямоугольник 3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973920" cy="7682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E:\Мои документы\ТАТЬЯНА\Ростов-наДону, виды\Западный.jpg"/>
          <p:cNvPicPr/>
          <p:nvPr/>
        </p:nvPicPr>
        <p:blipFill>
          <a:blip r:embed="rId2"/>
          <a:stretch/>
        </p:blipFill>
        <p:spPr>
          <a:xfrm>
            <a:off x="762120" y="1290600"/>
            <a:ext cx="767844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Прямоугольник 3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973920" cy="768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" descr="E:\Мои документы\ТАТЬЯНА\Ростов-наДону, виды\Берег Дона.jpg"/>
          <p:cNvPicPr/>
          <p:nvPr/>
        </p:nvPicPr>
        <p:blipFill>
          <a:blip r:embed="rId2"/>
          <a:stretch/>
        </p:blipFill>
        <p:spPr>
          <a:xfrm>
            <a:off x="1219320" y="1274760"/>
            <a:ext cx="73850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3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973920" cy="768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E:\Мои документы\ТАТЬЯНА\Ростов-наДону, виды\Ночной Ростов.jpg"/>
          <p:cNvPicPr/>
          <p:nvPr/>
        </p:nvPicPr>
        <p:blipFill>
          <a:blip r:embed="rId2"/>
          <a:stretch/>
        </p:blipFill>
        <p:spPr>
          <a:xfrm>
            <a:off x="684360" y="1295280"/>
            <a:ext cx="754524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Прямоугольник 5" descr=""/>
          <p:cNvPicPr/>
          <p:nvPr/>
        </p:nvPicPr>
        <p:blipFill>
          <a:blip r:embed="rId1"/>
          <a:stretch/>
        </p:blipFill>
        <p:spPr>
          <a:xfrm>
            <a:off x="1298520" y="231840"/>
            <a:ext cx="6723000" cy="931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F:\Елизавета.bmp"/>
          <p:cNvPicPr/>
          <p:nvPr/>
        </p:nvPicPr>
        <p:blipFill>
          <a:blip r:embed="rId2"/>
          <a:stretch/>
        </p:blipFill>
        <p:spPr>
          <a:xfrm>
            <a:off x="228600" y="1440000"/>
            <a:ext cx="3273480" cy="42559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6"/>
          <p:cNvSpPr/>
          <p:nvPr/>
        </p:nvSpPr>
        <p:spPr>
          <a:xfrm>
            <a:off x="3684240" y="1905120"/>
            <a:ext cx="500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5 декабря 1749 г. был издан ука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мператрицы  Елизаветы Петров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 сооружении таможни «…для сбору п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арифу и внутренних пош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 привозимых из турец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отвозимых из России за границ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оваров таможню учредить ввер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 реке Дону от устья  ре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мерник  против урочища, называем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огатого  колодезя, где  и донские каза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огут вести свою торговлю с приезжи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реками, турками и армянами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5"/>
          <p:cNvSpPr/>
          <p:nvPr/>
        </p:nvSpPr>
        <p:spPr>
          <a:xfrm>
            <a:off x="22680" y="1066680"/>
            <a:ext cx="8966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Ростов-на-Дону основан в 1749 году на правом холмистом берегу До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в 46 километрах от впадения его в Азовское море. Вначале на месте горо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была заложена Темерницкая таможня – важный торговый центр на юг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А 23 сентября 1761 года  для защиты южных русских границ началос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сооружение крепости Димитрия Ростовск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Прямоугольник 5" descr=""/>
          <p:cNvPicPr/>
          <p:nvPr/>
        </p:nvPicPr>
        <p:blipFill>
          <a:blip r:embed="rId1"/>
          <a:stretch/>
        </p:blipFill>
        <p:spPr>
          <a:xfrm>
            <a:off x="1298520" y="231840"/>
            <a:ext cx="6723000" cy="931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E:\Мои документы\ТАТЬЯНА\Ростов-наДону, виды\Крепость Димитрия Ростовского.jpg"/>
          <p:cNvPicPr/>
          <p:nvPr/>
        </p:nvPicPr>
        <p:blipFill>
          <a:blip r:embed="rId2"/>
          <a:srcRect l="0" t="13065" r="1890" b="12131"/>
          <a:stretch/>
        </p:blipFill>
        <p:spPr>
          <a:xfrm>
            <a:off x="1066680" y="2895480"/>
            <a:ext cx="726120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5"/>
          <p:cNvSpPr/>
          <p:nvPr/>
        </p:nvSpPr>
        <p:spPr>
          <a:xfrm>
            <a:off x="22320" y="1066680"/>
            <a:ext cx="864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В войне с турками Ростовская крепость служила важным  центро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операций и опорным пунктом второй русской армии. В январе 1778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в крепость Димитрия Ростовского прибыл А.В.Суворов, тогда команди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33"/>
                </a:solidFill>
                <a:latin typeface="Arial"/>
              </a:rPr>
              <a:t>Кубанского корпуса, в целях укрепления русских позиций в Приазовь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Прямоугольник 5" descr=""/>
          <p:cNvPicPr/>
          <p:nvPr/>
        </p:nvPicPr>
        <p:blipFill>
          <a:blip r:embed="rId1"/>
          <a:stretch/>
        </p:blipFill>
        <p:spPr>
          <a:xfrm>
            <a:off x="1298520" y="231840"/>
            <a:ext cx="6723000" cy="931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D:\Россия Аванта\Avanta\Images\Normal\9N0759.jpg"/>
          <p:cNvPicPr/>
          <p:nvPr/>
        </p:nvPicPr>
        <p:blipFill>
          <a:blip r:embed="rId2"/>
          <a:stretch/>
        </p:blipFill>
        <p:spPr>
          <a:xfrm>
            <a:off x="2819520" y="2674800"/>
            <a:ext cx="2971800" cy="3969000"/>
          </a:xfrm>
          <a:prstGeom prst="rect">
            <a:avLst/>
          </a:prstGeom>
          <a:ln w="604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235440" y="457200"/>
            <a:ext cx="870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1778 году из Крыма на Дон были переселены 12 тыс. армя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20 тыс. греков.  Армяне получили земли к востоку от крепости Дми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стовского и в 1779 г. основали город Нахичевань-на-До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реки основали в 1779 г. город Мариупол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4" descr="karta"/>
          <p:cNvPicPr/>
          <p:nvPr/>
        </p:nvPicPr>
        <p:blipFill>
          <a:blip r:embed="rId1"/>
          <a:srcRect l="0" t="0" r="1260" b="0"/>
          <a:stretch/>
        </p:blipFill>
        <p:spPr>
          <a:xfrm>
            <a:off x="685800" y="1828800"/>
            <a:ext cx="79614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5"/>
          <p:cNvSpPr/>
          <p:nvPr/>
        </p:nvSpPr>
        <p:spPr>
          <a:xfrm>
            <a:off x="54360" y="533520"/>
            <a:ext cx="896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ак только не назывался наш город: и Ростовском,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стово-Дмитриевском,  и просто Дмитриевском или Дмитриевым, а так ж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стовской крепостью  или Ростов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остов окончательно стал Ростовом-на-Дону лишь в 1806 г.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 указ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лександра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, чтобы отличить от древнего Ростова Великого, что по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Ярослав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3" descr="F:\Д.Ростовский.bmp"/>
          <p:cNvPicPr/>
          <p:nvPr/>
        </p:nvPicPr>
        <p:blipFill>
          <a:blip r:embed="rId1"/>
          <a:stretch/>
        </p:blipFill>
        <p:spPr>
          <a:xfrm>
            <a:off x="3573360" y="2133720"/>
            <a:ext cx="34369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Прямоугольник 5" descr=""/>
          <p:cNvPicPr/>
          <p:nvPr/>
        </p:nvPicPr>
        <p:blipFill>
          <a:blip r:embed="rId1"/>
          <a:stretch/>
        </p:blipFill>
        <p:spPr>
          <a:xfrm>
            <a:off x="4968720" y="231840"/>
            <a:ext cx="4175280" cy="17492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F:\Ростовский.bmp"/>
          <p:cNvPicPr/>
          <p:nvPr/>
        </p:nvPicPr>
        <p:blipFill>
          <a:blip r:embed="rId2"/>
          <a:stretch/>
        </p:blipFill>
        <p:spPr>
          <a:xfrm>
            <a:off x="5334120" y="2057400"/>
            <a:ext cx="3429000" cy="45640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"/>
          <p:cNvSpPr/>
          <p:nvPr/>
        </p:nvSpPr>
        <p:spPr>
          <a:xfrm>
            <a:off x="325080" y="609480"/>
            <a:ext cx="5984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аниил Туптало родился под Киев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семье казачьего сотника в 1651 г. 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о променял казачью пику на посо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ященнослужителя. В монашеств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аниил принял новое имя Димитр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еобразие проповедей Димит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ключалась в том, что они произносилис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живым народным языком и были бли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ыкновенным люд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имитрий познакомился с Петром Перв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стал горячим сторонником его преобразова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удивит ельно,что Димитрий пользовал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царским покровительством, вскоре ст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итрополитом и по царскому указу переех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начала в Москву, а затем в Ростов Вели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д Ярославлем, который был резиденци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атриарх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1" descr=""/>
          <p:cNvPicPr/>
          <p:nvPr/>
        </p:nvPicPr>
        <p:blipFill>
          <a:blip r:embed="rId1"/>
          <a:stretch/>
        </p:blipFill>
        <p:spPr>
          <a:xfrm>
            <a:off x="4968720" y="231840"/>
            <a:ext cx="4175280" cy="17492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327600" y="1905120"/>
            <a:ext cx="6000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стал тогда величаться Димитр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итрополитом Ростовским, а пос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мерти еще и канонизирован – причисл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 лику святы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чему же все-таки  крепость назв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менем Димитрия Ростовского, ве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н умер за 40 лет  до основания креп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никогда  на Дону не быва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ожно сказать, что Димитрий Рост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мевший смотреть далеко вперед, говори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 писал Петру  о том, что в степях Дикого По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до постоянно  строить новые города, укрепля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южные границы.  Таким образом о предвосхити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снование Ростова-на-Дону, хотя и не являл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его прямым основател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3" descr="F:\Д.Ростовский.bmp"/>
          <p:cNvPicPr/>
          <p:nvPr/>
        </p:nvPicPr>
        <p:blipFill>
          <a:blip r:embed="rId2"/>
          <a:stretch/>
        </p:blipFill>
        <p:spPr>
          <a:xfrm>
            <a:off x="6400800" y="1981080"/>
            <a:ext cx="2489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4-01-06T10:15:40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