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B6D-E90A-4C4F-81CD-58B76D8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D35-796E-4205-89B1-25F7BD4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9752-F23B-44F1-B4D9-AD169D2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1D17-5390-4DEE-95A3-85C32B8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5F99B-0A21-46CF-8BDA-5AFD69A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FE587-BCC6-49E5-8AA8-362B68D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1C3D8-D7B0-4575-97B1-62895ACA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A1BF6-FFDD-4FE5-A26A-16C38DE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25E2B-91CF-4142-BDB0-4AF57A75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B7CD8-C0F7-4183-B50A-8AF6D07C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DC1AA-6D95-4A6D-82EB-6E41D0AD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C1D18-BD72-4904-9BDE-27E1552E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F94-C3BE-4F7F-9398-7E443F42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CFE04-CAEF-4641-B037-C322FC76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E2F1B-D593-4A6B-8A21-BA67F0A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AE062-AC18-40E0-8E76-5F8DA345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BE1C8-68FF-4609-A01F-5E9B95E8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2670E-78B1-4618-BABE-F0EC448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FF788-F77C-46E1-9288-F08046E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409E0-4AC9-4A4E-A6DD-8FB0EFB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BB66D-AFBD-49B7-82B3-964E4253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FD81D-93E5-4A1B-A02E-C962C1C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09E06-3D9D-4024-860D-B078951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E10-17EE-468C-9B88-312886C8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20A46-EF10-4A27-A8BA-069FC3E6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485D6-B4FB-4B0F-9A62-463C8E3C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3B980-F421-4957-8292-E4765D63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CF251-20AF-4E65-8291-CF112ED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F04C-CE7C-406B-9C7F-448DD2E6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274B7-4EB8-48A7-9677-71BC98A5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B1EA-27AE-4CC1-BC14-60E00B2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50852-ADF8-4BE1-9BB2-C4BDFFB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0DECE-C1D0-4241-93BD-DE3F082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6AE8B-48AE-43CE-AAE7-E4AF933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5CED-3C59-4AB8-8EE3-C83977CD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AF5E3-106D-428D-BF8E-AAE5B509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52069-FC5B-4FBA-8945-F1D42ED0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5A853-E951-417E-AF98-E6E61A08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3A750-55AD-46E1-85A6-6907B167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F67C4-3AAE-4381-93A3-446672D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01D14-92EE-4D86-AAAD-8CD1D31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C42F2-D060-4715-98F8-55B450E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8C1A8-3206-4283-9ADB-ED49BF1F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9C638-06B9-4B21-AA77-ABAF17CF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D3C8D-57B1-4794-92E1-7E71254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12A1-581D-4A1A-A9A8-5AC82CA6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BDE37-8306-4FAB-A76F-92A6689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120B3-19B8-49DD-8287-F5E35AD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594CB-B4D4-4A73-9374-C4886DBF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271B4-5316-490A-B99D-8C33A28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184C2-7AF7-43C5-BD21-16F46C43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7EC3-C41E-4EDB-85C3-7DACEE4A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D8EE-C41A-4003-9D86-368B7595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AC49-20EF-4835-B69C-AA823C04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F03D-69EC-4763-9A46-A7886681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12B-A3DE-4B24-9838-FCA0D312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294-238D-45BE-94EE-994153CF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627-E27C-4E75-915C-24A2DAD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F86-BD2C-4F89-9C0D-B12ECE7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1AE2-0C0A-4D2C-88EC-E631445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BD63-5FFE-4EED-BBA2-EA0C4886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BE48-6ACF-418A-B9B5-5A9881CA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18A7-73A5-41A1-A3D5-AB9E4353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2462-17C7-4221-9EC6-0FB99BCE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4ECA-8A6C-464F-8FE4-21A8647C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90A4-13B5-40E1-88BC-53F27C00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D661-FC6D-4430-95CD-E08E6C9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1DA-4F07-4142-AFFE-373D9AC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9532-7E70-43D2-89B1-2B235360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1DBB-04E9-469F-9E45-AC3FD0F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649E-C2AD-43FA-A678-6A9DE64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214E-82E1-4D93-8244-9A9AD2F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5B76-DEF8-46EB-B74C-F95C9223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7C12-DC8D-4C4C-920A-DDF1689B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268F-9BCE-4A94-A51D-97AD6B08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D217-F6E6-4382-A035-36D99967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39D3-9805-4D30-B305-75CCDB0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D71D-C4E2-40A4-BA27-B379657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F5A-A40F-4A81-BF72-14075614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52E1-7002-45BA-80FF-0F0E877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2ABB-6FE1-4D37-A72D-CB9CE29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5B1A-EE2B-4201-8127-BBE41F9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A38F-927A-4EF6-89DE-1A9E8B5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FF94-C123-4618-ADFC-6C2D535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2FDE-11DF-492D-9AC5-B23140B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AAB5-8856-4381-969A-5A21F8F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52AD-3E93-4CBB-9F50-7C6151E4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42C4-7B21-44AE-BC8E-08ABEEE4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A781-8F95-4241-B307-DE576D70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BC6-A97A-4EB9-8933-DDA2435F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D3E3-0304-472D-8E81-876E2491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5768-FE91-4B72-8617-D4077F34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0905-6E9D-47E4-AD27-60A4E75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F93A-2042-434D-BA7C-2782CC0C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02F9-4EE0-49BB-A219-34F44F8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D657-2AAA-4665-876E-F380730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D7B3-44B5-45E1-9488-BA6FCEF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F396-E467-4EC8-B58D-D005341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C899-52CE-4DDE-8FFB-79A0347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9D4EC-D3B6-48D8-A3F8-B3A2F8DB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36D-20E8-4747-9A51-D02F6F39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2BB6-1242-4FF4-878C-2C3DA402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BF70-7085-4DA8-A185-E010A523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0665-2803-453E-8BBC-E9A2EE78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260B-ABC4-409E-8E2E-3404C8B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16A57-1398-4D42-A81C-E0AAF2A7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B188-53B5-4F20-A355-408D43CF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99A01-37F3-4964-8EF6-E7DE04C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607D-10DE-4D39-94F1-B5B1B31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DF99-96F5-4AC4-9A47-A424615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39C20-6353-41FC-B927-A468748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4BA-31C8-4DC5-8227-31BA079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5E0F-8307-4678-8919-A87851C0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D1BB9-825F-43E0-AD08-793991FA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4E76-45A2-430D-8EE4-13EE2456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D61E-72C3-42C1-9919-F701548E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09C9-99B8-4621-8501-4177B3BD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8C1A-FC41-4969-BD4E-EEE7D3C6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1D56-0C05-40BF-AEAC-D432E154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58F83-8F1A-4762-8526-225EF0F2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EAD3-6A31-4308-9FC7-16F38829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4BFE-C10D-47B3-918F-3EB560B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0C5-FDF4-4C49-B063-6629C92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A270D-448F-4A94-91CA-27EA8AAE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F8C5-82E0-4B04-B666-F06FE29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AF3B-4263-4E37-A10E-5ACD344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450A2-E3F2-4741-9E44-BC265AB4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55B5-C092-420B-AD5C-E2BAFC8B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DDC87-0789-4562-AA1C-CFFE9EA1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DD33-DC16-4CC3-B73B-D878320D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9B0DB-61D7-4324-B7AD-AB00AA9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A466-CA58-40E4-BD2F-8DE87F31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0AB48-FC5B-4561-A121-58DA9ADD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136-F444-4DAD-9187-C9DEB1D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1708-0CBD-460A-91CC-2DB6FB24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53A0-E057-4650-B143-75FAC94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D64C-473F-4455-8FC6-0CBB2A3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2A56-07AB-4A92-A082-9590FCD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030C-C772-425E-BB8E-7644127B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8D66-29BB-4B9D-93FF-83088FB6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65BD-2B90-49DA-99F9-F50BE591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44381-F780-45FC-B1A3-9389492A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0301-6149-4885-98CF-07D692D9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415B9-260D-4A0C-B05C-1330336C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82C-613C-4E2D-B626-D0A1A4D5A6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3D2C-BD63-405F-95DA-5EA7B548FFC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D35-E32C-4A86-8F19-7AC7129315B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EBE5-4723-44C4-A6A9-D7A6F86A817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C1DE-BAC8-4CDC-AC8D-A960ACAC55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F30E-F051-4003-9A66-664AB2E45E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1E1-20DC-4771-A3E1-28FC22D792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1F06-8672-440C-96BE-13B9D88CAC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009-1A81-4ED4-8FE2-027B3D8421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DF7F-D354-42B7-92EF-52516A2DBC7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9B51-029F-444D-9FBD-6B9FDEC4323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757D-6CE1-44E5-9911-8C4F7136B9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solidFill>
            <a:srgbClr val="c99c60"/>
          </a:soli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Курская   Битва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7640" y="1417680"/>
            <a:ext cx="9001080" cy="421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5 июля 1943 г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23 августа1943 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2843280" y="4729320"/>
            <a:ext cx="601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истории МБОУ СОШ №1 г. Большой Камен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макова Ирина Александ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4. 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0" y="214200"/>
            <a:ext cx="9001080" cy="78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ветское командование решило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ерейти к активной оборо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0" y="1177920"/>
            <a:ext cx="4357800" cy="246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емцы собирались внов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использовать факто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незапности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полагалось нач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ступление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5 июля 1943 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3 часа утра силь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ртиллерий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дготов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1"/>
          <p:cNvSpPr/>
          <p:nvPr/>
        </p:nvSpPr>
        <p:spPr>
          <a:xfrm>
            <a:off x="4211640" y="2257560"/>
            <a:ext cx="5763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788000" y="1177920"/>
            <a:ext cx="4356000" cy="246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днако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ая развед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очно определила день и ча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ачала наступления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посл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его командующ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ентральным фронт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К. К. Рокоссовск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инял решение об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упреждающем уда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"/>
          <p:cNvSpPr/>
          <p:nvPr/>
        </p:nvSpPr>
        <p:spPr>
          <a:xfrm>
            <a:off x="0" y="3786120"/>
            <a:ext cx="9144000" cy="857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 несколько минут до начала немецкого наступления поч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9 тыс. советских орудий нанесли сокрушительный уда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 местам сосредоточения германских войск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4"/>
          <p:cNvSpPr/>
          <p:nvPr/>
        </p:nvSpPr>
        <p:spPr>
          <a:xfrm>
            <a:off x="285840" y="4786200"/>
            <a:ext cx="8858160" cy="671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родвинуться же немцы смогли лишь на 30-35 к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"/>
          <p:cNvPicPr/>
          <p:nvPr/>
        </p:nvPicPr>
        <p:blipFill>
          <a:blip r:embed="rId1"/>
          <a:stretch/>
        </p:blipFill>
        <p:spPr>
          <a:xfrm>
            <a:off x="0" y="576360"/>
            <a:ext cx="4527720" cy="50194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0"/>
          <p:cNvSpPr/>
          <p:nvPr/>
        </p:nvSpPr>
        <p:spPr>
          <a:xfrm>
            <a:off x="4500720" y="214200"/>
            <a:ext cx="4643280" cy="55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2 июля 1943 г.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етские вой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ереш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 контрнаступлени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этот же день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 район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еревн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рохоровка состояло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рупнейшее 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мировой истор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стречное танко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ражени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котором участвова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танков и СА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154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 Black"/>
              </a:rPr>
              <a:t>Сражение под Прохоровко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214880" y="785880"/>
            <a:ext cx="4929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 время боя из строя выбыло очень много командиров-танкистов (взводных и ротных). Высокий уровень потерь комсостава в 32-й тбр: 41 командир танка (36 % от общего числа), командир танкового взвода (61 %), роты (100 %) и батальона (50 %). Очень высокие потери понесло командное звено и мотострелковом полку бригады, погибли и получили тяжелые ранения многие командиры рот и взводов. Вышел из строя его командир капитан И. И. Руденко (эвакуировали с поля боя в госпита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5" descr="ProkhorovkaMonument"/>
          <p:cNvPicPr/>
          <p:nvPr/>
        </p:nvPicPr>
        <p:blipFill>
          <a:blip r:embed="rId1"/>
          <a:stretch/>
        </p:blipFill>
        <p:spPr>
          <a:xfrm>
            <a:off x="0" y="928800"/>
            <a:ext cx="38973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7120" y="231840"/>
            <a:ext cx="83296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 Black"/>
              </a:rPr>
              <a:t>Потер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996840"/>
            <a:ext cx="91440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 советским данным, на поле боя в сражении под Прохоровкой осталось около 400 немецких танков, 300 автомашин, свыше 3500 солдат и офицеров. Однако эти числа ставятся под сомнение. Например, по подсчётам Г. А. Олейникова, в сражении не могло принимать участие более 300 немецких танков. Согласно исследованиям А.Томзова, ссылающегося на данные немецкого федерального Военного архива, в ходе боёв 12-13 июля дивизия «Лейбштандарт Адольф Гитлер» потеряла безвозвратно 2 танка Pz.IV, в долгосрочный ремонт было отправлено 2 танка Pz.IV и 2 Pz.III, в краткосрочный — 15 танков Pz.IV и 1 Pz.III. Общие же потери танков и штурмовых орудий 2 танковой СС за 12 июля составили около 80 танков и штурмовых орудий, в том числе не менее 40 единиц потеряла дивизия «Мертвая Голов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то же время советские 18-й и 29-й танковые корпуса 5-й Гвардейской танковой армии потеряли до 70 % своих танков. Согласно воспоминаниям генерал-майора немецко-фашистской армии Ф. В. фон Меллентина в атаке на Прохоровку и, соответственно, утреннем бою с советской ТА принимали участие только дивизии "Рейх" и "Лейбштандарт", усиленные батальоном "самоходок" - всего до 240 машин, в т.ч. четыре "тигра". Встретить серьёзного противника не предполагалось ,по мнению германского командования ТА Ротмистрова была втянута в бой против дивизии "Мертвая голова" (в действительности - один корпус) и встречная атака более 800 (по их оценкам) танков стала полной неожиданностью. Впрочем, есть основания предполагать, что и советское командование "проспало" противника и атака Танковой Армии с другими корпусами вовсе не была попыткой остановить немцев а преследовала цель зайти в тыл танковому корпусу СС, за который была принята его дивизия "Мёртвая голова". Немцы первыми заметили противника и успели перестроиться для боя, советским танкистам пришлось делать это уже под огн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15732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ОПЕРАЦИЯ «КУТУЗОВ»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071720"/>
            <a:ext cx="621504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разгар боя 12 июля наступление в районе Орла. Общий план Орловской операции, получившей условное наименование «Кутузов», заключался в одновременном нанесении войсками трех фронтов ударов с севера, востока и юга с целью охватить вражескую группировку, рассечь ее и уничтожить по ча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 июля немецкие войска были вынуждены оставить Орловский плацдарм и начать отход на позицию восточнее Брянска. 29 июля был освобожден Волхов,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5 августа - Ор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Рисунок 3" descr="70 sokolovskiy 7"/>
          <p:cNvPicPr/>
          <p:nvPr/>
        </p:nvPicPr>
        <p:blipFill>
          <a:blip r:embed="rId1"/>
          <a:stretch/>
        </p:blipFill>
        <p:spPr>
          <a:xfrm>
            <a:off x="7215120" y="571680"/>
            <a:ext cx="1525680" cy="192060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4"/>
          <p:cNvSpPr/>
          <p:nvPr/>
        </p:nvSpPr>
        <p:spPr>
          <a:xfrm>
            <a:off x="7143840" y="257184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ский В. Д. (1897-1968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Рисунок 5" descr="http://go1.imgsmail.ru/imgpreview?key=http%3A//encyclopedia.mil.ru/files/morf/popov2.jpg&amp;mb=imgdb_preview_880"/>
          <p:cNvPicPr/>
          <p:nvPr/>
        </p:nvPicPr>
        <p:blipFill>
          <a:blip r:embed="rId2"/>
          <a:stretch/>
        </p:blipFill>
        <p:spPr>
          <a:xfrm>
            <a:off x="7215120" y="3214800"/>
            <a:ext cx="1676520" cy="18018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"/>
          <p:cNvSpPr/>
          <p:nvPr/>
        </p:nvSpPr>
        <p:spPr>
          <a:xfrm>
            <a:off x="7056360" y="5214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 М. М. (1902-196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2"/>
          <p:cNvSpPr/>
          <p:nvPr/>
        </p:nvSpPr>
        <p:spPr>
          <a:xfrm>
            <a:off x="144360" y="33480"/>
            <a:ext cx="4714920" cy="5277600"/>
          </a:xfrm>
          <a:prstGeom prst="rect">
            <a:avLst/>
          </a:prstGeom>
          <a:solidFill>
            <a:srgbClr val="003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2 июля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Западный (командующий генерал-полковник Василий Соколовский) и Брянский (командующий генерал-полковник Маркиан Попов) фронты начали наступление против 2-й танковой и 9-й армий врага в районе Орл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исходу дня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3 июля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етские войска прорвали оборону противник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26 июля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емцы оставили Орловский плацдарм и начали отход на оборонительную линию «Хаген» (восточнее Брянска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няли Орё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5003640" y="1316160"/>
            <a:ext cx="3929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4200" y="156960"/>
            <a:ext cx="877752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ОПЕРАЦИЯ «ПОЛКОВОДЕЦ РУМЯНЦЕВ»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928800"/>
            <a:ext cx="67327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южном фронте Курской дуги готовилась еще одна наступательная операция Красной Армии – Белгородско-Харьковская, получившая </a:t>
            </a:r>
            <a:r>
              <a:rPr b="0" lang="ru-RU" sz="17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условное наименование «Полков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ц Румянцев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ступление началось утром 3 августа после мощной артиллерийской и авиационной подготовки. 5 августа советские войска освободили Белгор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3 августа после упорных боев войска Степного фронта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генерал-полковник И. С. Конев)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лностью освободили Харьков от враг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ходе контрнаступления на белгородско-харьковском направлении советские войска продвинулись на 140 километров и заняли выгодное положение для перехода в общее наступление с целью освобождения Левобережной Украины и Донбас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Рисунок 3" descr="Малиновский Р.Я."/>
          <p:cNvPicPr/>
          <p:nvPr/>
        </p:nvPicPr>
        <p:blipFill>
          <a:blip r:embed="rId1"/>
          <a:stretch/>
        </p:blipFill>
        <p:spPr>
          <a:xfrm>
            <a:off x="7380360" y="878040"/>
            <a:ext cx="1368360" cy="15588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"/>
          <p:cNvSpPr/>
          <p:nvPr/>
        </p:nvSpPr>
        <p:spPr>
          <a:xfrm>
            <a:off x="6948360" y="255744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иновский Р.Я. (1898-196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Рисунок 5" descr="Konev ivan1.jpg"/>
          <p:cNvPicPr/>
          <p:nvPr/>
        </p:nvPicPr>
        <p:blipFill>
          <a:blip r:embed="rId2"/>
          <a:stretch/>
        </p:blipFill>
        <p:spPr>
          <a:xfrm>
            <a:off x="7236000" y="2857680"/>
            <a:ext cx="1622160" cy="183348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6"/>
          <p:cNvSpPr/>
          <p:nvPr/>
        </p:nvSpPr>
        <p:spPr>
          <a:xfrm>
            <a:off x="6948360" y="483696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 (1897-197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"/>
          <p:cNvSpPr/>
          <p:nvPr/>
        </p:nvSpPr>
        <p:spPr>
          <a:xfrm>
            <a:off x="395280" y="217440"/>
            <a:ext cx="8280360" cy="825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5 августа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етские войска заняли Орёл. Операция  «Кутузов 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"/>
          <p:cNvSpPr/>
          <p:nvPr/>
        </p:nvSpPr>
        <p:spPr>
          <a:xfrm>
            <a:off x="428760" y="1214280"/>
            <a:ext cx="835344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5 августа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ыл освобожден Белгор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ерация «ПолководецРумянце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3"/>
          <p:cNvSpPr/>
          <p:nvPr/>
        </p:nvSpPr>
        <p:spPr>
          <a:xfrm>
            <a:off x="285840" y="2214720"/>
            <a:ext cx="8604000" cy="2043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5 августа 1943г- 5 августа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 Москве был дан перв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за всю войну салют —в че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свобождения Орла и Белгород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4"/>
          <p:cNvSpPr/>
          <p:nvPr/>
        </p:nvSpPr>
        <p:spPr>
          <a:xfrm>
            <a:off x="250920" y="4417920"/>
            <a:ext cx="8642160" cy="947160"/>
          </a:xfrm>
          <a:prstGeom prst="rect">
            <a:avLst/>
          </a:prstGeom>
          <a:solidFill>
            <a:srgbClr val="946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3 августа овладели Харьковом. Контрудары немцев успеха не име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3840" y="231840"/>
            <a:ext cx="8472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«Твои Герои, Курская дуга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Содержимое 3" descr="http://geroiros.narod.ru/wwsoldat/LEGEND/IMAGES/pokryshkin-001.jpg"/>
          <p:cNvPicPr/>
          <p:nvPr/>
        </p:nvPicPr>
        <p:blipFill>
          <a:blip r:embed="rId1"/>
          <a:stretch/>
        </p:blipFill>
        <p:spPr>
          <a:xfrm>
            <a:off x="6143760" y="1000080"/>
            <a:ext cx="2357280" cy="2317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1"/>
          <p:cNvSpPr/>
          <p:nvPr/>
        </p:nvSpPr>
        <p:spPr>
          <a:xfrm>
            <a:off x="0" y="1002600"/>
            <a:ext cx="63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ОКРЫШКИН Александр Иванович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Трижды 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маршал ав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2268360" y="1920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-1985 гг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285840" y="2428920"/>
            <a:ext cx="478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.И. Покрышкин создал собственную систему подготовки асов. Героем Советского Союза. 9 мая 1945 года он сбил над Прагой последний немецкий самолет, уничтоженный в воздушном бою на европейском театре второй мировой войны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4 августа 1943 года Покрышкину вторично присвоено звание Героя Советского Союза. 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7"/>
          <p:cNvSpPr/>
          <p:nvPr/>
        </p:nvSpPr>
        <p:spPr>
          <a:xfrm>
            <a:off x="5214960" y="3714840"/>
            <a:ext cx="373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фициально за Покрышкиным числятся более 650 боевых вылетов и 59 лично сбитых самолетов. Действительная цифра, видимо, еще больше. 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Курской битве немцы потеря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0 тыс. солдат и офицеров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,5 тыс. танков, 3,7 тыс. самолетов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28760" y="642960"/>
            <a:ext cx="0" cy="299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0" y="1428840"/>
            <a:ext cx="5000760" cy="839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6 ноября был освобожден Кие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Днепр был форсирова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большинстве направлен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0" descr=""/>
          <p:cNvPicPr/>
          <p:nvPr/>
        </p:nvPicPr>
        <p:blipFill>
          <a:blip r:embed="rId1"/>
          <a:stretch/>
        </p:blipFill>
        <p:spPr>
          <a:xfrm>
            <a:off x="5111640" y="1428840"/>
            <a:ext cx="4032360" cy="22921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11"/>
          <p:cNvSpPr/>
          <p:nvPr/>
        </p:nvSpPr>
        <p:spPr>
          <a:xfrm>
            <a:off x="0" y="2500200"/>
            <a:ext cx="5000760" cy="1436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2438 воино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первы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тупивших на правый берег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непра,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были удостое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сокого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звания Геро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ого Союз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0" y="4057560"/>
            <a:ext cx="8748720" cy="1228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дновременно оказалась «запертой» в Кры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начительн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руппировка немецких войс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оренной перелом в ходе войны был закреплен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2"/>
          <p:cNvSpPr/>
          <p:nvPr/>
        </p:nvSpPr>
        <p:spPr>
          <a:xfrm>
            <a:off x="3844080" y="217440"/>
            <a:ext cx="21938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Palatino Linotype"/>
              </a:rPr>
              <a:t>ССС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3"/>
          <p:cNvSpPr/>
          <p:nvPr/>
        </p:nvSpPr>
        <p:spPr>
          <a:xfrm>
            <a:off x="548640" y="2786040"/>
            <a:ext cx="3009240" cy="520560"/>
          </a:xfrm>
          <a:prstGeom prst="rect">
            <a:avLst/>
          </a:prstGeom>
          <a:solidFill>
            <a:srgbClr val="a6d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оргий Жу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79280" y="217440"/>
            <a:ext cx="2264040" cy="2395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6875640" y="244440"/>
            <a:ext cx="210492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4"/>
          <p:cNvSpPr/>
          <p:nvPr/>
        </p:nvSpPr>
        <p:spPr>
          <a:xfrm>
            <a:off x="6929280" y="2786040"/>
            <a:ext cx="2214720" cy="825480"/>
          </a:xfrm>
          <a:prstGeom prst="rect">
            <a:avLst/>
          </a:prstGeom>
          <a:solidFill>
            <a:srgbClr val="d0e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икол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атут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214200" y="3465360"/>
            <a:ext cx="2119320" cy="224964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5"/>
          <p:cNvSpPr/>
          <p:nvPr/>
        </p:nvSpPr>
        <p:spPr>
          <a:xfrm>
            <a:off x="2671920" y="51721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Иван Коне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4"/>
          <a:stretch/>
        </p:blipFill>
        <p:spPr>
          <a:xfrm>
            <a:off x="4143240" y="3373560"/>
            <a:ext cx="2144880" cy="234144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6"/>
          <p:cNvSpPr/>
          <p:nvPr/>
        </p:nvSpPr>
        <p:spPr>
          <a:xfrm>
            <a:off x="6715080" y="4357800"/>
            <a:ext cx="2081160" cy="642600"/>
          </a:xfrm>
          <a:prstGeom prst="rect">
            <a:avLst/>
          </a:prstGeom>
          <a:solidFill>
            <a:srgbClr val="a1d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окоссовский Констан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2697120" y="1357200"/>
            <a:ext cx="4141440" cy="70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мандующ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"/>
          <p:cNvSpPr/>
          <p:nvPr/>
        </p:nvSpPr>
        <p:spPr>
          <a:xfrm>
            <a:off x="395280" y="1573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Итоги Курской Битв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2"/>
          <p:cNvSpPr/>
          <p:nvPr/>
        </p:nvSpPr>
        <p:spPr>
          <a:xfrm>
            <a:off x="0" y="785880"/>
            <a:ext cx="9144000" cy="228420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беда советской армии под Курском ознаменовала окончательный переход к союзникам стратегической инициативы во Второй мировой войн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 моменту стабилизации фронта советские войска вышли на исходные позиции для наступления на Днеп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Британо-американские силы в разгар битвы высадились на Сицилии. Косвенным итогом Курской битвы стал выход Италии из войны 8 сентября 1943 год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тери сторон в битве остаются неясными. Так, советские историки, в том числе и академик АН СССР Александр Самсонов, говорят о более чем 500 000 убитых, раненых или пленных, 1500 танков и свыше 3700 самолёт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285840" y="3714840"/>
            <a:ext cx="4100400" cy="17002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4857840" y="3683160"/>
            <a:ext cx="38098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4. 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4508640" y="576360"/>
            <a:ext cx="4635360" cy="5138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0" y="0"/>
            <a:ext cx="4572000" cy="3036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ерия военных пораже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ильно обескрови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ую арми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Гитлер приказал нач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тотальную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(всеобщу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билизацию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в ход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торой в армию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изваны еще 2 млн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лдат и офицеро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3214800"/>
            <a:ext cx="4282920" cy="11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д Курском был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средоточено до 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ивизий противник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0" y="4500720"/>
            <a:ext cx="4500720" cy="121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ий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лан оп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Цитадель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» предусматрив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кружение красной арм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</a:rPr>
              <a:t>Планы и силы сторо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642600"/>
            <a:ext cx="9144000" cy="5072040"/>
          </a:xfrm>
          <a:prstGeom prst="rect">
            <a:avLst/>
          </a:prstGeom>
          <a:solidFill>
            <a:srgbClr val="f3eadd"/>
          </a:solidFill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уководство войсками осуществляли генерал-фельдмаршал Гюнтер Ханс фон 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Клюге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группа армий «Центр»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нерал-фельдмаршал Фриц Эрих фон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Манштейн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группа армий «Юг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оздушную поддержку немецким войскам оказывали силы 4-го и 6-го воздушных фл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ведения операции в район Курска были выдвинуты несколько элитных танковых дивизий 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0" y="696960"/>
            <a:ext cx="8820000" cy="1017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анковые армии были вооружены новыми видами техники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анками «Тигр» и «Пантера», штурмовыми орудия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Фердинанд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0" y="1857240"/>
            <a:ext cx="2664000" cy="1524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2"/>
          <a:stretch/>
        </p:blipFill>
        <p:spPr>
          <a:xfrm>
            <a:off x="3276720" y="1596960"/>
            <a:ext cx="2447640" cy="1503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2" descr=""/>
          <p:cNvPicPr/>
          <p:nvPr/>
        </p:nvPicPr>
        <p:blipFill>
          <a:blip r:embed="rId3"/>
          <a:stretch/>
        </p:blipFill>
        <p:spPr>
          <a:xfrm>
            <a:off x="0" y="3500280"/>
            <a:ext cx="2664000" cy="1535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4"/>
          <a:stretch/>
        </p:blipFill>
        <p:spPr>
          <a:xfrm>
            <a:off x="6164280" y="1857240"/>
            <a:ext cx="2979720" cy="34797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4"/>
          <p:cNvSpPr/>
          <p:nvPr/>
        </p:nvSpPr>
        <p:spPr>
          <a:xfrm>
            <a:off x="3000240" y="3218040"/>
            <a:ext cx="2724120" cy="2068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опагандист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лакат проти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немецк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игра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920" y="156960"/>
            <a:ext cx="8848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отношение с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 средств к началу Курской оборонительной операции (5 июля 1943 года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42920" y="1643040"/>
          <a:ext cx="8794800" cy="385776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460600"/>
                <a:gridCol w="1936800"/>
              </a:tblGrid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илы и сред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К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ермах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оотнош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Личный состав (тыс. чел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3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выше 9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4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рудия и миноме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оло 10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9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</a:tr>
              <a:tr h="77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нки и СА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73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2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амоле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7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оло 20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231480"/>
            <a:ext cx="8686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Планы сторо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117080"/>
            <a:ext cx="6211800" cy="42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ЛАН «ЦИТАДЕЛЬ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гласно указаниям командования, группы войск 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Центр» (генерал- фельдмаршал Г. Клюге) с севера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Юг» (генерал-фельд­маршал Э. Манштейн) дожны были отрезать советские войска на Курской дуг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мцы намеревались взять дугу в клещи и уничтожить находившиеся там силы противник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Победа под Курском возместит нам все временные поражения на других участках фронта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», - писал Гитлеру Э. Манштей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Рисунок 3" descr="Немецкий генерал-фельдмаршал Г.Клюге."/>
          <p:cNvPicPr/>
          <p:nvPr/>
        </p:nvPicPr>
        <p:blipFill>
          <a:blip r:embed="rId1"/>
          <a:stretch/>
        </p:blipFill>
        <p:spPr>
          <a:xfrm>
            <a:off x="7093080" y="396720"/>
            <a:ext cx="1571400" cy="15876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4"/>
          <p:cNvSpPr/>
          <p:nvPr/>
        </p:nvSpPr>
        <p:spPr>
          <a:xfrm>
            <a:off x="7020000" y="19573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с Гюнтер Клюге (1882 – 194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5" descr="Bundesarchiv Bild 183-H01758, Erich v. Manstein.jpg"/>
          <p:cNvPicPr/>
          <p:nvPr/>
        </p:nvPicPr>
        <p:blipFill>
          <a:blip r:embed="rId2"/>
          <a:stretch/>
        </p:blipFill>
        <p:spPr>
          <a:xfrm>
            <a:off x="6948360" y="2496960"/>
            <a:ext cx="2076480" cy="23292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6"/>
          <p:cNvSpPr/>
          <p:nvPr/>
        </p:nvSpPr>
        <p:spPr>
          <a:xfrm>
            <a:off x="6875640" y="48974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х фон Манштейн (1887-197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43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СОВЕТСКИй 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6240" y="696960"/>
            <a:ext cx="4000680" cy="5000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«Лучше будет, - докладывал он, - если измотаем противника на нашей обороне, выбьем его танки, а затем, введя свежие резервы, переходом в общее наступление добьем основную группировку противника». Окончательное решение о преднамеренной обороне было принято Сталиным в начале ию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Рисунок 3" descr="http://wwii-soldat.narod.ru/MARSHALS/IMAGES/zhukov.jpg"/>
          <p:cNvPicPr/>
          <p:nvPr/>
        </p:nvPicPr>
        <p:blipFill>
          <a:blip r:embed="rId2"/>
          <a:stretch/>
        </p:blipFill>
        <p:spPr>
          <a:xfrm>
            <a:off x="6858000" y="214200"/>
            <a:ext cx="1944720" cy="228276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4"/>
          <p:cNvSpPr/>
          <p:nvPr/>
        </p:nvSpPr>
        <p:spPr>
          <a:xfrm>
            <a:off x="7308720" y="250992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уков Г.К. (1896-197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5" descr="http://battle-kursk.narod.ru/Images/rokossovski3.jpg"/>
          <p:cNvPicPr/>
          <p:nvPr/>
        </p:nvPicPr>
        <p:blipFill>
          <a:blip r:embed="rId3"/>
          <a:stretch/>
        </p:blipFill>
        <p:spPr>
          <a:xfrm>
            <a:off x="4500720" y="1335240"/>
            <a:ext cx="1722240" cy="224316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6"/>
          <p:cNvSpPr/>
          <p:nvPr/>
        </p:nvSpPr>
        <p:spPr>
          <a:xfrm>
            <a:off x="4211640" y="35892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 (1896 – 1968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7" descr="Vatutin nf.jpg"/>
          <p:cNvPicPr/>
          <p:nvPr/>
        </p:nvPicPr>
        <p:blipFill>
          <a:blip r:embed="rId4"/>
          <a:stretch/>
        </p:blipFill>
        <p:spPr>
          <a:xfrm>
            <a:off x="7236000" y="3002040"/>
            <a:ext cx="1591920" cy="22842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"/>
          <p:cNvSpPr/>
          <p:nvPr/>
        </p:nvSpPr>
        <p:spPr>
          <a:xfrm>
            <a:off x="6875640" y="5305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тут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. Ф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(1901-19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2"/>
          <p:cNvSpPr/>
          <p:nvPr/>
        </p:nvSpPr>
        <p:spPr>
          <a:xfrm>
            <a:off x="3844080" y="217440"/>
            <a:ext cx="21938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Palatino Linotype"/>
              </a:rPr>
              <a:t>ССС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3"/>
          <p:cNvSpPr/>
          <p:nvPr/>
        </p:nvSpPr>
        <p:spPr>
          <a:xfrm>
            <a:off x="548640" y="2786040"/>
            <a:ext cx="3009240" cy="520560"/>
          </a:xfrm>
          <a:prstGeom prst="rect">
            <a:avLst/>
          </a:prstGeom>
          <a:solidFill>
            <a:srgbClr val="a6d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оргий Жу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79280" y="217440"/>
            <a:ext cx="2264040" cy="2395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6875640" y="244440"/>
            <a:ext cx="2104920" cy="238140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4"/>
          <p:cNvSpPr/>
          <p:nvPr/>
        </p:nvSpPr>
        <p:spPr>
          <a:xfrm>
            <a:off x="6286680" y="2786040"/>
            <a:ext cx="2857320" cy="1557000"/>
          </a:xfrm>
          <a:prstGeom prst="rect">
            <a:avLst/>
          </a:prstGeom>
          <a:solidFill>
            <a:srgbClr val="d0e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иколай Ватут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оронеж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3"/>
          <a:stretch/>
        </p:blipFill>
        <p:spPr>
          <a:xfrm>
            <a:off x="214200" y="3465360"/>
            <a:ext cx="2119320" cy="224964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5"/>
          <p:cNvSpPr/>
          <p:nvPr/>
        </p:nvSpPr>
        <p:spPr>
          <a:xfrm>
            <a:off x="2671920" y="51721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Иван Коне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"/>
          <p:cNvPicPr/>
          <p:nvPr/>
        </p:nvPicPr>
        <p:blipFill>
          <a:blip r:embed="rId4"/>
          <a:stretch/>
        </p:blipFill>
        <p:spPr>
          <a:xfrm>
            <a:off x="3929040" y="2357280"/>
            <a:ext cx="2144880" cy="234180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6"/>
          <p:cNvSpPr/>
          <p:nvPr/>
        </p:nvSpPr>
        <p:spPr>
          <a:xfrm>
            <a:off x="6286680" y="4572000"/>
            <a:ext cx="2857320" cy="916920"/>
          </a:xfrm>
          <a:prstGeom prst="rect">
            <a:avLst/>
          </a:prstGeom>
          <a:solidFill>
            <a:srgbClr val="a1d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окоссовский Констан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Центральный фрон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7"/>
          <p:cNvSpPr/>
          <p:nvPr/>
        </p:nvSpPr>
        <p:spPr>
          <a:xfrm>
            <a:off x="2697120" y="1357200"/>
            <a:ext cx="4141440" cy="70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мандующ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1"/>
          <p:cNvSpPr/>
          <p:nvPr/>
        </p:nvSpPr>
        <p:spPr>
          <a:xfrm>
            <a:off x="2428920" y="5000760"/>
            <a:ext cx="17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нев И.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1:29:29Z</dcterms:created>
  <dc:creator>User</dc:creator>
  <dc:description/>
  <dc:language>en-US</dc:language>
  <cp:lastModifiedBy>Пользователь</cp:lastModifiedBy>
  <dcterms:modified xsi:type="dcterms:W3CDTF">2024-01-05T02:27:28Z</dcterms:modified>
  <cp:revision>561</cp:revision>
  <dc:subject/>
  <dc:title>Слайд 1</dc:title>
</cp:coreProperties>
</file>