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E245-47DF-4B96-9134-D5EBF4C3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2D47-3F9D-4048-86B4-6CDD2BE0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B946C-A032-4046-A8A9-B1CD68C8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49734-D8F8-454B-B2FB-771D5405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D2CE3-C6AE-4B07-9D27-66F1C7A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961C2-8502-47A8-B0F4-AE243855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28A55-CD0E-4848-BDA3-E09A4036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9437A-318B-41E8-A300-6CCB1AE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CBC8A-8EA0-40AB-886A-681B1BAC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5F63C-F036-4545-8325-064233E9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2DA94-D155-4B13-9426-5A00FE2F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7A84C-606B-46B3-BCD7-F8CB114D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E00-8524-4674-BAF0-D51061B1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9D9F9-C146-4AC7-84B0-2869BACE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C3772-BBEE-4F77-A5C9-4C1B81AA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F841-AD1A-45A0-9857-D02FC908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CCE65-33CF-4903-BD5B-859FB2AF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09DC-B5CB-4A01-9AA5-8F4C383F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A1164-1F8C-4C67-B7B3-E6946146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F4C86-2BD6-4BAA-A5DA-1E4BD61E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DCD7C-0444-44AA-AB00-72C92E18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CBA05-45C9-49FE-ADAE-952F7713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DFF71-B2DA-479F-A4AD-09FC8DC16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51B2-482C-45F7-9DAA-A22064B8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488CA-DD43-4FE5-A3C8-CEDCA187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3D7D5-BCCA-4998-AA27-10977FBF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CAEE7-D083-4C9B-914E-67CCF3BA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4691-83C3-464D-8088-8A9BFE4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724C7-14D3-491F-9A97-E5345264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5738E-87E2-4138-9EF9-9BDBEFE1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5F621-E3CD-4AE8-92D6-5F2ED90F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A8488-539C-40D3-BFBE-CEF075F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F830-DC12-4FB8-8A4D-6AA3D81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B326-9A32-4B37-8F47-4408420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CB72-01B4-4AA5-B235-3BD61883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4475C-8899-42B9-A9F9-47D3DF16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FE11C-FDE4-4C46-8811-419BC13A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C9B6C-AC97-4C07-8E42-FCD2BDFC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6BE7D-A623-4132-832A-4D114C0F9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15E04-276D-4514-9BEE-B0D4BB5B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2545C-DE5D-4044-871B-C90786F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B624BA-4616-418C-B330-75A82AD3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65534-830C-4018-8095-04BE95E2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55F821-7D5A-4E3A-AF59-3D68CA4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7D34A-2F55-4C16-928A-434907D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5BC22-F239-480D-97B0-82E4FEBC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7002A-07A1-4AAF-89FF-116A777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DA7A5-DFF8-40B6-92F2-FB1B6B06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125AC7-7062-4CF3-82B4-58D300A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5AE18-5219-4F21-A984-6AC9AEEF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0F79A-CFFE-40EB-ABA4-BC3C162E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D665-0D29-4B94-BD96-C129BA23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76F2-49B7-4DF8-A69E-BB709486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28CE-1780-43A7-BE45-2F0D8887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EE81-3E15-44D5-A8F3-D2627367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27B0-6904-4F9B-8985-717AABC7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C4D-8BAF-44A5-B0CC-35AD1C4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A0DB-41DF-4201-BE1D-A3B6BD5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1223-9F3A-45DB-B499-53EEFB24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92BF-0562-43AE-90A7-65784B4B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29C9-48AD-4C44-A6D2-41E2F31C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9D7D-5B48-4E5A-9457-A95D35D08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FA745-3646-44ED-884B-0347A74D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C6257-6F91-4A49-BD64-E6DB511B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C9265-EC46-4830-BDCA-D6B7AA7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7EBF-0DDF-4035-9050-7583469C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0FA8-CBEA-4E72-A2B1-4C77F9CE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DE4-00F0-45FC-81B4-84627663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EBAE8-3208-4A62-A083-523C9D16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AB89-2664-47FA-9803-533AB928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4F92-93BC-4653-B659-7752991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0C7A-F5EB-4630-B5EB-11C0518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5C26-34B8-491F-8B56-73D8DF8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5CFE-F145-4955-A291-C4EAD337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8AEF-4241-48C1-966F-EF048FF5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7B53B-0BB1-42DE-9402-893E6E2F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24097-782F-4C92-85C3-35BEB539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BEFC-AB2C-4F56-9662-67BD6E6A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F83-4E8A-424A-A5B0-6D6041C3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99D7-3AFC-44C7-80DF-FD27AEC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703A-C947-4DD8-A3F4-979B041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C2F8-7686-45DD-9217-DCF94367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C9F9A-5521-40C1-A111-0CE79A8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32616-4215-4BA4-8900-34CBCADD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9145B-76C8-4A5F-9C74-79A2FF78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1DDA6-5E13-4529-87A4-126F2D9C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E8B0-AE08-4595-99BB-FF00E214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36EE3-0784-4175-A948-DC0C6920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ED560-8655-40D8-853F-78E5E18A0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84BB-5FEA-4A76-824C-CD562BFF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2A183-789C-44AB-B83F-E66FD803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25081-4ED5-42AE-865D-4645472F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0CB7C-C7BF-48FA-9FEB-293F84D8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51ADE-4A22-4291-80AC-47EFF723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4EA1C-FFAE-4A1C-935B-7D64B2DE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E6F0-4C62-4F2D-99C7-E55F67BB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0FEE-D75A-4C6A-9EAC-431D43BD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F33E-E6C2-4A15-8D9E-FBC77AC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8678-70F4-4EA0-B80D-45252E1A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1D091-F29D-4218-AB56-8DCB94B6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3D2D-76AC-4B5F-9E68-E6F5F528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B04A3-4A8F-41BB-9C24-D1AFA63E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54AEA-F713-41AA-B5E4-D8E601CBF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4A99-D8DD-4145-9E86-793C1067C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07AC-5FC4-461C-8E29-69F88AA0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45E72-BAC6-41DC-85F6-14C44732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90352-C821-41B7-8D8D-69181C85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E52EA-90BA-4627-B991-62A74F4A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06272-4809-4101-85FE-C8A8FCE7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D50BA-26FB-4EBC-816C-9FCB3AF9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9E60C-8E17-42CA-85CC-31EBDAE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A52-0013-48EF-8FB4-6E706C46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18C0-B0E4-466D-A6DD-3BAE3B81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AFC2B-1D9D-40F5-8EF1-C30A31360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5A8EE-2FF6-4EE3-8625-C8A1929F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DC610-45D2-4B20-AC1C-5DDD1595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C06D-1F96-4498-AB5E-D9851841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AA675-B9AE-478C-B01A-DE0F40F3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05D9A-3118-4308-AC68-B2499B47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0B7DB-CE6F-4A05-90FA-087E549A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8830-68B2-48DD-A4FF-2C3E643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841D-C636-4D80-96AA-DC937DF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651B-C217-4809-B0EA-FD1E62FA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E702E-AE7B-49E5-BB78-A8AA311F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B44E-54A6-4BFF-905A-CADBA17A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AB10B-B186-4F6D-8F71-452AB841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642C-5A71-4764-9A4B-98C1EE4D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DAA5A-0772-47FB-B798-4E6B366C5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895D1-2AE7-4A19-9E0C-6E0163AB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100A8-6F57-404F-81EE-1A7C3719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9C529-36B3-4360-870C-6659710F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44253-F560-4FC0-B001-484FA3F3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5F4F2-E6F8-453A-BC0D-60A59946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C219-4210-45E2-A59A-296AE53C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31480"/>
            <a:ext cx="8229600" cy="44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05EFD-2D4B-4A0B-AD7B-8655912E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EE2B-A300-4DE7-8CD2-4743AA5C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755DF-0DCF-4642-974D-C4D744B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B315-43D5-43EE-8984-D054BA5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4B9E9-0568-4847-8743-98E9731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E60CF-0BBA-4B12-BB36-003815A1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026EC-6125-4893-940E-71D59D44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B0189-D00A-4566-AB13-DD4DE9A7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55F10-26A1-492C-9CC5-53853F7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6C93A-62AF-4A44-8C76-C2FCACF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3543-1C87-4824-A749-B927D6C37A0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E966-6410-47FC-BCF4-9EB22D493E9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1A4F-33D0-4602-8545-F2BB1D67A6F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5658-B3A4-47BD-99DF-811F0629EFB4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B6E7-A163-40D8-B441-561C37EF879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267C-4126-4117-8E5B-348906672CC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4B17-7E67-43CD-9B98-AF0A9F3DCDF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D5F0-C778-48D4-8E9A-24C41108580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D59-DAFB-43B2-A016-4D3A1345377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13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2892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537E-AB8F-4E1F-8EC5-84AEC5BDC9D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eeform 7"/>
          <p:cNvSpPr/>
          <p:nvPr/>
        </p:nvSpPr>
        <p:spPr>
          <a:xfrm>
            <a:off x="380880" y="190440"/>
            <a:ext cx="8229600" cy="50796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8"/>
          <p:cNvSpPr/>
          <p:nvPr/>
        </p:nvSpPr>
        <p:spPr>
          <a:xfrm>
            <a:off x="457200" y="51436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520704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EF52-1FEB-42C9-B370-36E38E2F709C}" type="slidenum">
              <a:rPr b="1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7"/>
          <p:cNvSpPr/>
          <p:nvPr/>
        </p:nvSpPr>
        <p:spPr>
          <a:xfrm>
            <a:off x="609480" y="1015920"/>
            <a:ext cx="7925040" cy="76212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8"/>
          <p:cNvSpPr/>
          <p:nvPr/>
        </p:nvSpPr>
        <p:spPr>
          <a:xfrm>
            <a:off x="1981080" y="33019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1440" indent="-3402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99600" indent="-30636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30440" indent="-32940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30440" indent="-3294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520380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80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982-4834-4B1F-9D66-C605895EB3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949320"/>
          </a:xfrm>
          <a:prstGeom prst="rect">
            <a:avLst/>
          </a:prstGeom>
          <a:solidFill>
            <a:srgbClr val="c99c60"/>
          </a:solid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 Black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Курская   Битва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7640" y="1417680"/>
            <a:ext cx="9001080" cy="4214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5 июля 1943 г-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23 августа1943 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2843280" y="4729320"/>
            <a:ext cx="6016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тель истории МБОУ СОШ №1 г. Большой Камен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макова Ирина Александровн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Rectangle 9"/>
          <p:cNvSpPr/>
          <p:nvPr/>
        </p:nvSpPr>
        <p:spPr>
          <a:xfrm>
            <a:off x="0" y="214200"/>
            <a:ext cx="9001080" cy="785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ветское командование решил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ерейти к активной оборо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0"/>
          <p:cNvSpPr/>
          <p:nvPr/>
        </p:nvSpPr>
        <p:spPr>
          <a:xfrm>
            <a:off x="0" y="1177920"/>
            <a:ext cx="4357800" cy="246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емцы собирались внов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использовать факто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внезапности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едполагалось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ступление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5 июля 1943 г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3 часа утра сильн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ртиллерийс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дготовко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1"/>
          <p:cNvSpPr/>
          <p:nvPr/>
        </p:nvSpPr>
        <p:spPr>
          <a:xfrm>
            <a:off x="4211640" y="2257560"/>
            <a:ext cx="576360" cy="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"/>
          <p:cNvSpPr/>
          <p:nvPr/>
        </p:nvSpPr>
        <p:spPr>
          <a:xfrm>
            <a:off x="4788000" y="1177920"/>
            <a:ext cx="4356000" cy="246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ако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ая разведк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очно определила день и час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начала наступлени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осл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чего командующ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Центральным фронто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К. К. Рокоссов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нял решение об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упреждающем удар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"/>
          <p:cNvSpPr/>
          <p:nvPr/>
        </p:nvSpPr>
        <p:spPr>
          <a:xfrm>
            <a:off x="0" y="3786120"/>
            <a:ext cx="9144000" cy="857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а несколько минут до начала немецкого наступления поч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9 тыс. советских орудий нанесли сокрушительный удар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о местам сосредоточения германских войск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4"/>
          <p:cNvSpPr/>
          <p:nvPr/>
        </p:nvSpPr>
        <p:spPr>
          <a:xfrm>
            <a:off x="285840" y="4786200"/>
            <a:ext cx="8858160" cy="671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двинуться же немцы смогли лишь на 30-35 к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"/>
          <p:cNvPicPr/>
          <p:nvPr/>
        </p:nvPicPr>
        <p:blipFill>
          <a:blip r:embed="rId1"/>
          <a:stretch/>
        </p:blipFill>
        <p:spPr>
          <a:xfrm>
            <a:off x="0" y="576360"/>
            <a:ext cx="4527720" cy="501948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10"/>
          <p:cNvSpPr/>
          <p:nvPr/>
        </p:nvSpPr>
        <p:spPr>
          <a:xfrm>
            <a:off x="4500720" y="214200"/>
            <a:ext cx="4643280" cy="5500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2 июля 1943 г.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етские войск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ереш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контрнаступл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этот же день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 район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еревн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рохоровка состоялось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рупнейшее 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мировой истори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стречное танково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ражение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отором участвова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1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танков и СА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154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Сражение под Прохоровко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214880" y="785880"/>
            <a:ext cx="4929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 время боя из строя выбыло очень много командиров-танкистов (взводных и ротных). Высокий уровень потерь комсостава в 32-й тбр: 41 командир танка (36 % от общего числа), командир танкового взвода (61 %), роты (100 %) и батальона (50 %). Очень высокие потери понесло командное звено и мотострелковом полку бригады, погибли и получили тяжелые ранения многие командиры рот и взводов. Вышел из строя его командир капитан И. И. Руденко (эвакуировали с поля боя в госпитал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5" descr="ProkhorovkaMonument"/>
          <p:cNvPicPr/>
          <p:nvPr/>
        </p:nvPicPr>
        <p:blipFill>
          <a:blip r:embed="rId1"/>
          <a:stretch/>
        </p:blipFill>
        <p:spPr>
          <a:xfrm>
            <a:off x="0" y="928800"/>
            <a:ext cx="389736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7120" y="231840"/>
            <a:ext cx="8329680" cy="3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 Black"/>
              </a:rPr>
              <a:t>Потер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996840"/>
            <a:ext cx="914400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По советским данным, на поле боя в сражении под Прохоровкой осталось около 400 немецких танков, 300 автомашин, свыше 3500 солдат и офицеров. Однако эти числа ставятся под сомнение. Например, по подсчётам Г. А. Олейникова, в сражении не могло принимать участие более 300 немецких танков. Согласно исследованиям А.Томзова, ссылающегося на данные немецкого федерального Военного архива, в ходе боёв 12-13 июля дивизия «Лейбштандарт Адольф Гитлер» потеряла безвозвратно 2 танка Pz.IV, в долгосрочный ремонт было отправлено 2 танка Pz.IV и 2 Pz.III, в краткосрочный — 15 танков Pz.IV и 1 Pz.III. Общие же потери танков и штурмовых орудий 2 танковой СС за 12 июля составили около 80 танков и штурмовых орудий, в том числе не менее 40 единиц потеряла дивизия «Мертвая Голов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В то же время советские 18-й и 29-й танковые корпуса 5-й Гвардейской танковой армии потеряли до 70 % своих танков. Согласно воспоминаниям генерал-майора немецко-фашистской армии Ф. В. фон Меллентина в атаке на Прохоровку и, соответственно, утреннем бою с советской ТА принимали участие только дивизии "Рейх" и "Лейбштандарт", усиленные батальоном "самоходок" - всего до 240 машин, в т.ч. четыре "тигра". Встретить серьёзного противника не предполагалось ,по мнению германского командования ТА Ротмистрова была втянута в бой против дивизии "Мертвая голова" (в действительности - один корпус) и встречная атака более 800 (по их оценкам) танков стала полной неожиданностью. Впрочем, есть основания предполагать, что и советское командование "проспало" противника и атака Танковой Армии с другими корпусами вовсе не была попыткой остановить немцев а преследовала цель зайти в тыл танковому корпусу СС, за который была принята его дивизия "Мёртвая голова". Немцы первыми заметили противника и успели перестроиться для боя, советским танкистам пришлось делать это уже под огн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15732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ОПЕРАЦИЯ «КУТУЗОВ»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071720"/>
            <a:ext cx="6215040" cy="43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разгар боя 12 июля наступление в районе Орла. Общий план Орловской операции, получившей условное наименование «Кутузов», заключался в одновременном нанесении войсками трех фронтов ударов с севера, востока и юга с целью охватить вражескую группировку, рассечь ее и уничтожить по ча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6 июля немецкие войска были вынуждены оставить Орловский плацдарм и начать отход на позицию восточнее Брянска. 29 июля был освобожден Волхов, </a:t>
            </a:r>
            <a:r>
              <a:rPr b="0" lang="ru-RU" sz="18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5 августа - Ор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Рисунок 3" descr="70 sokolovskiy 7"/>
          <p:cNvPicPr/>
          <p:nvPr/>
        </p:nvPicPr>
        <p:blipFill>
          <a:blip r:embed="rId1"/>
          <a:stretch/>
        </p:blipFill>
        <p:spPr>
          <a:xfrm>
            <a:off x="7215120" y="571680"/>
            <a:ext cx="1525680" cy="1920600"/>
          </a:xfrm>
          <a:prstGeom prst="rect">
            <a:avLst/>
          </a:prstGeom>
          <a:ln w="0">
            <a:noFill/>
          </a:ln>
        </p:spPr>
      </p:pic>
      <p:sp>
        <p:nvSpPr>
          <p:cNvPr id="587" name="Прямоугольник 4"/>
          <p:cNvSpPr/>
          <p:nvPr/>
        </p:nvSpPr>
        <p:spPr>
          <a:xfrm>
            <a:off x="7143840" y="2571840"/>
            <a:ext cx="16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оловский В. Д. (1897-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Рисунок 5" descr="http://go1.imgsmail.ru/imgpreview?key=http%3A//encyclopedia.mil.ru/files/morf/popov2.jpg&amp;mb=imgdb_preview_880"/>
          <p:cNvPicPr/>
          <p:nvPr/>
        </p:nvPicPr>
        <p:blipFill>
          <a:blip r:embed="rId2"/>
          <a:stretch/>
        </p:blipFill>
        <p:spPr>
          <a:xfrm>
            <a:off x="7215120" y="3214800"/>
            <a:ext cx="1676520" cy="180180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"/>
          <p:cNvSpPr/>
          <p:nvPr/>
        </p:nvSpPr>
        <p:spPr>
          <a:xfrm>
            <a:off x="7056360" y="521496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 М. М. (1902-1969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Прямоугольник 2"/>
          <p:cNvSpPr/>
          <p:nvPr/>
        </p:nvSpPr>
        <p:spPr>
          <a:xfrm>
            <a:off x="144360" y="33480"/>
            <a:ext cx="4714920" cy="5277600"/>
          </a:xfrm>
          <a:prstGeom prst="rect">
            <a:avLst/>
          </a:prstGeom>
          <a:solidFill>
            <a:srgbClr val="003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2 июля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Западный (командующий генерал-полковник Василий Соколовский) и Брянский (командующий генерал-полковник Маркиан Попов) фронты начали наступление против 2-й танковой и 9-й армий врага в районе Орл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 исходу дня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13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етские войска прорвали оборону противника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6 июля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емцы оставили Орловский плацдарм и начали отход на оборонительную линию «Хаген» (восточнее Брянска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няли Орёл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3" descr=""/>
          <p:cNvPicPr/>
          <p:nvPr/>
        </p:nvPicPr>
        <p:blipFill>
          <a:blip r:embed="rId1"/>
          <a:stretch/>
        </p:blipFill>
        <p:spPr>
          <a:xfrm>
            <a:off x="5003640" y="1316160"/>
            <a:ext cx="3929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4200" y="156960"/>
            <a:ext cx="877752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ОПЕРАЦИЯ «ПОЛКОВОДЕЦ РУМЯНЦЕВ»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28800"/>
            <a:ext cx="6732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 южном фронте Курской дуги готовилась еще одна наступательная операция Красной Армии – Белгородско-Харьковская, получившая </a:t>
            </a:r>
            <a:r>
              <a:rPr b="0" lang="ru-RU" sz="17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условное наименование «Полков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дец Румянцев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аступление началось утром 3 августа после мощной артиллерийской и авиационной подготовки. 5 августа советские войска освободили Белгор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3 августа после упорных боев войска Степного фронта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(генерал-полковник И. С. Конев)  </a:t>
            </a: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олностью освободили Харьков от враг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 ходе контрнаступления на белгородско-харьковском направлении советские войска продвинулись на 140 километров и заняли выгодное положение для перехода в общее наступление с целью освобождения Левобережной Украины и Донбас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Рисунок 3" descr="Малиновский Р.Я."/>
          <p:cNvPicPr/>
          <p:nvPr/>
        </p:nvPicPr>
        <p:blipFill>
          <a:blip r:embed="rId1"/>
          <a:stretch/>
        </p:blipFill>
        <p:spPr>
          <a:xfrm>
            <a:off x="7380360" y="878040"/>
            <a:ext cx="1368360" cy="15588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1"/>
          <p:cNvSpPr/>
          <p:nvPr/>
        </p:nvSpPr>
        <p:spPr>
          <a:xfrm>
            <a:off x="6948360" y="2557440"/>
            <a:ext cx="21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линовский Р.Я. (1898-196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Рисунок 5" descr="Konev ivan1.jpg"/>
          <p:cNvPicPr/>
          <p:nvPr/>
        </p:nvPicPr>
        <p:blipFill>
          <a:blip r:embed="rId2"/>
          <a:stretch/>
        </p:blipFill>
        <p:spPr>
          <a:xfrm>
            <a:off x="7236000" y="2857680"/>
            <a:ext cx="1622160" cy="183348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6"/>
          <p:cNvSpPr/>
          <p:nvPr/>
        </p:nvSpPr>
        <p:spPr>
          <a:xfrm>
            <a:off x="6948360" y="483696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 (1897-197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1"/>
          <p:cNvSpPr/>
          <p:nvPr/>
        </p:nvSpPr>
        <p:spPr>
          <a:xfrm>
            <a:off x="395280" y="217440"/>
            <a:ext cx="8280360" cy="825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етские войска заняли Орёл. Операция  «Кутузов 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2"/>
          <p:cNvSpPr/>
          <p:nvPr/>
        </p:nvSpPr>
        <p:spPr>
          <a:xfrm>
            <a:off x="428760" y="1214280"/>
            <a:ext cx="8353440" cy="825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5 августа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ыл освобожден Белгор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ерация «ПолководецРумянцев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"/>
          <p:cNvSpPr/>
          <p:nvPr/>
        </p:nvSpPr>
        <p:spPr>
          <a:xfrm>
            <a:off x="285840" y="2214720"/>
            <a:ext cx="8604000" cy="2043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5 августа 1943г- 5 августа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в Москве был дан первы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за всю войну салют —в чест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свобождения Орла и Белгород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4"/>
          <p:cNvSpPr/>
          <p:nvPr/>
        </p:nvSpPr>
        <p:spPr>
          <a:xfrm>
            <a:off x="250920" y="4417920"/>
            <a:ext cx="8642160" cy="947160"/>
          </a:xfrm>
          <a:prstGeom prst="rect">
            <a:avLst/>
          </a:prstGeom>
          <a:solidFill>
            <a:srgbClr val="946a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23 августа овладели Харьковом. Контрудары немцев успеха не имел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13840" y="231840"/>
            <a:ext cx="8472600" cy="4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«Твои Герои, Курская дуга»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603" name="Содержимое 3" descr="http://geroiros.narod.ru/wwsoldat/LEGEND/IMAGES/pokryshkin-001.jpg"/>
          <p:cNvPicPr/>
          <p:nvPr/>
        </p:nvPicPr>
        <p:blipFill>
          <a:blip r:embed="rId1"/>
          <a:stretch/>
        </p:blipFill>
        <p:spPr>
          <a:xfrm>
            <a:off x="6143760" y="1000080"/>
            <a:ext cx="2357280" cy="231768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1"/>
          <p:cNvSpPr/>
          <p:nvPr/>
        </p:nvSpPr>
        <p:spPr>
          <a:xfrm>
            <a:off x="0" y="1002600"/>
            <a:ext cx="63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ОКРЫШКИН Александр Иванович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Трижды 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маршал авиаци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5"/>
          <p:cNvSpPr/>
          <p:nvPr/>
        </p:nvSpPr>
        <p:spPr>
          <a:xfrm>
            <a:off x="2268360" y="192096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3 -1985 гг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6"/>
          <p:cNvSpPr/>
          <p:nvPr/>
        </p:nvSpPr>
        <p:spPr>
          <a:xfrm>
            <a:off x="285840" y="2428920"/>
            <a:ext cx="47862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А.И. Покрышкин создал собственную систему подготовки асов. Героем Советского Союза. 9 мая 1945 года он сбил над Прагой последний немецкий самолет, уничтоженный в воздушном бою на европейском театре второй мировой войны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24 августа 1943 года Покрышкину вторично присвоено звание Героя Советского Союза. 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7"/>
          <p:cNvSpPr/>
          <p:nvPr/>
        </p:nvSpPr>
        <p:spPr>
          <a:xfrm>
            <a:off x="5214960" y="3714840"/>
            <a:ext cx="37306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Официально за Покрышкиным числятся более 650 боевых вылетов и 59 лично сбитых самолетов. Действительная цифра, видимо, еще больше. 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Курской битве немцы потерял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500 тыс. солдат и офицеров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1,5 тыс. танков, 3,7 тыс. самолетов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28760" y="642960"/>
            <a:ext cx="0" cy="2998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9"/>
          <p:cNvSpPr/>
          <p:nvPr/>
        </p:nvSpPr>
        <p:spPr>
          <a:xfrm>
            <a:off x="0" y="1428840"/>
            <a:ext cx="5000760" cy="839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6 ноября был освобожден Кие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а Днепр был форсирова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большинстве направлен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0" descr=""/>
          <p:cNvPicPr/>
          <p:nvPr/>
        </p:nvPicPr>
        <p:blipFill>
          <a:blip r:embed="rId1"/>
          <a:stretch/>
        </p:blipFill>
        <p:spPr>
          <a:xfrm>
            <a:off x="5111640" y="1428840"/>
            <a:ext cx="4032360" cy="2292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11"/>
          <p:cNvSpPr/>
          <p:nvPr/>
        </p:nvSpPr>
        <p:spPr>
          <a:xfrm>
            <a:off x="0" y="2500200"/>
            <a:ext cx="5000760" cy="1436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2438 воин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первы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тупивших на правый берег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непра,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удостоены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ысокого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 звания Геро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ого Союз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0" y="4057560"/>
            <a:ext cx="8748720" cy="1228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дновременно оказалась «запертой» в Крыму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значительна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группировка немецких войск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Коренной перелом в ходе войны был закреплен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4"/>
          <p:cNvSpPr/>
          <p:nvPr/>
        </p:nvSpPr>
        <p:spPr>
          <a:xfrm>
            <a:off x="6929280" y="2786040"/>
            <a:ext cx="2214720" cy="82548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2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4"/>
          <a:stretch/>
        </p:blipFill>
        <p:spPr>
          <a:xfrm>
            <a:off x="4143240" y="3373560"/>
            <a:ext cx="2144880" cy="234144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6"/>
          <p:cNvSpPr/>
          <p:nvPr/>
        </p:nvSpPr>
        <p:spPr>
          <a:xfrm>
            <a:off x="6715080" y="4357800"/>
            <a:ext cx="2081160" cy="64260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Прямоугольник 1"/>
          <p:cNvSpPr/>
          <p:nvPr/>
        </p:nvSpPr>
        <p:spPr>
          <a:xfrm>
            <a:off x="395280" y="15732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Palatino Linotype"/>
              </a:rPr>
              <a:t>Итоги Курской Битвы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2"/>
          <p:cNvSpPr/>
          <p:nvPr/>
        </p:nvSpPr>
        <p:spPr>
          <a:xfrm>
            <a:off x="0" y="785880"/>
            <a:ext cx="9144000" cy="2284200"/>
          </a:xfrm>
          <a:prstGeom prst="rect">
            <a:avLst/>
          </a:prstGeom>
          <a:solidFill>
            <a:srgbClr val="30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беда советской армии под Курском ознаменовала окончательный переход к союзникам стратегической инициативы во Второй мировой войн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К моменту стабилизации фронта советские войска вышли на исходные позиции для наступления на Днеп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Британо-американские силы в разгар битвы высадились на Сицилии. Косвенным итогом Курской битвы стал выход Италии из войны 8 сентября 1943 год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Потери сторон в битве остаются неясными. Так, советские историки, в том числе и академик АН СССР Александр Самсонов, говорят о более чем 500 000 убитых, раненых или пленных, 1500 танков и свыше 3700 самолёто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" descr=""/>
          <p:cNvPicPr/>
          <p:nvPr/>
        </p:nvPicPr>
        <p:blipFill>
          <a:blip r:embed="rId1"/>
          <a:stretch/>
        </p:blipFill>
        <p:spPr>
          <a:xfrm>
            <a:off x="285840" y="3714840"/>
            <a:ext cx="4100400" cy="1700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4857840" y="3683160"/>
            <a:ext cx="380988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4. 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4508640" y="576360"/>
            <a:ext cx="4635360" cy="5138640"/>
          </a:xfrm>
          <a:prstGeom prst="rect">
            <a:avLst/>
          </a:prstGeom>
          <a:ln w="0">
            <a:noFill/>
          </a:ln>
        </p:spPr>
      </p:pic>
      <p:sp>
        <p:nvSpPr>
          <p:cNvPr id="531" name="Rectangle 5"/>
          <p:cNvSpPr/>
          <p:nvPr/>
        </p:nvSpPr>
        <p:spPr>
          <a:xfrm>
            <a:off x="0" y="0"/>
            <a:ext cx="4572000" cy="30369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ерия военных поражен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ильно обескрови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ую армию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Гитлер приказал начать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тотальную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(всеобщую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мобилизацию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, в ход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торой в армию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был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изваны еще 2 млн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лдат и офицеро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0" y="3214800"/>
            <a:ext cx="4282920" cy="11174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Под Курском было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сосредоточено до 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дивизий противника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0" y="4500720"/>
            <a:ext cx="4500720" cy="1214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ий 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н опер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Цитадель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» предусматрив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окружение красной арми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</a:rPr>
              <a:t>Планы и сил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0" y="642600"/>
            <a:ext cx="9144000" cy="5072040"/>
          </a:xfrm>
          <a:prstGeom prst="rect">
            <a:avLst/>
          </a:prstGeom>
          <a:solidFill>
            <a:srgbClr val="f3eadd"/>
          </a:solidFill>
          <a:ln w="0">
            <a:noFill/>
          </a:ln>
        </p:spPr>
        <p:txBody>
          <a:bodyPr anchor="t">
            <a:normAutofit/>
          </a:bodyPr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уководство войсками осуществляли генерал-фельдмаршал Гюнтер Ханс фон 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Клюге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Центр»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нерал-фельдмаршал Фриц Эрих фон</a:t>
            </a:r>
            <a:r>
              <a:rPr b="1" lang="ru-RU" sz="2800" spc="-1" strike="noStrike">
                <a:solidFill>
                  <a:srgbClr val="c00000"/>
                </a:solidFill>
                <a:latin typeface="Arial Black"/>
              </a:rPr>
              <a:t> Манштейн 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группа армий «Юг»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Воздушную поддержку немецким войскам оказывали силы 4-го и 6-го воздушных фло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Для проведения операции в район Курска были выдвинуты несколько элитных танковых дивизий 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Битва на Курской дуг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0" y="696960"/>
            <a:ext cx="8820000" cy="1017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нковые армии были вооружены новыми видами техники -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анками «Тигр» и «Пантера», штурмовыми орудиям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Фердинанд»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8" descr=""/>
          <p:cNvPicPr/>
          <p:nvPr/>
        </p:nvPicPr>
        <p:blipFill>
          <a:blip r:embed="rId1"/>
          <a:stretch/>
        </p:blipFill>
        <p:spPr>
          <a:xfrm>
            <a:off x="0" y="1857240"/>
            <a:ext cx="2664000" cy="15242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"/>
          <p:cNvPicPr/>
          <p:nvPr/>
        </p:nvPicPr>
        <p:blipFill>
          <a:blip r:embed="rId2"/>
          <a:stretch/>
        </p:blipFill>
        <p:spPr>
          <a:xfrm>
            <a:off x="3276720" y="1596960"/>
            <a:ext cx="2447640" cy="15033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2" descr=""/>
          <p:cNvPicPr/>
          <p:nvPr/>
        </p:nvPicPr>
        <p:blipFill>
          <a:blip r:embed="rId3"/>
          <a:stretch/>
        </p:blipFill>
        <p:spPr>
          <a:xfrm>
            <a:off x="0" y="3500280"/>
            <a:ext cx="2664000" cy="15354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3" descr=""/>
          <p:cNvPicPr/>
          <p:nvPr/>
        </p:nvPicPr>
        <p:blipFill>
          <a:blip r:embed="rId4"/>
          <a:stretch/>
        </p:blipFill>
        <p:spPr>
          <a:xfrm>
            <a:off x="6164280" y="1857240"/>
            <a:ext cx="2979720" cy="347976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4"/>
          <p:cNvSpPr/>
          <p:nvPr/>
        </p:nvSpPr>
        <p:spPr>
          <a:xfrm>
            <a:off x="3000240" y="3218040"/>
            <a:ext cx="2724120" cy="2068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Советский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ропагандистски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плакат против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«немецкого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Black"/>
              </a:rPr>
              <a:t>тигра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920" y="156960"/>
            <a:ext cx="8848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отношение си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и средств к началу Курской оборонительной операции (5 июля 1943 года)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142920" y="1643040"/>
          <a:ext cx="8794800" cy="3857760"/>
        </p:xfrm>
        <a:graphic>
          <a:graphicData uri="http://schemas.openxmlformats.org/drawingml/2006/table">
            <a:tbl>
              <a:tblPr/>
              <a:tblGrid>
                <a:gridCol w="2198520"/>
                <a:gridCol w="2198880"/>
                <a:gridCol w="2460600"/>
                <a:gridCol w="1936800"/>
              </a:tblGrid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илы и средств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РК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Вермахт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Соотношени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5742a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ичный состав (тыс. чел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33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выше 9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4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рудия и мином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10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9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  <a:tr h="771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анки и СА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4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73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,2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6cd"/>
                    </a:solidFill>
                  </a:tcPr>
                </a:tc>
              </a:tr>
              <a:tr h="771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амолет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17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коло 205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: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c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231480"/>
            <a:ext cx="8686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Планы сторо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117080"/>
            <a:ext cx="6211800" cy="42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ПЛАН «ЦИТАДЕЛЬ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Согласно указаниям командования, группы войск 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Центр» (генерал- фельдмаршал Г. Клюге) с севера 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«Юг» (генерал-фельд­маршал Э. Манштейн) дожны были отрезать советские войска на Курской дуг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Немцы намеревались взять дугу в клещи и уничтожить находившиеся там силы противник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00000"/>
                </a:solidFill>
                <a:latin typeface="Arial Black"/>
                <a:ea typeface="Times New Roman"/>
              </a:rPr>
              <a:t>Победа под Курском возместит нам все временные поражения на других участках фронта</a:t>
            </a:r>
            <a:r>
              <a:rPr b="0" lang="ru-RU" sz="19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», - писал Гитлеру Э. Манштей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Рисунок 3" descr="Немецкий генерал-фельдмаршал Г.Клюге."/>
          <p:cNvPicPr/>
          <p:nvPr/>
        </p:nvPicPr>
        <p:blipFill>
          <a:blip r:embed="rId1"/>
          <a:stretch/>
        </p:blipFill>
        <p:spPr>
          <a:xfrm>
            <a:off x="7093080" y="396720"/>
            <a:ext cx="1571400" cy="1587600"/>
          </a:xfrm>
          <a:prstGeom prst="rect">
            <a:avLst/>
          </a:prstGeom>
          <a:ln w="0">
            <a:noFill/>
          </a:ln>
        </p:spPr>
      </p:pic>
      <p:sp>
        <p:nvSpPr>
          <p:cNvPr id="548" name="Прямоугольник 4"/>
          <p:cNvSpPr/>
          <p:nvPr/>
        </p:nvSpPr>
        <p:spPr>
          <a:xfrm>
            <a:off x="7020000" y="19573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нс Гюнтер Клюге (1882 – 1944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5" descr="Bundesarchiv Bild 183-H01758, Erich v. Manstein.jpg"/>
          <p:cNvPicPr/>
          <p:nvPr/>
        </p:nvPicPr>
        <p:blipFill>
          <a:blip r:embed="rId2"/>
          <a:stretch/>
        </p:blipFill>
        <p:spPr>
          <a:xfrm>
            <a:off x="6948360" y="2496960"/>
            <a:ext cx="2076480" cy="23292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6"/>
          <p:cNvSpPr/>
          <p:nvPr/>
        </p:nvSpPr>
        <p:spPr>
          <a:xfrm>
            <a:off x="6875640" y="4897440"/>
            <a:ext cx="21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их фон Манштейн (1887-197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143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Arial Black"/>
                <a:ea typeface="Times New Roman"/>
              </a:rPr>
              <a:t>СОВЕТСКИй ПЛАН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6240" y="696960"/>
            <a:ext cx="4000680" cy="50004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. «Лучше будет, - докладывал он, - если измотаем противника на нашей обороне, выбьем его танки, а затем, введя свежие резервы, переходом в общее наступление добьем основную группировку противника». Окончательное решение о преднамеренной обороне было принято Сталиным в начале ию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Рисунок 3" descr="http://wwii-soldat.narod.ru/MARSHALS/IMAGES/zhukov.jpg"/>
          <p:cNvPicPr/>
          <p:nvPr/>
        </p:nvPicPr>
        <p:blipFill>
          <a:blip r:embed="rId2"/>
          <a:stretch/>
        </p:blipFill>
        <p:spPr>
          <a:xfrm>
            <a:off x="6858000" y="214200"/>
            <a:ext cx="1944720" cy="2282760"/>
          </a:xfrm>
          <a:prstGeom prst="rect">
            <a:avLst/>
          </a:prstGeom>
          <a:ln w="0">
            <a:noFill/>
          </a:ln>
        </p:spPr>
      </p:pic>
      <p:sp>
        <p:nvSpPr>
          <p:cNvPr id="554" name="Прямоугольник 4"/>
          <p:cNvSpPr/>
          <p:nvPr/>
        </p:nvSpPr>
        <p:spPr>
          <a:xfrm>
            <a:off x="7308720" y="2509920"/>
            <a:ext cx="183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уков Г.К. (1896-197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Рисунок 5" descr="http://battle-kursk.narod.ru/Images/rokossovski3.jpg"/>
          <p:cNvPicPr/>
          <p:nvPr/>
        </p:nvPicPr>
        <p:blipFill>
          <a:blip r:embed="rId3"/>
          <a:stretch/>
        </p:blipFill>
        <p:spPr>
          <a:xfrm>
            <a:off x="4500720" y="1335240"/>
            <a:ext cx="1722240" cy="2243160"/>
          </a:xfrm>
          <a:prstGeom prst="rect">
            <a:avLst/>
          </a:prstGeom>
          <a:ln w="0">
            <a:noFill/>
          </a:ln>
        </p:spPr>
      </p:pic>
      <p:sp>
        <p:nvSpPr>
          <p:cNvPr id="556" name="Прямоугольник 6"/>
          <p:cNvSpPr/>
          <p:nvPr/>
        </p:nvSpPr>
        <p:spPr>
          <a:xfrm>
            <a:off x="4211640" y="358920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 (1896 – 1968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7" descr="Vatutin nf.jpg"/>
          <p:cNvPicPr/>
          <p:nvPr/>
        </p:nvPicPr>
        <p:blipFill>
          <a:blip r:embed="rId4"/>
          <a:stretch/>
        </p:blipFill>
        <p:spPr>
          <a:xfrm>
            <a:off x="7236000" y="3002040"/>
            <a:ext cx="1591920" cy="228420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1"/>
          <p:cNvSpPr/>
          <p:nvPr/>
        </p:nvSpPr>
        <p:spPr>
          <a:xfrm>
            <a:off x="6875640" y="5305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тути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Н. Ф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(1901-194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2"/>
          <p:cNvSpPr/>
          <p:nvPr/>
        </p:nvSpPr>
        <p:spPr>
          <a:xfrm>
            <a:off x="3844080" y="217440"/>
            <a:ext cx="21938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Palatino Linotype"/>
              </a:rPr>
              <a:t>СССР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3"/>
          <p:cNvSpPr/>
          <p:nvPr/>
        </p:nvSpPr>
        <p:spPr>
          <a:xfrm>
            <a:off x="548640" y="2786040"/>
            <a:ext cx="3009240" cy="520560"/>
          </a:xfrm>
          <a:prstGeom prst="rect">
            <a:avLst/>
          </a:prstGeom>
          <a:solidFill>
            <a:srgbClr val="a6db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Георгий Жук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79280" y="217440"/>
            <a:ext cx="2264040" cy="2395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"/>
          <p:cNvPicPr/>
          <p:nvPr/>
        </p:nvPicPr>
        <p:blipFill>
          <a:blip r:embed="rId2"/>
          <a:stretch/>
        </p:blipFill>
        <p:spPr>
          <a:xfrm>
            <a:off x="6875640" y="244440"/>
            <a:ext cx="2104920" cy="2381400"/>
          </a:xfrm>
          <a:prstGeom prst="rect">
            <a:avLst/>
          </a:prstGeom>
          <a:ln w="0">
            <a:noFill/>
          </a:ln>
        </p:spPr>
      </p:pic>
      <p:sp>
        <p:nvSpPr>
          <p:cNvPr id="563" name="Прямоугольник 4"/>
          <p:cNvSpPr/>
          <p:nvPr/>
        </p:nvSpPr>
        <p:spPr>
          <a:xfrm>
            <a:off x="6286680" y="2786040"/>
            <a:ext cx="2857320" cy="1557000"/>
          </a:xfrm>
          <a:prstGeom prst="rect">
            <a:avLst/>
          </a:prstGeom>
          <a:solidFill>
            <a:srgbClr val="d0ec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иколай Ватут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Воронежский фро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4" descr=""/>
          <p:cNvPicPr/>
          <p:nvPr/>
        </p:nvPicPr>
        <p:blipFill>
          <a:blip r:embed="rId3"/>
          <a:stretch/>
        </p:blipFill>
        <p:spPr>
          <a:xfrm>
            <a:off x="214200" y="3465360"/>
            <a:ext cx="2119320" cy="224964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5"/>
          <p:cNvSpPr/>
          <p:nvPr/>
        </p:nvSpPr>
        <p:spPr>
          <a:xfrm>
            <a:off x="2671920" y="5172120"/>
            <a:ext cx="125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alatino Linotype"/>
              </a:rPr>
              <a:t>Иван Коне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5" descr=""/>
          <p:cNvPicPr/>
          <p:nvPr/>
        </p:nvPicPr>
        <p:blipFill>
          <a:blip r:embed="rId4"/>
          <a:stretch/>
        </p:blipFill>
        <p:spPr>
          <a:xfrm>
            <a:off x="3929040" y="2357280"/>
            <a:ext cx="2144880" cy="2341800"/>
          </a:xfrm>
          <a:prstGeom prst="rect">
            <a:avLst/>
          </a:prstGeom>
          <a:ln w="0">
            <a:noFill/>
          </a:ln>
        </p:spPr>
      </p:pic>
      <p:sp>
        <p:nvSpPr>
          <p:cNvPr id="567" name="Прямоугольник 6"/>
          <p:cNvSpPr/>
          <p:nvPr/>
        </p:nvSpPr>
        <p:spPr>
          <a:xfrm>
            <a:off x="6286680" y="4572000"/>
            <a:ext cx="2857320" cy="916920"/>
          </a:xfrm>
          <a:prstGeom prst="rect">
            <a:avLst/>
          </a:prstGeom>
          <a:solidFill>
            <a:srgbClr val="a1da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Рокоссовский Константи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Центральный фронт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7"/>
          <p:cNvSpPr/>
          <p:nvPr/>
        </p:nvSpPr>
        <p:spPr>
          <a:xfrm>
            <a:off x="2697120" y="1357200"/>
            <a:ext cx="4141440" cy="703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Командующи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1"/>
          <p:cNvSpPr/>
          <p:nvPr/>
        </p:nvSpPr>
        <p:spPr>
          <a:xfrm>
            <a:off x="2428920" y="5000760"/>
            <a:ext cx="17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Конев И.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1:29:29Z</dcterms:created>
  <dc:creator>User</dc:creator>
  <dc:description/>
  <dc:language>en-US</dc:language>
  <cp:lastModifiedBy>Пользователь</cp:lastModifiedBy>
  <dcterms:modified xsi:type="dcterms:W3CDTF">2024-01-05T02:27:28Z</dcterms:modified>
  <cp:revision>561</cp:revision>
  <dc:subject/>
  <dc:title>Слайд 1</dc:title>
</cp:coreProperties>
</file>