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25C-E8F3-4112-B213-38BD0F7C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5D2-C2F7-485B-8703-3B19EC7F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A7828-EF7C-4F1A-B031-95097968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0EB8D-8211-458B-A939-08E1EC3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9079-49BF-4BB5-A48F-646E3B9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E32A5-5C66-4F81-A82D-0FA4C0D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E0318-6380-43FC-AF3E-5703062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6857-B470-4414-98EA-FBF5963B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21567-C586-4D44-9582-009CE9D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6715-07A4-45FC-BCD9-9FDDDCC1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96CFA-2EB8-4A04-9C08-DD891F1E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0DD61-F7A2-475E-B2DF-EF8C6059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AA8-6E82-4282-A2A6-139F3679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2EF5A-66D7-435F-BA8D-9F4BFC16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B06E-82C4-4C88-9EDB-046B142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2CBB3-A207-490A-886B-1E172E6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00C9C-2F11-401F-8CEE-829B5E3F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A3B89-BDB7-4180-AFE1-3A371619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48988-82F8-4D51-8E3D-244755C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F326-B7F0-4AEE-BA44-CC9AE93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356E0-A2C5-4A29-908D-E012054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6C0E6-6246-404C-8777-43DEDB56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07319-BD4F-414D-AF1E-E73E0D81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0AA-7825-41CF-A64E-DCAECB64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6FA83-7213-4B26-87D2-57B5CC02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A117-853A-43EC-AB96-4FD87C6C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A4385-9ECF-49BD-A2C1-6BE962C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5111-32C3-406E-97E7-87493DA7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C4209-86A8-4156-8C18-C5F7D1E7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AB46-0BBD-4464-A254-C3BB446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11D47-A2EB-4CAF-AB21-D9540A53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3479-87B4-4554-A665-221AE55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1FA69-E2FC-44C8-980F-78F9B1A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EC2C-D8E1-4B3A-9CF7-2BC5499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31FF-B43D-4994-8414-1D591C13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B3173-C0F3-42B2-9974-9A831E23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52E2-07D9-46DE-B110-43CFAA48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CCF03-ECF6-497F-8427-93F901AB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F2D8A-DFE8-44F7-9C44-47582B96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8BEE9-2F58-4EE0-A8A9-9CFCE7F5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737E7-B11C-4BCA-B7F5-0C8693D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A58A0-D6DE-4114-9555-CACE52B9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D89FD-CEAD-4E72-9787-3B8051A2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23025-A713-46FE-BE52-8C1452E8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D6D99-44F9-4F41-811D-71C1DF1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D0D-2769-49C4-B872-6BAD944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DC24C-ECFA-45CD-8071-1DFB4A9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2F3B2-A9D7-431C-998A-9C87299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1EE6E-AADC-47AD-942E-535F8BC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3EA7B-99AB-4F84-8C32-5AAE03BC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81499-3E0E-47FB-9BCC-F02FBF04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171B-DD82-4D13-8178-152E8C0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BACB-8090-4835-BF63-7B878E07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361B-7B4F-4FC8-9185-119B8C8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192C-8E05-418B-93DF-DEC0D06E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64D-2DE2-49A0-AC9C-3D6A79B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5E3-BEAF-4073-BF7B-4445B111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AAD8-6B42-4ECF-BAF2-E40C771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6A59-803C-4647-8455-A132EF4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D67-8C36-4ADF-AEBD-4922908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F4F6-475F-4F95-A725-C5AEB318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A753-C791-465F-A936-6CFAD620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BA8A-38C2-4971-9547-3666563E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BBD8-57FF-4C15-B0A9-99FD57B5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02E4-77E5-453C-BA10-E86082A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A8DB-DB81-46C9-A94F-2D48BAD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6FF9-CCE2-4C95-9BB8-F3956412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23C-F0E8-4CFA-9E20-60406794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45B2-9CE7-46FB-8767-A3AF1A5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6ED4-C0AA-41E2-B6D1-5FE840D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5086-A228-43FD-86E2-0CF95C63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223F-8FE4-469E-A18F-449B9E5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231A-62BD-4666-AA89-9D2DF408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7158-8F02-40CE-9C14-359B8779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DDC3-DE27-44C2-8689-F67E7A69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62FD-0497-40B1-99AD-4FCE6065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648D-BB2D-4AE5-94EF-9B99C291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82DC-1686-42F4-8CF3-4247567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83A-A67C-480E-92F6-D5B6CF8F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5CB4-823E-4C7B-96DB-E6AC11CC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6F3B-84E8-4FB9-87DC-98BD62C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E151-B927-455A-903E-8715ED5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02C2-94F0-4474-9439-E835AFD2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C02A-DA4F-4FD7-9323-EC45318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3E08-3504-4991-A135-6C074E00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06E5-277C-40E6-868D-AF4A69D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6CAC-8A6D-41E0-B39E-2017614B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C91E-1466-4B1D-94C2-A9D8ADAD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E8F8-984E-48E1-9E62-EF28341A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B5E-2E51-4964-8CC5-A52AE33A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F57F-364D-4E6E-BFCF-96AB249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7CDD-8606-49E8-A5B8-944AF2E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9B07-5928-4B29-BED8-3596360F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A39A-D776-4DEC-8EAC-C418AAA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22B8-FD6A-4E93-95DB-A0F0975E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97C0-DAF7-4A5E-85F8-F2A50C6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8EC6-C256-4D91-A2C0-9EDC2F26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5FE68-FE2B-4097-8D96-D9E8F2A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39B88-0BD9-4320-8FC7-39C553B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DEA2E-8FEF-4A27-88FF-15857D35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176-9C2A-45B5-A765-85510D0C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E0C3-7D7E-4E18-ABE9-64B4357F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D059A-A62E-4365-B19B-23FC5186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061DD-9D38-47E4-B718-3B1CACDF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B99A-E9D0-4D8E-94F8-9B078252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837A4-7823-4673-A89F-61D25AD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09979-FD6C-4999-9A2C-CCB64120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D72ED-D08B-4158-A496-48E83A90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D781-BB3F-40E9-9049-E2BD2C75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8B8F-2BC2-47D8-9AF0-0A947FA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C1F58-C83F-4519-959D-8922C34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51F-7579-4430-9B0B-76C3194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EF554-9FF7-4327-8C43-D6B399D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B52F-3A18-47D0-9614-3923DA18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D4C4-0744-45B9-80D5-BB01F807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DC0B9-26DF-4FFC-B0C5-056A4B0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014B6-9DEB-45B6-8914-744CFD4C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04DD-667D-4BB5-AA8E-587E870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F2C7-82A0-4166-B585-1CB2C2EB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36BD2-B659-4DC6-8F01-E98C1E9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640E-7ABD-455D-B67A-17DD3E6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6A0B-F7DF-44F0-B7E7-7D4E6CE6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430-39E1-4A84-A22A-D00558F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8502B-B50D-487F-A1B3-290E68C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544DF-6609-4F66-9A27-2309AC8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54A7-4AB6-4E99-B657-961CA110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52D5F-1B76-49B8-BC3B-E9549359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F382D-89C5-4DA5-B6DE-45F6A3A8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F60F-AB43-4CB0-9BEE-F50FC5F4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D5CB2-21C1-48D9-A6C7-8CBE0AD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79B6-4F40-4D80-AFF1-69E0ED0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77846-C7D7-401A-B239-5C969C9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DD09-EEC0-4297-A60A-AA7221C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D93-E82C-4C8E-8AC5-1B25ED11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903B8-2F44-4F73-970C-B43E5CC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FF73-2D38-4AEF-9118-784499CC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2461-87C6-438F-A050-4AA8ADE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DB799-EF97-4981-BB06-BB069B1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2FF98-9145-4269-AEF0-94F75CEC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E674-180F-4B03-9EB7-FF8AB5A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7100-41B3-40FA-9FD7-BA8A8F1B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F0493-6247-4C66-9535-BC2E97E7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0C38D-0B8C-4F5D-8D64-F3B0BBF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4292-9B8D-40A0-8C35-4BF59C7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699-69AB-4B01-A5BC-7AC7FA6839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DE3-35FF-4DE4-BCF7-3738CE837D3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ADAE-474D-4B5D-B01F-488E0A2921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0F5-5188-40AA-A98B-F459E3446A5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E97-22FA-4828-8686-2D41F95862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5C08-0D8F-4B99-979A-EC58405611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33C-986F-42C9-A4A6-A1397560B5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282-4365-420C-9755-FD0A626D3E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5578-ED88-4AA3-90E6-EB8AC5C0F7A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429-19DE-4CDC-9279-ADA901E4495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8199-174B-4105-A827-35E375CD6B4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F808-8B17-4A0D-8068-5F17846D14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solidFill>
            <a:srgbClr val="c99c60"/>
          </a:soli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Курская   Битва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7640" y="1417680"/>
            <a:ext cx="9001080" cy="421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5 июля 1943 г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23 августа1943 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2843280" y="4729320"/>
            <a:ext cx="601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истории МБОУ СОШ №1 г. Большой Камен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макова Ирина Александ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4. 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0" y="214200"/>
            <a:ext cx="9001080" cy="78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ветское командование решило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ерейти к активной оборо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0" y="1177920"/>
            <a:ext cx="4357800" cy="246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емцы собирались внов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использовать факто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незапности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полагалось нач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ступление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5 июля 1943 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3 часа утра силь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ртиллерий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дготов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1"/>
          <p:cNvSpPr/>
          <p:nvPr/>
        </p:nvSpPr>
        <p:spPr>
          <a:xfrm>
            <a:off x="4211640" y="2257560"/>
            <a:ext cx="5763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788000" y="1177920"/>
            <a:ext cx="4356000" cy="246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днако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ая развед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очно определила день и ча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ачала наступления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посл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его командующ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ентральным фронт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К. К. Рокоссовск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инял решение об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упреждающем уда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"/>
          <p:cNvSpPr/>
          <p:nvPr/>
        </p:nvSpPr>
        <p:spPr>
          <a:xfrm>
            <a:off x="0" y="3786120"/>
            <a:ext cx="9144000" cy="857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 несколько минут до начала немецкого наступления поч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9 тыс. советских орудий нанесли сокрушительный уда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 местам сосредоточения германских войск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4"/>
          <p:cNvSpPr/>
          <p:nvPr/>
        </p:nvSpPr>
        <p:spPr>
          <a:xfrm>
            <a:off x="285840" y="4786200"/>
            <a:ext cx="8858160" cy="671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родвинуться же немцы смогли лишь на 30-35 к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"/>
          <p:cNvPicPr/>
          <p:nvPr/>
        </p:nvPicPr>
        <p:blipFill>
          <a:blip r:embed="rId1"/>
          <a:stretch/>
        </p:blipFill>
        <p:spPr>
          <a:xfrm>
            <a:off x="0" y="576360"/>
            <a:ext cx="4527720" cy="50194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0"/>
          <p:cNvSpPr/>
          <p:nvPr/>
        </p:nvSpPr>
        <p:spPr>
          <a:xfrm>
            <a:off x="4500720" y="214200"/>
            <a:ext cx="4643280" cy="55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2 июля 1943 г.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етские вой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ереш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 контрнаступлени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этот же день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 район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еревн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рохоровка состояло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рупнейшее 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мировой истор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стречное танко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ражени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котором участвова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танков и СА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154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 Black"/>
              </a:rPr>
              <a:t>Сражение под Прохоровко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214880" y="785880"/>
            <a:ext cx="4929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 время боя из строя выбыло очень много командиров-танкистов (взводных и ротных). Высокий уровень потерь комсостава в 32-й тбр: 41 командир танка (36 % от общего числа), командир танкового взвода (61 %), роты (100 %) и батальона (50 %). Очень высокие потери понесло командное звено и мотострелковом полку бригады, погибли и получили тяжелые ранения многие командиры рот и взводов. Вышел из строя его командир капитан И. И. Руденко (эвакуировали с поля боя в госпита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5" descr="ProkhorovkaMonument"/>
          <p:cNvPicPr/>
          <p:nvPr/>
        </p:nvPicPr>
        <p:blipFill>
          <a:blip r:embed="rId1"/>
          <a:stretch/>
        </p:blipFill>
        <p:spPr>
          <a:xfrm>
            <a:off x="0" y="928800"/>
            <a:ext cx="38973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7120" y="231840"/>
            <a:ext cx="83296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 Black"/>
              </a:rPr>
              <a:t>Потер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996840"/>
            <a:ext cx="91440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 советским данным, на поле боя в сражении под Прохоровкой осталось около 400 немецких танков, 300 автомашин, свыше 3500 солдат и офицеров. Однако эти числа ставятся под сомнение. Например, по подсчётам Г. А. Олейникова, в сражении не могло принимать участие более 300 немецких танков. Согласно исследованиям А.Томзова, ссылающегося на данные немецкого федерального Военного архива, в ходе боёв 12-13 июля дивизия «Лейбштандарт Адольф Гитлер» потеряла безвозвратно 2 танка Pz.IV, в долгосрочный ремонт было отправлено 2 танка Pz.IV и 2 Pz.III, в краткосрочный — 15 танков Pz.IV и 1 Pz.III. Общие же потери танков и штурмовых орудий 2 танковой СС за 12 июля составили около 80 танков и штурмовых орудий, в том числе не менее 40 единиц потеряла дивизия «Мертвая Голов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то же время советские 18-й и 29-й танковые корпуса 5-й Гвардейской танковой армии потеряли до 70 % своих танков. Согласно воспоминаниям генерал-майора немецко-фашистской армии Ф. В. фон Меллентина в атаке на Прохоровку и, соответственно, утреннем бою с советской ТА принимали участие только дивизии "Рейх" и "Лейбштандарт", усиленные батальоном "самоходок" - всего до 240 машин, в т.ч. четыре "тигра". Встретить серьёзного противника не предполагалось ,по мнению германского командования ТА Ротмистрова была втянута в бой против дивизии "Мертвая голова" (в действительности - один корпус) и встречная атака более 800 (по их оценкам) танков стала полной неожиданностью. Впрочем, есть основания предполагать, что и советское командование "проспало" противника и атака Танковой Армии с другими корпусами вовсе не была попыткой остановить немцев а преследовала цель зайти в тыл танковому корпусу СС, за который была принята его дивизия "Мёртвая голова". Немцы первыми заметили противника и успели перестроиться для боя, советским танкистам пришлось делать это уже под огн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15732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ОПЕРАЦИЯ «КУТУЗОВ»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071720"/>
            <a:ext cx="621504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разгар боя 12 июля наступление в районе Орла. Общий план Орловской операции, получившей условное наименование «Кутузов», заключался в одновременном нанесении войсками трех фронтов ударов с севера, востока и юга с целью охватить вражескую группировку, рассечь ее и уничтожить по ча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 июля немецкие войска были вынуждены оставить Орловский плацдарм и начать отход на позицию восточнее Брянска. 29 июля был освобожден Волхов,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5 августа - Ор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Рисунок 3" descr="70 sokolovskiy 7"/>
          <p:cNvPicPr/>
          <p:nvPr/>
        </p:nvPicPr>
        <p:blipFill>
          <a:blip r:embed="rId1"/>
          <a:stretch/>
        </p:blipFill>
        <p:spPr>
          <a:xfrm>
            <a:off x="7215120" y="571680"/>
            <a:ext cx="1525680" cy="192060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4"/>
          <p:cNvSpPr/>
          <p:nvPr/>
        </p:nvSpPr>
        <p:spPr>
          <a:xfrm>
            <a:off x="7143840" y="257184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ский В. Д. (1897-1968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Рисунок 5" descr="http://go1.imgsmail.ru/imgpreview?key=http%3A//encyclopedia.mil.ru/files/morf/popov2.jpg&amp;mb=imgdb_preview_880"/>
          <p:cNvPicPr/>
          <p:nvPr/>
        </p:nvPicPr>
        <p:blipFill>
          <a:blip r:embed="rId2"/>
          <a:stretch/>
        </p:blipFill>
        <p:spPr>
          <a:xfrm>
            <a:off x="7215120" y="3214800"/>
            <a:ext cx="1676520" cy="18018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"/>
          <p:cNvSpPr/>
          <p:nvPr/>
        </p:nvSpPr>
        <p:spPr>
          <a:xfrm>
            <a:off x="7056360" y="5214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 М. М. (1902-196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2"/>
          <p:cNvSpPr/>
          <p:nvPr/>
        </p:nvSpPr>
        <p:spPr>
          <a:xfrm>
            <a:off x="144360" y="33480"/>
            <a:ext cx="4714920" cy="5277600"/>
          </a:xfrm>
          <a:prstGeom prst="rect">
            <a:avLst/>
          </a:prstGeom>
          <a:solidFill>
            <a:srgbClr val="003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2 июля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Западный (командующий генерал-полковник Василий Соколовский) и Брянский (командующий генерал-полковник Маркиан Попов) фронты начали наступление против 2-й танковой и 9-й армий врага в районе Орл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исходу дня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3 июля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етские войска прорвали оборону противник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26 июля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емцы оставили Орловский плацдарм и начали отход на оборонительную линию «Хаген» (восточнее Брянска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няли Орё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5003640" y="1316160"/>
            <a:ext cx="3929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4200" y="156960"/>
            <a:ext cx="877752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ОПЕРАЦИЯ «ПОЛКОВОДЕЦ РУМЯНЦЕВ»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928800"/>
            <a:ext cx="67327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южном фронте Курской дуги готовилась еще одна наступательная операция Красной Армии – Белгородско-Харьковская, получившая </a:t>
            </a:r>
            <a:r>
              <a:rPr b="0" lang="ru-RU" sz="17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условное наименование «Полков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ц Румянцев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ступление началось утром 3 августа после мощной артиллерийской и авиационной подготовки. 5 августа советские войска освободили Белгор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3 августа после упорных боев войска Степного фронта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генерал-полковник И. С. Конев)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лностью освободили Харьков от враг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ходе контрнаступления на белгородско-харьковском направлении советские войска продвинулись на 140 километров и заняли выгодное положение для перехода в общее наступление с целью освобождения Левобережной Украины и Донбас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Рисунок 3" descr="Малиновский Р.Я."/>
          <p:cNvPicPr/>
          <p:nvPr/>
        </p:nvPicPr>
        <p:blipFill>
          <a:blip r:embed="rId1"/>
          <a:stretch/>
        </p:blipFill>
        <p:spPr>
          <a:xfrm>
            <a:off x="7380360" y="878040"/>
            <a:ext cx="1368360" cy="15588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"/>
          <p:cNvSpPr/>
          <p:nvPr/>
        </p:nvSpPr>
        <p:spPr>
          <a:xfrm>
            <a:off x="6948360" y="255744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иновский Р.Я. (1898-196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Рисунок 5" descr="Konev ivan1.jpg"/>
          <p:cNvPicPr/>
          <p:nvPr/>
        </p:nvPicPr>
        <p:blipFill>
          <a:blip r:embed="rId2"/>
          <a:stretch/>
        </p:blipFill>
        <p:spPr>
          <a:xfrm>
            <a:off x="7236000" y="2857680"/>
            <a:ext cx="1622160" cy="183348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6"/>
          <p:cNvSpPr/>
          <p:nvPr/>
        </p:nvSpPr>
        <p:spPr>
          <a:xfrm>
            <a:off x="6948360" y="483696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 (1897-197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"/>
          <p:cNvSpPr/>
          <p:nvPr/>
        </p:nvSpPr>
        <p:spPr>
          <a:xfrm>
            <a:off x="395280" y="217440"/>
            <a:ext cx="8280360" cy="825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5 августа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етские войска заняли Орёл. Операция  «Кутузов 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"/>
          <p:cNvSpPr/>
          <p:nvPr/>
        </p:nvSpPr>
        <p:spPr>
          <a:xfrm>
            <a:off x="428760" y="1214280"/>
            <a:ext cx="835344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5 августа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ыл освобожден Белгор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ерация «ПолководецРумянце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3"/>
          <p:cNvSpPr/>
          <p:nvPr/>
        </p:nvSpPr>
        <p:spPr>
          <a:xfrm>
            <a:off x="285840" y="2214720"/>
            <a:ext cx="8604000" cy="2043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5 августа 1943г- 5 августа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 Москве был дан перв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за всю войну салют —в че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свобождения Орла и Белгород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4"/>
          <p:cNvSpPr/>
          <p:nvPr/>
        </p:nvSpPr>
        <p:spPr>
          <a:xfrm>
            <a:off x="250920" y="4417920"/>
            <a:ext cx="8642160" cy="947160"/>
          </a:xfrm>
          <a:prstGeom prst="rect">
            <a:avLst/>
          </a:prstGeom>
          <a:solidFill>
            <a:srgbClr val="946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3 августа овладели Харьковом. Контрудары немцев успеха не име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3840" y="231840"/>
            <a:ext cx="8472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«Твои Герои, Курская дуга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Содержимое 3" descr="http://geroiros.narod.ru/wwsoldat/LEGEND/IMAGES/pokryshkin-001.jpg"/>
          <p:cNvPicPr/>
          <p:nvPr/>
        </p:nvPicPr>
        <p:blipFill>
          <a:blip r:embed="rId1"/>
          <a:stretch/>
        </p:blipFill>
        <p:spPr>
          <a:xfrm>
            <a:off x="6143760" y="1000080"/>
            <a:ext cx="2357280" cy="2317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1"/>
          <p:cNvSpPr/>
          <p:nvPr/>
        </p:nvSpPr>
        <p:spPr>
          <a:xfrm>
            <a:off x="0" y="1002600"/>
            <a:ext cx="63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ОКРЫШКИН Александр Иванович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Трижды 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маршал ав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2268360" y="1920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-1985 гг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285840" y="2428920"/>
            <a:ext cx="478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.И. Покрышкин создал собственную систему подготовки асов. Героем Советского Союза. 9 мая 1945 года он сбил над Прагой последний немецкий самолет, уничтоженный в воздушном бою на европейском театре второй мировой войны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4 августа 1943 года Покрышкину вторично присвоено звание Героя Советского Союза. 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7"/>
          <p:cNvSpPr/>
          <p:nvPr/>
        </p:nvSpPr>
        <p:spPr>
          <a:xfrm>
            <a:off x="5214960" y="3714840"/>
            <a:ext cx="373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фициально за Покрышкиным числятся более 650 боевых вылетов и 59 лично сбитых самолетов. Действительная цифра, видимо, еще больше. 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Курской битве немцы потеря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0 тыс. солдат и офицеров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,5 тыс. танков, 3,7 тыс. самолетов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28760" y="642960"/>
            <a:ext cx="0" cy="299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0" y="1428840"/>
            <a:ext cx="5000760" cy="839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6 ноября был освобожден Кие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Днепр был форсирова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большинстве направлен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0" descr=""/>
          <p:cNvPicPr/>
          <p:nvPr/>
        </p:nvPicPr>
        <p:blipFill>
          <a:blip r:embed="rId1"/>
          <a:stretch/>
        </p:blipFill>
        <p:spPr>
          <a:xfrm>
            <a:off x="5111640" y="1428840"/>
            <a:ext cx="4032360" cy="22921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11"/>
          <p:cNvSpPr/>
          <p:nvPr/>
        </p:nvSpPr>
        <p:spPr>
          <a:xfrm>
            <a:off x="0" y="2500200"/>
            <a:ext cx="5000760" cy="1436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2438 воино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первы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тупивших на правый берег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непра,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были удостое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сокого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звания Геро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ого Союз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0" y="4057560"/>
            <a:ext cx="8748720" cy="1228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дновременно оказалась «запертой» в Кры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начительн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руппировка немецких войс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оренной перелом в ходе войны был закреплен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2"/>
          <p:cNvSpPr/>
          <p:nvPr/>
        </p:nvSpPr>
        <p:spPr>
          <a:xfrm>
            <a:off x="3844080" y="217440"/>
            <a:ext cx="21938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Palatino Linotype"/>
              </a:rPr>
              <a:t>ССС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3"/>
          <p:cNvSpPr/>
          <p:nvPr/>
        </p:nvSpPr>
        <p:spPr>
          <a:xfrm>
            <a:off x="548640" y="2786040"/>
            <a:ext cx="3009240" cy="520560"/>
          </a:xfrm>
          <a:prstGeom prst="rect">
            <a:avLst/>
          </a:prstGeom>
          <a:solidFill>
            <a:srgbClr val="a6d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оргий Жу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79280" y="217440"/>
            <a:ext cx="2264040" cy="2395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6875640" y="244440"/>
            <a:ext cx="210492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4"/>
          <p:cNvSpPr/>
          <p:nvPr/>
        </p:nvSpPr>
        <p:spPr>
          <a:xfrm>
            <a:off x="6929280" y="2786040"/>
            <a:ext cx="2214720" cy="825480"/>
          </a:xfrm>
          <a:prstGeom prst="rect">
            <a:avLst/>
          </a:prstGeom>
          <a:solidFill>
            <a:srgbClr val="d0e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икол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атут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214200" y="3465360"/>
            <a:ext cx="2119320" cy="224964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5"/>
          <p:cNvSpPr/>
          <p:nvPr/>
        </p:nvSpPr>
        <p:spPr>
          <a:xfrm>
            <a:off x="2671920" y="51721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Иван Коне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4"/>
          <a:stretch/>
        </p:blipFill>
        <p:spPr>
          <a:xfrm>
            <a:off x="4143240" y="3373560"/>
            <a:ext cx="2144880" cy="234144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6"/>
          <p:cNvSpPr/>
          <p:nvPr/>
        </p:nvSpPr>
        <p:spPr>
          <a:xfrm>
            <a:off x="6715080" y="4357800"/>
            <a:ext cx="2081160" cy="642600"/>
          </a:xfrm>
          <a:prstGeom prst="rect">
            <a:avLst/>
          </a:prstGeom>
          <a:solidFill>
            <a:srgbClr val="a1d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окоссовский Констан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2697120" y="1357200"/>
            <a:ext cx="4141440" cy="70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мандующ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"/>
          <p:cNvSpPr/>
          <p:nvPr/>
        </p:nvSpPr>
        <p:spPr>
          <a:xfrm>
            <a:off x="395280" y="1573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Итоги Курской Битв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2"/>
          <p:cNvSpPr/>
          <p:nvPr/>
        </p:nvSpPr>
        <p:spPr>
          <a:xfrm>
            <a:off x="0" y="785880"/>
            <a:ext cx="9144000" cy="228420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беда советской армии под Курском ознаменовала окончательный переход к союзникам стратегической инициативы во Второй мировой войн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 моменту стабилизации фронта советские войска вышли на исходные позиции для наступления на Днеп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Британо-американские силы в разгар битвы высадились на Сицилии. Косвенным итогом Курской битвы стал выход Италии из войны 8 сентября 1943 год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тери сторон в битве остаются неясными. Так, советские историки, в том числе и академик АН СССР Александр Самсонов, говорят о более чем 500 000 убитых, раненых или пленных, 1500 танков и свыше 3700 самолёт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285840" y="3714840"/>
            <a:ext cx="4100400" cy="17002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4857840" y="3683160"/>
            <a:ext cx="38098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4. 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4508640" y="576360"/>
            <a:ext cx="4635360" cy="5138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0" y="0"/>
            <a:ext cx="4572000" cy="3036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ерия военных пораже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ильно обескрови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ую арми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Гитлер приказал нач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тотальную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(всеобщу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билизацию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в ход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торой в армию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изваны еще 2 млн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лдат и офицеро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3214800"/>
            <a:ext cx="4282920" cy="11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д Курском был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средоточено до 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ивизий противник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0" y="4500720"/>
            <a:ext cx="4500720" cy="121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ий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лан оп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Цитадель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» предусматрив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кружение красной арм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</a:rPr>
              <a:t>Планы и силы сторо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642600"/>
            <a:ext cx="9144000" cy="5072040"/>
          </a:xfrm>
          <a:prstGeom prst="rect">
            <a:avLst/>
          </a:prstGeom>
          <a:solidFill>
            <a:srgbClr val="f3eadd"/>
          </a:solidFill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уководство войсками осуществляли генерал-фельдмаршал Гюнтер Ханс фон 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Клюге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группа армий «Центр»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нерал-фельдмаршал Фриц Эрих фон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Манштейн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группа армий «Юг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оздушную поддержку немецким войскам оказывали силы 4-го и 6-го воздушных фл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ведения операции в район Курска были выдвинуты несколько элитных танковых дивизий 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0" y="696960"/>
            <a:ext cx="8820000" cy="1017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анковые армии были вооружены новыми видами техники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анками «Тигр» и «Пантера», штурмовыми орудия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Фердинанд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0" y="1857240"/>
            <a:ext cx="2664000" cy="1524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2"/>
          <a:stretch/>
        </p:blipFill>
        <p:spPr>
          <a:xfrm>
            <a:off x="3276720" y="1596960"/>
            <a:ext cx="2447640" cy="1503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2" descr=""/>
          <p:cNvPicPr/>
          <p:nvPr/>
        </p:nvPicPr>
        <p:blipFill>
          <a:blip r:embed="rId3"/>
          <a:stretch/>
        </p:blipFill>
        <p:spPr>
          <a:xfrm>
            <a:off x="0" y="3500280"/>
            <a:ext cx="2664000" cy="1535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4"/>
          <a:stretch/>
        </p:blipFill>
        <p:spPr>
          <a:xfrm>
            <a:off x="6164280" y="1857240"/>
            <a:ext cx="2979720" cy="34797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4"/>
          <p:cNvSpPr/>
          <p:nvPr/>
        </p:nvSpPr>
        <p:spPr>
          <a:xfrm>
            <a:off x="3000240" y="3218040"/>
            <a:ext cx="2724120" cy="2068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опагандист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лакат проти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немецк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игра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920" y="156960"/>
            <a:ext cx="8848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отношение с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 средств к началу Курской оборонительной операции (5 июля 1943 года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42920" y="1643040"/>
          <a:ext cx="8794800" cy="385776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460600"/>
                <a:gridCol w="1936800"/>
              </a:tblGrid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илы и сред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К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ермах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оотнош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Личный состав (тыс. чел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3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выше 9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4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рудия и миноме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оло 10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9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</a:tr>
              <a:tr h="77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нки и СА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73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2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амоле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7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оло 20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231480"/>
            <a:ext cx="8686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Планы сторо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117080"/>
            <a:ext cx="6211800" cy="42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ЛАН «ЦИТАДЕЛЬ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гласно указаниям командования, группы войск 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Центр» (генерал- фельдмаршал Г. Клюге) с севера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Юг» (генерал-фельд­маршал Э. Манштейн) дожны были отрезать советские войска на Курской дуг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мцы намеревались взять дугу в клещи и уничтожить находившиеся там силы противник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Победа под Курском возместит нам все временные поражения на других участках фронта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», - писал Гитлеру Э. Манштей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Рисунок 3" descr="Немецкий генерал-фельдмаршал Г.Клюге."/>
          <p:cNvPicPr/>
          <p:nvPr/>
        </p:nvPicPr>
        <p:blipFill>
          <a:blip r:embed="rId1"/>
          <a:stretch/>
        </p:blipFill>
        <p:spPr>
          <a:xfrm>
            <a:off x="7093080" y="396720"/>
            <a:ext cx="1571400" cy="15876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4"/>
          <p:cNvSpPr/>
          <p:nvPr/>
        </p:nvSpPr>
        <p:spPr>
          <a:xfrm>
            <a:off x="7020000" y="19573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с Гюнтер Клюге (1882 – 194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5" descr="Bundesarchiv Bild 183-H01758, Erich v. Manstein.jpg"/>
          <p:cNvPicPr/>
          <p:nvPr/>
        </p:nvPicPr>
        <p:blipFill>
          <a:blip r:embed="rId2"/>
          <a:stretch/>
        </p:blipFill>
        <p:spPr>
          <a:xfrm>
            <a:off x="6948360" y="2496960"/>
            <a:ext cx="2076480" cy="23292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6"/>
          <p:cNvSpPr/>
          <p:nvPr/>
        </p:nvSpPr>
        <p:spPr>
          <a:xfrm>
            <a:off x="6875640" y="48974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х фон Манштейн (1887-197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43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СОВЕТСКИй 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6240" y="696960"/>
            <a:ext cx="4000680" cy="5000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«Лучше будет, - докладывал он, - если измотаем противника на нашей обороне, выбьем его танки, а затем, введя свежие резервы, переходом в общее наступление добьем основную группировку противника». Окончательное решение о преднамеренной обороне было принято Сталиным в начале ию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Рисунок 3" descr="http://wwii-soldat.narod.ru/MARSHALS/IMAGES/zhukov.jpg"/>
          <p:cNvPicPr/>
          <p:nvPr/>
        </p:nvPicPr>
        <p:blipFill>
          <a:blip r:embed="rId2"/>
          <a:stretch/>
        </p:blipFill>
        <p:spPr>
          <a:xfrm>
            <a:off x="6858000" y="214200"/>
            <a:ext cx="1944720" cy="228276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4"/>
          <p:cNvSpPr/>
          <p:nvPr/>
        </p:nvSpPr>
        <p:spPr>
          <a:xfrm>
            <a:off x="7308720" y="250992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уков Г.К. (1896-197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5" descr="http://battle-kursk.narod.ru/Images/rokossovski3.jpg"/>
          <p:cNvPicPr/>
          <p:nvPr/>
        </p:nvPicPr>
        <p:blipFill>
          <a:blip r:embed="rId3"/>
          <a:stretch/>
        </p:blipFill>
        <p:spPr>
          <a:xfrm>
            <a:off x="4500720" y="1335240"/>
            <a:ext cx="1722240" cy="224316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6"/>
          <p:cNvSpPr/>
          <p:nvPr/>
        </p:nvSpPr>
        <p:spPr>
          <a:xfrm>
            <a:off x="4211640" y="35892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 (1896 – 1968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7" descr="Vatutin nf.jpg"/>
          <p:cNvPicPr/>
          <p:nvPr/>
        </p:nvPicPr>
        <p:blipFill>
          <a:blip r:embed="rId4"/>
          <a:stretch/>
        </p:blipFill>
        <p:spPr>
          <a:xfrm>
            <a:off x="7236000" y="3002040"/>
            <a:ext cx="1591920" cy="22842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"/>
          <p:cNvSpPr/>
          <p:nvPr/>
        </p:nvSpPr>
        <p:spPr>
          <a:xfrm>
            <a:off x="6875640" y="5305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тут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. Ф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(1901-19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2"/>
          <p:cNvSpPr/>
          <p:nvPr/>
        </p:nvSpPr>
        <p:spPr>
          <a:xfrm>
            <a:off x="3844080" y="217440"/>
            <a:ext cx="21938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Palatino Linotype"/>
              </a:rPr>
              <a:t>ССС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3"/>
          <p:cNvSpPr/>
          <p:nvPr/>
        </p:nvSpPr>
        <p:spPr>
          <a:xfrm>
            <a:off x="548640" y="2786040"/>
            <a:ext cx="3009240" cy="520560"/>
          </a:xfrm>
          <a:prstGeom prst="rect">
            <a:avLst/>
          </a:prstGeom>
          <a:solidFill>
            <a:srgbClr val="a6d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оргий Жу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79280" y="217440"/>
            <a:ext cx="2264040" cy="2395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6875640" y="244440"/>
            <a:ext cx="2104920" cy="238140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4"/>
          <p:cNvSpPr/>
          <p:nvPr/>
        </p:nvSpPr>
        <p:spPr>
          <a:xfrm>
            <a:off x="6286680" y="2786040"/>
            <a:ext cx="2857320" cy="1557000"/>
          </a:xfrm>
          <a:prstGeom prst="rect">
            <a:avLst/>
          </a:prstGeom>
          <a:solidFill>
            <a:srgbClr val="d0e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иколай Ватут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оронеж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3"/>
          <a:stretch/>
        </p:blipFill>
        <p:spPr>
          <a:xfrm>
            <a:off x="214200" y="3465360"/>
            <a:ext cx="2119320" cy="224964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5"/>
          <p:cNvSpPr/>
          <p:nvPr/>
        </p:nvSpPr>
        <p:spPr>
          <a:xfrm>
            <a:off x="2671920" y="51721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Иван Коне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"/>
          <p:cNvPicPr/>
          <p:nvPr/>
        </p:nvPicPr>
        <p:blipFill>
          <a:blip r:embed="rId4"/>
          <a:stretch/>
        </p:blipFill>
        <p:spPr>
          <a:xfrm>
            <a:off x="3929040" y="2357280"/>
            <a:ext cx="2144880" cy="234180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6"/>
          <p:cNvSpPr/>
          <p:nvPr/>
        </p:nvSpPr>
        <p:spPr>
          <a:xfrm>
            <a:off x="6286680" y="4572000"/>
            <a:ext cx="2857320" cy="916920"/>
          </a:xfrm>
          <a:prstGeom prst="rect">
            <a:avLst/>
          </a:prstGeom>
          <a:solidFill>
            <a:srgbClr val="a1d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окоссовский Констан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Центральный фрон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7"/>
          <p:cNvSpPr/>
          <p:nvPr/>
        </p:nvSpPr>
        <p:spPr>
          <a:xfrm>
            <a:off x="2697120" y="1357200"/>
            <a:ext cx="4141440" cy="70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мандующ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1"/>
          <p:cNvSpPr/>
          <p:nvPr/>
        </p:nvSpPr>
        <p:spPr>
          <a:xfrm>
            <a:off x="2428920" y="5000760"/>
            <a:ext cx="17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нев И.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1:29:29Z</dcterms:created>
  <dc:creator>User</dc:creator>
  <dc:description/>
  <dc:language>en-US</dc:language>
  <cp:lastModifiedBy>Пользователь</cp:lastModifiedBy>
  <dcterms:modified xsi:type="dcterms:W3CDTF">2024-01-05T02:27:28Z</dcterms:modified>
  <cp:revision>561</cp:revision>
  <dc:subject/>
  <dc:title>Слайд 1</dc:title>
</cp:coreProperties>
</file>