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A5C17-A4E9-46AA-B205-C3262B70A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A7E01-B220-49A7-9A8C-D4D685455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07258-4C87-4094-BCB1-916F4808F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92BAE-D49A-4619-89B3-4EC76B588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2C27A-85EF-43B3-B191-BD780830D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505C6-0602-4AF8-8A39-C8D75B4D0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89024-FE9E-4B46-ABD1-2B4D7A7D0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3789D-3330-4E35-8694-8DF508FE2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B8B66-9D6F-411E-B86F-0300A202C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874FF-B4A1-45CE-9385-8F9258157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73074-0093-4AE9-A9C1-B802BC47D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F2BB9-0448-4167-B32A-F9C49FDED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EAE81-1C79-4167-B07B-B7B32438D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A7960-99EF-44B7-8F55-32F0E3F55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058DB-10F7-4F0B-A583-F509F9CFA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E8404-ED59-4112-AE71-AA7D16D3E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74711-84A7-4885-B86D-6D72A74D3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BC0B8-B2BB-4008-92E8-132F3DB6C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11D78-4ADD-43FF-9294-21A9A5536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2FF90-61F0-4FB6-88A7-6C42BE75C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C90B8-F6F1-46E3-B588-11EA1C933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C8AC0-710B-4A03-8AE2-1100859C0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417C6-9E5D-4E86-A71F-3B138B7AC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E27E6-3733-4A25-B07E-2A3FAAAD7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EA4B7-E51E-4706-864B-6803DF88A72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926A5-84F2-4EEB-83C4-BC438947C4BB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eec94"/>
                </a:solidFill>
                <a:latin typeface="Times New Roman"/>
              </a:rPr>
              <a:t>Автор: Берба О.Н., учитель английского языка высшей квалификационной категории, МОБУ « СОШ  №5  ЛГО».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« Дидактический материал по теме «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ear after year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» к УМК «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potlight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»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под редакцией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Virginia Evans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Jenny Dooley, Olga Podolyako, Julia Vaulina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для 5 класса (упражнения, карточки, занимательные задания)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cc00"/>
                </a:solidFill>
                <a:latin typeface="Times New Roman"/>
              </a:rPr>
              <a:t>Make up the sentences: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s, season, a, summer, fine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ts, and, rains, it, dogs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ny, in, parks, are, flowers, the, there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lushy, it, spring, is, in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wful, the, autumn, is, weather, in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, skate, like, skating-rink, to, children, i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Describe the picture: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25" name="Picture 7" descr="kruzhila_osenx2"/>
          <p:cNvPicPr/>
          <p:nvPr/>
        </p:nvPicPr>
        <p:blipFill>
          <a:blip r:embed="rId1"/>
          <a:stretch/>
        </p:blipFill>
        <p:spPr>
          <a:xfrm>
            <a:off x="1332000" y="1557360"/>
            <a:ext cx="6033960" cy="4525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Choose the right sentences: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t is spr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t is raining cats and dog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t is sleet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day is du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sky is blu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people are carrying umbrella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y are not happ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8" name="Picture 7" descr="0_4405e_f1ebf0f4_XL"/>
          <p:cNvPicPr/>
          <p:nvPr/>
        </p:nvPicPr>
        <p:blipFill>
          <a:blip r:embed="rId1"/>
          <a:stretch/>
        </p:blipFill>
        <p:spPr>
          <a:xfrm>
            <a:off x="611280" y="1627200"/>
            <a:ext cx="4037040" cy="4046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Times New Roman"/>
              </a:rPr>
              <a:t>Текст для аудирования.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Times New Roman"/>
              </a:rPr>
              <a:t>Spring is a marvellous seaso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Times New Roman"/>
              </a:rPr>
              <a:t>March, April and May are spring month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Times New Roman"/>
              </a:rPr>
              <a:t>The weather is usually fine in spring, but sometimes it is cool and slushy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Times New Roman"/>
              </a:rPr>
              <a:t>The days are warm and long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Times New Roman"/>
              </a:rPr>
              <a:t>The sun shines brightly in the blue sky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Times New Roman"/>
              </a:rPr>
              <a:t>The sky is cloudles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Times New Roman"/>
              </a:rPr>
              <a:t>The trees are gree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Times New Roman"/>
              </a:rPr>
              <a:t>There are read, blue, yellow flowers in the fores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Times New Roman"/>
              </a:rPr>
              <a:t>Children like to play in the yard and in the garde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Find the words about seasons and the weather.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imes New Roman"/>
              </a:rPr>
              <a:t>dobwinteryosnowmankdrizzlefleavesskymanshiningstormyeidullwetinastyladausrainygftwindykidrcloudymfrslipperyxqagfogkbusnowflakesvic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Ask questions to the words italic.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weather is </a:t>
            </a:r>
            <a:r>
              <a:rPr b="0" lang="en-US" sz="2800" spc="-1" strike="noStrike">
                <a:solidFill>
                  <a:srgbClr val="800000"/>
                </a:solidFill>
                <a:latin typeface="Times New Roman"/>
              </a:rPr>
              <a:t>marvelou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n summ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boys like </a:t>
            </a:r>
            <a:r>
              <a:rPr b="0" lang="en-US" sz="2800" spc="-1" strike="noStrike">
                <a:solidFill>
                  <a:srgbClr val="800000"/>
                </a:solidFill>
                <a:latin typeface="Times New Roman"/>
              </a:rPr>
              <a:t>to play snowballs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 wint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Times New Roman"/>
              </a:rPr>
              <a:t>Winter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s a nice seas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Times New Roman"/>
              </a:rPr>
              <a:t>June, July, Augus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are summer month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days are </a:t>
            </a:r>
            <a:r>
              <a:rPr b="0" lang="en-US" sz="2800" spc="-1" strike="noStrike">
                <a:solidFill>
                  <a:srgbClr val="800000"/>
                </a:solidFill>
                <a:latin typeface="Times New Roman"/>
              </a:rPr>
              <a:t>shor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n wint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ttle children like to make </a:t>
            </a:r>
            <a:r>
              <a:rPr b="0" lang="en-US" sz="2800" spc="-1" strike="noStrike">
                <a:solidFill>
                  <a:srgbClr val="800000"/>
                </a:solidFill>
                <a:latin typeface="Times New Roman"/>
              </a:rPr>
              <a:t>snowmen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fields are covered </a:t>
            </a:r>
            <a:r>
              <a:rPr b="0" lang="en-US" sz="2800" spc="-1" strike="noStrike">
                <a:solidFill>
                  <a:srgbClr val="800000"/>
                </a:solidFill>
                <a:latin typeface="Times New Roman"/>
              </a:rPr>
              <a:t>with snow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Times New Roman"/>
              </a:rPr>
              <a:t>Peopl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put on warm cloth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leaves are </a:t>
            </a:r>
            <a:r>
              <a:rPr b="0" lang="en-US" sz="2800" spc="-1" strike="noStrike">
                <a:solidFill>
                  <a:srgbClr val="800000"/>
                </a:solidFill>
                <a:latin typeface="Times New Roman"/>
              </a:rPr>
              <a:t>red, yellow and brown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n autum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Times New Roman"/>
              </a:rPr>
              <a:t>It usually rains in summer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Mark  the sentences T(true) or F(false)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ring is an awful seaso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rch, April and June are spring month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t is slushy in spring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days are shor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sun shines brightly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sky isn’t grey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trees are yellow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re are no flowers in the park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oys and girls like to play in the stree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0T03:44:02Z</dcterms:created>
  <dc:creator>Il'ya</dc:creator>
  <dc:description/>
  <dc:language>en-US</dc:language>
  <cp:lastModifiedBy>школа № 5</cp:lastModifiedBy>
  <dcterms:modified xsi:type="dcterms:W3CDTF">2024-01-06T05:49:33Z</dcterms:modified>
  <cp:revision>16</cp:revision>
  <dc:subject/>
  <dc:title>Слайд 1</dc:title>
</cp:coreProperties>
</file>