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1B1-CD02-409A-8C33-C486ED48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C2D-E4BC-4409-9028-147CCA8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F05-4726-4233-A4D3-F6BE953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B27-733E-4AD4-B798-4EB58398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38F-D436-4E72-8CF6-9E75C560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C90-6CC2-413F-938F-8EBE372A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C693-B7E8-4108-8A0C-B5B32386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DCC3-263A-4082-A4FD-3041B83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B26-6EBC-49A5-B388-026C0E2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7C9A-D17E-4B7C-AC91-992A341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7AFA-6029-4F91-8DC2-B1316F8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2A8-FCDD-48F3-B0A0-5C2C376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27D-5050-462A-B3EC-6B3497B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47D4-DBC6-4D1A-A0EB-64DB504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8370-54D6-476A-BB54-EC95DEFE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402C-FA9A-424A-BB61-B42A2AFF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D3C-C870-45DB-81F4-6F434891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02A-8129-4730-BDE9-8CA8C8B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003-E6E1-43A7-BB6A-3CCB5F05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31D-A914-4E2C-B2CE-E6D1A418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88D-DB37-4A3D-A4FB-962D83E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116-7F69-4E6C-B9FE-2E5F83F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FEE-F73C-46E7-AA55-FD82479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A08-C708-4587-9880-3679B04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C1FF-5AC1-4BDA-9A7E-ADE5DFB71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186-9C98-488D-86DF-AB9E960C98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втор: Берба О.Н., учитель английского языка высшей квалификационной категории, МОБУ « СОШ  №5  ЛГО»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 Дидактический материал по теме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 after year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 к УМК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tligh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 редакцией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ginia Evan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nny Dooley, Olga Podolyako, Julia Vaulin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ля 5 класса (упражнения, карточки, занимательные задания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Make up the sentence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, season, a, summer, fin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s, and, rains, it, dog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, in, parks, are, flowers, the, ther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shy, it, spring, is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ful, the, autumn, is, weather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, skate, like, skating-rink, to, children,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be the pictur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7" descr="kruzhila_osenx2"/>
          <p:cNvPicPr/>
          <p:nvPr/>
        </p:nvPicPr>
        <p:blipFill>
          <a:blip r:embed="rId1"/>
          <a:stretch/>
        </p:blipFill>
        <p:spPr>
          <a:xfrm>
            <a:off x="1332000" y="1557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hoose the right sentences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raining cats and do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lee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 is du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ky is b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ople are carrying umbr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not hap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0_4405e_f1ebf0f4_XL"/>
          <p:cNvPicPr/>
          <p:nvPr/>
        </p:nvPicPr>
        <p:blipFill>
          <a:blip r:embed="rId1"/>
          <a:stretch/>
        </p:blipFill>
        <p:spPr>
          <a:xfrm>
            <a:off x="611280" y="1627200"/>
            <a:ext cx="4037040" cy="40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екст для аудировани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pring is a marvellous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March, April and May are spring mon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weather is usually fine in spring, but sometimes it is cool and slus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days are warm and lo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un shines brightly in the blue s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ky is cloudl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trees are g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re are read, blue, yellow flowers in the fo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hildren like to play in the yard and in the gard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ind the words about seasons and the weather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obwinteryosnowmankdrizzlefleavesskymanshiningstormyeidullwetinastyladausrainygftwindykidrcloudymfrslipperyxqagfogkbusnowflakesvi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sk questions to the words italic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eather i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rvel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um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ys li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o play snowba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n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nice sea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June, July, Augu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summer mont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children like to ma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now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elds are covered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th s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t on warm clot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ave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, yellow and brow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utum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t usually rains in summ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rk  the sentences T(true) or F(false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ring is an awful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h, April and June are spring mon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slushy in sp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ys are sh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n shines brigh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ky isn’t gr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es are ye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no flowers in the par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nd girls like to play in the stre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44:02Z</dcterms:created>
  <dc:creator>Il'ya</dc:creator>
  <dc:description/>
  <dc:language>en-US</dc:language>
  <cp:lastModifiedBy>школа № 5</cp:lastModifiedBy>
  <dcterms:modified xsi:type="dcterms:W3CDTF">2024-01-06T05:49:33Z</dcterms:modified>
  <cp:revision>16</cp:revision>
  <dc:subject/>
  <dc:title>Слайд 1</dc:title>
</cp:coreProperties>
</file>