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F6B-3618-4F1D-9D8F-D2AB350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14B-8239-43B9-AC06-7A39E003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1EE-949C-45E9-A821-C45A0EA8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75C-A479-4573-9F42-ED81B6C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245-4A1A-420A-AA04-F57F1D78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7427-7E09-4252-84F3-83A8AB8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8B8B-2D64-4D83-B176-8600BA0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B6C-47F7-4D8D-B49F-577D348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892-E4C7-4350-A97C-5B7F291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08F-14C2-4E8B-B871-87E48462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64C-89FC-4408-BA7A-15D15337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1D7-E458-4538-AED6-8DCE7DC7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802-B2FB-4CAC-9B5D-DDE37BD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9AF7-2719-4B05-9C1B-4CA97547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6509-D2DE-4CEA-8438-584C06D3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F75A-C576-4825-A4CE-64504CCC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A89F-99AA-4010-A37E-C9D0B30C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AB5-B55D-4AFA-9FCD-C587A16E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6F6-9B6A-4909-B734-7A9D1ED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B9A-429A-4A9C-B7D5-653C032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9D4-81BE-40FF-9FC1-202CB2F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969-1CAF-4C68-A365-F27DFDC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FB9-3B32-4E30-9576-FFDEC3A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9D2-3776-4DF2-84A8-6DE29B3D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E62-7C45-4F18-A97D-6F21A08CD3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315D-396D-4334-A4DD-CD07227943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втор: Берба О.Н., учитель английского языка высшей квалификационной категории, МОБУ « СОШ  №5  ЛГО»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 Дидактический материал по теме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 after year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 к УМК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tligh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 редакцией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ginia Evan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nny Dooley, Olga Podolyako, Julia Vaulin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ля 5 класса (упражнения, карточки, занимательные задания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Make up the sentence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, season, a, summer, fin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s, and, rains, it, dog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, in, parks, are, flowers, the, ther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shy, it, spring, is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ful, the, autumn, is, weather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, skate, like, skating-rink, to, children,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be the pictur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7" descr="kruzhila_osenx2"/>
          <p:cNvPicPr/>
          <p:nvPr/>
        </p:nvPicPr>
        <p:blipFill>
          <a:blip r:embed="rId1"/>
          <a:stretch/>
        </p:blipFill>
        <p:spPr>
          <a:xfrm>
            <a:off x="1332000" y="1557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hoose the right sentences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raining cats and do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lee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 is du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ky is b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ople are carrying umbr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not hap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0_4405e_f1ebf0f4_XL"/>
          <p:cNvPicPr/>
          <p:nvPr/>
        </p:nvPicPr>
        <p:blipFill>
          <a:blip r:embed="rId1"/>
          <a:stretch/>
        </p:blipFill>
        <p:spPr>
          <a:xfrm>
            <a:off x="611280" y="1627200"/>
            <a:ext cx="4037040" cy="40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екст для аудировани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pring is a marvellous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March, April and May are spring mon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weather is usually fine in spring, but sometimes it is cool and slus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days are warm and lo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un shines brightly in the blue s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ky is cloudl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trees are g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re are read, blue, yellow flowers in the fo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hildren like to play in the yard and in the gard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ind the words about seasons and the weather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obwinteryosnowmankdrizzlefleavesskymanshiningstormyeidullwetinastyladausrainygftwindykidrcloudymfrslipperyxqagfogkbusnowflakesvi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sk questions to the words italic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eather i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rvel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um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ys li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o play snowba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n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nice sea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June, July, Augu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summer mont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children like to ma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now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elds are covered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th s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t on warm clot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ave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, yellow and brow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utum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t usually rains in summ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rk  the sentences T(true) or F(false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ring is an awful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h, April and June are spring mon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slushy in sp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ys are sh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n shines brigh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ky isn’t gr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es are ye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no flowers in the par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nd girls like to play in the stre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44:02Z</dcterms:created>
  <dc:creator>Il'ya</dc:creator>
  <dc:description/>
  <dc:language>en-US</dc:language>
  <cp:lastModifiedBy>школа № 5</cp:lastModifiedBy>
  <dcterms:modified xsi:type="dcterms:W3CDTF">2024-01-06T05:49:33Z</dcterms:modified>
  <cp:revision>16</cp:revision>
  <dc:subject/>
  <dc:title>Слайд 1</dc:title>
</cp:coreProperties>
</file>