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27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14.png" ContentType="image/png"/>
  <Override PartName="/ppt/media/image11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EB07-F391-477C-89D3-B92B30A20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A8E0-0D7F-4007-B03C-BCEE131B6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FDB-E629-41C3-8566-263455B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3F8-88FB-430B-B044-8F012864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33A-CCC2-4B2A-B3A3-DECE384C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7F5-89CC-40E0-8B27-BDF81439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37F-1C28-4800-AA7B-E65A7417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5EE-2BA2-4828-BB96-BC2853E1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E13-CBE9-48C6-85A4-8AEB59F4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C271-4FF9-471A-A4BF-BCCA44FB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9E47-1B84-418A-BB52-53D0F37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9D7E-BEFE-4EB3-A67E-DD5D30B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BC94-8851-4681-8E42-CE9A4C3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A91-A7D3-4CE1-A86E-85D9FB9F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21D7-3B61-4370-AC47-6CC86488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EE7E-AA53-4706-B7EF-4ED2196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4BE6-2759-4E3E-98CA-237E6D1B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B78-726A-47CD-BBB7-2C3E176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4847-83F5-4ABC-84A0-36569441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474C-2B7C-4AE2-A973-ED4008FB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7598-3AA7-4C42-83A3-CD454AC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E868-D8C3-453A-9F1D-92B38F7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6162-B416-450F-8006-3426D7B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685B-36E5-4B29-B2B8-C0E238E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A20-527E-4BD8-82B4-7556A530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C76C-60FB-4FF3-88AE-147A263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3DAC-042D-40F4-95CF-1988C1C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1EE1-F03F-4D1C-84BC-A15367A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24BB-DC37-4F56-94D9-7811B43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3948-150F-4042-AB26-8492656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8EA7-E12C-4794-9BE3-0CB5D2FF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B09C-618B-4E3C-99EE-2DA7AD57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CD4B-97AD-4FD5-9348-BBFFC7C7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751F-A0E3-46A1-9A8D-CB9798BD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6D04-AECD-4F7B-9D6D-1ACFEE93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310-5380-4FA3-A9C7-9D357631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7454-9E56-48B4-B1C1-0B79FB8A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A5DD-87B3-4CF1-9284-5E0DD17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82BE-2853-4952-8775-FC6A4F9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241E-9DC1-40B2-8C8A-F258D55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1023-0B28-47F5-A323-79EF26C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464D-1076-45F3-AC30-CAA5784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50F7-C696-4385-9BA6-EA000F14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C151-A090-4EB0-926E-3090B2F0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DFAC-06ED-4172-85AC-9E8B3A05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084-1728-430C-8E25-2792BA7E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40B-8B9D-4FE2-8B8C-89BE2F9A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7AE-8FEE-4D4F-99B5-DF70E253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214-D603-43AE-84FD-C0F3CC1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09F-576A-4FC3-9B1D-E332821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7D00-58FB-4ED3-A419-DA161AF22F5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9BA-6EC4-4710-96E3-EF456697563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540-4C50-410C-87E9-5F709981AB8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44EF-B5E1-4437-9610-2E1A57CEBC3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33200" y="341280"/>
            <a:ext cx="9017280" cy="6156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j0354499.gif"/>
          <p:cNvPicPr/>
          <p:nvPr/>
        </p:nvPicPr>
        <p:blipFill>
          <a:blip r:embed="rId2"/>
          <a:stretch/>
        </p:blipFill>
        <p:spPr>
          <a:xfrm>
            <a:off x="428760" y="3714840"/>
            <a:ext cx="192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8961480" cy="15602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нестандартных заданий сформулированных в нетрадиционной форме: на уроках и во внеурочное врем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дистанционных олимпиадах по предмет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пробных проверочных рабо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3" descr="flower.jpg"/>
          <p:cNvPicPr/>
          <p:nvPr/>
        </p:nvPicPr>
        <p:blipFill>
          <a:blip r:embed="rId2"/>
          <a:stretch/>
        </p:blipFill>
        <p:spPr>
          <a:xfrm>
            <a:off x="6632640" y="4786200"/>
            <a:ext cx="2017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853920" y="195120"/>
            <a:ext cx="7461360" cy="11829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2"/>
          <p:cNvSpPr/>
          <p:nvPr/>
        </p:nvSpPr>
        <p:spPr>
          <a:xfrm>
            <a:off x="642960" y="1428840"/>
            <a:ext cx="7643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дополнительных групповых и индивидуальных занятий с учащими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 на уроках проводить подготовку учащихся, совершенствовать методы и приёмы работы с текстовой информа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Маша и медведь.Маша и медведь"/>
          <p:cNvPicPr/>
          <p:nvPr/>
        </p:nvPicPr>
        <p:blipFill>
          <a:blip r:embed="rId2"/>
          <a:stretch/>
        </p:blipFill>
        <p:spPr>
          <a:xfrm>
            <a:off x="6429240" y="4500720"/>
            <a:ext cx="2143440" cy="214308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853920" y="3412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571680" y="1000080"/>
            <a:ext cx="792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классных родительских собраний по вопросам подготовки и участия в ВП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я родителей с нормативной базой и порядком проведения мониторин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консультации для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«горячей линии» для педагогов и родителей на школьном сайте, стенд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родителей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Маша и медведь."/>
          <p:cNvPicPr/>
          <p:nvPr/>
        </p:nvPicPr>
        <p:blipFill>
          <a:blip r:embed="rId2"/>
          <a:stretch/>
        </p:blipFill>
        <p:spPr>
          <a:xfrm>
            <a:off x="7572240" y="5286240"/>
            <a:ext cx="1309680" cy="130968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92160" y="195120"/>
            <a:ext cx="8843760" cy="11829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357120" y="1167120"/>
            <a:ext cx="8429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1. Составьте план подготовки по вашему предмету и расскажите о нем учащ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Дайте учащимся возможность оценить их достижения в уч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говорите с учащимися о ВПР слишком ча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Используйте при изучении учебного материала различные педагогические технологии, методы и при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«Скажи мне - и я забуду, учи меня - и я могу запомнить, вовлекай меня - и я научусь» (Б. Франк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аучите учащихся работать с критериями оценки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7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показывайте страха и беспокойства по поводу предстоящих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8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Хвалите свои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9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щайтесь с коллегами! Перенимайте опыт у своих колл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0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суждайте с учащимися важность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1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Поддерживайте интересы учащихся заниматься дополнительно по вашему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2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щайтесь с родителями и привлекайте их на свою сторону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839080" cy="1530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357120" y="1357200"/>
            <a:ext cx="8643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обходимо провести анализ типичных ошибок и затруднений, выявленных по результатам проведения предыдущих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 обучении семиклассников решению задач, необходимо не решать как можно больше задач, а учить обучающихся методам и приемам решения физ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с дополнительной литературой и интернет – источ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работка алгоритмов подготовки к ВПР по разным те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обучающимися как индивидуально, так и групп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тработка практических навыков по различным темам (лабораторные, практические работы и исследовательские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ратить внимание на знание терминов, законов, формул, единиц измерения по системе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133200" y="103320"/>
            <a:ext cx="8852040" cy="1334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357120" y="10627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писать перечень планируемых результатов по математике из основной образовательной программы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обрать несколько заданий для проверки того, насколько усвоен каждый из этих планируем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сти повторение по разделам учебной предмет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сти учёт выявленных пробелов для адресной помощи в ликвидации слабых сторон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подготовки к ВПР по математике рекомендовать ученикам и их родителям использовать ресурсы образовательных порт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133200" y="171360"/>
            <a:ext cx="8729640" cy="133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428760" y="1285920"/>
          <a:ext cx="8358120" cy="5033880"/>
        </p:xfrm>
        <a:graphic>
          <a:graphicData uri="http://schemas.openxmlformats.org/drawingml/2006/table">
            <a:tbl>
              <a:tblPr/>
              <a:tblGrid>
                <a:gridCol w="3666960"/>
                <a:gridCol w="1363680"/>
                <a:gridCol w="1279440"/>
                <a:gridCol w="1122480"/>
                <a:gridCol w="925560"/>
              </a:tblGrid>
              <a:tr h="3715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ероприят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 подготовке к ВП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7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и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Хим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8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ыла проведена предварительная работа: анализ ВПР прошлого года. Выявлены пробелы детей, которые устраняются по плану дополнительной рабочей программы 2023-2024 учебного  г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ыполняются раз в неделю проверочные работы, с целью обнаружения заданий, вызывающих сложн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неде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неде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2 нед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2 нед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 мере изучения нового материала во время уроков, новые навыки отрабатываются с помощью готовых заданий, подобных заданиям ВП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Задания по ВПР выполняются в отдельных тетрадях для повторения по всем направления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Организация работы на уроках так, чтобы подготовить учащихся к написанию ВПР как психологически, так и предмет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Использование в помощь сайт «Решу ВПР», где можно не только найти тренировочные задания, но и получить оценку, найти пояснения заданий, разъяснение ошибочных ответ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ериодическое обсуждение основных вопросов и инструкции, касающиеся ВПР. Правила заполнения блан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ссмотреть демонстрационный вариант и проговорить, какие задания уже могут выполнить ребята на данный мом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8588520" cy="1339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357120" y="1310040"/>
            <a:ext cx="850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1. В начале каждого урока провожу пятиминутки повторения, включающие фронтальное решение отдельных заданий с экрана. Использую работы, составленные учениками. Провожу тесты в форме ВПР. Предлагаю домашние задания на выполнение заданий из демоверсий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. Распечатка вариантов демоверсии на весь класс и на одном из занятий вместе с ребятами разбираем задания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3. Рекомендую детям во время проверочной работы обратить внимание на следу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4. Перед началом выполнения работы необходимо пробежать глазами весь материал, чтобы увидеть, какого типа задания в нем содержатся, это поможет настроиться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5. Затем внимательно просматривать весь текст каждого задания, чтобы понять его смысл (характерная ошибка во время проверочных работ - не дочитав до конца, по первым словам, учащиеся уже предполагают, ответ и торопятся его впис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6. Рекомендуется начинать с более легких заданий, чтобы не тратить на них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7. Если не знаешь ответа на вопрос или не уверен, пропусти его и отметь, чтобы потом к нему вер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08080" y="225360"/>
            <a:ext cx="88027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"/>
          <p:cNvSpPr/>
          <p:nvPr/>
        </p:nvSpPr>
        <p:spPr>
          <a:xfrm>
            <a:off x="428760" y="15001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Составьте план подготовки по вашему предмету и расскажите о нем уча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 Дайте учащимся возможность оценить их достижения в уч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Не говорите с учащимися о ВПР слишком ча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 Используйте при изучении учебного материала различные педагогические технологии, методы и при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Скажи мне - и я забуду, учи меня - и я могу запомнить, вовлекай меня - и я научу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Б. Франк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Научите учащихся работать с критериями оценк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81160" y="225360"/>
            <a:ext cx="8654760" cy="13478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357120" y="135720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е показывайте страха и беспокойства по поводу предстоящих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Хвалите своих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Общайтесь с коллег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Обсуждайте с учащимися важность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Поддерживайте внеучебные интерес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Общайтесь с родителями и привлекайте их на свою сторо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мишка.gif"/>
          <p:cNvPicPr/>
          <p:nvPr/>
        </p:nvPicPr>
        <p:blipFill>
          <a:blip r:embed="rId2"/>
          <a:stretch/>
        </p:blipFill>
        <p:spPr>
          <a:xfrm>
            <a:off x="7358040" y="5257800"/>
            <a:ext cx="1571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s://ds04.infourok.ru/uploads/ex/0687/00137afe-3aaa44ee/img2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j0354499.gif"/>
          <p:cNvPicPr/>
          <p:nvPr/>
        </p:nvPicPr>
        <p:blipFill>
          <a:blip r:embed="rId2"/>
          <a:stretch/>
        </p:blipFill>
        <p:spPr>
          <a:xfrm>
            <a:off x="6786720" y="5143680"/>
            <a:ext cx="192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250920" y="214200"/>
            <a:ext cx="6535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егодное проведение ВПР в результате позвол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чески подготовить учащихся к экзаменам в старших классах, в частности к ГИА и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количество и уровень знаний, которые были получены в течение пройденного года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 к систематическим занятиям в течение всех лет обучения, а не только в выпуск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ут видны недостатки учебной программы по проверяем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будут в курсе уровня знаний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ст возможность улучшить общую систему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21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14200" y="358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-сайты для подготовки ВП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357120" y="15717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vpr.statgrad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демоверсии ВПР по всем предметам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57120" y="207180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www.eduniko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щен «Банк заданий» - образцы заданий по все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357120" y="27147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 Н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285840" y="30002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testedu.ru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разовательные тес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357120" y="350028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easyen.ru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ом учительском порта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42920" y="11433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prtest.ru -  подготовка к ВПР 2024 (ВПР тес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3"/>
          <p:cNvSpPr/>
          <p:nvPr/>
        </p:nvSpPr>
        <p:spPr>
          <a:xfrm>
            <a:off x="285840" y="407196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sdamgia.ru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й портал для подготовки к ОГЭ, ЕГЭ,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285840" y="450072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ww.eduvpr.ru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ициальный сайт ВПР (СтатГра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0" y="500184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obrnadzor.gov.ru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ай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бр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395280" y="2928960"/>
            <a:ext cx="85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ПР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единства образовательного пространства РФ и поддержки Федерального государственного образовательного стандарта за счет предоставления образовательным организациям единых проверочных материалов и единых критериев оценивания учебных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010360" cy="1523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285840" y="1285920"/>
            <a:ext cx="8715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сильных и слабых сторон в подаче материала по определенному предмету и корректировка обучающе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процесса повышения квалификации педагогов на специальных 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ение для педагога и родителей образовательной траектории учащегося и текущего уровня образованности школы, класса, ученика по отношению к требованиям, установленным ФГ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risunoksolnyishko.gif"/>
          <p:cNvPicPr/>
          <p:nvPr/>
        </p:nvPicPr>
        <p:blipFill>
          <a:blip r:embed="rId2"/>
          <a:stretch/>
        </p:blipFill>
        <p:spPr>
          <a:xfrm>
            <a:off x="7786800" y="357120"/>
            <a:ext cx="115704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974880" y="347760"/>
            <a:ext cx="6529320" cy="1079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214200" y="100008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сихологически подготовить учащихся к будущим экзаменам в старше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рить объем знаний, полученный учениками за период обучения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 будут способствовать мотивации уче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ься ежегодно, а не только в выпускном классе нача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удут выявлены ошибки и недочеты в образовании по предметам: математике, русскому языку, окружающему м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одители смогут понять степень общей образованности свое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ПР будут способствовать оптимизации региональных программ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мишка.gif"/>
          <p:cNvPicPr/>
          <p:nvPr/>
        </p:nvPicPr>
        <p:blipFill>
          <a:blip r:embed="rId2"/>
          <a:stretch/>
        </p:blipFill>
        <p:spPr>
          <a:xfrm>
            <a:off x="8072280" y="5715000"/>
            <a:ext cx="1071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92160" y="195120"/>
            <a:ext cx="8918640" cy="11829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428760" y="1143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единые для всей страны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единые требования к процедуре проведени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-третьи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овременное выполнение работ школьниками всей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" descr="мишка.gif"/>
          <p:cNvPicPr/>
          <p:nvPr/>
        </p:nvPicPr>
        <p:blipFill>
          <a:blip r:embed="rId2"/>
          <a:stretch/>
        </p:blipFill>
        <p:spPr>
          <a:xfrm>
            <a:off x="6143760" y="45007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3095640" y="1857240"/>
            <a:ext cx="3168720" cy="19591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3286080" y="200016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лево 5"/>
          <p:cNvSpPr/>
          <p:nvPr/>
        </p:nvSpPr>
        <p:spPr>
          <a:xfrm>
            <a:off x="2214720" y="1785960"/>
            <a:ext cx="914400" cy="5763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6"/>
          <p:cNvSpPr/>
          <p:nvPr/>
        </p:nvSpPr>
        <p:spPr>
          <a:xfrm>
            <a:off x="6215040" y="1785960"/>
            <a:ext cx="722160" cy="5763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7"/>
          <p:cNvSpPr/>
          <p:nvPr/>
        </p:nvSpPr>
        <p:spPr>
          <a:xfrm>
            <a:off x="3071880" y="378612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0" y="1785960"/>
            <a:ext cx="221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6929280" y="178596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1285920" y="47973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         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14200" y="2142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дготовка к ВПР – это систематизированное повтор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лево 11"/>
          <p:cNvSpPr/>
          <p:nvPr/>
        </p:nvSpPr>
        <p:spPr>
          <a:xfrm>
            <a:off x="2214720" y="2643120"/>
            <a:ext cx="914400" cy="5763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12"/>
          <p:cNvSpPr/>
          <p:nvPr/>
        </p:nvSpPr>
        <p:spPr>
          <a:xfrm>
            <a:off x="6215040" y="2571840"/>
            <a:ext cx="722160" cy="576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13"/>
          <p:cNvSpPr/>
          <p:nvPr/>
        </p:nvSpPr>
        <p:spPr>
          <a:xfrm>
            <a:off x="5572080" y="378612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Рисунок 3" descr="https://ds04.infourok.ru/uploads/ex/0048/000989af-e5324120/img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920880" y="195120"/>
            <a:ext cx="7394400" cy="11829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"/>
          <p:cNvSpPr/>
          <p:nvPr/>
        </p:nvSpPr>
        <p:spPr>
          <a:xfrm>
            <a:off x="500040" y="9288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исать перечень планируемых результатов по предмету (физика, математика, информатика, биология, химия, географ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обрать несколько заданий для проверки того, насколько усвоен каждый из эти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сти повторение по разделам учебной предмет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сти учет выявленных пробелов для адресной помощи в ликвидации слабых сторон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018.gif"/>
          <p:cNvPicPr/>
          <p:nvPr/>
        </p:nvPicPr>
        <p:blipFill>
          <a:blip r:embed="rId2"/>
          <a:stretch/>
        </p:blipFill>
        <p:spPr>
          <a:xfrm>
            <a:off x="7746840" y="5143680"/>
            <a:ext cx="1397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2:45:29Z</dcterms:created>
  <dc:creator>Helen</dc:creator>
  <dc:description/>
  <dc:language>en-US</dc:language>
  <cp:lastModifiedBy>win10</cp:lastModifiedBy>
  <cp:lastPrinted>2017-04-05T16:07:32Z</cp:lastPrinted>
  <dcterms:modified xsi:type="dcterms:W3CDTF">2024-01-06T08:39:13Z</dcterms:modified>
  <cp:revision>172</cp:revision>
  <dc:subject/>
  <dc:title>Слайд 1</dc:title>
</cp:coreProperties>
</file>