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27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14.png" ContentType="image/png"/>
  <Override PartName="/ppt/media/image11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A98-A179-4ABA-87A5-918A86D4D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CC8-1B87-4B48-A7D8-1FE08EBE0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77A-EE7D-4EEB-ABB6-6DBE1A99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672-59E8-4E59-9225-DC9D663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A7A-DA5C-4627-ABF2-1CE70CAD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3D8-7096-4E27-91FD-A16BEBA4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171F-0069-4B9E-806F-E213C971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8B21-4A28-499C-B0B7-8848080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C2B-9174-4C11-B931-FBDAE237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D411-67DA-43E1-B717-89F0707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8DA9-5E23-4935-B424-C22089F2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20EB-630A-4F55-A035-5E0BAA06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6EB-BF11-42F8-81B3-30339A9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35B-2F80-4134-A68B-56FA9E7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EE15-503C-449A-A6E7-3AA3C20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F2D-2B89-4A07-8B53-972C32C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C00B-126E-4C75-AC6E-19DAD263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0D01-3EC3-4D20-AAD9-599995B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F6A-5A5F-4F77-AF34-D21753A4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D55F-A364-4CDE-8F8E-8F5729E9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78B3-5829-4DCB-9F98-A4B762B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11A3-2857-4A58-855D-6CE283E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233A-303B-4A1F-BBD8-51D69C16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603C-421E-476A-95D9-EC19B8D9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FED-43AB-4F06-8AB3-A1A7318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C819-EFBD-4130-9420-74635554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A0E9-8CA4-4DBD-A2A3-3CC97FA1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BB8F-A5E9-4A5F-9CBF-3A0279F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B073-34DA-4148-9BE3-AD6AFFD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6B9C-F22C-48EF-9ACB-0A5D1DF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1C9E-B31A-46DE-A8DE-00B9B95F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690E-6311-4E5D-BB61-EFB93CFB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217AB-F6E3-49F3-88D4-14409875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9B2A-5DA9-40AA-A64E-BB5A2614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CA0E9-71B5-4792-9547-AA0A3542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FBB-5A7D-4504-BEC6-D3091CFB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5982-47DA-4698-86C3-B822619A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7039-6D8B-4F43-951B-5113240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345B-23D5-4155-BB71-C056D00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6DCE-1E90-4E6A-AB1C-6E0C520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AA41-723A-4623-8957-1553084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4249-CA92-4D86-B470-F6152644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3226-1237-4084-BB71-44B2CE19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6D36-3522-4C03-B2CA-C7274D66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A72F-DE8F-4513-8BF9-83E9C1CC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EBE-7CD5-4887-8625-477831D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3C2-4246-4B1E-AD0E-6659D143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4CD-4743-4F11-AF7D-2CCCB36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4A9-A5F4-461F-93D2-7BE1BA7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DE9-9338-43A9-BBC9-2EC81C3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FF9-A5B3-4C74-B141-A0A07C676E4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D14-2830-4274-A4D8-5DDEA07DA97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D1C1-E422-4235-8AFD-193BC9B1FFE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3AD0-F518-467D-917A-B51A80E347B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33200" y="341280"/>
            <a:ext cx="9017280" cy="6156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j0354499.gif"/>
          <p:cNvPicPr/>
          <p:nvPr/>
        </p:nvPicPr>
        <p:blipFill>
          <a:blip r:embed="rId2"/>
          <a:stretch/>
        </p:blipFill>
        <p:spPr>
          <a:xfrm>
            <a:off x="428760" y="3714840"/>
            <a:ext cx="192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8961480" cy="15602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нестандартных заданий сформулированных в нетрадиционной форме: на уроках и во внеурочное врем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дистанционных олимпиадах по предмет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пробных проверочных рабо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3" descr="flower.jpg"/>
          <p:cNvPicPr/>
          <p:nvPr/>
        </p:nvPicPr>
        <p:blipFill>
          <a:blip r:embed="rId2"/>
          <a:stretch/>
        </p:blipFill>
        <p:spPr>
          <a:xfrm>
            <a:off x="6632640" y="4786200"/>
            <a:ext cx="2017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853920" y="195120"/>
            <a:ext cx="7461360" cy="11829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2"/>
          <p:cNvSpPr/>
          <p:nvPr/>
        </p:nvSpPr>
        <p:spPr>
          <a:xfrm>
            <a:off x="642960" y="1428840"/>
            <a:ext cx="7643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дополнительных групповых и индивидуальных занятий с учащими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 на уроках проводить подготовку учащихся, совершенствовать методы и приёмы работы с текстовой информа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Маша и медведь.Маша и медведь"/>
          <p:cNvPicPr/>
          <p:nvPr/>
        </p:nvPicPr>
        <p:blipFill>
          <a:blip r:embed="rId2"/>
          <a:stretch/>
        </p:blipFill>
        <p:spPr>
          <a:xfrm>
            <a:off x="6429240" y="4500720"/>
            <a:ext cx="2143440" cy="214308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853920" y="3412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571680" y="1000080"/>
            <a:ext cx="792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классных родительских собраний по вопросам подготовки и участия в ВП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я родителей с нормативной базой и порядком проведения мониторин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консультации для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«горячей линии» для педагогов и родителей на школьном сайте, стенд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родителей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Маша и медведь."/>
          <p:cNvPicPr/>
          <p:nvPr/>
        </p:nvPicPr>
        <p:blipFill>
          <a:blip r:embed="rId2"/>
          <a:stretch/>
        </p:blipFill>
        <p:spPr>
          <a:xfrm>
            <a:off x="7572240" y="5286240"/>
            <a:ext cx="1309680" cy="130968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92160" y="195120"/>
            <a:ext cx="8843760" cy="11829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357120" y="1167120"/>
            <a:ext cx="8429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1. Составьте план подготовки по вашему предмету и расскажите о нем учащ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Дайте учащимся возможность оценить их достижения в уч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говорите с учащимися о ВПР слишком ча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Используйте при изучении учебного материала различные педагогические технологии, методы и при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«Скажи мне - и я забуду, учи меня - и я могу запомнить, вовлекай меня - и я научусь» (Б. Франк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аучите учащихся работать с критериями оценки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7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показывайте страха и беспокойства по поводу предстоящих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8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Хвалите свои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9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щайтесь с коллегами! Перенимайте опыт у своих колл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0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суждайте с учащимися важность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1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Поддерживайте интересы учащихся заниматься дополнительно по вашему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2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щайтесь с родителями и привлекайте их на свою сторону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839080" cy="1530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357120" y="1357200"/>
            <a:ext cx="8643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обходимо провести анализ типичных ошибок и затруднений, выявленных по результатам проведения предыдущих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 обучении семиклассников решению задач, необходимо не решать как можно больше задач, а учить обучающихся методам и приемам решения физ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с дополнительной литературой и интернет – источ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работка алгоритмов подготовки к ВПР по разным те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обучающимися как индивидуально, так и групп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тработка практических навыков по различным темам (лабораторные, практические работы и исследовательские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ратить внимание на знание терминов, законов, формул, единиц измерения по системе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133200" y="103320"/>
            <a:ext cx="8852040" cy="1334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357120" y="10627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писать перечень планируемых результатов по математике из основной образовательной программы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обрать несколько заданий для проверки того, насколько усвоен каждый из этих планируем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сти повторение по разделам учебной предмет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сти учёт выявленных пробелов для адресной помощи в ликвидации слабых сторон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подготовки к ВПР по математике рекомендовать ученикам и их родителям использовать ресурсы образовательных порт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133200" y="171360"/>
            <a:ext cx="8729640" cy="133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428760" y="1285920"/>
          <a:ext cx="8358120" cy="5033880"/>
        </p:xfrm>
        <a:graphic>
          <a:graphicData uri="http://schemas.openxmlformats.org/drawingml/2006/table">
            <a:tbl>
              <a:tblPr/>
              <a:tblGrid>
                <a:gridCol w="3666960"/>
                <a:gridCol w="1363680"/>
                <a:gridCol w="1279440"/>
                <a:gridCol w="1122480"/>
                <a:gridCol w="925560"/>
              </a:tblGrid>
              <a:tr h="3715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ероприят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 подготовке к ВП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7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и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Хим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8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ыла проведена предварительная работа: анализ ВПР прошлого года. Выявлены пробелы детей, которые устраняются по плану дополнительной рабочей программы 2023-2024 учебного  г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ыполняются раз в неделю проверочные работы, с целью обнаружения заданий, вызывающих сложн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неде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неде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2 нед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2 нед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 мере изучения нового материала во время уроков, новые навыки отрабатываются с помощью готовых заданий, подобных заданиям ВП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Задания по ВПР выполняются в отдельных тетрадях для повторения по всем направления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Организация работы на уроках так, чтобы подготовить учащихся к написанию ВПР как психологически, так и предмет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Использование в помощь сайт «Решу ВПР», где можно не только найти тренировочные задания, но и получить оценку, найти пояснения заданий, разъяснение ошибочных ответ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ериодическое обсуждение основных вопросов и инструкции, касающиеся ВПР. Правила заполнения блан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ссмотреть демонстрационный вариант и проговорить, какие задания уже могут выполнить ребята на данный мом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8588520" cy="1339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357120" y="1310040"/>
            <a:ext cx="850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1. В начале каждого урока провожу пятиминутки повторения, включающие фронтальное решение отдельных заданий с экрана. Использую работы, составленные учениками. Провожу тесты в форме ВПР. Предлагаю домашние задания на выполнение заданий из демоверсий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. Распечатка вариантов демоверсии на весь класс и на одном из занятий вместе с ребятами разбираем задания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3. Рекомендую детям во время проверочной работы обратить внимание на следу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4. Перед началом выполнения работы необходимо пробежать глазами весь материал, чтобы увидеть, какого типа задания в нем содержатся, это поможет настроиться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5. Затем внимательно просматривать весь текст каждого задания, чтобы понять его смысл (характерная ошибка во время проверочных работ - не дочитав до конца, по первым словам, учащиеся уже предполагают, ответ и торопятся его впис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6. Рекомендуется начинать с более легких заданий, чтобы не тратить на них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7. Если не знаешь ответа на вопрос или не уверен, пропусти его и отметь, чтобы потом к нему вер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08080" y="225360"/>
            <a:ext cx="88027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"/>
          <p:cNvSpPr/>
          <p:nvPr/>
        </p:nvSpPr>
        <p:spPr>
          <a:xfrm>
            <a:off x="428760" y="15001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Составьте план подготовки по вашему предмету и расскажите о нем уча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 Дайте учащимся возможность оценить их достижения в уч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Не говорите с учащимися о ВПР слишком ча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 Используйте при изучении учебного материала различные педагогические технологии, методы и при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Скажи мне - и я забуду, учи меня - и я могу запомнить, вовлекай меня - и я научу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Б. Франк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Научите учащихся работать с критериями оценк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81160" y="225360"/>
            <a:ext cx="8654760" cy="13478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357120" y="135720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е показывайте страха и беспокойства по поводу предстоящих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Хвалите своих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Общайтесь с коллег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Обсуждайте с учащимися важность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Поддерживайте внеучебные интерес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Общайтесь с родителями и привлекайте их на свою сторо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мишка.gif"/>
          <p:cNvPicPr/>
          <p:nvPr/>
        </p:nvPicPr>
        <p:blipFill>
          <a:blip r:embed="rId2"/>
          <a:stretch/>
        </p:blipFill>
        <p:spPr>
          <a:xfrm>
            <a:off x="7358040" y="5257800"/>
            <a:ext cx="1571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s://ds04.infourok.ru/uploads/ex/0687/00137afe-3aaa44ee/img2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j0354499.gif"/>
          <p:cNvPicPr/>
          <p:nvPr/>
        </p:nvPicPr>
        <p:blipFill>
          <a:blip r:embed="rId2"/>
          <a:stretch/>
        </p:blipFill>
        <p:spPr>
          <a:xfrm>
            <a:off x="6786720" y="5143680"/>
            <a:ext cx="192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250920" y="214200"/>
            <a:ext cx="6535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егодное проведение ВПР в результате позвол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чески подготовить учащихся к экзаменам в старших классах, в частности к ГИА и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количество и уровень знаний, которые были получены в течение пройденного года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 к систематическим занятиям в течение всех лет обучения, а не только в выпуск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ут видны недостатки учебной программы по проверяем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будут в курсе уровня знаний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ст возможность улучшить общую систему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21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14200" y="358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-сайты для подготовки ВП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357120" y="15717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vpr.statgrad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демоверсии ВПР по всем предметам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57120" y="207180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www.eduniko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щен «Банк заданий» - образцы заданий по все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357120" y="27147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 Н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285840" y="30002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testedu.ru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разовательные тес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357120" y="350028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easyen.ru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ом учительском порта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42920" y="11433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prtest.ru -  подготовка к ВПР 2024 (ВПР тес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3"/>
          <p:cNvSpPr/>
          <p:nvPr/>
        </p:nvSpPr>
        <p:spPr>
          <a:xfrm>
            <a:off x="285840" y="407196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sdamgia.ru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й портал для подготовки к ОГЭ, ЕГЭ,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285840" y="450072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ww.eduvpr.ru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ициальный сайт ВПР (СтатГра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0" y="500184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obrnadzor.gov.ru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ай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бр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395280" y="2928960"/>
            <a:ext cx="85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ПР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единства образовательного пространства РФ и поддержки Федерального государственного образовательного стандарта за счет предоставления образовательным организациям единых проверочных материалов и единых критериев оценивания учебных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010360" cy="1523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285840" y="1285920"/>
            <a:ext cx="8715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сильных и слабых сторон в подаче материала по определенному предмету и корректировка обучающе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процесса повышения квалификации педагогов на специальных 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ение для педагога и родителей образовательной траектории учащегося и текущего уровня образованности школы, класса, ученика по отношению к требованиям, установленным ФГ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risunoksolnyishko.gif"/>
          <p:cNvPicPr/>
          <p:nvPr/>
        </p:nvPicPr>
        <p:blipFill>
          <a:blip r:embed="rId2"/>
          <a:stretch/>
        </p:blipFill>
        <p:spPr>
          <a:xfrm>
            <a:off x="7786800" y="357120"/>
            <a:ext cx="115704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974880" y="347760"/>
            <a:ext cx="6529320" cy="1079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214200" y="100008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сихологически подготовить учащихся к будущим экзаменам в старше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рить объем знаний, полученный учениками за период обучения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 будут способствовать мотивации уче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ься ежегодно, а не только в выпускном классе нача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удут выявлены ошибки и недочеты в образовании по предметам: математике, русскому языку, окружающему м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одители смогут понять степень общей образованности свое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ПР будут способствовать оптимизации региональных программ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мишка.gif"/>
          <p:cNvPicPr/>
          <p:nvPr/>
        </p:nvPicPr>
        <p:blipFill>
          <a:blip r:embed="rId2"/>
          <a:stretch/>
        </p:blipFill>
        <p:spPr>
          <a:xfrm>
            <a:off x="8072280" y="5715000"/>
            <a:ext cx="1071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92160" y="195120"/>
            <a:ext cx="8918640" cy="11829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428760" y="1143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единые для всей страны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единые требования к процедуре проведени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-третьи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овременное выполнение работ школьниками всей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" descr="мишка.gif"/>
          <p:cNvPicPr/>
          <p:nvPr/>
        </p:nvPicPr>
        <p:blipFill>
          <a:blip r:embed="rId2"/>
          <a:stretch/>
        </p:blipFill>
        <p:spPr>
          <a:xfrm>
            <a:off x="6143760" y="45007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3095640" y="1857240"/>
            <a:ext cx="3168720" cy="19591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3286080" y="200016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лево 5"/>
          <p:cNvSpPr/>
          <p:nvPr/>
        </p:nvSpPr>
        <p:spPr>
          <a:xfrm>
            <a:off x="2214720" y="1785960"/>
            <a:ext cx="914400" cy="5763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6"/>
          <p:cNvSpPr/>
          <p:nvPr/>
        </p:nvSpPr>
        <p:spPr>
          <a:xfrm>
            <a:off x="6215040" y="1785960"/>
            <a:ext cx="722160" cy="5763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7"/>
          <p:cNvSpPr/>
          <p:nvPr/>
        </p:nvSpPr>
        <p:spPr>
          <a:xfrm>
            <a:off x="3071880" y="378612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0" y="1785960"/>
            <a:ext cx="221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6929280" y="178596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1285920" y="47973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         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14200" y="2142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дготовка к ВПР – это систематизированное повтор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лево 11"/>
          <p:cNvSpPr/>
          <p:nvPr/>
        </p:nvSpPr>
        <p:spPr>
          <a:xfrm>
            <a:off x="2214720" y="2643120"/>
            <a:ext cx="914400" cy="5763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12"/>
          <p:cNvSpPr/>
          <p:nvPr/>
        </p:nvSpPr>
        <p:spPr>
          <a:xfrm>
            <a:off x="6215040" y="2571840"/>
            <a:ext cx="722160" cy="576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13"/>
          <p:cNvSpPr/>
          <p:nvPr/>
        </p:nvSpPr>
        <p:spPr>
          <a:xfrm>
            <a:off x="5572080" y="378612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Рисунок 3" descr="https://ds04.infourok.ru/uploads/ex/0048/000989af-e5324120/img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920880" y="195120"/>
            <a:ext cx="7394400" cy="11829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"/>
          <p:cNvSpPr/>
          <p:nvPr/>
        </p:nvSpPr>
        <p:spPr>
          <a:xfrm>
            <a:off x="500040" y="9288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исать перечень планируемых результатов по предмету (физика, математика, информатика, биология, химия, географ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обрать несколько заданий для проверки того, насколько усвоен каждый из эти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сти повторение по разделам учебной предмет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сти учет выявленных пробелов для адресной помощи в ликвидации слабых сторон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018.gif"/>
          <p:cNvPicPr/>
          <p:nvPr/>
        </p:nvPicPr>
        <p:blipFill>
          <a:blip r:embed="rId2"/>
          <a:stretch/>
        </p:blipFill>
        <p:spPr>
          <a:xfrm>
            <a:off x="7746840" y="5143680"/>
            <a:ext cx="1397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2:45:29Z</dcterms:created>
  <dc:creator>Helen</dc:creator>
  <dc:description/>
  <dc:language>en-US</dc:language>
  <cp:lastModifiedBy>win10</cp:lastModifiedBy>
  <cp:lastPrinted>2017-04-05T16:07:32Z</cp:lastPrinted>
  <dcterms:modified xsi:type="dcterms:W3CDTF">2024-01-06T08:39:13Z</dcterms:modified>
  <cp:revision>172</cp:revision>
  <dc:subject/>
  <dc:title>Слайд 1</dc:title>
</cp:coreProperties>
</file>