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jpeg" ContentType="image/jpeg"/>
  <Override PartName="/ppt/media/image21.png" ContentType="image/png"/>
  <Override PartName="/ppt/media/image19.jpeg" ContentType="image/jpeg"/>
  <Override PartName="/ppt/media/image25.png" ContentType="image/png"/>
  <Override PartName="/ppt/media/image20.png" ContentType="image/png"/>
  <Override PartName="/ppt/media/image27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4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7.png" ContentType="image/png"/>
  <Override PartName="/ppt/media/image8.png" ContentType="image/png"/>
  <Override PartName="/ppt/media/image14.png" ContentType="image/png"/>
  <Override PartName="/ppt/media/image11.gif" ContentType="image/gif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image15.png" ContentType="image/png"/>
  <Override PartName="/ppt/media/image16.png" ContentType="image/png"/>
  <Override PartName="/ppt/media/image17.gif" ContentType="image/gif"/>
  <Override PartName="/ppt/media/image22.png" ContentType="image/png"/>
  <Override PartName="/ppt/media/image1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84DC-7487-46DA-BA5A-1D1029534C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A292-132C-435B-BB01-453F024C1A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127D-C9BC-4376-861C-74C4DCF3F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5C87-28FF-4C8B-BB08-A2C2A130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819F-AC5E-4237-A5BF-C8C4B73B9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464F-2E30-4774-855D-9C4062CC9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C99F-9BAB-44F3-AC8E-2B61E0DEB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F20E-DAB0-45D8-BF1E-9A623753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949F-29C2-49EC-9838-34092366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855F-2442-4B37-BB85-D73CE946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D540-2B37-4B18-888B-7A56AD6C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5822-40B4-4E27-9BF1-6C0DA3E9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6B13-D95F-43BE-9D19-59C13C03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831C-DA13-4553-825A-2B629096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5D13-71D9-4D32-B8A9-1D568E84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892B-FC24-46B2-B808-BE13980D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9303-9F88-4685-87F5-CFACC42D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4B41-3B35-4A6A-93A2-594FC9C17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B155-D180-4D78-AC69-6167E769F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CF972-D389-425F-802D-936C1E267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CBF04-0215-41F9-9DB3-B6FFC248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C951D-8693-4288-B37F-91C4E2C0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4B91E-1443-4FCA-883F-609915D8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E4340-358E-465E-A404-3A044A7A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4898-FEBB-4016-8C0B-2F28A00D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FC3FE-0A5C-449E-80A0-B4871366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0D169-7680-48A7-B888-6B1137E7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6A6E1-B1F2-4D4F-91C8-C98F35C6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32A2A-6A2B-43EF-91AC-61506E2B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4B9C1-B081-4FA8-AA3F-7FF8C9B8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208C3-68FD-4AB2-B30E-6E9512E36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EE80C-560D-4411-BB59-22E400A68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3BDF0-B6E0-42F5-BDD8-39CE9FB8F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051B1-0F3A-40E5-B01F-6ED1DD92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313EC-B390-4839-B226-CA17F882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9E9E-53F1-4B87-B74E-BD336C7D7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4FE63-20D1-47F6-A664-25B960DC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26457-D40C-437A-85A4-90E0A69B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18F60-8107-409F-B122-18189DA3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DF9A6-61E1-4623-9B9B-EBF88A89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D6ACA-910A-47C7-9060-6F4EE56E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0BDC7-2A05-47B0-9283-5A471E64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44695-98F1-43CD-8D57-D5EF91BC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71A10-422B-4CC8-BD4B-E22F2663A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472E3-4931-4A6A-84DD-336FF55B9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0B6E-FEBA-4773-BCFC-9382F5DC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615B-C9CB-4DBE-A4DF-C8FDC9B5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BE66-6AE3-40A3-8588-8C15A0F1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010B-D274-4759-8825-29819388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AC19-E7ED-4053-AE23-6C47DB94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D108-14E8-4FEE-B8A5-74B19FCCB96D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4EA7-604E-4702-9AD2-67081C194320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E6FC-23AB-478B-AAF0-1915114B9D66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20DD-C9C2-4DE5-80AD-4D7C66DA01F2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133200" y="341280"/>
            <a:ext cx="9017280" cy="615636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5" descr="j0354499.gif"/>
          <p:cNvPicPr/>
          <p:nvPr/>
        </p:nvPicPr>
        <p:blipFill>
          <a:blip r:embed="rId2"/>
          <a:stretch/>
        </p:blipFill>
        <p:spPr>
          <a:xfrm>
            <a:off x="428760" y="3714840"/>
            <a:ext cx="192852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133200" y="420840"/>
            <a:ext cx="8961480" cy="156024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оугольник 2"/>
          <p:cNvSpPr/>
          <p:nvPr/>
        </p:nvSpPr>
        <p:spPr>
          <a:xfrm>
            <a:off x="500040" y="1643040"/>
            <a:ext cx="82868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ение нестандартных заданий сформулированных в нетрадиционной форме: на уроках и во внеурочное врем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дистанционных олимпиадах по предметам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дение пробных проверочных рабо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сихологическая подготовка обучающихся к проведению ВП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Рисунок 3" descr="flower.jpg"/>
          <p:cNvPicPr/>
          <p:nvPr/>
        </p:nvPicPr>
        <p:blipFill>
          <a:blip r:embed="rId2"/>
          <a:stretch/>
        </p:blipFill>
        <p:spPr>
          <a:xfrm>
            <a:off x="6632640" y="4786200"/>
            <a:ext cx="20178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Заголовок 1" descr=""/>
          <p:cNvPicPr/>
          <p:nvPr/>
        </p:nvPicPr>
        <p:blipFill>
          <a:blip r:embed="rId1"/>
          <a:stretch/>
        </p:blipFill>
        <p:spPr>
          <a:xfrm>
            <a:off x="853920" y="195120"/>
            <a:ext cx="7461360" cy="118296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2"/>
          <p:cNvSpPr/>
          <p:nvPr/>
        </p:nvSpPr>
        <p:spPr>
          <a:xfrm>
            <a:off x="642960" y="1428840"/>
            <a:ext cx="764388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дение дополнительных групповых и индивидуальных занятий с учащимис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жедневно на уроках проводить подготовку учащихся, совершенствовать методы и приёмы работы с текстовой информацие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психологическая подготовка обучающихся к проведению ВП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Маша и медведь.Маша и медведь"/>
          <p:cNvPicPr/>
          <p:nvPr/>
        </p:nvPicPr>
        <p:blipFill>
          <a:blip r:embed="rId2"/>
          <a:stretch/>
        </p:blipFill>
        <p:spPr>
          <a:xfrm>
            <a:off x="6429240" y="4500720"/>
            <a:ext cx="2143440" cy="2143080"/>
          </a:xfrm>
          <a:prstGeom prst="rect">
            <a:avLst/>
          </a:prstGeom>
          <a:ln cap="sq" w="38160">
            <a:solidFill>
              <a:srgbClr val="81d31a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1" descr=""/>
          <p:cNvPicPr/>
          <p:nvPr/>
        </p:nvPicPr>
        <p:blipFill>
          <a:blip r:embed="rId1"/>
          <a:stretch/>
        </p:blipFill>
        <p:spPr>
          <a:xfrm>
            <a:off x="853920" y="34128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61" name="Прямоугольник 2"/>
          <p:cNvSpPr/>
          <p:nvPr/>
        </p:nvSpPr>
        <p:spPr>
          <a:xfrm>
            <a:off x="571680" y="1000080"/>
            <a:ext cx="7929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дение классных родительских собраний по вопросам подготовки и участия в ВП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знакомления родителей с нормативной базой и порядком проведения мониторинг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ые консультации для родителе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я «горячей линии» для педагогов и родителей на школьном сайте, стенд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сихологическая подготовка родителей к проведению ВП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4" descr="Маша и медведь."/>
          <p:cNvPicPr/>
          <p:nvPr/>
        </p:nvPicPr>
        <p:blipFill>
          <a:blip r:embed="rId2"/>
          <a:stretch/>
        </p:blipFill>
        <p:spPr>
          <a:xfrm>
            <a:off x="7572240" y="5286240"/>
            <a:ext cx="1309680" cy="1309680"/>
          </a:xfrm>
          <a:prstGeom prst="rect">
            <a:avLst/>
          </a:prstGeom>
          <a:ln cap="sq" w="38160">
            <a:solidFill>
              <a:srgbClr val="81d31a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Заголовок 1" descr=""/>
          <p:cNvPicPr/>
          <p:nvPr/>
        </p:nvPicPr>
        <p:blipFill>
          <a:blip r:embed="rId1"/>
          <a:stretch/>
        </p:blipFill>
        <p:spPr>
          <a:xfrm>
            <a:off x="92160" y="195120"/>
            <a:ext cx="8843760" cy="118296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1"/>
          <p:cNvSpPr/>
          <p:nvPr/>
        </p:nvSpPr>
        <p:spPr>
          <a:xfrm>
            <a:off x="357120" y="1167120"/>
            <a:ext cx="84297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1. Составьте план подготовки по вашему предмету и расскажите о нем учащим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Calibri"/>
              </a:rPr>
              <a:t>2. </a:t>
            </a: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Дайте учащимся возможность оценить их достижения в учеб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3. </a:t>
            </a: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Не говорите с учащимися о ВПР слишком час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4. </a:t>
            </a: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Используйте при изучении учебного материала различные педагогические технологии, методы и при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5. </a:t>
            </a: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«Скажи мне - и я забуду, учи меня - и я могу запомнить, вовлекай меня - и я научусь» (Б. Франкли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6. </a:t>
            </a: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Научите учащихся работать с критериями оценки зад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7. </a:t>
            </a: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Не показывайте страха и беспокойства по поводу предстоящих ВП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8. </a:t>
            </a: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Хвалите своих уче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9. </a:t>
            </a: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Общайтесь с коллегами! Перенимайте опыт у своих колле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10. </a:t>
            </a: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Обсуждайте с учащимися важность здорового образа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11. </a:t>
            </a: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Поддерживайте интересы учащихся заниматься дополнительно по вашему предме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12. </a:t>
            </a:r>
            <a:r>
              <a:rPr b="1" i="1" lang="ru-RU" sz="1800" spc="-1" strike="noStrike">
                <a:solidFill>
                  <a:srgbClr val="0070c0"/>
                </a:solidFill>
                <a:latin typeface="Arial"/>
              </a:rPr>
              <a:t>Общайтесь с родителями и привлекайте их на свою сторону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Заголовок 1" descr=""/>
          <p:cNvPicPr/>
          <p:nvPr/>
        </p:nvPicPr>
        <p:blipFill>
          <a:blip r:embed="rId1"/>
          <a:stretch/>
        </p:blipFill>
        <p:spPr>
          <a:xfrm>
            <a:off x="92160" y="152280"/>
            <a:ext cx="8839080" cy="153036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оугольник 2"/>
          <p:cNvSpPr/>
          <p:nvPr/>
        </p:nvSpPr>
        <p:spPr>
          <a:xfrm>
            <a:off x="357120" y="1357200"/>
            <a:ext cx="86439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Необходимо провести анализ типичных ошибок и затруднений, выявленных по результатам проведения предыдущих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и обучении семиклассников решению задач, необходимо не решать как можно больше задач, а учить обучающихся методам и приемам решения физических зада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Работа с дополнительной литературой и интернет – источни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Разработка алгоритмов подготовки к ВПР по разным тем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Работа обучающимися как индивидуально, так и групп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Отработка практических навыков по различным темам (лабораторные, практические работы и исследовательские работ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Обратить внимание на знание терминов, законов, формул, единиц измерения по системе С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Заголовок 1" descr=""/>
          <p:cNvPicPr/>
          <p:nvPr/>
        </p:nvPicPr>
        <p:blipFill>
          <a:blip r:embed="rId1"/>
          <a:stretch/>
        </p:blipFill>
        <p:spPr>
          <a:xfrm>
            <a:off x="133200" y="103320"/>
            <a:ext cx="8852040" cy="133488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5"/>
          <p:cNvSpPr/>
          <p:nvPr/>
        </p:nvSpPr>
        <p:spPr>
          <a:xfrm>
            <a:off x="357120" y="1062720"/>
            <a:ext cx="85010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Times New Roman"/>
              </a:rPr>
              <a:t>Выписать перечень планируемых результатов по математике из основной образовательной программы среднего общего обра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одобрать несколько заданий для проверки того, насколько усвоен каждый из этих планируемых результ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Провести повторение по разделам учебной предметной програм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ыполнить несколько проверочных работ на все разделы программы, вместе обсуждать возможные стратегии выполнения работы, особенности формулировок заданий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ести учёт выявленных пробелов для адресной помощи в ликвидации слабых сторон обучаю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Для подготовки к ВПР по математике рекомендовать ученикам и их родителям использовать ресурсы образовательных порт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70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Заголовок 1" descr=""/>
          <p:cNvPicPr/>
          <p:nvPr/>
        </p:nvPicPr>
        <p:blipFill>
          <a:blip r:embed="rId1"/>
          <a:stretch/>
        </p:blipFill>
        <p:spPr>
          <a:xfrm>
            <a:off x="133200" y="171360"/>
            <a:ext cx="8729640" cy="133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0" name=""/>
          <p:cNvGraphicFramePr/>
          <p:nvPr/>
        </p:nvGraphicFramePr>
        <p:xfrm>
          <a:off x="428760" y="1285920"/>
          <a:ext cx="8358120" cy="5033880"/>
        </p:xfrm>
        <a:graphic>
          <a:graphicData uri="http://schemas.openxmlformats.org/drawingml/2006/table">
            <a:tbl>
              <a:tblPr/>
              <a:tblGrid>
                <a:gridCol w="3666960"/>
                <a:gridCol w="1363680"/>
                <a:gridCol w="1279440"/>
                <a:gridCol w="1122480"/>
                <a:gridCol w="925560"/>
              </a:tblGrid>
              <a:tr h="371520"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Мероприяти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по подготовке к ВП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Математик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6 клас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Математик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7 клас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Биологи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6 клас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Хими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8 клас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Была проведена предварительная работа: анализ ВПР прошлого года. Выявлены пробелы детей, которые устраняются по плану дополнительной рабочей программы 2023-2024 учебного  года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Выполняются раз в неделю проверочные работы, с целью обнаружения заданий, вызывающих сложности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Раз в неделю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Раз в неделю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Раз в 2 нед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Раз в 2 недел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По мере изучения нового материала во время уроков, новые навыки отрабатываются с помощью готовых заданий, подобных заданиям ВП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Задания по ВПР выполняются в отдельных тетрадях для повторения по всем направлениям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Организация работы на уроках так, чтобы подготовить учащихся к написанию ВПР как психологически, так и предметно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Использование в помощь сайт «Решу ВПР», где можно не только найти тренировочные задания, но и получить оценку, найти пояснения заданий, разъяснение ошибочных ответо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Периодическое обсуждение основных вопросов и инструкции, касающиеся ВПР. Правила заполнения бланко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44640" rIns="44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Рассмотреть демонстрационный вариант и проговорить, какие задания уже могут выполнить ребята на данный момен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70c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Заголовок 1" descr=""/>
          <p:cNvPicPr/>
          <p:nvPr/>
        </p:nvPicPr>
        <p:blipFill>
          <a:blip r:embed="rId1"/>
          <a:stretch/>
        </p:blipFill>
        <p:spPr>
          <a:xfrm>
            <a:off x="201600" y="244440"/>
            <a:ext cx="8588520" cy="133992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3"/>
          <p:cNvSpPr/>
          <p:nvPr/>
        </p:nvSpPr>
        <p:spPr>
          <a:xfrm>
            <a:off x="357120" y="1310040"/>
            <a:ext cx="85010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1. В начале каждого урока провожу пятиминутки повторения, включающие фронтальное решение отдельных заданий с экрана. Использую работы, составленные учениками. Провожу тесты в форме ВПР. Предлагаю домашние задания на выполнение заданий из демоверсий ВП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2. Распечатка вариантов демоверсии на весь класс и на одном из занятий вместе с ребятами разбираем задания ВП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3. Рекомендую детям во время проверочной работы обратить внимание на следующе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4. Перед началом выполнения работы необходимо пробежать глазами весь материал, чтобы увидеть, какого типа задания в нем содержатся, это поможет настроиться на рабо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5. Затем внимательно просматривать весь текст каждого задания, чтобы понять его смысл (характерная ошибка во время проверочных работ - не дочитав до конца, по первым словам, учащиеся уже предполагают, ответ и торопятся его вписат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6. Рекомендуется начинать с более легких заданий, чтобы не тратить на них врем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7. Если не знаешь ответа на вопрос или не уверен, пропусти его и отметь, чтобы потом к нему верну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Заголовок 1" descr=""/>
          <p:cNvPicPr/>
          <p:nvPr/>
        </p:nvPicPr>
        <p:blipFill>
          <a:blip r:embed="rId1"/>
          <a:stretch/>
        </p:blipFill>
        <p:spPr>
          <a:xfrm>
            <a:off x="208080" y="225360"/>
            <a:ext cx="8802720" cy="1347840"/>
          </a:xfrm>
          <a:prstGeom prst="rect">
            <a:avLst/>
          </a:prstGeom>
          <a:ln w="0">
            <a:noFill/>
          </a:ln>
        </p:spPr>
      </p:pic>
      <p:sp>
        <p:nvSpPr>
          <p:cNvPr id="274" name="Прямоугольник 2"/>
          <p:cNvSpPr/>
          <p:nvPr/>
        </p:nvSpPr>
        <p:spPr>
          <a:xfrm>
            <a:off x="428760" y="1500120"/>
            <a:ext cx="83581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1. Составьте план подготовки по вашему предмету и расскажите о нем учащим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2.  Дайте учащимся возможность оценить их достижения в уче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3. Не говорите с учащимися о ВПР слишком час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4.  Используйте при изучении учебного материала различные педагогические технологии, методы и при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«Скажи мне - и я забуду, учи меня - и я могу запомнить, вовлекай меня - и я научус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(Б. Франкли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6. Научите учащихся работать с критериями оценки зад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Заголовок 1" descr=""/>
          <p:cNvPicPr/>
          <p:nvPr/>
        </p:nvPicPr>
        <p:blipFill>
          <a:blip r:embed="rId1"/>
          <a:stretch/>
        </p:blipFill>
        <p:spPr>
          <a:xfrm>
            <a:off x="281160" y="225360"/>
            <a:ext cx="8654760" cy="1347840"/>
          </a:xfrm>
          <a:prstGeom prst="rect">
            <a:avLst/>
          </a:prstGeom>
          <a:ln w="0">
            <a:noFill/>
          </a:ln>
        </p:spPr>
      </p:pic>
      <p:sp>
        <p:nvSpPr>
          <p:cNvPr id="276" name="Прямоугольник 2"/>
          <p:cNvSpPr/>
          <p:nvPr/>
        </p:nvSpPr>
        <p:spPr>
          <a:xfrm>
            <a:off x="357120" y="1357200"/>
            <a:ext cx="84297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. Не показывайте страха и беспокойства по поводу предстоящих ВП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. Хвалите своих уче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. Общайтесь с коллегам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. Обсуждайте с учащимися важность здорового образа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1. Поддерживайте внеучебные интересы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. Общайтесь с родителями и привлекайте их на свою сторон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Рисунок 5" descr="мишка.gif"/>
          <p:cNvPicPr/>
          <p:nvPr/>
        </p:nvPicPr>
        <p:blipFill>
          <a:blip r:embed="rId2"/>
          <a:stretch/>
        </p:blipFill>
        <p:spPr>
          <a:xfrm>
            <a:off x="7358040" y="5257800"/>
            <a:ext cx="157176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Picture 2" descr="https://ds04.infourok.ru/uploads/ex/0687/00137afe-3aaa44ee/img2.jpg"/>
          <p:cNvPicPr/>
          <p:nvPr/>
        </p:nvPicPr>
        <p:blipFill>
          <a:blip r:embed="rId1"/>
          <a:stretch/>
        </p:blipFill>
        <p:spPr>
          <a:xfrm>
            <a:off x="428760" y="357120"/>
            <a:ext cx="8286480" cy="621504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5" descr="j0354499.gif"/>
          <p:cNvPicPr/>
          <p:nvPr/>
        </p:nvPicPr>
        <p:blipFill>
          <a:blip r:embed="rId2"/>
          <a:stretch/>
        </p:blipFill>
        <p:spPr>
          <a:xfrm>
            <a:off x="6786720" y="5143680"/>
            <a:ext cx="192852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Box 1"/>
          <p:cNvSpPr/>
          <p:nvPr/>
        </p:nvSpPr>
        <p:spPr>
          <a:xfrm>
            <a:off x="250920" y="214200"/>
            <a:ext cx="653580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жегодное проведение ВПР в результате позволи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сихологически подготовить учащихся к экзаменам в старших классах, в частности к ГИА и ЕГ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ределить количество и уровень знаний, которые были получены в течение пройденного года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имул к систематическим занятиям в течение всех лет обучения, а не только в выпускных класс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удут видны недостатки учебной программы по проверяемым предмет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дители будут в курсе уровня знаний своего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•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ст возможность улучшить общую систему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6715080" y="357120"/>
            <a:ext cx="21034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"/>
          <p:cNvSpPr/>
          <p:nvPr/>
        </p:nvSpPr>
        <p:spPr>
          <a:xfrm>
            <a:off x="214200" y="358920"/>
            <a:ext cx="86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нтернет-сайты для подготовки ВПР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2"/>
          <p:cNvSpPr/>
          <p:nvPr/>
        </p:nvSpPr>
        <p:spPr>
          <a:xfrm>
            <a:off x="357120" y="1571760"/>
            <a:ext cx="850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ww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.vpr.statgrad.or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- демоверсии ВПР по всем предметам 2024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3"/>
          <p:cNvSpPr/>
          <p:nvPr/>
        </p:nvSpPr>
        <p:spPr>
          <a:xfrm>
            <a:off x="357120" y="2071800"/>
            <a:ext cx="77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https://www.eduniko.r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размещен «Банк заданий» - образцы заданий по всем предмет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4"/>
          <p:cNvSpPr/>
          <p:nvPr/>
        </p:nvSpPr>
        <p:spPr>
          <a:xfrm>
            <a:off x="357120" y="2714760"/>
            <a:ext cx="85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йт НИ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5"/>
          <p:cNvSpPr/>
          <p:nvPr/>
        </p:nvSpPr>
        <p:spPr>
          <a:xfrm>
            <a:off x="285840" y="3000240"/>
            <a:ext cx="85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http://testedu.ru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бразовательные тест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8"/>
          <p:cNvSpPr/>
          <p:nvPr/>
        </p:nvSpPr>
        <p:spPr>
          <a:xfrm>
            <a:off x="357120" y="3500280"/>
            <a:ext cx="842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https://easyen.ru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временном учительском портал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142920" y="1143360"/>
            <a:ext cx="864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vprtest.ru -  подготовка к ВПР 2024 (ВПР тес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13"/>
          <p:cNvSpPr/>
          <p:nvPr/>
        </p:nvSpPr>
        <p:spPr>
          <a:xfrm>
            <a:off x="285840" y="4071960"/>
            <a:ext cx="86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s://sdamgia.ru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ый портал для подготовки к ОГЭ, ЕГЭ, В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9"/>
          <p:cNvSpPr/>
          <p:nvPr/>
        </p:nvSpPr>
        <p:spPr>
          <a:xfrm>
            <a:off x="285840" y="4500720"/>
            <a:ext cx="850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www.eduvpr.ru -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фициальный сайт ВПР (СтатГра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0" y="5001840"/>
            <a:ext cx="88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obrnadzor.gov.ru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ициальный сай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обрнадз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285840" y="357120"/>
            <a:ext cx="3500280" cy="2286000"/>
          </a:xfrm>
          <a:prstGeom prst="rect">
            <a:avLst/>
          </a:prstGeom>
          <a:ln w="0">
            <a:noFill/>
          </a:ln>
        </p:spPr>
      </p:pic>
      <p:sp>
        <p:nvSpPr>
          <p:cNvPr id="227" name="TextBox 2"/>
          <p:cNvSpPr/>
          <p:nvPr/>
        </p:nvSpPr>
        <p:spPr>
          <a:xfrm>
            <a:off x="395280" y="2928960"/>
            <a:ext cx="8583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Цель ВПР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единства образовательного пространства РФ и поддержки Федерального государственного образовательного стандарта за счет предоставления образовательным организациям единых проверочных материалов и единых критериев оценивания учебных достиж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304920" y="371520"/>
            <a:ext cx="8010360" cy="152388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2"/>
          <p:cNvSpPr/>
          <p:nvPr/>
        </p:nvSpPr>
        <p:spPr>
          <a:xfrm>
            <a:off x="285840" y="1285920"/>
            <a:ext cx="87152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явление сильных и слабых сторон в подаче материала по определенному предмету и корректировка обучающего проце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ирование процесса повышения квалификации педагогов на специальных курс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пределение для педагога и родителей образовательной траектории учащегося и текущего уровня образованности школы, класса, ученика по отношению к требованиям, установленным ФГ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Рисунок 3" descr="risunoksolnyishko.gif"/>
          <p:cNvPicPr/>
          <p:nvPr/>
        </p:nvPicPr>
        <p:blipFill>
          <a:blip r:embed="rId2"/>
          <a:stretch/>
        </p:blipFill>
        <p:spPr>
          <a:xfrm>
            <a:off x="7786800" y="357120"/>
            <a:ext cx="1157040" cy="9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974880" y="347760"/>
            <a:ext cx="6529320" cy="107928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2"/>
          <p:cNvSpPr/>
          <p:nvPr/>
        </p:nvSpPr>
        <p:spPr>
          <a:xfrm>
            <a:off x="214200" y="1000080"/>
            <a:ext cx="8786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сихологически подготовить учащихся к будущим экзаменам в старшей шк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оверить объем знаний, полученный учениками за период обучения в начальной шк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ПР будут способствовать мотивации уче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ниматься ежегодно, а не только в выпускном классе начально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будут выявлены ошибки и недочеты в образовании по предметам: математике, русскому языку, окружающему ми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одители смогут понять степень общей образованности своего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ПР будут способствовать оптимизации региональных программ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Рисунок 3" descr="мишка.gif"/>
          <p:cNvPicPr/>
          <p:nvPr/>
        </p:nvPicPr>
        <p:blipFill>
          <a:blip r:embed="rId2"/>
          <a:stretch/>
        </p:blipFill>
        <p:spPr>
          <a:xfrm>
            <a:off x="8072280" y="5715000"/>
            <a:ext cx="107172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92160" y="195120"/>
            <a:ext cx="8918640" cy="118296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2"/>
          <p:cNvSpPr/>
          <p:nvPr/>
        </p:nvSpPr>
        <p:spPr>
          <a:xfrm>
            <a:off x="428760" y="1143000"/>
            <a:ext cx="8072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о-первых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то единые для всей страны зад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о-вторых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то единые требования к процедуре проведения рабо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-третьих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дновременное выполнение работ школьниками всей стра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Рисунок 3" descr="мишка.gif"/>
          <p:cNvPicPr/>
          <p:nvPr/>
        </p:nvPicPr>
        <p:blipFill>
          <a:blip r:embed="rId2"/>
          <a:stretch/>
        </p:blipFill>
        <p:spPr>
          <a:xfrm>
            <a:off x="6143760" y="4500720"/>
            <a:ext cx="22860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2"/>
          <p:cNvSpPr/>
          <p:nvPr/>
        </p:nvSpPr>
        <p:spPr>
          <a:xfrm>
            <a:off x="3095640" y="1857240"/>
            <a:ext cx="3168720" cy="1959120"/>
          </a:xfrm>
          <a:prstGeom prst="rect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3"/>
          <p:cNvSpPr/>
          <p:nvPr/>
        </p:nvSpPr>
        <p:spPr>
          <a:xfrm>
            <a:off x="3286080" y="2000160"/>
            <a:ext cx="266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Стрелка влево 5"/>
          <p:cNvSpPr/>
          <p:nvPr/>
        </p:nvSpPr>
        <p:spPr>
          <a:xfrm>
            <a:off x="2214720" y="1785960"/>
            <a:ext cx="914400" cy="576360"/>
          </a:xfrm>
          <a:prstGeom prst="leftArrow">
            <a:avLst>
              <a:gd name="adj1" fmla="val 50000"/>
              <a:gd name="adj2" fmla="val 49989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Стрелка вправо 6"/>
          <p:cNvSpPr/>
          <p:nvPr/>
        </p:nvSpPr>
        <p:spPr>
          <a:xfrm>
            <a:off x="6215040" y="1785960"/>
            <a:ext cx="722160" cy="57636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трелка вниз 7"/>
          <p:cNvSpPr/>
          <p:nvPr/>
        </p:nvSpPr>
        <p:spPr>
          <a:xfrm>
            <a:off x="3071880" y="3786120"/>
            <a:ext cx="647640" cy="9367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8"/>
          <p:cNvSpPr/>
          <p:nvPr/>
        </p:nvSpPr>
        <p:spPr>
          <a:xfrm>
            <a:off x="0" y="1785960"/>
            <a:ext cx="2214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9"/>
          <p:cNvSpPr/>
          <p:nvPr/>
        </p:nvSpPr>
        <p:spPr>
          <a:xfrm>
            <a:off x="6929280" y="1785960"/>
            <a:ext cx="221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граф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0"/>
          <p:cNvSpPr/>
          <p:nvPr/>
        </p:nvSpPr>
        <p:spPr>
          <a:xfrm>
            <a:off x="1285920" y="479736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я          Хим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10"/>
          <p:cNvSpPr/>
          <p:nvPr/>
        </p:nvSpPr>
        <p:spPr>
          <a:xfrm>
            <a:off x="214200" y="214200"/>
            <a:ext cx="871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Подготовка к ВПР – это систематизированное повторение уче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Стрелка влево 11"/>
          <p:cNvSpPr/>
          <p:nvPr/>
        </p:nvSpPr>
        <p:spPr>
          <a:xfrm>
            <a:off x="2214720" y="2643120"/>
            <a:ext cx="914400" cy="576360"/>
          </a:xfrm>
          <a:prstGeom prst="leftArrow">
            <a:avLst>
              <a:gd name="adj1" fmla="val 50000"/>
              <a:gd name="adj2" fmla="val 49989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Стрелка вправо 12"/>
          <p:cNvSpPr/>
          <p:nvPr/>
        </p:nvSpPr>
        <p:spPr>
          <a:xfrm>
            <a:off x="6215040" y="2571840"/>
            <a:ext cx="722160" cy="57600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трелка вниз 13"/>
          <p:cNvSpPr/>
          <p:nvPr/>
        </p:nvSpPr>
        <p:spPr>
          <a:xfrm>
            <a:off x="5572080" y="3786120"/>
            <a:ext cx="647640" cy="9367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0" name="Рисунок 3" descr="https://ds04.infourok.ru/uploads/ex/0048/000989af-e5324120/img5.jpg"/>
          <p:cNvPicPr/>
          <p:nvPr/>
        </p:nvPicPr>
        <p:blipFill>
          <a:blip r:embed="rId1"/>
          <a:stretch/>
        </p:blipFill>
        <p:spPr>
          <a:xfrm>
            <a:off x="285840" y="214200"/>
            <a:ext cx="857232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920880" y="195120"/>
            <a:ext cx="7394400" cy="1182960"/>
          </a:xfrm>
          <a:prstGeom prst="rect">
            <a:avLst/>
          </a:prstGeom>
          <a:ln w="0">
            <a:noFill/>
          </a:ln>
        </p:spPr>
      </p:pic>
      <p:sp>
        <p:nvSpPr>
          <p:cNvPr id="252" name="Прямоугольник 2"/>
          <p:cNvSpPr/>
          <p:nvPr/>
        </p:nvSpPr>
        <p:spPr>
          <a:xfrm>
            <a:off x="500040" y="92880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ыписать перечень планируемых результатов по предмету (физика, математика, информатика, биология, химия, географ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добрать несколько заданий для проверки того, насколько усвоен каждый из этих предм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овести повторение по разделам учебной предметной програм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ыполнить несколько проверочных работ на все разделы программы, вместе обсуждать возможные стратегии выполнения работы, особенности формулировок заданий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ести учет выявленных пробелов для адресной помощи в ликвидации слабых сторон обучаю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Рисунок 3" descr="018.gif"/>
          <p:cNvPicPr/>
          <p:nvPr/>
        </p:nvPicPr>
        <p:blipFill>
          <a:blip r:embed="rId2"/>
          <a:stretch/>
        </p:blipFill>
        <p:spPr>
          <a:xfrm>
            <a:off x="7746840" y="5143680"/>
            <a:ext cx="139716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2T02:45:29Z</dcterms:created>
  <dc:creator>Helen</dc:creator>
  <dc:description/>
  <dc:language>en-US</dc:language>
  <cp:lastModifiedBy>win10</cp:lastModifiedBy>
  <cp:lastPrinted>2017-04-05T16:07:32Z</cp:lastPrinted>
  <dcterms:modified xsi:type="dcterms:W3CDTF">2024-01-06T08:39:13Z</dcterms:modified>
  <cp:revision>172</cp:revision>
  <dc:subject/>
  <dc:title>Слайд 1</dc:title>
</cp:coreProperties>
</file>