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0BF2-71F7-4BE1-A738-A1DB4DCC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2C18-C3CD-4A56-A7D9-86163E8D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7C6A-5755-4C4B-8BA8-7358F798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DAE7-CEE0-4E93-BCBC-0B7F0D70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EDD-95EA-400F-A257-CE608466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88B7-C9CE-4835-89B5-273A9B6B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AFCF-0B89-4378-859E-D9FBF51D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337B-4507-4E25-8FD5-92ADADCB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5615-BA3E-4A37-A328-B18F6813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4EEA-5173-4635-9EB8-FFD5F7AF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A853-B984-4645-9FF4-B68C1E0C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2BE6-B055-4BF8-A724-2EFFCEF6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D526-DD11-4DBE-B247-F8A5ACAEC4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285840"/>
            <a:ext cx="8640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 u="sng">
              <a:solidFill>
                <a:srgbClr val="ff3300"/>
              </a:solidFill>
              <a:uFillTx/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1268280"/>
            <a:ext cx="78980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читайте стихотво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Школа, дом, трава, земля.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юбой предмет обозначаю я.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то? Учитель, врач, сосед.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то? Диван, велосипед.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Бываю разного я рода: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Тротуар, окно, природа.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зменяюсь по числам, по падежам.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пешу я в гости к ученикам.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от какая я часть речи удивительная,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азываюсь я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уковская Екате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529160"/>
        </p:xfrm>
        <a:graphic>
          <a:graphicData uri="http://schemas.openxmlformats.org/drawingml/2006/table">
            <a:tbl>
              <a:tblPr/>
              <a:tblGrid>
                <a:gridCol w="730080"/>
                <a:gridCol w="2016360"/>
                <a:gridCol w="2016000"/>
                <a:gridCol w="1820880"/>
                <a:gridCol w="16462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мена существительные мужского 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мена существительные женского 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мена существительные среднего 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мена существительные общего 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ьш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ту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о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эст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зю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б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нтя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б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ю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язну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ю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к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пу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одолжите предложение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узнал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 удавалось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 испытывал трудности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рач  Смирнова  выписала реце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. Опытный инженер  Иван Петрович  участвовал в научно- технической  конфер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3. По оживленным улицам  архитектор  Нина  Николаевна поняла, что  проект приня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99308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од, число, падеж имени существительного (повторение)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1200" y="353520"/>
            <a:ext cx="8175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адежи имен существительных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58920" y="5516640"/>
            <a:ext cx="447516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C:\Users\Сабина\Desktop\stend-figurnyj-padezhi-dlya-nachalnoj-shkoly-v-biryuzovyx-tonax-550x550mm.jpg"/>
          <p:cNvPicPr/>
          <p:nvPr/>
        </p:nvPicPr>
        <p:blipFill>
          <a:blip r:embed="rId1"/>
          <a:stretch/>
        </p:blipFill>
        <p:spPr>
          <a:xfrm>
            <a:off x="826920" y="1197000"/>
            <a:ext cx="7632720" cy="53276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 Число имен существитель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ите число имен существительны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рятки, яблоки, слива, сливки,  сапог,  брюки, ножи, ножницы , часы, молоко, мед, доброта, шокол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"/>
              </a:rPr>
              <a:t>Правильные 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8064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динственное  число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блоко, слива, сапог, молоко, , мед, доброта, шокол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жественное число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тки, сливки, брюки, ножи, ножницы, часы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rial"/>
              </a:rPr>
              <a:t>Цифровой диктан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- ед.ч.,      2 - мн.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а, девочки, липы, стая, земля, огороды, лебедь, юноша, путь, директор, стадо, моря, село, задание, облака, кушанье, платья, полотен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ю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1221121111121121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ритерии  оцени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8 –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7- 16   –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- 11-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- 0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Род имен существительных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спределите имена существительные на четыре группы в зависимости от рода (группы озаглавьте самостоятельно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лоэ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ня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юро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беда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зюдо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женьшень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7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жюри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рязнуля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9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но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0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олтушка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1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аэстро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ни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кса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амбо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лентяй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1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пуш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6:13:05Z</dcterms:created>
  <dc:creator>Customer</dc:creator>
  <dc:description/>
  <dc:language>en-US</dc:language>
  <cp:lastModifiedBy>Сабина</cp:lastModifiedBy>
  <dcterms:modified xsi:type="dcterms:W3CDTF">2023-12-17T16:10:39Z</dcterms:modified>
  <cp:revision>42</cp:revision>
  <dc:subject/>
  <dc:title>Род имён существительных</dc:title>
</cp:coreProperties>
</file>