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DE9-55BC-434A-A900-97084D57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59A-1ED3-4DE0-8095-DCFB5804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D21-ACFF-4AD2-B938-34688D2E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8F5-51B1-4278-AC8A-B82D6A0C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00E-B39C-492F-8E53-49BA9D52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5B5-5A89-4569-8805-930A3FCA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AC3-3436-40EB-9972-B2BF5656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E5F-BBF4-42A7-B04A-9F39A9D1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FBDB-B6E4-4C23-B644-288A630B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A97-3AA7-4046-95C1-1282E9ED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C28-9602-4C04-AAF9-B8D50158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5B2-B85F-46EA-B31A-A9A7FC18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F5D2-4B35-4BBF-8883-89A6581B2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640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1268280"/>
            <a:ext cx="78980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читайте стихотво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Школа, дом, трава, земля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юбой предмет обозначаю я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то? Учитель, врач, сосед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? Диван, велосипед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Бываю разного я рода: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ротуар, окно, природа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зменяюсь по числам, по падежам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пешу я в гости к ученикам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от какая я часть речи удивительная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зываюсь я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уковская Ека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drawingml/2006/table">
            <a:tbl>
              <a:tblPr/>
              <a:tblGrid>
                <a:gridCol w="730080"/>
                <a:gridCol w="2016360"/>
                <a:gridCol w="2016000"/>
                <a:gridCol w="1820880"/>
                <a:gridCol w="1646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ена существительные мужского 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ена существительные женского 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ена существительные среднего 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ена существительные общего 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ьш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т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о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эст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зю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б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тя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б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язну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ю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к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пу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должите предложение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узнал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удавалос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испытывал трудности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рач  Смирнова  выписала реце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. Опытный инженер  Иван Петрович  участвовал в научно- технической  конфе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3. По оживленным улицам  архитектор  Нина  Николаевна поняла, что  проект приня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99308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од, число, падеж имени существительного (повторение)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1200" y="353520"/>
            <a:ext cx="8175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адежи имен существительных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58920" y="5516640"/>
            <a:ext cx="447516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C:\Users\Сабина\Desktop\stend-figurnyj-padezhi-dlya-nachalnoj-shkoly-v-biryuzovyx-tonax-550x550mm.jpg"/>
          <p:cNvPicPr/>
          <p:nvPr/>
        </p:nvPicPr>
        <p:blipFill>
          <a:blip r:embed="rId1"/>
          <a:stretch/>
        </p:blipFill>
        <p:spPr>
          <a:xfrm>
            <a:off x="826920" y="1197000"/>
            <a:ext cx="7632720" cy="5327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 Число имен существи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число имен существительны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ятки, яблоки, слива, сливки,  сапог,  брюки, ножи, ножницы , часы, молоко, мед, доброта, шокол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Правильные 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8064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ственное  число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, слива, сапог, молоко, , мед, доброта, шоко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жественное число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тки, сливки, брюки, ножи, ножницы, часы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Цифровой диктан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- ед.ч.,      2 - мн.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, девочки, липы, стая, земля, огороды, лебедь, юноша, путь, директор, стадо, моря, село, задание, облака, кушанье, платья, полоте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122112111112112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итерии  оцени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- 16   –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- 11-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- 0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Род имен существительных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спределите имена существительные на четыре группы в зависимости от рода (группы озаглавьте самостоятельно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лоэ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ня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юр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беда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зюд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женьшень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жюри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рязнуля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9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н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олтушка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аэстр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и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кса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амб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ентяй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пу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6:13:05Z</dcterms:created>
  <dc:creator>Customer</dc:creator>
  <dc:description/>
  <dc:language>en-US</dc:language>
  <cp:lastModifiedBy>Сабина</cp:lastModifiedBy>
  <dcterms:modified xsi:type="dcterms:W3CDTF">2023-12-17T16:10:39Z</dcterms:modified>
  <cp:revision>42</cp:revision>
  <dc:subject/>
  <dc:title>Род имён существительных</dc:title>
</cp:coreProperties>
</file>