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678-9829-486C-A8AC-4889E603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2F1-C35E-44E9-AB52-ED9CF2D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4EB-128A-4710-9D86-03293CE8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233-6E0C-4611-BC71-EBCD7C5F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AB0-702B-4BD0-BADA-B9F7D1F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B2B-FD89-4FD6-BB0B-683D27FE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A56-687B-4641-B12B-ADFFFB7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DA6-537B-4B7D-B999-04ADBF7A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0D4-3B69-4387-86A1-63435C6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8D5-87D9-4E11-9307-E17DB9D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715-2682-4D8E-BD16-75A8B86A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31A-8B97-4F57-95DC-06F1E3C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1D63-DAE3-4DD8-A3EF-4F8B6C14D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863640" y="-14400"/>
            <a:ext cx="9143640" cy="6850080"/>
            <a:chOff x="-863640" y="-14400"/>
            <a:chExt cx="9143640" cy="685008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-863640" y="-14400"/>
              <a:ext cx="914364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-863640" y="-14400"/>
              <a:ext cx="914364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1"/>
          <p:cNvSpPr/>
          <p:nvPr/>
        </p:nvSpPr>
        <p:spPr>
          <a:xfrm>
            <a:off x="1979640" y="13118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№24 г.Т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138040" y="2141640"/>
            <a:ext cx="457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Те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(18-22.05.2020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«Вода и ее свой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09080" y="333612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700360" y="440316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азработала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чошвили Ж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023360" y="6136560"/>
            <a:ext cx="13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УЛА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Janna\Desktop\в3.jpg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86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Janna\Desktop\в5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Janna\Desktop\в4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6480" y="7920"/>
            <a:ext cx="9137520" cy="6850080"/>
            <a:chOff x="6480" y="7920"/>
            <a:chExt cx="9137520" cy="685008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792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3"/>
            <p:cNvSpPr/>
            <p:nvPr/>
          </p:nvSpPr>
          <p:spPr>
            <a:xfrm>
              <a:off x="6480" y="792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"/>
          <p:cNvSpPr/>
          <p:nvPr/>
        </p:nvSpPr>
        <p:spPr>
          <a:xfrm>
            <a:off x="971640" y="312264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асширить и закрепить представления детей о свойствах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914560" y="1090440"/>
            <a:ext cx="38149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6480" y="7920"/>
            <a:ext cx="9137520" cy="6850080"/>
            <a:chOff x="6480" y="7920"/>
            <a:chExt cx="9137520" cy="685008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792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"/>
            <p:cNvSpPr/>
            <p:nvPr/>
          </p:nvSpPr>
          <p:spPr>
            <a:xfrm>
              <a:off x="6480" y="792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971640" y="1467720"/>
            <a:ext cx="71294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Формирование целостной картины мира, расширение кругозора;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закрепить знания детей о свойствах воды; формирование понимания важности  воды для всех объектов на пла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Развитие любознательности,  внимания детей,  логического мышления, учить анализировать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Продолжать развивать у детей интерес к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Воспитывать у детей уважительное отношение к окружающе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2"/>
          <a:stretch/>
        </p:blipFill>
        <p:spPr>
          <a:xfrm>
            <a:off x="2700360" y="1090440"/>
            <a:ext cx="42498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C:\Users\Janna\Desktop\в.jpg"/>
          <p:cNvPicPr/>
          <p:nvPr/>
        </p:nvPicPr>
        <p:blipFill>
          <a:blip r:embed="rId1"/>
          <a:stretch/>
        </p:blipFill>
        <p:spPr>
          <a:xfrm>
            <a:off x="395280" y="476280"/>
            <a:ext cx="806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6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Janna\Desktop\в1.jpg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Janna\Desktop\в2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0:49:07Z</dcterms:created>
  <dc:creator>пользователь</dc:creator>
  <dc:description/>
  <dc:language>en-US</dc:language>
  <cp:lastModifiedBy>Janna</cp:lastModifiedBy>
  <cp:lastPrinted>2014-02-24T07:59:24Z</cp:lastPrinted>
  <dcterms:modified xsi:type="dcterms:W3CDTF">2020-05-18T15:05:11Z</dcterms:modified>
  <cp:revision>25</cp:revision>
  <dc:subject/>
  <dc:title>Слайд 1</dc:title>
</cp:coreProperties>
</file>