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FA70-439C-4464-8FFD-5BF94B998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6D0F-94A1-4450-A0A0-8B6234DF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0A37F-8CB6-4860-B1D2-CBCCF450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C3BF8-1420-4492-9AB6-3EFDFB19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DBD7C-A0D8-48C7-B576-93FF62DF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E9985-80A2-427B-B262-E0B5F62F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DDE3A-0B3F-4F73-AA0A-6CB978E8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BC762B-759E-4BF6-AD5A-98B5BA8E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CDF54-2789-4C62-9E14-F7C64FB9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5732B-0769-47DF-9416-96420DF3D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16D1E-5B86-491D-8177-08028B589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EE04EB-B513-4BBA-9E70-5FA8598A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C2A0-E55D-4BA1-A80C-343236421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5203B3-75B4-4855-B45C-8DCF679A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3F464-BC74-450C-9A7E-2800D201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DB7286-8260-4EAB-8E66-7A79FFDB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DA65F0-0AF2-4E4E-A9B4-6A66A3FF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38D8B-FBFA-4C9C-A7EA-036DE899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05725-E3ED-4EA4-AA51-F00F9AC0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E8FC5D-DF05-40FE-AA84-7EDF8795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DB797-50C9-47C7-BFA1-85B2AB5D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17859-A0DF-4D16-90AC-A394A4B1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6733A9-6826-4DDA-82BA-30AD28C1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7145-75FC-4211-8638-79A9B93BE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CC80E-B67B-48C5-9AC3-3B669ACE0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89679-502D-4AB7-8CC5-12FE28D3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061F0-0E85-49E6-BF1C-733600C7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C42B3-8F0E-470F-80F3-C7C43BD6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3F4F2-A7E9-46C4-9F83-EDDD9865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10074-00B0-4A87-AC1B-D5A3196E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31751-2615-4E3D-ACF1-5266C3C6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8F395-C38A-4125-B371-503F6D5A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85A2D-C233-4739-9EFC-150AD0F7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39D831-FDF4-4811-B39C-27AF4171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E6ED-190B-442A-8564-DDA44735B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D2753-7B34-470E-B513-DE827431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B4F29-3000-4348-A3CF-BCBEC642F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D608D-3F09-493F-8958-D9F80B9DF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CA8E1C-3E08-4D4C-80B4-C4247A0FE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D54EBB-DE3A-4901-9515-92CB81D6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7674D3-4A3A-4FCB-9B5F-4FBF3DA3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6BE9BF-6CF1-41A6-B8F8-78164EB6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9F0CA1-9B1C-4AD4-B18E-32A3AE28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F93941-CD28-4D4C-8E48-B85335EE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D857E4-505B-48B0-9E85-1F408765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FB3B-BA27-43C3-80F5-98B233EA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FD674-98B4-4374-B523-1E9DA679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1BE4F1-BDDF-4A4E-BD9C-4F05E904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68C07C-A23C-4961-9079-480657AC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34BABE-BDD3-4C4D-98EE-A7B3EB10C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79D27-FBF2-4BA7-A278-91E546819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777CA2-A0D6-4EA7-B64D-D450C31ED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51CC78-D87F-4954-83FA-87F18B8B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2F505D-56D8-40D1-8C61-65507A25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4A9CE9-FEE3-44D0-9EB9-23E3D2A2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CBAC50-736C-46D4-9C12-5A618731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45D9-C26E-4E96-B5BC-8A3B7B37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2DB3D1-3CCB-4F32-A744-87155E2D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6172CA-90B7-4538-BEE9-8F42BC3B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3296D4-0020-4F67-819B-C04EFE8E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5511EF-3C3A-4656-B10E-1A751B79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87134F-9778-480A-91BF-22D75396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DF1455-8204-4F67-9E1D-7D356EEDC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6453FE-3870-49FE-9AA8-2E74D8E5D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E8A1F1-F469-49D8-A555-5F80FD03B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3C76A4-6FAF-4FE4-9E96-1A0B4C3B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97F38B-DE08-4B29-AE93-CF42FC6E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8BD3-5BD3-4994-80AC-0BA28B36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0A7D20-8309-486A-84F7-4E3F9E72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B8CA6F-82E5-4AC4-9C18-A6EB99F3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1B9C44-20E1-4597-AE4A-FD7CCD88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8E548B-0125-4E18-A34D-4CEBE229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6808CE-712A-4F20-833E-9FD8CB8A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7A1B06-64C4-4968-BB8F-9E7E97ED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6FFFA1-F638-4810-A0DD-576E9DA1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6CBECB-4C4C-4D30-990D-FC761C91D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2C8E51-324B-4BAD-924C-6BB6CE296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A386C0-9D0A-4E15-93C3-3D74D0040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44A3-4DCA-421D-8B72-42B6F1DC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BBBF1B-3409-4F74-B771-363CD9A4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8D8E9B-90E7-46E2-942B-1513542D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0E60BF-68D4-440E-BA77-45CC60A6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895D6E-1A04-4036-8495-02C0739B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FEEE1B-36F9-40C2-961C-232566E3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FFFC27-D589-437B-BBD5-B43A967A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1194E7-7FF4-4360-99F2-35FA37B7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61E092-0CD1-46C0-98EA-0576BA37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C5FA1A-6CAE-4294-9797-EB8191A1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514015-2DBD-4B41-8F06-EE6E96CA1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79BF-F0C0-4D57-9C85-44CF5AE4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9EB682-7603-483E-B7EC-99CEB0730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02A428-A13A-40FB-9F16-D6D4A2BC8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600C76-BACD-44B3-B2B8-E5F82754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BFA923-A603-45CD-AC33-725CC6BC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267BC0-621F-440F-9BDF-F611AA64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78C839-14FD-4651-A7E5-4112D659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F41E32-386A-48E6-8703-14A4E50E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2AC3BA-A507-4A7E-84F2-C5CE1352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4AEF59-7668-49B9-980E-FF5DF828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DEC62C-2E33-4B40-9925-693FD120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82B5-21BB-41AC-8C32-F59C4E87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9E7B3E-5525-48FC-9BB0-A8D684D5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76781C-CAC3-4CEB-9B2C-909E8AED3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DB9224-6F08-4A13-A7BB-2A7677F67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DDD0-D887-4321-95EA-9439532A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32B5-C53B-4F7E-8055-B1935355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4873-51EA-421C-9B3E-D5AA95A0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F74D-5DBF-4D1D-A898-7E526C81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3A6A-BFBA-4D5E-AB4A-69AA6EA29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2226-351C-42C3-AFB3-19F52A4E3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749C7-0748-472D-ACAA-7AC1B259B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2A601-A9AE-48A9-A47D-C4546545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5A497-FAFB-4D16-B37C-08449938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36432-6F71-4A61-8615-EDA9A44E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34A2D-1BCA-4E57-986F-D2835038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A106-538D-40C7-8F5D-8DEBA7F4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C992F-872F-4E85-8812-336BE975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72F36-96C0-4643-A1EE-BB4EDC7B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73F0B-19FF-4DE0-BED4-A7C9D870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E3E8A-2ED7-4B8E-94AC-86B6CCDA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B878E-68D8-4D4D-A27F-6A0A0E66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99E06-6473-47FB-8293-02481BD48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8A729-DFFA-499D-AAFD-91046FD34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841B3-7DCB-4C1C-862B-2771B9B20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C3742-5F25-4625-A87B-0DBE0074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E2C56-BADE-4644-862F-51E1F60A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FE83-16F7-4655-B27C-0D580D43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9FC1E-37B0-4434-9367-FF1055F4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529EB-4AE8-4F7A-B532-2A172E6F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2BDD0-F527-4073-9EE5-1A9B055C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9A761-CE94-478A-800E-6FAB1B5F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F729F-1C90-4318-A374-AF30ACB0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E2D1C-BAC9-4EA4-90A5-F7F40680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524E3-608E-49E3-9F5F-2CA4B2F7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A61FF-07E1-4369-B2D0-A3FD0B90C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30802-649D-4E9A-82F3-19F51E70A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F4FC4-5978-4C89-9A32-721D1196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E4E7-27DD-47A1-B10D-3FFE4010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18318-2DD7-4BB2-B4ED-9AFE3AA2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9BD02-44B5-4539-A74A-DB0FAF53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C3F95-5E41-44AF-8769-18E93B5E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24CD5-32A2-49D1-BA9B-B07C0BD3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9CAAF-6F52-4471-9F2B-7EF91420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24181-4A4D-4696-AEB2-16E2AABF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005D0-7A57-4DC3-ABAC-5B5AE7D0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DF391-DE6A-4CC3-A8FE-50D63452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AB507-F4B0-430E-AACF-68B3A9DB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657A7-7CFF-4338-A5A8-7CA544D3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6E41-A57F-4D87-A92A-62A32261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59427-B255-4124-8C78-34D2D557A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371D5-F715-41BE-B5A0-537C0B9B6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ECBFD-680A-4DF8-9E1E-81142B38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3865B-1D5E-4FE8-95AE-297F5C60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FBB68-1BA7-4F7A-9CC5-C70361B6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A8872-7C99-484F-9595-646CA256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D9AD7-6E2B-4829-99DC-2D46D84B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EDDF1-EA61-445F-9FB7-34C979D6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00BD0-CFBA-4580-AA5E-3456C76F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F037B-E45A-422E-BC4D-DDAA7596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6D6A-58E7-4096-9AA4-06E7CA7F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4D5AE-D9EF-4C1E-9FED-B8DEAC3F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D625E-46B6-4155-8057-E3A1B622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18C29-4A92-436C-9A97-3D327424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68002-D4E6-4DE4-A8F5-4B1B1F843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71A26-5AF2-4ED8-94F0-5B8008CA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14607-0A3F-4AE5-B4A8-E427947D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6D5C9-BB05-4C44-9055-7D7347EA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AB629-3518-49C3-BEEA-26360625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51A3C-6899-48EC-96F3-D43A3EF9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FED5C-42AE-46E0-AA27-6C964128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6C62-997E-46D4-904D-49079399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A50C9-229B-4AB3-ADAD-01DAE903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05662-C112-457C-B5A0-79E6338D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2D51E-E072-4B7F-8251-92AD4AA2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22B4D-D1B9-42E4-B57C-4839E0210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4BB16-6A58-44D4-B127-570183D9F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D078A-530A-4A78-B309-1D6359C16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7525B-EEF6-4A3D-8E0D-6012D146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3E39D-F35D-422B-A9DE-8888D9F6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4D8A8-2DC3-4BDF-9820-5BD98DFB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B3E04-7397-48D9-80F9-900921A5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78D0-EF45-407A-BDAD-F295345D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E9601-6B93-429C-83D6-3109D633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8F9E5-3275-43DE-87C9-40143768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9730C-A0EC-4A41-8A78-49091240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DB923-4617-449C-9200-EEF47E6C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A9345-6588-4BF9-87D3-7836B3AE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8A4AD-3555-487A-971E-C13CC769B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3855E-3ECF-4184-95D7-F39308E19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A60A1-3CAF-4BB4-B03F-96CD07064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10482-B1F2-46B7-A7DE-9CB6FB80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B3E09-AF9D-437E-AECB-B5DF09B3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4DFD-0BA4-48E7-857E-E712C15C93D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A8C7-D0EB-4146-A205-880AB08F10C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00E8-5C3A-43DB-AF89-DE2899580ED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77ED-A22D-4D4F-8720-AE291F62343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F572-4598-4939-B935-1DE6D7A37F2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7003-0FB0-4185-B565-AD2562F69EC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E5FF-CC5B-475B-BF65-3161C2DB288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D091-C052-4874-93CF-B2FCF245C56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9A3C-85AC-4B1B-B366-3EAD9559C4F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4027-80FE-4CF2-A4CF-6D24C2BAB33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981B-6AE6-4040-BD2B-E5F77293C13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01E9-7676-4BB7-97ED-ED21885B8C7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C60E-A49D-4000-A491-D908F006E8D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5A55-A6BF-42DD-A5F8-F02C6B82BE6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F29E-7D9C-4C57-8916-678D5C79672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B0BD-B8EF-4384-A782-A93DD90BCEE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8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1571400"/>
            <a:ext cx="7772400" cy="20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fd293"/>
                </a:solidFill>
                <a:latin typeface="Arial"/>
              </a:rPr>
              <a:t>ДЫМКОВСКАЯ ИГРУШКА</a:t>
            </a:r>
            <a:endParaRPr b="0" lang="en-US" sz="2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дактический материа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4" name="Picture 7" descr="P9030016"/>
          <p:cNvPicPr/>
          <p:nvPr/>
        </p:nvPicPr>
        <p:blipFill>
          <a:blip r:embed="rId1"/>
          <a:stretch/>
        </p:blipFill>
        <p:spPr>
          <a:xfrm>
            <a:off x="1332000" y="1628640"/>
            <a:ext cx="561636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7" name="Picture 17" descr="P9030008"/>
          <p:cNvPicPr/>
          <p:nvPr/>
        </p:nvPicPr>
        <p:blipFill>
          <a:blip r:embed="rId1"/>
          <a:stretch/>
        </p:blipFill>
        <p:spPr>
          <a:xfrm>
            <a:off x="1763640" y="1700280"/>
            <a:ext cx="5688000" cy="42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293"/>
                </a:solidFill>
                <a:latin typeface="Arial"/>
              </a:rPr>
              <a:t>Рисунки детей</a:t>
            </a:r>
            <a:endParaRPr b="0" lang="en-US" sz="2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89" name="Picture 10" descr="P9130034"/>
          <p:cNvPicPr/>
          <p:nvPr/>
        </p:nvPicPr>
        <p:blipFill>
          <a:blip r:embed="rId1"/>
          <a:stretch/>
        </p:blipFill>
        <p:spPr>
          <a:xfrm>
            <a:off x="5651640" y="981000"/>
            <a:ext cx="3028680" cy="403884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11" descr="P9130031"/>
          <p:cNvPicPr/>
          <p:nvPr/>
        </p:nvPicPr>
        <p:blipFill>
          <a:blip r:embed="rId2"/>
          <a:stretch/>
        </p:blipFill>
        <p:spPr>
          <a:xfrm>
            <a:off x="468360" y="692280"/>
            <a:ext cx="2185920" cy="291456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 txBox="1"/>
          <p:nvPr/>
        </p:nvSpPr>
        <p:spPr>
          <a:xfrm rot="16200000">
            <a:off x="2425320" y="3703680"/>
            <a:ext cx="331164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293"/>
                </a:solidFill>
                <a:latin typeface="Arial"/>
              </a:rPr>
              <a:t>Рисунки детей</a:t>
            </a:r>
            <a:endParaRPr b="0" lang="en-US" sz="2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93" name="Picture 9" descr="P9130036"/>
          <p:cNvPicPr/>
          <p:nvPr/>
        </p:nvPicPr>
        <p:blipFill>
          <a:blip r:embed="rId1"/>
          <a:stretch/>
        </p:blipFill>
        <p:spPr>
          <a:xfrm>
            <a:off x="468360" y="836640"/>
            <a:ext cx="2914560" cy="254628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26" descr="P9030018"/>
          <p:cNvPicPr/>
          <p:nvPr/>
        </p:nvPicPr>
        <p:blipFill>
          <a:blip r:embed="rId2"/>
          <a:stretch/>
        </p:blipFill>
        <p:spPr>
          <a:xfrm>
            <a:off x="5292720" y="105264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29" descr="P9030009"/>
          <p:cNvPicPr/>
          <p:nvPr/>
        </p:nvPicPr>
        <p:blipFill>
          <a:blip r:embed="rId3"/>
          <a:stretch/>
        </p:blipFill>
        <p:spPr>
          <a:xfrm>
            <a:off x="684360" y="3860640"/>
            <a:ext cx="2916000" cy="254808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30" descr="P9030008"/>
          <p:cNvPicPr/>
          <p:nvPr/>
        </p:nvPicPr>
        <p:blipFill>
          <a:blip r:embed="rId4"/>
          <a:stretch/>
        </p:blipFill>
        <p:spPr>
          <a:xfrm>
            <a:off x="4788000" y="3933720"/>
            <a:ext cx="3671640" cy="25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000" spc="-1" strike="noStrike" u="sng">
              <a:solidFill>
                <a:srgbClr val="dfd293"/>
              </a:solidFill>
              <a:uFillTx/>
              <a:latin typeface="Arial"/>
            </a:endParaRPr>
          </a:p>
        </p:txBody>
      </p:sp>
      <p:pic>
        <p:nvPicPr>
          <p:cNvPr id="659" name="Picture 17" descr="23633096_1209196174_006dimka"/>
          <p:cNvPicPr/>
          <p:nvPr/>
        </p:nvPicPr>
        <p:blipFill>
          <a:blip r:embed="rId1"/>
          <a:stretch/>
        </p:blipFill>
        <p:spPr>
          <a:xfrm>
            <a:off x="826920" y="1628640"/>
            <a:ext cx="737244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61" name="Picture 14" descr="mks-ped-toys-1"/>
          <p:cNvPicPr/>
          <p:nvPr/>
        </p:nvPicPr>
        <p:blipFill>
          <a:blip r:embed="rId1"/>
          <a:stretch/>
        </p:blipFill>
        <p:spPr>
          <a:xfrm>
            <a:off x="1042920" y="907920"/>
            <a:ext cx="734544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39640" y="5229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4" name="Picture 34" descr="705b04916dc7def18dcd293267d"/>
          <p:cNvPicPr/>
          <p:nvPr/>
        </p:nvPicPr>
        <p:blipFill>
          <a:blip r:embed="rId1"/>
          <a:stretch/>
        </p:blipFill>
        <p:spPr>
          <a:xfrm>
            <a:off x="1547640" y="1268280"/>
            <a:ext cx="633744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716000" y="1412640"/>
            <a:ext cx="403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7" name="Picture 7" descr="267025339"/>
          <p:cNvPicPr/>
          <p:nvPr/>
        </p:nvPicPr>
        <p:blipFill>
          <a:blip r:embed="rId1"/>
          <a:stretch/>
        </p:blipFill>
        <p:spPr>
          <a:xfrm>
            <a:off x="1835280" y="549360"/>
            <a:ext cx="4824360" cy="55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 u="sng">
              <a:solidFill>
                <a:srgbClr val="dfd293"/>
              </a:solidFill>
              <a:uFillTx/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380000" y="980640"/>
            <a:ext cx="13064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0" name="Picture 7" descr="271725954"/>
          <p:cNvPicPr/>
          <p:nvPr/>
        </p:nvPicPr>
        <p:blipFill>
          <a:blip r:embed="rId1"/>
          <a:stretch/>
        </p:blipFill>
        <p:spPr>
          <a:xfrm>
            <a:off x="2700360" y="981000"/>
            <a:ext cx="424800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 u="sng">
              <a:solidFill>
                <a:srgbClr val="dfd293"/>
              </a:solidFill>
              <a:uFillTx/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648320" y="1341360"/>
            <a:ext cx="40384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3" name="Picture 7" descr="79b511dbf3d2"/>
          <p:cNvPicPr/>
          <p:nvPr/>
        </p:nvPicPr>
        <p:blipFill>
          <a:blip r:embed="rId1"/>
          <a:stretch/>
        </p:blipFill>
        <p:spPr>
          <a:xfrm>
            <a:off x="2411280" y="1125360"/>
            <a:ext cx="439272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643280" y="1125360"/>
            <a:ext cx="43214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6" name="Picture 11" descr="artlib_gallery-84498-b"/>
          <p:cNvPicPr/>
          <p:nvPr/>
        </p:nvPicPr>
        <p:blipFill>
          <a:blip r:embed="rId1"/>
          <a:stretch/>
        </p:blipFill>
        <p:spPr>
          <a:xfrm>
            <a:off x="2411280" y="836640"/>
            <a:ext cx="511344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78" name="Picture 20" descr="P9030001"/>
          <p:cNvPicPr/>
          <p:nvPr/>
        </p:nvPicPr>
        <p:blipFill>
          <a:blip r:embed="rId1"/>
          <a:stretch/>
        </p:blipFill>
        <p:spPr>
          <a:xfrm>
            <a:off x="684360" y="148428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25" descr="P9030006"/>
          <p:cNvPicPr/>
          <p:nvPr/>
        </p:nvPicPr>
        <p:blipFill>
          <a:blip r:embed="rId2"/>
          <a:stretch/>
        </p:blipFill>
        <p:spPr>
          <a:xfrm>
            <a:off x="539640" y="414972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26" descr="P9030017"/>
          <p:cNvPicPr/>
          <p:nvPr/>
        </p:nvPicPr>
        <p:blipFill>
          <a:blip r:embed="rId3"/>
          <a:stretch/>
        </p:blipFill>
        <p:spPr>
          <a:xfrm>
            <a:off x="5076720" y="1413000"/>
            <a:ext cx="3313080" cy="218592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29" descr="dymka2"/>
          <p:cNvPicPr/>
          <p:nvPr/>
        </p:nvPicPr>
        <p:blipFill>
          <a:blip r:embed="rId4"/>
          <a:stretch/>
        </p:blipFill>
        <p:spPr>
          <a:xfrm>
            <a:off x="4716360" y="3933720"/>
            <a:ext cx="3600720" cy="2664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22:42:10Z</dcterms:created>
  <dc:creator>matveeva</dc:creator>
  <dc:description/>
  <dc:language>en-US</dc:language>
  <cp:lastModifiedBy>Janna</cp:lastModifiedBy>
  <dcterms:modified xsi:type="dcterms:W3CDTF">2019-02-02T14:27:40Z</dcterms:modified>
  <cp:revision>27</cp:revision>
  <dc:subject/>
  <dc:title>Федеральное агентство по образованию ГОУ ВПО государственный педагогический университет им. Л.Н.Толстого   ВЫПУСКНАЯ КВАЛИФИКАЦИОННАЯ РАБОТА</dc:title>
</cp:coreProperties>
</file>