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C28-6E3D-4397-B276-D941431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EC2-D926-489A-B0EE-7D6E6FBA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E88AB-D0F1-45F3-AF76-3407F1A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B3D4A2-8771-4998-B8D6-3BFDF9D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8408-9C33-48B6-9FAE-5C726080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6EA06-5261-489E-8C38-1D97A97D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CFF72-0F83-4454-B5B7-BDF78141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2A63B-1B78-460F-AD84-47AB16E6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5A577-B913-40D8-8609-D9B41EB3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ACE0D-B6C7-47DF-A002-DA24AE22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1109E-630F-4983-9C7C-DAD0AC75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75231-F83B-4EC4-A9DE-D2CDD69D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D7EA-32FE-4E62-8C27-76ACD3FC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00341-F6A7-4949-97CD-105C2C5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CFA14-B850-464F-AFDC-B03BDBF7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17DCA-2472-4340-AED2-7D1043D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F7E19-3EE0-4450-A88D-BB6CD9FC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1E0E2-B9BC-4F4C-9E8F-F1AF70B6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926D4-F426-41EC-9A28-3B101C43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85259-E8FE-4B36-A726-E2B18139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308B7-2683-4A87-BF29-8365B8B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63F15-AE99-4D34-A46F-FE8664D7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E3FAD-B12B-45D2-94A2-A1018C018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7431-C0E6-406B-8D65-1B99AA3B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33688-6CE5-48D0-A951-1E31C17A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B2A97-A2CF-4345-8DF5-252C15FD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496F7-0982-4C26-A7DF-7F346DD5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A362F-C048-4A02-9500-27BC34CE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ECD4-D77A-43A5-895F-AB5F6C57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23718-7036-4FBD-AF54-9610AB81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B519-B36E-400C-9B9E-7B544C24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9F4B6A-4C54-41FB-A98C-E3A66CFA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3E1E7-0C26-4582-BD0F-220E6D6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6E85EA-EA20-4D78-954C-ADA10C6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891-C7F0-4E68-9B03-E3FEF700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4BA3E-16B1-4EBA-8482-91142E8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8CA671-494A-4136-8801-56FA8E0A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3B348-AEE6-4E78-AA63-935E5A6B9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3CD06-E6EF-4C41-B37F-CC6B0E9B9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908CE-E754-4925-8379-9D900319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6C3E9-997B-4C7D-B7D1-96CA791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408E6-71F6-4281-8446-5BC302F5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428EF-3D0B-418B-A814-14E5942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8F1AD-E2C7-4CFD-B062-C6EA4530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245B6-00B9-48ED-B39F-BC32A084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5299-7176-4B2A-90DD-BD98169D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DB210-1990-4C39-A2B8-E81C084A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EE628-625B-4C85-85BD-46D0ABAC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F63BA-E759-40D4-AC08-624482A9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00666-F275-480C-A900-CED368C7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CF225-6D6A-43B3-B33C-AC4DFECC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40FB14-A942-4E1D-BD44-45E8830D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CBE0D-8311-41E9-B865-CCCC4FDC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ECA31-1470-461D-A7FA-8F832E2E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6B607-FB2D-4476-847E-E2782D8B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FFC4B-F30B-4EB3-A708-048E842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291-1B36-497B-AB36-32BBB190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EDBD4E-AD83-46A1-A91A-56F2715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A596B5-4A3A-4732-A87A-B7EA2D4B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5643F-0F35-4D16-AA13-681EDD9B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85436-952F-4D8E-8C98-C882A5FA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36FCD-C896-4812-84AE-F52D6576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160695-A180-4D55-9F55-30E39A0C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56C18C-F3A7-40E1-9323-DC49563D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667A2-D099-462A-BDA2-0EEDEEEF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DC4B8-181D-4861-AC69-2C120B3B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4E2D4-6138-431F-9201-5A03291A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4226-1F82-4EE9-ABB4-6C25E33C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55C5A-F03E-4046-BB77-4A03CAAD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44D99-E01C-4EEE-B492-E3B7C10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46C52-C3E9-444F-A272-45C32D31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99257-74F0-4305-BD13-58380A7A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659F93-560F-44DC-A209-F9D07178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874B8-6561-42B5-A4DE-A810478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16F9A-F07E-4267-BFB9-371886B0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A76B5-8D41-4517-AED2-C5D40462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99E06-8C1C-47A4-AAD2-74DC41CF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DA18F-2395-4BDD-B29A-07C65D69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6B3F-F952-40E7-BDC6-8C16556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2D5E1-9A45-4582-B8B9-2DC2E828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4EF58-C35C-4906-97F6-5EFC712D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4ED66-B613-4BCF-8E19-2CE6DDFC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FFD49-5639-49B6-B84F-1FA0CB7E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74CE17-BFC6-4D9D-AF65-5BDCE02D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5ACD0-2C63-4535-817E-17F56638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B43B5-1E3C-4E73-BDBF-CBB0CED3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7A138-85A8-4259-8242-A0DDE985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9E9C62-9003-4D1C-8E19-C8584684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5AE47-23D8-4614-9362-CCFF7FCF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883C-FE9D-48EA-B7A1-4B43346B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49030-1C28-48D1-9713-8FE60466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844627-0737-4EC2-AB3A-D19CC914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2B88C-7992-4C37-A439-6DE7B9A1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BEBC56-C991-4E54-90CD-4424EA8D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CC88C8-BD8F-492A-A6EB-2063BB2B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D4B6CB-3DBF-4154-910E-2AC92D05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B980A-F830-4926-AE10-7C71CC69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B046D-0638-478E-92A5-5B2F919D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E0332-02EF-48F3-9D55-4B41B516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7E2E99-D7D0-403F-9534-7EA3BBC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EC87-C659-440F-B052-01D97581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7B789-30E4-4A11-B0F7-5BEA7140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49CE94-F880-47DE-B26B-4A43978A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BEE726-13E9-4B1E-B7CE-91C156B7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C8E-43C7-45AF-9442-97D496BA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304A-4382-4792-ABF6-095F9AD7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8686-3EE5-4C62-8585-E751A9FA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0A76-9FFE-4B37-86FB-0D72A7FD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BD4A-C896-4D75-9311-8A651C2A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A8F7-F95C-47DC-AF53-16773324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6AB36-E73C-400D-87E2-F360531B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53AC-503A-476F-AD13-A138825D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B8FE-8345-4C89-8E3E-124CFB81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AB09C-A764-49C7-BC11-7269A5FA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2D803-C8BC-41FF-8EF7-69845672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E8AC-D69C-4548-A01F-8301EEB4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67F56-8DBF-44D9-AE97-3B54D0AB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9157D-B8BA-4A42-9803-FBF78421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DA3D-24CB-46A1-A940-12528EB2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CEBCF-4E7D-415F-A89C-DBF55456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1C0D7-C007-4702-B62F-521AF21B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67840-1656-4708-8AD0-41CCE0790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76AE-8FDF-4632-B01B-963A272F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6A596-E669-445E-B075-F5AC752B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3DEB7-75B2-4C6B-9D23-184BC9DD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6774F-EB5B-4000-9F34-F383E6F0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4771-F819-4F86-8958-15E4E6B3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CC23-B855-4C29-A938-289C7061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DBD5C-89B8-475B-A29C-01811101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773F4-A2EB-4E64-AB24-C80A5852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E7C2-0575-4D16-8241-A64E7C8A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B9A4-5202-4D04-9990-48BDD14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1746-FED3-4FD1-A2E6-FA7D3052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C640-685D-416B-8723-F11BFC6A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E8C62-C726-4D69-9FEB-B4D5B297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C6B3B-8EFA-48EF-849F-A848181B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5D06-CD10-41AE-9DB8-8EC6916F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6F2-1023-4418-B412-854CC7BF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8AAB1-35FB-4F27-BE3F-1DC2C996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53B2E-963F-4A7F-A92E-9112CD61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6DEDB-666D-416E-A7E7-F476B427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EF02-1560-47F3-B542-5328373F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74FB-9942-4A4F-8266-40F9619A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740CA-C6DC-44B3-8EDA-A945D4C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57FAA-8302-4158-BCCD-6D5B84D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C7419-9C8C-460B-AE76-DF5298CB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D8570-D0E5-4B9D-AE7E-EC8C25D0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59A8A-3672-4010-809A-E6A4E9FC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A61-A20D-4DFB-B060-6B06F1E4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AADE3-7156-491A-8196-00D5FC32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9DC18-7906-4C50-950A-48E4B19E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B3CD2-39B6-49B5-9E59-32AA799E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3705C-CD15-41A6-A82D-642BE9CC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EE7DD-E292-4892-8CC0-910253D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36057-2C05-48A1-8528-23CB793C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6627B-8064-44AE-B8C0-9388CD19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557A-17E7-4806-857B-668A94F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215F2-22CD-4EA3-A670-C23A8495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407F7-5504-43E4-8B04-86BB593E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EAB-0D15-4FDB-B81A-B69CD88B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02159-9755-483C-8184-AB100737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AEDD-228E-40AC-8B1A-3D83B9CF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8BED-8092-4220-870E-6389BB39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46EA8-0433-4937-96D6-F11449CB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3EED-A41F-4EFA-8BF9-DF5A31A9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09063-A327-47DE-8A33-3FA861FC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D63C54-63E4-4A5F-A039-46480E58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D7DA-D8C4-4FDE-8E9E-66EF4FCD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ED741-CF54-495D-BBD4-0EE7339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48D39-E030-4C8A-B095-4BFFBEF0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3D2-CCA8-41FF-AF57-20E79BF7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CC6DB-0C75-4452-AFA4-ED205C33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0CAAD-BD01-4DE8-A1B8-D49C44C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9CFBC-B01D-447D-BDA9-56584E1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F11C5-5E8B-4580-ACE1-6050A6E0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5568-4B3A-4C7C-B883-70CD88AA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63D6-07F9-48D1-A2B1-66D0520C9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7468F-8A7B-4117-BAC2-7951949B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865B5-BF28-4ECA-9925-7E70892B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90E72-809E-4FC3-8A7B-89C29BD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2D5A5-C2C0-47A0-B2DC-C3769A1E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7C5-2B72-4737-BAC8-212F9431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D4235-4F23-47A7-95FC-4125E273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F1194-16CA-40B0-8A1C-FD5F0A56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58E9-CABA-4A7E-976B-93D2268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6BEE4-EE03-488F-9F4F-22406734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109D9-0EE8-4EE8-A8DF-4955D7EC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78F23-2C69-4073-B776-0662D993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2023C-AAEB-409C-AB73-FFA45A5A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4335A-37F8-4D69-BAC0-A11E39DC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ECD827-8C1A-4F52-9568-3C14F80D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FD271-5B35-4AFD-B927-90E12AAC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202C-239D-460E-9119-7CB988F6D6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0F6D-1650-4C8F-B242-B79941577A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2DC5-4CBB-4FE2-AFC3-429F6E4EFB2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4A7C-2B48-4B1F-B0C7-CF0F0D7405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051F-B063-4929-BFC9-E0AC233FCF3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3BA-398F-4CE0-B78E-248BD5324D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71C7-B5ED-4893-B5FF-5091B4972E2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0A0A-9994-4615-8E88-30A1DCDF3DA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5AB7-073E-4B05-B231-6D33B80C1A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8BD6-645B-4E81-9181-8438F4B703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93A3-CB2F-469C-9CF7-00DB91AB8FE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BB41-A610-4239-A94F-2D5874ECAEC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BB2C-9BDC-414A-B336-23A9BD6FA1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5BA0-9457-4013-BB47-41F26E200F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DF36-346C-4AE3-BCA0-5520B7C0DF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3A65-9A16-42C9-B29D-3A7F3C57A98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1571400"/>
            <a:ext cx="7772400" cy="20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293"/>
                </a:solidFill>
                <a:latin typeface="Arial"/>
              </a:rPr>
              <a:t>ДЫМКОВСКАЯ ИГРУШКА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дактический материа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4" name="Picture 7" descr="P9030016"/>
          <p:cNvPicPr/>
          <p:nvPr/>
        </p:nvPicPr>
        <p:blipFill>
          <a:blip r:embed="rId1"/>
          <a:stretch/>
        </p:blipFill>
        <p:spPr>
          <a:xfrm>
            <a:off x="1332000" y="1628640"/>
            <a:ext cx="5616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7" name="Picture 17" descr="P9030008"/>
          <p:cNvPicPr/>
          <p:nvPr/>
        </p:nvPicPr>
        <p:blipFill>
          <a:blip r:embed="rId1"/>
          <a:stretch/>
        </p:blipFill>
        <p:spPr>
          <a:xfrm>
            <a:off x="1763640" y="1700280"/>
            <a:ext cx="568800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Рисунки детей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9" name="Picture 10" descr="P9130034"/>
          <p:cNvPicPr/>
          <p:nvPr/>
        </p:nvPicPr>
        <p:blipFill>
          <a:blip r:embed="rId1"/>
          <a:stretch/>
        </p:blipFill>
        <p:spPr>
          <a:xfrm>
            <a:off x="5651640" y="981000"/>
            <a:ext cx="3028680" cy="40388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1" descr="P9130031"/>
          <p:cNvPicPr/>
          <p:nvPr/>
        </p:nvPicPr>
        <p:blipFill>
          <a:blip r:embed="rId2"/>
          <a:stretch/>
        </p:blipFill>
        <p:spPr>
          <a:xfrm>
            <a:off x="468360" y="692280"/>
            <a:ext cx="2185920" cy="29145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 txBox="1"/>
          <p:nvPr/>
        </p:nvSpPr>
        <p:spPr>
          <a:xfrm rot="16200000">
            <a:off x="2425320" y="3703680"/>
            <a:ext cx="331164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Рисунки детей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93" name="Picture 9" descr="P9130036"/>
          <p:cNvPicPr/>
          <p:nvPr/>
        </p:nvPicPr>
        <p:blipFill>
          <a:blip r:embed="rId1"/>
          <a:stretch/>
        </p:blipFill>
        <p:spPr>
          <a:xfrm>
            <a:off x="468360" y="836640"/>
            <a:ext cx="2914560" cy="25462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26" descr="P9030018"/>
          <p:cNvPicPr/>
          <p:nvPr/>
        </p:nvPicPr>
        <p:blipFill>
          <a:blip r:embed="rId2"/>
          <a:stretch/>
        </p:blipFill>
        <p:spPr>
          <a:xfrm>
            <a:off x="5292720" y="105264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29" descr="P9030009"/>
          <p:cNvPicPr/>
          <p:nvPr/>
        </p:nvPicPr>
        <p:blipFill>
          <a:blip r:embed="rId3"/>
          <a:stretch/>
        </p:blipFill>
        <p:spPr>
          <a:xfrm>
            <a:off x="684360" y="3860640"/>
            <a:ext cx="2916000" cy="25480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30" descr="P9030008"/>
          <p:cNvPicPr/>
          <p:nvPr/>
        </p:nvPicPr>
        <p:blipFill>
          <a:blip r:embed="rId4"/>
          <a:stretch/>
        </p:blipFill>
        <p:spPr>
          <a:xfrm>
            <a:off x="4788000" y="3933720"/>
            <a:ext cx="367164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pic>
        <p:nvPicPr>
          <p:cNvPr id="659" name="Picture 17" descr="23633096_1209196174_006dimka"/>
          <p:cNvPicPr/>
          <p:nvPr/>
        </p:nvPicPr>
        <p:blipFill>
          <a:blip r:embed="rId1"/>
          <a:stretch/>
        </p:blipFill>
        <p:spPr>
          <a:xfrm>
            <a:off x="826920" y="1628640"/>
            <a:ext cx="737244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61" name="Picture 14" descr="mks-ped-toys-1"/>
          <p:cNvPicPr/>
          <p:nvPr/>
        </p:nvPicPr>
        <p:blipFill>
          <a:blip r:embed="rId1"/>
          <a:stretch/>
        </p:blipFill>
        <p:spPr>
          <a:xfrm>
            <a:off x="1042920" y="907920"/>
            <a:ext cx="73454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9640" y="522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4" name="Picture 34" descr="705b04916dc7def18dcd293267d"/>
          <p:cNvPicPr/>
          <p:nvPr/>
        </p:nvPicPr>
        <p:blipFill>
          <a:blip r:embed="rId1"/>
          <a:stretch/>
        </p:blipFill>
        <p:spPr>
          <a:xfrm>
            <a:off x="1547640" y="1268280"/>
            <a:ext cx="633744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716000" y="1412640"/>
            <a:ext cx="40388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7" name="Picture 7" descr="267025339"/>
          <p:cNvPicPr/>
          <p:nvPr/>
        </p:nvPicPr>
        <p:blipFill>
          <a:blip r:embed="rId1"/>
          <a:stretch/>
        </p:blipFill>
        <p:spPr>
          <a:xfrm>
            <a:off x="1835280" y="549360"/>
            <a:ext cx="4824360" cy="55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380000" y="980640"/>
            <a:ext cx="1306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0" name="Picture 7" descr="271725954"/>
          <p:cNvPicPr/>
          <p:nvPr/>
        </p:nvPicPr>
        <p:blipFill>
          <a:blip r:embed="rId1"/>
          <a:stretch/>
        </p:blipFill>
        <p:spPr>
          <a:xfrm>
            <a:off x="2700360" y="981000"/>
            <a:ext cx="42480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 u="sng">
              <a:solidFill>
                <a:srgbClr val="dfd293"/>
              </a:solidFill>
              <a:uFillTx/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648320" y="1341360"/>
            <a:ext cx="40384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3" name="Picture 7" descr="79b511dbf3d2"/>
          <p:cNvPicPr/>
          <p:nvPr/>
        </p:nvPicPr>
        <p:blipFill>
          <a:blip r:embed="rId1"/>
          <a:stretch/>
        </p:blipFill>
        <p:spPr>
          <a:xfrm>
            <a:off x="2411280" y="1125360"/>
            <a:ext cx="439272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321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Picture 11" descr="artlib_gallery-84498-b"/>
          <p:cNvPicPr/>
          <p:nvPr/>
        </p:nvPicPr>
        <p:blipFill>
          <a:blip r:embed="rId1"/>
          <a:stretch/>
        </p:blipFill>
        <p:spPr>
          <a:xfrm>
            <a:off x="2411280" y="836640"/>
            <a:ext cx="5113440" cy="58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78" name="Picture 20" descr="P9030001"/>
          <p:cNvPicPr/>
          <p:nvPr/>
        </p:nvPicPr>
        <p:blipFill>
          <a:blip r:embed="rId1"/>
          <a:stretch/>
        </p:blipFill>
        <p:spPr>
          <a:xfrm>
            <a:off x="684360" y="148428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5" descr="P9030006"/>
          <p:cNvPicPr/>
          <p:nvPr/>
        </p:nvPicPr>
        <p:blipFill>
          <a:blip r:embed="rId2"/>
          <a:stretch/>
        </p:blipFill>
        <p:spPr>
          <a:xfrm>
            <a:off x="539640" y="4149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6" descr="P9030017"/>
          <p:cNvPicPr/>
          <p:nvPr/>
        </p:nvPicPr>
        <p:blipFill>
          <a:blip r:embed="rId3"/>
          <a:stretch/>
        </p:blipFill>
        <p:spPr>
          <a:xfrm>
            <a:off x="5076720" y="1413000"/>
            <a:ext cx="3313080" cy="218592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9" descr="dymka2"/>
          <p:cNvPicPr/>
          <p:nvPr/>
        </p:nvPicPr>
        <p:blipFill>
          <a:blip r:embed="rId4"/>
          <a:stretch/>
        </p:blipFill>
        <p:spPr>
          <a:xfrm>
            <a:off x="4716360" y="3933720"/>
            <a:ext cx="3600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22:42:10Z</dcterms:created>
  <dc:creator>matveeva</dc:creator>
  <dc:description/>
  <dc:language>en-US</dc:language>
  <cp:lastModifiedBy>Janna</cp:lastModifiedBy>
  <dcterms:modified xsi:type="dcterms:W3CDTF">2019-02-02T14:27:40Z</dcterms:modified>
  <cp:revision>27</cp:revision>
  <dc:subject/>
  <dc:title>Федеральное агентство по образованию ГОУ ВПО государственный педагогический университет им. Л.Н.Толстого   ВЫПУСКНАЯ КВАЛИФИКАЦИОННАЯ РАБОТА</dc:title>
</cp:coreProperties>
</file>