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81B6-67D3-4F93-B943-0DCCD2805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4C8A-969C-420A-8A5F-26CCD58D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424A98-806F-4DC6-AFE1-D8AAA4EC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E6DA1-B725-44CE-93D1-8E1F09E1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63173-0EF4-4A78-88A4-542D658F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75354-4915-46B2-A163-6AC2396A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7996E-FD09-449C-B9E9-6EFC216C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E3E66-7AC3-4C23-B9A6-831E8205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ABE97-EBA8-4D10-B798-691B22FC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5F6AD-A40C-4147-9F46-F7EB58DC3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B2CDB2-B3C9-4079-935E-F832F2095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64793-C940-4110-9325-3D84A34D7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D75C-BD08-44A7-A1CE-844E995E9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92EE5-4147-4C5D-80AD-9059C896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08FA4-80C5-46B3-AE7D-766B518A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CA755-3408-45D7-AF00-4415091C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DB566-00CC-4AC7-83E0-18C53C30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EFA852-071E-4E3D-9D8A-CE49F8C5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3AF35F-E0B1-4138-8DC1-CFA52488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E36C57-FA52-4D8B-B900-33DC4818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7C5963-438F-4EF3-A33C-0280C065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DD8A1-3B0A-4A55-935E-51E4C186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C50002-A368-4990-969E-9480E6D6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5A33-73FC-49DE-B086-6BA95FD84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9B6D11-BC12-4A88-B320-34FE532E4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8CA5F-F359-48D8-80BF-97435C9D8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32966-26A0-4E3D-BE0A-E905B09D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882C1-9E56-4912-87ED-BDA013D4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80AA6-0081-4BFB-8442-47B1D9E4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0F274-35CA-48A9-A489-E5A87C49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6AC9E-64E8-40AA-98CA-57E04495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A12AA-E8B0-4672-BDEE-605C1DC9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7E414-10D9-416C-82BD-C03CE3A6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07A18-FB4D-4E33-8EE1-54CF8356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6368-CD92-4D81-9E8D-98A0E2D6D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DFDBB-6686-45A4-817B-C0FF4BA8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B49CA-9771-4058-8396-9CA26335F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348DF-B68C-4218-A801-724BB97CE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32E72B-CCC5-447D-9BBD-CC2B774B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86FDF8-348B-42E4-BE97-BFEFE40C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4948B8-2F56-4DEE-945A-BD7C2EEB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C8D0AF-EC8D-4537-893B-87BDCD21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0DFEC-5682-4035-86FC-00E5CBBF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CAA16-D299-43A0-AEED-4B084963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9C79FF-1CC7-4C20-A971-71F4416B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123E-EC66-455B-B91F-9BA0301F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06449-B88E-44A5-88A3-042C48C1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836813-BB8F-41B8-9814-ACEFEDCB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4D1569-6A12-44AB-B238-2F9EE41B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FA0963-6A6C-4FEC-B90E-57926FA26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7B4C8E-1F26-40FF-8DE6-4BA174885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4418C6-8B4A-481F-8E65-B2270F7A9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3889E4-8570-4B07-BEEF-5CC102D1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AAD558-D6BC-4D04-B02D-EFB52253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53E26E-9CD1-4F93-AD87-F857ADBE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547D1F-042A-443B-8A18-3DBCE7D3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4A73-BEBE-453D-837D-3BD32467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81BFA7-FBD7-4C0B-AF35-7FE23221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052E51-1903-4DAB-9F7D-9EBC68D1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89D400-2E63-4430-A74F-E5A3ADC5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649BB9-6B2F-4750-B8A4-0228E0DA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B8B047-AA5A-4AC7-990D-C5076BE0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27F862-9506-4619-93D5-0F43E898A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168831-8C3E-40D8-AB36-09C33DA5D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A21B73-46F6-4C37-8C08-E01E207AB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55E20B-31CB-434E-906A-043C6804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3E1AC0-42DC-41AF-AE46-5A50017D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024D-4A3D-4CDD-8178-73456A14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A0EAC1-6E42-4777-A9AF-E2331CBD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E74D02-943A-47AC-85D0-BE06FB46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D588B6-E106-4250-AE8A-205BC5B6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9DB7E1-82FB-4504-9BC3-E836DDA0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E7A082-1F53-4F23-AB09-393D2B36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5F7EBD-4EBD-4E3B-87D7-7201C59F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42CD5B-0772-4D44-B307-7A3E7ACF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DBE3B6-7B9F-47E7-A7BB-F838AB4E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87B5B1-FEDA-4C94-9040-6723F757E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DFD90B-0591-443C-B8AF-AADC120F7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FA1D-F099-4225-870B-B2BC7A12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579317-DCE3-44AE-896C-313B2533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3E6A71-4B70-4E15-B726-0D996170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69DDAB-C7E1-4286-8795-D3CD5355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C4AC7A-6583-4554-A1CB-048CCC46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5E57E9-78C7-4159-8C18-35E1CFC8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474DDC-F60D-4553-BC10-5C87D923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743415-5C89-41A0-8B70-9FCED55A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A0A32E-B83E-4EC9-BDBA-D4078B7D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D97984-7D7B-4863-B868-74CBE060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E244E7-957A-41EC-AABA-2EC349C32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F182-9298-48B9-96B4-FD955FE2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C633BB-606A-4A98-B8D1-27B4BBBB4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24DBF0-A0F1-4F42-AC06-52B9C7892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A41C9A-AB0D-479B-803A-EBE433BA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311094-0455-466E-9DD5-8EF11B75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3558FD-4EBA-4A3E-AF89-C6FFEEA1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1242F6-0BE3-4D45-87BB-F15FBA07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94082D-D09D-45C0-B58D-307779A9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F71EC0-9A85-4A83-82EA-213E25BF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A78737-EECB-4C95-A984-AB64A987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7CE293-7DF3-4A4E-AE4E-22A5D2D3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1EBC-1E62-43EC-9CE4-ECC34C53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FC5B60-DE05-47A8-AEF1-A6A61D7E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5399C8-3F49-4432-B75E-59BF2E6A7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998F82-476E-422B-8C62-94962060C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3D7F-F035-47F4-96C9-328B2768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CED8-F60A-433B-A7DD-9DA691B9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0720-3F62-422E-9653-ACB5B549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1841-5D89-4E23-9611-5CA16342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D0C0-BB18-4E16-9436-57793BBD1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16D0-13E0-412D-BE0E-F966DA4D1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1CF1F-6F53-4A93-A6B9-DD060502F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0D7CA-2996-46F2-BF60-FD5449D1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C21C9-7FB1-41AE-A6F6-B1804BBD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196DB-5CD3-4CD9-A79D-6CB02AD1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11806-E9BF-4A68-83B1-21849281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0EA4-D068-44D9-8DA6-63B34B06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6F584-4112-4233-AEFE-E979481C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AA8D2-CBC6-4BB9-8D5A-6942AEC0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7A752-E6F9-4E9E-9A2D-E436A3EA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92EE6-8328-4397-AA12-B646AA75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D55C7-D368-4F5F-BC04-F5C5AB24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D3416-41CC-498C-A342-3DDAAE34C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DEC95-FECA-4A64-85C7-7B548316B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73978-4658-4F17-9DB8-8731D11CE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8408B-C7A3-4845-9060-60C3E964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95997-02A0-4ACD-9C5A-7A4DCB82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C04F-2D41-4257-A3FA-B1BCB3C2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A3AA0-6794-4DE9-B2F9-38E9B7DD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DF497-E816-4FA0-B615-F6B4CA89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445B9-2385-455C-8E20-82805D6A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1B633-60C6-42AE-85AA-2956DE0F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40F9A-63DD-47B2-AA95-90D0F591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934CF-3B0F-4022-9A63-6BD49817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8039A-EABF-470F-8ACB-C7C87C50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8FCAF-62D1-4178-857F-74F80E21D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0DCFC-77C0-4333-8C3E-F377D2C5D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90C59-9A77-4487-8E45-4B1F39ADE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935A-042D-4A82-958F-52B1BD85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B8F34-515F-4954-8D89-72CD1277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06419-F783-4310-A3F7-AAA26687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A15EC-074B-4799-9C3D-99659281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FC811-08DE-4400-853C-52E6C043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5DB5B-1669-47DC-9355-265DAD74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948FA-A503-4C27-8A91-CBAB7354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C8DBA-C3BB-45DE-92EC-7EF663B5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24B79-C175-4EE6-9D08-979C9C40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09FFE-3099-4504-B757-E993B0F0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CB541-8D06-43BB-BBF0-C49A9A389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4814-15E3-4644-8A7A-3FFBB173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D5E71-9049-4E1B-A07A-FD6CEE82D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D81B0-C8FC-4D27-92BC-51C1C8044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D9174-DFB0-4D97-8782-FF8A8891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F78E4-21DF-4C32-B3AD-7330D147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15F5C-E92D-4946-BE14-1FFC8A3E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29877-86AE-4DE1-B393-DC41BDB2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47854-2152-4EF8-94A8-17B2A630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5B375-06C1-4EB4-8786-D7B3AD7C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CFDA1-2FC1-4C06-8D3F-8BF5F2AE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10CA0-25CA-4353-A57F-2653169A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69D9-3711-4D35-886D-77098CDD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34C15-A7C8-4204-BC17-DAD68338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DC334-2830-470D-8EE0-2297B9E97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F8C79-DD12-42DB-BBD7-7267D082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AA9D7-7167-41AC-94A3-CDEF4E773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37DC4-B55C-457E-B81D-5B9D39A7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87A10-2435-4FAD-B98F-A906C237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7A96C-3E79-407E-906F-D1EDA437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C3726-5D8A-42E5-9B13-6804C247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514FE-AA5F-489F-988B-C2FC776F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11A9A-1AE8-45B5-A6D2-EEF0C382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6074-A33C-48A4-B800-170B6C70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23A72-693C-4719-9070-6034E400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F57E7-CB66-4576-A55D-3E6545BE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8C1D3-23FF-448C-8330-DEDADDB5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CECE6-6ECC-4CBC-B2BB-555D78F4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40927-6883-4B93-89E2-FDA393282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2301E-84EF-44F2-B957-67913611A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49CB0-B927-4204-B6C8-402DD733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56D8F-EC57-44E0-BCA3-E9278E60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96AB1-2A30-44C4-921C-A8FCF82F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2A36F-6209-4939-87AC-4600F826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8DBB-7140-4510-B396-3162B561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8ED96-AD55-4F7D-8B91-281B6DB9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5DBF4-0A53-4977-A65E-358B7AB5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C3A99-10D7-4F08-91D7-E0C5201D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8177D-FDC9-4F3A-B29B-29A95F92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D28F0-CEF5-410C-AC2E-402535ED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35530-BCCE-4FB0-AB45-0300D6C04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0DB7C-3272-450C-A8BD-16A9E35E7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2E60C-37DA-4E16-9561-FA5FC3A66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F1D5F-21E8-4D38-BFDA-A20843A1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DAF293-F999-4D68-93BB-644DA935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18B9-AC15-4A38-8B5C-3441B12C8F6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4BBF-DD3D-43CB-BA9C-968D1210322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1D0B-9D2B-4826-A0D6-1543E3EEE9C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C25F-E5DA-43B0-BE8E-2BB0E857F8D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0F3E-9FFD-42D1-A273-B3E059CA3F6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20BF-2F54-4C6D-A66B-1DE27F83D6D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F69D-2839-4E8F-A961-74C720DEFB8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F8AB-7875-4220-BF03-62E3652E4CE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AE3E-37FF-49B2-A751-88CD3BC4D25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C117-9CF3-4B1F-A628-577C1413C4F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3355-730E-4E47-9B9B-A1721CE68C8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3F1D-DE70-4ABD-BF45-107E3D22367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FC00-8C78-4E36-8237-3CB81154F39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E2E4-AB4A-48D5-BE45-BBD684E5400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7319-2C01-42AC-932C-CA91D8DB145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669E-ED29-489F-8212-97FAEFE1FD5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8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1571400"/>
            <a:ext cx="7772400" cy="20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fd293"/>
                </a:solidFill>
                <a:latin typeface="Arial"/>
              </a:rPr>
              <a:t>ДЫМКОВСКАЯ ИГРУШКА</a:t>
            </a:r>
            <a:endParaRPr b="0" lang="en-US" sz="2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дактический материа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4" name="Picture 7" descr="P9030016"/>
          <p:cNvPicPr/>
          <p:nvPr/>
        </p:nvPicPr>
        <p:blipFill>
          <a:blip r:embed="rId1"/>
          <a:stretch/>
        </p:blipFill>
        <p:spPr>
          <a:xfrm>
            <a:off x="1332000" y="1628640"/>
            <a:ext cx="561636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7" name="Picture 17" descr="P9030008"/>
          <p:cNvPicPr/>
          <p:nvPr/>
        </p:nvPicPr>
        <p:blipFill>
          <a:blip r:embed="rId1"/>
          <a:stretch/>
        </p:blipFill>
        <p:spPr>
          <a:xfrm>
            <a:off x="1763640" y="1700280"/>
            <a:ext cx="5688000" cy="42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293"/>
                </a:solidFill>
                <a:latin typeface="Arial"/>
              </a:rPr>
              <a:t>Рисунки детей</a:t>
            </a:r>
            <a:endParaRPr b="0" lang="en-US" sz="2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89" name="Picture 10" descr="P9130034"/>
          <p:cNvPicPr/>
          <p:nvPr/>
        </p:nvPicPr>
        <p:blipFill>
          <a:blip r:embed="rId1"/>
          <a:stretch/>
        </p:blipFill>
        <p:spPr>
          <a:xfrm>
            <a:off x="5651640" y="981000"/>
            <a:ext cx="3028680" cy="403884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11" descr="P9130031"/>
          <p:cNvPicPr/>
          <p:nvPr/>
        </p:nvPicPr>
        <p:blipFill>
          <a:blip r:embed="rId2"/>
          <a:stretch/>
        </p:blipFill>
        <p:spPr>
          <a:xfrm>
            <a:off x="468360" y="692280"/>
            <a:ext cx="2185920" cy="291456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 txBox="1"/>
          <p:nvPr/>
        </p:nvSpPr>
        <p:spPr>
          <a:xfrm rot="16200000">
            <a:off x="2425320" y="3703680"/>
            <a:ext cx="331164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293"/>
                </a:solidFill>
                <a:latin typeface="Arial"/>
              </a:rPr>
              <a:t>Рисунки детей</a:t>
            </a:r>
            <a:endParaRPr b="0" lang="en-US" sz="2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93" name="Picture 9" descr="P9130036"/>
          <p:cNvPicPr/>
          <p:nvPr/>
        </p:nvPicPr>
        <p:blipFill>
          <a:blip r:embed="rId1"/>
          <a:stretch/>
        </p:blipFill>
        <p:spPr>
          <a:xfrm>
            <a:off x="468360" y="836640"/>
            <a:ext cx="2914560" cy="254628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26" descr="P9030018"/>
          <p:cNvPicPr/>
          <p:nvPr/>
        </p:nvPicPr>
        <p:blipFill>
          <a:blip r:embed="rId2"/>
          <a:stretch/>
        </p:blipFill>
        <p:spPr>
          <a:xfrm>
            <a:off x="5292720" y="105264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29" descr="P9030009"/>
          <p:cNvPicPr/>
          <p:nvPr/>
        </p:nvPicPr>
        <p:blipFill>
          <a:blip r:embed="rId3"/>
          <a:stretch/>
        </p:blipFill>
        <p:spPr>
          <a:xfrm>
            <a:off x="684360" y="3860640"/>
            <a:ext cx="2916000" cy="254808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30" descr="P9030008"/>
          <p:cNvPicPr/>
          <p:nvPr/>
        </p:nvPicPr>
        <p:blipFill>
          <a:blip r:embed="rId4"/>
          <a:stretch/>
        </p:blipFill>
        <p:spPr>
          <a:xfrm>
            <a:off x="4788000" y="3933720"/>
            <a:ext cx="3671640" cy="25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000" spc="-1" strike="noStrike" u="sng">
              <a:solidFill>
                <a:srgbClr val="dfd293"/>
              </a:solidFill>
              <a:uFillTx/>
              <a:latin typeface="Arial"/>
            </a:endParaRPr>
          </a:p>
        </p:txBody>
      </p:sp>
      <p:pic>
        <p:nvPicPr>
          <p:cNvPr id="659" name="Picture 17" descr="23633096_1209196174_006dimka"/>
          <p:cNvPicPr/>
          <p:nvPr/>
        </p:nvPicPr>
        <p:blipFill>
          <a:blip r:embed="rId1"/>
          <a:stretch/>
        </p:blipFill>
        <p:spPr>
          <a:xfrm>
            <a:off x="826920" y="1628640"/>
            <a:ext cx="737244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61" name="Picture 14" descr="mks-ped-toys-1"/>
          <p:cNvPicPr/>
          <p:nvPr/>
        </p:nvPicPr>
        <p:blipFill>
          <a:blip r:embed="rId1"/>
          <a:stretch/>
        </p:blipFill>
        <p:spPr>
          <a:xfrm>
            <a:off x="1042920" y="907920"/>
            <a:ext cx="734544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39640" y="5229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4" name="Picture 34" descr="705b04916dc7def18dcd293267d"/>
          <p:cNvPicPr/>
          <p:nvPr/>
        </p:nvPicPr>
        <p:blipFill>
          <a:blip r:embed="rId1"/>
          <a:stretch/>
        </p:blipFill>
        <p:spPr>
          <a:xfrm>
            <a:off x="1547640" y="1268280"/>
            <a:ext cx="633744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716000" y="1412640"/>
            <a:ext cx="403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7" name="Picture 7" descr="267025339"/>
          <p:cNvPicPr/>
          <p:nvPr/>
        </p:nvPicPr>
        <p:blipFill>
          <a:blip r:embed="rId1"/>
          <a:stretch/>
        </p:blipFill>
        <p:spPr>
          <a:xfrm>
            <a:off x="1835280" y="549360"/>
            <a:ext cx="4824360" cy="55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 u="sng">
              <a:solidFill>
                <a:srgbClr val="dfd293"/>
              </a:solidFill>
              <a:uFillTx/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380000" y="980640"/>
            <a:ext cx="13064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0" name="Picture 7" descr="271725954"/>
          <p:cNvPicPr/>
          <p:nvPr/>
        </p:nvPicPr>
        <p:blipFill>
          <a:blip r:embed="rId1"/>
          <a:stretch/>
        </p:blipFill>
        <p:spPr>
          <a:xfrm>
            <a:off x="2700360" y="981000"/>
            <a:ext cx="424800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 u="sng">
              <a:solidFill>
                <a:srgbClr val="dfd293"/>
              </a:solidFill>
              <a:uFillTx/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648320" y="1341360"/>
            <a:ext cx="40384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3" name="Picture 7" descr="79b511dbf3d2"/>
          <p:cNvPicPr/>
          <p:nvPr/>
        </p:nvPicPr>
        <p:blipFill>
          <a:blip r:embed="rId1"/>
          <a:stretch/>
        </p:blipFill>
        <p:spPr>
          <a:xfrm>
            <a:off x="2411280" y="1125360"/>
            <a:ext cx="439272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643280" y="1125360"/>
            <a:ext cx="43214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6" name="Picture 11" descr="artlib_gallery-84498-b"/>
          <p:cNvPicPr/>
          <p:nvPr/>
        </p:nvPicPr>
        <p:blipFill>
          <a:blip r:embed="rId1"/>
          <a:stretch/>
        </p:blipFill>
        <p:spPr>
          <a:xfrm>
            <a:off x="2411280" y="836640"/>
            <a:ext cx="511344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78" name="Picture 20" descr="P9030001"/>
          <p:cNvPicPr/>
          <p:nvPr/>
        </p:nvPicPr>
        <p:blipFill>
          <a:blip r:embed="rId1"/>
          <a:stretch/>
        </p:blipFill>
        <p:spPr>
          <a:xfrm>
            <a:off x="684360" y="148428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25" descr="P9030006"/>
          <p:cNvPicPr/>
          <p:nvPr/>
        </p:nvPicPr>
        <p:blipFill>
          <a:blip r:embed="rId2"/>
          <a:stretch/>
        </p:blipFill>
        <p:spPr>
          <a:xfrm>
            <a:off x="539640" y="414972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26" descr="P9030017"/>
          <p:cNvPicPr/>
          <p:nvPr/>
        </p:nvPicPr>
        <p:blipFill>
          <a:blip r:embed="rId3"/>
          <a:stretch/>
        </p:blipFill>
        <p:spPr>
          <a:xfrm>
            <a:off x="5076720" y="1413000"/>
            <a:ext cx="3313080" cy="218592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29" descr="dymka2"/>
          <p:cNvPicPr/>
          <p:nvPr/>
        </p:nvPicPr>
        <p:blipFill>
          <a:blip r:embed="rId4"/>
          <a:stretch/>
        </p:blipFill>
        <p:spPr>
          <a:xfrm>
            <a:off x="4716360" y="3933720"/>
            <a:ext cx="3600720" cy="2664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22:42:10Z</dcterms:created>
  <dc:creator>matveeva</dc:creator>
  <dc:description/>
  <dc:language>en-US</dc:language>
  <cp:lastModifiedBy>Janna</cp:lastModifiedBy>
  <dcterms:modified xsi:type="dcterms:W3CDTF">2019-02-02T14:27:40Z</dcterms:modified>
  <cp:revision>27</cp:revision>
  <dc:subject/>
  <dc:title>Федеральное агентство по образованию ГОУ ВПО государственный педагогический университет им. Л.Н.Толстого   ВЫПУСКНАЯ КВАЛИФИКАЦИОННАЯ РАБОТА</dc:title>
</cp:coreProperties>
</file>