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787-551A-4037-9F3B-EA48548C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D49-AC03-4944-A371-57BEAB35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F3E-423F-4736-859D-A0E616BC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A90-A5FC-43FE-A3D4-0263AAFE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0B1-5062-4653-A486-998222C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F36-6FAE-4DD5-82F1-E3F369C1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613-EFF1-4B00-A64C-7BC9C77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59B-1275-473D-81A0-7D9413D2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315-E6D6-4858-A3B8-92C8D4C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E28-2BDA-41C9-B860-137A195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AF5-71CE-4471-9AB2-748A5520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BD5-9FC4-4212-B7B5-9D3E03F8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2582-762B-4E4C-95F1-875D61CEE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258920" y="404640"/>
            <a:ext cx="662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Татьяна   Снежин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4859280" y="3068640"/>
            <a:ext cx="3240000" cy="23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удьб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р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059280" y="1557360"/>
            <a:ext cx="51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(1972 - 199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Снежина 2"/>
          <p:cNvPicPr/>
          <p:nvPr/>
        </p:nvPicPr>
        <p:blipFill>
          <a:blip r:embed="rId2"/>
          <a:stretch/>
        </p:blipFill>
        <p:spPr>
          <a:xfrm>
            <a:off x="971640" y="1700280"/>
            <a:ext cx="2678040" cy="38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26920" y="260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имо разносторонних занятий творчеством  после школы она поступила во 2-й Московский медицинский институт и была твёрдо намерена получить профессию врач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6445525C"/>
          <p:cNvPicPr/>
          <p:nvPr/>
        </p:nvPicPr>
        <p:blipFill>
          <a:blip r:embed="rId2"/>
          <a:srcRect l="4377" t="4663" r="6566" b="3691"/>
          <a:stretch/>
        </p:blipFill>
        <p:spPr>
          <a:xfrm>
            <a:off x="2700360" y="1844640"/>
            <a:ext cx="4681440" cy="293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снежина5"/>
          <p:cNvPicPr/>
          <p:nvPr/>
        </p:nvPicPr>
        <p:blipFill>
          <a:blip r:embed="rId2"/>
          <a:stretch/>
        </p:blipFill>
        <p:spPr>
          <a:xfrm>
            <a:off x="684360" y="1844640"/>
            <a:ext cx="1869840" cy="269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frameset1_002"/>
          <p:cNvPicPr/>
          <p:nvPr/>
        </p:nvPicPr>
        <p:blipFill>
          <a:blip r:embed="rId3"/>
          <a:srcRect l="5333" t="2563" r="5917" b="2531"/>
          <a:stretch/>
        </p:blipFill>
        <p:spPr>
          <a:xfrm>
            <a:off x="539640" y="1628640"/>
            <a:ext cx="2148120" cy="32432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187280" y="333360"/>
            <a:ext cx="73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ыми стали студенческие вечера с друзьями у клубного фортепья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276720" y="1341360"/>
            <a:ext cx="5256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втобиографии позднее Татьяна напишет: «Кто-то из друзей незаметно записал то, что я пела и играла, на магнитофон, и кассеты стали расходиться по знакомым, друзьям, родствен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был мой первый, а потому самый дорогой тираж, первая радость творческого удовлетворения. Сразу даже не верилось, что то, что писала для себя, нужно кому-то ещё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116000" y="26028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дьба сделала ещё один подарок Снежиной - любовь. Примерно через два месяца после знакомства Сергей сказал Татьяне, что он её любит и намерен сделать ей официальное предложение выйти за него заму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2DF1762"/>
          <p:cNvPicPr/>
          <p:nvPr/>
        </p:nvPicPr>
        <p:blipFill>
          <a:blip r:embed="rId2"/>
          <a:srcRect l="1248" t="1542" r="1696" b="1239"/>
          <a:stretch/>
        </p:blipFill>
        <p:spPr>
          <a:xfrm>
            <a:off x="611280" y="2924280"/>
            <a:ext cx="4392360" cy="267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frameset1_031"/>
          <p:cNvPicPr/>
          <p:nvPr/>
        </p:nvPicPr>
        <p:blipFill>
          <a:blip r:embed="rId3"/>
          <a:srcRect l="3250" t="2083" r="2188" b="2042"/>
          <a:stretch/>
        </p:blipFill>
        <p:spPr>
          <a:xfrm>
            <a:off x="395280" y="2708280"/>
            <a:ext cx="4751280" cy="3090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292720" y="2924280"/>
            <a:ext cx="331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щё через два месяца он его сделал и получил соглас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адьбу назначили на 13 сен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01_b"/>
          <p:cNvPicPr/>
          <p:nvPr/>
        </p:nvPicPr>
        <p:blipFill>
          <a:blip r:embed="rId2"/>
          <a:stretch/>
        </p:blipFill>
        <p:spPr>
          <a:xfrm>
            <a:off x="468360" y="2133720"/>
            <a:ext cx="3544920" cy="35766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900000" y="189000"/>
            <a:ext cx="77788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ако жизн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рядилась по- друг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ё, что знаем мы о случившемся, - это скупые милицейские протоколы и показания свиде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716360" y="1916280"/>
            <a:ext cx="3276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21 августа 1995 года на 106-м километре  трассы Барнаул - Новосибирск микроавтобус «Ниссан" столкнулся с грузовым автомобилем "МАЗ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1116000" y="404640"/>
            <a:ext cx="78120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 дорожно-транспортного происшествия погибли, не приходя в сознание, все шесть пассажиров микроавтобуса: директор МКЦ «Пионер" Сергей Бугаев, певица Татьяна Снежина, кандидат наук Шамиль Файзрахманов, директор аптеки "Мастер-вет" Игорь Головин, его супруга врач Головина Ирина и их пятилетний сын Владик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01_b"/>
          <p:cNvPicPr/>
          <p:nvPr/>
        </p:nvPicPr>
        <p:blipFill>
          <a:blip r:embed="rId2"/>
          <a:srcRect l="0" t="0" r="0" b="12233"/>
          <a:stretch/>
        </p:blipFill>
        <p:spPr>
          <a:xfrm>
            <a:off x="900000" y="3429000"/>
            <a:ext cx="2355840" cy="313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снежина23"/>
          <p:cNvPicPr/>
          <p:nvPr/>
        </p:nvPicPr>
        <p:blipFill>
          <a:blip r:embed="rId2"/>
          <a:srcRect l="0" t="0" r="0" b="3944"/>
          <a:stretch/>
        </p:blipFill>
        <p:spPr>
          <a:xfrm>
            <a:off x="755640" y="162864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995640" y="765000"/>
            <a:ext cx="4896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усть я ж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ез вре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усть я ж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праведн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 лишь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стите 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всё пойм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ави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2195640" y="1052640"/>
            <a:ext cx="47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1079640" y="333360"/>
            <a:ext cx="77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ворят, что Бог отбирает самых лучших на Земле и забирает их к себе раньше срока, отмеренного просты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4000" y="1916280"/>
            <a:ext cx="4537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 взял талант на самом его взлёте, невесту за несколько дней до венчания, любимого человека у родных, близких и друзей в самый пик их счастья и радости за Та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95280" y="530064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ались Танины песни. Песни, известные и десятки еще не спетых. Они ждут своих испол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54000000073"/>
          <p:cNvPicPr/>
          <p:nvPr/>
        </p:nvPicPr>
        <p:blipFill>
          <a:blip r:embed="rId2"/>
          <a:stretch/>
        </p:blipFill>
        <p:spPr>
          <a:xfrm>
            <a:off x="5580000" y="1628640"/>
            <a:ext cx="2595600" cy="331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снежина2"/>
          <p:cNvPicPr/>
          <p:nvPr/>
        </p:nvPicPr>
        <p:blipFill>
          <a:blip r:embed="rId2"/>
          <a:stretch/>
        </p:blipFill>
        <p:spPr>
          <a:xfrm>
            <a:off x="5364000" y="1125360"/>
            <a:ext cx="2864160" cy="38862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52" name="Rectangle 6"/>
          <p:cNvSpPr/>
          <p:nvPr/>
        </p:nvSpPr>
        <p:spPr>
          <a:xfrm>
            <a:off x="539640" y="981000"/>
            <a:ext cx="54723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хочу, чтоб в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й жизн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было б 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зла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б судьба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скай капризной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 разборчи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а.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AE3758A"/>
          <p:cNvPicPr/>
          <p:nvPr/>
        </p:nvPicPr>
        <p:blipFill>
          <a:blip r:embed="rId2"/>
          <a:srcRect l="14573" t="8930" r="57595" b="59829"/>
          <a:stretch/>
        </p:blipFill>
        <p:spPr>
          <a:xfrm>
            <a:off x="539640" y="2492280"/>
            <a:ext cx="27892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971640" y="260280"/>
            <a:ext cx="79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этесса, композитор, автор и исполнитель своих пе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ё жизнь трагически оборвалась на самом взлёте таланта и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995640" y="2924280"/>
            <a:ext cx="4105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знание не успело принять Татьяну в свои объятия пр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о пришло сейчас. Её поэзию знают и любят в России и за руб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84360" y="333360"/>
            <a:ext cx="84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лась Т Снежина 14 мая 1972 года на Украине 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ё отец  военнослужащ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а с мамой и братом вынуждена была часто переезжать на новое место его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снежина4"/>
          <p:cNvPicPr/>
          <p:nvPr/>
        </p:nvPicPr>
        <p:blipFill>
          <a:blip r:embed="rId2"/>
          <a:stretch/>
        </p:blipFill>
        <p:spPr>
          <a:xfrm>
            <a:off x="5867280" y="2060640"/>
            <a:ext cx="2487600" cy="363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 папой"/>
          <p:cNvPicPr/>
          <p:nvPr/>
        </p:nvPicPr>
        <p:blipFill>
          <a:blip r:embed="rId3"/>
          <a:stretch/>
        </p:blipFill>
        <p:spPr>
          <a:xfrm>
            <a:off x="611280" y="2492280"/>
            <a:ext cx="4319640" cy="3146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1547640" y="61657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ма и папа - лучшие 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71640" y="260280"/>
            <a:ext cx="781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ство Татьяны было безоблачным и радостным. Мама очень рано научила дочку играть на пианино, позже девочка успешно закончила музыкальную шк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20_b"/>
          <p:cNvPicPr/>
          <p:nvPr/>
        </p:nvPicPr>
        <p:blipFill>
          <a:blip r:embed="rId2"/>
          <a:stretch/>
        </p:blipFill>
        <p:spPr>
          <a:xfrm>
            <a:off x="5435640" y="1700280"/>
            <a:ext cx="2960640" cy="453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50920" y="2421000"/>
            <a:ext cx="4608360" cy="36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ше старое пианино… Когда я смотрю на него, мне кажется, что все годы оно было членом семьи, радовалось и печалилось, болело и выздоравливало вместе со м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 ещё не умела говорить, но уже ударяла своими детскими пальчиками по клавишам, пыталась показать окружающему миру свои чувства и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_11282399"/>
          <p:cNvPicPr/>
          <p:nvPr/>
        </p:nvPicPr>
        <p:blipFill>
          <a:blip r:embed="rId2"/>
          <a:stretch/>
        </p:blipFill>
        <p:spPr>
          <a:xfrm>
            <a:off x="468360" y="2349360"/>
            <a:ext cx="2678040" cy="410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E201232"/>
          <p:cNvPicPr/>
          <p:nvPr/>
        </p:nvPicPr>
        <p:blipFill>
          <a:blip r:embed="rId3"/>
          <a:srcRect l="13077" t="0" r="2767" b="0"/>
          <a:stretch/>
        </p:blipFill>
        <p:spPr>
          <a:xfrm>
            <a:off x="5724360" y="1700280"/>
            <a:ext cx="2683080" cy="4103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116000" y="26028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ычной школе Татьяна  училась очень хорошо, у неё было много друзей.    Она успевала заниматься и живописью, и вокалом, и хореограф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444000" y="60930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97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5265C9E"/>
          <p:cNvPicPr/>
          <p:nvPr/>
        </p:nvPicPr>
        <p:blipFill>
          <a:blip r:embed="rId2"/>
          <a:srcRect l="911" t="0" r="1009" b="3346"/>
          <a:stretch/>
        </p:blipFill>
        <p:spPr>
          <a:xfrm>
            <a:off x="3924360" y="981000"/>
            <a:ext cx="4608360" cy="2625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826920" y="1890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гда был рядом брат Вадим. Он любил сестру и нежно заботился о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4000" y="407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CBFD4C10"/>
          <p:cNvPicPr/>
          <p:nvPr/>
        </p:nvPicPr>
        <p:blipFill>
          <a:blip r:embed="rId3"/>
          <a:srcRect l="0" t="1882" r="757" b="1217"/>
          <a:stretch/>
        </p:blipFill>
        <p:spPr>
          <a:xfrm>
            <a:off x="539640" y="3860640"/>
            <a:ext cx="4321440" cy="2622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611280" y="2565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детства папа  защитник и о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508720" y="5013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папой на качелях ничего не стра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647640" y="476280"/>
            <a:ext cx="84963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следующие годы семья вынуждена была сменить несколько мест жительства: Камчатка, Москва, Новосибирс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тьяна увлекалась поэ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 Пастернака, М. Цветае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Гейн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иким человек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том называла И. Таль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а писать стихи  нач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ннем возрасте и за с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олгую жизнь ост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ое количество пе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ти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EF499B6"/>
          <p:cNvPicPr/>
          <p:nvPr/>
        </p:nvPicPr>
        <p:blipFill>
          <a:blip r:embed="rId2"/>
          <a:srcRect l="2043" t="0" r="0" b="0"/>
          <a:stretch/>
        </p:blipFill>
        <p:spPr>
          <a:xfrm>
            <a:off x="5435640" y="1989000"/>
            <a:ext cx="2806560" cy="40546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71640" y="260280"/>
            <a:ext cx="781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тьяне нравились занятия живописью. Она мастерски владела красками, любила граф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 не знают, что её кисти принадлежат замечательные карт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171C16B6"/>
          <p:cNvPicPr/>
          <p:nvPr/>
        </p:nvPicPr>
        <p:blipFill>
          <a:blip r:embed="rId2"/>
          <a:stretch/>
        </p:blipFill>
        <p:spPr>
          <a:xfrm>
            <a:off x="250920" y="2205000"/>
            <a:ext cx="3994200" cy="299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B6D262C0"/>
          <p:cNvPicPr/>
          <p:nvPr/>
        </p:nvPicPr>
        <p:blipFill>
          <a:blip r:embed="rId3"/>
          <a:srcRect l="1124" t="1246" r="1229" b="0"/>
          <a:stretch/>
        </p:blipFill>
        <p:spPr>
          <a:xfrm>
            <a:off x="4643280" y="220500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4788000" y="5516640"/>
            <a:ext cx="3619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ни  со  мн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684360" y="5373720"/>
            <a:ext cx="30240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ень  золот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44:11Z</dcterms:created>
  <dc:creator>Администратор</dc:creator>
  <dc:description/>
  <dc:language>en-US</dc:language>
  <cp:lastModifiedBy>Алиса</cp:lastModifiedBy>
  <dcterms:modified xsi:type="dcterms:W3CDTF">2013-01-22T17:01:22Z</dcterms:modified>
  <cp:revision>8</cp:revision>
  <dc:subject/>
  <dc:title>Слайд 1</dc:title>
</cp:coreProperties>
</file>