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4EA-A614-4F6F-8710-F01A4124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88A-7EB8-4F4E-8FFF-881BEEDA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24A6-7AB1-43E4-A1D8-DAC52A02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2B7-E21A-4461-8A55-DED4587E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12D-0632-41B3-8843-912E62B5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63AB-0FC1-4554-AFB9-76A1C89E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9CA-D5BF-4FA6-9A23-4C913906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7F4-F771-4743-B21E-E97E452A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E7BD-9B71-48E0-9847-766E6093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4BB0-560A-4E66-8C4A-D7BD38E8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FF67-F31B-4783-97CC-5BEE7A1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94A-39DE-4966-8C4C-21D8C9D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0D1C-4CDE-4857-A2B4-CD317D1E7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6"/>
          <p:cNvSpPr txBox="1"/>
          <p:nvPr/>
        </p:nvSpPr>
        <p:spPr>
          <a:xfrm>
            <a:off x="1258920" y="404640"/>
            <a:ext cx="6624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Татьяна   Снежин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4859280" y="3068640"/>
            <a:ext cx="3240000" cy="23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удьб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ири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059280" y="1557360"/>
            <a:ext cx="5111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800080"/>
                </a:solidFill>
                <a:latin typeface="Arial"/>
              </a:rPr>
              <a:t>(1972 - 199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Снежина 2"/>
          <p:cNvPicPr/>
          <p:nvPr/>
        </p:nvPicPr>
        <p:blipFill>
          <a:blip r:embed="rId2"/>
          <a:stretch/>
        </p:blipFill>
        <p:spPr>
          <a:xfrm>
            <a:off x="971640" y="1700280"/>
            <a:ext cx="2678040" cy="3824280"/>
          </a:xfrm>
          <a:prstGeom prst="rect">
            <a:avLst/>
          </a:prstGeom>
          <a:ln w="76320">
            <a:solidFill>
              <a:srgbClr val="ff66ff"/>
            </a:solidFill>
            <a:miter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26920" y="260280"/>
            <a:ext cx="799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мимо разносторонних занятий творчеством  после школы она поступила во 2-й Московский медицинский институт и была твёрдо намерена получить профессию врача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6445525C"/>
          <p:cNvPicPr/>
          <p:nvPr/>
        </p:nvPicPr>
        <p:blipFill>
          <a:blip r:embed="rId2"/>
          <a:srcRect l="4377" t="4663" r="6566" b="3691"/>
          <a:stretch/>
        </p:blipFill>
        <p:spPr>
          <a:xfrm>
            <a:off x="2700360" y="1844640"/>
            <a:ext cx="4681440" cy="293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снежина5"/>
          <p:cNvPicPr/>
          <p:nvPr/>
        </p:nvPicPr>
        <p:blipFill>
          <a:blip r:embed="rId2"/>
          <a:stretch/>
        </p:blipFill>
        <p:spPr>
          <a:xfrm>
            <a:off x="684360" y="1844640"/>
            <a:ext cx="1869840" cy="2697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frameset1_002"/>
          <p:cNvPicPr/>
          <p:nvPr/>
        </p:nvPicPr>
        <p:blipFill>
          <a:blip r:embed="rId3"/>
          <a:srcRect l="5333" t="2563" r="5917" b="2531"/>
          <a:stretch/>
        </p:blipFill>
        <p:spPr>
          <a:xfrm>
            <a:off x="539640" y="1628640"/>
            <a:ext cx="2148120" cy="32432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187280" y="333360"/>
            <a:ext cx="73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ыми стали студенческие вечера с друзьями у клубного фортепья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276720" y="1341360"/>
            <a:ext cx="5256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автобиографии позднее Татьяна напишет: «Кто-то из друзей незаметно записал то, что я пела и играла, на магнитофон, и кассеты стали расходиться по знакомым, друзьям, родствен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был мой первый, а потому самый дорогой тираж, первая радость творческого удовлетворения. Сразу даже не верилось, что то, что писала для себя, нужно кому-то ещё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116000" y="26028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дьба сделала ещё один подарок Снежиной - любовь. Примерно через два месяца после знакомства Сергей сказал Татьяне, что он её любит и намерен сделать ей официальное предложение выйти за него замуж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2DF1762"/>
          <p:cNvPicPr/>
          <p:nvPr/>
        </p:nvPicPr>
        <p:blipFill>
          <a:blip r:embed="rId2"/>
          <a:srcRect l="1248" t="1542" r="1696" b="1239"/>
          <a:stretch/>
        </p:blipFill>
        <p:spPr>
          <a:xfrm>
            <a:off x="611280" y="2924280"/>
            <a:ext cx="4392360" cy="267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frameset1_031"/>
          <p:cNvPicPr/>
          <p:nvPr/>
        </p:nvPicPr>
        <p:blipFill>
          <a:blip r:embed="rId3"/>
          <a:srcRect l="3250" t="2083" r="2188" b="2042"/>
          <a:stretch/>
        </p:blipFill>
        <p:spPr>
          <a:xfrm>
            <a:off x="395280" y="2708280"/>
            <a:ext cx="4751280" cy="30909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8"/>
          <p:cNvSpPr/>
          <p:nvPr/>
        </p:nvSpPr>
        <p:spPr>
          <a:xfrm>
            <a:off x="5292720" y="2924280"/>
            <a:ext cx="331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щё через два месяца он его сделал и получил соглас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адьбу назначили на 13 сентяб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101_b"/>
          <p:cNvPicPr/>
          <p:nvPr/>
        </p:nvPicPr>
        <p:blipFill>
          <a:blip r:embed="rId2"/>
          <a:stretch/>
        </p:blipFill>
        <p:spPr>
          <a:xfrm>
            <a:off x="468360" y="2133720"/>
            <a:ext cx="3544920" cy="35766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900000" y="189000"/>
            <a:ext cx="77788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нако жизн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орядилась по- друг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ё, что знаем мы о случившемся, - это скупые милицейские протоколы и показания свиде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716360" y="1916280"/>
            <a:ext cx="327672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"21 августа 1995 года на 106-м километре  трассы Барнаул - Новосибирск микроавтобус «Ниссан" столкнулся с грузовым автомобилем "МАЗ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1116000" y="404640"/>
            <a:ext cx="781200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езультате  дорожно-транспортного происшествия погибли, не приходя в сознание, все шесть пассажиров микроавтобуса: директор МКЦ «Пионер" Сергей Бугаев, певица Татьяна Снежина, кандидат наук Шамиль Файзрахманов, директор аптеки "Мастер-вет" Игорь Головин, его супруга врач Головина Ирина и их пятилетний сын Владик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101_b"/>
          <p:cNvPicPr/>
          <p:nvPr/>
        </p:nvPicPr>
        <p:blipFill>
          <a:blip r:embed="rId2"/>
          <a:srcRect l="0" t="0" r="0" b="12233"/>
          <a:stretch/>
        </p:blipFill>
        <p:spPr>
          <a:xfrm>
            <a:off x="900000" y="3429000"/>
            <a:ext cx="2355840" cy="313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снежина23"/>
          <p:cNvPicPr/>
          <p:nvPr/>
        </p:nvPicPr>
        <p:blipFill>
          <a:blip r:embed="rId2"/>
          <a:srcRect l="0" t="0" r="0" b="3944"/>
          <a:stretch/>
        </p:blipFill>
        <p:spPr>
          <a:xfrm>
            <a:off x="755640" y="1628640"/>
            <a:ext cx="266688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995640" y="765000"/>
            <a:ext cx="4896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усть я ж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ез време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усть я ж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еправедно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ы лишь тепе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остите 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всё пойм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рави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2195640" y="1052640"/>
            <a:ext cx="47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1079640" y="333360"/>
            <a:ext cx="77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ворят, что Бог отбирает самых лучших на Земле и забирает их к себе раньше срока, отмеренного просты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24000" y="1916280"/>
            <a:ext cx="4537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 взял талант на самом его взлёте, невесту за несколько дней до венчания, любимого человека у родных, близких и друзей в самый пик их счастья и радости за Та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    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95280" y="530064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ались Танины песни. Песни, известные и десятки еще не спетых. Они ждут своих исполн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54000000073"/>
          <p:cNvPicPr/>
          <p:nvPr/>
        </p:nvPicPr>
        <p:blipFill>
          <a:blip r:embed="rId2"/>
          <a:stretch/>
        </p:blipFill>
        <p:spPr>
          <a:xfrm>
            <a:off x="5580000" y="1628640"/>
            <a:ext cx="2595600" cy="331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снежина2"/>
          <p:cNvPicPr/>
          <p:nvPr/>
        </p:nvPicPr>
        <p:blipFill>
          <a:blip r:embed="rId2"/>
          <a:stretch/>
        </p:blipFill>
        <p:spPr>
          <a:xfrm>
            <a:off x="5364000" y="1125360"/>
            <a:ext cx="2864160" cy="3886200"/>
          </a:xfrm>
          <a:prstGeom prst="rect">
            <a:avLst/>
          </a:prstGeom>
          <a:ln w="76320">
            <a:solidFill>
              <a:srgbClr val="800000"/>
            </a:solidFill>
            <a:miter/>
          </a:ln>
        </p:spPr>
      </p:pic>
      <p:sp>
        <p:nvSpPr>
          <p:cNvPr id="52" name="Rectangle 6"/>
          <p:cNvSpPr/>
          <p:nvPr/>
        </p:nvSpPr>
        <p:spPr>
          <a:xfrm>
            <a:off x="539640" y="981000"/>
            <a:ext cx="54723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Я хочу, чтоб в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этой жизни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 было б  об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зла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б судьба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скай капризной,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о разборчи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ыла.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AAE3758A"/>
          <p:cNvPicPr/>
          <p:nvPr/>
        </p:nvPicPr>
        <p:blipFill>
          <a:blip r:embed="rId2"/>
          <a:srcRect l="14573" t="8930" r="57595" b="59829"/>
          <a:stretch/>
        </p:blipFill>
        <p:spPr>
          <a:xfrm>
            <a:off x="539640" y="2492280"/>
            <a:ext cx="2789280" cy="371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971640" y="260280"/>
            <a:ext cx="7921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этесса, композитор, автор и исполнитель своих пес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ё жизнь трагически оборвалась на самом взлёте таланта и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995640" y="2924280"/>
            <a:ext cx="4105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знание не успело принять Татьяну в свои объятия при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о пришло сейчас. Её поэзию знают и любят в России и за рубе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84360" y="333360"/>
            <a:ext cx="845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дилась Т Снежина 14 мая 1972 года на Украине 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ё отец  военнослужащ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а с мамой и братом вынуждена была часто переезжать на новое место его служ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снежина4"/>
          <p:cNvPicPr/>
          <p:nvPr/>
        </p:nvPicPr>
        <p:blipFill>
          <a:blip r:embed="rId2"/>
          <a:stretch/>
        </p:blipFill>
        <p:spPr>
          <a:xfrm>
            <a:off x="5867280" y="2060640"/>
            <a:ext cx="2487600" cy="3633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с папой"/>
          <p:cNvPicPr/>
          <p:nvPr/>
        </p:nvPicPr>
        <p:blipFill>
          <a:blip r:embed="rId3"/>
          <a:stretch/>
        </p:blipFill>
        <p:spPr>
          <a:xfrm>
            <a:off x="611280" y="2492280"/>
            <a:ext cx="4319640" cy="3146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1547640" y="61657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ма и папа - лучшие друз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71640" y="260280"/>
            <a:ext cx="781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ство Татьяны было безоблачным и радостным. Мама очень рано научила дочку играть на пианино, позже девочка успешно закончила музыкальную шк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20_b"/>
          <p:cNvPicPr/>
          <p:nvPr/>
        </p:nvPicPr>
        <p:blipFill>
          <a:blip r:embed="rId2"/>
          <a:stretch/>
        </p:blipFill>
        <p:spPr>
          <a:xfrm>
            <a:off x="5435640" y="1700280"/>
            <a:ext cx="2960640" cy="45352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250920" y="2421000"/>
            <a:ext cx="4608360" cy="36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аше старое пианино… Когда я смотрю на него, мне кажется, что все годы оно было членом семьи, радовалось и печалилось, болело и выздоравливало вместе со м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 ещё не умела говорить, но уже ударяла своими детскими пальчиками по клавишам, пыталась показать окружающему миру свои чувства и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f_11282399"/>
          <p:cNvPicPr/>
          <p:nvPr/>
        </p:nvPicPr>
        <p:blipFill>
          <a:blip r:embed="rId2"/>
          <a:stretch/>
        </p:blipFill>
        <p:spPr>
          <a:xfrm>
            <a:off x="468360" y="2349360"/>
            <a:ext cx="2678040" cy="4105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E201232"/>
          <p:cNvPicPr/>
          <p:nvPr/>
        </p:nvPicPr>
        <p:blipFill>
          <a:blip r:embed="rId3"/>
          <a:srcRect l="13077" t="0" r="2767" b="0"/>
          <a:stretch/>
        </p:blipFill>
        <p:spPr>
          <a:xfrm>
            <a:off x="5724360" y="1700280"/>
            <a:ext cx="2683080" cy="410364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116000" y="26028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бычной школе Татьяна  училась очень хорошо, у неё было много друзей.    Она успевала заниматься и живописью, и вокалом, и хореограф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6444000" y="6093000"/>
            <a:ext cx="12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979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5265C9E"/>
          <p:cNvPicPr/>
          <p:nvPr/>
        </p:nvPicPr>
        <p:blipFill>
          <a:blip r:embed="rId2"/>
          <a:srcRect l="911" t="0" r="1009" b="3346"/>
          <a:stretch/>
        </p:blipFill>
        <p:spPr>
          <a:xfrm>
            <a:off x="3924360" y="981000"/>
            <a:ext cx="4608360" cy="2625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826920" y="189000"/>
            <a:ext cx="784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гда был рядом брат Вадим. Он любил сестру и нежно заботился о 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4000" y="4076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CBFD4C10"/>
          <p:cNvPicPr/>
          <p:nvPr/>
        </p:nvPicPr>
        <p:blipFill>
          <a:blip r:embed="rId3"/>
          <a:srcRect l="0" t="1882" r="757" b="1217"/>
          <a:stretch/>
        </p:blipFill>
        <p:spPr>
          <a:xfrm>
            <a:off x="539640" y="3860640"/>
            <a:ext cx="4321440" cy="2622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611280" y="2565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детства папа  защитник и оп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5508720" y="5013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папой на качелях ничего не страш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1"/>
          <p:cNvSpPr/>
          <p:nvPr/>
        </p:nvSpPr>
        <p:spPr>
          <a:xfrm>
            <a:off x="647640" y="476280"/>
            <a:ext cx="849636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последующие годы семья вынуждена была сменить несколько мест жительства: Камчатка, Москва, Новосибирс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тьяна увлекалась поэз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 Пастернака, М. Цветаев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Гейн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ликим человеком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этом называла И. Тальк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а писать стихи  нач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ннем возрасте и за сво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долгую жизнь остав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громное количество пе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стих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EF499B6"/>
          <p:cNvPicPr/>
          <p:nvPr/>
        </p:nvPicPr>
        <p:blipFill>
          <a:blip r:embed="rId2"/>
          <a:srcRect l="2043" t="0" r="0" b="0"/>
          <a:stretch/>
        </p:blipFill>
        <p:spPr>
          <a:xfrm>
            <a:off x="5435640" y="1989000"/>
            <a:ext cx="2806560" cy="405468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Р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971640" y="260280"/>
            <a:ext cx="78105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тьяне нравились занятия живописью. Она мастерски владела красками, любила граф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ногие  не знают, что её кисти принадлежат замечательные карт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171C16B6"/>
          <p:cNvPicPr/>
          <p:nvPr/>
        </p:nvPicPr>
        <p:blipFill>
          <a:blip r:embed="rId2"/>
          <a:stretch/>
        </p:blipFill>
        <p:spPr>
          <a:xfrm>
            <a:off x="250920" y="2205000"/>
            <a:ext cx="3994200" cy="2997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B6D262C0"/>
          <p:cNvPicPr/>
          <p:nvPr/>
        </p:nvPicPr>
        <p:blipFill>
          <a:blip r:embed="rId3"/>
          <a:srcRect l="1124" t="1246" r="1229" b="0"/>
          <a:stretch/>
        </p:blipFill>
        <p:spPr>
          <a:xfrm>
            <a:off x="4643280" y="2205000"/>
            <a:ext cx="4032360" cy="302580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4788000" y="5516640"/>
            <a:ext cx="3619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помни  со  мно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684360" y="5373720"/>
            <a:ext cx="30240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сень  золот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3:44:11Z</dcterms:created>
  <dc:creator>Администратор</dc:creator>
  <dc:description/>
  <dc:language>en-US</dc:language>
  <cp:lastModifiedBy>Алиса</cp:lastModifiedBy>
  <dcterms:modified xsi:type="dcterms:W3CDTF">2013-01-22T17:01:22Z</dcterms:modified>
  <cp:revision>8</cp:revision>
  <dc:subject/>
  <dc:title>Слайд 1</dc:title>
</cp:coreProperties>
</file>