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06280" y="812520"/>
            <a:ext cx="5338440" cy="40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A05506-2032-466B-83F5-70BBDDCFB53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10386E-9529-4FA8-9E7C-CCE303FFC04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26281F-E734-46F9-80C5-132C43C0388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93F935-3384-4E5C-BDF4-4757FCA4AC2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37000" cy="40035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3680" cy="47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4B8586-AFA8-4FC2-8F2E-82386EB6365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37000" cy="40035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3680" cy="47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F3E587-45B1-414E-BAD7-464C91D4A85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37000" cy="40035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3680" cy="47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B90F04-7C08-4716-9A07-23D893D4D8F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CA450B-F6C7-412F-91A6-0C24F842FC7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0B9B95-A906-4E59-BB3F-A6CA3800E37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A00C76-0128-4A9F-B5EB-99A0EA8B80B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3B3E30-2928-4794-9EF2-1FD378D20C5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91CA-945C-436A-842C-7ACA09B3C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9BAF-1345-49E2-BD1A-8C92B21B2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7595-40BA-4F11-BF4D-C72440DCD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644A-EE4A-4986-A0E5-AD20E2C6E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AFE39-DB0B-4443-9B74-138DE4F55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1531C-63F8-4E0C-BB83-2408D8AD0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F7E17-5FAF-4FBC-B17E-C5AF93D77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7D910-91CE-4E12-BF67-25490988E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542FB-85DB-4EA3-B105-0301692AC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312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CF800-AE29-4CD0-B292-763C77476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E7BAA-BC5F-4405-8475-EE6DDB24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92E2-8DEB-4962-9A02-3FFCDF3EC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058AF-11CA-4ABF-97E3-CE29795B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6AB46-AD2A-43C1-91AC-31E9C7D0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28CF9-F0AD-4328-8BD3-4A9C34400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F0D23-63E6-4B00-A7E2-0BD5CBC47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05EB6-7CED-4951-A2A8-9FC94E42B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D7DD-E534-41E1-847F-C6907AD04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7862-9F4F-43A7-A43A-DA5A28C6A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7204-4FF2-42E7-86FB-5502B2D19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312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00EB-0A65-49E3-8B4D-AE8C5C975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1D77-96C7-476F-8960-F222B200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8396-FF85-4E2E-AC07-82F0D9EB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3B45-D4AD-4781-9D3B-DB9563AE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3885840"/>
            <a:ext cx="6394320" cy="17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36000"/>
          </a:bodyPr>
          <a:p>
            <a:pPr marL="123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23480" indent="-123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23480" indent="-123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3480" indent="-123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23480" indent="-123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23480" indent="-123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23480" indent="-123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Arial Unicode MS"/>
              </a:rPr>
              <a:t>1.3.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8936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373DE0-2FAD-471B-A9C5-D035E829A6DA}" type="slidenum">
              <a:rPr b="0" lang="ru-RU" sz="1200" spc="-1" strike="noStrike">
                <a:solidFill>
                  <a:srgbClr val="8b8b8b"/>
                </a:solidFill>
                <a:latin typeface="Calibri"/>
                <a:ea typeface="Arial Unicode MS"/>
              </a:rPr>
              <a:t>&lt;number&gt;</a:t>
            </a:fld>
            <a:fld id="{ACA2BABD-2360-49BC-A0BD-60389B5BC769}" type="slidenum">
              <a:rPr b="0" lang="ru-RU" sz="1200" spc="-1" strike="noStrike">
                <a:solidFill>
                  <a:srgbClr val="8b8b8b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6000"/>
          </a:bodyPr>
          <a:p>
            <a:pPr marL="32904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Arial Unicode MS"/>
              </a:rPr>
              <a:t>1.3.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8936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6A944DB-B821-45CF-9790-452872D9FB2E}" type="slidenum">
              <a:rPr b="0" lang="ru-RU" sz="1200" spc="-1" strike="noStrike">
                <a:solidFill>
                  <a:srgbClr val="8b8b8b"/>
                </a:solidFill>
                <a:latin typeface="Calibri"/>
                <a:ea typeface="Arial Unicode MS"/>
              </a:rPr>
              <a:t>&lt;number&gt;</a:t>
            </a:fld>
            <a:fld id="{ED25DA0F-2E46-470E-92C6-4B2A275AEF98}" type="slidenum">
              <a:rPr b="0" lang="ru-RU" sz="1200" spc="-1" strike="noStrike">
                <a:solidFill>
                  <a:srgbClr val="8b8b8b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Дата 1"/>
          <p:cNvSpPr/>
          <p:nvPr/>
        </p:nvSpPr>
        <p:spPr>
          <a:xfrm>
            <a:off x="45720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Arial Unicode MS"/>
              </a:rPr>
              <a:t>1.3.1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900000" y="900000"/>
            <a:ext cx="3060720" cy="4680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1047600" y="2162160"/>
            <a:ext cx="7772400" cy="34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i="1" lang="ru-RU" sz="3600" spc="-1" strike="noStrike">
                <a:solidFill>
                  <a:srgbClr val="000080"/>
                </a:solidFill>
                <a:latin typeface="Bauhaus 93"/>
              </a:rPr>
              <a:t>Тлеуж Сулима   Султанов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Дата 1"/>
          <p:cNvSpPr/>
          <p:nvPr/>
        </p:nvSpPr>
        <p:spPr>
          <a:xfrm>
            <a:off x="45720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Arial Unicode MS"/>
              </a:rPr>
              <a:t>1.3.1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1" descr=""/>
          <p:cNvPicPr/>
          <p:nvPr/>
        </p:nvPicPr>
        <p:blipFill>
          <a:blip r:embed="rId1"/>
          <a:stretch/>
        </p:blipFill>
        <p:spPr>
          <a:xfrm>
            <a:off x="87480" y="2052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Дата 1"/>
          <p:cNvSpPr/>
          <p:nvPr/>
        </p:nvSpPr>
        <p:spPr>
          <a:xfrm>
            <a:off x="45720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Arial Unicode MS"/>
              </a:rPr>
              <a:t>1.3.1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1440000" y="900000"/>
            <a:ext cx="6119640" cy="52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Дата 1"/>
          <p:cNvSpPr/>
          <p:nvPr/>
        </p:nvSpPr>
        <p:spPr>
          <a:xfrm>
            <a:off x="45720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Arial Unicode MS"/>
              </a:rPr>
              <a:t>1.3.1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Дата 1"/>
          <p:cNvSpPr/>
          <p:nvPr/>
        </p:nvSpPr>
        <p:spPr>
          <a:xfrm>
            <a:off x="45720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Arial Unicode MS"/>
              </a:rPr>
              <a:t>1.3.1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87480" y="2052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Дата 3"/>
          <p:cNvSpPr/>
          <p:nvPr/>
        </p:nvSpPr>
        <p:spPr>
          <a:xfrm>
            <a:off x="45720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Arial Unicode MS"/>
              </a:rPr>
              <a:t>1.3.1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"/>
          <p:cNvSpPr/>
          <p:nvPr/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38040" indent="-338040">
              <a:lnSpc>
                <a:spcPct val="102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 последнее десятилетие компьютер стал неотъемлемой частью в жизни человека. Благодаря ему, мы получаем огромное количество информации, которую можем использовать для реализации своих идей. С его помощью при подключении к Интернету упрощена связь между людьм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2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2286000" y="3678120"/>
            <a:ext cx="4343400" cy="305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Calibri"/>
              </a:rPr>
              <a:t>Компьютер - помощн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6334200" y="2071800"/>
            <a:ext cx="2238480" cy="33670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571680" y="1571760"/>
            <a:ext cx="5500440" cy="44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002060"/>
              </a:buClr>
              <a:buFont typeface="Calibri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техническое средство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2060"/>
              </a:buClr>
              <a:buFont typeface="Calibri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помощник в учеб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2060"/>
              </a:buClr>
              <a:buFont typeface="Calibri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счётная и пишущая машин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2060"/>
              </a:buClr>
              <a:buFont typeface="Calibri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хранит большой объё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                      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информаци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Дата 3"/>
          <p:cNvSpPr/>
          <p:nvPr/>
        </p:nvSpPr>
        <p:spPr>
          <a:xfrm>
            <a:off x="45720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Arial Unicode MS"/>
              </a:rPr>
              <a:t>1.3.1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38040" indent="-338040">
              <a:lnSpc>
                <a:spcPct val="102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еловек за компьютером сидит в расслабленной позе, однако вследствие статичности она является вынужденной и неприятной: напряжены мышцы шеи, головы, рук, спин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905120" y="2209680"/>
            <a:ext cx="4952880" cy="439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Дата 1"/>
          <p:cNvSpPr/>
          <p:nvPr/>
        </p:nvSpPr>
        <p:spPr>
          <a:xfrm>
            <a:off x="45720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Arial Unicode MS"/>
              </a:rPr>
              <a:t>1.3.1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1" descr=""/>
          <p:cNvPicPr/>
          <p:nvPr/>
        </p:nvPicPr>
        <p:blipFill>
          <a:blip r:embed="rId1"/>
          <a:stretch/>
        </p:blipFill>
        <p:spPr>
          <a:xfrm>
            <a:off x="87480" y="2052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Дата 1"/>
          <p:cNvSpPr/>
          <p:nvPr/>
        </p:nvSpPr>
        <p:spPr>
          <a:xfrm>
            <a:off x="45720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Arial Unicode MS"/>
              </a:rPr>
              <a:t>1.3.1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1" descr=""/>
          <p:cNvPicPr/>
          <p:nvPr/>
        </p:nvPicPr>
        <p:blipFill>
          <a:blip r:embed="rId1"/>
          <a:stretch/>
        </p:blipFill>
        <p:spPr>
          <a:xfrm>
            <a:off x="87480" y="2052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НС</dc:creator>
  <dc:description/>
  <dc:language>en-US</dc:language>
  <cp:lastModifiedBy>acer</cp:lastModifiedBy>
  <dcterms:modified xsi:type="dcterms:W3CDTF">2021-11-19T08:24:02Z</dcterms:modified>
  <cp:revision>2</cp:revision>
  <dc:subject/>
  <dc:title>Презентация PowerPoint</dc:title>
</cp:coreProperties>
</file>