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9FEBC-8C30-4E03-AE23-9DDED72D0C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91E2F-78CC-4A98-B214-A39C0DFFDF6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2400C-C072-496D-8F59-06F4FB95BC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083DA-A2D9-4CA8-9950-7F4B669DEA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5FDFC-B809-4158-96E9-11E07FEF83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59F89-E7BA-4DBA-8026-FE0190BAA68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37000" cy="40035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36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E5A51-315E-499E-9268-0BD44A0699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F2DF-EC5F-4BC0-AF7F-856EC570A5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5931D-B61E-42ED-B328-2340BAEBFA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0C227-EC60-4D82-A4E2-6E3C49C91F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4278240" y="10155240"/>
            <a:ext cx="3274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24B5C-7BC4-4035-A6B8-E12B917238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BD7F-D94C-4B7F-A9D6-56A257EA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1B0-DD81-4391-B75D-0B32BD62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65ED-8AA5-4F66-9FD0-8DA17272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6E62-2286-485B-9E12-362E1A87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004C-E657-4725-B60F-20DDD837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1C18-DD7F-4694-969B-CF0F20BF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A80-00AC-47F9-AC6C-89171837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CAE6-461C-40D8-9DCB-1E48EDF0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E2BA-18F6-4F35-86B1-F5577D2E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1C0B2-8BB0-41EE-A9AB-2F9E0BEC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193C-F792-4DF9-8947-66E5CE94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FFA-B79A-48E8-AC7C-06236B11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7960-4B3D-4685-9F84-D3658D15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0E84-5FA7-45D0-A9BA-F97D3E3B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FE27-1F13-45BC-AA0D-C10CEC1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E2FF-72F2-4C5A-9D8A-3BAFA400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CA9F-B5F3-4EF4-96AF-410214B14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7E1-7415-4EAA-A361-632BED6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A89-6609-4014-818F-10AAC04E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FEC1-5EAD-4041-B668-1D242D2D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705-549C-429B-BED7-965D9D42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B765-6D42-40BF-8B09-E6ADC499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544-1CB1-4D50-8856-09B993F8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6B5-A2B1-4935-BB35-EEC05E54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659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3885840"/>
            <a:ext cx="6394320" cy="17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36000"/>
          </a:bodyPr>
          <a:p>
            <a:pPr marL="123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3480" indent="-123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89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D91D8-656C-48A5-B39E-844BFB3CD499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082E9A51-ED6D-4E63-B10A-2DB35AEDCD38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8936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CDEC6A-DD46-4945-BD7A-C3BB3CE031C4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fld id="{8953BD70-2F9A-40C4-9E2E-2B5DBB37F4D5}" type="slidenum"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900000" y="900000"/>
            <a:ext cx="3060720" cy="468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047600" y="2162160"/>
            <a:ext cx="777240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i="1" lang="ru-RU" sz="3600" spc="-1" strike="noStrike">
                <a:solidFill>
                  <a:srgbClr val="000080"/>
                </a:solidFill>
                <a:latin typeface="Bauhaus 93"/>
              </a:rPr>
              <a:t>Тлеуж Сулима   Султан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611964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последнее десятилетие компьютер стал неотъемлемой частью в жизни человека. Благодаря ему, мы получаем огромное количество информации, которую можем использовать для реализации своих идей. С его помощью при подключении к Интернету упрощена связь между людь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3678120"/>
            <a:ext cx="4343400" cy="305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Calibri"/>
              </a:rPr>
              <a:t>Компьютер - помощ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6334200" y="2071800"/>
            <a:ext cx="2238480" cy="336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71680" y="1571760"/>
            <a:ext cx="550044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техническое сред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помощник в учеб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счётная и пишущая маши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хранит большой объё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Дата 3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38040" indent="-338040">
              <a:lnSpc>
                <a:spcPct val="102000"/>
              </a:lnSpc>
              <a:spcBef>
                <a:spcPts val="638"/>
              </a:spcBef>
              <a:spcAft>
                <a:spcPts val="1426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за компьютером сидит в расслабленной позе, однако вследствие статичности она является вынужденной и неприятной: напряжены мышцы шеи, головы, рук, спи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4952880" cy="439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1"/>
          <p:cNvSpPr/>
          <p:nvPr/>
        </p:nvSpPr>
        <p:spPr>
          <a:xfrm>
            <a:off x="4572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  <a:ea typeface="Arial Unicode MS"/>
              </a:rPr>
              <a:t>1.3.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87480" y="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НС</dc:creator>
  <dc:description/>
  <dc:language>en-US</dc:language>
  <cp:lastModifiedBy>acer</cp:lastModifiedBy>
  <dcterms:modified xsi:type="dcterms:W3CDTF">2021-11-19T08:24:02Z</dcterms:modified>
  <cp:revision>2</cp:revision>
  <dc:subject/>
  <dc:title>Презентация PowerPoint</dc:title>
</cp:coreProperties>
</file>