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06280" y="812520"/>
            <a:ext cx="5338440" cy="40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671459-D5FC-4DF5-BC2E-D895184A7AC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2C6DE8-70C6-414F-8C61-6DEB3AA8629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D46F90-E3B8-4961-82C2-32CA3FEDD4B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A0FBCF-9767-47F5-81E2-9E777832DDF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37000" cy="40035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3680" cy="47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465EC7-90FA-4F39-B3EC-561BDDD8660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37000" cy="40035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3680" cy="47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22296D-38DE-4737-8B49-2166B2A19BE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37000" cy="40035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3680" cy="47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B58B25-4D6F-4806-A668-E813C8561FB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51ACDD-073B-496A-9222-D7BE4DD2AFE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3AD0BA-E385-4D30-961F-FFF1438780A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AEB5D5-39B3-480C-90A5-AECED5605A0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9D1255-DF23-40B4-A774-154ED11AE40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2BE9-8841-43AE-B57B-5A085E7F1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ED2A-AEE3-4899-B78D-566D032CC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FFF1-F4DE-4CC4-932D-C5CE1D8C0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95CD-1587-41A6-88E5-8ACB22A59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9017B-699D-4EEB-963B-E9AB742FB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DEB60-026D-41C3-ABBF-02A5EF4BC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DCA9C-319D-41DB-8254-485CBB721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22ADC-BDCF-4714-91EE-E08A99016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24C59-5801-46C0-9040-B11E05DAE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312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842F9-0977-4409-AF96-FD9293775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FCF70-3D99-49F7-AE36-EEC1680D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6D97-CC0A-45C0-9E3D-123CFF8F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436E3-F191-4797-B818-C1BF6D87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6FBDA-CFBA-4FF2-844F-E532F7E6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2C19E-DB0C-49A3-9203-B96D76E7D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B84EC-04D6-455B-B748-BD31B8A0A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C699B-7182-48D2-AA1B-DB12A3D5D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A22F-3090-4DD6-B3D9-A1C12547E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DEEA-1DBB-4C87-A0EC-235E2A9F9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5B9B-2E3F-4B1D-839C-AC90DFD86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312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924F-E80C-4129-AD7D-4C9C4AAA8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D297-9ADA-4637-9CD8-94DA285A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3F21-B422-42F3-980E-068E5462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3D9B-8836-4126-A819-3ED11ED5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3885840"/>
            <a:ext cx="6394320" cy="17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36000"/>
          </a:bodyPr>
          <a:p>
            <a:pPr marL="123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23480" indent="-123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23480" indent="-123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3480" indent="-123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23480" indent="-123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23480" indent="-123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23480" indent="-123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Arial Unicode MS"/>
              </a:rPr>
              <a:t>1.3.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8936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D44F82-1DEA-4F5C-A9A7-BAC1BE9C27C5}" type="slidenum">
              <a:rPr b="0" lang="ru-RU" sz="1200" spc="-1" strike="noStrike">
                <a:solidFill>
                  <a:srgbClr val="8b8b8b"/>
                </a:solidFill>
                <a:latin typeface="Calibri"/>
                <a:ea typeface="Arial Unicode MS"/>
              </a:rPr>
              <a:t>&lt;number&gt;</a:t>
            </a:fld>
            <a:fld id="{B66EF71A-2C90-4304-9DF4-43B0ACAD7E4D}" type="slidenum">
              <a:rPr b="0" lang="ru-RU" sz="1200" spc="-1" strike="noStrike">
                <a:solidFill>
                  <a:srgbClr val="8b8b8b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6000"/>
          </a:bodyPr>
          <a:p>
            <a:pPr marL="32904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Arial Unicode MS"/>
              </a:rPr>
              <a:t>1.3.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8936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9A8E69F-54BC-43A3-B541-8511A262E28C}" type="slidenum">
              <a:rPr b="0" lang="ru-RU" sz="1200" spc="-1" strike="noStrike">
                <a:solidFill>
                  <a:srgbClr val="8b8b8b"/>
                </a:solidFill>
                <a:latin typeface="Calibri"/>
                <a:ea typeface="Arial Unicode MS"/>
              </a:rPr>
              <a:t>&lt;number&gt;</a:t>
            </a:fld>
            <a:fld id="{49DD51EB-1BE3-408C-9AC3-C253B30A7531}" type="slidenum">
              <a:rPr b="0" lang="ru-RU" sz="1200" spc="-1" strike="noStrike">
                <a:solidFill>
                  <a:srgbClr val="8b8b8b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Дата 1"/>
          <p:cNvSpPr/>
          <p:nvPr/>
        </p:nvSpPr>
        <p:spPr>
          <a:xfrm>
            <a:off x="45720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Arial Unicode MS"/>
              </a:rPr>
              <a:t>1.3.1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900000" y="900000"/>
            <a:ext cx="3060720" cy="4680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1047600" y="2162160"/>
            <a:ext cx="7772400" cy="34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i="1" lang="ru-RU" sz="3600" spc="-1" strike="noStrike">
                <a:solidFill>
                  <a:srgbClr val="000080"/>
                </a:solidFill>
                <a:latin typeface="Bauhaus 93"/>
              </a:rPr>
              <a:t>Тлеуж Сулима   Султанов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Дата 1"/>
          <p:cNvSpPr/>
          <p:nvPr/>
        </p:nvSpPr>
        <p:spPr>
          <a:xfrm>
            <a:off x="45720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Arial Unicode MS"/>
              </a:rPr>
              <a:t>1.3.1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1" descr=""/>
          <p:cNvPicPr/>
          <p:nvPr/>
        </p:nvPicPr>
        <p:blipFill>
          <a:blip r:embed="rId1"/>
          <a:stretch/>
        </p:blipFill>
        <p:spPr>
          <a:xfrm>
            <a:off x="87480" y="2052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Дата 1"/>
          <p:cNvSpPr/>
          <p:nvPr/>
        </p:nvSpPr>
        <p:spPr>
          <a:xfrm>
            <a:off x="45720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Arial Unicode MS"/>
              </a:rPr>
              <a:t>1.3.1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1440000" y="900000"/>
            <a:ext cx="6119640" cy="52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Дата 1"/>
          <p:cNvSpPr/>
          <p:nvPr/>
        </p:nvSpPr>
        <p:spPr>
          <a:xfrm>
            <a:off x="45720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Arial Unicode MS"/>
              </a:rPr>
              <a:t>1.3.1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Дата 1"/>
          <p:cNvSpPr/>
          <p:nvPr/>
        </p:nvSpPr>
        <p:spPr>
          <a:xfrm>
            <a:off x="45720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Arial Unicode MS"/>
              </a:rPr>
              <a:t>1.3.1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87480" y="2052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Дата 3"/>
          <p:cNvSpPr/>
          <p:nvPr/>
        </p:nvSpPr>
        <p:spPr>
          <a:xfrm>
            <a:off x="45720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Arial Unicode MS"/>
              </a:rPr>
              <a:t>1.3.1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"/>
          <p:cNvSpPr/>
          <p:nvPr/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38040" indent="-338040">
              <a:lnSpc>
                <a:spcPct val="102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 последнее десятилетие компьютер стал неотъемлемой частью в жизни человека. Благодаря ему, мы получаем огромное количество информации, которую можем использовать для реализации своих идей. С его помощью при подключении к Интернету упрощена связь между людьм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2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2286000" y="3678120"/>
            <a:ext cx="4343400" cy="305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Calibri"/>
              </a:rPr>
              <a:t>Компьютер - помощн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6334200" y="2071800"/>
            <a:ext cx="2238480" cy="33670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571680" y="1571760"/>
            <a:ext cx="5500440" cy="44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002060"/>
              </a:buClr>
              <a:buFont typeface="Calibri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техническое средство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2060"/>
              </a:buClr>
              <a:buFont typeface="Calibri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помощник в учеб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2060"/>
              </a:buClr>
              <a:buFont typeface="Calibri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счётная и пишущая машин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2060"/>
              </a:buClr>
              <a:buFont typeface="Calibri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хранит большой объё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                      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информаци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Дата 3"/>
          <p:cNvSpPr/>
          <p:nvPr/>
        </p:nvSpPr>
        <p:spPr>
          <a:xfrm>
            <a:off x="45720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Arial Unicode MS"/>
              </a:rPr>
              <a:t>1.3.1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38040" indent="-338040">
              <a:lnSpc>
                <a:spcPct val="102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еловек за компьютером сидит в расслабленной позе, однако вследствие статичности она является вынужденной и неприятной: напряжены мышцы шеи, головы, рук, спин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905120" y="2209680"/>
            <a:ext cx="4952880" cy="439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Дата 1"/>
          <p:cNvSpPr/>
          <p:nvPr/>
        </p:nvSpPr>
        <p:spPr>
          <a:xfrm>
            <a:off x="45720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Arial Unicode MS"/>
              </a:rPr>
              <a:t>1.3.1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1" descr=""/>
          <p:cNvPicPr/>
          <p:nvPr/>
        </p:nvPicPr>
        <p:blipFill>
          <a:blip r:embed="rId1"/>
          <a:stretch/>
        </p:blipFill>
        <p:spPr>
          <a:xfrm>
            <a:off x="87480" y="2052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Дата 1"/>
          <p:cNvSpPr/>
          <p:nvPr/>
        </p:nvSpPr>
        <p:spPr>
          <a:xfrm>
            <a:off x="45720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Arial Unicode MS"/>
              </a:rPr>
              <a:t>1.3.1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1" descr=""/>
          <p:cNvPicPr/>
          <p:nvPr/>
        </p:nvPicPr>
        <p:blipFill>
          <a:blip r:embed="rId1"/>
          <a:stretch/>
        </p:blipFill>
        <p:spPr>
          <a:xfrm>
            <a:off x="87480" y="2052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НС</dc:creator>
  <dc:description/>
  <dc:language>en-US</dc:language>
  <cp:lastModifiedBy>acer</cp:lastModifiedBy>
  <dcterms:modified xsi:type="dcterms:W3CDTF">2021-11-19T08:24:02Z</dcterms:modified>
  <cp:revision>2</cp:revision>
  <dc:subject/>
  <dc:title>Презентация PowerPoint</dc:title>
</cp:coreProperties>
</file>