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B630-BC92-4A92-98CF-6878F6DA5182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FF69-C711-42EF-86F9-28B41EDCDAFA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B331-C75E-489F-8888-12D3EAF3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08D-067C-4FF9-BBA4-C5DFF3D4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859F-0286-48B0-897F-24478219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EDAC-113A-49B6-B798-373EAE27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ADE-0692-42EB-AC25-5C939900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206-C714-4C90-B9E6-0CAA1AAD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8B9B-BF42-4417-BF46-7284B4EC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6DE4-2383-4AD6-84E6-353AA0D6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E62-E378-447D-8EDD-CE9600FC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213C-287B-40E5-8070-B0576D8F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625-455C-4B90-A8B1-DED08165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2C2-AFC1-4327-9706-712F48AA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D175-B5F3-49A3-BE0D-8BE2BA8301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0200" y="1144080"/>
            <a:ext cx="8137800" cy="22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ресмыкающиеся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или рептил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9640" y="3403440"/>
            <a:ext cx="4319640" cy="2838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5435640" y="3578400"/>
            <a:ext cx="3473280" cy="28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326880" y="1125360"/>
            <a:ext cx="8464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ерепахи – всеядны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ешуйчатые – хищники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ящерицы охотятся на насекомых            и пауков; змеи – на крупных насекомых, лягушек, мышей, мелких птиц; хамелеоны – на ос, сверчков, кузнечиков)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окодилы – хищники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414360" y="500040"/>
            <a:ext cx="831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СМЫКАЮЩИЕСЯ или РЕПТИЛ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животные, у которых нет ног или ноги широко расставлены, а тело   расположено близко к земле (пресмыкается)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Рисунок 5" descr="игуана.jpg"/>
          <p:cNvPicPr/>
          <p:nvPr/>
        </p:nvPicPr>
        <p:blipFill>
          <a:blip r:embed="rId1"/>
          <a:stretch/>
        </p:blipFill>
        <p:spPr>
          <a:xfrm>
            <a:off x="3059280" y="3162240"/>
            <a:ext cx="2759040" cy="20685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змея.jpg"/>
          <p:cNvPicPr/>
          <p:nvPr/>
        </p:nvPicPr>
        <p:blipFill>
          <a:blip r:embed="rId2"/>
          <a:stretch/>
        </p:blipFill>
        <p:spPr>
          <a:xfrm>
            <a:off x="7034040" y="2479680"/>
            <a:ext cx="2094120" cy="13111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крокодил.jpg"/>
          <p:cNvPicPr/>
          <p:nvPr/>
        </p:nvPicPr>
        <p:blipFill>
          <a:blip r:embed="rId3"/>
          <a:stretch/>
        </p:blipFill>
        <p:spPr>
          <a:xfrm>
            <a:off x="108000" y="2781360"/>
            <a:ext cx="2720880" cy="20383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черепаха.bmp"/>
          <p:cNvPicPr/>
          <p:nvPr/>
        </p:nvPicPr>
        <p:blipFill>
          <a:blip r:embed="rId4"/>
          <a:stretch/>
        </p:blipFill>
        <p:spPr>
          <a:xfrm>
            <a:off x="6076800" y="3987720"/>
            <a:ext cx="1914840" cy="14367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1"/>
          <p:cNvSpPr/>
          <p:nvPr/>
        </p:nvSpPr>
        <p:spPr>
          <a:xfrm>
            <a:off x="0" y="5479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мире известно около 9400 видов, на территории России обитает 77 видов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оение репти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00000" y="1230480"/>
            <a:ext cx="7417080" cy="49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5"/>
          <p:cNvSpPr/>
          <p:nvPr/>
        </p:nvSpPr>
        <p:spPr>
          <a:xfrm>
            <a:off x="1116000" y="2925720"/>
            <a:ext cx="16556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репах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276720" y="2906640"/>
            <a:ext cx="20872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шуйчаты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5867280" y="2906640"/>
            <a:ext cx="20163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окодил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1114560" y="4700520"/>
            <a:ext cx="216216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амелеон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3381480" y="4691160"/>
            <a:ext cx="2162160" cy="1149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ме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688000" y="4700520"/>
            <a:ext cx="237636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Ящериц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3"/>
          <p:cNvSpPr/>
          <p:nvPr/>
        </p:nvSpPr>
        <p:spPr>
          <a:xfrm flipH="1">
            <a:off x="2484360" y="3927600"/>
            <a:ext cx="183672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4"/>
          <p:cNvSpPr/>
          <p:nvPr/>
        </p:nvSpPr>
        <p:spPr>
          <a:xfrm>
            <a:off x="4335480" y="3949560"/>
            <a:ext cx="19098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4335480" y="3933720"/>
            <a:ext cx="0" cy="69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1187280" y="620640"/>
            <a:ext cx="655344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есмыкающиеся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рептилии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183528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432108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20"/>
          <p:cNvSpPr/>
          <p:nvPr/>
        </p:nvSpPr>
        <p:spPr>
          <a:xfrm>
            <a:off x="6875640" y="2421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22"/>
          <p:cNvSpPr txBox="1"/>
          <p:nvPr/>
        </p:nvSpPr>
        <p:spPr>
          <a:xfrm>
            <a:off x="971640" y="404640"/>
            <a:ext cx="7105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3"/>
          <p:cNvSpPr/>
          <p:nvPr/>
        </p:nvSpPr>
        <p:spPr>
          <a:xfrm>
            <a:off x="324000" y="1081080"/>
            <a:ext cx="8064360" cy="34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о покрыто  панцирем из 2-х щитов 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рюшного и спинного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шены зубов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рошо развиты зрение и обоняние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уже – слух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WordArt 14"/>
          <p:cNvSpPr txBox="1"/>
          <p:nvPr/>
        </p:nvSpPr>
        <p:spPr>
          <a:xfrm>
            <a:off x="2340000" y="619200"/>
            <a:ext cx="4032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репах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Picture 15" descr=""/>
          <p:cNvPicPr/>
          <p:nvPr/>
        </p:nvPicPr>
        <p:blipFill>
          <a:blip r:embed="rId1"/>
          <a:stretch/>
        </p:blipFill>
        <p:spPr>
          <a:xfrm>
            <a:off x="5076720" y="4221000"/>
            <a:ext cx="33163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6"/>
          <p:cNvSpPr txBox="1"/>
          <p:nvPr/>
        </p:nvSpPr>
        <p:spPr>
          <a:xfrm>
            <a:off x="395280" y="765000"/>
            <a:ext cx="806436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шуйчатые.  Змеи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7" descr="УЖ ОБЫКНОВЕННЫЙ"/>
          <p:cNvPicPr/>
          <p:nvPr/>
        </p:nvPicPr>
        <p:blipFill>
          <a:blip r:embed="rId1"/>
          <a:stretch/>
        </p:blipFill>
        <p:spPr>
          <a:xfrm>
            <a:off x="5900760" y="4292640"/>
            <a:ext cx="2774880" cy="2322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179280" y="134136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395280" y="126828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ло покрыто мелкой роговой чешуе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чности отсутствую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мигающие  глаз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слышат – отсутствует барабанная перепонк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ы сейсмочувствительность, обоняние, осяз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няю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6086520" y="6020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468360" y="476280"/>
            <a:ext cx="5543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амелеон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6" descr="ХАМЕЛЕОН"/>
          <p:cNvPicPr/>
          <p:nvPr/>
        </p:nvPicPr>
        <p:blipFill>
          <a:blip r:embed="rId1"/>
          <a:stretch/>
        </p:blipFill>
        <p:spPr>
          <a:xfrm>
            <a:off x="6012000" y="4216320"/>
            <a:ext cx="3132000" cy="2641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4934520" y="61650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Прямоугольник 1"/>
          <p:cNvSpPr/>
          <p:nvPr/>
        </p:nvSpPr>
        <p:spPr>
          <a:xfrm>
            <a:off x="826920" y="1773360"/>
            <a:ext cx="7490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ло покрыто мелкой роговой чешуе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ечности с 5 пальцами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орошо видят, слышат слаб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няю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1332000" y="404640"/>
            <a:ext cx="5761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щериц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7" name="Picture 5" descr="ГЕККОН ТОКИ"/>
          <p:cNvPicPr/>
          <p:nvPr/>
        </p:nvPicPr>
        <p:blipFill>
          <a:blip r:embed="rId1"/>
          <a:stretch/>
        </p:blipFill>
        <p:spPr>
          <a:xfrm>
            <a:off x="4532400" y="4581360"/>
            <a:ext cx="4122720" cy="2033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369720" y="1353960"/>
            <a:ext cx="820908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ло покрыто мелкой роговой чешуе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ечности с 5 пальцами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Хорошо слышат, видя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няю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6445440" y="332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95280" y="476280"/>
            <a:ext cx="6624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окодил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" name="Picture 5" descr="АЛЛИГАТОР (вверху). КРОКОДИЛ (внизу)"/>
          <p:cNvPicPr/>
          <p:nvPr/>
        </p:nvPicPr>
        <p:blipFill>
          <a:blip r:embed="rId1"/>
          <a:stretch/>
        </p:blipFill>
        <p:spPr>
          <a:xfrm>
            <a:off x="4781520" y="4784760"/>
            <a:ext cx="4362480" cy="16700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7021440" y="6236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374160" y="33264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95280" y="1413000"/>
            <a:ext cx="79930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ло покрыто окостеневшими пластинами (щитками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задних лапах – плавательные   перепонк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орошо развиты зрение, обоняние и слу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18:34:14Z</dcterms:created>
  <dc:creator>Долгорукова</dc:creator>
  <dc:description/>
  <dc:language>en-US</dc:language>
  <cp:lastModifiedBy>Admin</cp:lastModifiedBy>
  <dcterms:modified xsi:type="dcterms:W3CDTF">2024-01-05T14:38:40Z</dcterms:modified>
  <cp:revision>6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170000000000010243100207f6000400038000</vt:lpwstr>
  </property>
</Properties>
</file>