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712-DEA3-43AD-B74E-11235FDC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157-92B7-48B1-8DDB-6F0AEEA7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C16-AC64-4F6A-8BBE-75BB4B43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E02-5AEE-4A6F-A79C-A94C843C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0EAF-48CA-4B55-AAA1-AEEBF013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F836-6309-4DEF-A7F9-4F4157BB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C8AD-48CE-4572-831D-0FAB29A2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90FF-20A7-4AED-9B43-2864B2B4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E16A-7F89-4EC7-B998-324F7D31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F464-8337-426A-8588-56F7744A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01AA-1D5A-437F-829B-A3B51E77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4F9-96E4-4D4A-B540-243AE9D2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0EC0-2A5C-4E44-A1A5-05FEABAF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0688-5B1E-491E-BBA4-21EC370B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0C6A-FBDC-4F0D-A934-43C27F0B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23BF-01B7-4AA0-A307-C28C28B0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D25C-38D0-4BF7-93B3-96F05163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E0ED-EE9F-477A-B016-327ACDDB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B22C8-4632-4A6F-B2A0-C1854C53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FF91-0F5D-44FA-ABE7-2DFB1429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0C5A-4103-4C08-8A6B-9108D452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930D-8882-4C28-81BD-F7C9DA99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C8F-520D-493D-A4F7-65A63537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A087-2F97-4C3C-B835-F67617B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4F04-6201-4720-8188-53191DF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56CA-8385-4055-97DF-C2FF257D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9E46-E6D4-4811-9268-FB99A6CE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FB48-4BFB-442B-A811-56C5732E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1BDE-5780-4B46-9E41-F232CF35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CFE7-2A01-4268-8941-AA93B7F2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1FD2-FA77-40A3-88CF-9014D222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5919-AE31-456D-B74F-ACE53838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4C7D-7A63-4DD5-8805-FA912BF6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9F9-C0DC-47F9-B1CF-1DCD5451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A3B8-9F2A-4C99-8AD0-4D310CEB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22F2-D54A-4CF3-BFB6-038ACC4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F4E5-08DB-4A0D-A01C-5083D718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F33F-D946-455A-8DE7-64E498B6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E6D6-FD87-4E3B-BFAD-CF0A7C0B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D38B7-133A-4493-A331-2CD232FE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256A-0907-4EEC-BD06-6BDBF290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1B8B-3EC3-4622-89FD-C5FB9A4C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618A-E00E-4A95-8316-27C6215B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45C-180F-4CFD-9AC8-2ADFEBBB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A7F-04FE-4FC9-84D8-A490FC83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350-A34B-442F-BCB6-10599AFA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68E-FE98-437E-AF7C-062DC95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516-2B51-4264-9FD7-EB3089F0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E906-A417-4967-97AE-B6FDEF3AC42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C2E0-C970-44AC-B556-FDF6F3AB96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0884-F187-4914-82E3-2E8EE86C0B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87BE-E524-4799-A810-761174B9D9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Урок математики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 5 классе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6" name="Picture 4" descr="задача9"/>
          <p:cNvPicPr/>
          <p:nvPr/>
        </p:nvPicPr>
        <p:blipFill>
          <a:blip r:embed="rId1"/>
          <a:stretch/>
        </p:blipFill>
        <p:spPr>
          <a:xfrm>
            <a:off x="900000" y="1557360"/>
            <a:ext cx="7274160" cy="48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равильные и неправильные дроб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32000" y="22050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99"/>
                </a:solidFill>
                <a:latin typeface="Verdana"/>
              </a:rPr>
              <a:t> 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-363708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7"/>
              <p:cNvSpPr txBox="1"/>
              <p:nvPr/>
            </p:nvSpPr>
            <p:spPr>
              <a:xfrm>
                <a:off x="4500720" y="1773360"/>
                <a:ext cx="647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Picture 9" descr="пирог1"/>
          <p:cNvPicPr/>
          <p:nvPr/>
        </p:nvPicPr>
        <p:blipFill>
          <a:blip r:embed="rId1"/>
          <a:stretch/>
        </p:blipFill>
        <p:spPr>
          <a:xfrm>
            <a:off x="250920" y="3141720"/>
            <a:ext cx="8677080" cy="324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Object 12"/>
              <p:cNvSpPr txBox="1"/>
              <p:nvPr/>
            </p:nvSpPr>
            <p:spPr>
              <a:xfrm>
                <a:off x="6688080" y="1986120"/>
                <a:ext cx="8031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 txBox="1"/>
          <p:nvPr/>
        </p:nvSpPr>
        <p:spPr>
          <a:xfrm>
            <a:off x="10980720" y="2205000"/>
            <a:ext cx="100800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Правильные и 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неправильные  дроб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4" descr="пирог2"/>
          <p:cNvPicPr/>
          <p:nvPr/>
        </p:nvPicPr>
        <p:blipFill>
          <a:blip r:embed="rId1"/>
          <a:stretch/>
        </p:blipFill>
        <p:spPr>
          <a:xfrm>
            <a:off x="611280" y="3068640"/>
            <a:ext cx="8316720" cy="316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6588000" y="1557360"/>
                <a:ext cx="9590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0" name="Picture 4" descr="99"/>
          <p:cNvPicPr/>
          <p:nvPr/>
        </p:nvPicPr>
        <p:blipFill>
          <a:blip r:embed="rId2"/>
          <a:stretch/>
        </p:blipFill>
        <p:spPr>
          <a:xfrm>
            <a:off x="1332000" y="1390680"/>
            <a:ext cx="7343640" cy="4775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2" name="Picture 4" descr="999"/>
          <p:cNvPicPr/>
          <p:nvPr/>
        </p:nvPicPr>
        <p:blipFill>
          <a:blip r:embed="rId2"/>
          <a:stretch/>
        </p:blipFill>
        <p:spPr>
          <a:xfrm>
            <a:off x="1258920" y="1484280"/>
            <a:ext cx="7416720" cy="496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Раскрась карточки с правильными дробями желтым цветом, а  неправильными - зеленым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1908000" y="227664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Rectangle 13"/>
          <p:cNvSpPr/>
          <p:nvPr/>
        </p:nvSpPr>
        <p:spPr>
          <a:xfrm>
            <a:off x="2484360" y="4221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1692360" y="1989000"/>
            <a:ext cx="576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276720" y="206064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464328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594036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7093080" y="1989000"/>
            <a:ext cx="5745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3995640" y="4076640"/>
            <a:ext cx="576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508720" y="400536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3"/>
              <p:cNvSpPr txBox="1"/>
              <p:nvPr/>
            </p:nvSpPr>
            <p:spPr>
              <a:xfrm>
                <a:off x="1763640" y="1989000"/>
                <a:ext cx="576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3400560" y="2195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3"/>
              <p:cNvSpPr txBox="1"/>
              <p:nvPr/>
            </p:nvSpPr>
            <p:spPr>
              <a:xfrm>
                <a:off x="3348000" y="1989000"/>
                <a:ext cx="469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0"/>
              <p:cNvSpPr txBox="1"/>
              <p:nvPr/>
            </p:nvSpPr>
            <p:spPr>
              <a:xfrm>
                <a:off x="4572000" y="1916280"/>
                <a:ext cx="611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3"/>
              <p:cNvSpPr txBox="1"/>
              <p:nvPr/>
            </p:nvSpPr>
            <p:spPr>
              <a:xfrm>
                <a:off x="5973840" y="1989000"/>
                <a:ext cx="5428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6"/>
              <p:cNvSpPr txBox="1"/>
              <p:nvPr/>
            </p:nvSpPr>
            <p:spPr>
              <a:xfrm>
                <a:off x="7093080" y="1916280"/>
                <a:ext cx="5158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9"/>
              <p:cNvSpPr txBox="1"/>
              <p:nvPr/>
            </p:nvSpPr>
            <p:spPr>
              <a:xfrm>
                <a:off x="2484360" y="4221000"/>
                <a:ext cx="561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Rectangle 5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2"/>
              <p:cNvSpPr txBox="1"/>
              <p:nvPr/>
            </p:nvSpPr>
            <p:spPr>
              <a:xfrm>
                <a:off x="3995640" y="4076640"/>
                <a:ext cx="5652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5"/>
              <p:cNvSpPr txBox="1"/>
              <p:nvPr/>
            </p:nvSpPr>
            <p:spPr>
              <a:xfrm>
                <a:off x="5483160" y="4005360"/>
                <a:ext cx="601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Раскрась карточки с правильными дробями желтым цветом, а  неправильными - зеленым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1908000" y="227664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Rectangle 7"/>
          <p:cNvSpPr/>
          <p:nvPr/>
        </p:nvSpPr>
        <p:spPr>
          <a:xfrm>
            <a:off x="2484360" y="4221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1692360" y="1989000"/>
            <a:ext cx="576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276720" y="206064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464328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94036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7093080" y="1989000"/>
            <a:ext cx="5745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995640" y="4076640"/>
            <a:ext cx="576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5508720" y="400536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6"/>
              <p:cNvSpPr txBox="1"/>
              <p:nvPr/>
            </p:nvSpPr>
            <p:spPr>
              <a:xfrm>
                <a:off x="1692360" y="1989000"/>
                <a:ext cx="6476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3400560" y="2195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2"/>
              <p:cNvSpPr txBox="1"/>
              <p:nvPr/>
            </p:nvSpPr>
            <p:spPr>
              <a:xfrm>
                <a:off x="3203640" y="1989000"/>
                <a:ext cx="720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5"/>
              <p:cNvSpPr txBox="1"/>
              <p:nvPr/>
            </p:nvSpPr>
            <p:spPr>
              <a:xfrm>
                <a:off x="4643280" y="1916280"/>
                <a:ext cx="792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7"/>
              <p:cNvSpPr txBox="1"/>
              <p:nvPr/>
            </p:nvSpPr>
            <p:spPr>
              <a:xfrm>
                <a:off x="5973840" y="1989000"/>
                <a:ext cx="5428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9"/>
              <p:cNvSpPr txBox="1"/>
              <p:nvPr/>
            </p:nvSpPr>
            <p:spPr>
              <a:xfrm>
                <a:off x="7020000" y="1916280"/>
                <a:ext cx="647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31"/>
              <p:cNvSpPr txBox="1"/>
              <p:nvPr/>
            </p:nvSpPr>
            <p:spPr>
              <a:xfrm>
                <a:off x="2484360" y="4221000"/>
                <a:ext cx="561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33"/>
              <p:cNvSpPr txBox="1"/>
              <p:nvPr/>
            </p:nvSpPr>
            <p:spPr>
              <a:xfrm>
                <a:off x="3924360" y="4076640"/>
                <a:ext cx="718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5"/>
              <p:cNvSpPr txBox="1"/>
              <p:nvPr/>
            </p:nvSpPr>
            <p:spPr>
              <a:xfrm>
                <a:off x="5483160" y="4005360"/>
                <a:ext cx="601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ридумайте и запишит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Пять правильных дроб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__  __  __  __  __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2.Пять неправильных дроб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__  __  __  __ __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дчеркните синим карандашом дроби, которые больше 1, а зеленым меньше 1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250920" y="2924280"/>
                <a:ext cx="8569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280" y="1827360"/>
            <a:ext cx="81723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Правильная дроб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больше 1   б) меньше 1  в) равна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Если в дроби числитель равен знаменателю, то она рав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 1   б) 2  в) 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Дробь      будет неправильной, есл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с=7   б) с=3  в) с=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2627280" y="4724280"/>
                <a:ext cx="5889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askerville Old Face"/>
              </a:rPr>
              <a:t>ТЕМА УРОК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Правильные и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неправильны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дроб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1б,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      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2а,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       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3б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2340000" y="549360"/>
            <a:ext cx="496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. 27, №5.134, №5.13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97" name="Picture 12" descr="122"/>
          <p:cNvPicPr/>
          <p:nvPr/>
        </p:nvPicPr>
        <p:blipFill>
          <a:blip r:embed="rId2"/>
          <a:stretch/>
        </p:blipFill>
        <p:spPr>
          <a:xfrm>
            <a:off x="2556000" y="2781360"/>
            <a:ext cx="4537080" cy="381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Vivaldi"/>
              </a:rPr>
              <a:t>Знания               Примене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Verdana"/>
              </a:rPr>
              <a:t>Уметь ответить на вопрос, какая дробь называется правильной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000099"/>
                </a:solidFill>
                <a:latin typeface="Verdana"/>
              </a:rPr>
              <a:t>а какая неправиль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3240" y="2035080"/>
            <a:ext cx="42480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Уметь отличать правильные и неправильные дроби, решать задачи с дроб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Обыкновенная дробь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4502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Каждый может за вер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Видеть дробную чер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Над чертой числитель, знай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Под чертою знамена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Дробь такую непременн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Надо звать обыкновен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4"/>
              <p:cNvSpPr txBox="1"/>
              <p:nvPr/>
            </p:nvSpPr>
            <p:spPr>
              <a:xfrm>
                <a:off x="7740720" y="836640"/>
                <a:ext cx="1224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Что показывает числит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4" descr="числитель"/>
          <p:cNvPicPr/>
          <p:nvPr/>
        </p:nvPicPr>
        <p:blipFill>
          <a:blip r:embed="rId1"/>
          <a:stretch/>
        </p:blipFill>
        <p:spPr>
          <a:xfrm>
            <a:off x="2195640" y="1844640"/>
            <a:ext cx="6213240" cy="4114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Что показывает знаменател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8" name="Picture 4" descr="знаменатель"/>
          <p:cNvPicPr/>
          <p:nvPr/>
        </p:nvPicPr>
        <p:blipFill>
          <a:blip r:embed="rId1"/>
          <a:stretch/>
        </p:blipFill>
        <p:spPr>
          <a:xfrm>
            <a:off x="1835280" y="1827360"/>
            <a:ext cx="6134040" cy="433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Прочитайте дроби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0" name="Picture 4" descr="переделанный слайд"/>
          <p:cNvPicPr/>
          <p:nvPr/>
        </p:nvPicPr>
        <p:blipFill>
          <a:blip r:embed="rId1"/>
          <a:stretch/>
        </p:blipFill>
        <p:spPr>
          <a:xfrm>
            <a:off x="900000" y="1484280"/>
            <a:ext cx="7921800" cy="46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Picture 4" descr="задача77"/>
          <p:cNvPicPr/>
          <p:nvPr/>
        </p:nvPicPr>
        <p:blipFill>
          <a:blip r:embed="rId1"/>
          <a:stretch/>
        </p:blipFill>
        <p:spPr>
          <a:xfrm>
            <a:off x="1116000" y="2060640"/>
            <a:ext cx="7343640" cy="4249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задача8"/>
          <p:cNvPicPr/>
          <p:nvPr/>
        </p:nvPicPr>
        <p:blipFill>
          <a:blip r:embed="rId1"/>
          <a:stretch/>
        </p:blipFill>
        <p:spPr>
          <a:xfrm>
            <a:off x="1332000" y="1557360"/>
            <a:ext cx="7343640" cy="49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03:07:08Z</dcterms:created>
  <dc:creator>Шегарка</dc:creator>
  <dc:description/>
  <dc:language>en-US</dc:language>
  <cp:lastModifiedBy>Dmitriy Prykin</cp:lastModifiedBy>
  <dcterms:modified xsi:type="dcterms:W3CDTF">2023-11-28T13:18:17Z</dcterms:modified>
  <cp:revision>23</cp:revision>
  <dc:subject/>
  <dc:title>Урок математики 5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