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802-4096-4C8B-B435-92466957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580-7CEA-4FDD-876E-B15F1431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DEE-1169-4953-9515-685D2ED3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760D-74ED-4088-8844-DD491905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6D67-BE6B-48F4-B89D-EB57CB4B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CDAC-6C62-4185-9920-D76D668C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FBB3-BBF4-4A35-92AC-2B932FB9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5FBF-60C0-4E7D-871C-E282995A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B47F-AA17-4B94-8897-1AF0401E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ADFC-3AF1-4053-800E-9370E295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256D-41C1-401A-955F-4D80491B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913-2EE4-4EBB-A761-349863AC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290A-3301-492B-99D6-129210B7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38BA-B353-4727-8364-8774C96E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E17B-07A9-4F2D-8509-99642AD7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F9E2-C1E2-4A05-B836-0DA04B31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8E3B-9F5D-4C10-B293-B2C49FE5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0F89F-AF08-4957-92ED-8107DABE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11A3A-2CD9-47F9-A8B8-C9D40C9C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4E6C4-B8A8-4B14-9112-5459DE9B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90D4C-786C-47AB-908C-767F5284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50C9D-32A7-4AFE-B6F3-870ADA2B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BFB-F494-47C3-A21E-68EAA7F3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E629-5022-453E-B4B6-10F4231F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C9DA0-6B25-434C-9335-3817153F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530AE-61E6-4937-846C-747C88AE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696D9-24B5-4CB8-B5BA-17F42978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588C5-044D-48EA-955D-932B5214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DD3ED-6CA8-4500-91C3-C21908CF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4586E-8051-4614-9854-FDDE333A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D0B86-1C50-4CF6-9E6C-67D986B8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582E1-EE1A-4F84-BC97-1F825864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DF45B-D7E3-4420-AD08-D023DE01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00C9-53EC-43E8-8868-B929D9E5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496F0-080C-4F6B-9002-0AF91556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47DF6-EB85-4E24-AA91-E6E91B76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5BC9A-3E1C-4F3B-94B7-FFA7E416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0FF72-D638-428F-AA7A-C52E4571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13B7C-5614-4D7C-AC06-E309B3A1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FDA3E-69E2-4FF0-99F4-2FABD245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79C40-08C8-4DA4-A0E7-7BF8F690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32012-C608-427E-9F8A-737D7D4A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95988-3D97-4336-A309-39B9F463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8FC-516F-4883-8380-D7C6D363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7AF-3B3A-4961-A9D7-A94415EB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AD3-440A-4030-9392-82FC75E7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C21-6DBF-4E7E-A39A-1F02FBC4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B5C-EB9D-417D-97CC-554F8846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A4D4-EF90-42AE-A0C2-B0E7EC841D9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6AEB-C737-4CD8-AF85-9E23A3B3EA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0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7ED4-878D-478F-8ACA-5B42F4E6B9F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34B1-DFDB-494B-8ACB-9D6369AC68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Урок математики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в 5 классе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Задача 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6" name="Picture 4" descr="задача9"/>
          <p:cNvPicPr/>
          <p:nvPr/>
        </p:nvPicPr>
        <p:blipFill>
          <a:blip r:embed="rId1"/>
          <a:stretch/>
        </p:blipFill>
        <p:spPr>
          <a:xfrm>
            <a:off x="900000" y="1557360"/>
            <a:ext cx="7274160" cy="482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Правильные и неправильные дроби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32000" y="220500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99"/>
                </a:solidFill>
                <a:latin typeface="Verdana"/>
              </a:rPr>
              <a:t>         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-3637080" y="47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7"/>
              <p:cNvSpPr txBox="1"/>
              <p:nvPr/>
            </p:nvSpPr>
            <p:spPr>
              <a:xfrm>
                <a:off x="4500720" y="1773360"/>
                <a:ext cx="6476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2" name="Picture 9" descr="пирог1"/>
          <p:cNvPicPr/>
          <p:nvPr/>
        </p:nvPicPr>
        <p:blipFill>
          <a:blip r:embed="rId1"/>
          <a:stretch/>
        </p:blipFill>
        <p:spPr>
          <a:xfrm>
            <a:off x="250920" y="3141720"/>
            <a:ext cx="8677080" cy="324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3" name="Object 12"/>
              <p:cNvSpPr txBox="1"/>
              <p:nvPr/>
            </p:nvSpPr>
            <p:spPr>
              <a:xfrm>
                <a:off x="6688080" y="1986120"/>
                <a:ext cx="80316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 txBox="1"/>
          <p:nvPr/>
        </p:nvSpPr>
        <p:spPr>
          <a:xfrm>
            <a:off x="10980720" y="2205000"/>
            <a:ext cx="1008000" cy="16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Правильные и </a:t>
            </a:r>
            <a:br>
              <a:rPr sz="3600"/>
            </a:b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неправильные  дроб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Picture 4" descr="пирог2"/>
          <p:cNvPicPr/>
          <p:nvPr/>
        </p:nvPicPr>
        <p:blipFill>
          <a:blip r:embed="rId1"/>
          <a:stretch/>
        </p:blipFill>
        <p:spPr>
          <a:xfrm>
            <a:off x="611280" y="3068640"/>
            <a:ext cx="8316720" cy="3168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8" name="Object 8"/>
              <p:cNvSpPr txBox="1"/>
              <p:nvPr/>
            </p:nvSpPr>
            <p:spPr>
              <a:xfrm>
                <a:off x="6588000" y="1557360"/>
                <a:ext cx="9590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0" name="Picture 4" descr="99"/>
          <p:cNvPicPr/>
          <p:nvPr/>
        </p:nvPicPr>
        <p:blipFill>
          <a:blip r:embed="rId2"/>
          <a:stretch/>
        </p:blipFill>
        <p:spPr>
          <a:xfrm>
            <a:off x="1332000" y="1390680"/>
            <a:ext cx="7343640" cy="4775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12" name="Picture 4" descr="999"/>
          <p:cNvPicPr/>
          <p:nvPr/>
        </p:nvPicPr>
        <p:blipFill>
          <a:blip r:embed="rId2"/>
          <a:stretch/>
        </p:blipFill>
        <p:spPr>
          <a:xfrm>
            <a:off x="1258920" y="1484280"/>
            <a:ext cx="7416720" cy="496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Раскрась карточки с правильными дробями желтым цветом, а  неправильными - зеленым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0"/>
              <p:cNvSpPr txBox="1"/>
              <p:nvPr/>
            </p:nvSpPr>
            <p:spPr>
              <a:xfrm>
                <a:off x="1908000" y="2276640"/>
                <a:ext cx="142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8" name="Rectangle 13"/>
          <p:cNvSpPr/>
          <p:nvPr/>
        </p:nvSpPr>
        <p:spPr>
          <a:xfrm>
            <a:off x="2484360" y="4221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1692360" y="1989000"/>
            <a:ext cx="576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276720" y="2060640"/>
            <a:ext cx="576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4643280" y="1989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"/>
          <p:cNvSpPr/>
          <p:nvPr/>
        </p:nvSpPr>
        <p:spPr>
          <a:xfrm>
            <a:off x="5940360" y="1989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7093080" y="1989000"/>
            <a:ext cx="5745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3995640" y="4076640"/>
            <a:ext cx="576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0"/>
          <p:cNvSpPr/>
          <p:nvPr/>
        </p:nvSpPr>
        <p:spPr>
          <a:xfrm>
            <a:off x="5508720" y="4005360"/>
            <a:ext cx="576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3"/>
              <p:cNvSpPr txBox="1"/>
              <p:nvPr/>
            </p:nvSpPr>
            <p:spPr>
              <a:xfrm>
                <a:off x="1763640" y="1989000"/>
                <a:ext cx="5763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2"/>
          <p:cNvSpPr/>
          <p:nvPr/>
        </p:nvSpPr>
        <p:spPr>
          <a:xfrm>
            <a:off x="3400560" y="2195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33"/>
              <p:cNvSpPr txBox="1"/>
              <p:nvPr/>
            </p:nvSpPr>
            <p:spPr>
              <a:xfrm>
                <a:off x="3348000" y="1989000"/>
                <a:ext cx="4698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40"/>
              <p:cNvSpPr txBox="1"/>
              <p:nvPr/>
            </p:nvSpPr>
            <p:spPr>
              <a:xfrm>
                <a:off x="4572000" y="1916280"/>
                <a:ext cx="611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43"/>
              <p:cNvSpPr txBox="1"/>
              <p:nvPr/>
            </p:nvSpPr>
            <p:spPr>
              <a:xfrm>
                <a:off x="5973840" y="1989000"/>
                <a:ext cx="5428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6"/>
              <p:cNvSpPr txBox="1"/>
              <p:nvPr/>
            </p:nvSpPr>
            <p:spPr>
              <a:xfrm>
                <a:off x="7093080" y="1916280"/>
                <a:ext cx="5158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9"/>
              <p:cNvSpPr txBox="1"/>
              <p:nvPr/>
            </p:nvSpPr>
            <p:spPr>
              <a:xfrm>
                <a:off x="2484360" y="4221000"/>
                <a:ext cx="5619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Rectangle 5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52"/>
              <p:cNvSpPr txBox="1"/>
              <p:nvPr/>
            </p:nvSpPr>
            <p:spPr>
              <a:xfrm>
                <a:off x="3995640" y="4076640"/>
                <a:ext cx="5652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5"/>
              <p:cNvSpPr txBox="1"/>
              <p:nvPr/>
            </p:nvSpPr>
            <p:spPr>
              <a:xfrm>
                <a:off x="5483160" y="4005360"/>
                <a:ext cx="6015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Раскрась карточки с правильными дробями желтым цветом, а  неправильными - зеленым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6"/>
              <p:cNvSpPr txBox="1"/>
              <p:nvPr/>
            </p:nvSpPr>
            <p:spPr>
              <a:xfrm>
                <a:off x="1908000" y="2276640"/>
                <a:ext cx="14292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" name="Rectangle 7"/>
          <p:cNvSpPr/>
          <p:nvPr/>
        </p:nvSpPr>
        <p:spPr>
          <a:xfrm>
            <a:off x="2484360" y="4221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1692360" y="1989000"/>
            <a:ext cx="57600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3276720" y="2060640"/>
            <a:ext cx="576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4643280" y="1989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5940360" y="1989000"/>
            <a:ext cx="576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7093080" y="1989000"/>
            <a:ext cx="5745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3995640" y="4076640"/>
            <a:ext cx="576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4"/>
          <p:cNvSpPr/>
          <p:nvPr/>
        </p:nvSpPr>
        <p:spPr>
          <a:xfrm>
            <a:off x="5508720" y="4005360"/>
            <a:ext cx="576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5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16"/>
              <p:cNvSpPr txBox="1"/>
              <p:nvPr/>
            </p:nvSpPr>
            <p:spPr>
              <a:xfrm>
                <a:off x="1692360" y="1989000"/>
                <a:ext cx="64764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0"/>
          <p:cNvSpPr/>
          <p:nvPr/>
        </p:nvSpPr>
        <p:spPr>
          <a:xfrm>
            <a:off x="3400560" y="219564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22"/>
              <p:cNvSpPr txBox="1"/>
              <p:nvPr/>
            </p:nvSpPr>
            <p:spPr>
              <a:xfrm>
                <a:off x="3203640" y="1989000"/>
                <a:ext cx="720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25"/>
              <p:cNvSpPr txBox="1"/>
              <p:nvPr/>
            </p:nvSpPr>
            <p:spPr>
              <a:xfrm>
                <a:off x="4643280" y="1916280"/>
                <a:ext cx="792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7"/>
              <p:cNvSpPr txBox="1"/>
              <p:nvPr/>
            </p:nvSpPr>
            <p:spPr>
              <a:xfrm>
                <a:off x="5973840" y="1989000"/>
                <a:ext cx="5428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9"/>
              <p:cNvSpPr txBox="1"/>
              <p:nvPr/>
            </p:nvSpPr>
            <p:spPr>
              <a:xfrm>
                <a:off x="7020000" y="1916280"/>
                <a:ext cx="647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31"/>
              <p:cNvSpPr txBox="1"/>
              <p:nvPr/>
            </p:nvSpPr>
            <p:spPr>
              <a:xfrm>
                <a:off x="2484360" y="4221000"/>
                <a:ext cx="5619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33"/>
              <p:cNvSpPr txBox="1"/>
              <p:nvPr/>
            </p:nvSpPr>
            <p:spPr>
              <a:xfrm>
                <a:off x="3924360" y="4076640"/>
                <a:ext cx="7189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35"/>
              <p:cNvSpPr txBox="1"/>
              <p:nvPr/>
            </p:nvSpPr>
            <p:spPr>
              <a:xfrm>
                <a:off x="5483160" y="4005360"/>
                <a:ext cx="6015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99"/>
                </a:solidFill>
                <a:latin typeface="Arial"/>
              </a:rPr>
              <a:t>Придумайте и запишите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99"/>
                </a:solidFill>
                <a:latin typeface="Verdana"/>
              </a:rPr>
              <a:t>Пять правильных дроб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99"/>
                </a:solidFill>
                <a:latin typeface="Verdana"/>
              </a:rPr>
              <a:t>__  __  __  __  __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99"/>
                </a:solidFill>
                <a:latin typeface="Verdana"/>
              </a:rPr>
              <a:t>2.Пять неправильных дробей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99"/>
                </a:solidFill>
                <a:latin typeface="Verdana"/>
              </a:rPr>
              <a:t>__  __  __  __ __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дчеркните синим карандашом дроби, которые больше 1, а зеленым меньше 1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7"/>
              <p:cNvSpPr txBox="1"/>
              <p:nvPr/>
            </p:nvSpPr>
            <p:spPr>
              <a:xfrm>
                <a:off x="250920" y="2924280"/>
                <a:ext cx="8569080" cy="20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71280" y="1827360"/>
            <a:ext cx="81723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.Правильная дроб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) больше 1   б) меньше 1  в) равна 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.Если в дроби числитель равен знаменателю, то она равн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)  1   б) 2  в) 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. Дробь      будет неправильной, есл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а) с=7   б) с=3  в) с=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4"/>
              <p:cNvSpPr txBox="1"/>
              <p:nvPr/>
            </p:nvSpPr>
            <p:spPr>
              <a:xfrm>
                <a:off x="2627280" y="4724280"/>
                <a:ext cx="58896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cc"/>
                </a:solidFill>
                <a:latin typeface="Baskerville Old Face"/>
              </a:rPr>
              <a:t>ТЕМА УРОКА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Verdana"/>
              </a:rPr>
              <a:t>Правильные и 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Verdana"/>
              </a:rPr>
              <a:t>неправильны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i="1" lang="ru-RU" sz="5400" spc="-1" strike="noStrike">
                <a:solidFill>
                  <a:srgbClr val="000099"/>
                </a:solidFill>
                <a:latin typeface="Verdana"/>
              </a:rPr>
              <a:t>дроби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1б,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      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2а,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       </a:t>
            </a:r>
            <a:r>
              <a:rPr b="1" i="1" lang="ru-RU" sz="4400" spc="-1" strike="noStrike">
                <a:solidFill>
                  <a:srgbClr val="ff3300"/>
                </a:solidFill>
                <a:latin typeface="Verdana"/>
              </a:rPr>
              <a:t>3б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2340000" y="549360"/>
            <a:ext cx="496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0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р. 27, №5.134, №5.137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297" name="Picture 12" descr="122"/>
          <p:cNvPicPr/>
          <p:nvPr/>
        </p:nvPicPr>
        <p:blipFill>
          <a:blip r:embed="rId2"/>
          <a:stretch/>
        </p:blipFill>
        <p:spPr>
          <a:xfrm>
            <a:off x="2556000" y="2781360"/>
            <a:ext cx="4537080" cy="3816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Vivaldi"/>
              </a:rPr>
              <a:t>Знания               Применение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Verdana"/>
              </a:rPr>
              <a:t>Уметь ответить на вопрос, какая дробь называется правильной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Verdana"/>
              </a:rPr>
              <a:t>  </a:t>
            </a:r>
            <a:r>
              <a:rPr b="0" i="1" lang="ru-RU" sz="3200" spc="-1" strike="noStrike">
                <a:solidFill>
                  <a:srgbClr val="000099"/>
                </a:solidFill>
                <a:latin typeface="Verdana"/>
              </a:rPr>
              <a:t>а какая неправильн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13240" y="2035080"/>
            <a:ext cx="424800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66"/>
                </a:solidFill>
                <a:latin typeface="Verdana"/>
              </a:rPr>
              <a:t>Уметь отличать правильные и неправильные дроби, решать задачи с дроб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Обыкновенная дробь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442520" y="2708280"/>
            <a:ext cx="74502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Каждый может за верс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Видеть дробную черт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Над чертой числитель, знай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Под чертою знаменател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Дробь такую непременно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Verdana"/>
              </a:rPr>
              <a:t>Надо звать обыкновен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4"/>
              <p:cNvSpPr txBox="1"/>
              <p:nvPr/>
            </p:nvSpPr>
            <p:spPr>
              <a:xfrm>
                <a:off x="7740720" y="836640"/>
                <a:ext cx="122400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Что показывает числител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6" name="Picture 4" descr="числитель"/>
          <p:cNvPicPr/>
          <p:nvPr/>
        </p:nvPicPr>
        <p:blipFill>
          <a:blip r:embed="rId1"/>
          <a:stretch/>
        </p:blipFill>
        <p:spPr>
          <a:xfrm>
            <a:off x="2195640" y="1844640"/>
            <a:ext cx="6213240" cy="4114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Что показывает знаменатель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8" name="Picture 4" descr="знаменатель"/>
          <p:cNvPicPr/>
          <p:nvPr/>
        </p:nvPicPr>
        <p:blipFill>
          <a:blip r:embed="rId1"/>
          <a:stretch/>
        </p:blipFill>
        <p:spPr>
          <a:xfrm>
            <a:off x="1835280" y="1827360"/>
            <a:ext cx="6134040" cy="433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Прочитайте дроби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0" name="Picture 4" descr="переделанный слайд"/>
          <p:cNvPicPr/>
          <p:nvPr/>
        </p:nvPicPr>
        <p:blipFill>
          <a:blip r:embed="rId1"/>
          <a:stretch/>
        </p:blipFill>
        <p:spPr>
          <a:xfrm>
            <a:off x="900000" y="1484280"/>
            <a:ext cx="7921800" cy="468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2" name="Picture 4" descr="задача77"/>
          <p:cNvPicPr/>
          <p:nvPr/>
        </p:nvPicPr>
        <p:blipFill>
          <a:blip r:embed="rId1"/>
          <a:stretch/>
        </p:blipFill>
        <p:spPr>
          <a:xfrm>
            <a:off x="1116000" y="2060640"/>
            <a:ext cx="7343640" cy="4249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Задача 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Picture 4" descr="задача8"/>
          <p:cNvPicPr/>
          <p:nvPr/>
        </p:nvPicPr>
        <p:blipFill>
          <a:blip r:embed="rId1"/>
          <a:stretch/>
        </p:blipFill>
        <p:spPr>
          <a:xfrm>
            <a:off x="1332000" y="1557360"/>
            <a:ext cx="7343640" cy="496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03:07:08Z</dcterms:created>
  <dc:creator>Шегарка</dc:creator>
  <dc:description/>
  <dc:language>en-US</dc:language>
  <cp:lastModifiedBy>Dmitriy Prykin</cp:lastModifiedBy>
  <dcterms:modified xsi:type="dcterms:W3CDTF">2023-11-28T13:18:17Z</dcterms:modified>
  <cp:revision>23</cp:revision>
  <dc:subject/>
  <dc:title>Урок математики 5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