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38A-5F75-4DDE-B4F9-70C1DE5C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CD8-5C2F-4439-9207-33945E94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54F-A570-4FE6-A486-701F73E1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29C-4F34-456C-9B24-3C0FFB48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CB8C-2985-4502-9B57-F12DE425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89A9-7F1D-402E-89DA-87333B9C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899A-3E71-482D-A895-E06F636F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B427-9B14-46C0-A4B1-076EE098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5835-C053-415E-9092-27524E8A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40D8-C831-4374-84FA-73594EEF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9EC7-D1DD-487E-B591-C25D7820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236-B6A6-400B-91EB-04D554D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7B87-8C46-4827-809E-BF93DB89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96C0-4BE5-4646-A73B-919E7368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A5A2-9FCB-4CEE-BD97-DB640FB4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0E8C-5B4A-4558-B7A2-2A2B0D36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0D9E-4ECF-40A5-9863-E8141F98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765F-52EB-4AE4-B841-FDB5107F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7BBD-ABC4-40EF-80D5-E8664337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50C5-ED0D-4C00-B9DC-4CE8D45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2A68-B099-4225-8803-32A0A726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A15A-DBA8-4D96-AB01-F391A417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E9D-33C7-472A-BAE4-2B3D7485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F9632-72DB-4CAB-B4F7-58CB8862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BFDD-F8C3-4803-AD9B-7AF0D986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B2CD-C725-4F7F-B411-6C802BB5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F786-75A5-41EF-8CBA-5D8C342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25A4-5468-49A9-9155-C57E4C30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41C4-D22D-4F29-8079-0A495869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AA20-EF38-4ADA-BDA6-247BE2C8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2EEFC-17C1-4009-A567-0839C549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0E2DC-78AE-444F-8DA1-0456BFFD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7C49-519B-41FB-8DF8-6636E1D6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214-EF83-4F62-BEED-B6A3D6CB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3E7F4-588B-410D-84C7-3C7C0D65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35D5-5DDE-41E5-833E-E93AEE8F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60EB-F38C-448B-BE8C-249619D5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2FA6-93AB-4FE9-A338-434E480C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DCAC1-C006-4279-8F33-B9A6070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18C8B-20F7-4717-A57C-60386119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0B84-DFE9-4680-A223-3A659D21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1EB4-BE89-41D8-BC88-DAE21E5D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A217-92F0-4688-A6C8-A12B130C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D49-961E-4DA7-82BD-63799DD5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77E-F7E1-48AB-90B3-7E5F9985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67C-5149-4985-AA07-57787018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1DF-ECDF-49CF-A7FD-13D2511C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622-1211-4DCE-ABEE-4D10153F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7A1C-B478-4616-A89E-C7306A00485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9E55-565F-4C8C-B145-C8C6F83FF5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B4B1-AAD6-4176-B5C6-E8B06263B3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87C8-AAA6-424D-B4E2-981D0CD2F5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Урок математики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 5 классе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6" name="Picture 4" descr="задача9"/>
          <p:cNvPicPr/>
          <p:nvPr/>
        </p:nvPicPr>
        <p:blipFill>
          <a:blip r:embed="rId1"/>
          <a:stretch/>
        </p:blipFill>
        <p:spPr>
          <a:xfrm>
            <a:off x="900000" y="1557360"/>
            <a:ext cx="7274160" cy="48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равильные и неправильные дроб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32000" y="22050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99"/>
                </a:solidFill>
                <a:latin typeface="Verdana"/>
              </a:rPr>
              <a:t> 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-363708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7"/>
              <p:cNvSpPr txBox="1"/>
              <p:nvPr/>
            </p:nvSpPr>
            <p:spPr>
              <a:xfrm>
                <a:off x="4500720" y="1773360"/>
                <a:ext cx="647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Picture 9" descr="пирог1"/>
          <p:cNvPicPr/>
          <p:nvPr/>
        </p:nvPicPr>
        <p:blipFill>
          <a:blip r:embed="rId1"/>
          <a:stretch/>
        </p:blipFill>
        <p:spPr>
          <a:xfrm>
            <a:off x="250920" y="3141720"/>
            <a:ext cx="8677080" cy="324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Object 12"/>
              <p:cNvSpPr txBox="1"/>
              <p:nvPr/>
            </p:nvSpPr>
            <p:spPr>
              <a:xfrm>
                <a:off x="6688080" y="1986120"/>
                <a:ext cx="8031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 txBox="1"/>
          <p:nvPr/>
        </p:nvSpPr>
        <p:spPr>
          <a:xfrm>
            <a:off x="10980720" y="2205000"/>
            <a:ext cx="100800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Правильные и 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неправильные  дроб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4" descr="пирог2"/>
          <p:cNvPicPr/>
          <p:nvPr/>
        </p:nvPicPr>
        <p:blipFill>
          <a:blip r:embed="rId1"/>
          <a:stretch/>
        </p:blipFill>
        <p:spPr>
          <a:xfrm>
            <a:off x="611280" y="3068640"/>
            <a:ext cx="8316720" cy="316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6588000" y="1557360"/>
                <a:ext cx="9590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0" name="Picture 4" descr="99"/>
          <p:cNvPicPr/>
          <p:nvPr/>
        </p:nvPicPr>
        <p:blipFill>
          <a:blip r:embed="rId2"/>
          <a:stretch/>
        </p:blipFill>
        <p:spPr>
          <a:xfrm>
            <a:off x="1332000" y="1390680"/>
            <a:ext cx="7343640" cy="4775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2" name="Picture 4" descr="999"/>
          <p:cNvPicPr/>
          <p:nvPr/>
        </p:nvPicPr>
        <p:blipFill>
          <a:blip r:embed="rId2"/>
          <a:stretch/>
        </p:blipFill>
        <p:spPr>
          <a:xfrm>
            <a:off x="1258920" y="1484280"/>
            <a:ext cx="7416720" cy="496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Раскрась карточки с правильными дробями желтым цветом, а  неправильными - зеленым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1908000" y="227664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Rectangle 13"/>
          <p:cNvSpPr/>
          <p:nvPr/>
        </p:nvSpPr>
        <p:spPr>
          <a:xfrm>
            <a:off x="2484360" y="4221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1692360" y="1989000"/>
            <a:ext cx="576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276720" y="206064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464328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594036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7093080" y="1989000"/>
            <a:ext cx="5745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3995640" y="4076640"/>
            <a:ext cx="576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508720" y="400536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3"/>
              <p:cNvSpPr txBox="1"/>
              <p:nvPr/>
            </p:nvSpPr>
            <p:spPr>
              <a:xfrm>
                <a:off x="1763640" y="1989000"/>
                <a:ext cx="576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3400560" y="2195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3"/>
              <p:cNvSpPr txBox="1"/>
              <p:nvPr/>
            </p:nvSpPr>
            <p:spPr>
              <a:xfrm>
                <a:off x="3348000" y="1989000"/>
                <a:ext cx="469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0"/>
              <p:cNvSpPr txBox="1"/>
              <p:nvPr/>
            </p:nvSpPr>
            <p:spPr>
              <a:xfrm>
                <a:off x="4572000" y="1916280"/>
                <a:ext cx="611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3"/>
              <p:cNvSpPr txBox="1"/>
              <p:nvPr/>
            </p:nvSpPr>
            <p:spPr>
              <a:xfrm>
                <a:off x="5973840" y="1989000"/>
                <a:ext cx="5428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6"/>
              <p:cNvSpPr txBox="1"/>
              <p:nvPr/>
            </p:nvSpPr>
            <p:spPr>
              <a:xfrm>
                <a:off x="7093080" y="1916280"/>
                <a:ext cx="5158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9"/>
              <p:cNvSpPr txBox="1"/>
              <p:nvPr/>
            </p:nvSpPr>
            <p:spPr>
              <a:xfrm>
                <a:off x="2484360" y="4221000"/>
                <a:ext cx="561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Rectangle 5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2"/>
              <p:cNvSpPr txBox="1"/>
              <p:nvPr/>
            </p:nvSpPr>
            <p:spPr>
              <a:xfrm>
                <a:off x="3995640" y="4076640"/>
                <a:ext cx="5652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5"/>
              <p:cNvSpPr txBox="1"/>
              <p:nvPr/>
            </p:nvSpPr>
            <p:spPr>
              <a:xfrm>
                <a:off x="5483160" y="4005360"/>
                <a:ext cx="601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Раскрась карточки с правильными дробями желтым цветом, а  неправильными - зеленым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1908000" y="227664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Rectangle 7"/>
          <p:cNvSpPr/>
          <p:nvPr/>
        </p:nvSpPr>
        <p:spPr>
          <a:xfrm>
            <a:off x="2484360" y="4221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1692360" y="1989000"/>
            <a:ext cx="576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276720" y="206064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464328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94036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7093080" y="1989000"/>
            <a:ext cx="5745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995640" y="4076640"/>
            <a:ext cx="576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5508720" y="400536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6"/>
              <p:cNvSpPr txBox="1"/>
              <p:nvPr/>
            </p:nvSpPr>
            <p:spPr>
              <a:xfrm>
                <a:off x="1692360" y="1989000"/>
                <a:ext cx="6476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3400560" y="2195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2"/>
              <p:cNvSpPr txBox="1"/>
              <p:nvPr/>
            </p:nvSpPr>
            <p:spPr>
              <a:xfrm>
                <a:off x="3203640" y="1989000"/>
                <a:ext cx="720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5"/>
              <p:cNvSpPr txBox="1"/>
              <p:nvPr/>
            </p:nvSpPr>
            <p:spPr>
              <a:xfrm>
                <a:off x="4643280" y="1916280"/>
                <a:ext cx="792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7"/>
              <p:cNvSpPr txBox="1"/>
              <p:nvPr/>
            </p:nvSpPr>
            <p:spPr>
              <a:xfrm>
                <a:off x="5973840" y="1989000"/>
                <a:ext cx="5428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9"/>
              <p:cNvSpPr txBox="1"/>
              <p:nvPr/>
            </p:nvSpPr>
            <p:spPr>
              <a:xfrm>
                <a:off x="7020000" y="1916280"/>
                <a:ext cx="647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31"/>
              <p:cNvSpPr txBox="1"/>
              <p:nvPr/>
            </p:nvSpPr>
            <p:spPr>
              <a:xfrm>
                <a:off x="2484360" y="4221000"/>
                <a:ext cx="561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33"/>
              <p:cNvSpPr txBox="1"/>
              <p:nvPr/>
            </p:nvSpPr>
            <p:spPr>
              <a:xfrm>
                <a:off x="3924360" y="4076640"/>
                <a:ext cx="718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5"/>
              <p:cNvSpPr txBox="1"/>
              <p:nvPr/>
            </p:nvSpPr>
            <p:spPr>
              <a:xfrm>
                <a:off x="5483160" y="4005360"/>
                <a:ext cx="601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ридумайте и запишит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Пять правильных дроб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__  __  __  __  __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2.Пять неправильных дроб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__  __  __  __ __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дчеркните синим карандашом дроби, которые больше 1, а зеленым меньше 1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250920" y="2924280"/>
                <a:ext cx="8569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280" y="1827360"/>
            <a:ext cx="81723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Правильная дроб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больше 1   б) меньше 1  в) равна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Если в дроби числитель равен знаменателю, то она рав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 1   б) 2  в) 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Дробь      будет неправильной, есл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с=7   б) с=3  в) с=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2627280" y="4724280"/>
                <a:ext cx="5889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askerville Old Face"/>
              </a:rPr>
              <a:t>ТЕМА УРОК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Правильные и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неправильны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дроб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1б,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      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2а,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       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3б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2340000" y="549360"/>
            <a:ext cx="496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. 27, №5.134, №5.13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97" name="Picture 12" descr="122"/>
          <p:cNvPicPr/>
          <p:nvPr/>
        </p:nvPicPr>
        <p:blipFill>
          <a:blip r:embed="rId2"/>
          <a:stretch/>
        </p:blipFill>
        <p:spPr>
          <a:xfrm>
            <a:off x="2556000" y="2781360"/>
            <a:ext cx="4537080" cy="381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Vivaldi"/>
              </a:rPr>
              <a:t>Знания               Примене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Verdana"/>
              </a:rPr>
              <a:t>Уметь ответить на вопрос, какая дробь называется правильной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000099"/>
                </a:solidFill>
                <a:latin typeface="Verdana"/>
              </a:rPr>
              <a:t>а какая неправиль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3240" y="2035080"/>
            <a:ext cx="42480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Уметь отличать правильные и неправильные дроби, решать задачи с дроб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Обыкновенная дробь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4502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Каждый может за вер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Видеть дробную чер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Над чертой числитель, знай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Под чертою знамена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Дробь такую непременн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Надо звать обыкновен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4"/>
              <p:cNvSpPr txBox="1"/>
              <p:nvPr/>
            </p:nvSpPr>
            <p:spPr>
              <a:xfrm>
                <a:off x="7740720" y="836640"/>
                <a:ext cx="1224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Что показывает числит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4" descr="числитель"/>
          <p:cNvPicPr/>
          <p:nvPr/>
        </p:nvPicPr>
        <p:blipFill>
          <a:blip r:embed="rId1"/>
          <a:stretch/>
        </p:blipFill>
        <p:spPr>
          <a:xfrm>
            <a:off x="2195640" y="1844640"/>
            <a:ext cx="6213240" cy="4114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Что показывает знаменател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8" name="Picture 4" descr="знаменатель"/>
          <p:cNvPicPr/>
          <p:nvPr/>
        </p:nvPicPr>
        <p:blipFill>
          <a:blip r:embed="rId1"/>
          <a:stretch/>
        </p:blipFill>
        <p:spPr>
          <a:xfrm>
            <a:off x="1835280" y="1827360"/>
            <a:ext cx="6134040" cy="433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Прочитайте дроби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0" name="Picture 4" descr="переделанный слайд"/>
          <p:cNvPicPr/>
          <p:nvPr/>
        </p:nvPicPr>
        <p:blipFill>
          <a:blip r:embed="rId1"/>
          <a:stretch/>
        </p:blipFill>
        <p:spPr>
          <a:xfrm>
            <a:off x="900000" y="1484280"/>
            <a:ext cx="7921800" cy="46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Picture 4" descr="задача77"/>
          <p:cNvPicPr/>
          <p:nvPr/>
        </p:nvPicPr>
        <p:blipFill>
          <a:blip r:embed="rId1"/>
          <a:stretch/>
        </p:blipFill>
        <p:spPr>
          <a:xfrm>
            <a:off x="1116000" y="2060640"/>
            <a:ext cx="7343640" cy="4249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задача8"/>
          <p:cNvPicPr/>
          <p:nvPr/>
        </p:nvPicPr>
        <p:blipFill>
          <a:blip r:embed="rId1"/>
          <a:stretch/>
        </p:blipFill>
        <p:spPr>
          <a:xfrm>
            <a:off x="1332000" y="1557360"/>
            <a:ext cx="7343640" cy="49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03:07:08Z</dcterms:created>
  <dc:creator>Шегарка</dc:creator>
  <dc:description/>
  <dc:language>en-US</dc:language>
  <cp:lastModifiedBy>Dmitriy Prykin</cp:lastModifiedBy>
  <dcterms:modified xsi:type="dcterms:W3CDTF">2023-11-28T13:18:17Z</dcterms:modified>
  <cp:revision>23</cp:revision>
  <dc:subject/>
  <dc:title>Урок математики 5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