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C35-E532-46C2-AADF-D0007D37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8D3F-9641-46D7-9F5F-308C0DD6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85A8C-2CEE-4117-A54E-C5D8A095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72E76-6E95-4670-81DE-B44674C0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F68C0-699A-4655-8BB0-9AE75AC9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8834C-6245-4544-9605-9831B471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66DE7-A728-49EC-8CB1-D20BCA6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BCE06-F740-40FE-9F9C-82E4D47C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A1404-A60F-4BA2-8B2A-A01B8CC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B469C-D5FF-477E-8927-119ADCCC9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45C7E-255F-47E9-AED0-05B6FE84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E323F-0590-4CB2-B338-C9785990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03BD-E315-40F1-A160-B166AD9D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67C03-FE2D-4131-9AC2-7D460D9F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9CA8-F944-4DCC-960F-F1ABCBB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6DE2F-6426-49DA-B44F-F0D7C3AC5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4C8A5-EEB2-40EA-8F25-788CAA0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74F75E-78DF-4AA7-B331-D056782B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0E0B9-6444-4E6E-AEE4-0DA3D740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1AD22-BACF-4B07-8476-6B2E5955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430EC-4F58-4545-8817-0D060198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E238C9-5624-4843-B53D-DA18E7FC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1C9B46-2621-4523-9747-65EFA8FB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129C-55D1-4ADE-8F29-C08739CB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B3647-E63E-4F79-84F8-8B7C647D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15CBC-2925-4138-BD91-C1529E11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97A2D-B00A-4BCF-8DCE-E71AF4AA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6A851-7F2B-4D0F-8B4B-CFDFA52D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87D00-3CF5-4872-95C6-6C23807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EDB78-0E6E-4BB0-8414-1170A6CE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D04B4-ED20-419C-A49E-5FB8696F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DB019-60CC-42EC-A5C1-2D9DFE8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C62E3-5E17-4E62-874C-DA0B768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6D2F8-C7D7-4296-91B8-F66E061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4C6-D154-4DEA-B9D6-DBE7E681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EEAFB-A1F2-4398-891C-C0D0A526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10F58-ED6C-467A-9B01-344AB1FD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67B22-834C-43BC-A959-6989BABEC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9A076-7841-4125-A374-FB0DA5447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96DDF-DFB6-462F-A688-B4835E6C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A3AA9-6852-4F1B-B9B2-EC141DE6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F5508-07E1-4842-8485-34EC8191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87F11-1E86-4CFA-9F5E-2091733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4A24D-69CC-4740-A2F7-3FCC2CAA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F091C-9550-4169-B978-8EC0386E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0BA2-CB36-4B8D-BA2D-0CC3A438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8A668-E84C-486C-A477-FF0FF72A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1BFA88-4954-4B84-B4BF-51858D77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A9F30-67C3-459C-85CC-5D0AD51F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FA380-1267-4EA9-8357-D83F28FF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70C25-51DB-4E49-A303-459BAB916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4930A3-7BE3-47D3-9D34-E544DCC1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DF763-340A-4AFC-A1F5-ED12AA80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A3F23-2B24-48AC-AC8C-DCA5DB03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57458-B719-461D-981A-504B6A11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E14BAE-C144-4C28-9CC6-2D8A9260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9A21-D648-4842-B2B8-63D48FA1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6870A-8F20-4529-AA5B-6FAFCA82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A066D-95C5-4DA2-9F5A-9470970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E5450-88B4-4C60-B6CF-B7CE6B65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97566-38F7-4A33-A53A-D7AED022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5C77A-4872-406B-95E2-83E152036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05A003-CDDB-4A72-AC10-E7345F6C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A09E2C-8FB6-48C8-9766-CBDA85F7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086AD-AE8C-4083-B735-EE1063D8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8F6A8-C71C-4303-9B7F-3A5D3CB8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6D1EC-BD11-4933-821B-59203335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6714-6769-4B84-9E48-14F2AC8E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403EE-09BC-40A8-A07A-3F7012C2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76120-FD15-402A-AF7F-549EE707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38C8F-B198-475D-9D52-1DA3C02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344C9F-9226-47BC-A877-1F939DF5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F68F3-2290-41AB-A234-1979CE31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FF546-9164-40DA-ABEB-C716EA97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0C1DA-B568-4FD4-A2D3-1B2BFD8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EED28F-832F-4449-A1BA-92929E7A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E3237-EB1D-4708-86AB-1CA44615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A30B81-BBBD-4FDB-B593-04DD8DF4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42C6-A6B1-4B81-A192-99AD14EE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70618-2664-447A-BAA4-4790F2AE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3435D-0FC0-4A80-A09E-F060D2D3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CEE47-BF0A-478C-9397-C563CB19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FC54C-D78F-45E8-825C-AB1E483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3AC13-ADE3-4014-961C-29990D6A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90896-A118-4AB7-9C81-267E5EC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E60EF-7A63-4C9B-83C8-10763C6B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566C7-BAAF-4015-8A1D-CD6B6D3D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F2617-6723-4610-8C8A-03BA5802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32F94-2DB8-4626-A964-D6EFB02E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38B5-9380-4FF8-BCFD-09398393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DD4BF6-AA8B-44A3-94F2-489BB7A7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60BC12-1AA2-4992-9A0B-907C285B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966229-0995-4173-9BAC-E06D7FD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40D148E-FB1F-4FBF-82C0-D814B99D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D240CE-111E-4381-9C79-3923A94E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C78346C-9733-4DC8-BC95-A23F52A2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2A7BBD-481D-4D73-A2DF-F242ACEE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C2AA18-F0E3-4E0E-AAAB-5FEE7E77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5C2EAA-D54B-456A-96C2-7636825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7CCD82-DA56-427D-B619-096C1B3F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BAF9-BFC5-495C-83B4-A6D052F1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FC7AC9-3F64-4347-806C-72836E93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17055E8-5FAD-4E4D-99F4-BB9BAE61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5FFA11-9508-4C37-A312-F803C670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D82DB-866D-4DCC-904B-770AC321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89D1B-F5F0-4732-A6DC-4FB1228F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92632-713D-4E9F-BDC8-6B758B4B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EE61C5-4FAF-45C4-9445-07E6D763B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DD1DE3-ADB6-417A-8C51-0D7C2E60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2976A-2932-4E8E-A403-EB504B9A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228731-975B-41CE-93F6-3B6093C0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734-11C2-4EC1-AB12-9B03C65C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F3DC-EB3D-48AF-9E12-50FFF2D8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88130-D036-4F0E-B45C-A66C97A8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0D13F-3535-4378-9758-F9607795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81946-D294-4155-9D19-B66AE61E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FC56A3-6947-4ED2-B518-DCEAF54D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89E4F9-006E-4D0C-BE55-0F45A7A4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E3439A-91E0-488A-8767-6D3F9AA3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E8FDD-9AE4-4015-9BD7-ADE1C976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A87D39-FD60-4F85-A1AF-1ECFF0E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C26A79-B60F-472B-BAC1-D4C74FF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D322F4-FADB-44CC-AAD4-3FBD1A17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222B-4C20-41ED-8AF2-93A3617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8D8A9-57E7-4A9D-89C5-73B0E81D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9FF2B-C76C-470B-91D4-B850B4EA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79F376-2FCD-49F2-AECD-44A5E595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57218-C8F9-4E9C-B87E-D0BE0A3D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1FAAA-40C4-417F-B34B-893798C8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544CA2-0C52-4868-93CE-72868E23B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B2125-CD7D-4B26-9B66-BCDEB0A7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247B64-B721-40BE-B6C0-21C9711B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0215B-A2F8-4BDD-AE0E-274F87A3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3AB559-CD53-4FE0-B7FA-8A24D77D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0B63-7F8B-4309-94C2-8D6B57EC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7F553-DC92-459B-A6D9-68795E1E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A8D2AA-0A4D-4490-ADAD-E043344F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363D80-08C7-4BA4-A307-68C9C6AD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C05AA-4115-4792-B1AA-B5F074EB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E6812-A955-4039-8E6A-CB7CB0B0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D9C070-74DF-42C2-9354-695D6B3C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3183F-739B-40AC-AF07-A85D0A0F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CA3982-5397-41D7-B322-6BF5AE77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A968E-E402-4536-BEED-C962D3F2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2198D2-6031-4DA7-83A6-E745A102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9397-61A2-45CE-B1B4-E9D5EA96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2A06F-DECC-4953-A9A2-E22C2B35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3C5EEA-BE47-4256-931B-69892F8D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4EB08-ABDC-4CD1-8359-8F5C2C53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B65D2-575B-47F2-B893-574EDD15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6FB38D-FAF4-4041-A140-F0A8D31D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0ABB24-1220-43D5-A8AB-DAAA4BFE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1F4E70-D0C8-46CD-B9C0-44D71EFB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647B1-A512-42A9-83CE-58C47A09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C5D3FE-C558-401C-918E-D6B5962F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070B54-034D-444D-A49D-A937C987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3DAC-AF76-4C2A-A27A-86BB2730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F058CF-4220-43F6-A701-1E7E2E67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4EC47-8235-4946-847D-AC190CFC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365154-1009-444A-BA48-76DB16D5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44256D-94CF-4CF0-82F2-88EA722E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E2B79-1A34-4BDB-8C8F-5649B0AB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F3E09C-9EA1-4787-96A4-EAF50997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29425-FF96-4652-84AF-41F4C31B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5F152D-BE2E-40CD-89A6-B3EC402B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C4D31-1524-4F9C-9A9C-5775D839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5FEB74-50A8-4C02-820C-87D670EC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D932-7225-4382-8CDF-AC792C9B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FDB8F-1BD9-41A6-ABF5-19E3B289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30E6E7-B474-4072-BFF3-730B6281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9947A-E5D2-43CE-B461-4719FEB6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846F3C-7B86-4BEB-9CCF-9DF7A15A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2728DF-DBB3-4D61-A2BE-F87F4120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C09636-8449-4B14-B474-248BF20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4A2B0B-9508-433C-AF31-AE53376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379469-7480-4C09-9D7C-7A3BB3B0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F79113-F3B8-4EA3-8D44-5310499B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F02AA-5F43-4DF4-A6EC-05E31863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1FCE7-0A8A-42AB-AA6A-12BA02AB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A8763-8F5A-48E0-95F7-35424265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F645D1-7DE4-450F-BF1B-3197AA4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1E5C1-73D2-42E5-BED4-84C4D35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4236AC-236D-4680-8835-023EBFF92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0AD0BD-15D9-4CEB-AAC0-8F4C6FB5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E07F85-F273-4088-B081-B300048A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1429E7-A0CD-4543-B39C-C4404681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3630CF-8E69-492A-9F8D-CE0B0F6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E7AA5D-DD34-48E7-935F-EC1C9FF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5EBEAE-B0B5-4576-986D-E5B8DC17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1C75-0235-436C-97DE-427C9CDA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8D110C-DD26-41CB-99FF-069BB775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0781A8-1740-46D5-B41F-EEE94A1B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B1334-2929-4BBB-BBA1-57B1347D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7C630F-AE8B-4D25-92A4-46A224A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74593F-707D-4A85-A7C9-3F906F75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C72F23-08B3-4D7A-BB6D-8A9B74DA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CE49F6-B6B2-4ACD-876B-80967CD00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E3A81F-39A4-4012-A6C1-9D1C566C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B67196-6F29-4C3D-85E9-B28CC397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A7FC94-8D03-497C-B8D2-D7B45AF0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4AD1C-9D0F-4C61-B473-A7B60393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8F1B31-07BB-4F9D-BC1D-0CE98631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BCEB22-B8CF-424F-80B3-ACBEC85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340B37-25ED-46CB-8697-05F55AEB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0ED704-6B9F-4378-8DD1-6F0DA793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EE7852-670A-4385-AD39-BA52F859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0B3AF4-9C5C-4670-A3B8-C1239BD0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0B4539-487A-4344-9D78-615FBFF5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0E6B96-F949-41C0-95AB-202AB49C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5815E5-9CBE-4250-9FA0-86D28CC8C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9C96A2-0699-4474-A25F-7CD33FBF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14333-8654-4AA9-8571-4F179D79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4EBEA1-CA23-4F5B-8115-12D9A57E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3437B7-185E-4D87-842B-82E6FDE8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7069C8-765A-4B7B-B207-A5A77B3E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11DC63-A401-42F8-B708-163BBD9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E128EB-7E48-4BEA-97D1-43DF1A4C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1EDDB38-300E-485D-B3A0-F07E3D8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E0C888-0E78-4F7E-A9F0-4F13C42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6B5ED2-B21F-4772-95C8-DF4595BA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0BA31D-D935-45AF-9955-E6147DC7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241537-20F5-4C26-BF89-6A540F9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B7C8-0B3D-40B7-9AB4-155969D7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3FA8-4239-474F-9743-1E73E4E5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449F78-8FD5-43D1-8716-51CD9565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101C23-F4E5-4591-B5EE-312C38EE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BC1DC3-87E8-4B0A-9F04-96C68A6D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8EEBC2-C76D-46BA-8C32-A4FB1540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3B9543-227C-4D05-B5D9-EA060CFE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1EFC7F-3D81-41A3-A6E0-1495EE3F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7C0EFD-8A6E-4DA5-8483-E520D6ED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6E92D1-F6CC-4FD5-B15A-BB236834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072CE6-CC95-475A-8D3E-3ECDC3A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05A10A-E522-4B75-804F-84E1028A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FAB65-6A79-47CB-AF22-A2E269CD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A65188-8704-4022-A9BB-B2989F59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DDF6BB-31F5-4C74-A20E-E13E4286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1C156B-5022-4D71-A06C-83B9C197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92A3A9-A21B-4A1E-A6DD-4844E7CE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389F30-9392-4D8F-8252-3FD9A0C4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EFB77F-4332-499F-829A-9778E881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B0D87D-D29C-4276-8EDF-156DF883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23AEC7-0AC8-4708-8326-D80883AD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B9C0E3-F3B1-4F2E-814A-D4CDE70F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DB3F78-7913-4E08-9452-FFA91DED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CAC4B-4500-4692-BFCD-C8C5CDC9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A786E0-4F07-42C8-95BB-63F1D219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01E534-99F1-4379-B974-65E02E9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C10A7F-FA83-4370-A6CE-458065C1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D51AEB-905E-43AF-9F80-894BE505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B30A0F-A7C0-4F99-B801-E6988ED3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0CD10-8BC9-4295-A443-602AD60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EB3F-81B4-4FCD-AFDA-6F7CDF11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7E50-0B6E-4470-BDBF-671426B0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4A44-EFBE-4C16-8FA6-DEF70F3D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CA09B-2995-4C82-B663-B1B07620C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07DB1-B920-4587-9139-5DE02723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C5BE-7BC7-4837-A9EA-E60B968B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6DFA-88B9-4F83-8B1C-67C0945C7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E2EF-2735-4B78-8CD8-1CBD79EC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AC4BB-42AA-4FD6-884A-B283B0AA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A8A0-B5D1-4EED-B308-DDBA072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ABCD1-2595-4857-82E4-961727C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A54CC-59D5-4E1F-A0EF-4B0CE52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E7FA-6E02-4BF7-9899-3DE1FA73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C01C-3A07-4343-96A6-EEEA8EE7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B330E-87D8-42FC-AF28-EB02A0BD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D6EF1-E57E-4BDF-80B1-26EBD3F6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027AF-1974-47EB-8461-510061F2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BEF-D623-446F-9685-0FF03855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FC92B-618F-4C2C-8D75-F3CAFB74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02AE4-1F46-40E3-91C1-A130B6EC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8C80EB-23C6-42D4-AB0E-641234E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B83EE-77C4-4283-89C1-02B65F0B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05BA26-FECF-435B-8970-4BC2C564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C9C406-E0E9-486C-A257-8AF0A798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BE07D-D1D3-4B76-8323-62D0721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E98E5-E674-417B-96B7-DBC023BC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612906-F0CF-4B7E-B89A-D04B1268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911BC-E5E0-4063-973F-7F99F2281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E69-5CC6-46DD-A790-312CAC0D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7FDA4-D437-45E3-990F-2F65038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11272-6776-4590-B195-509C1A33E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732B2-1BEF-4AE7-9D64-D6B28757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3653-969C-42A8-A7D0-21316E6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9573C-717F-4C52-B7D7-0AEE5C85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ED12-951D-4CCE-9B8D-09231B44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5091-8FF6-4786-ACFB-9E963EA3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CB071-2368-4049-B84B-E0190658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ADB4-31D4-4267-A11C-47972C26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5DF38-18A3-4636-87AD-B502C5A1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1E38-A971-44A8-8026-3D1C59F7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BACA-9038-4A66-A755-8A49F15F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69B49-F54C-450B-B6D7-0D5D5623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F7961-B237-4055-B279-3CE61DDC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FE9B5-FFDE-41D4-96B0-60BE62D03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5BFF-24FF-4F48-A5F1-9F7363FC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A32E-0B60-40E9-BA9F-E0A704E3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4295-ADED-44FD-BFEF-A6075F6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9814B-20C2-48FD-BBF4-2C574C82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476D9-A164-4C89-A96D-54CC9FAE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C312-5CBB-4234-8811-FFDEDFEE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53A0-D029-43E2-9975-177329B8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DCFF-5FDD-4FA4-9CEF-8C9F6C19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EAFBA-B443-4476-8F2C-84FE80B7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8C0CB-F322-4C73-8C94-CB8F48C1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BF67E-3C0A-46C1-8ACE-046B7FC5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7ED06-D726-46DC-AB47-052538D65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81241-6AF1-42BC-8B01-3026FFAA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10D64-FBDC-48A1-86A7-D8DAF989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FF7A-98AB-44AE-B433-833FEE78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4454-85E5-4515-A2B0-76072532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A8648-AB98-4D7E-98CC-510D776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21A3-8719-4BE6-AF2E-CCA6647C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9608-DB61-4B8F-89F3-BE7DFE10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A820A-B6B9-4E25-8BCE-31CC3F6C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52608-43C8-4C79-B3F3-DAA853F5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12CA2-C0FB-45C0-BCA6-0C6E2ED7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8508D-AAE2-4853-AF08-9BA67F46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EAE9F-4CCA-4096-9C0F-FE1C3B74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4080E-F860-4CCC-A59D-DB757708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EC043-8619-4AFD-8678-D8DA146A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AF305-578F-41C1-B3D4-0774E81C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E9256-6FD9-4B91-AB71-216BC9EB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1542-7CC1-424B-A12B-54E001EC358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0D47-6BB6-4A0C-8156-CAE415A3877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ADFE-2B36-4985-9DEE-5B61AED3CC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07F4-03A0-4F48-9FC3-DB962633ED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659C-619C-4F30-A11A-EB7E05980D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244C-9536-4650-8952-5CC83C3DC2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A6B6-D9E8-4ACC-8797-83E0B8C764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sldNum" idx="4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D04C-D29E-490F-ABDF-DC9A4F317F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ftr" idx="4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C16E-F48E-44F8-AD7B-DBF310F696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5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2D66-7F65-4876-94EE-2462D2E4F3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5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5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5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6754-D8CE-4B7B-B7C3-81130530C31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3898-107C-4125-A1DF-32E9D7D726D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58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59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0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945B-4736-4A3C-9B20-B509DDF208C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6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6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6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AD35-D1CC-4CBD-AD04-C76C399551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6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6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6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5167-7437-474A-8335-BF994AFC168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6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6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6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B663-4967-4D0C-A097-11D2B626588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7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7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7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3B2D-57AF-4DFE-AE56-DECCD5C05C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4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5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448-2F2E-4CF3-BBB6-FED0881F002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2696-2F2E-4632-A999-A31304B374E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dt" idx="7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8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 type="sldNum" idx="8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29C6-EF8B-41FC-A23D-9331FFFFED78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4D0C-2836-45D3-97BF-C7180AA6757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76A-2B36-4F05-B7FD-25B53E37129D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FDB6-63BC-47C7-AAB0-5758C8D4A32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8AB8-C9B8-434D-BD73-AD8C13DBF23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98C0-6C95-42B6-B5BF-42BA2800E9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949F-2A5C-46B8-9B7B-F48AB6747E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5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6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7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2E08-85F7-4641-8FC1-AA245E0E68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apus.ru/im.xp/049056054124053048048049051048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illionreferatov.ru/pictures_fail/27/970_1.htm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91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2f5897"/>
                </a:solidFill>
                <a:latin typeface="Palatino Linotype"/>
              </a:rPr>
              <a:t>Земноводные или амфибии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755640" y="1916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Это животные, живущие и в воде, и на суше.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Амфибия   (с греческого) –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entury Gothic"/>
              </a:rPr>
              <a:t>«живущий двойной жизнью».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0" name="Рисунок 1" descr="zemnovodnye.jpg"/>
          <p:cNvPicPr/>
          <p:nvPr/>
        </p:nvPicPr>
        <p:blipFill>
          <a:blip r:embed="rId1"/>
          <a:stretch/>
        </p:blipFill>
        <p:spPr>
          <a:xfrm>
            <a:off x="324000" y="582480"/>
            <a:ext cx="8496000" cy="407052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539640" y="4941720"/>
            <a:ext cx="2256120" cy="161928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3184560" y="4759200"/>
            <a:ext cx="2773440" cy="1785960"/>
          </a:xfrm>
          <a:prstGeom prst="rect">
            <a:avLst/>
          </a:prstGeom>
          <a:ln w="0">
            <a:noFill/>
          </a:ln>
        </p:spPr>
      </p:pic>
      <p:pic>
        <p:nvPicPr>
          <p:cNvPr id="1173" name="i-main-pic" descr="Картинка 4 из 67878"/>
          <p:cNvPicPr/>
          <p:nvPr/>
        </p:nvPicPr>
        <p:blipFill>
          <a:blip r:embed="rId4"/>
          <a:stretch/>
        </p:blipFill>
        <p:spPr>
          <a:xfrm>
            <a:off x="6167520" y="4826160"/>
            <a:ext cx="2665440" cy="1652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f5897"/>
                </a:solidFill>
                <a:latin typeface="Palatino Linotype"/>
              </a:rPr>
              <a:t> 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76" name="Picture 2" descr="C:\Users\Admin\Desktop\slide7-l.jpg"/>
          <p:cNvPicPr/>
          <p:nvPr/>
        </p:nvPicPr>
        <p:blipFill>
          <a:blip r:embed="rId2"/>
          <a:stretch/>
        </p:blipFill>
        <p:spPr>
          <a:xfrm>
            <a:off x="179280" y="423720"/>
            <a:ext cx="88203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b050"/>
                </a:solidFill>
                <a:latin typeface="Calibri"/>
              </a:rPr>
              <a:t>Земноводны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Box 5"/>
          <p:cNvSpPr/>
          <p:nvPr/>
        </p:nvSpPr>
        <p:spPr>
          <a:xfrm>
            <a:off x="468360" y="213372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езноги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2556000" y="367524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Хвостаты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7"/>
          <p:cNvSpPr/>
          <p:nvPr/>
        </p:nvSpPr>
        <p:spPr>
          <a:xfrm>
            <a:off x="4984920" y="2133720"/>
            <a:ext cx="38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есхвостые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181" name="Прямая со стрелкой 2"/>
          <p:cNvCxnSpPr/>
          <p:nvPr/>
        </p:nvCxnSpPr>
        <p:spPr>
          <a:xfrm flipH="1">
            <a:off x="1834560" y="1441440"/>
            <a:ext cx="1369080" cy="79272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182" name="Picture 8" descr=""/>
          <p:cNvPicPr/>
          <p:nvPr/>
        </p:nvPicPr>
        <p:blipFill>
          <a:blip r:embed="rId1"/>
          <a:stretch/>
        </p:blipFill>
        <p:spPr>
          <a:xfrm rot="18597600">
            <a:off x="3119400" y="2023560"/>
            <a:ext cx="2609640" cy="233352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9" descr=""/>
          <p:cNvPicPr/>
          <p:nvPr/>
        </p:nvPicPr>
        <p:blipFill>
          <a:blip r:embed="rId2"/>
          <a:stretch/>
        </p:blipFill>
        <p:spPr>
          <a:xfrm rot="15718200">
            <a:off x="6103080" y="1413360"/>
            <a:ext cx="1525680" cy="136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46040" y="37944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alatino Linotype"/>
              </a:rPr>
              <a:t>Безногие</a:t>
            </a:r>
            <a:endParaRPr b="0" lang="en-US" sz="60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4" descr="Картинка 39 из 5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16360" y="3462480"/>
            <a:ext cx="3670560" cy="3019320"/>
          </a:xfrm>
          <a:prstGeom prst="rect">
            <a:avLst/>
          </a:prstGeom>
          <a:ln w="0">
            <a:noFill/>
          </a:ln>
        </p:spPr>
      </p:pic>
      <p:sp>
        <p:nvSpPr>
          <p:cNvPr id="1187" name="Text Box 6"/>
          <p:cNvSpPr/>
          <p:nvPr/>
        </p:nvSpPr>
        <p:spPr>
          <a:xfrm>
            <a:off x="179280" y="49719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Червяг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7" descr="Червяги"/>
          <p:cNvPicPr/>
          <p:nvPr/>
        </p:nvPicPr>
        <p:blipFill>
          <a:blip r:embed="rId4"/>
          <a:stretch/>
        </p:blipFill>
        <p:spPr>
          <a:xfrm>
            <a:off x="428760" y="1569960"/>
            <a:ext cx="4017960" cy="2867040"/>
          </a:xfrm>
          <a:prstGeom prst="rect">
            <a:avLst/>
          </a:prstGeom>
          <a:ln w="0">
            <a:noFill/>
          </a:ln>
        </p:spPr>
      </p:pic>
      <p:sp>
        <p:nvSpPr>
          <p:cNvPr id="1189" name="Text Box 8"/>
          <p:cNvSpPr/>
          <p:nvPr/>
        </p:nvSpPr>
        <p:spPr>
          <a:xfrm>
            <a:off x="3936960" y="1908000"/>
            <a:ext cx="494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ahoma"/>
              </a:rPr>
              <a:t>Рыбозмеи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             </a:t>
            </a: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Хвостатые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191" name="Picture 4" descr="Саламандровые: 1 - пятнистая саламандра; 2 -  кавказская саламандра; 3 - малоазиаьский тритон (а - самка; б - самец); 4 - гребенчатый тритон (а - самка, б - самец)."/>
          <p:cNvPicPr/>
          <p:nvPr/>
        </p:nvPicPr>
        <p:blipFill>
          <a:blip r:embed="rId1"/>
          <a:stretch/>
        </p:blipFill>
        <p:spPr>
          <a:xfrm>
            <a:off x="1116000" y="1311120"/>
            <a:ext cx="6551640" cy="4410360"/>
          </a:xfrm>
          <a:prstGeom prst="rect">
            <a:avLst/>
          </a:prstGeom>
          <a:ln w="0">
            <a:noFill/>
          </a:ln>
        </p:spPr>
      </p:pic>
      <p:sp>
        <p:nvSpPr>
          <p:cNvPr id="1192" name="Text Box 5"/>
          <p:cNvSpPr/>
          <p:nvPr/>
        </p:nvSpPr>
        <p:spPr>
          <a:xfrm>
            <a:off x="539640" y="573408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Тритоны, саламандры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Palatino Linotype"/>
              </a:rPr>
              <a:t>Бесхвостые</a:t>
            </a:r>
            <a:br>
              <a:rPr sz="5400"/>
            </a:b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539280" y="1268280"/>
            <a:ext cx="806292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95" name="Picture 4" descr="Земноводные. 1 — чесночница (Pelobates fuscus); 2 — рогатка (Ceratophrys cornuta); 3 — изменчивый ателоп (Atelopus varius); 4 — венесуэльский короткоголов (Atelopus cruciger); 5 — южноафриканский узкорот (Breviceps adspersus); 6 — американская лягушка (Rana pipiens); 7 — остромордая лягушка (Rana terrestris), самец в брачном наряде, 8 — он же в обычном наряде; 9 — зелёная лягушка (Rana esculenta)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4760" y="1268280"/>
            <a:ext cx="6048360" cy="4268880"/>
          </a:xfrm>
          <a:prstGeom prst="rect">
            <a:avLst/>
          </a:prstGeom>
          <a:ln w="0">
            <a:noFill/>
          </a:ln>
        </p:spPr>
      </p:pic>
      <p:sp>
        <p:nvSpPr>
          <p:cNvPr id="1196" name="Прямоугольник 1"/>
          <p:cNvSpPr/>
          <p:nvPr/>
        </p:nvSpPr>
        <p:spPr>
          <a:xfrm>
            <a:off x="2124000" y="5877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ягушки, жаб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178920" y="0"/>
            <a:ext cx="8425080" cy="79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f497d"/>
                </a:solidFill>
                <a:latin typeface="Calibri"/>
              </a:rPr>
              <a:t>Признаки земноводных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1f497d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Кожа голая, влажная, холодная, покрыта слиз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-  Температура тела зависит от температуры окружающей среды. Если холодно, впадают в спячку, если жарко, зарываются в  земл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се земноводные – хищники (питаются насекомыми, улитками, гусеницам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считывается более 1040 вид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1:40:55Z</dcterms:created>
  <dc:creator>Пользователь</dc:creator>
  <dc:description/>
  <dc:language>en-US</dc:language>
  <cp:lastModifiedBy>Admin</cp:lastModifiedBy>
  <dcterms:modified xsi:type="dcterms:W3CDTF">2024-01-05T13:23:46Z</dcterms:modified>
  <cp:revision>43</cp:revision>
  <dc:subject/>
  <dc:title>Урок русского языка</dc:title>
</cp:coreProperties>
</file>