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365-D79B-465F-8314-4B66590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11B-2B6C-4E12-A4BB-6EA15814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91D2F-5FBE-4176-BDBD-9A2FD068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CF41-E88B-4586-A389-3D38068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7F74D-0ACC-4EE7-A9CC-6772F15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5BB33-4A8C-46D0-97AC-8AD66940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B9291-3CA2-4447-8CF9-EDAFCF51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500AB-C0AB-4A38-9628-61231C1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4508D-B3AD-4236-A44B-F029081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DA6D8-0F91-4939-8E97-EF54DAB2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4F984-A002-4AEF-B5EE-5D7BE2C4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14286-C66C-48AA-B281-9A7BD185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0D7-11A2-4C16-8EEF-DFA77962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DD9BB-A164-492B-AE70-3D9C46E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9AA71-6269-44EA-9DB8-D71C42A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E8357-63DB-480F-987F-C32B6C3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0E8AA-C4AF-497F-85A0-D2C74C0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E4F56-0784-4BF0-98EB-7D75D7B3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115B4-CF1C-435C-8AF9-A7BF2F4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501B8-CEBC-4D18-B362-A348D05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D0FB1-AB1F-4985-AE38-82D67F2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04CDC-3A61-4932-B10C-E8996D9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C497-B26F-40E2-B0BD-AD56A8E9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045-D624-4CD0-8F7E-76732EEF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6109B-6777-4530-B45E-DB1A90C0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EB4D1-DF59-41CF-9DA8-57C0C2B3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D7395-FF1A-4ADF-B1C0-9CCA04BF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2F05-06D1-45D2-B6A8-0503C8BB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566F7-83A3-4D62-967E-144628B8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B096-8210-43F6-9684-A60791C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499E0-72D3-499D-A20B-80A24F41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CE1F-9500-4AB8-A4B7-8661581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6706F-B5F7-4E6A-A476-D306A00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EB292-B582-4E6B-81FF-867708B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40A7-8BE6-473B-94C8-D5A640A3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BBB4C-EBF8-48DF-8588-BDA37F87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F44F9-5446-44B9-A902-F62E2932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27A1-0985-4C2E-B969-E7B860B4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0E1D4-4DCE-4C93-95B1-57FF3EF1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468C-6ADA-4EF1-B9FB-7B18BC2A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F365-3959-4D6D-8954-917CFEE6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A5CC-8227-4B26-AE04-9176026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D1E6E-1235-44D1-A496-4071B21A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74CE2-A66F-4DEF-9818-DDD2D4BE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EADF-71EF-4213-86DF-BCDB994C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D063-A176-4345-BA44-6BEB6EF1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AD65E-F9C7-4CD6-8E49-E059FAB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E76CD-9478-49D9-80B3-AE3AF8D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23801-2FBE-4F47-B3D8-0B0DA5D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98874-4B1B-44A9-B983-C4958B3F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56CB2-D6CF-456A-9BEB-CBB720E6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DD656-F242-4A31-AEEB-E153149B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EC30F-8D5B-49DA-B61E-637BC025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8A45D-1546-44E8-96C5-39F4847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8902B-ECB3-4DD9-AC4D-09AF75E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C24FD-C3B9-4F12-B44D-FE146CE8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E16-CFEF-47E3-B36F-B9795BB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40367-1DC2-41F8-97D0-1F0E08B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FA9D9-2058-4F01-AEE4-7CF23C2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9A37B-9CE4-4DFD-9029-55B14EE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C2BD2-AA35-4F4A-BE1C-AF4744F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CAE51-9D92-4798-B30B-B546F733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545AF-66F7-4703-A18E-4507C017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F90E2-0C44-422B-969D-35214093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95226-4196-4AC2-A46B-52AB7CF3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BD742-9F91-4664-8D42-35689B0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1A0B9-B0EA-4427-A221-8DF64C9D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D344-8F72-4FEF-BAE6-09A2F30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33E3D-0603-4A4A-9C01-F76119B6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12221-3846-4F63-8812-0D9FDB9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08EFC-0682-4DFC-B89E-3557716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E43A9-A8A1-4AD4-9158-71578A2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75FC4-A6CB-4CFE-A805-5747DC1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AE364-957E-426E-90D7-FF5CE65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94628-8B3F-4F6A-845D-5D4BFD5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CFCDB-1DBA-4C74-8532-9990D3DF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611E6-2A40-474F-B626-6F4B2221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E48A9-A95B-4EA9-BB47-405A904F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27F-0585-4A8B-83D7-AC806A1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5CB53-04FD-4982-B822-EFA0A7B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A19EC-F0BB-403B-9548-B7C08D9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4B9FC-6C66-4841-A2F8-6E0E0E6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385FF-6AF3-4546-84DD-CB293F0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4A8CE-EC1F-4A70-AFF8-43E1233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30273-FFD3-4854-B333-E32F792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DFBEF-55B8-4569-9B1F-CF7C451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40763-EB65-4D5A-9A44-C232940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ADAE5-363A-4A1A-9B6E-8F19EFB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FCDE3-F112-4F96-BC69-1C9FC6E6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6B1-1A08-4C04-A417-2F59232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92865-ADFD-407F-888A-4199AAD2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0CB401-689F-49B7-B77E-FBF14BF3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10CECD-73BA-4B2D-9646-9D717EFA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F8B0A4-BC25-4CCD-8811-2ED8EE2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AF4F92-09E1-4795-BF8C-5A9E7AF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82ACD0-108E-4C71-B086-B41A1BF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8F0FCF-17CE-4A9E-97B5-47122A2A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1723ED-B0CB-4979-AC95-FC23E4A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3B087C-E93D-4783-A4BA-7A6B223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40E5D5-63FD-4234-B4D7-452DFFA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893-E3C9-4BA8-915F-C4B2235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648E06-0718-4B4D-AD0E-F318370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A96DA2-5E86-4157-82CD-AF46149A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69553C-F89C-42BD-AE74-E7EE04B5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84822-9305-401E-8939-40A91A30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0A50C-567A-4D44-A6F0-1859993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0A228-B611-4B3C-9C1E-B34C1B8D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C3ADD-A357-4972-B52C-EA96C60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05805-2D20-48B3-8756-9A98B47D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440ED-BBC3-4955-897E-8342114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BFF0C-1B80-46CF-9697-2648D7A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28-65BA-4587-B7E3-71C5DF71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6678-79F6-4F78-A24F-E3B2EA5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AFA0F-A668-479F-A27F-8BC0DD2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BD056-E9D1-40E7-A60C-5936C0A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7CB7E-C416-4707-AC94-C708A675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3997C-B372-49C7-ACBB-D6D6C7B4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C774B-70C3-41D3-8006-24DE8A81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298B7-4A4D-42C5-B788-DA6218B4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C65B7-70A3-4E0D-BBB6-45135A7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EE11F-1EB9-4E51-BB4D-1E06560D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56C48-E943-46D1-851F-4D54653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E6A18-E002-4BA6-93F1-0282173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E6EC-2C9A-4A64-933C-468B440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941DA-77A2-48A3-9819-7A68325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424B2-8C89-432F-A962-60AB6CB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D3D1C-0167-40FD-A4B5-0E37D44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4931D-4F06-4B98-831A-4CB8C51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C0D5C-6A71-49D9-9CB3-B94301C9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F8C42-1CA0-41B2-B35E-F3FCDFBE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CDF75-3B33-4F73-98C2-227496A3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E93C4-C85B-47F2-8175-5105D81B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20376-DF19-413C-9686-E766DDE9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24E7F-4038-43C8-8F6E-1C7D08A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D15-12CE-490A-AD48-B7C4FAA2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17852-90FB-4B06-B545-9F5E490F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F79AF-0D7E-4FED-83A5-772DF9C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5B752-4F13-491A-A08C-6CCAE3C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B9807-7663-42F0-B202-75AAD1E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F38DB-DD65-4847-98C9-CF5AEDF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E6EB4-E8DA-462B-B224-97B1A21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9C06D-87A4-41FA-90A3-A7BA36B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F4955-8B31-4767-8C2F-87E23857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B9C2F-A0C7-4BB4-B4FC-0B1249E8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E6B9A-D117-4CA7-AFDF-5D84721C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5D0-D606-43B9-BF5C-4D8652D2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EC5E6-E250-480D-B80F-EC54DD87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CBC0D-D742-4266-BE2E-99C8A44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DF825-0CAC-4D4A-A9D1-9DFBFC1D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B9265-EB30-4C41-8465-7EAB004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9157A-3FB5-408C-9B5A-A6E8EDA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9EE868-E558-4F31-9B84-F872F47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17CEC-EC7C-4420-B120-AD5DBF1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6C8FD-A98C-4457-ACF6-4FBA695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2BFE7-171A-42E6-89A4-2488C9D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929C8-229F-4CCD-B8D9-C7C5196E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85A-2F08-49F0-803F-D1E72785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37DD7-0B90-4056-8B88-086F34A2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AB471-C478-4409-8318-73512298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56385-4430-4939-A238-91FEF42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F67B2-D907-4C6B-A968-EE43C2CF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ABF87-047B-4942-B6CF-FB55536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13F89-6320-4E30-A575-D1CF654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A5DA86-9CD3-46F8-B975-7C6F1E4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9DF88-8849-42B5-8584-2D0D0DE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FC9CB-84DA-4B79-8D84-8768408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BB514-B442-43C7-AD04-E1D3D98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B722-9080-48C9-86E6-E709A1B2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BE45A-EFB8-4F71-9A2D-C949184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E9719-2645-442C-9B7D-B8C6872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C49DD-4EF4-4C66-A478-4F456C73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C73E9D-07C6-41A5-8061-910F3E42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244F13-CD0B-46A7-8704-5E3C471B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6C65C-BFC5-4078-A4B8-66CD0573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0F2306-47E0-42AF-8918-3EAF65F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F266B-8ABC-43F0-A436-DCC3887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F5AEA1-F466-481E-A66B-D67189C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6DAF5-A8D5-4B07-BDC1-D13A3E9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459C-5F68-4B17-8E95-A240483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1DE1D-58D6-4395-AC6B-27A4E7E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2B063-9E7A-41D5-A234-419986E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1443B-403A-4912-9759-B83ACB3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EDC08B-5B3A-448C-97AC-DAFEB90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3EC71C-0482-4B44-BEDC-9443363A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DD3DE-E2B3-48B8-AC1C-0AB74A7F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75140-FD76-40A1-AB80-A9376537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456DCD-C1A3-460A-9E13-23484C08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B4072D-FF62-4E1A-8B60-DD103DA6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7E98A-22E5-4EDF-8359-6AE183AB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FE99-70A6-4E28-9892-EAFAFD20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15E73-08DD-4E4A-8A33-31E6E6C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0D2FA-41F2-411C-B12C-236CFE9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33D35-037F-4BE1-9AEB-6F79C05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CAEAA4-23A7-4D46-A01C-87D7664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30BD43-B96A-4B48-A477-D8F7672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DBEEE-26B9-49E6-B29E-A075789A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A37C8-E993-44FD-A5A8-44F659EF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63F35D-C961-4313-BC52-F2E45083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DE877-0EDC-4E9F-A582-4E9C846F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910E7-B8BF-478D-9E8C-38902C09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EE87-AED4-4EBE-A6FA-FE90240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2DBF4-12DA-46A3-A6FE-B981C87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B43E7-57A8-4519-ADFC-03457E9B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4F975-8A8B-45D9-9E53-BB681B8F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671DA-A4D3-477C-A3ED-F1CC597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EB2AC5-98EC-4355-82D9-08CBBE8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E7F11D-BBBC-4310-B354-7D2F7A4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B200A9-4F82-4602-BA5B-066040A0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338D6-7842-42B5-B264-0C28BD4D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3BF8A-CC8D-4F0E-8568-F7B1EF3E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6CDDE-CBA2-46F4-9A02-A550F25C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A3D5-56F4-4BC7-8C44-38B3BB3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A17282-5185-4189-AF11-44966C2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DD4CE1-1411-4D8A-B239-525426F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B4761-5151-42D4-8219-9A36C489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81BC6-2BD4-4E62-AC66-3155470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C0FAA5-2FAB-48D0-BEBA-9A457C92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428468-17F9-4686-B18D-1E9A74B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7B6C5B-ECE7-435E-B997-223DFF0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6E57EC-532D-42D5-8864-E39D96C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01DEBF-1AC8-46E4-BD5E-B3F5ED3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FCFBFC-EEB5-404C-B835-AFA2E7DC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E39-B934-4D1F-A596-25DAC80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870B-0CCB-46E6-A898-C9A4BC5D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03830-A5E8-44E6-88C7-C6F65018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1B436-0C64-45DF-BF09-A9478931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98F3AA-0686-44F3-A062-C6E5F44E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5A8649-B6B2-4005-A1EF-865F5F4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72886-BD71-4FEE-B4B0-29A77B7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7CFDCD-3C65-45AD-AC9B-9C159B6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24B803-006C-4A32-8ADE-04205F0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EE24F8-A3E7-43BB-B0CD-46E4450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57ABCA-8FE9-424F-8044-770A8D8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045AA-C57A-46D9-A7A7-2C3D378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9B12-361E-4834-9A68-DA9445A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EF88FA-DB92-4B2C-AD12-5A6B551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8C2127-2A77-4F91-B9EE-EAC2241D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8A349-E405-490A-BE96-BC413EC0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C00F57-75D3-4D0C-85F9-C941E288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E16E73-0C30-479F-B2AD-AFE79D48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C2465C-C8F3-4862-B5DA-0D184F2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7D4B91-325A-409A-880E-E7A2B515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69B554-EE82-4376-919C-DD3605B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954A42-4CDE-4361-A46C-F77AF90D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57B3F-D42F-495E-9C82-FA89E7E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55CF-560D-402D-9DBC-BFF0BCF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D275AF-DB30-4BBC-A63D-22ABA29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42B49F-10CC-4BFA-97F1-E1D72D3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AF69F4-E39D-45F5-A6FD-BCBBC14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992FC7-4107-4279-B92E-EBCBFB40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A31042-41E9-44F7-9A2F-7341E759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23AD-8691-444E-9108-5F5BCE1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44A9-F80E-42B6-8911-FA34905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F6BF-DEC4-4667-A2A9-E4AC4552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DC22-E0BE-48BD-9267-C7EA71EB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3BFC-F4B4-4303-9541-3F2A3573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6303-4852-4C8F-8AAE-CAE8FD75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A161-BCA2-40BE-8CF2-331E2BC5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997-066C-46B0-8BCC-DBFE619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A2D2-18EF-44BB-99C8-F887D8D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CAF4-D07B-4FDD-9F38-42C2DFC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05C7-AB2D-4D81-A8E4-D43275B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1178-EEAE-49CE-9213-739A1FF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B4C1-B7C7-483B-A742-D72F8A6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18E2-EE1C-4D90-B5A4-19CD1B7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11ED-4CAB-4172-8253-8D30530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708B-AF0F-47BE-A425-DA6119CA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7A1C-CD54-4CA6-8876-491FE023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F66BC-D233-4E5C-B57A-A8953F42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6C9-7E11-4C2D-81C2-3159C87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95DC4-331A-4853-8058-5AC622D8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A9403-DC1D-4716-8474-2B4B7018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55631-A0BF-40D9-BD61-69E05F2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E2F51-744E-4FEC-AE96-C3BFAB3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03FEE-529C-496B-B1DF-8511E490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87EB7-93B9-4465-8003-A844FEB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24D59-3456-4041-A598-7993655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FC305-7E82-40E0-86EF-1ABD6D1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1A504-5CC9-428C-96C1-4DADFD79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48198-EFCC-4DE9-B6A4-FDFA59CE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F7D-064F-4E4D-9E0B-35848FFF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AE166-2827-4CF8-B7B1-C2212CB0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616B-8CE3-4C6C-A328-BECB0EEC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C53B-43E1-4E84-8A96-94BC199E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2F6D-B99A-448B-A5B4-BA8CB7A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F237-0904-41F9-AA13-A43EF9C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BA65-4B13-44AD-AD12-3E68B6E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21DE-DFEA-49D2-ADA4-CDB56C6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07C4-55F6-49E1-9B50-DC19829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F092-212E-42BD-9968-381E7294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2DE6-C0CB-42E2-BE68-84F32F8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982-79F8-4936-B449-F343BD6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B165-27DC-42BB-B6B3-AE0603A8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6A44-2AA9-4396-9D80-95262B22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78F7-FAF7-4737-9843-93DC41A9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EF0A-6375-4445-83D4-31DBCCB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450C-B1B8-4CB2-89FD-FDC7BA0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3DBFE-20C1-4979-9FCE-1D30575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A853-0B7E-4580-90FE-DF664A1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B402-D643-43C5-9B70-736423D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332E-9E5C-4EEC-8278-7AA5C8AC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2056-7361-4D8E-92C8-C9D0C91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ED1-BF6F-436C-8A96-1A41B5A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92DB1-717E-42E9-8E1C-43EA9E6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4406-7754-40D7-9A89-16378F0F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89DD-6710-4B41-940D-42D52C2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C204-FE97-43CF-ABD0-88F2E159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3486-207C-45F5-9B95-6658E4E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67644-633A-4410-A72C-92019345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A18D1-539D-4734-A160-10239FF9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668D-4303-40D9-93B6-D578CF5F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45BE-C3E4-4DCE-B541-7B8379C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80F2-6165-4554-BEBC-90924CC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3A5-6C0F-4EE2-A8A4-B3E5A7D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D886D-7B69-4B71-AB75-0998F88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A2AB5-F3FC-46E1-861B-429D86F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67C1-30B4-4167-AD4D-68EB4DE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D609-C58C-4B0A-875C-1D416D0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0EB8-3AE4-4251-99D0-61AECAC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C715-B9E1-405C-88F9-11402BD9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FDA0B-CDE6-4AF9-A634-68548636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ECFE2-2CC7-4B3B-AC81-169473A3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CEE43-C778-4CDB-AEC2-D85743D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39CC5-9241-4EA8-A4C1-4524FDB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D85-0F12-4E31-83F6-1D2EC20AF6F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DAF-D0C6-4D67-96AC-7B5358DDA7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71FF-001D-4634-A2F6-AD05C3DB78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DCA8-ABAF-4E29-B8F0-7A6D48066C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D37-2B0E-408B-B56C-F78E6133E4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22A-5CAF-42F3-889F-14CD074540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2A74-E9D1-43F8-AF6C-46450A6498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sldNum" idx="4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47F7-9CE7-4E3D-A003-5F99B1B299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942-4195-418A-86F9-EB048FD03C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4645-1960-4982-84CC-C40181214E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F423-B939-40E2-B371-78F9D280AE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487F-96BB-414D-83AC-2692B9E6E2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9D5-6E8B-4231-9010-DD6A7401E4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940-DAC6-4C79-B317-BA6093AEC1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AB8E-FA91-47DB-81D8-44123B8FFA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BAB-31C0-43E1-892E-F7D0A6579D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5E5-4B98-4143-9685-25B86DA82B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15F-0766-42D7-9C43-61D3A668B8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7B4-8E10-40E2-B9AC-497FE7674D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BA08-9CC6-4CE8-841C-C410CA159B3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88F-9E4D-4B4D-8F1E-C2A38843BCF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5133-A5C2-4ED4-858E-1391C3CAE8E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E9E-75A9-4072-B148-06C200F8E5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0C7-DD01-409B-8386-73939624EB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F89-46E0-491D-8CD2-46B3BFAE38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7EAE-371D-48D1-977C-0036C144E1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7B7-2E36-45F9-8AE0-264E28D4DF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apus.ru/im.xp/049056054124053048048049051048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llionreferatov.ru/pictures_fail/27/970_1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Земноводные или амфиб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755640" y="1916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Это животные, живущие и в воде, и на суше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Амфибия   (с греческого) –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живущий двойной жизнью»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Рисунок 1" descr="zemnovodnye.jpg"/>
          <p:cNvPicPr/>
          <p:nvPr/>
        </p:nvPicPr>
        <p:blipFill>
          <a:blip r:embed="rId1"/>
          <a:stretch/>
        </p:blipFill>
        <p:spPr>
          <a:xfrm>
            <a:off x="324000" y="582480"/>
            <a:ext cx="8496000" cy="40705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2256120" cy="16192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3184560" y="4759200"/>
            <a:ext cx="2773440" cy="1785960"/>
          </a:xfrm>
          <a:prstGeom prst="rect">
            <a:avLst/>
          </a:prstGeom>
          <a:ln w="0">
            <a:noFill/>
          </a:ln>
        </p:spPr>
      </p:pic>
      <p:pic>
        <p:nvPicPr>
          <p:cNvPr id="1173" name="i-main-pic" descr="Картинка 4 из 67878"/>
          <p:cNvPicPr/>
          <p:nvPr/>
        </p:nvPicPr>
        <p:blipFill>
          <a:blip r:embed="rId4"/>
          <a:stretch/>
        </p:blipFill>
        <p:spPr>
          <a:xfrm>
            <a:off x="6167520" y="4826160"/>
            <a:ext cx="2665440" cy="165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2" descr="C:\Users\Admin\Desktop\slide7-l.jpg"/>
          <p:cNvPicPr/>
          <p:nvPr/>
        </p:nvPicPr>
        <p:blipFill>
          <a:blip r:embed="rId2"/>
          <a:stretch/>
        </p:blipFill>
        <p:spPr>
          <a:xfrm>
            <a:off x="179280" y="423720"/>
            <a:ext cx="88203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Земноводны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Box 5"/>
          <p:cNvSpPr/>
          <p:nvPr/>
        </p:nvSpPr>
        <p:spPr>
          <a:xfrm>
            <a:off x="468360" y="2133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зног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556000" y="36752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Хвоста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4984920" y="2133720"/>
            <a:ext cx="38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схвос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81" name="Прямая со стрелкой 2"/>
          <p:cNvCxnSpPr/>
          <p:nvPr/>
        </p:nvCxnSpPr>
        <p:spPr>
          <a:xfrm flipH="1">
            <a:off x="1834560" y="1441440"/>
            <a:ext cx="1369080" cy="7927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82" name="Picture 8" descr=""/>
          <p:cNvPicPr/>
          <p:nvPr/>
        </p:nvPicPr>
        <p:blipFill>
          <a:blip r:embed="rId1"/>
          <a:stretch/>
        </p:blipFill>
        <p:spPr>
          <a:xfrm rot="18597600">
            <a:off x="3119400" y="2023560"/>
            <a:ext cx="2609640" cy="233352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9" descr=""/>
          <p:cNvPicPr/>
          <p:nvPr/>
        </p:nvPicPr>
        <p:blipFill>
          <a:blip r:embed="rId2"/>
          <a:stretch/>
        </p:blipFill>
        <p:spPr>
          <a:xfrm rot="15718200">
            <a:off x="6103080" y="1413360"/>
            <a:ext cx="152568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1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alatino Linotype"/>
              </a:rPr>
              <a:t>Безногие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Картинка 39 из 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462480"/>
            <a:ext cx="3670560" cy="3019320"/>
          </a:xfrm>
          <a:prstGeom prst="rect">
            <a:avLst/>
          </a:prstGeom>
          <a:ln w="0">
            <a:noFill/>
          </a:ln>
        </p:spPr>
      </p:pic>
      <p:sp>
        <p:nvSpPr>
          <p:cNvPr id="1187" name="Text Box 6"/>
          <p:cNvSpPr/>
          <p:nvPr/>
        </p:nvSpPr>
        <p:spPr>
          <a:xfrm>
            <a:off x="179280" y="49719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ервяг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7" descr="Червяги"/>
          <p:cNvPicPr/>
          <p:nvPr/>
        </p:nvPicPr>
        <p:blipFill>
          <a:blip r:embed="rId4"/>
          <a:stretch/>
        </p:blipFill>
        <p:spPr>
          <a:xfrm>
            <a:off x="428760" y="1569960"/>
            <a:ext cx="4017960" cy="286704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8"/>
          <p:cNvSpPr/>
          <p:nvPr/>
        </p:nvSpPr>
        <p:spPr>
          <a:xfrm>
            <a:off x="3936960" y="1908000"/>
            <a:ext cx="49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Рыбозме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Хвоста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1" name="Picture 4" descr="Саламандровые: 1 - пятнистая саламандра; 2 -  кавказская саламандра; 3 - малоазиаьский тритон (а - самка; б - самец); 4 - гребенчатый тритон (а - самка, б - самец)."/>
          <p:cNvPicPr/>
          <p:nvPr/>
        </p:nvPicPr>
        <p:blipFill>
          <a:blip r:embed="rId1"/>
          <a:stretch/>
        </p:blipFill>
        <p:spPr>
          <a:xfrm>
            <a:off x="1116000" y="1311120"/>
            <a:ext cx="6551640" cy="441036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5"/>
          <p:cNvSpPr/>
          <p:nvPr/>
        </p:nvSpPr>
        <p:spPr>
          <a:xfrm>
            <a:off x="539640" y="57340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итоны, саламандры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Бесхвос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39280" y="1268280"/>
            <a:ext cx="80629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5" name="Picture 4" descr="Земноводные. 1 — чесночница (Pelobates fuscus); 2 — рогатка (Ceratophrys cornuta); 3 — изменчивый ателоп (Atelopus varius); 4 — венесуэльский короткоголов (Atelopus cruciger); 5 — южноафриканский узкорот (Breviceps adspersus); 6 — американская лягушка (Rana pipiens); 7 — остромордая лягушка (Rana terrestris), самец в брачном наряде, 8 — он же в обычном наряде; 9 — зелёная лягушка (Rana esculenta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4760" y="1268280"/>
            <a:ext cx="6048360" cy="426888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1"/>
          <p:cNvSpPr/>
          <p:nvPr/>
        </p:nvSpPr>
        <p:spPr>
          <a:xfrm>
            <a:off x="2124000" y="587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ягушки, жа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425080" cy="79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f497d"/>
                </a:solidFill>
                <a:latin typeface="Calibri"/>
              </a:rPr>
              <a:t>Признаки земноводных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Кожа голая, влажная, холодная, покрыта слиз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-  Температура тела зависит от температуры окружающей среды. Если холодно, впадают в спячку, если жарко, зарываются в  зем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земноводные – хищники (питаются насекомыми, улитками, гусениц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считывается более 1040 в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40:55Z</dcterms:created>
  <dc:creator>Пользователь</dc:creator>
  <dc:description/>
  <dc:language>en-US</dc:language>
  <cp:lastModifiedBy>Admin</cp:lastModifiedBy>
  <dcterms:modified xsi:type="dcterms:W3CDTF">2024-01-05T13:23:46Z</dcterms:modified>
  <cp:revision>43</cp:revision>
  <dc:subject/>
  <dc:title>Урок русского языка</dc:title>
</cp:coreProperties>
</file>