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F50-33A1-43A6-B38B-1A15E523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5FF-6BB9-4B93-A2BA-EBC5F0AA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7F92-1DFE-4BC1-8BAF-2BB0959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B52A5-91F8-44EB-BD0B-E72FF4D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D89F-234B-41A1-937E-7AE0F38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F53BE-34A5-4420-8797-42843B39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47B95-B888-4872-B96B-D9DB3CCC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03C1-0635-48E3-9BF3-85F1D9A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A80AC-D604-40FD-A0BB-1F631292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B9D16-943B-409D-AEC1-670EB605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6F5E9-64A1-449D-8F4D-7A52CA87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A5547-BC82-4EDA-B450-DE8C6243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7B9-F412-46B9-B4F0-A0059C09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3711-EE3F-49CE-9908-C646EDB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B983-1C06-476F-8A81-F66896F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19FC-C029-40BF-864C-1E88CF9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2C17B-4A21-4262-8F38-977C2CE3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CBA40-251F-4198-87CB-B68BBCC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639C4-AA6F-4412-8C39-8933F89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6C7BC-5C32-4011-BAFF-7032BFF9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CF2A5-D13E-4885-9264-95A2393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A6FCD-1804-4FA4-8C6B-919D889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D880-F7AD-4F14-972C-FE0E5A05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EEE-E9E4-43D9-A9CB-D8C8BF33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601C5-6947-47D1-8F0B-B1FB95D9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C3BA9-620A-4CF0-9249-DDCF557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1AAA9-DA21-4922-8A65-FCF2C1F9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9616-273E-4F61-94F4-5384495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841C-EDE2-4210-86DE-4A062EEF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C35F-AB7D-445A-B433-367DF96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DB62-BA6D-4272-9992-FB5D6D6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62DC8-64B3-46D4-8E8A-97B130E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93E3E-E8F5-435F-964F-6B88243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58367-1E43-4822-A1B8-D89490BF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5E03-F897-4A49-A058-9D506E94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9B7EA-91A0-40C2-8B73-8EBE8DA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3303-3EB9-4A0D-B2FA-CF0E8026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E9EC5-E9A2-4514-B293-5C5EA94F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BC03E-62CC-42AA-AD65-80AD0837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833F3-A79C-402B-B9F5-1AFAA0A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11313-F907-4EAA-9FE8-8C15A5D4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E8ED8-39F1-4F8D-9617-3070881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AAB61-94E4-4F20-AD6D-8DDD0D8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10A23-29F8-4190-B6BE-8B7B9EB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8D66C-0E6A-4F0C-9440-9D8D551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C0B3-5805-40C7-B402-B5241C2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06B1-DDBB-4685-A1FF-E171CAC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D5E8-152E-4FEB-8756-05AB07E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695AD-32DA-43EE-9913-E092CC0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0964-66F5-4347-9E5B-D0855A88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F245-30A0-44BD-8036-9B1645C8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AF7B9-8C52-4C4E-8462-992C1FD8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AA2D5-9529-49D4-A174-A3FC55A2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AB57F-6EC1-4B37-A999-58D26D8D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EE1D2-7213-4538-8335-655533F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21B59-0320-4D3D-BD3B-5A45DA75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2271-A51D-4005-96CB-9B45E24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5A599-B750-45BA-8B28-9223446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9D2C0-DA35-4FC4-8699-3C9B900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975DE-C5A0-4715-AE9F-CA75B37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91C87-D135-4EB3-9AC9-A5A7336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51993-4FA1-408E-8B2D-FFEB896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99B15-B864-4787-AF03-50D531E9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7CF3B-2B3A-44D4-AA42-4A4E485B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1F954-D88D-441F-AE32-C04F813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71BC8-D801-435F-BB98-4D3AD7AF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DA804-2177-498B-BF89-E83B4F9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8BC-9BE6-4367-B76C-AD4DBE24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24EB8-C7B2-4F88-A3BC-ACC5639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30806-C137-4966-B2BF-7EDDB57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FBCC9-DC2D-4D59-BED2-B31EDC4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49603-CD29-49E5-BF8F-3B1DBB0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6A922-BB51-4D7D-8A7F-2F99A13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E7FDB-24FA-4800-B271-76212FD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425F6-6088-4A9E-A3B8-E349399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7B04A-1446-4018-A589-DB804AC5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E2012-B333-4D98-B7FC-71CC3E52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9CF20-57CC-4368-93A7-F581920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95F-3C17-4E11-A6BC-22F9907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39807-C720-44F3-AE12-6D83D88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47EB6-28DB-4FC7-8FC4-4CEA3604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8BE6E-3461-4D93-B69B-A276ED0D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D1EDE-EE47-4C8F-83AE-675A7A7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E19DE-973D-40C1-8F1F-7FB6B44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0904C-5D00-4BF6-A687-B0CA982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D28FE-4F38-4B7D-9AEC-DFC0F9A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1D57E-BBC4-4920-B95B-2847580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80551-F7B1-4958-A752-90C999EF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68ED6-26C7-4CF6-B251-02201987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D5E-E362-46B8-A10E-77E5E834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EA3A4-FA9B-4E12-BC83-A753483C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688872-F8FD-42E4-B90E-E8E03BA4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823602-DC09-4EB0-A23D-AA1D914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D0C634-A3CE-4E3E-8A89-FB925CC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A7B684-CAA2-4D09-8A6E-5C5F1944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BF591F-5363-4871-BDE3-1501616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E09CB7-DDAE-4C7F-B85A-31416E14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FB4820-5162-4D70-A427-C148E6A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2422E0-BB88-4ACC-AB29-0BF2A47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8A32B5-9C33-4EFA-A463-0930E8F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BEF9-A26D-465F-8A4B-0F32116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ADEAEC-9ADA-4003-AAB0-7F8EB6BD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1CA587-1A8A-4253-AF9F-4C59DA2B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79E7B4-4D11-498B-97D2-D39DD984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C0A81-2238-4240-82C0-E2FE5E6F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FA7D4-7292-4008-90D1-AF33BE6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B2E56-F83C-4BD5-9649-714CA22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6929C-960A-46D9-991E-F75C16E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6B922-A51F-4C22-B892-61E5213B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C40FD-C877-4B0B-8D3B-EF13D42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9A9B3-959E-4BD2-B1D6-AD50F47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E24-1653-42FD-8E63-E828A61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B890-80D4-4CA7-93F5-2DA7231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F2625-D547-48CA-86F8-EBF3BFF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DFE3D-A1E8-4C06-93F0-2D6F8D4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84E8B-3DE5-40DC-8868-8F88CBE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641AF-BA4F-42DF-B0A6-BBBC01D7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2565A-4FBD-4250-A779-BF41B318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974C6-2364-4380-99DA-251AB451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1EF03-F1E4-40E1-9A4D-B1A75EF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2D0BF-27FB-4DD2-9CA3-F79C380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71133-E8BB-474E-9104-12DACCC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2581E-E8E7-4EF1-99D6-E86FA8E7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73A-4685-42DF-A98A-D4DE1A2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4E6A8-D545-4D82-86FC-0061A555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68C33-5733-4FBE-AD8B-77012A3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5FBBF-4F9B-4D9E-AF56-2ABD454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E672B-6512-436D-AAE2-70C0FDB6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9F2C9-2762-41FC-A635-066D7876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55DF9-1913-4A3F-8E3F-6B6054FE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A6DA4F-9F7D-4AF3-97CE-C1F706E2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0FDE09-DC58-407A-9D36-735FCA4B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C80617-8584-4807-8B14-7B8FB9A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EAD53-0C91-46C6-9E47-7FA08ED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ABC-AB1C-4234-89D9-5E136A2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2F3D7-06D7-46FB-BD5A-46411F6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7CB36-E90E-4582-AE86-0370C61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EED5F-A427-43BE-B6B1-D710FF5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FCC46-67C8-4729-9C55-7F4F264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AA5FA-7B2C-492C-BE83-A4D50AB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2AFC8-AEEF-492E-B687-C3E55CB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47622-60AF-4AF8-A5B9-B9C02D7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77E85-0025-48E1-A47E-4515D673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379A8-84F3-4263-B0A1-71B47FC9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2C355-E541-4D2A-AB5E-A41AC20E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DD94-F978-4B01-A6FD-9DDC4697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40FD1-650E-4751-BA6A-576E50E7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A2519-5A46-47EB-9CD7-0EDBB82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2652D-5230-4104-93D5-E0B12B3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1A0E6-B82B-4CFA-AF51-9627972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B6488-A5D6-4551-8881-CC1B3234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EE716-1B5B-4993-8BD7-937FC94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32C9C-7523-411A-8448-F6F6FC3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94706-B699-4ED8-B341-9F6DD20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0302F-2D9A-40E2-8CF1-B6954AF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22613-D1AE-45F4-A39F-3C9537F3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164E-118B-4160-B5F6-E8A05AF8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159F7-8504-4B16-82B2-6644B9A5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32A431-B5C2-4DA5-9618-62EC5A6A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7C16D-C7F3-461E-9E27-21B00B8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A6B74-44F4-42EC-AD40-2AEF42E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C6082-02A3-451D-A024-3681E01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5D48F-4C7B-491F-97E1-BABC2651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A5116-B75A-40B7-A8EB-3934CF7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9AC41-D711-4AAD-AB05-365E7884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69E70-8CAD-4513-9542-98D82E7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518A0-CB81-4906-A15A-E066F9F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4884-94E0-4E9E-9D31-81CB6808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5047A-F876-4A9B-A001-1E62DE9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FF597-1315-4905-A559-D28578EC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D577B-669E-4C33-A676-E8F06994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92119-9F3D-47A6-8065-13659071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0D7AC-AFEC-418D-A51B-B4CD76B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E5F54-1A65-4C70-9523-8146295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CECF6F-BF32-4BE9-B25A-56C09D3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83ED7-E20A-41AF-ADAB-FA4BF74B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226E7A-E18A-449C-8AF9-1E3EC64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BBE67-EA89-4C5D-B61D-8666137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E3CE-5371-49A3-8898-95C300F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55690-48A8-469D-9E6E-788BFB4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9A1D04-99B5-4AA5-B264-BF0B2EF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FFF10-4017-4BF3-B674-0AD6093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5D3E00-0426-4F19-A8DE-B40B025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695AF6-3477-4768-B318-6B98EB52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2124D-EE80-4165-AC8F-019E5B0D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1A5BD-A0CD-4FAB-B534-69413B1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6F5CA-F165-416F-B9F5-21163B0C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90C1B-18EA-49C1-931A-9A4775F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DB4C31-1159-4E3F-BCE9-ADCA49C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2A42-3647-40CC-8D31-EBE5EE3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54A07-F5B8-4F67-8B33-A45D603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E946BC-2465-45F7-939A-BC111FDB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6FDE3E-5728-4163-8BA1-0B356C1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9656C-D926-4A0D-8C05-41635F2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9FA887-D5EE-40A7-8267-5B92423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95B7A-B7A9-404E-826E-4AFBFF12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98D1C5-5664-410F-9FAD-9E77634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535BFB-EC12-475E-AAA0-469AECAA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BD478-598C-4823-B61E-D708D237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71259-D943-42A0-BC72-30DF788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E7D1-AE1C-4360-9A24-E627DC7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C9B8FF-4125-4278-A9E8-7507FC55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77D24-F72A-416E-A2BB-2FF57D5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3D1109-0CF1-4A0D-9CE3-8322289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31655-9A71-4487-A4C8-2A09BB4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665D7-9D2D-4BE0-B2E3-DFE2D5E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26042B-A088-45CC-93F6-EAB37E6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09BF8-7B5C-4906-8685-2505BAB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DCB9E5-BB50-4FED-975E-D4A9E5A0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E15B6D-34D2-4AF8-AF0F-EA9D320C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488009-E02D-448A-BB05-9F1734A6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D131-11FD-41BC-9E3C-95D3116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8263EA-6897-4578-9043-490FDCBB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322113-A4F3-4848-9E18-6A87419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16C02-31BB-4CDC-A40F-A916C05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0AB9D0-8659-4931-9A79-8C76A3F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56305D-FEBA-4899-BDB8-3BBEF49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FB3964-CAA5-4790-9C54-7177098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BC4ED0-8E24-4D5E-A450-6161928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F500B5-6ADE-4995-B068-AD637D53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64E71-42A0-4157-838D-C8F51D0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83A1BB-B41A-4693-8BD4-2D43FA23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B98-4894-4D80-91FB-464B208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2509-2A6E-4627-AB98-E13F998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DF286F-726F-4E05-B164-E96988AD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C87070-174E-4F80-A642-6E72A4C4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95E672-84B0-4B00-AAA5-E32A4679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B8AA0E-18CE-426C-ACFB-CE64F583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9ADCF7-6DF3-4A1B-ADF4-7186EAA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0E38AF-7C67-4D43-9E11-3B27EF1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65A05-39B6-4B85-94E9-3BE343A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34944-9D86-41F9-9DD6-54EDA15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C89DF-0FA8-494C-8281-DE7D8FF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44DAAB-ACA2-42E8-8C51-D2D312B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71F3-205A-4107-8D86-808ADBF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315C66-C9A9-45A4-A46A-018FC63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23E33C-A6CB-455C-9825-A05BD21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318012-7042-477C-929A-D4282AF9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6E2452-B22C-409B-AC51-C69FFF14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B656C3-855E-42CB-A567-96169593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A341CA-1F7B-497C-A198-E6CE497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F87F3A-E127-4CC2-972D-22674E0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AEFB8B-2971-426A-BBC5-42FACE1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DB8704-192D-4671-8A58-D01A721A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0758FD-D6A3-4A35-8A3F-3B947613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6F98-5B13-494A-AC4E-CC31B48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58EC4A-D6FA-4127-878E-2863B34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B767F7-381C-4B18-AB9E-01CD653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65A9D0-44D1-488F-B335-66EF28E7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B5C2C4-588F-47A3-9F6A-A3FA1D21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E47F4F-BB0B-48BA-BE1D-1C93C69B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4399-8BC3-4011-B42C-98D5F22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29F4-718B-4BF6-A473-2A23F5D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6194-C427-4DF9-AA6B-BE083AE6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111B-7330-4ED6-9BED-7714BF83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6872-9355-4B2D-A703-D2A8C0D8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F989-40E5-4B1B-A546-18BEB28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6AFA-ACF8-479E-888C-5BD09C47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DBF-8527-4424-B6A8-9B4AB45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B38F-4AA7-4FEC-BD60-811D21D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7A19-A28F-4008-8CFB-1FA6BEF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5DD3-C69F-4C12-9A2F-C8D29E4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210D-B91E-4C3B-A553-844CB3A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BC27-BDF5-4FFD-BB88-7730839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7676-C61A-467A-929E-740AAB3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C424-8898-4224-87B9-4D4260D1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36D0-7E11-404D-A30E-CAC170A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83B1-EDDE-46F7-9700-025E7A51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37DD5-E81C-438B-9012-F9F94E6E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ABE-A4DA-4E26-9497-ABD0FEE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8C5A5-5E7E-4893-93A2-D677D45F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3E2A2-F11C-4C0A-A4FB-D8DB55E4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AFC8F-1D29-4F8C-BE90-D0615D4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4833B-A3C1-4D16-AD9E-6287F91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5083A-117F-4D0B-98E9-43979648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6CED8-0F62-4AAF-B5A7-AA25976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7A744-3157-4CC2-8A0F-80E0552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E5074-3433-4EBE-BC4C-B582386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0184B-7C14-4FA2-A1F8-8046861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C8BE3-8FE9-4B0F-8C46-AE8BC24C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3CF-518C-470E-9105-C542BEA6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B6CC2-6E10-4FCB-B407-4EA3A294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809C5-C8ED-40EE-BDCB-F4B9912F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3CD5-2128-4947-943C-090D201E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FA727-1947-47F1-8894-00B7BFE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E806-10DB-45D4-BEA6-FB4430C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00E2-677F-4612-A924-7A6B1950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DEAB6-07C3-4355-AC52-11788FA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0C21-8AB5-4F53-BB1D-041031C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A8014-BD20-4F44-819F-7ABCEA0C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CD07-7506-490B-BA39-2D327E4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E25-3825-485A-AC4C-9FA29AB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4D97-1590-4EA8-9256-29A1FF0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5F372-4B59-418F-97C1-EC8307DC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64C0D-140B-4CC5-887D-B972DAAD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9D2DF-B133-4E7F-A097-542B62C0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0C3E-59F3-43BC-95DB-C28A881B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CC2D-35AB-49FA-890A-7022111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36E47-51E2-4A0B-8C97-FE595E9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0BB6-1FA0-457E-8EE7-78C12239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907F-DC97-4F47-B3DB-8D97394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33A2-02CA-4D38-B2E7-32EF4AC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2C4-CCE2-4359-B163-F30F2A6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AAF74-1100-4674-9F43-E7A7B6B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5455-4A65-4DFF-B5BF-E94AEB2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C453-CFE8-49C7-89AA-992A783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0353-851E-4B0A-BADA-577AC850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291B-F904-4EF7-8A3B-B0840E33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274C-F145-4A3D-B4E9-DDABCA5D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7E4F6-7FF3-478D-85A0-7A9BE3D3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EBC9-5634-40F5-9573-82DA50B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62EF9-0B6E-49EE-8270-858FAB93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63A3-9BCC-45ED-8B42-317A4F76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6C6-28AB-463D-9E2F-03A4765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70C0-F856-4022-9D1C-B1DC4769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B167A-C9F7-4929-9C16-493C4E8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DE5E8-60A3-45D7-A3FD-12988F2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01C85-59C3-461D-904B-5AE3DC9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246A-8540-4CC9-8004-32E574B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73B34-9F12-4484-A450-E879F67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48D5-C343-4BF9-9018-5646CBC9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FB5C-D442-4301-A912-078FE73B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2952-1180-41E4-BDA8-39957E4F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4B72F-E262-4531-826E-DE118E30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7D1-A85B-45FF-B765-ED798468C97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662-8D45-4C0A-9C18-8D6C5E759B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1E0-9083-4717-B598-BB997357A8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ADD-06A6-4D7E-90F2-ADF7A0E592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368-E5E5-4C6F-903E-1E3422C5CF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35B-14DF-4F2A-9C2A-80052C23A4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1D1-32BD-4F56-B9E8-CB751C450A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sldNum" idx="4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823-DDC4-4B4E-AF2D-F6F59BF75F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4F69-257F-47FD-990B-98DA3D3B6B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9DA-280F-4131-B2E6-07FFFDABE5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5814-2FA3-43D5-835F-06679C1468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00C-F94A-4F9B-AC36-B4CEF6517B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96E-EF6F-4F7F-B447-E091666BA8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35F-31DD-4CD7-AC1F-34F9E67F17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4A0A-F03D-40EE-A592-7A55A7F645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F49-5031-4FEC-9B3D-4E4C5AED3D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A11-3242-460C-8A66-50F3C979D7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3E9-32CA-463D-A5B4-84DA203920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BF2-287D-409C-AFB6-334AF8447C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7FF-6744-4205-83D7-8EFC5B35818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A033-7DFA-4B3E-A5FE-1A9FBEF29AC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129B-ECE4-4349-B502-41CE2DAEEC9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8ADE-C1AD-4E2A-8DD3-1BB18B6968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036-90C0-4FA3-BFE5-6F3243EDD9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B7CE-99BC-4D3E-8B23-4774871A5A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E929-F512-4CBB-AD80-D1DE730F6F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68A-6A6F-4BFB-83DA-59EF1FC31E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apus.ru/im.xp/049056054124053048048049051048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llionreferatov.ru/pictures_fail/27/970_1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Земноводные или амфиб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755640" y="1916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Это животные, живущие и в воде, и на суше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Амфибия   (с греческого) –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живущий двойной жизнью»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Рисунок 1" descr="zemnovodnye.jpg"/>
          <p:cNvPicPr/>
          <p:nvPr/>
        </p:nvPicPr>
        <p:blipFill>
          <a:blip r:embed="rId1"/>
          <a:stretch/>
        </p:blipFill>
        <p:spPr>
          <a:xfrm>
            <a:off x="324000" y="582480"/>
            <a:ext cx="8496000" cy="40705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2256120" cy="16192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3184560" y="4759200"/>
            <a:ext cx="2773440" cy="1785960"/>
          </a:xfrm>
          <a:prstGeom prst="rect">
            <a:avLst/>
          </a:prstGeom>
          <a:ln w="0">
            <a:noFill/>
          </a:ln>
        </p:spPr>
      </p:pic>
      <p:pic>
        <p:nvPicPr>
          <p:cNvPr id="1173" name="i-main-pic" descr="Картинка 4 из 67878"/>
          <p:cNvPicPr/>
          <p:nvPr/>
        </p:nvPicPr>
        <p:blipFill>
          <a:blip r:embed="rId4"/>
          <a:stretch/>
        </p:blipFill>
        <p:spPr>
          <a:xfrm>
            <a:off x="6167520" y="4826160"/>
            <a:ext cx="2665440" cy="165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2" descr="C:\Users\Admin\Desktop\slide7-l.jpg"/>
          <p:cNvPicPr/>
          <p:nvPr/>
        </p:nvPicPr>
        <p:blipFill>
          <a:blip r:embed="rId2"/>
          <a:stretch/>
        </p:blipFill>
        <p:spPr>
          <a:xfrm>
            <a:off x="179280" y="423720"/>
            <a:ext cx="88203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Земноводны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Box 5"/>
          <p:cNvSpPr/>
          <p:nvPr/>
        </p:nvSpPr>
        <p:spPr>
          <a:xfrm>
            <a:off x="468360" y="2133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зног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556000" y="36752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Хвоста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4984920" y="2133720"/>
            <a:ext cx="38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схвос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81" name="Прямая со стрелкой 2"/>
          <p:cNvCxnSpPr/>
          <p:nvPr/>
        </p:nvCxnSpPr>
        <p:spPr>
          <a:xfrm flipH="1">
            <a:off x="1834560" y="1441440"/>
            <a:ext cx="1369080" cy="7927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82" name="Picture 8" descr=""/>
          <p:cNvPicPr/>
          <p:nvPr/>
        </p:nvPicPr>
        <p:blipFill>
          <a:blip r:embed="rId1"/>
          <a:stretch/>
        </p:blipFill>
        <p:spPr>
          <a:xfrm rot="18597600">
            <a:off x="3119400" y="2023560"/>
            <a:ext cx="2609640" cy="233352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9" descr=""/>
          <p:cNvPicPr/>
          <p:nvPr/>
        </p:nvPicPr>
        <p:blipFill>
          <a:blip r:embed="rId2"/>
          <a:stretch/>
        </p:blipFill>
        <p:spPr>
          <a:xfrm rot="15718200">
            <a:off x="6103080" y="1413360"/>
            <a:ext cx="152568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alatino Linotype"/>
              </a:rPr>
              <a:t>Безногие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Картинка 39 из 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462480"/>
            <a:ext cx="3670560" cy="3019320"/>
          </a:xfrm>
          <a:prstGeom prst="rect">
            <a:avLst/>
          </a:prstGeom>
          <a:ln w="0">
            <a:noFill/>
          </a:ln>
        </p:spPr>
      </p:pic>
      <p:sp>
        <p:nvSpPr>
          <p:cNvPr id="1187" name="Text Box 6"/>
          <p:cNvSpPr/>
          <p:nvPr/>
        </p:nvSpPr>
        <p:spPr>
          <a:xfrm>
            <a:off x="179280" y="49719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ервяг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7" descr="Червяги"/>
          <p:cNvPicPr/>
          <p:nvPr/>
        </p:nvPicPr>
        <p:blipFill>
          <a:blip r:embed="rId4"/>
          <a:stretch/>
        </p:blipFill>
        <p:spPr>
          <a:xfrm>
            <a:off x="428760" y="1569960"/>
            <a:ext cx="4017960" cy="286704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8"/>
          <p:cNvSpPr/>
          <p:nvPr/>
        </p:nvSpPr>
        <p:spPr>
          <a:xfrm>
            <a:off x="3936960" y="1908000"/>
            <a:ext cx="49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Рыбозме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Хвоста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1" name="Picture 4" descr="Саламандровые: 1 - пятнистая саламандра; 2 -  кавказская саламандра; 3 - малоазиаьский тритон (а - самка; б - самец); 4 - гребенчатый тритон (а - самка, б - самец)."/>
          <p:cNvPicPr/>
          <p:nvPr/>
        </p:nvPicPr>
        <p:blipFill>
          <a:blip r:embed="rId1"/>
          <a:stretch/>
        </p:blipFill>
        <p:spPr>
          <a:xfrm>
            <a:off x="1116000" y="1311120"/>
            <a:ext cx="6551640" cy="441036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5"/>
          <p:cNvSpPr/>
          <p:nvPr/>
        </p:nvSpPr>
        <p:spPr>
          <a:xfrm>
            <a:off x="539640" y="57340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итоны, саламандры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Бесхвос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39280" y="1268280"/>
            <a:ext cx="80629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5" name="Picture 4" descr="Земноводные. 1 — чесночница (Pelobates fuscus); 2 — рогатка (Ceratophrys cornuta); 3 — изменчивый ателоп (Atelopus varius); 4 — венесуэльский короткоголов (Atelopus cruciger); 5 — южноафриканский узкорот (Breviceps adspersus); 6 — американская лягушка (Rana pipiens); 7 — остромордая лягушка (Rana terrestris), самец в брачном наряде, 8 — он же в обычном наряде; 9 — зелёная лягушка (Rana esculenta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4760" y="1268280"/>
            <a:ext cx="6048360" cy="426888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1"/>
          <p:cNvSpPr/>
          <p:nvPr/>
        </p:nvSpPr>
        <p:spPr>
          <a:xfrm>
            <a:off x="2124000" y="587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ягушки, жа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425080" cy="79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f497d"/>
                </a:solidFill>
                <a:latin typeface="Calibri"/>
              </a:rPr>
              <a:t>Признаки земноводных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Кожа голая, влажная, холодная, покрыта слиз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-  Температура тела зависит от температуры окружающей среды. Если холодно, впадают в спячку, если жарко, зарываются в  зем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земноводные – хищники (питаются насекомыми, улитками, гусениц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считывается более 1040 в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40:55Z</dcterms:created>
  <dc:creator>Пользователь</dc:creator>
  <dc:description/>
  <dc:language>en-US</dc:language>
  <cp:lastModifiedBy>Admin</cp:lastModifiedBy>
  <dcterms:modified xsi:type="dcterms:W3CDTF">2024-01-05T13:23:46Z</dcterms:modified>
  <cp:revision>43</cp:revision>
  <dc:subject/>
  <dc:title>Урок русского языка</dc:title>
</cp:coreProperties>
</file>