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AF5-CCEE-40A0-B213-D6B2F2FA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312-7627-4BFC-851B-0411864E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3D3-1CE7-4EFB-A183-642B5574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AD3-35D5-486C-9A4B-1C71919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E1D-A28A-4A47-BC83-3A379C37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F48E-E22A-4201-A497-E0ACA2C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BBFF-3F4C-4D01-A284-FD686F53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B894-3364-493B-9360-B01DEA4D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582-477B-4C15-9BB6-775B722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649-4CFA-492B-8FF0-8579D3A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1F93-65FC-4CBD-8AF5-E08EEF8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FDD-3518-4121-A7D1-ED9BC46A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972-3D15-4E08-B87E-D5515AB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62E-A474-4437-88E7-2BC06933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36FA-A29A-418E-ACFC-42DAF2C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A17-FEAE-4B24-90E2-EAB28B8D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0993-B0AE-4890-AF78-4EC415AA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EA40-7639-45F0-BBFF-087C38B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8A70F-99AF-4E76-879C-E01FEFA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AD3E-8BC6-42CF-BD75-76CE953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73FC-1EDC-4CB6-9BB0-FCFE214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0257-89A5-44DE-A8FD-B6BBF08E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35D-0CAA-47EE-ABBC-24C4BF0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62F4-A336-4CC1-A71F-F37F6D5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1C67-34DE-4B97-83CC-0150B821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3639-5650-40C1-852F-DF23CE4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CAA3-F033-4A28-9CD6-47F1710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4317-BD95-4BB5-91A0-FA2AD67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C4B1-7754-47DA-A8D1-8AB692D3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A94C-1D1C-48DC-8D7E-8039C701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3C4B-CD12-42BA-9EDB-90B85E42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7507-AFF0-4FAE-B386-F984117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D59D-A034-46D9-89F1-E283F1E4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E15-7DE9-4933-AA18-49EC4CFE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9620-654D-45CF-A268-6E9B1A5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71D8-2ED3-452B-843D-BBF7C6E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71ED-CD70-4315-B662-A109F1F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B660-B46D-49A1-9927-F3A0387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77A3-3841-4326-919C-12C3B74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B938-8F56-4365-9F2C-5AE15B4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FAE6-1441-4E1E-BD4C-E66D939A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F93E-8494-4884-9F54-598DD3E4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6DCE-1718-4FBC-858C-CAFCA14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0664-5952-4B6B-B0AF-B62EA26A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6A8-B474-4F47-8800-48595CE8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65050-FA79-41B9-ADCA-41D63222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91BAD-FDA8-4C12-886D-56BECAF4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C730-ED9F-4DA4-97E7-D7D11F64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A53D-7029-4F0F-8C1B-8B1E911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F3856-CD97-419B-A192-FE33444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C628-57AC-4D03-9B9C-458B7F0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544C-F10B-4D66-A732-7FB7E2D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C3EB-F543-4F96-B56C-14B18CED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FD8F-320C-4749-8C5B-62C2E469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66E4-7EAE-49F9-8E05-431EF9A3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3A8-6906-4E9D-B6D6-ACECD2E6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C62F-4436-4324-BD86-F2C3D335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99876-1140-43C2-83F2-F3332976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BC72-A7F3-49BC-B325-62D7A4EB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9FAB-4FCE-4E37-8A25-91802FF9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8B14-C4DE-4A07-A06A-5121EA3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BC3B-D812-43A7-885D-43A296C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A008-2461-4A6B-8C74-D1F0911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B5D7-EAF6-4075-946E-402CA52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4451-A631-4C4B-B3DD-6136D19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17ED-0519-4C48-BCC9-F681CBD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212-DC08-4C29-B24F-9B6FAC4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9B999-4D94-40B8-A7F0-73CFFC4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3B8A-F0F3-4F2A-A65E-F32F6B7A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B5E1-D1CE-450C-9723-3F5A74A6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4D5-ACC0-4E57-BBE9-8351CBB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DA6-9EC0-4D22-B025-399D1DE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0A6-36B0-472A-93DD-D45C690C99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3F8A-4B18-42D6-96FE-C43EDD9773D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616-B52C-48E7-B38C-23CFCC871A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8B2-63AB-4030-B61F-68F47F39BFA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EAE-8D27-438D-8BB9-DB42054271B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4555-8247-40DA-BA45-74BF7A072D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371520" y="768240"/>
            <a:ext cx="8431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Акт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Arial"/>
              </a:rPr>
              <a:t>Активный методический подход,</a:t>
            </a: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 как видно из схемы 2 – это такая форма взаимодействия воспитателя и ребенка, при которой воспитатель и дети взаимодействуют друг с другом в ходе занятия и дети теперь не пассивные слушатели, а активные участники занятия. Активный и интерактивный методические подходы имеют много общего. В общем, интерактивный ме-тод можно рассматривать как наиболее современную форму активных методов. Просто в отличие от активных методов интерактивные ориентированы на более широкое взаимодействие детей не только с воспитателем, но и друг с друго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№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V="1">
            <a:off x="2643120" y="2356920"/>
            <a:ext cx="157248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3" name="Прямая со стрелкой 8"/>
          <p:cNvCxnSpPr/>
          <p:nvPr/>
        </p:nvCxnSpPr>
        <p:spPr>
          <a:xfrm flipH="1">
            <a:off x="2714040" y="2500200"/>
            <a:ext cx="157212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4" name="Прямая со стрелкой 10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5" name="Прямая со стрелкой 14"/>
          <p:cNvCxnSpPr/>
          <p:nvPr/>
        </p:nvCxnSpPr>
        <p:spPr>
          <a:xfrm flipH="1" flipV="1">
            <a:off x="2999880" y="364248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6" name="Прямая со стрелкой 16"/>
          <p:cNvCxnSpPr/>
          <p:nvPr/>
        </p:nvCxnSpPr>
        <p:spPr>
          <a:xfrm>
            <a:off x="2785680" y="3785760"/>
            <a:ext cx="142956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7" name="Прямая со стрелкой 18"/>
          <p:cNvCxnSpPr/>
          <p:nvPr/>
        </p:nvCxnSpPr>
        <p:spPr>
          <a:xfrm flipH="1" flipV="1">
            <a:off x="2642400" y="3857400"/>
            <a:ext cx="1500840" cy="7862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8" name="Прямая со стрелкой 20"/>
          <p:cNvCxnSpPr/>
          <p:nvPr/>
        </p:nvCxnSpPr>
        <p:spPr>
          <a:xfrm flipH="1">
            <a:off x="4785480" y="2714400"/>
            <a:ext cx="252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9" name="Прямая со стрелкой 22"/>
          <p:cNvCxnSpPr/>
          <p:nvPr/>
        </p:nvCxnSpPr>
        <p:spPr>
          <a:xfrm flipV="1">
            <a:off x="5072040" y="2714040"/>
            <a:ext cx="216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0" name="Прямая со стрелкой 24"/>
          <p:cNvCxnSpPr/>
          <p:nvPr/>
        </p:nvCxnSpPr>
        <p:spPr>
          <a:xfrm flipV="1">
            <a:off x="4785120" y="3787920"/>
            <a:ext cx="2520" cy="643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1" name="Прямая со стрелкой 26"/>
          <p:cNvCxnSpPr/>
          <p:nvPr/>
        </p:nvCxnSpPr>
        <p:spPr>
          <a:xfrm flipH="1">
            <a:off x="5071680" y="3859200"/>
            <a:ext cx="2160" cy="5724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Интерактивный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Arial"/>
              </a:rPr>
              <a:t>Интерактивный методический подх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Интерактивный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(«Inter» - это взаимный, «act» - действовать) – означает взаимодействовать или находится в режиме беседы, диалога с кем-либо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Другими словами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интерактивные методики обучения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- это специальная форма организации познавательной и коммуникативной деятельности, в которой обучающиеся оказываются в процесс познания, имеют возможность понимать и рефлектировать по поводу того, что они знают и думают. Место воспитателя в интерактивных занятиях зачастую сводится к направлению деятельности детей на достижение целей занятия. Он же разрабатывает план занятия (как правило, это совокупность интерактивных упражнений и заданий, в ходе работы над которыми ребенок изучает материал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Таким образом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основными составляющими интерактивных занятий являются интерактивные упражнения и задания, которые выполняются воспитанниками</a:t>
            </a:r>
            <a:r>
              <a:rPr b="1" i="1" lang="ru-RU" sz="17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КЛАССИФИКАЦИЯ ИНТЕРАКТИВНЫХ МЕТОДОВ ОБУЧЕН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руктура интерактивного педагогического взаимодействия является и основанием классификации активных педагогических методов. В соответствии с ведущей функцией того или иного метода в организации педагогического взаимодействия методы могут быть классифицированы по следующим групп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оздания благоприятной атмосферы, организации коммуник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обмена деятельност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мысле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мыслотвор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рефлексив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тегративные методы (интерактивные игр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356760"/>
            <a:ext cx="8258040" cy="576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оздания благоприятной атмосферы, организации коммуникации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них следует назвать такие методы, как «Подари цветок», «Комплимент», «Имя и жест», «Аллитерация имени», «Прогноз погоды», «Если бы я был явлением природы…», «Поменяемся местами», «Заверши фразу», «Кто откуда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обмена деятельностям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обмена деятельностями выделяют «Метаплан», «Мастерская будущего», «Перекрестные группы», «Мозаика», «1х2х4», «Аквариум», «Интервью», «Круглый стол», «Мозговой штур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мыследеятельности.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 методам этой группы можно отнести «Четыре угла», «Выбери из пяти», «Выбор», «Логическая цепочка», «Интервью», «Дюжина вопросов», «Чье это?», «Цветные фигуры», «Смена собеседника», «Самооценка»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285480"/>
            <a:ext cx="825804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мыслотворчеств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смыслотворчества можно назвать «Алфавит», «Ассоциации», «Сочиняем сказку», «Заверши фразу», «Минута говорения», «Интеллектуальные качели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рефлексивной деятельност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этой группы такие, как «Рефлексивный круг», «Зарядка», «Рефлексивная мишень», «Рефлексивный ринг», «Ключевое слово», «Поменяемся местами», «Острова», «Заверши фразу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6840" y="285480"/>
            <a:ext cx="847260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нтегративные методы (интерактивные игры)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педагогическом  процессе могут быть использованы такие интерактивные игры, как «Давай, делай!» «Гостиница», «Икебана», «Школа», «Взаимодействие», «Полёт на воздушном шаре», «Социальная роль («Пожарник»)», «Аквариу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ормирование навыков речевого взаимодействия со сверстниками в старшем дошкольном возрасте имеет очень большое значение. Потому что именно коммуникативно-речевое развитие обусловливает способность старших дошкольников, развязывая определенные задания во время познавательной, изобразительной, трудовой деятельности, планировать свои действия, соглашать их с партнерами и договариваться с ними про совместные действия для достижения желаемого результата. Речевое развитие ребенка дошкольного возраста определяется мерой сформированных у ребенка знаний, умений и навыков, познавательных и социальных мотивов, потребностей и интересов, которые определяют базис его личностной культуры. Высокий уровень речевых достижений дает ребенку возможность реализовывать как социальную, так и интеллектуальную активность в кругу сверстников. Направленность на коммуникацию, потребность и стремление понимать других и быть понятым им вынуждают дошкольника строить и перестраивать речевые высказывания в таких полных формах, которые обеспечивают взаимопо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285480"/>
            <a:ext cx="840096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Характерными особенностями этих методов являетс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птимальная активизация дет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вместная деятельность воспитателя и детей в режиме равноправного общ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здание условий для переживания успеха каждым участником педагогического взаимодейств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бязательная рефлексия процесса обучения и воспитания- осмысление избранных заданий, форм работы, способов деятельности, причин неудач или достижения целей и т.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Речевые умения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196640"/>
            <a:ext cx="840096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чевые действия, которые реализуются на основе знаний и способов деятельности во время выбора и объединения речевых операций в зависимости от цели, ситуации общения и собеседника, с которым происходит коммуникация. Овладеть такими умениями означает научиться правильно выбирать стиль речи, употреблять самые эффективные для поставленной задачи и соответствующих условий речевые средства общения (вербальные и невербальны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Речевые</a:t>
            </a:r>
            <a:r>
              <a:rPr b="0" lang="ru-RU" sz="4800" spc="-1" strike="noStrike">
                <a:solidFill>
                  <a:srgbClr val="008000"/>
                </a:solidFill>
                <a:latin typeface="Franklin Gothic 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навыки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99840"/>
            <a:ext cx="7467480" cy="5141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втоматизованные соответственно к определенной речевой норме операции, которые выполняются несознательно и служат для выражения мыслей, намерений, переживаний. Сформировать навык означает обеспечить правильное строение и реализацию высказывания. Эти операции несознательные, поэтому возникает потребность в создании условий для их формирования и реал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Речевое взаимодейств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то объединение, координация и взаимообогащение усилий участников общения для определения, приближения и достижения коммуникативной цели речевыми средствами. Речевое взаимодействие является важным условием эффективной организации учебной деятельности дошкольников в процессе занят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бы речевое взаимодействие детей было эффективным, педагог должен создать условия для развития коммуникативных навыков воспитанников. Одним из таких условий является интерактивное обучение дошкольников- активное использование в образовательном процессе интерактивных методов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етодические подходы к обучению можно подразделить на три группы: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1. Пасс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2. Акт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3. Интерактивные мето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488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оспитатель   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 flipV="1">
            <a:off x="2928960" y="2571120"/>
            <a:ext cx="157248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6" name="Прямая со стрелкой 6"/>
          <p:cNvCxnSpPr/>
          <p:nvPr/>
        </p:nvCxnSpPr>
        <p:spPr>
          <a:xfrm>
            <a:off x="2928960" y="3571920"/>
            <a:ext cx="16437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7" name="Прямая со стрелкой 8"/>
          <p:cNvCxnSpPr/>
          <p:nvPr/>
        </p:nvCxnSpPr>
        <p:spPr>
          <a:xfrm>
            <a:off x="3000240" y="3785760"/>
            <a:ext cx="16437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Пасс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ссивный методический подход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как видно из схемы 1 – это такая форма взаимодействия воспитателя и ребенка, при которой воспитатель является основной действующей фигурой, а дети выступают в роли пассивных слушателей. Пассивный метод считается самым неэффективным с точки зрения усвоения воспитанниками  учебного материа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259920"/>
            <a:ext cx="7715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Прямая со стрелкой 8"/>
          <p:cNvCxnSpPr/>
          <p:nvPr/>
        </p:nvCxnSpPr>
        <p:spPr>
          <a:xfrm flipV="1">
            <a:off x="2928600" y="24282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3" name="Прямая со стрелкой 10"/>
          <p:cNvCxnSpPr/>
          <p:nvPr/>
        </p:nvCxnSpPr>
        <p:spPr>
          <a:xfrm flipH="1">
            <a:off x="2999880" y="2499120"/>
            <a:ext cx="12153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4" name="Прямая со стрелкой 12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5" name="Прямая со стрелкой 14"/>
          <p:cNvCxnSpPr/>
          <p:nvPr/>
        </p:nvCxnSpPr>
        <p:spPr>
          <a:xfrm flipH="1" flipV="1">
            <a:off x="2999880" y="3571560"/>
            <a:ext cx="12153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6" name="Прямая со стрелкой 16"/>
          <p:cNvCxnSpPr/>
          <p:nvPr/>
        </p:nvCxnSpPr>
        <p:spPr>
          <a:xfrm>
            <a:off x="2999880" y="3785760"/>
            <a:ext cx="114372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7" name="Прямая со стрелкой 20"/>
          <p:cNvCxnSpPr/>
          <p:nvPr/>
        </p:nvCxnSpPr>
        <p:spPr>
          <a:xfrm flipH="1" flipV="1">
            <a:off x="2856960" y="37854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9:35:56Z</dcterms:created>
  <dc:creator>Валентин</dc:creator>
  <dc:description/>
  <dc:language>en-US</dc:language>
  <cp:lastModifiedBy>МОЙ</cp:lastModifiedBy>
  <dcterms:modified xsi:type="dcterms:W3CDTF">2024-01-05T14:17:24Z</dcterms:modified>
  <cp:revision>33</cp:revision>
  <dc:subject/>
  <dc:title>Интерактивные методы обучения как средство формирования навыков речевого взаимодействия старших дошкольников</dc:title>
</cp:coreProperties>
</file>