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47D3-15F5-43B7-9428-9883925D7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A9F9-A42A-4F75-89B8-26246443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A82E-E101-4204-9C33-10154E19B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75B4-C555-4509-AA9F-56F39095C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7111-ABF1-4F5B-AFCE-76A89C61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060B-64D6-43BD-BE69-B79E80E0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D5E7-0EBB-4559-B387-5159AAB1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3BE8-1032-4AA6-97A8-664D1385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9582-923E-4C89-9B7E-7E6A1F31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994A-45FC-4CB6-864B-E5CA9CE4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3360-C517-4C0E-BD13-7BDB6CF2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5248-4385-44D6-9B64-96C259EF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8D69-0F6B-4E0D-9E36-5924524D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23C8-E5C2-4B1C-BEDF-31F3AF35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08FB-27A1-4FFF-88E6-45974561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1A65-67E0-4A5B-8B93-3A1821149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48E4-D9E4-4C61-8171-FB9DD3065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8677C-D911-4E35-93F3-94E59B1A7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AB43F-3798-4203-9896-5C4B7CE9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49CB0-1D53-4CED-BA19-245B609E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4E5E2-539E-48AD-8939-645BA1C3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B41D2-2C10-4820-83BA-C8FE3E40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48A7-7935-4F90-9047-CAD07703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4CFCD-2D50-46F9-939F-B43FF87D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F8AE6-877C-4534-A838-82F08266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175CC-2A28-4254-ACED-64E0120C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A3537-5611-4C95-9F31-0EF8060F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61920-CE68-45B6-8D3B-9D503A0A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F05E3-2A48-4D06-AB68-0A60BAB33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66990-3349-47D3-A392-E8B78CAC4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37A19-AAF3-438A-9325-72C4BE227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D7D3F-73A8-4831-BDE4-EBD62A08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A244E-4849-4E62-9AEB-9E048659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AEB2-A42A-4355-B4C1-36EDF854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FA4BA-BE3B-473E-AB33-006445F1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6C689-740B-4CB9-9713-0FE0B4C4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D262B-68B0-43C4-A572-7700EB6A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2DFF1-C4D6-44CA-8F34-F6D6F77D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67659-94ED-43F9-A149-410521C3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88BB8-5190-40B4-9142-F0468771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0ABB3-0DE2-467E-A02E-6C84EB18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FF8F0-3742-4FFD-93AC-283BC5463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3C4BF-39ED-4A3A-A8E0-6C3AD5A8D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55488-1BC4-4842-9C35-B1D92722E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F1AD-E048-4D58-95B8-4F60E331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BDE25-5CFA-43BB-A665-9BB7379D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05C7E-94ED-48FB-B79A-9B4E4F99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C7893-FEEE-42FE-8D6D-BACBC70F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EFB0C-C84E-4CBC-A762-03FA2162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5EE8E-B0CC-4C47-A6B3-94AA9E74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1AD7E-4C7D-40D4-93D3-C8D06F48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43B42-81AA-47E7-9708-1E156886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BA35A-4E5A-40DE-BB2C-E6DFB775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AF672-9DF1-47CF-A0CC-ACD8B40B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CE334-3772-4984-9187-6CA3B876B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22FB-C300-4711-9E0A-FC6BD06D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119B3-A7D0-40DF-9D22-2DA578162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0C793-FFFF-4ADC-A7E7-562217DB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FDDC2-51EE-43C5-8FCE-73AC1676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80B7B-473A-416D-B0FD-0FDF23F1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A8BFE-20FE-4138-8D7E-09BEBE4B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96C89-ED6F-4A65-B390-5173FB0F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09F7E-8A21-4889-8294-DFAFAB61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8FC39-47D7-4A88-8FD1-71E9A9C8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F67BB-3738-4D07-8058-FCA6BFA4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38F89-53E1-4335-99FA-BAC780AF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4088-5679-4E80-81AF-4B028BE6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7867B-D037-4703-ABB1-BE8A33E1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1C3A5-7093-4751-9A50-851EB14C8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8F0EC-64A4-41DA-83AC-6281EA985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43EE-8092-4100-A104-1D6118F1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7FD2-74D3-4B02-9B0C-E57869F9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E035-125C-4C50-88D7-DDC534A8ACA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799D-2CAA-4885-AC3C-6A12AB3E592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D2C9-8F81-40FC-AF35-0D69D0AAC18F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3626-1328-4C68-B665-BEF059F160A9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9B66-A921-4BE5-87A0-0044888DE843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92B3-0288-434B-AD24-552D869A4AA1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2"/>
          <a:stretch/>
        </p:blipFill>
        <p:spPr>
          <a:xfrm>
            <a:off x="371520" y="768240"/>
            <a:ext cx="84312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Franklin Gothic Book"/>
              </a:rPr>
              <a:t>Активный метод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Arial"/>
              </a:rPr>
              <a:t>Активный методический подход,</a:t>
            </a:r>
            <a:r>
              <a:rPr b="0" lang="ru-RU" sz="2300" spc="-1" strike="noStrike">
                <a:solidFill>
                  <a:srgbClr val="ffff00"/>
                </a:solidFill>
                <a:latin typeface="Arial"/>
              </a:rPr>
              <a:t> как видно из схемы 2 – это такая форма взаимодействия воспитателя и ребенка, при которой воспитатель и дети взаимодействуют друг с другом в ходе занятия и дети теперь не пассивные слушатели, а активные участники занятия. Активный и интерактивный методические подходы имеют много общего. В общем, интерактивный ме-тод можно рассматривать как наиболее современную форму активных методов. Просто в отличие от активных методов интерактивные ориентированы на более широкое взаимодействие детей не только с воспитателем, но и друг с другом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4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Franklin Gothic Book"/>
              </a:rPr>
              <a:t>Схема</a:t>
            </a:r>
            <a:r>
              <a:rPr b="0" lang="ru-RU" sz="4600" spc="-1" strike="noStrike">
                <a:solidFill>
                  <a:srgbClr val="ff0000"/>
                </a:solidFill>
                <a:latin typeface="Franklin Gothic Book"/>
              </a:rPr>
              <a:t> №3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Ребено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Воспитатель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               Ребено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Ребено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2" name="Прямая со стрелкой 4"/>
          <p:cNvCxnSpPr/>
          <p:nvPr/>
        </p:nvCxnSpPr>
        <p:spPr>
          <a:xfrm flipV="1">
            <a:off x="2643120" y="2356920"/>
            <a:ext cx="1572480" cy="92952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83" name="Прямая со стрелкой 8"/>
          <p:cNvCxnSpPr/>
          <p:nvPr/>
        </p:nvCxnSpPr>
        <p:spPr>
          <a:xfrm flipH="1">
            <a:off x="2714040" y="2500200"/>
            <a:ext cx="1572120" cy="92952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84" name="Прямая со стрелкой 10"/>
          <p:cNvCxnSpPr/>
          <p:nvPr/>
        </p:nvCxnSpPr>
        <p:spPr>
          <a:xfrm>
            <a:off x="3000240" y="3499920"/>
            <a:ext cx="1286640" cy="252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85" name="Прямая со стрелкой 14"/>
          <p:cNvCxnSpPr/>
          <p:nvPr/>
        </p:nvCxnSpPr>
        <p:spPr>
          <a:xfrm flipH="1" flipV="1">
            <a:off x="2999880" y="3642480"/>
            <a:ext cx="1286640" cy="252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86" name="Прямая со стрелкой 16"/>
          <p:cNvCxnSpPr/>
          <p:nvPr/>
        </p:nvCxnSpPr>
        <p:spPr>
          <a:xfrm>
            <a:off x="2785680" y="3785760"/>
            <a:ext cx="1429560" cy="71532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87" name="Прямая со стрелкой 18"/>
          <p:cNvCxnSpPr/>
          <p:nvPr/>
        </p:nvCxnSpPr>
        <p:spPr>
          <a:xfrm flipH="1" flipV="1">
            <a:off x="2642400" y="3857400"/>
            <a:ext cx="1500840" cy="78624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88" name="Прямая со стрелкой 20"/>
          <p:cNvCxnSpPr/>
          <p:nvPr/>
        </p:nvCxnSpPr>
        <p:spPr>
          <a:xfrm flipH="1">
            <a:off x="4785480" y="2714400"/>
            <a:ext cx="2520" cy="57204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89" name="Прямая со стрелкой 22"/>
          <p:cNvCxnSpPr/>
          <p:nvPr/>
        </p:nvCxnSpPr>
        <p:spPr>
          <a:xfrm flipV="1">
            <a:off x="5072040" y="2714040"/>
            <a:ext cx="2160" cy="57204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0" name="Прямая со стрелкой 24"/>
          <p:cNvCxnSpPr/>
          <p:nvPr/>
        </p:nvCxnSpPr>
        <p:spPr>
          <a:xfrm flipV="1">
            <a:off x="4785120" y="3787920"/>
            <a:ext cx="2520" cy="64332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1" name="Прямая со стрелкой 26"/>
          <p:cNvCxnSpPr/>
          <p:nvPr/>
        </p:nvCxnSpPr>
        <p:spPr>
          <a:xfrm flipH="1">
            <a:off x="5071680" y="3859200"/>
            <a:ext cx="2160" cy="57240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46748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Franklin Gothic Book"/>
              </a:rPr>
              <a:t>Интерактивный</a:t>
            </a:r>
            <a:r>
              <a:rPr b="0" lang="ru-RU" sz="46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4600" spc="-1" strike="noStrike">
                <a:solidFill>
                  <a:srgbClr val="ff0000"/>
                </a:solidFill>
                <a:latin typeface="Franklin Gothic Book"/>
              </a:rPr>
              <a:t>метод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Arial"/>
              </a:rPr>
              <a:t>Интерактивный методический подход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Arial"/>
              </a:rPr>
              <a:t>Интерактивный</a:t>
            </a:r>
            <a:r>
              <a:rPr b="0" lang="ru-RU" sz="1700" spc="-1" strike="noStrike">
                <a:solidFill>
                  <a:srgbClr val="ffff00"/>
                </a:solidFill>
                <a:latin typeface="Arial"/>
              </a:rPr>
              <a:t> («Inter» - это взаимный, «act» - действовать) – означает взаимодействовать или находится в режиме беседы, диалога с кем-либо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00"/>
                </a:solidFill>
                <a:latin typeface="Arial"/>
              </a:rPr>
              <a:t>Другими словами, </a:t>
            </a:r>
            <a:r>
              <a:rPr b="1" i="1" lang="ru-RU" sz="1700" spc="-1" strike="noStrike">
                <a:solidFill>
                  <a:srgbClr val="ffff00"/>
                </a:solidFill>
                <a:latin typeface="Arial"/>
              </a:rPr>
              <a:t>интерактивные методики обучения</a:t>
            </a:r>
            <a:r>
              <a:rPr b="0" lang="ru-RU" sz="1700" spc="-1" strike="noStrike">
                <a:solidFill>
                  <a:srgbClr val="ffff00"/>
                </a:solidFill>
                <a:latin typeface="Arial"/>
              </a:rPr>
              <a:t> - это специальная форма организации познавательной и коммуникативной деятельности, в которой обучающиеся оказываются в процесс познания, имеют возможность понимать и рефлектировать по поводу того, что они знают и думают. Место воспитателя в интерактивных занятиях зачастую сводится к направлению деятельности детей на достижение целей занятия. Он же разрабатывает план занятия (как правило, это совокупность интерактивных упражнений и заданий, в ходе работы над которыми ребенок изучает материал)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00"/>
                </a:solidFill>
                <a:latin typeface="Arial"/>
              </a:rPr>
              <a:t>Таким образом, </a:t>
            </a:r>
            <a:r>
              <a:rPr b="1" i="1" lang="ru-RU" sz="1700" spc="-1" strike="noStrike">
                <a:solidFill>
                  <a:srgbClr val="ffff00"/>
                </a:solidFill>
                <a:latin typeface="Arial"/>
              </a:rPr>
              <a:t>основными составляющими интерактивных занятий являются интерактивные упражнения и задания, которые выполняются воспитанниками</a:t>
            </a:r>
            <a:r>
              <a:rPr b="1" i="1" lang="ru-RU" sz="1700" spc="-1" strike="noStrike">
                <a:solidFill>
                  <a:srgbClr val="00b05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46784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Franklin Gothic Book"/>
              </a:rPr>
              <a:t>КЛАССИФИКАЦИЯ ИНТЕРАКТИВНЫХ МЕТОДОВ ОБУЧЕНИЯ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труктура интерактивного педагогического взаимодействия является и основанием классификации активных педагогических методов. В соответствии с ведущей функцией того или иного метода в организации педагогического взаимодействия методы могут быть классифицированы по следующим группам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методы создания благоприятной атмосферы, организации коммуникац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методы обмена деятельностя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методы мыследеятель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методы смыслотворчеств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методы рефлексивной деятель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интегративные методы (интерактивные игры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4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56840" y="356760"/>
            <a:ext cx="8258040" cy="5769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етоды создания благоприятной атмосферы, организации коммуникации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реди них следует назвать такие методы, как «Подари цветок», «Комплимент», «Имя и жест», «Аллитерация имени», «Прогноз погоды», «Если бы я был явлением природы…», «Поменяемся местами», «Заверши фразу», «Кто откуда» и д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456840" y="214200"/>
            <a:ext cx="8258040" cy="5911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етоды обмена деятельностями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реди методов обмена деятельностями выделяют «Метаплан», «Мастерская будущего», «Перекрестные группы», «Мозаика», «1х2х4», «Аквариум», «Интервью», «Круглый стол», «Мозговой штурм» и д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456840" y="214200"/>
            <a:ext cx="8472600" cy="5911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етоды мыследеятельности.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К методам этой группы можно отнести «Четыре угла», «Выбери из пяти», «Выбор», «Логическая цепочка», «Интервью», «Дюжина вопросов», «Чье это?», «Цветные фигуры», «Смена собеседника», «Самооценка» и др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56840" y="285480"/>
            <a:ext cx="8258040" cy="5840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етоды смыслотворчества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реди методов смыслотворчества можно назвать «Алфавит», «Ассоциации», «Сочиняем сказку», «Заверши фразу», «Минута говорения», «Интеллектуальные качели» и д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456840" y="214200"/>
            <a:ext cx="8258040" cy="5911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Методы рефлексивной деятельности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реди методов этой группы такие, как «Рефлексивный круг», «Зарядка», «Рефлексивная мишень», «Рефлексивный ринг», «Ключевое слово», «Поменяемся местами», «Острова», «Заверши фразу» и д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456840" y="285480"/>
            <a:ext cx="8472600" cy="5840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Интегративные методы (интерактивные игры)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В педагогическом  процессе могут быть использованы такие интерактивные игры, как «Давай, делай!» «Гостиница», «Икебана», «Школа», «Взаимодействие», «Полёт на воздушном шаре», «Социальная роль («Пожарник»)», «Аквариум» и д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57200" y="214200"/>
            <a:ext cx="8329680" cy="5911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Формирование навыков речевого взаимодействия со сверстниками в старшем дошкольном возрасте имеет очень большое значение. Потому что именно коммуникативно-речевое развитие обусловливает способность старших дошкольников, развязывая определенные задания во время познавательной, изобразительной, трудовой деятельности, планировать свои действия, соглашать их с партнерами и договариваться с ними про совместные действия для достижения желаемого результата. Речевое развитие ребенка дошкольного возраста определяется мерой сформированных у ребенка знаний, умений и навыков, познавательных и социальных мотивов, потребностей и интересов, которые определяют базис его личностной культуры. Высокий уровень речевых достижений дает ребенку возможность реализовывать как социальную, так и интеллектуальную активность в кругу сверстников. Направленность на коммуникацию, потребность и стремление понимать других и быть понятым им вынуждают дошкольника строить и перестраивать речевые высказывания в таких полных формах, которые обеспечивают взаимопоним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457200" y="285480"/>
            <a:ext cx="8400960" cy="58402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Характерными особенностями этих методов является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Оптимальная активизация детей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Совместная деятельность воспитателя и детей в режиме равноправного общения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Создание условий для переживания успеха каждым участником педагогического взаимодействия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Обязательная рефлексия процесса обучения и воспитания- осмысление избранных заданий, форм работы, способов деятельности, причин неудач или достижения целей и т.д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7467480" cy="64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Franklin Gothic Book"/>
              </a:rPr>
              <a:t>Речевые умения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196640"/>
            <a:ext cx="8400960" cy="5111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8000"/>
          </a:bodyPr>
          <a:p>
            <a:pPr marL="410400" indent="-37476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Речевые действия, которые реализуются на основе знаний и способов деятельности во время выбора и объединения речевых операций в зависимости от цели, ситуации общения и собеседника, с которым происходит коммуникация. Овладеть такими умениями означает научиться правильно выбирать стиль речи, употреблять самые эффективные для поставленной задачи и соответствующих условий речевые средства общения (вербальные и невербальные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Franklin Gothic Book"/>
              </a:rPr>
              <a:t>Речевые</a:t>
            </a:r>
            <a:r>
              <a:rPr b="0" lang="ru-RU" sz="4800" spc="-1" strike="noStrike">
                <a:solidFill>
                  <a:srgbClr val="008000"/>
                </a:solidFill>
                <a:latin typeface="Franklin Gothic Book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Franklin Gothic Book"/>
              </a:rPr>
              <a:t>навыки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599840"/>
            <a:ext cx="7467480" cy="5141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Автоматизованные соответственно к определенной речевой норме операции, которые выполняются несознательно и служат для выражения мыслей, намерений, переживаний. Сформировать навык означает обеспечить правильное строение и реализацию высказывания. Эти операции несознательные, поэтому возникает потребность в создании условий для их формирования и реализац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4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Franklin Gothic Book"/>
              </a:rPr>
              <a:t>Речевое взаимодейств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Это объединение, координация и взаимообогащение усилий участников общения для определения, приближения и достижения коммуникативной цели речевыми средствами. Речевое взаимодействие является важным условием эффективной организации учебной деятельности дошкольников в процессе занят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Чтобы речевое взаимодействие детей было эффективным, педагог должен создать условия для развития коммуникативных навыков воспитанников. Одним из таких условий является интерактивное обучение дошкольников- активное использование в образовательном процессе интерактивных методов обуч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214200"/>
            <a:ext cx="8329680" cy="5911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Методические подходы к обучению можно подразделить на три группы: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1. Пассивные методы;</a:t>
            </a:r>
            <a:br>
              <a:rPr sz="4000"/>
            </a:b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2. Активные методы;</a:t>
            </a:r>
            <a:br>
              <a:rPr sz="4000"/>
            </a:b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3. Интерактивные метод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48836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Franklin Gothic Book"/>
              </a:rPr>
              <a:t>Схема</a:t>
            </a:r>
            <a:r>
              <a:rPr b="0" lang="ru-RU" sz="46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4600" spc="-1" strike="noStrike">
                <a:solidFill>
                  <a:srgbClr val="ff0000"/>
                </a:solidFill>
                <a:latin typeface="Franklin Gothic Book"/>
              </a:rPr>
              <a:t>№</a:t>
            </a:r>
            <a:r>
              <a:rPr b="0" lang="ru-RU" sz="4600" spc="-1" strike="noStrike">
                <a:solidFill>
                  <a:srgbClr val="ff0000"/>
                </a:solidFill>
                <a:latin typeface="Franklin Gothic Book"/>
              </a:rPr>
              <a:t>1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                                       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Ребено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Воспитатель                  Ребено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Ребено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5" name="Прямая со стрелкой 4"/>
          <p:cNvCxnSpPr/>
          <p:nvPr/>
        </p:nvCxnSpPr>
        <p:spPr>
          <a:xfrm flipV="1">
            <a:off x="2928960" y="2571120"/>
            <a:ext cx="1572480" cy="78660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66" name="Прямая со стрелкой 6"/>
          <p:cNvCxnSpPr/>
          <p:nvPr/>
        </p:nvCxnSpPr>
        <p:spPr>
          <a:xfrm>
            <a:off x="2928960" y="3571920"/>
            <a:ext cx="1643760" cy="216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67" name="Прямая со стрелкой 8"/>
          <p:cNvCxnSpPr/>
          <p:nvPr/>
        </p:nvCxnSpPr>
        <p:spPr>
          <a:xfrm>
            <a:off x="3000240" y="3785760"/>
            <a:ext cx="1643760" cy="78660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Franklin Gothic Book"/>
              </a:rPr>
              <a:t>Пассивный метод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ассивный методический подход,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как видно из схемы 1 – это такая форма взаимодействия воспитателя и ребенка, при которой воспитатель является основной действующей фигурой, а дети выступают в роли пассивных слушателей. Пассивный метод считается самым неэффективным с точки зрения усвоения воспитанниками  учебного материал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>
            <a:alpha val="5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28400" y="259920"/>
            <a:ext cx="771516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Franklin Gothic Book"/>
              </a:rPr>
              <a:t>Схема</a:t>
            </a:r>
            <a:r>
              <a:rPr b="0" lang="ru-RU" sz="46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4600" spc="-1" strike="noStrike">
                <a:solidFill>
                  <a:srgbClr val="ff0000"/>
                </a:solidFill>
                <a:latin typeface="Franklin Gothic Book"/>
              </a:rPr>
              <a:t>№2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1600200"/>
            <a:ext cx="771516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Ребено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Arial"/>
              </a:rPr>
              <a:t>Воспитатель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              Ребено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Ребенок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2" name="Прямая со стрелкой 8"/>
          <p:cNvCxnSpPr/>
          <p:nvPr/>
        </p:nvCxnSpPr>
        <p:spPr>
          <a:xfrm flipV="1">
            <a:off x="2928600" y="2428200"/>
            <a:ext cx="1215000" cy="78660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73" name="Прямая со стрелкой 10"/>
          <p:cNvCxnSpPr/>
          <p:nvPr/>
        </p:nvCxnSpPr>
        <p:spPr>
          <a:xfrm flipH="1">
            <a:off x="2999880" y="2499120"/>
            <a:ext cx="1215360" cy="78660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74" name="Прямая со стрелкой 12"/>
          <p:cNvCxnSpPr/>
          <p:nvPr/>
        </p:nvCxnSpPr>
        <p:spPr>
          <a:xfrm>
            <a:off x="3000240" y="3499920"/>
            <a:ext cx="1286640" cy="252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75" name="Прямая со стрелкой 14"/>
          <p:cNvCxnSpPr/>
          <p:nvPr/>
        </p:nvCxnSpPr>
        <p:spPr>
          <a:xfrm flipH="1" flipV="1">
            <a:off x="2999880" y="3571560"/>
            <a:ext cx="1215360" cy="216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76" name="Прямая со стрелкой 16"/>
          <p:cNvCxnSpPr/>
          <p:nvPr/>
        </p:nvCxnSpPr>
        <p:spPr>
          <a:xfrm>
            <a:off x="2999880" y="3785760"/>
            <a:ext cx="1143720" cy="71532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77" name="Прямая со стрелкой 20"/>
          <p:cNvCxnSpPr/>
          <p:nvPr/>
        </p:nvCxnSpPr>
        <p:spPr>
          <a:xfrm flipH="1" flipV="1">
            <a:off x="2856960" y="3785400"/>
            <a:ext cx="1215000" cy="786600"/>
          </a:xfrm>
          <a:prstGeom prst="straightConnector1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09:35:56Z</dcterms:created>
  <dc:creator>Валентин</dc:creator>
  <dc:description/>
  <dc:language>en-US</dc:language>
  <cp:lastModifiedBy>МОЙ</cp:lastModifiedBy>
  <dcterms:modified xsi:type="dcterms:W3CDTF">2024-01-05T14:17:24Z</dcterms:modified>
  <cp:revision>33</cp:revision>
  <dc:subject/>
  <dc:title>Интерактивные методы обучения как средство формирования навыков речевого взаимодействия старших дошкольников</dc:title>
</cp:coreProperties>
</file>