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485-5752-473C-9F08-FEDF93F6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1AB-1C98-4DD5-8B5A-CFCE51BC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376-2F93-4DEF-B696-EA5E6E2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6E8-15EC-49AF-B70C-C8768A9C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83C-E248-4CB0-93F3-F9F5779D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D1D0-8155-4C45-AE0C-7FDD2D3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2A24-6A22-4678-A4A3-0C6920E2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7EB-8B4E-4C64-B2C6-65AF43B0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47B2-7AB4-4390-A321-6128D39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F6C-5C30-4D39-A44B-BD431FF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03F9-9729-4CC5-AF07-9FC6409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384-6150-4DC1-A811-1ED2569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E68-CAE5-4868-BC6D-9BCDEF21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1BA9-85F4-45CB-B5CF-0652823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09C-E655-46B4-BBF6-AD5EAA8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AB81-C156-4E57-9F05-2F8ABFB8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61D-BBC5-4F55-B213-D0FBAD30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9617-754B-4191-9F67-784627CC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DDD2-405F-461B-A06E-80A1160A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DB6B-7B84-400D-B6C8-802E6AA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10DF-6ED4-4DAC-B96D-E2071A2F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4D73-1F54-4A88-B9CF-BE14099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1B2-4824-4B2D-94C2-1EF47D26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0914-45AA-451F-BFD7-81BDE11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4357-45D5-4EC9-BC9C-2B7D9C0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402B-5050-4148-BC92-F3E5A93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0F0E-2ACA-4C01-BB59-3D77D86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63E9-9DEC-4121-A550-DB72DE1C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0D72-FE00-4C16-8E52-307CA023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BE97-BBBD-4111-A0A2-FF562FA9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3F9C-2D5E-4AA4-9900-775D939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D75F-2F16-4174-8826-6BEB59F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0A4A-C151-40C1-A16F-AA790C35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633-7951-4B5B-8209-63145D0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8C1C-5F71-41FE-99CF-AD417EF9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52BE-5E0A-4CF6-9CD9-5242D35A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5069-5AEA-40E6-BBF6-1C8052D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637C-C00D-497D-8721-42C78C2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8909-C279-45ED-BFAE-3D6F894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2900-67E3-4C96-9771-47159DA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A0D2-02FB-4775-8ACA-2A0022AB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82DC-7993-4700-9DF4-15548445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6411-6811-4547-A33D-F0C674B1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E296-81E5-4922-AA0A-604248D8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936-1C24-4E29-A9E2-6F1F068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1177-10AD-4795-BA41-AC30B66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B29E-20E6-48DA-AE1D-A9C2C4E7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046A-AD0F-4DF6-89AC-47766988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70E5-9F35-40B8-8582-17142F5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CFE7-D62B-4614-BB2A-BCE257A8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7065-676E-4F51-ADDD-72BC878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AE4C5-7C8E-48A2-965F-B20994F3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BC6C-004A-47DF-B152-33F0385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E52A-EF6A-4C5E-844B-322D323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3AB9-ABF5-4B6B-B08B-F614659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723-B2E8-44F0-A779-67CFAB8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66C9-47C1-4BDB-90C2-7D47375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BEB2-6DDD-4095-BCBA-39A8AC4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BEEF-6BFF-407D-9195-07211A53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2619-7139-409B-A1E9-43276C7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27D7-3AE1-42A2-A4BD-F1CD6E5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524A-63E0-4826-8C6B-41A08B2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B7675-5CAB-4AF0-83EB-3B236EDF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3EFA-C921-4712-9175-77D2D646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C2EE-C1BD-47AF-B26F-61190C0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9CB5-542B-4E58-B8DC-9A3FC3C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40F-FC29-458C-A2BA-F98C751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053C-243A-4988-AF2A-7B4AFA5B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D5EC-03D8-4F7E-9070-EF79FB63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477E-7F8A-463A-8CA5-F6E0AF84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060-D4E1-4A27-8F94-8D8FFC5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A65-798A-4160-8420-52FB436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4B5-0F8D-435B-92DF-2A55AF482BC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F7A-D735-4C1C-BCA4-390F7347343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0E3B-F4DB-45B6-80E3-A4014746F09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1F2-42F0-42A3-9064-FCA6AB4CBB6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B888-1140-4C13-A98A-0CD51639FDC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5629-0504-4F74-8637-BBFE24DB7B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371520" y="768240"/>
            <a:ext cx="8431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Акт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Arial"/>
              </a:rPr>
              <a:t>Активный методический подход,</a:t>
            </a: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 как видно из схемы 2 – это такая форма взаимодействия воспитателя и ребенка, при которой воспитатель и дети взаимодействуют друг с другом в ходе занятия и дети теперь не пассивные слушатели, а активные участники занятия. Активный и интерактивный методические подходы имеют много общего. В общем, интерактивный ме-тод можно рассматривать как наиболее современную форму активных методов. Просто в отличие от активных методов интерактивные ориентированы на более широкое взаимодействие детей не только с воспитателем, но и друг с друго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№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V="1">
            <a:off x="2643120" y="2356920"/>
            <a:ext cx="157248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3" name="Прямая со стрелкой 8"/>
          <p:cNvCxnSpPr/>
          <p:nvPr/>
        </p:nvCxnSpPr>
        <p:spPr>
          <a:xfrm flipH="1">
            <a:off x="2714040" y="2500200"/>
            <a:ext cx="157212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4" name="Прямая со стрелкой 10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5" name="Прямая со стрелкой 14"/>
          <p:cNvCxnSpPr/>
          <p:nvPr/>
        </p:nvCxnSpPr>
        <p:spPr>
          <a:xfrm flipH="1" flipV="1">
            <a:off x="2999880" y="364248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6" name="Прямая со стрелкой 16"/>
          <p:cNvCxnSpPr/>
          <p:nvPr/>
        </p:nvCxnSpPr>
        <p:spPr>
          <a:xfrm>
            <a:off x="2785680" y="3785760"/>
            <a:ext cx="142956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7" name="Прямая со стрелкой 18"/>
          <p:cNvCxnSpPr/>
          <p:nvPr/>
        </p:nvCxnSpPr>
        <p:spPr>
          <a:xfrm flipH="1" flipV="1">
            <a:off x="2642400" y="3857400"/>
            <a:ext cx="1500840" cy="7862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8" name="Прямая со стрелкой 20"/>
          <p:cNvCxnSpPr/>
          <p:nvPr/>
        </p:nvCxnSpPr>
        <p:spPr>
          <a:xfrm flipH="1">
            <a:off x="4785480" y="2714400"/>
            <a:ext cx="252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9" name="Прямая со стрелкой 22"/>
          <p:cNvCxnSpPr/>
          <p:nvPr/>
        </p:nvCxnSpPr>
        <p:spPr>
          <a:xfrm flipV="1">
            <a:off x="5072040" y="2714040"/>
            <a:ext cx="216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0" name="Прямая со стрелкой 24"/>
          <p:cNvCxnSpPr/>
          <p:nvPr/>
        </p:nvCxnSpPr>
        <p:spPr>
          <a:xfrm flipV="1">
            <a:off x="4785120" y="3787920"/>
            <a:ext cx="2520" cy="643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1" name="Прямая со стрелкой 26"/>
          <p:cNvCxnSpPr/>
          <p:nvPr/>
        </p:nvCxnSpPr>
        <p:spPr>
          <a:xfrm flipH="1">
            <a:off x="5071680" y="3859200"/>
            <a:ext cx="2160" cy="5724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Интерактивный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Arial"/>
              </a:rPr>
              <a:t>Интерактивный методический подх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Интерактивный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(«Inter» - это взаимный, «act» - действовать) – означает взаимодействовать или находится в режиме беседы, диалога с кем-либо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Другими словами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интерактивные методики обучения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- это специальная форма организации познавательной и коммуникативной деятельности, в которой обучающиеся оказываются в процесс познания, имеют возможность понимать и рефлектировать по поводу того, что они знают и думают. Место воспитателя в интерактивных занятиях зачастую сводится к направлению деятельности детей на достижение целей занятия. Он же разрабатывает план занятия (как правило, это совокупность интерактивных упражнений и заданий, в ходе работы над которыми ребенок изучает материал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Таким образом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основными составляющими интерактивных занятий являются интерактивные упражнения и задания, которые выполняются воспитанниками</a:t>
            </a:r>
            <a:r>
              <a:rPr b="1" i="1" lang="ru-RU" sz="17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КЛАССИФИКАЦИЯ ИНТЕРАКТИВНЫХ МЕТОДОВ ОБУЧЕН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руктура интерактивного педагогического взаимодействия является и основанием классификации активных педагогических методов. В соответствии с ведущей функцией того или иного метода в организации педагогического взаимодействия методы могут быть классифицированы по следующим групп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оздания благоприятной атмосферы, организации коммуник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обмена деятельност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мысле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мыслотвор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рефлексив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тегративные методы (интерактивные игр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356760"/>
            <a:ext cx="8258040" cy="576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оздания благоприятной атмосферы, организации коммуникации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них следует назвать такие методы, как «Подари цветок», «Комплимент», «Имя и жест», «Аллитерация имени», «Прогноз погоды», «Если бы я был явлением природы…», «Поменяемся местами», «Заверши фразу», «Кто откуда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обмена деятельностям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обмена деятельностями выделяют «Метаплан», «Мастерская будущего», «Перекрестные группы», «Мозаика», «1х2х4», «Аквариум», «Интервью», «Круглый стол», «Мозговой штур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мыследеятельности.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 методам этой группы можно отнести «Четыре угла», «Выбери из пяти», «Выбор», «Логическая цепочка», «Интервью», «Дюжина вопросов», «Чье это?», «Цветные фигуры», «Смена собеседника», «Самооценка»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285480"/>
            <a:ext cx="825804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мыслотворчеств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смыслотворчества можно назвать «Алфавит», «Ассоциации», «Сочиняем сказку», «Заверши фразу», «Минута говорения», «Интеллектуальные качели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рефлексивной деятельност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этой группы такие, как «Рефлексивный круг», «Зарядка», «Рефлексивная мишень», «Рефлексивный ринг», «Ключевое слово», «Поменяемся местами», «Острова», «Заверши фразу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6840" y="285480"/>
            <a:ext cx="847260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нтегративные методы (интерактивные игры)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педагогическом  процессе могут быть использованы такие интерактивные игры, как «Давай, делай!» «Гостиница», «Икебана», «Школа», «Взаимодействие», «Полёт на воздушном шаре», «Социальная роль («Пожарник»)», «Аквариу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ормирование навыков речевого взаимодействия со сверстниками в старшем дошкольном возрасте имеет очень большое значение. Потому что именно коммуникативно-речевое развитие обусловливает способность старших дошкольников, развязывая определенные задания во время познавательной, изобразительной, трудовой деятельности, планировать свои действия, соглашать их с партнерами и договариваться с ними про совместные действия для достижения желаемого результата. Речевое развитие ребенка дошкольного возраста определяется мерой сформированных у ребенка знаний, умений и навыков, познавательных и социальных мотивов, потребностей и интересов, которые определяют базис его личностной культуры. Высокий уровень речевых достижений дает ребенку возможность реализовывать как социальную, так и интеллектуальную активность в кругу сверстников. Направленность на коммуникацию, потребность и стремление понимать других и быть понятым им вынуждают дошкольника строить и перестраивать речевые высказывания в таких полных формах, которые обеспечивают взаимопо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285480"/>
            <a:ext cx="840096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Характерными особенностями этих методов являетс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птимальная активизация дет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вместная деятельность воспитателя и детей в режиме равноправного общ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здание условий для переживания успеха каждым участником педагогического взаимодейств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бязательная рефлексия процесса обучения и воспитания- осмысление избранных заданий, форм работы, способов деятельности, причин неудач или достижения целей и т.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Речевые умения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196640"/>
            <a:ext cx="840096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чевые действия, которые реализуются на основе знаний и способов деятельности во время выбора и объединения речевых операций в зависимости от цели, ситуации общения и собеседника, с которым происходит коммуникация. Овладеть такими умениями означает научиться правильно выбирать стиль речи, употреблять самые эффективные для поставленной задачи и соответствующих условий речевые средства общения (вербальные и невербальны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Речевые</a:t>
            </a:r>
            <a:r>
              <a:rPr b="0" lang="ru-RU" sz="4800" spc="-1" strike="noStrike">
                <a:solidFill>
                  <a:srgbClr val="008000"/>
                </a:solidFill>
                <a:latin typeface="Franklin Gothic 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навыки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99840"/>
            <a:ext cx="7467480" cy="5141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втоматизованные соответственно к определенной речевой норме операции, которые выполняются несознательно и служат для выражения мыслей, намерений, переживаний. Сформировать навык означает обеспечить правильное строение и реализацию высказывания. Эти операции несознательные, поэтому возникает потребность в создании условий для их формирования и реал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Речевое взаимодейств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то объединение, координация и взаимообогащение усилий участников общения для определения, приближения и достижения коммуникативной цели речевыми средствами. Речевое взаимодействие является важным условием эффективной организации учебной деятельности дошкольников в процессе занят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бы речевое взаимодействие детей было эффективным, педагог должен создать условия для развития коммуникативных навыков воспитанников. Одним из таких условий является интерактивное обучение дошкольников- активное использование в образовательном процессе интерактивных методов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етодические подходы к обучению можно подразделить на три группы: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1. Пасс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2. Акт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3. Интерактивные мето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488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оспитатель   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 flipV="1">
            <a:off x="2928960" y="2571120"/>
            <a:ext cx="157248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6" name="Прямая со стрелкой 6"/>
          <p:cNvCxnSpPr/>
          <p:nvPr/>
        </p:nvCxnSpPr>
        <p:spPr>
          <a:xfrm>
            <a:off x="2928960" y="3571920"/>
            <a:ext cx="16437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7" name="Прямая со стрелкой 8"/>
          <p:cNvCxnSpPr/>
          <p:nvPr/>
        </p:nvCxnSpPr>
        <p:spPr>
          <a:xfrm>
            <a:off x="3000240" y="3785760"/>
            <a:ext cx="16437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Пасс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ссивный методический подход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как видно из схемы 1 – это такая форма взаимодействия воспитателя и ребенка, при которой воспитатель является основной действующей фигурой, а дети выступают в роли пассивных слушателей. Пассивный метод считается самым неэффективным с точки зрения усвоения воспитанниками  учебного материа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259920"/>
            <a:ext cx="7715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Прямая со стрелкой 8"/>
          <p:cNvCxnSpPr/>
          <p:nvPr/>
        </p:nvCxnSpPr>
        <p:spPr>
          <a:xfrm flipV="1">
            <a:off x="2928600" y="24282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3" name="Прямая со стрелкой 10"/>
          <p:cNvCxnSpPr/>
          <p:nvPr/>
        </p:nvCxnSpPr>
        <p:spPr>
          <a:xfrm flipH="1">
            <a:off x="2999880" y="2499120"/>
            <a:ext cx="12153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4" name="Прямая со стрелкой 12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5" name="Прямая со стрелкой 14"/>
          <p:cNvCxnSpPr/>
          <p:nvPr/>
        </p:nvCxnSpPr>
        <p:spPr>
          <a:xfrm flipH="1" flipV="1">
            <a:off x="2999880" y="3571560"/>
            <a:ext cx="12153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6" name="Прямая со стрелкой 16"/>
          <p:cNvCxnSpPr/>
          <p:nvPr/>
        </p:nvCxnSpPr>
        <p:spPr>
          <a:xfrm>
            <a:off x="2999880" y="3785760"/>
            <a:ext cx="114372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7" name="Прямая со стрелкой 20"/>
          <p:cNvCxnSpPr/>
          <p:nvPr/>
        </p:nvCxnSpPr>
        <p:spPr>
          <a:xfrm flipH="1" flipV="1">
            <a:off x="2856960" y="37854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9:35:56Z</dcterms:created>
  <dc:creator>Валентин</dc:creator>
  <dc:description/>
  <dc:language>en-US</dc:language>
  <cp:lastModifiedBy>МОЙ</cp:lastModifiedBy>
  <dcterms:modified xsi:type="dcterms:W3CDTF">2024-01-05T14:17:24Z</dcterms:modified>
  <cp:revision>33</cp:revision>
  <dc:subject/>
  <dc:title>Интерактивные методы обучения как средство формирования навыков речевого взаимодействия старших дошкольников</dc:title>
</cp:coreProperties>
</file>