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1950-ACBC-4EB7-9A12-5D42116ED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42A6-3F1B-45D5-BA97-6D0CD5A96462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12BB-A1C7-46EE-AF7A-62243B68EB0C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82E1-265B-44E2-BD7F-501B311DFCB9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EA92-ADE7-4717-B443-BDCCCA78CFCD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FA87-0CF2-4E49-86D4-68BDDB312BF2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1819-34FA-4D26-B866-82918F609C23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986E-D142-4041-8FBB-B56A7D60DB10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A9BF-9D09-493D-990A-7090997C7029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C2C6-0DB1-48A2-91E4-19B2C75998C6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707-64E4-4BAD-855D-18D2D1BA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6EB-A643-455B-9D0E-5E56C1C7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90D-F10B-4017-BC92-D3A7D1E3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080-F9FA-49A7-8E74-5B800D46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972B-373A-4B7C-8719-35CBFBAA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FD8D-637D-475A-8B35-49DBCB48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439C-2177-4749-83C6-175D3267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8962-59CC-4802-93B5-473E5D09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6ADC-A326-4118-A618-DA5E2B16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E2FF-2B1A-4461-B84C-7BB69522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87A1-8B04-414F-A0E8-5BE47A38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776-54C8-44BD-911B-0C781699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42D0-6142-4380-B0C3-1D779BD0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4892-847E-4850-AA94-6A82E34F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2838-EB8A-4B6E-BE03-16F16D31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0C94-2729-475B-A481-CB403085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D104-C7A0-4023-829C-FD8BF95A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A87-3819-4928-AC64-78F1F5D3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6DA-4C9F-46C4-A97F-4599DF09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D19-9515-4A94-A487-D5BE1AB0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2773-2D99-46E2-A5FB-27D74D77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51C-B262-40ED-91CD-C04AB30E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D5A-BA19-4F8B-BEE4-2E117A59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882-35C1-4D19-BB56-69637DB3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38DB-CFF8-42C5-8EA2-152463942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1" descr="justpad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3" name="Picture 21" descr="padandpen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BD8A-08AF-4201-BC5F-CE1D04C72889}" type="slidenum">
              <a:rPr b="0" lang="en-US" sz="14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"/>
          <p:cNvPicPr/>
          <p:nvPr/>
        </p:nvPicPr>
        <p:blipFill>
          <a:blip r:embed="rId1"/>
          <a:srcRect l="6908" t="0" r="0" b="8092"/>
          <a:stretch/>
        </p:blipFill>
        <p:spPr>
          <a:xfrm>
            <a:off x="920880" y="993600"/>
            <a:ext cx="6737400" cy="4988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8"/>
          <p:cNvSpPr/>
          <p:nvPr/>
        </p:nvSpPr>
        <p:spPr>
          <a:xfrm rot="2448000">
            <a:off x="1015920" y="547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 rot="7848000">
            <a:off x="7137000" y="54756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 flipV="1" rot="19152000">
            <a:off x="938160" y="521244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 flipV="1" rot="13752000">
            <a:off x="7279560" y="52840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57" name="Рисунок 8" descr=""/>
          <p:cNvPicPr/>
          <p:nvPr/>
        </p:nvPicPr>
        <p:blipFill>
          <a:blip r:embed="rId2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  <p:sp>
        <p:nvSpPr>
          <p:cNvPr id="158" name="Заголовок 1"/>
          <p:cNvSpPr/>
          <p:nvPr/>
        </p:nvSpPr>
        <p:spPr>
          <a:xfrm>
            <a:off x="1646280" y="243000"/>
            <a:ext cx="61578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43a"/>
                </a:solidFill>
                <a:latin typeface="Arial"/>
              </a:rPr>
              <a:t>Застава имени Ф.П.Кириченко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2"/>
          <p:cNvSpPr/>
          <p:nvPr/>
        </p:nvSpPr>
        <p:spPr>
          <a:xfrm>
            <a:off x="1447920" y="1662120"/>
            <a:ext cx="6400800" cy="383076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2" name="Rectangle 28"/>
          <p:cNvSpPr/>
          <p:nvPr/>
        </p:nvSpPr>
        <p:spPr>
          <a:xfrm rot="2448000">
            <a:off x="1257480" y="112212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3" name="Rectangle 29"/>
          <p:cNvSpPr/>
          <p:nvPr/>
        </p:nvSpPr>
        <p:spPr>
          <a:xfrm rot="7848000">
            <a:off x="7614720" y="114768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4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5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6" name="Прямоугольник 2"/>
          <p:cNvSpPr/>
          <p:nvPr/>
        </p:nvSpPr>
        <p:spPr>
          <a:xfrm>
            <a:off x="1500120" y="1920960"/>
            <a:ext cx="63486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Arial"/>
              </a:rPr>
              <a:t>1. Узнать способы создания формул в электронной таблице;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Arial"/>
              </a:rPr>
              <a:t>2. Отработать приемы ввода текста, числовых данных, формул в таблицу.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2"/>
          <p:cNvSpPr/>
          <p:nvPr/>
        </p:nvSpPr>
        <p:spPr>
          <a:xfrm>
            <a:off x="1447920" y="506520"/>
            <a:ext cx="62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c4c4c"/>
                </a:solidFill>
                <a:latin typeface="Arial"/>
              </a:rPr>
              <a:t>Цель урока:</a:t>
            </a:r>
            <a:endParaRPr b="0" lang="en-US" sz="5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5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Text Box 58"/>
          <p:cNvSpPr/>
          <p:nvPr/>
        </p:nvSpPr>
        <p:spPr>
          <a:xfrm>
            <a:off x="898560" y="301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Text Box 60"/>
          <p:cNvSpPr/>
          <p:nvPr/>
        </p:nvSpPr>
        <p:spPr>
          <a:xfrm>
            <a:off x="1192320" y="1844640"/>
            <a:ext cx="698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43a"/>
                </a:solidFill>
                <a:latin typeface="Arial Black"/>
              </a:rPr>
              <a:t>Создание электронной таблицы</a:t>
            </a:r>
            <a:endParaRPr b="0" lang="en-US" sz="7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080000" y="563400"/>
            <a:ext cx="377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66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98" name="Рисунок 6" descr=""/>
          <p:cNvPicPr/>
          <p:nvPr/>
        </p:nvPicPr>
        <p:blipFill>
          <a:blip r:embed="rId1"/>
          <a:stretch/>
        </p:blipFill>
        <p:spPr>
          <a:xfrm>
            <a:off x="7451640" y="5067360"/>
            <a:ext cx="135108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1501920" y="2093760"/>
            <a:ext cx="6172200" cy="35420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8"/>
          <p:cNvSpPr/>
          <p:nvPr/>
        </p:nvSpPr>
        <p:spPr>
          <a:xfrm rot="2448000">
            <a:off x="1217520" y="1717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 rot="7848000">
            <a:off x="7619400" y="162864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1407960" y="487440"/>
            <a:ext cx="6224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4c4c"/>
                </a:solidFill>
                <a:latin typeface="Arial"/>
              </a:rPr>
              <a:t>Из каких структурных элементов состоит таблица? Как они обозначаются?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1501920" y="2093760"/>
            <a:ext cx="6172200" cy="35420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8"/>
          <p:cNvSpPr/>
          <p:nvPr/>
        </p:nvSpPr>
        <p:spPr>
          <a:xfrm rot="2448000">
            <a:off x="1217520" y="1717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 rot="7848000">
            <a:off x="7619400" y="162864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1407960" y="487440"/>
            <a:ext cx="6224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Arial"/>
              </a:rPr>
              <a:t>Что такое 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4c4c"/>
                </a:solidFill>
                <a:latin typeface="Arial"/>
              </a:rPr>
              <a:t>активная ячейка</a:t>
            </a:r>
            <a:r>
              <a:rPr b="0" lang="ru-RU" sz="4400" spc="-1" strike="noStrike">
                <a:solidFill>
                  <a:srgbClr val="4c4c4c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2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409760" y="2719440"/>
            <a:ext cx="6561000" cy="2833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8"/>
          <p:cNvSpPr/>
          <p:nvPr/>
        </p:nvSpPr>
        <p:spPr>
          <a:xfrm rot="2448000">
            <a:off x="1209600" y="224640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5" name="Rectangle 29"/>
          <p:cNvSpPr/>
          <p:nvPr/>
        </p:nvSpPr>
        <p:spPr>
          <a:xfrm rot="7848000">
            <a:off x="7727400" y="224604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6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7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1447920" y="506520"/>
            <a:ext cx="622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c4c4c"/>
                </a:solidFill>
                <a:latin typeface="Arial"/>
              </a:rPr>
              <a:t>Как формируется </a:t>
            </a:r>
            <a:r>
              <a:rPr b="1" lang="ru-RU" sz="5400" spc="-1" strike="noStrike">
                <a:solidFill>
                  <a:srgbClr val="4c4c4c"/>
                </a:solidFill>
                <a:latin typeface="Arial"/>
              </a:rPr>
              <a:t>адрес ячейки</a:t>
            </a:r>
            <a:r>
              <a:rPr b="0" lang="ru-RU" sz="5400" spc="-1" strike="noStrike">
                <a:solidFill>
                  <a:srgbClr val="4c4c4c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9" name="Рисунок 1" descr=""/>
          <p:cNvPicPr/>
          <p:nvPr/>
        </p:nvPicPr>
        <p:blipFill>
          <a:blip r:embed="rId2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2"/>
          <p:cNvSpPr/>
          <p:nvPr/>
        </p:nvSpPr>
        <p:spPr>
          <a:xfrm>
            <a:off x="1473120" y="1295280"/>
            <a:ext cx="6400800" cy="419760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1" name="Rectangle 28"/>
          <p:cNvSpPr/>
          <p:nvPr/>
        </p:nvSpPr>
        <p:spPr>
          <a:xfrm rot="2448000">
            <a:off x="1257480" y="72360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2" name="Rectangle 29"/>
          <p:cNvSpPr/>
          <p:nvPr/>
        </p:nvSpPr>
        <p:spPr>
          <a:xfrm rot="7848000">
            <a:off x="7657200" y="736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4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1522440" y="149544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Arial"/>
              </a:rPr>
              <a:t>Типы данных в таблице</a:t>
            </a:r>
            <a:endParaRPr b="0" lang="en-US" sz="4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6" name="Рисунок 8" descr=""/>
          <p:cNvPicPr/>
          <p:nvPr/>
        </p:nvPicPr>
        <p:blipFill>
          <a:blip r:embed="rId1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3"/>
          <p:cNvSpPr/>
          <p:nvPr/>
        </p:nvSpPr>
        <p:spPr>
          <a:xfrm>
            <a:off x="1252440" y="3097080"/>
            <a:ext cx="22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8" name="Text Box 33"/>
          <p:cNvSpPr/>
          <p:nvPr/>
        </p:nvSpPr>
        <p:spPr>
          <a:xfrm>
            <a:off x="3095640" y="4381560"/>
            <a:ext cx="22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Arial"/>
              </a:rPr>
              <a:t>Число</a:t>
            </a:r>
            <a:endParaRPr b="0" lang="en-US" sz="4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5403960" y="352728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Arial"/>
              </a:rPr>
              <a:t>Формула</a:t>
            </a:r>
            <a:endParaRPr b="0" lang="en-US" sz="4000" spc="-1" strike="noStrike">
              <a:solidFill>
                <a:srgbClr val="4c4c4c"/>
              </a:solidFill>
              <a:latin typeface="Arial"/>
            </a:endParaRPr>
          </a:p>
        </p:txBody>
      </p:sp>
      <p:cxnSp>
        <p:nvCxnSpPr>
          <p:cNvPr id="130" name="Прямая со стрелкой 2"/>
          <p:cNvCxnSpPr/>
          <p:nvPr/>
        </p:nvCxnSpPr>
        <p:spPr>
          <a:xfrm flipH="1">
            <a:off x="2711160" y="2239920"/>
            <a:ext cx="1643760" cy="102960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  <p:cxnSp>
        <p:nvCxnSpPr>
          <p:cNvPr id="131" name="Прямая со стрелкой 6"/>
          <p:cNvCxnSpPr>
            <a:endCxn id="128" idx="0"/>
          </p:cNvCxnSpPr>
          <p:nvPr/>
        </p:nvCxnSpPr>
        <p:spPr>
          <a:xfrm flipH="1">
            <a:off x="4226040" y="2203560"/>
            <a:ext cx="255960" cy="217872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  <p:cxnSp>
        <p:nvCxnSpPr>
          <p:cNvPr id="132" name="Прямая со стрелкой 12"/>
          <p:cNvCxnSpPr/>
          <p:nvPr/>
        </p:nvCxnSpPr>
        <p:spPr>
          <a:xfrm>
            <a:off x="4695840" y="2239920"/>
            <a:ext cx="1869120" cy="128808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2"/>
          <p:cNvSpPr/>
          <p:nvPr/>
        </p:nvSpPr>
        <p:spPr>
          <a:xfrm>
            <a:off x="1447920" y="1662120"/>
            <a:ext cx="6400800" cy="383076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 rot="2448000">
            <a:off x="1257480" y="112212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 rot="7848000">
            <a:off x="7614720" y="114768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6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7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1500120" y="1920960"/>
            <a:ext cx="63486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Arial"/>
              </a:rPr>
              <a:t>1. Узнать способы создания формул в электронной таблице;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Arial"/>
              </a:rPr>
              <a:t>2. Отработать приемы ввода текста, числовых данных, формул в таблицу.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1447920" y="506520"/>
            <a:ext cx="62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c4c4c"/>
                </a:solidFill>
                <a:latin typeface="Arial"/>
              </a:rPr>
              <a:t>Цель урока:</a:t>
            </a:r>
            <a:endParaRPr b="0" lang="en-US" sz="5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11800" y="921960"/>
            <a:ext cx="4176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43a"/>
                </a:solidFill>
                <a:latin typeface="Arial"/>
              </a:rPr>
              <a:t>Туристическое агентство Гимназии № 31 г. Минска имени К.Т.Мазурова </a:t>
            </a:r>
            <a:br>
              <a:rPr sz="2000"/>
            </a:br>
            <a:r>
              <a:rPr b="1" lang="ru-RU" sz="2000" spc="-1" strike="noStrike">
                <a:solidFill>
                  <a:srgbClr val="00743a"/>
                </a:solidFill>
                <a:latin typeface="Arial"/>
              </a:rPr>
              <a:t>«Академия путешествий»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142" name="Рисунок 5" descr=""/>
          <p:cNvPicPr/>
          <p:nvPr/>
        </p:nvPicPr>
        <p:blipFill>
          <a:blip r:embed="rId1"/>
          <a:stretch/>
        </p:blipFill>
        <p:spPr>
          <a:xfrm>
            <a:off x="5184720" y="2708280"/>
            <a:ext cx="2909880" cy="290988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590400" y="922320"/>
            <a:ext cx="4176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43a"/>
                </a:solidFill>
                <a:latin typeface="Arial"/>
              </a:rPr>
              <a:t>Туристическое агентство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a"/>
                </a:solidFill>
                <a:latin typeface="Arial"/>
              </a:rPr>
              <a:t>ZefirTravel 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44" name="Picture 5" descr="https://zefirtravel.by/local/templates/travelsoft/img/logo.png"/>
          <p:cNvPicPr/>
          <p:nvPr/>
        </p:nvPicPr>
        <p:blipFill>
          <a:blip r:embed="rId2"/>
          <a:stretch/>
        </p:blipFill>
        <p:spPr>
          <a:xfrm>
            <a:off x="934920" y="3465360"/>
            <a:ext cx="374652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"/>
          <p:cNvPicPr/>
          <p:nvPr/>
        </p:nvPicPr>
        <p:blipFill>
          <a:blip r:embed="rId1"/>
          <a:srcRect l="7519" t="0" r="15614" b="10025"/>
          <a:stretch/>
        </p:blipFill>
        <p:spPr>
          <a:xfrm>
            <a:off x="1038240" y="808200"/>
            <a:ext cx="6497640" cy="52894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8"/>
          <p:cNvSpPr/>
          <p:nvPr/>
        </p:nvSpPr>
        <p:spPr>
          <a:xfrm rot="2448000">
            <a:off x="1015920" y="547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 rot="7848000">
            <a:off x="7137000" y="54756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8" name="Rectangle 30"/>
          <p:cNvSpPr/>
          <p:nvPr/>
        </p:nvSpPr>
        <p:spPr>
          <a:xfrm flipV="1" rot="19152000">
            <a:off x="938160" y="521244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9" name="Rectangle 31"/>
          <p:cNvSpPr/>
          <p:nvPr/>
        </p:nvSpPr>
        <p:spPr>
          <a:xfrm flipV="1" rot="13752000">
            <a:off x="7279560" y="52840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50" name="Рисунок 8" descr=""/>
          <p:cNvPicPr/>
          <p:nvPr/>
        </p:nvPicPr>
        <p:blipFill>
          <a:blip r:embed="rId2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  <p:sp>
        <p:nvSpPr>
          <p:cNvPr id="151" name="Заголовок 1"/>
          <p:cNvSpPr/>
          <p:nvPr/>
        </p:nvSpPr>
        <p:spPr>
          <a:xfrm>
            <a:off x="4530600" y="758880"/>
            <a:ext cx="19432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43a"/>
                </a:solidFill>
                <a:latin typeface="Arial"/>
              </a:rPr>
              <a:t>г. Гродно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User</cp:lastModifiedBy>
  <dcterms:modified xsi:type="dcterms:W3CDTF">2023-12-14T05:08:49Z</dcterms:modified>
  <cp:revision>96</cp:revision>
  <dc:subject/>
  <dc:title>Note pad and pen business PowerPoint template</dc:title>
</cp:coreProperties>
</file>