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0554-6DDC-4886-A102-FD4448F85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8287-31BA-4A33-B519-6290D2FB8107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862D-BB00-4E7E-B4D7-C5D664A114D4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9B6A-BB7A-46EA-9E31-38A41C8F941A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02CF-959F-47F0-93CF-D09A100BDD56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99C3-C6B8-4E1F-8FDF-D5DE8FA54A4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6044-659B-4924-9231-6054C9E40E2D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6DC4-C888-4D30-BB14-7DCC4C471143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7DF3-AEE0-4787-9068-9706CED6DCAD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D663-C356-4403-B5A4-106E7BA7CAB2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292-7E4A-4752-BB95-25BF6524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BE8-179F-4D08-8BD5-B43FEB35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365-86DB-483A-AA89-3285EA9B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1D33-8C2C-4313-A6B2-C41A4639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BC37-D67B-404C-B002-405C26D68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38C1-1A03-46BA-B5F9-EECFE0CB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6ECA-EFD4-4EF2-8978-56EFB850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C9B4-1B67-4D0E-8A4C-58E7B99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EEA7-221E-47C7-A064-B15C1CC6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9C33-AFFB-4BA0-9ACD-5C747724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7BE3-FD61-439D-8EAC-361FD766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AF5E-3515-4E74-BAD2-DFCB52AF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C35E-95CF-428D-BF9A-7626941D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0F52-7329-4A7E-A034-CBCCD15D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35A7-4C93-4AEB-B334-485A437D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21C0-5192-4F60-8EDD-87C1F528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D303-96AB-4848-885B-86C48A88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5F54-3EF6-42FF-8C3A-5666B669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D605-62A9-4F1F-A89A-95F5EA6F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7EE-B5FD-4985-AF5B-FF249AA5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890C-A3DE-4F0A-A1AF-F302DA2D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C71E-47F4-42CE-97A8-72A558A8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EBD-7AEB-4EAD-82BD-BC94AF2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07A-B5B4-4383-90E9-C25DA9D4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636-3B0F-4123-A392-1FF0577E8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1" descr="justpad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43" name="Picture 21" descr="padandpen"/>
          <p:cNvPicPr/>
          <p:nvPr/>
        </p:nvPicPr>
        <p:blipFill>
          <a:blip r:embed="rId2"/>
          <a:srcRect l="1334" t="256" r="1352" b="2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E939-F5B2-4FBA-9682-B90244415539}" type="slidenum">
              <a:rPr b="0" lang="en-US" sz="14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"/>
          <p:cNvPicPr/>
          <p:nvPr/>
        </p:nvPicPr>
        <p:blipFill>
          <a:blip r:embed="rId1"/>
          <a:srcRect l="6908" t="0" r="0" b="8092"/>
          <a:stretch/>
        </p:blipFill>
        <p:spPr>
          <a:xfrm>
            <a:off x="920880" y="993600"/>
            <a:ext cx="6737400" cy="49881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28"/>
          <p:cNvSpPr/>
          <p:nvPr/>
        </p:nvSpPr>
        <p:spPr>
          <a:xfrm rot="2448000">
            <a:off x="1015920" y="54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4" name="Rectangle 29"/>
          <p:cNvSpPr/>
          <p:nvPr/>
        </p:nvSpPr>
        <p:spPr>
          <a:xfrm rot="7848000">
            <a:off x="7137000" y="54756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 flipV="1" rot="19152000">
            <a:off x="938160" y="521244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 flipV="1" rot="13752000">
            <a:off x="7279560" y="52840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57" name="Рисунок 8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58" name="Заголовок 1"/>
          <p:cNvSpPr/>
          <p:nvPr/>
        </p:nvSpPr>
        <p:spPr>
          <a:xfrm>
            <a:off x="1646280" y="243000"/>
            <a:ext cx="61578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43a"/>
                </a:solidFill>
                <a:latin typeface="Arial"/>
              </a:rPr>
              <a:t>Застава имени Ф.П.Кириченко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2"/>
          <p:cNvSpPr/>
          <p:nvPr/>
        </p:nvSpPr>
        <p:spPr>
          <a:xfrm>
            <a:off x="1447920" y="1662120"/>
            <a:ext cx="6400800" cy="383076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2" name="Rectangle 28"/>
          <p:cNvSpPr/>
          <p:nvPr/>
        </p:nvSpPr>
        <p:spPr>
          <a:xfrm rot="2448000">
            <a:off x="1257480" y="112212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3" name="Rectangle 29"/>
          <p:cNvSpPr/>
          <p:nvPr/>
        </p:nvSpPr>
        <p:spPr>
          <a:xfrm rot="7848000">
            <a:off x="7614720" y="114768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6" name="Прямоугольник 2"/>
          <p:cNvSpPr/>
          <p:nvPr/>
        </p:nvSpPr>
        <p:spPr>
          <a:xfrm>
            <a:off x="1500120" y="1920960"/>
            <a:ext cx="6348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1. Узнать способы создания формул в электронной таблице;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2. Отработать приемы ввода текста, числовых данных, формул в таблицу.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2"/>
          <p:cNvSpPr/>
          <p:nvPr/>
        </p:nvSpPr>
        <p:spPr>
          <a:xfrm>
            <a:off x="1447920" y="506520"/>
            <a:ext cx="62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Цель урока: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Text Box 60"/>
          <p:cNvSpPr/>
          <p:nvPr/>
        </p:nvSpPr>
        <p:spPr>
          <a:xfrm>
            <a:off x="1192320" y="184464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743a"/>
                </a:solidFill>
                <a:latin typeface="Arial Black"/>
              </a:rPr>
              <a:t>Создание электронной таблицы</a:t>
            </a:r>
            <a:endParaRPr b="0" lang="en-US" sz="7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1080000" y="563400"/>
            <a:ext cx="377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66"/>
                </a:solidFill>
                <a:latin typeface="Arial"/>
              </a:rPr>
              <a:t>Тема урока:</a:t>
            </a:r>
            <a:endParaRPr b="0" lang="en-US" sz="4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8" name="Рисунок 6" descr=""/>
          <p:cNvPicPr/>
          <p:nvPr/>
        </p:nvPicPr>
        <p:blipFill>
          <a:blip r:embed="rId1"/>
          <a:stretch/>
        </p:blipFill>
        <p:spPr>
          <a:xfrm>
            <a:off x="7451640" y="5067360"/>
            <a:ext cx="135108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1501920" y="2093760"/>
            <a:ext cx="6172200" cy="35420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8"/>
          <p:cNvSpPr/>
          <p:nvPr/>
        </p:nvSpPr>
        <p:spPr>
          <a:xfrm rot="2448000">
            <a:off x="1217520" y="171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1" name="Rectangle 29"/>
          <p:cNvSpPr/>
          <p:nvPr/>
        </p:nvSpPr>
        <p:spPr>
          <a:xfrm rot="7848000">
            <a:off x="7619400" y="16286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2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3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4" name="Прямоугольник 2"/>
          <p:cNvSpPr/>
          <p:nvPr/>
        </p:nvSpPr>
        <p:spPr>
          <a:xfrm>
            <a:off x="1407960" y="487440"/>
            <a:ext cx="622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c4c"/>
                </a:solidFill>
                <a:latin typeface="Arial"/>
              </a:rPr>
              <a:t>Из каких структурных элементов состоит таблица? Как они обозначаются?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1501920" y="2093760"/>
            <a:ext cx="6172200" cy="3542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8"/>
          <p:cNvSpPr/>
          <p:nvPr/>
        </p:nvSpPr>
        <p:spPr>
          <a:xfrm rot="2448000">
            <a:off x="1217520" y="171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 rot="7848000">
            <a:off x="7619400" y="16286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1407960" y="487440"/>
            <a:ext cx="6224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Arial"/>
              </a:rPr>
              <a:t>Что такое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4c4c"/>
                </a:solidFill>
                <a:latin typeface="Arial"/>
              </a:rPr>
              <a:t>активная ячейка</a:t>
            </a:r>
            <a:r>
              <a:rPr b="0" lang="ru-RU" sz="4400" spc="-1" strike="noStrike">
                <a:solidFill>
                  <a:srgbClr val="4c4c4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409760" y="2719440"/>
            <a:ext cx="6561000" cy="28335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8"/>
          <p:cNvSpPr/>
          <p:nvPr/>
        </p:nvSpPr>
        <p:spPr>
          <a:xfrm rot="2448000">
            <a:off x="1209600" y="224640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5" name="Rectangle 29"/>
          <p:cNvSpPr/>
          <p:nvPr/>
        </p:nvSpPr>
        <p:spPr>
          <a:xfrm rot="7848000">
            <a:off x="7727400" y="224604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6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7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1447920" y="506520"/>
            <a:ext cx="622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c4c4c"/>
                </a:solidFill>
                <a:latin typeface="Arial"/>
              </a:rPr>
              <a:t>Как формируется </a:t>
            </a: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адрес ячейки</a:t>
            </a:r>
            <a:r>
              <a:rPr b="0" lang="ru-RU" sz="5400" spc="-1" strike="noStrike">
                <a:solidFill>
                  <a:srgbClr val="4c4c4c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9" name="Рисунок 1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2"/>
          <p:cNvSpPr/>
          <p:nvPr/>
        </p:nvSpPr>
        <p:spPr>
          <a:xfrm>
            <a:off x="1473120" y="1295280"/>
            <a:ext cx="6400800" cy="419760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 rot="2448000">
            <a:off x="1257480" y="72360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Rectangle 29"/>
          <p:cNvSpPr/>
          <p:nvPr/>
        </p:nvSpPr>
        <p:spPr>
          <a:xfrm rot="7848000">
            <a:off x="7657200" y="736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3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1522440" y="149544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Типы данных в таблице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6" name="Рисунок 8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3"/>
          <p:cNvSpPr/>
          <p:nvPr/>
        </p:nvSpPr>
        <p:spPr>
          <a:xfrm>
            <a:off x="1252440" y="3097080"/>
            <a:ext cx="22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8" name="Text Box 33"/>
          <p:cNvSpPr/>
          <p:nvPr/>
        </p:nvSpPr>
        <p:spPr>
          <a:xfrm>
            <a:off x="3095640" y="4381560"/>
            <a:ext cx="22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Число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9" name="Text Box 33"/>
          <p:cNvSpPr/>
          <p:nvPr/>
        </p:nvSpPr>
        <p:spPr>
          <a:xfrm>
            <a:off x="5403960" y="352728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c4c4c"/>
                </a:solidFill>
                <a:latin typeface="Arial"/>
              </a:rPr>
              <a:t>Формула</a:t>
            </a:r>
            <a:endParaRPr b="0" lang="en-US" sz="4000" spc="-1" strike="noStrike">
              <a:solidFill>
                <a:srgbClr val="4c4c4c"/>
              </a:solidFill>
              <a:latin typeface="Arial"/>
            </a:endParaRPr>
          </a:p>
        </p:txBody>
      </p:sp>
      <p:cxnSp>
        <p:nvCxnSpPr>
          <p:cNvPr id="130" name="Прямая со стрелкой 2"/>
          <p:cNvCxnSpPr/>
          <p:nvPr/>
        </p:nvCxnSpPr>
        <p:spPr>
          <a:xfrm flipH="1">
            <a:off x="2711160" y="2239920"/>
            <a:ext cx="1643760" cy="102960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cxnSp>
        <p:nvCxnSpPr>
          <p:cNvPr id="131" name="Прямая со стрелкой 6"/>
          <p:cNvCxnSpPr>
            <a:endCxn id="128" idx="0"/>
          </p:cNvCxnSpPr>
          <p:nvPr/>
        </p:nvCxnSpPr>
        <p:spPr>
          <a:xfrm flipH="1">
            <a:off x="4226040" y="2203560"/>
            <a:ext cx="255960" cy="217872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cxnSp>
        <p:nvCxnSpPr>
          <p:cNvPr id="132" name="Прямая со стрелкой 12"/>
          <p:cNvCxnSpPr/>
          <p:nvPr/>
        </p:nvCxnSpPr>
        <p:spPr>
          <a:xfrm>
            <a:off x="4695840" y="2239920"/>
            <a:ext cx="1869120" cy="1288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2"/>
          <p:cNvSpPr/>
          <p:nvPr/>
        </p:nvSpPr>
        <p:spPr>
          <a:xfrm>
            <a:off x="1447920" y="1662120"/>
            <a:ext cx="6400800" cy="3830760"/>
          </a:xfrm>
          <a:prstGeom prst="rect">
            <a:avLst/>
          </a:prstGeom>
          <a:solidFill>
            <a:srgbClr val="ffffff">
              <a:alpha val="44000"/>
            </a:srgbClr>
          </a:solidFill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4" name="Rectangle 28"/>
          <p:cNvSpPr/>
          <p:nvPr/>
        </p:nvSpPr>
        <p:spPr>
          <a:xfrm rot="2448000">
            <a:off x="1257480" y="112212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5" name="Rectangle 29"/>
          <p:cNvSpPr/>
          <p:nvPr/>
        </p:nvSpPr>
        <p:spPr>
          <a:xfrm rot="7848000">
            <a:off x="7614720" y="114768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6" name="Rectangle 30"/>
          <p:cNvSpPr/>
          <p:nvPr/>
        </p:nvSpPr>
        <p:spPr>
          <a:xfrm flipV="1" rot="19152000">
            <a:off x="1219320" y="492012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7" name="Rectangle 31"/>
          <p:cNvSpPr/>
          <p:nvPr/>
        </p:nvSpPr>
        <p:spPr>
          <a:xfrm flipV="1" rot="13752000">
            <a:off x="7619040" y="49204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1500120" y="1920960"/>
            <a:ext cx="6348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1. Узнать способы создания формул в электронной таблице;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Arial"/>
              </a:rPr>
              <a:t>2. Отработать приемы ввода текста, числовых данных, формул в таблицу.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2"/>
          <p:cNvSpPr/>
          <p:nvPr/>
        </p:nvSpPr>
        <p:spPr>
          <a:xfrm>
            <a:off x="1447920" y="506520"/>
            <a:ext cx="622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c4c4c"/>
                </a:solidFill>
                <a:latin typeface="Arial"/>
              </a:rPr>
              <a:t>Цель урока:</a:t>
            </a:r>
            <a:endParaRPr b="0" lang="en-US" sz="5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411800" y="921960"/>
            <a:ext cx="4176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Туристическое агентство Гимназии № 31 г. Минска имени К.Т.Мазурова </a:t>
            </a:r>
            <a:br>
              <a:rPr sz="2000"/>
            </a:b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«Академия путешествий»</a:t>
            </a:r>
            <a:endParaRPr b="0" lang="en-US" sz="2000" spc="-1" strike="noStrike">
              <a:solidFill>
                <a:srgbClr val="66ccff"/>
              </a:solidFill>
              <a:latin typeface="Arial"/>
            </a:endParaRPr>
          </a:p>
        </p:txBody>
      </p:sp>
      <p:pic>
        <p:nvPicPr>
          <p:cNvPr id="142" name="Рисунок 5" descr=""/>
          <p:cNvPicPr/>
          <p:nvPr/>
        </p:nvPicPr>
        <p:blipFill>
          <a:blip r:embed="rId1"/>
          <a:stretch/>
        </p:blipFill>
        <p:spPr>
          <a:xfrm>
            <a:off x="5184720" y="2708280"/>
            <a:ext cx="2909880" cy="2909880"/>
          </a:xfrm>
          <a:prstGeom prst="rect">
            <a:avLst/>
          </a:prstGeom>
          <a:ln w="0">
            <a:noFill/>
          </a:ln>
        </p:spPr>
      </p:pic>
      <p:sp>
        <p:nvSpPr>
          <p:cNvPr id="143" name="Заголовок 1"/>
          <p:cNvSpPr/>
          <p:nvPr/>
        </p:nvSpPr>
        <p:spPr>
          <a:xfrm>
            <a:off x="590400" y="922320"/>
            <a:ext cx="4176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43a"/>
                </a:solidFill>
                <a:latin typeface="Arial"/>
              </a:rPr>
              <a:t>Туристическое агентство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43a"/>
                </a:solidFill>
                <a:latin typeface="Arial"/>
              </a:rPr>
              <a:t>ZefirTravel 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44" name="Picture 5" descr="https://zefirtravel.by/local/templates/travelsoft/img/logo.png"/>
          <p:cNvPicPr/>
          <p:nvPr/>
        </p:nvPicPr>
        <p:blipFill>
          <a:blip r:embed="rId2"/>
          <a:stretch/>
        </p:blipFill>
        <p:spPr>
          <a:xfrm>
            <a:off x="934920" y="3465360"/>
            <a:ext cx="374652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1" descr=""/>
          <p:cNvPicPr/>
          <p:nvPr/>
        </p:nvPicPr>
        <p:blipFill>
          <a:blip r:embed="rId1"/>
          <a:srcRect l="7519" t="0" r="15614" b="10025"/>
          <a:stretch/>
        </p:blipFill>
        <p:spPr>
          <a:xfrm>
            <a:off x="1038240" y="808200"/>
            <a:ext cx="6497640" cy="52894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8"/>
          <p:cNvSpPr/>
          <p:nvPr/>
        </p:nvSpPr>
        <p:spPr>
          <a:xfrm rot="2448000">
            <a:off x="1015920" y="54756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 rot="7848000">
            <a:off x="7137000" y="547560"/>
            <a:ext cx="38088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8" name="Rectangle 30"/>
          <p:cNvSpPr/>
          <p:nvPr/>
        </p:nvSpPr>
        <p:spPr>
          <a:xfrm flipV="1" rot="19152000">
            <a:off x="938160" y="5212440"/>
            <a:ext cx="380880" cy="114336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9" name="Rectangle 31"/>
          <p:cNvSpPr/>
          <p:nvPr/>
        </p:nvSpPr>
        <p:spPr>
          <a:xfrm flipV="1" rot="13752000">
            <a:off x="7279560" y="5284080"/>
            <a:ext cx="381240" cy="1143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50" name="Рисунок 8" descr=""/>
          <p:cNvPicPr/>
          <p:nvPr/>
        </p:nvPicPr>
        <p:blipFill>
          <a:blip r:embed="rId2"/>
          <a:stretch/>
        </p:blipFill>
        <p:spPr>
          <a:xfrm>
            <a:off x="7848720" y="5465880"/>
            <a:ext cx="955440" cy="955440"/>
          </a:xfrm>
          <a:prstGeom prst="rect">
            <a:avLst/>
          </a:prstGeom>
          <a:ln w="0">
            <a:noFill/>
          </a:ln>
        </p:spPr>
      </p:pic>
      <p:sp>
        <p:nvSpPr>
          <p:cNvPr id="151" name="Заголовок 1"/>
          <p:cNvSpPr/>
          <p:nvPr/>
        </p:nvSpPr>
        <p:spPr>
          <a:xfrm>
            <a:off x="4530600" y="758880"/>
            <a:ext cx="19432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43a"/>
                </a:solidFill>
                <a:latin typeface="Arial"/>
              </a:rPr>
              <a:t>г. Гродно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User</cp:lastModifiedBy>
  <dcterms:modified xsi:type="dcterms:W3CDTF">2023-12-14T05:08:49Z</dcterms:modified>
  <cp:revision>96</cp:revision>
  <dc:subject/>
  <dc:title>Note pad and pen business PowerPoint template</dc:title>
</cp:coreProperties>
</file>