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Million%20Intro.wav" ContentType="audio/x-wav"/>
  <Override PartName="/ppt/media/score1.wav" ContentType="audio/x-wav"/>
  <Override PartName="/ppt/media/scoreopen.wav" ContentType="audio/x-wav"/>
  <Override PartName="/ppt/media/image6.png" ContentType="image/png"/>
  <Override PartName="/ppt/media/image15.png" ContentType="image/png"/>
  <Override PartName="/ppt/media/image14.png" ContentType="image/png"/>
  <Override PartName="/ppt/media/millionaire1.wav" ContentType="audio/x-wav"/>
  <Override PartName="/ppt/media/image13.png" ContentType="image/png"/>
  <Override PartName="/ppt/media/image12.png" ContentType="image/png"/>
  <Override PartName="/ppt/media/ccheer.wav" ContentType="audio/x-wav"/>
  <Override PartName="/ppt/media/image5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Webding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5EB3-0396-4108-A677-773A30B6DD73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47A-CD7C-4FCC-908D-42EB993BA8F1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E35-C4F7-46B3-AF7A-6D98D1D4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6DC-E126-45DC-9F0B-388E2B1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F5B-7DD2-4B1E-BDC8-66D0EB04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8FB-F174-4A2B-86F9-F2D1A346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8C9-F8AC-4E5D-849B-3711EAA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F1F-0064-494B-9452-5C9094E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0A4-EEA1-4759-900E-C85B634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CED-5C43-4825-863D-7D95211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558-DCD9-4324-99B7-314E7D58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520-E30D-4148-ABF9-83AE8A46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FF5-DC72-409F-A3A8-8D2A09E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5FF-0242-4516-B1D3-11FE9E6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1"/>
            </a:gs>
            <a:gs pos="50000">
              <a:srgbClr val="000048"/>
            </a:gs>
            <a:gs pos="100000">
              <a:srgbClr val="00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10CE-DBFF-4250-83EB-B89B24DA2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Million%20Intro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scoreopen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hyperlink" Target="file:///tmp/home/.config/libreoffice/4/user/gallery/millionaire3.wav" TargetMode="External"/><Relationship Id="rId9" Type="http://schemas.openxmlformats.org/officeDocument/2006/relationships/image" Target="../media/image1.png"/><Relationship Id="rId10" Type="http://schemas.openxmlformats.org/officeDocument/2006/relationships/hyperlink" Target="file:///tmp/home/.config/libreoffice/4/user/gallery/laugh%20track.wav" TargetMode="External"/><Relationship Id="rId11" Type="http://schemas.openxmlformats.org/officeDocument/2006/relationships/hyperlink" Target="file:///tmp/home/.config/libreoffice/4/user/gallery/finalanswer.wav" TargetMode="External"/><Relationship Id="rId12" Type="http://schemas.openxmlformats.org/officeDocument/2006/relationships/audio" Target="../media/millionaire1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che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eachthemenglish.com/2015/04/games-for-the-language-classroom-who-wants-to-be-a-millionaire/" TargetMode="External"/><Relationship Id="rId3" Type="http://schemas.openxmlformats.org/officeDocument/2006/relationships/hyperlink" Target="http://areti-aroundtheworldinenglish.blogspot.gr/" TargetMode="External"/><Relationship Id="rId4" Type="http://schemas.openxmlformats.org/officeDocument/2006/relationships/audio" Target="../media/Million%20Intro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iglogo"/>
          <p:cNvPicPr/>
          <p:nvPr/>
        </p:nvPicPr>
        <p:blipFill>
          <a:blip r:embed="rId1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biglogo"/>
          <p:cNvPicPr/>
          <p:nvPr/>
        </p:nvPicPr>
        <p:blipFill>
          <a:blip r:embed="rId2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4673520" y="3581280"/>
            <a:ext cx="152640" cy="228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1" name="7 - Εικόνα" descr="1.png"/>
          <p:cNvPicPr/>
          <p:nvPr/>
        </p:nvPicPr>
        <p:blipFill>
          <a:blip r:embed="rId3"/>
          <a:stretch/>
        </p:blipFill>
        <p:spPr>
          <a:xfrm>
            <a:off x="2627280" y="225360"/>
            <a:ext cx="388944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4 - Εικόνα" descr="pumpkin-23439_640.png"/>
          <p:cNvPicPr/>
          <p:nvPr/>
        </p:nvPicPr>
        <p:blipFill>
          <a:blip r:embed="rId4"/>
          <a:stretch/>
        </p:blipFill>
        <p:spPr>
          <a:xfrm>
            <a:off x="6692760" y="914400"/>
            <a:ext cx="174492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2 - Εικόνα" descr="320px-Jack-o-lantern.svg.png"/>
          <p:cNvPicPr/>
          <p:nvPr/>
        </p:nvPicPr>
        <p:blipFill>
          <a:blip r:embed="rId5"/>
          <a:stretch/>
        </p:blipFill>
        <p:spPr>
          <a:xfrm>
            <a:off x="457200" y="838080"/>
            <a:ext cx="2513160" cy="1737000"/>
          </a:xfrm>
          <a:prstGeom prst="rect">
            <a:avLst/>
          </a:prstGeom>
          <a:ln w="0">
            <a:noFill/>
          </a:ln>
        </p:spPr>
      </p:pic>
      <p:pic>
        <p:nvPicPr>
          <p:cNvPr id="54" name="21 - Εικόνα" descr="Architetto_--_Gatto_nero.png"/>
          <p:cNvPicPr/>
          <p:nvPr/>
        </p:nvPicPr>
        <p:blipFill>
          <a:blip r:embed="rId6"/>
          <a:stretch/>
        </p:blipFill>
        <p:spPr>
          <a:xfrm>
            <a:off x="601560" y="4809960"/>
            <a:ext cx="1752840" cy="1648080"/>
          </a:xfrm>
          <a:prstGeom prst="rect">
            <a:avLst/>
          </a:prstGeom>
          <a:ln w="0">
            <a:noFill/>
          </a:ln>
        </p:spPr>
      </p:pic>
      <p:pic>
        <p:nvPicPr>
          <p:cNvPr id="55" name="24 - Εικόνα" descr="liftarn_Owl_in_tree.png"/>
          <p:cNvPicPr/>
          <p:nvPr/>
        </p:nvPicPr>
        <p:blipFill>
          <a:blip r:embed="rId7"/>
          <a:stretch/>
        </p:blipFill>
        <p:spPr>
          <a:xfrm>
            <a:off x="6789600" y="4809960"/>
            <a:ext cx="164808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3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ck or Treat. Trick or Treat. Give me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thing ______ to eat.”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wee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tast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goo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nourish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5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52280" y="537048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158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9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name “jack-o’-lantern” comes from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 Irish folktale about a man named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Jack the La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Stingy Jack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Jack of all trad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Jack the Ripp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7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18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en Jack died, the Devil gave him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___ to light his way.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 oil lamp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lanter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 candl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 a burning coal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0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Halloween NOT associated with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oul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egg hunt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pple bobb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guis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22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6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29" name="Group 12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30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the game of apple bobbing players tr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catch apples floating on water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th __________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heir fee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stick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their teeth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 spea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25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lloween’s origins date back to the ancien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festival of Samhain, which marked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end of the harvest season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India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Vik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Roma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eltic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75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8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9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283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8" name="AutoShape 9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0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druids were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farm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warrio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hunt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ries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0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1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5" name="AutoShape 8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6" name="AutoShape 9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7" name="AutoShape 10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9" name="AutoShape 12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0" name="AutoShape 13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1" name="AutoShape 14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2" name="AutoShape 15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ally, All Souls Day (Nov.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was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lebrated with 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inging and danc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g bonfires and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ad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pranks and gam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ublic pray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3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40" name="Group 17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34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5" name="AutoShape 8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7" name="AutoShape 10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8" name="AutoShape 11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9" name="AutoShape 12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 All Souls’ Day  poor citizens would beg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food and families would give them 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ginger cooki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pple pi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umpkin pudding cak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stries called soul cak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6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7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71" name="Group 19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37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6" name="AutoShape 8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7" name="AutoShape 9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8" name="AutoShape 10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9" name="AutoShape 11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0" name="AutoShape 12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1" name="AutoShape 13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3" name="AutoShape 15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4" name="AutoShape 16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5" name="AutoShape 17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6" name="AutoShape 18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undreds of years ago on Halloween, to keep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hosts away from their houses, people would place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__ outside their homes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carecrow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broomstick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bowls of foo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umpk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9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15228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0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lloween is celebrated on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he last Saturday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Octo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November 1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31 Octo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the fourth Thursday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Novem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9" name="thinking.wav" descr=""/>
          <p:cNvPicPr/>
          <p:nvPr/>
        </p:nvPicPr>
        <p:blipFill>
          <a:blip r:embed="rId7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big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5">
            <a:hlinkClick r:id="rId10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3" name="AutoShape 24">
            <a:hlinkClick r:id="rId11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2" name="millionaire1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04" name="Group 19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40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8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9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0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1" name="AutoShape 10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2" name="AutoShape 11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3" name="AutoShape 12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4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5" name="AutoShape 14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6" name="AutoShape 15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7" name="AutoShape 16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8" name="AutoShape 17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9" name="AutoShape 18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estimated that Americans spend more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an _______ on costumes annually.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609480" y="4608360"/>
            <a:ext cx="358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$2.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$250 m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$1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510552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$1.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3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3" name="AutoShape 16"/>
          <p:cNvSpPr/>
          <p:nvPr/>
        </p:nvSpPr>
        <p:spPr>
          <a:xfrm>
            <a:off x="152280" y="4608360"/>
            <a:ext cx="4419720" cy="609840"/>
          </a:xfrm>
          <a:prstGeom prst="hexagon">
            <a:avLst>
              <a:gd name="adj" fmla="val 61602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14300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biglogo"/>
          <p:cNvPicPr/>
          <p:nvPr/>
        </p:nvPicPr>
        <p:blipFill>
          <a:blip r:embed="rId1"/>
          <a:stretch/>
        </p:blipFill>
        <p:spPr>
          <a:xfrm>
            <a:off x="2455920" y="1143000"/>
            <a:ext cx="4435560" cy="4411800"/>
          </a:xfrm>
          <a:prstGeom prst="rect">
            <a:avLst/>
          </a:prstGeom>
          <a:ln w="0">
            <a:noFill/>
          </a:ln>
        </p:spPr>
      </p:pic>
      <p:sp>
        <p:nvSpPr>
          <p:cNvPr id="439" name="2 - TextBox"/>
          <p:cNvSpPr/>
          <p:nvPr/>
        </p:nvSpPr>
        <p:spPr>
          <a:xfrm>
            <a:off x="304920" y="5335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http://www.teachthemenglish.com/2015/04/games-for-the-language-classroom-who-wants-to-be-a-millionaire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0" name="3 - TextBox"/>
          <p:cNvSpPr/>
          <p:nvPr/>
        </p:nvSpPr>
        <p:spPr>
          <a:xfrm>
            <a:off x="2455920" y="58960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3"/>
              </a:rPr>
              <a:t>http://areti-aroundtheworldinenglish.blogspot.gr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3" name="cche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ch of the following is NOT normally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ociated with Halloween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 rabbi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ba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 black ca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 crow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0" name="AutoShape 15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9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do people, especially in the US,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mally carve for Halloween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urnip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pumpk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potato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bee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0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1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1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do people normally put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ide a jack-o’-lantern 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 candl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presen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andy cor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3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01:55:03Z</dcterms:created>
  <dc:creator>Christopher Fane</dc:creator>
  <dc:description/>
  <dc:language>en-US</dc:language>
  <cp:lastModifiedBy>Areti Gavalaki</cp:lastModifiedBy>
  <dcterms:modified xsi:type="dcterms:W3CDTF">2015-10-08T11:05:36Z</dcterms:modified>
  <cp:revision>80</cp:revision>
  <dc:subject/>
  <dc:title>WWTBAM</dc:title>
</cp:coreProperties>
</file>