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DCA2-6E59-4A60-BC19-EDE6F30B0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E668-41DF-448D-846F-F4CC1B2E5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ED00-D58C-4D1A-8079-3EF2FFEF6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8FDF-692A-4BE7-84C5-6CD490FC0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5685D-6665-4BBD-B9B0-7948321A1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01FF1-A23F-4F86-AB69-D0DE3538E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324A7-F2DA-48BC-8B13-B84ACBB4D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B8CCA-DCBF-48FF-A857-BE1902E8C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8BA51-D89C-4EC7-B0A9-56FA0837D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AF921-FB8E-42D9-9F84-B8A1F29B8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5F0A0-F1BB-45AB-8D51-F83503F2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FD54-FAD8-4A77-BC78-47E677AAC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347D6-1F78-497C-8C16-71D2AFB6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29641-AD15-4711-ACFE-0D90DFAE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3FBE6-F513-4716-BD66-6BA41F5D0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FB25B-8006-40E5-BB6A-85F365BD5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7C7D7-C60B-48D7-B0CB-0B1F620C6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D5E8-316F-464A-A429-49DE4107A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D167-589E-4E42-A81F-73E8436C9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4D83-6B69-400A-9B8B-E49F190E9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57D3-C773-450D-BAAF-C18D4FCED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D205-ACFE-4CF6-8C4E-CA3DF2E3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5051-A37C-42C3-8266-0DE9B53F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04AE-AE53-4E76-8E58-4A3BB651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6FA7E-34ED-4B82-B694-84309EFD143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9360" y="61560"/>
              <a:ext cx="3621240" cy="6130800"/>
              <a:chOff x="5409360" y="61560"/>
              <a:chExt cx="3621240" cy="61308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6680"/>
                <a:ext cx="2115000" cy="23576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59480"/>
                <a:ext cx="906120" cy="8427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164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840" y="673920"/>
                <a:ext cx="388440" cy="550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920"/>
                <a:ext cx="16308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600" y="1241280"/>
                <a:ext cx="19044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400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2360" y="294840"/>
              <a:ext cx="891360" cy="829440"/>
              <a:chOff x="5652360" y="294840"/>
              <a:chExt cx="891360" cy="8294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3960" y="793440"/>
                <a:ext cx="17928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2840" y="473760"/>
                <a:ext cx="30636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4280" y="394560"/>
                <a:ext cx="31932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61400"/>
              <a:ext cx="1059120" cy="829800"/>
              <a:chOff x="968760" y="5261400"/>
              <a:chExt cx="1059120" cy="8298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6360"/>
                <a:ext cx="25092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3040" y="5736600"/>
                <a:ext cx="42948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596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7840"/>
              <a:ext cx="1690200" cy="1146600"/>
              <a:chOff x="375840" y="44784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632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148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520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0720" y="3712320"/>
              <a:ext cx="1155600" cy="1607760"/>
              <a:chOff x="738072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544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616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872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153AE-5766-45E9-BE54-2AB8FD631EB6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5143320" y="4500360"/>
            <a:ext cx="350028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Учитель немецкого языка Фатьянова Е.А., г.Тверь,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МОУ СОШ № 20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9" name="WordArt 4" descr=""/>
          <p:cNvPicPr/>
          <p:nvPr/>
        </p:nvPicPr>
        <p:blipFill>
          <a:blip r:embed="rId1"/>
          <a:stretch/>
        </p:blipFill>
        <p:spPr>
          <a:xfrm>
            <a:off x="1616040" y="171360"/>
            <a:ext cx="6716880" cy="4125960"/>
          </a:xfrm>
          <a:prstGeom prst="rect">
            <a:avLst/>
          </a:prstGeom>
          <a:ln w="0">
            <a:noFill/>
          </a:ln>
        </p:spPr>
      </p:pic>
      <p:sp>
        <p:nvSpPr>
          <p:cNvPr id="170" name="WordArt 5"/>
          <p:cNvSpPr txBox="1"/>
          <p:nvPr/>
        </p:nvSpPr>
        <p:spPr>
          <a:xfrm>
            <a:off x="2843280" y="4365720"/>
            <a:ext cx="3960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ebf7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ebf7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VERLAUF  DER  STUNDE: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Die Arbeit mit der Arbeitsbuch -S.39,41 Üb.1,3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Gruppenarbeit- Vollendet die Sätz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Erholungspause - Wortsal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Das Gespräch über unsere Schule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6666"/>
                </a:solidFill>
                <a:latin typeface="Verdana"/>
              </a:rPr>
              <a:t>Gruppenarbei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85840" y="19288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Diese Schule befindet sich in …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e ist …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Diese Schule gefällt mir ( nicht )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Das Schulgebäude ist …stöckig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n diesem Sculgebäude gibt es ein …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m Erdgeschoss der Schule ist/sind …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m ersten Stock liegen …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5" name="Picture 4" descr="C:\Users\Админ\Desktop\6a2f646ae987e3f5c45c1b33146fb513.800_415.jpeg"/>
          <p:cNvPicPr/>
          <p:nvPr/>
        </p:nvPicPr>
        <p:blipFill>
          <a:blip r:embed="rId1"/>
          <a:srcRect l="33401" t="5690" r="22657" b="8974"/>
          <a:stretch/>
        </p:blipFill>
        <p:spPr>
          <a:xfrm>
            <a:off x="7143840" y="285840"/>
            <a:ext cx="1571400" cy="18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WORTSALAT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E D A R G O E B R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P L I S E E G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 N E P A S N U D L 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E N T C I I S Ö K G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 L N H B K S A U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 E K S A T W R 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Z R L M R E E H E I M R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WORTSAL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GARDEROB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PIEG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TUNDENPLA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EINSTÖCKIG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CHULBANK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WERKSTAT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LEHRERZIMMER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Die Fragen über unsere Schule:</a:t>
            </a:r>
            <a:br>
              <a:rPr sz="4000"/>
            </a:b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Gibt es in unserer Schule eine Garderobe? Wo liegt sie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Gibt es eine Eingangshalle? Wo ist sie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Gibt es eine Aula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Gibt es eine Computerklasse? Wo ist sie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Wie viele Etagen hat unsere Schule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Was gibt es noch in unserer Schule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07:40:15Z</dcterms:created>
  <dc:creator>FoTyA</dc:creator>
  <dc:description/>
  <dc:language>en-US</dc:language>
  <cp:lastModifiedBy>Админ</cp:lastModifiedBy>
  <dcterms:modified xsi:type="dcterms:W3CDTF">2024-01-04T10:32:13Z</dcterms:modified>
  <cp:revision>6</cp:revision>
  <dc:subject/>
  <dc:title>DIE  DEUTSCHEN  SCULEN.</dc:title>
</cp:coreProperties>
</file>