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55A-E97B-4A9A-A5F9-4551C89C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D24-B160-4E1F-809E-E9F03849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546-B018-4CDE-B613-FFC20D22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1E2-1CEC-41CE-9A87-97FDC78C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9B60-A3EA-4C4B-8222-C554FA99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41C6-C7C9-4712-8A7D-AF166C69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8511-58C8-4C0B-8625-62E37FF5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A396-5BC2-4CBF-ACCC-3741DB2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F6A7-4159-4FDE-B304-C898DC60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2CEC-F017-420D-85E5-F4EE2D8B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DBD2-522E-4929-B812-233BFF6B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717-FF4F-4FDB-BD19-B2F731D7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1094-6D14-4DD9-B5F5-C5FFAEEE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E24B-4C91-40CD-99AD-50E1C46F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F954-BF7D-439C-8AE8-59F03B82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D483-FF16-4E4C-8B33-B7AC7A11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8B27-A504-4896-94B7-24C9FD1A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030-872F-421C-A9D8-6664E3EC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751-53E6-489F-9F80-1D3B3853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8E0-B200-42D6-965C-E755E36A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61E-D5EC-42FC-9DCA-9DB69439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82A-EEB2-4BF0-A9B2-3A5FFA90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8AE-674E-4DFB-98A4-6F90610C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D30-F3C7-4109-AC5D-77EDD897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C7F2-8C52-4A77-BBC7-15C4035A92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2D09-7B3A-49A4-ACCA-8AFED4536CB7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143320" y="4500360"/>
            <a:ext cx="350028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Учитель немецкого языка Фатьянова Е.А., г.Тверь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МОУ СОШ № 20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WordArt 4" descr=""/>
          <p:cNvPicPr/>
          <p:nvPr/>
        </p:nvPicPr>
        <p:blipFill>
          <a:blip r:embed="rId1"/>
          <a:stretch/>
        </p:blipFill>
        <p:spPr>
          <a:xfrm>
            <a:off x="1616040" y="171360"/>
            <a:ext cx="6716880" cy="41259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2843280" y="4365720"/>
            <a:ext cx="396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7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ebf7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VERLAUF  DER  STUNDE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e Arbeit mit der Arbeitsbuch -S.39,41 Üb.1,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ruppenarbeit- Vollendet die Sätz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rholungspause - Wortsal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s Gespräch über unsere Schu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66"/>
                </a:solidFill>
                <a:latin typeface="Verdana"/>
              </a:rPr>
              <a:t>Gruppenarbei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5840" y="1928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ese Schule befindet sich i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e ist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ese Schule gefällt mir ( nicht 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s Schulgebäude ist …stöcki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 diesem Sculgebäude gibt es ei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m Erdgeschoss der Schule ist/sind …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m ersten Stock liege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C:\Users\Админ\Desktop\6a2f646ae987e3f5c45c1b33146fb513.800_415.jpeg"/>
          <p:cNvPicPr/>
          <p:nvPr/>
        </p:nvPicPr>
        <p:blipFill>
          <a:blip r:embed="rId1"/>
          <a:srcRect l="33401" t="5690" r="22657" b="8974"/>
          <a:stretch/>
        </p:blipFill>
        <p:spPr>
          <a:xfrm>
            <a:off x="7143840" y="285840"/>
            <a:ext cx="15714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WORTSALAT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 D A R G O E B 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 L I S E E 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 N E P A S N U D L 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 N T C I I S Ö K 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 L N H B K S A 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 E K S A T W R 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Z R L M R E E H E I M 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ORTSAL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ARDEROB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IEG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UNDENPLA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INSTÖCKI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CHULBAN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ERKSTAT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EHRERZIMM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ie Fragen über unsere Schule:</a:t>
            </a:r>
            <a:br>
              <a:rPr sz="40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in unserer Schule eine Garderobe? Wo liegt si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eine Eingangshalle? Wo ist si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eine Aul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eine Computerklasse? Wo ist si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ie viele Etagen hat unsere Schul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as gibt es noch in unserer Schul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7:40:15Z</dcterms:created>
  <dc:creator>FoTyA</dc:creator>
  <dc:description/>
  <dc:language>en-US</dc:language>
  <cp:lastModifiedBy>Админ</cp:lastModifiedBy>
  <dcterms:modified xsi:type="dcterms:W3CDTF">2024-01-04T10:32:13Z</dcterms:modified>
  <cp:revision>6</cp:revision>
  <dc:subject/>
  <dc:title>DIE  DEUTSCHEN  SCULEN.</dc:title>
</cp:coreProperties>
</file>