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E87-D928-47DD-8D57-2E6FBED2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54A-D016-4DE8-B3F3-AE1623A6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255-B828-4A86-B08D-0CFC407F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14D-9560-4790-A87E-D25B9570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0513-B533-4ED6-A2B4-00E916E7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345D-8C63-480F-9124-78AB59A7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D9A3-6F23-45F8-A9E8-55004CB2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BA81-8DC4-4F07-B7A8-ECE20B14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DD3D-857B-475C-9055-E3DCA3FF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BCA7-1BAE-4549-94F7-384139F7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99AB-A36A-4C9B-898C-E712174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683-D194-4DB1-990E-BB6C72A5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993-1BD5-40BF-A830-2F3C884B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77BE-5B16-493F-BB7E-FFF5562C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5EE1-6793-4AE5-9355-AB25E4F6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E3BC-EBDA-48C6-8E3D-1D93D932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645A-25EC-4915-B598-0CAC499C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7AB-868C-4E90-84A0-C50DE31D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E4D-777F-4C84-93CB-9F73AA32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B84-FB75-4AE5-88C0-FA05347F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B08-561E-4A02-AD14-953798B1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295-9AC1-4A69-BBFA-E3D19D58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954-6102-453A-8F1D-9587FA1C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25A-D86D-452E-803B-760590E3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B991-1E8C-42BD-A8BB-6377D72305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F5B0-73D0-4C20-84DF-1F88B8E7617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143320" y="4500360"/>
            <a:ext cx="350028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Учитель немецкого языка Фатьянова Е.А., г.Тверь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МОУ СОШ № 20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WordArt 4" descr=""/>
          <p:cNvPicPr/>
          <p:nvPr/>
        </p:nvPicPr>
        <p:blipFill>
          <a:blip r:embed="rId1"/>
          <a:stretch/>
        </p:blipFill>
        <p:spPr>
          <a:xfrm>
            <a:off x="1616040" y="171360"/>
            <a:ext cx="6716880" cy="41259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2843280" y="4365720"/>
            <a:ext cx="396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7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ebf7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VERLAUF  DER  STUNDE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e Arbeit mit der Arbeitsbuch -S.39,41 Üb.1,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ruppenarbeit- Vollendet die Sätz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rholungspause - Wortsal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s Gespräch über unsere Schu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66"/>
                </a:solidFill>
                <a:latin typeface="Verdana"/>
              </a:rPr>
              <a:t>Gruppenarbei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5840" y="1928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ese Schule befindet sich i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e ist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ese Schule gefällt mir ( nicht 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s Schulgebäude ist …stöcki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 diesem Sculgebäude gibt es ei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m Erdgeschoss der Schule ist/sind …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m ersten Stock liege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C:\Users\Админ\Desktop\6a2f646ae987e3f5c45c1b33146fb513.800_415.jpeg"/>
          <p:cNvPicPr/>
          <p:nvPr/>
        </p:nvPicPr>
        <p:blipFill>
          <a:blip r:embed="rId1"/>
          <a:srcRect l="33401" t="5690" r="22657" b="8974"/>
          <a:stretch/>
        </p:blipFill>
        <p:spPr>
          <a:xfrm>
            <a:off x="7143840" y="285840"/>
            <a:ext cx="15714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WORTSALAT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 D A R G O E B 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 L I S E E 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 N E P A S N U D L 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 N T C I I S Ö K 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 L N H B K S A 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 E K S A T W R 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Z R L M R E E H E I M 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ORTSAL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ARDEROB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IEG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UNDENPLA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INSTÖCKI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CHULBAN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ERKSTAT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EHRERZIMM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ie Fragen über unsere Schule:</a:t>
            </a:r>
            <a:br>
              <a:rPr sz="40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in unserer Schule eine Garderobe? Wo liegt si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eine Eingangshalle? Wo ist si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eine Aul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eine Computerklasse? Wo ist si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ie viele Etagen hat unsere Schul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as gibt es noch in unserer Schul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7:40:15Z</dcterms:created>
  <dc:creator>FoTyA</dc:creator>
  <dc:description/>
  <dc:language>en-US</dc:language>
  <cp:lastModifiedBy>Админ</cp:lastModifiedBy>
  <dcterms:modified xsi:type="dcterms:W3CDTF">2024-01-04T10:32:13Z</dcterms:modified>
  <cp:revision>6</cp:revision>
  <dc:subject/>
  <dc:title>DIE  DEUTSCHEN  SCULEN.</dc:title>
</cp:coreProperties>
</file>