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20.jpeg" ContentType="image/jpeg"/>
  <Override PartName="/ppt/media/image12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3DFD-24C2-4D05-B338-B3982009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5CDC-C94E-4641-AD26-17440199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8B63-9C0D-4EC1-9585-414595CD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19E8-657D-496A-AFE8-D2E8CA69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4C265-AF98-4F21-9367-BBB39DB9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5F363-D018-4635-B5CB-82A838EA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901D2-6381-4679-9C51-4CF071D4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6F06B-8701-4E9C-AE18-82320A94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483A2-9034-44E1-9264-B9AE7201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09FD5-A1AE-4815-87C0-EAFA24E9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3A354-B194-4DAA-9C42-3D0F30D0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80DA-EA7B-407A-9E8B-9110542A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10026-0B01-413A-B6DE-133B601B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6FAC2-E1BC-4F2D-93D0-8F740D18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50405-6203-475C-9580-DBC2A5E1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B7576-7E30-475A-B99C-508AF518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AD954-626A-4BA8-9EA9-FFF24F8F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2E60C-2D99-422A-B248-2463E53B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CA078-EAAC-4C1A-9DE6-2AD12EDD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0028-1AD4-4135-AAA2-7AB0E77C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F0AEF-435F-473B-B056-1F1A7991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8A759-C8C2-4075-886B-974C131C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228B-77CA-4F12-A8D7-641C561B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B275-D92F-4FF6-BBAF-31E0141C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en-US" sz="4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chemeClr val="dk1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714240" y="2071800"/>
            <a:ext cx="777204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Ребус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3071880" y="52149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производи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57168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единица товара, созданная за определенную единицу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:\Documents and Settings\Новый пользователь\Рабочий стол\клипарттж\Clipart 019_1.jpg"/>
          <p:cNvPicPr/>
          <p:nvPr/>
        </p:nvPicPr>
        <p:blipFill>
          <a:blip r:embed="rId1"/>
          <a:stretch/>
        </p:blipFill>
        <p:spPr>
          <a:xfrm>
            <a:off x="4500720" y="2428920"/>
            <a:ext cx="1974600" cy="2571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Documents and Settings\Новый пользователь\Рабочий стол\дшд\bone.jpg"/>
          <p:cNvPicPr/>
          <p:nvPr/>
        </p:nvPicPr>
        <p:blipFill>
          <a:blip r:embed="rId2"/>
          <a:stretch/>
        </p:blipFill>
        <p:spPr>
          <a:xfrm>
            <a:off x="6858000" y="2714760"/>
            <a:ext cx="1856880" cy="2468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5929200" y="171468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Н= 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rcRect l="0" t="0" r="0" b="15996"/>
          <a:stretch/>
        </p:blipFill>
        <p:spPr>
          <a:xfrm>
            <a:off x="2357280" y="3071880"/>
            <a:ext cx="2018880" cy="1642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C:\Documents and Settings\Новый пользователь\Рабочий стол\дшд\1235935261_0lik.ru_products1-63.jpg"/>
          <p:cNvPicPr/>
          <p:nvPr/>
        </p:nvPicPr>
        <p:blipFill>
          <a:blip r:embed="rId4"/>
          <a:stretch/>
        </p:blipFill>
        <p:spPr>
          <a:xfrm>
            <a:off x="208080" y="2567160"/>
            <a:ext cx="2230200" cy="2455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6"/>
          <p:cNvSpPr/>
          <p:nvPr/>
        </p:nvSpPr>
        <p:spPr>
          <a:xfrm>
            <a:off x="1714680" y="1785960"/>
            <a:ext cx="14284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3786120" y="185724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"/>
          <p:cNvSpPr/>
          <p:nvPr/>
        </p:nvSpPr>
        <p:spPr>
          <a:xfrm>
            <a:off x="3000240" y="514368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рант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57168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лицо, живущее на проценты с отдаваемого в ссуду капитала, от доходов с ценных бума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C:\Documents and Settings\Новый пользователь\Рабочий стол\дшд\backpack_012000089_tns.png"/>
          <p:cNvPicPr/>
          <p:nvPr/>
        </p:nvPicPr>
        <p:blipFill>
          <a:blip r:embed="rId1"/>
          <a:stretch/>
        </p:blipFill>
        <p:spPr>
          <a:xfrm>
            <a:off x="857160" y="2428920"/>
            <a:ext cx="3622320" cy="28573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3500280" y="150012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6072120" y="2193840"/>
            <a:ext cx="2064960" cy="32493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 rot="10800000">
            <a:off x="5215320" y="11350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 rot="10800000">
            <a:off x="5786640" y="11350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 rot="10800000">
            <a:off x="5501160" y="11350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2928960" y="54291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тов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642960" y="614376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вещь, созданная на прода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Новый пользователь\Рабочий стол\дшд\9bad463fb84c.png"/>
          <p:cNvPicPr/>
          <p:nvPr/>
        </p:nvPicPr>
        <p:blipFill>
          <a:blip r:embed="rId1"/>
          <a:stretch/>
        </p:blipFill>
        <p:spPr>
          <a:xfrm>
            <a:off x="500040" y="2500200"/>
            <a:ext cx="3946320" cy="28062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6"/>
          <p:cNvSpPr/>
          <p:nvPr/>
        </p:nvSpPr>
        <p:spPr>
          <a:xfrm>
            <a:off x="3500280" y="1500120"/>
            <a:ext cx="928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5143680" y="2857680"/>
            <a:ext cx="3714480" cy="26269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5"/>
          <p:cNvSpPr/>
          <p:nvPr/>
        </p:nvSpPr>
        <p:spPr>
          <a:xfrm>
            <a:off x="4643280" y="171468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М=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8072280" y="164304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2928960" y="50007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торгов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57168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хозяйственная деятельность по обороту товаров путем купли-прод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D:\мои рисунки\едар\СЛАДОСТИ\af938a943bd6t.jpg"/>
          <p:cNvPicPr/>
          <p:nvPr/>
        </p:nvPicPr>
        <p:blipFill>
          <a:blip r:embed="rId1"/>
          <a:srcRect l="0" t="0" r="0" b="5881"/>
          <a:stretch/>
        </p:blipFill>
        <p:spPr>
          <a:xfrm>
            <a:off x="214200" y="2286000"/>
            <a:ext cx="2461680" cy="2503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6"/>
          <p:cNvSpPr/>
          <p:nvPr/>
        </p:nvSpPr>
        <p:spPr>
          <a:xfrm>
            <a:off x="2071800" y="178596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C:\Documents and Settings\Новый пользователь\Рабочий стол\дшд\506d4d661e66.png"/>
          <p:cNvPicPr/>
          <p:nvPr/>
        </p:nvPicPr>
        <p:blipFill>
          <a:blip r:embed="rId2"/>
          <a:stretch/>
        </p:blipFill>
        <p:spPr>
          <a:xfrm>
            <a:off x="6143760" y="2000160"/>
            <a:ext cx="2746080" cy="2928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C:\Documents and Settings\Новый пользователь\Рабочий стол\дшд\d00236df13cb.png"/>
          <p:cNvPicPr/>
          <p:nvPr/>
        </p:nvPicPr>
        <p:blipFill>
          <a:blip r:embed="rId3"/>
          <a:stretch/>
        </p:blipFill>
        <p:spPr>
          <a:xfrm>
            <a:off x="2643120" y="2714760"/>
            <a:ext cx="2495160" cy="1976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4714920" y="157176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7786800" y="1643040"/>
            <a:ext cx="1356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143680" y="2786040"/>
            <a:ext cx="1356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chemeClr val="dk1"/>
                </a:solidFill>
                <a:latin typeface="Times New Roman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3000240" y="521496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це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571680" y="607212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стоимость товара, выраженная в день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C:\Documents and Settings\Новый пользователь\Рабочий стол\дшд\c16658718739.png"/>
          <p:cNvPicPr/>
          <p:nvPr/>
        </p:nvPicPr>
        <p:blipFill>
          <a:blip r:embed="rId1"/>
          <a:stretch/>
        </p:blipFill>
        <p:spPr>
          <a:xfrm>
            <a:off x="642960" y="2357280"/>
            <a:ext cx="3474720" cy="2642760"/>
          </a:xfrm>
          <a:prstGeom prst="rect">
            <a:avLst/>
          </a:prstGeom>
          <a:ln w="0">
            <a:noFill/>
          </a:ln>
        </p:spPr>
      </p:pic>
      <p:sp>
        <p:nvSpPr>
          <p:cNvPr id="177" name="TextBox 6"/>
          <p:cNvSpPr/>
          <p:nvPr/>
        </p:nvSpPr>
        <p:spPr>
          <a:xfrm>
            <a:off x="2857680" y="157176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C:\Documents and Settings\Новый пользователь\Рабочий стол\дшд\87cfdd7a25a7.png"/>
          <p:cNvPicPr/>
          <p:nvPr/>
        </p:nvPicPr>
        <p:blipFill>
          <a:blip r:embed="rId2"/>
          <a:stretch/>
        </p:blipFill>
        <p:spPr>
          <a:xfrm>
            <a:off x="6143760" y="1785960"/>
            <a:ext cx="1036440" cy="34603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7786800" y="164304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1"/>
          <p:cNvSpPr/>
          <p:nvPr/>
        </p:nvSpPr>
        <p:spPr>
          <a:xfrm>
            <a:off x="3357720" y="4714920"/>
            <a:ext cx="53575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эконом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571680" y="5500800"/>
            <a:ext cx="7786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наука о хозяйстве, способах его ведения людьми, отношениях между людьми в процессе производства и обмена тов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C:\Documents and Settings\Новый пользователь\Рабочий стол\дшд\examination1.gif"/>
          <p:cNvPicPr/>
          <p:nvPr/>
        </p:nvPicPr>
        <p:blipFill>
          <a:blip r:embed="rId1"/>
          <a:stretch/>
        </p:blipFill>
        <p:spPr>
          <a:xfrm>
            <a:off x="222120" y="2500200"/>
            <a:ext cx="2863440" cy="221436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4"/>
          <p:cNvSpPr/>
          <p:nvPr/>
        </p:nvSpPr>
        <p:spPr>
          <a:xfrm rot="1122000">
            <a:off x="1428480" y="3929040"/>
            <a:ext cx="999720" cy="356760"/>
          </a:xfrm>
          <a:prstGeom prst="rect">
            <a:avLst/>
          </a:prstGeom>
          <a:solidFill>
            <a:schemeClr val="accent1"/>
          </a:solidFill>
          <a:ln w="9525">
            <a:solidFill>
              <a:srgbClr val="000000">
                <a:alpha val="10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400" spc="-1" strike="noStrike">
                <a:solidFill>
                  <a:schemeClr val="dk1"/>
                </a:solidFill>
                <a:latin typeface="Times New Roman"/>
              </a:rPr>
              <a:t>Билет 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2071800" y="1857240"/>
            <a:ext cx="13568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2"/>
          <a:stretch/>
        </p:blipFill>
        <p:spPr>
          <a:xfrm>
            <a:off x="3429000" y="2286000"/>
            <a:ext cx="1356840" cy="25538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4214880" y="1643040"/>
            <a:ext cx="1356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Прямая соединительная линия 18"/>
          <p:cNvCxnSpPr/>
          <p:nvPr/>
        </p:nvCxnSpPr>
        <p:spPr>
          <a:xfrm>
            <a:off x="4429080" y="1857240"/>
            <a:ext cx="857520" cy="85752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88" name="Прямая соединительная линия 19"/>
          <p:cNvCxnSpPr/>
          <p:nvPr/>
        </p:nvCxnSpPr>
        <p:spPr>
          <a:xfrm flipV="1">
            <a:off x="4429080" y="1785600"/>
            <a:ext cx="785880" cy="100080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pic>
        <p:nvPicPr>
          <p:cNvPr id="189" name="Picture 8" descr="C:\Documents and Settings\Новый пользователь\Рабочий стол\дшд\Mixer - Electric 09.gif"/>
          <p:cNvPicPr/>
          <p:nvPr/>
        </p:nvPicPr>
        <p:blipFill>
          <a:blip r:embed="rId3"/>
          <a:stretch/>
        </p:blipFill>
        <p:spPr>
          <a:xfrm>
            <a:off x="5072040" y="2286000"/>
            <a:ext cx="2214360" cy="25477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4"/>
          <p:cNvSpPr/>
          <p:nvPr/>
        </p:nvSpPr>
        <p:spPr>
          <a:xfrm>
            <a:off x="6858000" y="185724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7572240" y="2786040"/>
            <a:ext cx="1356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9600" spc="-1" strike="noStrike">
                <a:solidFill>
                  <a:schemeClr val="dk1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"/>
          <p:cNvPicPr/>
          <p:nvPr/>
        </p:nvPicPr>
        <p:blipFill>
          <a:blip r:embed="rId1"/>
          <a:srcRect l="13125" t="13125" r="9997" b="8126"/>
          <a:stretch/>
        </p:blipFill>
        <p:spPr>
          <a:xfrm>
            <a:off x="1071720" y="2571840"/>
            <a:ext cx="2928600" cy="2999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финансовое учреждение для вкладов и зай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5429160" y="507204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ан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мои рисунки\животныее6е\белки кроты ежи\krot02.jpg"/>
          <p:cNvPicPr/>
          <p:nvPr/>
        </p:nvPicPr>
        <p:blipFill>
          <a:blip r:embed="rId2"/>
          <a:stretch/>
        </p:blipFill>
        <p:spPr>
          <a:xfrm>
            <a:off x="4857840" y="2786040"/>
            <a:ext cx="2539800" cy="228564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6572160" y="228600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3000240" y="1785960"/>
            <a:ext cx="13568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единительная линия 18"/>
          <p:cNvCxnSpPr/>
          <p:nvPr/>
        </p:nvCxnSpPr>
        <p:spPr>
          <a:xfrm>
            <a:off x="3214440" y="2000160"/>
            <a:ext cx="857520" cy="85752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90" name="Прямая соединительная линия 19"/>
          <p:cNvCxnSpPr/>
          <p:nvPr/>
        </p:nvCxnSpPr>
        <p:spPr>
          <a:xfrm flipV="1">
            <a:off x="3214440" y="1928520"/>
            <a:ext cx="786240" cy="100044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500800" y="485784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анкн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14200" y="5657760"/>
            <a:ext cx="8214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денежный знак, выпускаемый в обращение и гарантируемый центральным бан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В настоящее время являются основным видом бумажных дене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D:\мои рисунки\искусство\музыка\d23673210d8c.png"/>
          <p:cNvPicPr/>
          <p:nvPr/>
        </p:nvPicPr>
        <p:blipFill>
          <a:blip r:embed="rId1"/>
          <a:srcRect l="0" t="0" r="0" b="17183"/>
          <a:stretch/>
        </p:blipFill>
        <p:spPr>
          <a:xfrm>
            <a:off x="5072040" y="2357280"/>
            <a:ext cx="2833200" cy="23461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4214880" y="2928960"/>
            <a:ext cx="6426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+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:\Documents and Settings\Новый пользователь\Рабочий стол\риснов\493.jpg"/>
          <p:cNvPicPr/>
          <p:nvPr/>
        </p:nvPicPr>
        <p:blipFill>
          <a:blip r:embed="rId2"/>
          <a:srcRect l="58600" t="0" r="0" b="24363"/>
          <a:stretch/>
        </p:blipFill>
        <p:spPr>
          <a:xfrm>
            <a:off x="1000080" y="1990800"/>
            <a:ext cx="2857320" cy="32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5857920" y="500076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ар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14200" y="5657760"/>
            <a:ext cx="8214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натуральный товарообмен, при котором одна вещь меняется на другую без денежной о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мои рисунки\школа\школа\прекрн.gif"/>
          <p:cNvPicPr/>
          <p:nvPr/>
        </p:nvPicPr>
        <p:blipFill>
          <a:blip r:embed="rId1"/>
          <a:stretch/>
        </p:blipFill>
        <p:spPr>
          <a:xfrm>
            <a:off x="208080" y="2279520"/>
            <a:ext cx="3820680" cy="351108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57120" y="192888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П= 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3786120" y="171468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D:\мои рисунки\флаги символы\25ecd6619fabb2f733fa2ef9e05a0280_full.jpg"/>
          <p:cNvPicPr/>
          <p:nvPr/>
        </p:nvPicPr>
        <p:blipFill>
          <a:blip r:embed="rId2"/>
          <a:stretch/>
        </p:blipFill>
        <p:spPr>
          <a:xfrm>
            <a:off x="5143680" y="2286000"/>
            <a:ext cx="2876040" cy="28760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8"/>
          <p:cNvSpPr/>
          <p:nvPr/>
        </p:nvSpPr>
        <p:spPr>
          <a:xfrm>
            <a:off x="7715160" y="178596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 rot="10800000">
            <a:off x="5240880" y="1503360"/>
            <a:ext cx="4996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6000840" y="51436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изн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714240" y="5857920"/>
            <a:ext cx="7786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экономическая деятельность, цель которой получ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Documents and Settings\Новый пользователь\Рабочий стол\дшд\1194983712377693656bison_leif_lodahl_01.svg.med.png"/>
          <p:cNvPicPr/>
          <p:nvPr/>
        </p:nvPicPr>
        <p:blipFill>
          <a:blip r:embed="rId1"/>
          <a:stretch/>
        </p:blipFill>
        <p:spPr>
          <a:xfrm>
            <a:off x="714240" y="2428920"/>
            <a:ext cx="2609640" cy="2785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6"/>
          <p:cNvSpPr/>
          <p:nvPr/>
        </p:nvSpPr>
        <p:spPr>
          <a:xfrm>
            <a:off x="2928960" y="178596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Новый пользователь\Рабочий стол\дшд\NestorLet.jpg"/>
          <p:cNvPicPr/>
          <p:nvPr/>
        </p:nvPicPr>
        <p:blipFill>
          <a:blip r:embed="rId2"/>
          <a:stretch/>
        </p:blipFill>
        <p:spPr>
          <a:xfrm>
            <a:off x="4492800" y="1639800"/>
            <a:ext cx="2341080" cy="3723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Documents and Settings\Новый пользователь\Рабочий стол\дшд\26406.jpg"/>
          <p:cNvPicPr/>
          <p:nvPr/>
        </p:nvPicPr>
        <p:blipFill>
          <a:blip r:embed="rId3"/>
          <a:stretch/>
        </p:blipFill>
        <p:spPr>
          <a:xfrm rot="1623000">
            <a:off x="5746680" y="3455640"/>
            <a:ext cx="1353600" cy="18190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6"/>
          <p:cNvSpPr/>
          <p:nvPr/>
        </p:nvSpPr>
        <p:spPr>
          <a:xfrm>
            <a:off x="7143840" y="1714680"/>
            <a:ext cx="11426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5929200" y="53578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бюдж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план доходов и расходов на определенный период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:\Documents and Settings\Новый пользователь\Рабочий стол\дшд\456px-RichardBently-bust-Roubiliac.png"/>
          <p:cNvPicPr/>
          <p:nvPr/>
        </p:nvPicPr>
        <p:blipFill>
          <a:blip r:embed="rId1"/>
          <a:srcRect l="13702" t="5210" r="21205" b="30991"/>
          <a:stretch/>
        </p:blipFill>
        <p:spPr>
          <a:xfrm>
            <a:off x="785880" y="2000160"/>
            <a:ext cx="2714400" cy="3499920"/>
          </a:xfrm>
          <a:prstGeom prst="rect">
            <a:avLst/>
          </a:prstGeom>
          <a:ln w="0">
            <a:noFill/>
          </a:ln>
          <a:effectLst>
            <a:outerShdw algn="tl" dir="2700000" dist="139498" kx="0" sx="100000" sy="100000">
              <a:srgbClr val="333333">
                <a:alpha val="65000"/>
              </a:srgbClr>
            </a:outerShdw>
          </a:effectLst>
        </p:spPr>
      </p:pic>
      <p:sp>
        <p:nvSpPr>
          <p:cNvPr id="114" name="TextBox 6"/>
          <p:cNvSpPr/>
          <p:nvPr/>
        </p:nvSpPr>
        <p:spPr>
          <a:xfrm>
            <a:off x="2857680" y="1357200"/>
            <a:ext cx="92844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Documents and Settings\Новый пользователь\Рабочий стол\дшд\jelly_jam_103827_tns.png"/>
          <p:cNvPicPr/>
          <p:nvPr/>
        </p:nvPicPr>
        <p:blipFill>
          <a:blip r:embed="rId2"/>
          <a:stretch/>
        </p:blipFill>
        <p:spPr>
          <a:xfrm>
            <a:off x="4357800" y="2500200"/>
            <a:ext cx="2928600" cy="29779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6000840" y="185724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М=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5643720" y="53578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валю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денежная единица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C:\Documents and Settings\Новый пользователь\Рабочий стол\дшд\02d646ec4f92ee1891dad16699f4a3cc.jpg"/>
          <p:cNvPicPr/>
          <p:nvPr/>
        </p:nvPicPr>
        <p:blipFill>
          <a:blip r:embed="rId1"/>
          <a:srcRect l="0" t="0" r="0" b="3354"/>
          <a:stretch/>
        </p:blipFill>
        <p:spPr>
          <a:xfrm>
            <a:off x="4643280" y="2071800"/>
            <a:ext cx="2906280" cy="3285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C:\Documents and Settings\Новый пользователь\Рабочий стол\дшд\1221820517_dwsae0.gif"/>
          <p:cNvPicPr/>
          <p:nvPr/>
        </p:nvPicPr>
        <p:blipFill>
          <a:blip r:embed="rId2"/>
          <a:stretch/>
        </p:blipFill>
        <p:spPr>
          <a:xfrm>
            <a:off x="1494000" y="1994040"/>
            <a:ext cx="1834920" cy="3711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2928960" y="178596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6572160" y="1643040"/>
            <a:ext cx="9997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Прямая соединительная линия 18"/>
          <p:cNvCxnSpPr/>
          <p:nvPr/>
        </p:nvCxnSpPr>
        <p:spPr>
          <a:xfrm>
            <a:off x="6643440" y="1785600"/>
            <a:ext cx="857520" cy="85788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24" name="Прямая соединительная линия 19"/>
          <p:cNvCxnSpPr/>
          <p:nvPr/>
        </p:nvCxnSpPr>
        <p:spPr>
          <a:xfrm flipV="1">
            <a:off x="6643440" y="1714320"/>
            <a:ext cx="786240" cy="100044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sp>
        <p:nvSpPr>
          <p:cNvPr id="125" name="TextBox 5"/>
          <p:cNvSpPr/>
          <p:nvPr/>
        </p:nvSpPr>
        <p:spPr>
          <a:xfrm>
            <a:off x="7858080" y="1643040"/>
            <a:ext cx="9997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7200" spc="-1" strike="noStrike">
                <a:solidFill>
                  <a:schemeClr val="dk1"/>
                </a:solidFill>
                <a:latin typeface="Times New Roman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единительная линия 18"/>
          <p:cNvCxnSpPr/>
          <p:nvPr/>
        </p:nvCxnSpPr>
        <p:spPr>
          <a:xfrm>
            <a:off x="7858080" y="1714320"/>
            <a:ext cx="857520" cy="85752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  <p:cxnSp>
        <p:nvCxnSpPr>
          <p:cNvPr id="127" name="Прямая соединительная линия 19"/>
          <p:cNvCxnSpPr/>
          <p:nvPr/>
        </p:nvCxnSpPr>
        <p:spPr>
          <a:xfrm flipV="1">
            <a:off x="7858080" y="1714320"/>
            <a:ext cx="785880" cy="1000440"/>
          </a:xfrm>
          <a:prstGeom prst="straightConnector1">
            <a:avLst/>
          </a:prstGeom>
          <a:ln w="25400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5643720" y="514368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день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универсальный товар, всеобщий эквивал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Documents and Settings\Новый пользователь\Рабочий стол\дшд\21.jpg"/>
          <p:cNvPicPr/>
          <p:nvPr/>
        </p:nvPicPr>
        <p:blipFill>
          <a:blip r:embed="rId1"/>
          <a:stretch/>
        </p:blipFill>
        <p:spPr>
          <a:xfrm>
            <a:off x="4929120" y="2286000"/>
            <a:ext cx="2333160" cy="28666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7143840" y="1857240"/>
            <a:ext cx="8568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1420920" y="2352600"/>
            <a:ext cx="3511080" cy="34621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5"/>
          <p:cNvSpPr/>
          <p:nvPr/>
        </p:nvSpPr>
        <p:spPr>
          <a:xfrm>
            <a:off x="428760" y="1785960"/>
            <a:ext cx="2714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chemeClr val="dk1"/>
                </a:solidFill>
                <a:latin typeface="Times New Roman"/>
              </a:rPr>
              <a:t>Т= 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5572080" y="5000760"/>
            <a:ext cx="27856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chemeClr val="accent2"/>
                </a:solidFill>
                <a:latin typeface="Times New Roman"/>
              </a:rPr>
              <a:t>капит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642960" y="6000840"/>
            <a:ext cx="7786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chemeClr val="dk1"/>
                </a:solidFill>
                <a:latin typeface="Times New Roman"/>
              </a:rPr>
              <a:t>имущество, деньги, которые приносят до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D:\мои рисунки\природа1\радуга дождь\c7ca6d3eb668.png"/>
          <p:cNvPicPr/>
          <p:nvPr/>
        </p:nvPicPr>
        <p:blipFill>
          <a:blip r:embed="rId1"/>
          <a:srcRect l="13673" t="0" r="19532" b="0"/>
          <a:stretch/>
        </p:blipFill>
        <p:spPr>
          <a:xfrm>
            <a:off x="714240" y="2214720"/>
            <a:ext cx="2925360" cy="3052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"/>
          <p:cNvSpPr/>
          <p:nvPr/>
        </p:nvSpPr>
        <p:spPr>
          <a:xfrm>
            <a:off x="2857680" y="157176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:\мои рисунки\фон\рамуки\69b179ca1064 копия.png"/>
          <p:cNvPicPr/>
          <p:nvPr/>
        </p:nvPicPr>
        <p:blipFill>
          <a:blip r:embed="rId2"/>
          <a:srcRect l="72818" t="7941" r="7339" b="58981"/>
          <a:stretch/>
        </p:blipFill>
        <p:spPr>
          <a:xfrm>
            <a:off x="4143240" y="2000160"/>
            <a:ext cx="2514240" cy="3142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6"/>
          <p:cNvSpPr/>
          <p:nvPr/>
        </p:nvSpPr>
        <p:spPr>
          <a:xfrm>
            <a:off x="6643800" y="1714680"/>
            <a:ext cx="71388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6600" spc="-1" strike="noStrike">
                <a:solidFill>
                  <a:schemeClr val="dk1"/>
                </a:solidFill>
                <a:latin typeface="Times New Roman"/>
              </a:rPr>
              <a:t>’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5286240" y="3500280"/>
            <a:ext cx="571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200" spc="-1" strike="noStrike">
                <a:solidFill>
                  <a:schemeClr val="dk1"/>
                </a:solidFill>
                <a:latin typeface="Times New Roman"/>
              </a:rPr>
              <a:t>Р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Default Color Scheme">
      <a:dk1>
        <a:srgbClr val="000000"/>
      </a:dk1>
      <a:lt1>
        <a:srgbClr val="ffffff"/>
      </a:lt1>
      <a:dk2>
        <a:srgbClr val="808080"/>
      </a:dk2>
      <a:lt2>
        <a:srgbClr val="00000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7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Default Color Scheme">
      <a:dk1>
        <a:srgbClr val="000000"/>
      </a:dk1>
      <a:lt1>
        <a:srgbClr val="ffffff"/>
      </a:lt1>
      <a:dk2>
        <a:srgbClr val="808080"/>
      </a:dk2>
      <a:lt2>
        <a:srgbClr val="00000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7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69-12-31T21:00:00Z</dcterms:created>
  <dc:creator>RKY-LX1</dc:creator>
  <dc:description/>
  <dc:language>en-US</dc:language>
  <cp:lastModifiedBy>1</cp:lastModifiedBy>
  <dcterms:modified xsi:type="dcterms:W3CDTF">2023-12-09T20:00:12Z</dcterms:modified>
  <cp:revision>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77bc11469574542988e9b55bb54e531</vt:lpwstr>
  </property>
</Properties>
</file>