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2A2D-DC03-42B3-A3A9-7C01F01D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652A-4F90-4941-AE0D-4949E4E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1967-807D-4A7F-954D-C65E611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4EF4-44E1-4970-A6AE-F3D78E33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07F90-31DE-4CEC-B84A-600A3C81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2CB63-DCFD-4C2B-84CB-84A37DC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16EA-9443-483A-9E9D-2AA0601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311ED-B523-4477-9E82-1569EA08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279B5-DE01-4D71-8247-2CC66925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268C-7705-4DB9-BF15-EF4507E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0408E-914B-46AE-8C0D-A593640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AA73-E461-4561-A093-0ED30FD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7E942-7686-43CA-9530-5339996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4B33-3DF0-4A88-91E3-778B89E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333E1-3F38-4F90-AB4F-477A1054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3ED9-37F7-4C0E-80FC-8BCC6D2D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C184-36BD-42D2-ABDB-C5BBAFD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7CB3-D132-458D-8E51-02A8C66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EAFB-40EF-4F7E-A35F-0DF2C8D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5302-24D9-4C39-996E-98A9421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BA8E-A36E-4C23-8948-C7E991C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5E6F-DB25-4259-866B-BA8C463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2E17-06EB-4F0E-841E-659B190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5774-E733-4715-A858-8E5B5F2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714240" y="2071800"/>
            <a:ext cx="77720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ебу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07188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производ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единица товара, созданная за определенную единиц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Новый пользователь\Рабочий стол\клипарттж\Clipart 019_1.jpg"/>
          <p:cNvPicPr/>
          <p:nvPr/>
        </p:nvPicPr>
        <p:blipFill>
          <a:blip r:embed="rId1"/>
          <a:stretch/>
        </p:blipFill>
        <p:spPr>
          <a:xfrm>
            <a:off x="4500720" y="2428920"/>
            <a:ext cx="1974600" cy="257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Новый пользователь\Рабочий стол\дшд\bone.jpg"/>
          <p:cNvPicPr/>
          <p:nvPr/>
        </p:nvPicPr>
        <p:blipFill>
          <a:blip r:embed="rId2"/>
          <a:stretch/>
        </p:blipFill>
        <p:spPr>
          <a:xfrm>
            <a:off x="6858000" y="2714760"/>
            <a:ext cx="1856880" cy="2468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592920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Н= 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rcRect l="0" t="0" r="0" b="15996"/>
          <a:stretch/>
        </p:blipFill>
        <p:spPr>
          <a:xfrm>
            <a:off x="2357280" y="3071880"/>
            <a:ext cx="2018880" cy="1642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Documents and Settings\Новый пользователь\Рабочий стол\дшд\1235935261_0lik.ru_products1-63.jpg"/>
          <p:cNvPicPr/>
          <p:nvPr/>
        </p:nvPicPr>
        <p:blipFill>
          <a:blip r:embed="rId4"/>
          <a:stretch/>
        </p:blipFill>
        <p:spPr>
          <a:xfrm>
            <a:off x="208080" y="2567160"/>
            <a:ext cx="2230200" cy="2455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714680" y="1785960"/>
            <a:ext cx="14284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78612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000240" y="514368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ран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лицо, живущее на проценты с отдаваемого в ссуду капитала, от доходов с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Documents and Settings\Новый пользователь\Рабочий стол\дшд\backpack_012000089_tns.png"/>
          <p:cNvPicPr/>
          <p:nvPr/>
        </p:nvPicPr>
        <p:blipFill>
          <a:blip r:embed="rId1"/>
          <a:stretch/>
        </p:blipFill>
        <p:spPr>
          <a:xfrm>
            <a:off x="857160" y="2428920"/>
            <a:ext cx="3622320" cy="2857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3500280" y="150012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072120" y="2193840"/>
            <a:ext cx="2064960" cy="32493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 rot="10800000">
            <a:off x="521532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 rot="10800000">
            <a:off x="578664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 rot="10800000">
            <a:off x="550116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928960" y="54291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42960" y="614376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вещь, созданная на прода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Новый пользователь\Рабочий стол\дшд\9bad463fb84c.png"/>
          <p:cNvPicPr/>
          <p:nvPr/>
        </p:nvPicPr>
        <p:blipFill>
          <a:blip r:embed="rId1"/>
          <a:stretch/>
        </p:blipFill>
        <p:spPr>
          <a:xfrm>
            <a:off x="500040" y="2500200"/>
            <a:ext cx="3946320" cy="2806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3500280" y="150012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5143680" y="2857680"/>
            <a:ext cx="3714480" cy="2626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464328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8072280" y="16430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2928960" y="50007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хозяйственная деятельность по обороту товаров путем купли-прод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:\мои рисунки\едар\СЛАДОСТИ\af938a943bd6t.jpg"/>
          <p:cNvPicPr/>
          <p:nvPr/>
        </p:nvPicPr>
        <p:blipFill>
          <a:blip r:embed="rId1"/>
          <a:srcRect l="0" t="0" r="0" b="5881"/>
          <a:stretch/>
        </p:blipFill>
        <p:spPr>
          <a:xfrm>
            <a:off x="214200" y="2286000"/>
            <a:ext cx="2461680" cy="2503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207180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:\Documents and Settings\Новый пользователь\Рабочий стол\дшд\506d4d661e66.png"/>
          <p:cNvPicPr/>
          <p:nvPr/>
        </p:nvPicPr>
        <p:blipFill>
          <a:blip r:embed="rId2"/>
          <a:stretch/>
        </p:blipFill>
        <p:spPr>
          <a:xfrm>
            <a:off x="6143760" y="2000160"/>
            <a:ext cx="2746080" cy="2928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cuments and Settings\Новый пользователь\Рабочий стол\дшд\d00236df13cb.png"/>
          <p:cNvPicPr/>
          <p:nvPr/>
        </p:nvPicPr>
        <p:blipFill>
          <a:blip r:embed="rId3"/>
          <a:stretch/>
        </p:blipFill>
        <p:spPr>
          <a:xfrm>
            <a:off x="2643120" y="2714760"/>
            <a:ext cx="2495160" cy="1976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714920" y="157176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7786800" y="16430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14368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00024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ц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71680" y="607212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тоимость товара, выраженная в день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Documents and Settings\Новый пользователь\Рабочий стол\дшд\c16658718739.png"/>
          <p:cNvPicPr/>
          <p:nvPr/>
        </p:nvPicPr>
        <p:blipFill>
          <a:blip r:embed="rId1"/>
          <a:stretch/>
        </p:blipFill>
        <p:spPr>
          <a:xfrm>
            <a:off x="642960" y="2357280"/>
            <a:ext cx="3474720" cy="2642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C:\Documents and Settings\Новый пользователь\Рабочий стол\дшд\87cfdd7a25a7.png"/>
          <p:cNvPicPr/>
          <p:nvPr/>
        </p:nvPicPr>
        <p:blipFill>
          <a:blip r:embed="rId2"/>
          <a:stretch/>
        </p:blipFill>
        <p:spPr>
          <a:xfrm>
            <a:off x="6143760" y="1785960"/>
            <a:ext cx="1036440" cy="3460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7786800" y="16430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357720" y="471492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571680" y="5500800"/>
            <a:ext cx="7786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наука о хозяйстве, способах его ведения людьми, отношениях между людьми в процессе производства и обмен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:\Documents and Settings\Новый пользователь\Рабочий стол\дшд\examination1.gif"/>
          <p:cNvPicPr/>
          <p:nvPr/>
        </p:nvPicPr>
        <p:blipFill>
          <a:blip r:embed="rId1"/>
          <a:stretch/>
        </p:blipFill>
        <p:spPr>
          <a:xfrm>
            <a:off x="222120" y="2500200"/>
            <a:ext cx="2863440" cy="2214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 rot="1122000">
            <a:off x="1428480" y="3929040"/>
            <a:ext cx="999720" cy="3567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>
                <a:alpha val="10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</a:rPr>
              <a:t>Билет 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071800" y="18572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1356840" cy="25538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4214880" y="164304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18"/>
          <p:cNvCxnSpPr/>
          <p:nvPr/>
        </p:nvCxnSpPr>
        <p:spPr>
          <a:xfrm>
            <a:off x="4429080" y="185724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88" name="Прямая соединительная линия 19"/>
          <p:cNvCxnSpPr/>
          <p:nvPr/>
        </p:nvCxnSpPr>
        <p:spPr>
          <a:xfrm flipV="1">
            <a:off x="4429080" y="1785600"/>
            <a:ext cx="785880" cy="1000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pic>
        <p:nvPicPr>
          <p:cNvPr id="189" name="Picture 8" descr="C:\Documents and Settings\Новый пользователь\Рабочий стол\дшд\Mixer - Electric 09.gif"/>
          <p:cNvPicPr/>
          <p:nvPr/>
        </p:nvPicPr>
        <p:blipFill>
          <a:blip r:embed="rId3"/>
          <a:stretch/>
        </p:blipFill>
        <p:spPr>
          <a:xfrm>
            <a:off x="5072040" y="2286000"/>
            <a:ext cx="2214360" cy="2547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4"/>
          <p:cNvSpPr/>
          <p:nvPr/>
        </p:nvSpPr>
        <p:spPr>
          <a:xfrm>
            <a:off x="6858000" y="18572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57224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rcRect l="13125" t="13125" r="9997" b="8126"/>
          <a:stretch/>
        </p:blipFill>
        <p:spPr>
          <a:xfrm>
            <a:off x="1071720" y="2571840"/>
            <a:ext cx="2928600" cy="2999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нансовое учреждение для вкладов и зай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429160" y="50720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ои рисунки\животныее6е\белки кроты ежи\krot02.jpg"/>
          <p:cNvPicPr/>
          <p:nvPr/>
        </p:nvPicPr>
        <p:blipFill>
          <a:blip r:embed="rId2"/>
          <a:stretch/>
        </p:blipFill>
        <p:spPr>
          <a:xfrm>
            <a:off x="4857840" y="2786040"/>
            <a:ext cx="2539800" cy="228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6572160" y="228600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00240" y="178596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18"/>
          <p:cNvCxnSpPr/>
          <p:nvPr/>
        </p:nvCxnSpPr>
        <p:spPr>
          <a:xfrm>
            <a:off x="3214440" y="200016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90" name="Прямая соединительная линия 19"/>
          <p:cNvCxnSpPr/>
          <p:nvPr/>
        </p:nvCxnSpPr>
        <p:spPr>
          <a:xfrm flipV="1">
            <a:off x="3214440" y="19285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00800" y="48578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н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5657760"/>
            <a:ext cx="821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денежный знак, выпускаемый в обращение и гарантируемый центральным бан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В настоящее время являются основным видом бумажных ден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мои рисунки\искусство\музыка\d23673210d8c.png"/>
          <p:cNvPicPr/>
          <p:nvPr/>
        </p:nvPicPr>
        <p:blipFill>
          <a:blip r:embed="rId1"/>
          <a:srcRect l="0" t="0" r="0" b="17183"/>
          <a:stretch/>
        </p:blipFill>
        <p:spPr>
          <a:xfrm>
            <a:off x="5072040" y="2357280"/>
            <a:ext cx="2833200" cy="2346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214880" y="2928960"/>
            <a:ext cx="6426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Новый пользователь\Рабочий стол\риснов\493.jpg"/>
          <p:cNvPicPr/>
          <p:nvPr/>
        </p:nvPicPr>
        <p:blipFill>
          <a:blip r:embed="rId2"/>
          <a:srcRect l="58600" t="0" r="0" b="24363"/>
          <a:stretch/>
        </p:blipFill>
        <p:spPr>
          <a:xfrm>
            <a:off x="1000080" y="1990800"/>
            <a:ext cx="2857320" cy="32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85792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р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14200" y="5657760"/>
            <a:ext cx="8214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атуральный товарообмен, при котором одна вещь меняется на другую без денежной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мои рисунки\школа\школа\прекрн.gif"/>
          <p:cNvPicPr/>
          <p:nvPr/>
        </p:nvPicPr>
        <p:blipFill>
          <a:blip r:embed="rId1"/>
          <a:stretch/>
        </p:blipFill>
        <p:spPr>
          <a:xfrm>
            <a:off x="208080" y="2279520"/>
            <a:ext cx="3820680" cy="3511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57120" y="19288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П= 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786120" y="17146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:\мои рисунки\флаги символы\25ecd6619fabb2f733fa2ef9e05a0280_full.jpg"/>
          <p:cNvPicPr/>
          <p:nvPr/>
        </p:nvPicPr>
        <p:blipFill>
          <a:blip r:embed="rId2"/>
          <a:stretch/>
        </p:blipFill>
        <p:spPr>
          <a:xfrm>
            <a:off x="5143680" y="2286000"/>
            <a:ext cx="2876040" cy="2876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771516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 rot="10800000">
            <a:off x="5240880" y="15033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600084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изн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424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экономическая деятельность, цель которой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Новый пользователь\Рабочий стол\дшд\1194983712377693656bison_leif_lodahl_01.svg.med.png"/>
          <p:cNvPicPr/>
          <p:nvPr/>
        </p:nvPicPr>
        <p:blipFill>
          <a:blip r:embed="rId1"/>
          <a:stretch/>
        </p:blipFill>
        <p:spPr>
          <a:xfrm>
            <a:off x="714240" y="2428920"/>
            <a:ext cx="2609640" cy="2785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Новый пользователь\Рабочий стол\дшд\NestorLet.jpg"/>
          <p:cNvPicPr/>
          <p:nvPr/>
        </p:nvPicPr>
        <p:blipFill>
          <a:blip r:embed="rId2"/>
          <a:stretch/>
        </p:blipFill>
        <p:spPr>
          <a:xfrm>
            <a:off x="4492800" y="1639800"/>
            <a:ext cx="2341080" cy="372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Новый пользователь\Рабочий стол\дшд\26406.jpg"/>
          <p:cNvPicPr/>
          <p:nvPr/>
        </p:nvPicPr>
        <p:blipFill>
          <a:blip r:embed="rId3"/>
          <a:stretch/>
        </p:blipFill>
        <p:spPr>
          <a:xfrm rot="1623000">
            <a:off x="5746680" y="3455640"/>
            <a:ext cx="1353600" cy="181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143840" y="171468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2920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лан доходов и расходов на определенный период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Новый пользователь\Рабочий стол\дшд\456px-RichardBently-bust-Roubiliac.png"/>
          <p:cNvPicPr/>
          <p:nvPr/>
        </p:nvPicPr>
        <p:blipFill>
          <a:blip r:embed="rId1"/>
          <a:srcRect l="13702" t="5210" r="21205" b="30991"/>
          <a:stretch/>
        </p:blipFill>
        <p:spPr>
          <a:xfrm>
            <a:off x="785880" y="2000160"/>
            <a:ext cx="2714400" cy="3499920"/>
          </a:xfrm>
          <a:prstGeom prst="rect">
            <a:avLst/>
          </a:prstGeom>
          <a:ln w="0">
            <a:noFill/>
          </a:ln>
          <a:effectLst>
            <a:outerShdw algn="tl" dir="2700000" dist="139498" kx="0" sx="100000" sy="100000">
              <a:srgbClr val="333333">
                <a:alpha val="65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2857680" y="135720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Documents and Settings\Новый пользователь\Рабочий стол\дшд\jelly_jam_103827_tns.png"/>
          <p:cNvPicPr/>
          <p:nvPr/>
        </p:nvPicPr>
        <p:blipFill>
          <a:blip r:embed="rId2"/>
          <a:stretch/>
        </p:blipFill>
        <p:spPr>
          <a:xfrm>
            <a:off x="4357800" y="2500200"/>
            <a:ext cx="2928600" cy="2977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6000840" y="185724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64372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валю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денежная единиц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Новый пользователь\Рабочий стол\дшд\02d646ec4f92ee1891dad16699f4a3cc.jpg"/>
          <p:cNvPicPr/>
          <p:nvPr/>
        </p:nvPicPr>
        <p:blipFill>
          <a:blip r:embed="rId1"/>
          <a:srcRect l="0" t="0" r="0" b="3354"/>
          <a:stretch/>
        </p:blipFill>
        <p:spPr>
          <a:xfrm>
            <a:off x="4643280" y="2071800"/>
            <a:ext cx="2906280" cy="32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Новый пользователь\Рабочий стол\дшд\1221820517_dwsae0.gif"/>
          <p:cNvPicPr/>
          <p:nvPr/>
        </p:nvPicPr>
        <p:blipFill>
          <a:blip r:embed="rId2"/>
          <a:stretch/>
        </p:blipFill>
        <p:spPr>
          <a:xfrm>
            <a:off x="1494000" y="1994040"/>
            <a:ext cx="1834920" cy="3711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57216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единительная линия 18"/>
          <p:cNvCxnSpPr/>
          <p:nvPr/>
        </p:nvCxnSpPr>
        <p:spPr>
          <a:xfrm>
            <a:off x="6643440" y="1785600"/>
            <a:ext cx="857520" cy="85788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4" name="Прямая соединительная линия 19"/>
          <p:cNvCxnSpPr/>
          <p:nvPr/>
        </p:nvCxnSpPr>
        <p:spPr>
          <a:xfrm flipV="1">
            <a:off x="6643440" y="17143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sp>
        <p:nvSpPr>
          <p:cNvPr id="125" name="TextBox 5"/>
          <p:cNvSpPr/>
          <p:nvPr/>
        </p:nvSpPr>
        <p:spPr>
          <a:xfrm>
            <a:off x="785808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18"/>
          <p:cNvCxnSpPr/>
          <p:nvPr/>
        </p:nvCxnSpPr>
        <p:spPr>
          <a:xfrm>
            <a:off x="7858080" y="171432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7" name="Прямая соединительная линия 19"/>
          <p:cNvCxnSpPr/>
          <p:nvPr/>
        </p:nvCxnSpPr>
        <p:spPr>
          <a:xfrm flipV="1">
            <a:off x="7858080" y="1714320"/>
            <a:ext cx="78588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64372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универсальный товар, всеобщий эквивал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Documents and Settings\Новый пользователь\Рабочий стол\дшд\21.jpg"/>
          <p:cNvPicPr/>
          <p:nvPr/>
        </p:nvPicPr>
        <p:blipFill>
          <a:blip r:embed="rId1"/>
          <a:stretch/>
        </p:blipFill>
        <p:spPr>
          <a:xfrm>
            <a:off x="4929120" y="2286000"/>
            <a:ext cx="2333160" cy="2866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714384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1420920" y="2352600"/>
            <a:ext cx="3511080" cy="3462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428760" y="178596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Т= 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557208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капит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мущество, деньги, которые приносят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D:\мои рисунки\природа1\радуга дождь\c7ca6d3eb668.png"/>
          <p:cNvPicPr/>
          <p:nvPr/>
        </p:nvPicPr>
        <p:blipFill>
          <a:blip r:embed="rId1"/>
          <a:srcRect l="13673" t="0" r="19532" b="0"/>
          <a:stretch/>
        </p:blipFill>
        <p:spPr>
          <a:xfrm>
            <a:off x="714240" y="2214720"/>
            <a:ext cx="2925360" cy="3052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мои рисунки\фон\рамуки\69b179ca1064 копия.png"/>
          <p:cNvPicPr/>
          <p:nvPr/>
        </p:nvPicPr>
        <p:blipFill>
          <a:blip r:embed="rId2"/>
          <a:srcRect l="72818" t="7941" r="7339" b="58981"/>
          <a:stretch/>
        </p:blipFill>
        <p:spPr>
          <a:xfrm>
            <a:off x="4143240" y="2000160"/>
            <a:ext cx="2514240" cy="3142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643800" y="171468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286240" y="3500280"/>
            <a:ext cx="57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dk1"/>
                </a:solidFill>
                <a:latin typeface="Times New Roman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69-12-31T21:00:00Z</dcterms:created>
  <dc:creator>RKY-LX1</dc:creator>
  <dc:description/>
  <dc:language>en-US</dc:language>
  <cp:lastModifiedBy>1</cp:lastModifiedBy>
  <dcterms:modified xsi:type="dcterms:W3CDTF">2023-12-09T20:00:12Z</dcterms:modified>
  <cp:revision>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77bc11469574542988e9b55bb54e531</vt:lpwstr>
  </property>
</Properties>
</file>