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6ECF-2DBB-4F75-B9C2-D8D653954A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1EF0-95CC-486A-8326-EAB954A80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D87-28F8-4B72-90EB-5B79A880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2F7-B62E-4B88-9C44-99652C29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389-A5BD-4A57-B357-8D68848B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FF1-A3E0-408A-B0D9-62AA592F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93CA-504D-41D8-9FE4-DC8EF178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EA9A-EA1C-4BE5-BAC1-BA729232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EB5E-816B-443D-80BD-0610155A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9F6E-8D46-410F-8E7E-4E144B1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66AA-C8E1-4AC7-8903-B514D3AB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2DD1-0E5E-46B5-AA5C-39C86212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96D7-B5B2-4473-A226-06F5F929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B06-9E2F-4E27-9BEE-016085DF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F661-B6B6-4378-AC52-EE3772F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7241-0264-448D-8DFA-11DA20E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42BB-0207-4843-96B1-6201451D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963C-67CF-46EE-BEA6-9694FB93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8FB4-FF26-44A1-9D9E-EC5D7BDE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2C06-6B59-4EC6-AFA8-05023559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4251-1AD3-4211-8D94-702AE418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8B9F-36DE-448C-8A52-29292892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CD77-9FB3-4F02-AFA9-797DAEA7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6237-0798-4101-9C9B-60FD67F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409-57F5-42CE-A3BF-D81CBD24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D3CB-C69C-4AB8-AF87-CE5B73B6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9458-FAF3-4886-944D-445FA11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3BA3-B8F4-40EB-8480-BD7F6D2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AFBA-7190-4EA9-9092-10CCFBB6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F07F-519A-4319-8391-0472DCB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0AFD-C0C1-4C74-8DE3-03E7FB1C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7FDF-5095-4ABB-A5CB-3C64FE1A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194B-5F08-4967-A5BF-CD68E2A4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07927-A9C5-41AF-91DB-8579F8D0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D460C-1605-4014-B192-499532D1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07A-515E-4310-878B-79EA8F1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D6D7-D2E7-4F64-AC18-EAEB5E1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8E048-930C-4E1C-AA4D-077785D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4455-350A-480D-A805-54B66673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F3BC-F8F7-4EDB-96C6-68F168ED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A9C3-E5B6-4B7B-8690-70D8D41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FFB6-78FF-4DD3-BC29-46A83D1D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5F8E-3DD6-4773-9585-F4F93C05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A8F53-62E7-471B-930A-E607072A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AB52-BBB5-4F7F-85EB-B63DA7D6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328-7BC9-4A3F-9D13-7504821F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227-360E-4053-B7CA-10C5312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217-C584-42AF-B96E-58D25E1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EE5-5ACE-4FCA-9055-E7F22D67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0A2-84C8-413F-94B4-448229C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757-224B-451D-9A12-F095064E0A1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5B9-D840-45D9-A3F5-D3F6E849E3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6151-E7FF-48BE-BDD2-69E01FFD99C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1A41-142C-4D54-A88F-690BE723DF4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547640" y="4221000"/>
            <a:ext cx="734544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золева Альбина Владимировна- учитель ОБ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Троицкая СОШ Заларинского района Иркутской обла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547640" y="1268280"/>
            <a:ext cx="52200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Юдже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826920" y="3430440"/>
            <a:ext cx="59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1700280" y="620640"/>
            <a:ext cx="5219640" cy="29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Солнечные пятна - эт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самооценк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413000"/>
          <a:ext cx="7416720" cy="4968720"/>
        </p:xfrm>
        <a:graphic>
          <a:graphicData uri="http://schemas.openxmlformats.org/drawingml/2006/table">
            <a:tbl>
              <a:tblPr/>
              <a:tblGrid>
                <a:gridCol w="2205000"/>
                <a:gridCol w="182160"/>
                <a:gridCol w="1837080"/>
                <a:gridCol w="1837440"/>
                <a:gridCol w="1355040"/>
              </a:tblGrid>
              <a:tr h="344520">
                <a:tc gridSpan="2" row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стью (2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ошибкой (1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равился (0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596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ица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4452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8108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бюджета семьи, определение типа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81080">
                <a:tc gridSpan="3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Умный покупа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 расшифровал – 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о расшифровал – 0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5960">
                <a:tc gridSpan="3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балл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 баллов – 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gridSpan="2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баллов – 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баллов – 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 балла – 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2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68000" y="1412640"/>
            <a:ext cx="526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ы для учащихся, страница 89, семейный совет  (обсуждение этой темы с родителям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1619280" y="549360"/>
            <a:ext cx="5977080" cy="64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6" name="Рисунок 2" descr=""/>
          <p:cNvPicPr/>
          <p:nvPr/>
        </p:nvPicPr>
        <p:blipFill>
          <a:blip r:embed="rId1"/>
          <a:stretch/>
        </p:blipFill>
        <p:spPr>
          <a:xfrm>
            <a:off x="2411280" y="3441600"/>
            <a:ext cx="5788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94920" y="170028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«…Но бюджет, это очень уж хитрый предмет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Всякая вещь-или есть, или нет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А бюджет,- я никак не пойму, в чём секрет,-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юджет если есть, то его сразу нет!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( Борис Заходер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403280" y="404640"/>
            <a:ext cx="640872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1"/>
          <a:stretch/>
        </p:blipFill>
        <p:spPr>
          <a:xfrm>
            <a:off x="5291280" y="3213000"/>
            <a:ext cx="2552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урока: доходы, расходы, составление семейного бюджет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Объект 1" descr=""/>
          <p:cNvPicPr/>
          <p:nvPr/>
        </p:nvPicPr>
        <p:blipFill>
          <a:blip r:embed="rId1"/>
          <a:stretch/>
        </p:blipFill>
        <p:spPr>
          <a:xfrm>
            <a:off x="851040" y="2160720"/>
            <a:ext cx="5865840" cy="3881160"/>
          </a:xfrm>
          <a:prstGeom prst="rect">
            <a:avLst/>
          </a:prstGeom>
          <a:ln w="0">
            <a:noFill/>
          </a:ln>
        </p:spPr>
      </p:pic>
      <p:sp>
        <p:nvSpPr>
          <p:cNvPr id="228" name="WordArt 4"/>
          <p:cNvSpPr txBox="1"/>
          <p:nvPr/>
        </p:nvSpPr>
        <p:spPr>
          <a:xfrm>
            <a:off x="1332000" y="47628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5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3619800" cy="321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914400" y="1557360"/>
          <a:ext cx="7772400" cy="15080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ть, что такое семейный 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читься различать типы семейн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читься рассчитывать доходы и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такое дефицит и профицит в семейном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Задача 1: Вера жила с мамой, папой, бабушкой, братом. Ей очень захотелось новый велосипед, семья решила посчитать: может ли купить его Вере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8920" y="2063880"/>
            <a:ext cx="49690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HY그래픽M"/>
              </a:rPr>
              <a:t>Расхо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Продукты-25 000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Оплата обедов- 2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Оплата за свет,газ,воду- 4 5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За детский сад- 3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Расходы на лекарства- 1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Мобильная связь и интернет- 2 000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Проезд на маршрутках- 1 8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Абонент в спортзал- 3 0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Кино. игрушки- 3 0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Итого:45 3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48000" y="2349000"/>
            <a:ext cx="360036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ход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плата папы- 25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плата мамы- 18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сия бабушки- 12 000 руб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ги за ремонт телевизора, который папа починил-1 000 р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о:56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268360" y="476280"/>
            <a:ext cx="4751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7900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принято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816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оходы»- «расходы»=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доход семьи за месяц»-это сбережения семьи за месяц.( 10 700 рублей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а решил: На 6 000 рублей купим велосипед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оставшиеся деньги отнесём в банк на хране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5160960" y="2170080"/>
            <a:ext cx="3732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сновные термины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сход-деньги, которые тратятся в течении месяца( может и длительнее период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оход-деньги, которые полученные за месяц( может и длительнее период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Бюджет-учёт и план доходов и расходов на определённый период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« подушка финансовой безопасности»-откладывание в сбережения 10% от доходов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ефицит бюджета-ситуация, при которой расходы будут превышать доход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официт бюджета-ситуация, при которой доходы превышают расходы , и эту разницу можно отложить в сбережения( «правило десяти процентов»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58920" y="12600"/>
            <a:ext cx="63482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 по группа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6000" y="5300280"/>
            <a:ext cx="58435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9480" y="2205000"/>
          <a:ext cx="7777440" cy="2685960"/>
        </p:xfrm>
        <a:graphic>
          <a:graphicData uri="http://schemas.openxmlformats.org/drawingml/2006/table">
            <a:tbl>
              <a:tblPr/>
              <a:tblGrid>
                <a:gridCol w="2016360"/>
                <a:gridCol w="1944720"/>
                <a:gridCol w="1871640"/>
                <a:gridCol w="1944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гуля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регуля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ип бюдже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«Умный покупатель»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Объект 2" descr=""/>
          <p:cNvPicPr/>
          <p:nvPr/>
        </p:nvPicPr>
        <p:blipFill>
          <a:blip r:embed="rId1"/>
          <a:stretch/>
        </p:blipFill>
        <p:spPr>
          <a:xfrm>
            <a:off x="4967280" y="2276640"/>
            <a:ext cx="2587680" cy="38811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"/>
          <p:cNvPicPr/>
          <p:nvPr/>
        </p:nvPicPr>
        <p:blipFill>
          <a:blip r:embed="rId2"/>
          <a:stretch/>
        </p:blipFill>
        <p:spPr>
          <a:xfrm>
            <a:off x="395280" y="3579840"/>
            <a:ext cx="4572000" cy="2577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"/>
          <p:cNvPicPr/>
          <p:nvPr/>
        </p:nvPicPr>
        <p:blipFill>
          <a:blip r:embed="rId3"/>
          <a:stretch/>
        </p:blipFill>
        <p:spPr>
          <a:xfrm>
            <a:off x="1619280" y="148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8:41:29Z</dcterms:created>
  <dc:creator>Алена</dc:creator>
  <dc:description/>
  <dc:language>en-US</dc:language>
  <cp:lastModifiedBy>Альбина</cp:lastModifiedBy>
  <dcterms:modified xsi:type="dcterms:W3CDTF">2023-12-19T04:38:58Z</dcterms:modified>
  <cp:revision>45</cp:revision>
  <dc:subject/>
  <dc:title>Слайд 1</dc:title>
</cp:coreProperties>
</file>