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48D8-23FB-483E-AF96-398D2F34D4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3479-90BB-488A-BFE0-BCF1AA4A5B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B27E-EDF9-4A9A-852D-831610ED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A35-6439-46B8-A459-2BF004CD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67E-75A3-4969-8263-FD89A51E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DA8-B2CB-46FB-83D1-EA2C61F2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C206-8719-48F8-B109-3D2D6771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578C-284C-4656-9FA5-83B59B9D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38B9-A75A-4E19-B25F-00F73DC3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5E2AA-7887-4F5D-9837-DE787FCB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C690-D3FA-44CF-BDBD-0A3E57D6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F8FC-5A5A-474E-A957-BA0B5314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4351-4DA0-4ECC-9167-7C4F808C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581-8D91-4572-8ADC-5CF50FC4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FC34-2FAE-44D6-9802-0CD7324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C0F6-4DB5-49A5-8F53-EFE99AE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1132-1A34-497E-A185-38844CA8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6684-6E78-4ED1-A6BE-F4AB1AC4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9359-B734-42DC-B3FA-90A3A08D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DFD0-E9BF-4904-9100-E7A29860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0EFBD-A0A0-4C73-BBE7-39C9DEF7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84C64-41F4-400C-9914-4B8799BC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B31CE-B335-4BD4-8B59-73353FD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BC49-97D3-4532-981F-EEB231BC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2619-881B-4074-83C2-E467920F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4C607-3646-4638-A0B6-6F173CB1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70DAC-9F4B-4D7F-836C-58ACC17E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D50D-41FA-49EF-8A41-E352AB7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9C67-6105-4E75-AA89-256927D3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58D6-D560-4D4C-BCC3-EB608986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68A12-1961-4134-8271-F9353935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3A425-24C5-4AC9-879D-42F11190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FD5EA-26FE-40BA-A381-1BBB97EC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7A6DC-D843-4A81-8539-373382A7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140FE-0941-4361-A149-1C53424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0F8-830A-4904-A3F2-003A2FD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A8AA3-4C6E-4466-90ED-068F5157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39DE5-490A-40A1-886F-3ADC97A3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217C-9C53-4255-B4B6-193ED875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A9F4-362D-40AD-B46B-A4FAD7D3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DCC2-358B-4CA6-9ADE-8CA356E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5F45A-6AFF-4881-8FB4-33595FA6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5A1B-1F04-4F2C-BB0F-9D9CFA4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D3DE-D772-4962-A636-49A25056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1CC7E-EFC5-48C5-BAC3-1FAD8E39C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A7D4-D24E-438F-892C-FF99D66E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4D10-6787-4CC7-A845-5D636822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F36-A065-4D5D-954F-6F836F5B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62D-58AA-43E6-963E-99B2EF0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F4C-4383-4D20-9EF3-6C152023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335-4A95-4431-A111-C4B9C1B17E5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FE7A-8093-4F15-88F2-97F60FE038B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5C16-537E-47D0-9868-99AF72CA890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9574-9A3F-4B46-BB6A-D39E5569A8B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734544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золева Альбина Владимировна- учитель ОБЖ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БОУ Троицкая СОШ Заларинского района Иркутской област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WordArt 5"/>
          <p:cNvSpPr txBox="1"/>
          <p:nvPr/>
        </p:nvSpPr>
        <p:spPr>
          <a:xfrm>
            <a:off x="1547640" y="1268280"/>
            <a:ext cx="522000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Юджет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826920" y="3430440"/>
            <a:ext cx="59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грам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5"/>
          <p:cNvSpPr txBox="1"/>
          <p:nvPr/>
        </p:nvSpPr>
        <p:spPr>
          <a:xfrm>
            <a:off x="1700280" y="620640"/>
            <a:ext cx="5219640" cy="296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Trebuchet MS"/>
              </a:rPr>
              <a:t>Солнечные пятна - эт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а самооценки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8360" y="1413000"/>
          <a:ext cx="7416720" cy="4968720"/>
        </p:xfrm>
        <a:graphic>
          <a:graphicData uri="http://schemas.openxmlformats.org/drawingml/2006/table">
            <a:tbl>
              <a:tblPr/>
              <a:tblGrid>
                <a:gridCol w="2205000"/>
                <a:gridCol w="182160"/>
                <a:gridCol w="1837080"/>
                <a:gridCol w="1837440"/>
                <a:gridCol w="1355040"/>
              </a:tblGrid>
              <a:tr h="344520">
                <a:tc gridSpan="2" row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полнение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стью (2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шибкой (1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равился (0б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лица до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4452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блица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1081080">
                <a:tc gridSpan="2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чет бюджета семьи, определение типа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1081080">
                <a:tc gridSpan="3"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 «Умный покупател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но расшифровал – 1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рно расшифровал – 0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45960">
                <a:tc gridSpan="3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 балл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7 баллов – «5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 gridSpan="2"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5 баллов – «4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3 баллов – «3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 балла – «2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  <p:sp>
        <p:nvSpPr>
          <p:cNvPr id="25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68000" y="1412640"/>
            <a:ext cx="526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алы для учащихся, страница 89, семейный совет  (обсуждение этой темы с родителям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619280" y="549360"/>
            <a:ext cx="5977080" cy="642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Домашнее зад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6" name="Рисунок 2" descr=""/>
          <p:cNvPicPr/>
          <p:nvPr/>
        </p:nvPicPr>
        <p:blipFill>
          <a:blip r:embed="rId1"/>
          <a:stretch/>
        </p:blipFill>
        <p:spPr>
          <a:xfrm>
            <a:off x="2411280" y="3441600"/>
            <a:ext cx="57880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4920" y="170028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«…Но бюджет, это очень уж хитрый предмет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Всякая вещь-или есть, или нет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  <a:ea typeface="HY그래픽M"/>
              </a:rPr>
              <a:t>А бюджет,- я никак не пойму, в чём секрет,-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Бюджет если есть, то его сразу нет!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( Борис Заходер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1403280" y="404640"/>
            <a:ext cx="640872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5" name="Рисунок 3" descr=""/>
          <p:cNvPicPr/>
          <p:nvPr/>
        </p:nvPicPr>
        <p:blipFill>
          <a:blip r:embed="rId1"/>
          <a:stretch/>
        </p:blipFill>
        <p:spPr>
          <a:xfrm>
            <a:off x="5291280" y="3213000"/>
            <a:ext cx="25524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урока: доходы, расходы, составление семейного бюджета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Объект 1" descr=""/>
          <p:cNvPicPr/>
          <p:nvPr/>
        </p:nvPicPr>
        <p:blipFill>
          <a:blip r:embed="rId1"/>
          <a:stretch/>
        </p:blipFill>
        <p:spPr>
          <a:xfrm>
            <a:off x="851040" y="2160720"/>
            <a:ext cx="5865840" cy="3881160"/>
          </a:xfrm>
          <a:prstGeom prst="rect">
            <a:avLst/>
          </a:prstGeom>
          <a:ln w="0">
            <a:noFill/>
          </a:ln>
        </p:spPr>
      </p:pic>
      <p:sp>
        <p:nvSpPr>
          <p:cNvPr id="228" name="WordArt 4"/>
          <p:cNvSpPr txBox="1"/>
          <p:nvPr/>
        </p:nvSpPr>
        <p:spPr>
          <a:xfrm>
            <a:off x="1332000" y="476280"/>
            <a:ext cx="669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72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Задачи урока:</a:t>
            </a:r>
            <a:endParaRPr b="0" lang="en-US" sz="7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Объект 5" descr=""/>
          <p:cNvPicPr/>
          <p:nvPr/>
        </p:nvPicPr>
        <p:blipFill>
          <a:blip r:embed="rId1"/>
          <a:stretch/>
        </p:blipFill>
        <p:spPr>
          <a:xfrm>
            <a:off x="2268360" y="3500280"/>
            <a:ext cx="3619800" cy="321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914400" y="1557360"/>
          <a:ext cx="7772400" cy="15080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знать, что такое семейный бюдж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зличать типы семейного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учиться рассчитывать доходы и 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то такое дефицит и профицит в семейном бюдж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Задача 1: Вера жила с мамой, папой, бабушкой, братом. Ей очень захотелось новый велосипед, семья решила посчитать: может ли купить его Вере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8920" y="2063880"/>
            <a:ext cx="496908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HY그래픽M"/>
              </a:rPr>
              <a:t>Расходы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дукты-25 000 руб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обедов- 2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Оплата за свет,газ,воду- 4 5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За детский сад- 3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Расходы на лекарства- 1 0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Мобильная связь и интернет- 2 000руб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Проезд на маршрутках- 1 8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Абонент в спортзал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Кино. игрушки- 3 000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HY그래픽M"/>
              </a:rPr>
              <a:t>Итого:45 300 рублей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148000" y="2349000"/>
            <a:ext cx="360036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оходы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папы- 25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плата мамы- 18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сия бабушки- 12 000 руб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ьги за ремонт телевизора, который папа починил-1 000 р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:56 000 рублей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2268360" y="476280"/>
            <a:ext cx="47516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7900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ение принято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98160" y="1599840"/>
            <a:ext cx="4762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доходы»- «расходы»=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доход семьи за месяц»-это сбережения семьи за месяц.( 10 700 рублей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а решил: На 6 000 рублей купим велосипед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ставшиеся деньги отнесём в банк на хранен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5160960" y="2170080"/>
            <a:ext cx="37321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термины урока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120" y="1628640"/>
            <a:ext cx="63486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Расход-деньги, которые тратятся в течении месяца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оход-деньги, которые полученные за месяц( может и длительнее период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Бюджет-учёт и план доходов и расходов на определённый период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« подушка финансовой безопасности»-откладывание в сбережения 10% от доходов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Дефицит бюджета-ситуация, при которой расходы будут превышать доходы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Профицит бюджета-ситуация, при которой доходы превышают расходы , и эту разницу можно отложить в сбережения( «правило десяти процентов»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54a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58920" y="12600"/>
            <a:ext cx="634824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 по группам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6000" y="5300280"/>
            <a:ext cx="58435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500" spc="-1" strike="noStrike">
              <a:solidFill>
                <a:srgbClr val="7f7f7f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09480" y="2205000"/>
          <a:ext cx="7777440" cy="2685960"/>
        </p:xfrm>
        <a:graphic>
          <a:graphicData uri="http://schemas.openxmlformats.org/drawingml/2006/table">
            <a:tbl>
              <a:tblPr/>
              <a:tblGrid>
                <a:gridCol w="2016360"/>
                <a:gridCol w="1944720"/>
                <a:gridCol w="1871640"/>
                <a:gridCol w="19447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емейный бюдж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регуляр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еобяз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ип бюджет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«Умный покупатель»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Объект 2" descr=""/>
          <p:cNvPicPr/>
          <p:nvPr/>
        </p:nvPicPr>
        <p:blipFill>
          <a:blip r:embed="rId1"/>
          <a:stretch/>
        </p:blipFill>
        <p:spPr>
          <a:xfrm>
            <a:off x="4967280" y="2276640"/>
            <a:ext cx="2587680" cy="38811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3" descr=""/>
          <p:cNvPicPr/>
          <p:nvPr/>
        </p:nvPicPr>
        <p:blipFill>
          <a:blip r:embed="rId2"/>
          <a:stretch/>
        </p:blipFill>
        <p:spPr>
          <a:xfrm>
            <a:off x="395280" y="3579840"/>
            <a:ext cx="4572000" cy="25779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5" descr=""/>
          <p:cNvPicPr/>
          <p:nvPr/>
        </p:nvPicPr>
        <p:blipFill>
          <a:blip r:embed="rId3"/>
          <a:stretch/>
        </p:blipFill>
        <p:spPr>
          <a:xfrm>
            <a:off x="1619280" y="148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08:41:29Z</dcterms:created>
  <dc:creator>Алена</dc:creator>
  <dc:description/>
  <dc:language>en-US</dc:language>
  <cp:lastModifiedBy>Альбина</cp:lastModifiedBy>
  <dcterms:modified xsi:type="dcterms:W3CDTF">2023-12-19T04:38:58Z</dcterms:modified>
  <cp:revision>45</cp:revision>
  <dc:subject/>
  <dc:title>Слайд 1</dc:title>
</cp:coreProperties>
</file>