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4F3F-CFDF-434C-BF31-1B0F428DD6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CC94-DFE1-4168-A90D-715C96A8B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26C-814D-44E5-A4C1-D9CCFC6E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590-6CF7-4188-9D1C-B17501F0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00C-EFD2-4F7A-91F5-8CD2536D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A5C-3C86-4D33-9EC8-9FD0AEDB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5BE-E160-465C-91E2-E0887AE0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FF35-7348-4089-A418-D1D26035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0AB3-84F1-42F1-A39E-A0E664F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EB85-D404-4549-B070-F8B18D1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31AB-EE8C-4619-8F21-37CA7D90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0F06-CB18-48C6-B51D-BB8AE38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E8DC-5C98-45B2-AF58-9F48BDF2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2BE-D464-476E-A79D-F90BD3D6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4E35-F673-4395-B47E-B56CC09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B7B-784B-4C2E-83B9-0CDC583E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CE62-2984-471F-9CBF-BB49EE0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C0AD-3191-40E6-AFDD-DE6E8249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052-C140-44B2-BDDC-1BD0AAFF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3F8F-F987-47C6-996A-7972FD0B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3EA0-FA13-4CDF-A9DE-DD220B0B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CD50-3604-4EAC-BA12-BDDE126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780C-D8AD-430A-909C-F7B156E0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0E63-2884-4E36-AF38-B59E7312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97C-562B-47AA-AD69-E7A1F61D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D8EF-5BE9-4414-A115-F47FA438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D7AD-20DB-4C8B-A263-C19043B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45ED-584D-4F09-9180-F4EB5D07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852D-515F-4E4A-8842-0ADC574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BE91-041B-4A63-8A89-8D982BB0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072D-F37D-4514-BD82-CCF7E1DE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2E46-0E5C-4F69-94A3-8A966A6D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D83F-6DA7-488E-B67E-E386B744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0041E-66C8-4C58-AC83-B7F9685A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4D32-ACEC-4810-8820-8644CE75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0C0-2356-4900-BD79-4B28BB0B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5C8F-9571-4548-8FDB-B1BE7857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E817-CC92-44F1-964C-60F4CE3E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5F34-5612-4532-BC04-1776511E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6C24-6AB2-4B68-82E2-C8A65C0E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C8C1-C81C-417B-835D-81D7E0D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3690-FD7E-4340-9DAD-F195EF95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A0E00-307F-4B7D-AC70-8768C837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BABA-A128-4A45-AF1F-54CC43FF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E478-5F88-478A-AE1B-BDDFD167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EE8-E275-446C-BEB2-895B2E6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494-FF04-4BC2-BDAE-89679F66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133-8C4F-4855-B7F9-0935A0BC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5BB-BFA8-4EC2-9B2B-C7352AB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A43-3E68-4484-9179-C8483C2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AFB4-7D47-4C4F-84B5-DAED7DBC383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E6F8-7DE5-470D-8D1B-E1BEBE42C46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10BA-5DF8-4533-AF4F-71B1176BAF0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484E-364E-4948-B654-03238233532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547640" y="4221000"/>
            <a:ext cx="734544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золева Альбина Владимировна- учитель ОБ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Троицкая СОШ Заларинского района Иркутской обла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547640" y="1268280"/>
            <a:ext cx="52200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Юдже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826920" y="3430440"/>
            <a:ext cx="59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1700280" y="620640"/>
            <a:ext cx="5219640" cy="29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Солнечные пятна - эт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самооценк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413000"/>
          <a:ext cx="7416720" cy="4968720"/>
        </p:xfrm>
        <a:graphic>
          <a:graphicData uri="http://schemas.openxmlformats.org/drawingml/2006/table">
            <a:tbl>
              <a:tblPr/>
              <a:tblGrid>
                <a:gridCol w="2205000"/>
                <a:gridCol w="182160"/>
                <a:gridCol w="1837080"/>
                <a:gridCol w="1837440"/>
                <a:gridCol w="1355040"/>
              </a:tblGrid>
              <a:tr h="344520">
                <a:tc gridSpan="2" row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стью (2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ошибкой (1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равился (0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596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ица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4452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8108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бюджета семьи, определение типа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81080">
                <a:tc gridSpan="3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Умный покупа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 расшифровал – 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о расшифровал – 0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5960">
                <a:tc gridSpan="3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балл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 баллов – 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gridSpan="2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баллов – 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баллов – 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 балла – 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2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68000" y="1412640"/>
            <a:ext cx="526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ы для учащихся, страница 89, семейный совет  (обсуждение этой темы с родителям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1619280" y="549360"/>
            <a:ext cx="5977080" cy="64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6" name="Рисунок 2" descr=""/>
          <p:cNvPicPr/>
          <p:nvPr/>
        </p:nvPicPr>
        <p:blipFill>
          <a:blip r:embed="rId1"/>
          <a:stretch/>
        </p:blipFill>
        <p:spPr>
          <a:xfrm>
            <a:off x="2411280" y="3441600"/>
            <a:ext cx="5788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94920" y="170028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«…Но бюджет, это очень уж хитрый предмет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Всякая вещь-или есть, или нет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А бюджет,- я никак не пойму, в чём секрет,-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юджет если есть, то его сразу нет!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( Борис Заходер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403280" y="404640"/>
            <a:ext cx="640872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1"/>
          <a:stretch/>
        </p:blipFill>
        <p:spPr>
          <a:xfrm>
            <a:off x="5291280" y="3213000"/>
            <a:ext cx="2552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урока: доходы, расходы, составление семейного бюджет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Объект 1" descr=""/>
          <p:cNvPicPr/>
          <p:nvPr/>
        </p:nvPicPr>
        <p:blipFill>
          <a:blip r:embed="rId1"/>
          <a:stretch/>
        </p:blipFill>
        <p:spPr>
          <a:xfrm>
            <a:off x="851040" y="2160720"/>
            <a:ext cx="5865840" cy="3881160"/>
          </a:xfrm>
          <a:prstGeom prst="rect">
            <a:avLst/>
          </a:prstGeom>
          <a:ln w="0">
            <a:noFill/>
          </a:ln>
        </p:spPr>
      </p:pic>
      <p:sp>
        <p:nvSpPr>
          <p:cNvPr id="228" name="WordArt 4"/>
          <p:cNvSpPr txBox="1"/>
          <p:nvPr/>
        </p:nvSpPr>
        <p:spPr>
          <a:xfrm>
            <a:off x="1332000" y="47628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5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3619800" cy="321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914400" y="1557360"/>
          <a:ext cx="7772400" cy="15080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ть, что такое семейный 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читься различать типы семейн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читься рассчитывать доходы и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такое дефицит и профицит в семейном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Задача 1: Вера жила с мамой, папой, бабушкой, братом. Ей очень захотелось новый велосипед, семья решила посчитать: может ли купить его Вере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8920" y="2063880"/>
            <a:ext cx="49690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HY그래픽M"/>
              </a:rPr>
              <a:t>Расхо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Продукты-25 000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Оплата обедов- 2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Оплата за свет,газ,воду- 4 5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За детский сад- 3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Расходы на лекарства- 1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Мобильная связь и интернет- 2 000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Проезд на маршрутках- 1 8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Абонент в спортзал- 3 0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Кино. игрушки- 3 0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Итого:45 3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48000" y="2349000"/>
            <a:ext cx="360036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ход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плата папы- 25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плата мамы- 18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сия бабушки- 12 000 руб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ги за ремонт телевизора, который папа починил-1 000 р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о:56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268360" y="476280"/>
            <a:ext cx="4751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7900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принято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816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оходы»- «расходы»=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доход семьи за месяц»-это сбережения семьи за месяц.( 10 700 рублей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а решил: На 6 000 рублей купим велосипед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оставшиеся деньги отнесём в банк на хране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5160960" y="2170080"/>
            <a:ext cx="3732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сновные термины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сход-деньги, которые тратятся в течении месяца( может и длительнее период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оход-деньги, которые полученные за месяц( может и длительнее период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Бюджет-учёт и план доходов и расходов на определённый период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« подушка финансовой безопасности»-откладывание в сбережения 10% от доходов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ефицит бюджета-ситуация, при которой расходы будут превышать доход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официт бюджета-ситуация, при которой доходы превышают расходы , и эту разницу можно отложить в сбережения( «правило десяти процентов»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58920" y="12600"/>
            <a:ext cx="63482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 по группа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6000" y="5300280"/>
            <a:ext cx="58435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9480" y="2205000"/>
          <a:ext cx="7777440" cy="2685960"/>
        </p:xfrm>
        <a:graphic>
          <a:graphicData uri="http://schemas.openxmlformats.org/drawingml/2006/table">
            <a:tbl>
              <a:tblPr/>
              <a:tblGrid>
                <a:gridCol w="2016360"/>
                <a:gridCol w="1944720"/>
                <a:gridCol w="1871640"/>
                <a:gridCol w="1944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гуля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регуля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ип бюдже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«Умный покупатель»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Объект 2" descr=""/>
          <p:cNvPicPr/>
          <p:nvPr/>
        </p:nvPicPr>
        <p:blipFill>
          <a:blip r:embed="rId1"/>
          <a:stretch/>
        </p:blipFill>
        <p:spPr>
          <a:xfrm>
            <a:off x="4967280" y="2276640"/>
            <a:ext cx="2587680" cy="38811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"/>
          <p:cNvPicPr/>
          <p:nvPr/>
        </p:nvPicPr>
        <p:blipFill>
          <a:blip r:embed="rId2"/>
          <a:stretch/>
        </p:blipFill>
        <p:spPr>
          <a:xfrm>
            <a:off x="395280" y="3579840"/>
            <a:ext cx="4572000" cy="2577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"/>
          <p:cNvPicPr/>
          <p:nvPr/>
        </p:nvPicPr>
        <p:blipFill>
          <a:blip r:embed="rId3"/>
          <a:stretch/>
        </p:blipFill>
        <p:spPr>
          <a:xfrm>
            <a:off x="1619280" y="148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8:41:29Z</dcterms:created>
  <dc:creator>Алена</dc:creator>
  <dc:description/>
  <dc:language>en-US</dc:language>
  <cp:lastModifiedBy>Альбина</cp:lastModifiedBy>
  <dcterms:modified xsi:type="dcterms:W3CDTF">2023-12-19T04:38:58Z</dcterms:modified>
  <cp:revision>45</cp:revision>
  <dc:subject/>
  <dc:title>Слайд 1</dc:title>
</cp:coreProperties>
</file>