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6D6-604D-45D0-8BF8-CE6B6527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8EF-6ACA-46BB-93A2-8D41357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157-6250-4872-A776-2AAD72E5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99C-45F5-4C1C-8FE5-73F47C62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43C-42BD-4753-8517-79713B85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072-5778-4C7A-89CB-9DA7A247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96F-B4AF-44B5-82FE-D34AB877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1AD-1287-4E87-9164-365940A7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91A-2E6F-4D10-BED2-225C5F09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F53-E903-487F-9BCB-965FF52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C67-067B-424D-A28E-2D8D1058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309-BC61-4BF6-83CF-2E5AE7AA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5308-1CC7-42D5-BD5D-C616B71428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Look! Nick (to read) a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He usually (to read) books at h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Yesterday he (to read) a book at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think tomorrow he (not to rea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Kate and Ann usually (to go) for a walk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Yesterday Ann (to go) for a walk with M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Look! They (to go) to 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y (to invite) us to play with them, I th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lready (be) to many countries. But I never (be) to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be) in London last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I (travel) to Canada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e hope we (visit) our American friends nex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e (visit) them every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I think our trip (be) inter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ldren (not to learn) the poem y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y (forget) to write down their homework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(get) bad mark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y (play) interesting computer games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hey usually (do) their homework in the ev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Their mother (be) angry if they get bad 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I just (have) breakf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eat) my breakfast a minute ag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He (have) his breakfas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know that we (have) breakfast at school next Satu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hen you usually (have) breakfa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We always (take) little luggage when we tr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Look! Nick (shake) his head in answer to my qu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explain) the rule to you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. . .people usually (shake) hands when they me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... you (do) the shopping y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... you (buy) tickets at the railway station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hy ... Ann (wear) her party dress 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Kate hopes she (go) to the theatre next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friends (not lo arrive) in Moscow y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 strong wind (blow)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already (see) the monument to Pushk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see) it when I travelled to Moscow las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We usually (visit) museums in Mosc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He (watch) the birds in the blue sky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He (like) to watch bi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He (like) to do it when he was little. And I think he (like) it when he grows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Many people (like) watching bi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ere... you (go) last weeke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How lucky you (be) this y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any people in Britain usually (work) 5 days a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here is Pete? He (leave) the house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e think we (stay) at a hotel next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burglar (try) to steal a TV set last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burglar just (steal) my ba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. . . you (find) the key y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find) it a minute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 birds that live in the North usually (fly) to the South in w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hy ... you (cry) little Betty? (n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It (take) me 2 hours to get to London by plane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morr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We (change) trains tomorrow in Lond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Harry (catch) a plane to London and arrived there at 3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father usually (catch) a bus when he goes to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 (to be) a pupil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ast year I (to be) a pupil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ext year I (to be) a pupil of the 4th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 usually (to get up) at 7 o’c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 (to get up) at 6 o’clock yester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omorrow I (to get up) early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Look! My little sister is getting up 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My mother (to cook) dinner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he (to cook) a tasty cake last Su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She (to cook) fish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She says she (to cook) chop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little brother (to sleep)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He usually (to go) to bed at se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But yesterday he (to go) to bed very 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ext month he (not to go) to school and he hopes he (to get up) at 10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My sister (to buy) a nice dog last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hope she (to come) to us with her dog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We usually (to play) with her dog when she co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My mother and I (to read) a book about dogs at the mo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friend (to teach) his brother to play chess every Su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think he (to teach) me to play this game to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Last week my father (to bring) me ch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to look) at i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children usually (to have) a break after les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y (to run) in the yard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(to run and play) during the break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think I (to play) with them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can) read well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t two I (cannot) read at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to be) a little boy two years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to read) my father’s book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think tomorrow I (to start) reading a new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I usually (to skate) in w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Last winter my friends (not to skate). They (not to have)  sk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hope they (to buy) new skates next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My sister (to watch TV) every ev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She (to watch TV)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I usually (to watch TV) with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Yesterday we (not to watch TV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I think tomorrow we (to watch TV)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Look! The boys (run) a r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y (wear) shorts and T-shi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usually (wear) these clothes when they run a r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But yesterday it was cold and they (wear) jeans and coa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he weather will be nice and they (wear) light clothe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ike and Nick (go for a walk) yesterday. They (be) in the fo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y (like) to go for a walk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ow the boys (play) football in the y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Our classes usually (begin) at 8.30 in the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first lesson (not to begin) y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I (spend) my last weekend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think we (travel) to the seaside nex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he pupils (have) a break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My mother (buy) a lot of bananas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We just (eat) all the bana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I think she (buy) some more banana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Usually my dog (not to eat) fru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My dog (eat) mea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It’s a pity I never (swim) in the ocean. I usually (swim) in the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e (swim) in the lake very often las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y friend certainly (swim) in the Black Sea next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e usually (go) swimming to the swimming pool in w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Look at the boys! They (swim) on such a cold day. I hope they (not get) ill after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I promise we (go) swimming in the ev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4-01-05T10:48:3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