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C28-B9F0-4D5C-86BA-076613D8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935-803A-4D5F-AEA8-DF396BD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B75-48A4-443C-884A-62F02444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D23-BFF6-42F4-B807-ECFCBB0C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4B8-8939-4533-94EB-CF706D05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DE8-D72E-4416-99A0-2534D397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928-E178-42B9-8532-9E396FCA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D6A-B124-466C-B172-DE2CF4F4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899-3D62-4453-B124-AFA7837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BDA-DA30-4EFF-B5DD-2D2AD9F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644-8404-4A41-8E05-B333C96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136-3045-4046-AA0B-809752B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EDBB-3B21-414D-916D-B07E96B7D7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Nick (to read)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e usually (to read) books at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esterday he (to read) a book at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tomorrow he (not to rea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Kate and Ann usually (to go)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Yesterday Ann (to go) for a walk with M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They (to go) to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to invite) us to play with them, I th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lready (be) to many countries. But I never (be)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be) in London las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travel) to Canada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hope we (visit) our American friends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(visit) them every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think our trip (be)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ren (not to learn) the poem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forget) to write down their homewor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get) bad mark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y (play) interesting computer games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y usually (do) their homework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Their mother (be) angry if they get bad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just (have) break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eat) my breakfast a minute a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e (have) his breakfas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know that we (have) breakfast at school next Satu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hen you usually (have) breakf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always (take) little luggage when we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Nick (shake) his head in answer to my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explain) the rule to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people usually (shake) hands when they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... you (do) the shopping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... you (buy) tickets at the railway station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Ann (wear) her party dress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Kate hopes she (go) to the theatre nex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s (not lo arrive) in Moscow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 strong wind (blow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already (see) the monument to Push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see) it when I travelled to Moscow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visit) museums in Mosc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He (watch) the birds in the blue sky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He (like) to watch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He (like) to do it when he was little. And I think he (like) it when he grows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Many people (like) watching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ere... you (go) last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ow lucky you (be) this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any people in Britain usually (work) 5 days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ere is Pete? He (leave) the house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think we (stay) at a hotel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(try) to steal a TV set las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just (steal) my ba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 you (find) the key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find) it a minute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 birds that live in the North usually (fly) to the South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you (cry) little Betty? (n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t (take) me 2 hours to get to London by plane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mor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(change) trains tomorrow in Lond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arry (catch) a plane to London and arrived there at 3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ather usually (catch) a bus when he goes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 (to be) a pupil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ast year I (to be) a pupil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xt year I (to be) a pupil of the 4th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usually (to get up) at 7 o’c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(to get up) at 6 o’clock yester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omorrow I (to get up) early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ok! My little sister is getting up 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mother (to cook) dinner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he (to cook) a tasty cake last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he (to cook) fish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he says she (to cook) chop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little brother (to sleep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e usually (to go) to bed at se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But yesterday he (to go) to bed very 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ext month he (not to go) to school and he hopes he (to get up) at 10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sister (to buy) a nice dog las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hope she (to come) to us with her dog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to play) with her dog when she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mother and I (to read) a book about dogs at the mo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 (to teach) his brother to play chess every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he (to teach) me to play this game t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ast week my father (to bring) me ch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look) at i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children usually (to have) a break after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to run) in the yard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to run and play) during the brea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I (to play) with them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can) read well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two I (cannot) read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be) a little boy two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read) my father’s boo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tomorrow I (to start) reading a new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usually (to skate)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Last winter my friends (not to skate). They (not to have)  sk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hope they (to buy) new skates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sister (to watch TV) every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She (to watch TV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usually (to watch TV) with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Yesterday we (not to watch T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tomorrow we (to watch TV)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The boys (run)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wear) shorts and T-shi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usually (wear) these clothes when they run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But yesterday it was cold and they (wear) jeans and co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weather will be nice and they (wear) light clothe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ike and Nick (go for a walk) yesterday. They (be) in the fo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like) to go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w the boys (play) football in the y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Our classes usually (begin) at 8.30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first lesson (not to begin)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spend) my last weekend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we (travel) to the seaside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pupils (have) a brea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y mother (buy) a lot of bananas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We just (eat) all the ban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she (buy) some more banana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Usually my dog (not to eat) fr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My dog (eat) mea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t’s a pity I never (swim) in the ocean. I usually (swim) in th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e (swim) in the lake very often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y friend certainly (swim) in the Black Sea nex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usually (go) swimming to the swimming pool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Look at the boys! They (swim) on such a cold day. I hope they (not get) ill after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promise we (go) swimming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48:3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