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352-EDA4-4BCF-A579-B32C5B01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441-B6F2-4098-BD02-579F3B92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05E-0C92-47DF-95E7-AE42B682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023-66E3-4FCC-B483-2FB10DF9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762-0D1E-4DD6-9A79-E89F8C8B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C1C-15B4-40D1-8D30-B984AC5A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8D7-E0F4-4BB7-A407-AB2B0FC4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190-5CC6-4BF0-A455-03597DD0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F09-14A6-4045-A05F-26117AFA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F828-E20E-4B62-A463-49576638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8BF-D699-409B-82FF-19B7D341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AE7-D44D-4B4C-A3D2-E6761DC2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099B-7635-41D6-8BD6-340D74B85D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Look! Nick (to read) a bo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He usually (to read) books at ho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Yesterday he (to read) a book at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I think tomorrow he (not to read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Kate and Ann usually (to go) for a walk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Yesterday Ann (to go) for a walk with M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Look! They (to go) to 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y (to invite) us to play with them, I thin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already (be) to many countries. But I never (be) to In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 (be) in London last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I (travel) to Canada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We hope we (visit) our American friends next su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e (visit) them every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I think our trip (be) intere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hildren (not to learn) the poem y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y (forget) to write down their homework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y (get) bad marks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y (play) interesting computer games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They usually (do) their homework in the eve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Their mother (be) angry if they get bad ma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I just (have) breakfa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 (eat) my breakfast a minute ag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He (have) his breakfast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I know that we (have) breakfast at school next Satu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hen you usually (have) breakfa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We always (take) little luggage when we tra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Look! Nick (shake) his head in answer to my ques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(explain) the rule to you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. . .people usually (shake) hands when they me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... you (do) the shopping y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... you (buy) tickets at the railway station yesterda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Why ... Ann (wear) her party dress 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Kate hopes she (go) to the theatre next we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y friends (not lo arrive) in Moscow y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A strong wind (blow)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already (see) the monument to Pushk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 (see) it when I travelled to Moscow last su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We usually (visit) museums in Mosc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He (watch) the birds in the blue sky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He (like) to watch bi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He (like) to do it when he was little. And I think he (like) it when he grows 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Many people (like) watching bir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here... you (go) last weeken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How lucky you (be) this yea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any people in Britain usually (work) 5 days a we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Where is Pete? He (leave) the house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e think we (stay) at a hotel next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burglar (try) to steal a TV set last wee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 burglar just (steal) my ba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. . . you (find) the key y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 (find) it a minute a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 birds that live in the North usually (fly) to the South in w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Why ... you (cry) little Betty? (n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It (take) me 2 hours to get to London by plane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omorr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We (change) trains tomorrow in Lond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Harry (catch) a plane to London and arrived there at 3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y father usually (catch) a bus when he goes to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I (to be) a pupil 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Last year I (to be) a pupil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Next year I (to be) a pupil of the 4th for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 usually (to get up) at 7 o’clo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 (to get up) at 6 o’clock yester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Tomorrow I (to get up) early to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Look! My little sister is getting up  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My mother (to cook) dinner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She (to cook) a tasty cake last Su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She (to cook) fish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She says she (to cook) chops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y little brother (to sleep)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He usually (to go) to bed at sev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But yesterday he (to go) to bed very l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Next month he (not to go) to school and he hopes he (to get up) at 10 every 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My sister (to buy) a nice dog last mon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I hope she (to come) to us with her dog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We usually (to play) with her dog when she com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My mother and I (to read) a book about dogs at the mo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y friend (to teach) his brother to play chess every Su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think he (to teach) me to play this game to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Last week my father (to bring) me ch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(to look) at it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children usually (to have) a break after less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y (to run) in the yard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y (to run and play) during the break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I think I (to play) with them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(can) read well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At two I (cannot) read at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(to be) a little boy two years a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(to read) my father’s book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I think tomorrow I (to start) reading a new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I usually (to skate) in w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Last winter my friends (not to skate). They (not to have)  sk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y hope they (to buy) new skates next y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My sister (to watch TV) every eve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She (to watch TV)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I usually (to watch TV) with 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Yesterday we (not to watch TV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I think tomorrow we (to watch TV)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Look! The boys (run) a r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y (wear) shorts and T-shi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They usually (wear) these clothes when they run a r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But yesterday it was cold and they (wear) jeans and coa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The weather will be nice and they (wear) light clothes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Mike and Nick (go for a walk) yesterday. They (be) in the fore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hey (like) to go for a walk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Now the boys (play) football in the yar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Our classes usually (begin) at 8.30 in the mor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first lesson (not to begin) y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I (spend) my last weekend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I think we (travel) to the seaside next su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The pupils (have) a break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My mother (buy) a lot of bananas yester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We just (eat) all the bana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I think she (buy) some more bananas tomorr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Usually my dog (not to eat) fru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My dog (eat) meat no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Use the verbs in Present Indefinite, Present Perfect, Present Continuous, Past Indefinite and Future Indefinite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It’s a pity I never (swim) in the ocean. I usually (swim) in the riv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We (swim) in the lake very often last summ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y friend certainly (swim) in the Black Sea next mon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We usually (go) swimming to the swimming pool in wi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Look at the boys! They (swim) on such a cold day. I hope they (not get) ill after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I promise we (go) swimming in the eve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24-01-05T10:48:30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