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925-BEF4-4645-A66B-D31FC919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052-41DC-4205-B6A7-47B5D792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803-ACFD-48E3-AC52-777B67E2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CE92-1F19-4671-B0CD-6433BF6A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DAFC-EB33-450D-A508-40197048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367F-608A-4369-87B5-7A499F89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78FC-F479-4660-AA9C-B5E274C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69A9-0A93-46E5-ACE9-6E431F5B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807A-5F56-411C-8851-65D018C0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BA1-8860-40BD-8DE5-518DB248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D331-39C0-4368-B470-370395CC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75B-370A-4DA4-9232-1D16C29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2948-67F2-4C95-BA26-4E518C1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45D0-89D5-417C-8504-F1234BC9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3EF-E3DB-427D-B109-861D9CA1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06F1-A0D3-4D7E-8659-B0733296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0C61-0F1C-4DDB-BFD4-93225342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9D1-6809-4251-B011-CEBABA58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D1F-28D7-4851-940C-574BAC40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6AB-A607-447E-BC59-A5A0641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5D9C-6058-47A9-9F35-8994890D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1D0-9C6B-451C-B713-40B21728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324-9EAA-4E51-9CCD-49E4210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D9B-F5FB-40E7-80E4-326889A6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F41E-DE26-4D99-80CD-BB3DCCBD9565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8D36-2067-4460-914B-1D49C2DA447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1800" y="5515920"/>
            <a:ext cx="2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3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7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64000" y="3789360"/>
            <a:ext cx="1917720" cy="271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ЛУЖИН"/>
          <p:cNvPicPr/>
          <p:nvPr/>
        </p:nvPicPr>
        <p:blipFill>
          <a:blip r:embed="rId2"/>
          <a:stretch/>
        </p:blipFill>
        <p:spPr>
          <a:xfrm>
            <a:off x="250920" y="386064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"/>
          <p:cNvPicPr/>
          <p:nvPr/>
        </p:nvPicPr>
        <p:blipFill>
          <a:blip r:embed="rId3"/>
          <a:stretch/>
        </p:blipFill>
        <p:spPr>
          <a:xfrm>
            <a:off x="6300720" y="3500280"/>
            <a:ext cx="2664000" cy="23274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908000" y="350028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4643280" y="2708280"/>
            <a:ext cx="1657440" cy="936720"/>
          </a:xfrm>
          <a:prstGeom prst="wedgeRoundRectCallout">
            <a:avLst>
              <a:gd name="adj1" fmla="val -43773"/>
              <a:gd name="adj2" fmla="val 80675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92360" y="3573360"/>
            <a:ext cx="1917720" cy="271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804000" y="3789360"/>
            <a:ext cx="1778040" cy="226548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627280" y="1700280"/>
            <a:ext cx="2232000" cy="1224000"/>
          </a:xfrm>
          <a:prstGeom prst="wedgeRoundRectCallout">
            <a:avLst>
              <a:gd name="adj1" fmla="val -11949"/>
              <a:gd name="adj2" fmla="val 100972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5076720" y="2565360"/>
            <a:ext cx="1871640" cy="1008000"/>
          </a:xfrm>
          <a:prstGeom prst="wedgeRoundRectCallout">
            <a:avLst>
              <a:gd name="adj1" fmla="val -44486"/>
              <a:gd name="adj2" fmla="val 81495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6659640" y="1052640"/>
            <a:ext cx="2016000" cy="107928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571680" y="5929200"/>
            <a:ext cx="1944360" cy="50328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5" descr="СВИДРИГАЙЛОВ"/>
          <p:cNvPicPr/>
          <p:nvPr/>
        </p:nvPicPr>
        <p:blipFill>
          <a:blip r:embed="rId1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СОНЯ"/>
          <p:cNvPicPr/>
          <p:nvPr/>
        </p:nvPicPr>
        <p:blipFill>
          <a:blip r:embed="rId2"/>
          <a:stretch/>
        </p:blipFill>
        <p:spPr>
          <a:xfrm>
            <a:off x="7524720" y="4076640"/>
            <a:ext cx="1314360" cy="2016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178680" y="4665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ЛУЖИН"/>
          <p:cNvPicPr/>
          <p:nvPr/>
        </p:nvPicPr>
        <p:blipFill>
          <a:blip r:embed="rId2"/>
          <a:stretch/>
        </p:blipFill>
        <p:spPr>
          <a:xfrm>
            <a:off x="324000" y="33336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4"/>
          <a:stretch/>
        </p:blipFill>
        <p:spPr>
          <a:xfrm>
            <a:off x="7667640" y="1341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5"/>
          <a:stretch/>
        </p:blipFill>
        <p:spPr>
          <a:xfrm>
            <a:off x="766764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6"/>
          <a:stretch/>
        </p:blipFill>
        <p:spPr>
          <a:xfrm>
            <a:off x="395280" y="4005360"/>
            <a:ext cx="1717560" cy="23032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AutoShape 14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1" name="AutoShape 17"/>
          <p:cNvCxnSpPr/>
          <p:nvPr/>
        </p:nvCxnSpPr>
        <p:spPr>
          <a:xfrm flipV="1">
            <a:off x="5724000" y="2133360"/>
            <a:ext cx="1971000" cy="892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2" name="AutoShape 18"/>
          <p:cNvCxnSpPr/>
          <p:nvPr/>
        </p:nvCxnSpPr>
        <p:spPr>
          <a:xfrm>
            <a:off x="5724000" y="3068640"/>
            <a:ext cx="1971000" cy="1954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3" name="AutoShape 19"/>
          <p:cNvCxnSpPr/>
          <p:nvPr/>
        </p:nvCxnSpPr>
        <p:spPr>
          <a:xfrm flipV="1">
            <a:off x="5724000" y="1412280"/>
            <a:ext cx="1251720" cy="16405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4" name="AutoShape 20"/>
          <p:cNvCxnSpPr/>
          <p:nvPr/>
        </p:nvCxnSpPr>
        <p:spPr>
          <a:xfrm flipH="1" flipV="1">
            <a:off x="1979280" y="1483920"/>
            <a:ext cx="1821600" cy="157392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5" name="AutoShape 21"/>
          <p:cNvCxnSpPr>
            <a:endCxn id="198" idx="3"/>
          </p:cNvCxnSpPr>
          <p:nvPr/>
        </p:nvCxnSpPr>
        <p:spPr>
          <a:xfrm flipH="1">
            <a:off x="2483640" y="3068280"/>
            <a:ext cx="1151640" cy="18180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6" name="AutoShape 22"/>
          <p:cNvCxnSpPr/>
          <p:nvPr/>
        </p:nvCxnSpPr>
        <p:spPr>
          <a:xfrm flipH="1">
            <a:off x="2123640" y="3645000"/>
            <a:ext cx="1667520" cy="151344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07" name="AutoShape 23"/>
          <p:cNvCxnSpPr/>
          <p:nvPr/>
        </p:nvCxnSpPr>
        <p:spPr>
          <a:xfrm flipV="1">
            <a:off x="2124000" y="5013000"/>
            <a:ext cx="5555520" cy="14472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8" name="AutoShape 24"/>
          <p:cNvCxnSpPr/>
          <p:nvPr/>
        </p:nvCxnSpPr>
        <p:spPr>
          <a:xfrm flipV="1">
            <a:off x="2484360" y="2133000"/>
            <a:ext cx="5184000" cy="10832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AutoShape 25"/>
          <p:cNvCxnSpPr/>
          <p:nvPr/>
        </p:nvCxnSpPr>
        <p:spPr>
          <a:xfrm flipV="1">
            <a:off x="1979280" y="620280"/>
            <a:ext cx="4485240" cy="869040"/>
          </a:xfrm>
          <a:prstGeom prst="straightConnector1">
            <a:avLst/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11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7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imes New Roman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77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7" dur="770" fill="hold"/>
                                        <p:tgtEl>
                                          <p:spTgt spid="2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9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77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6" dur="770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8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0" dur="77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77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0" dur="770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4" dur="77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77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1" dur="770" fill="hold"/>
                                        <p:tgtEl>
                                          <p:spTgt spid="2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3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84360" y="134136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Протест 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588000" y="11970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AutoShape 11"/>
          <p:cNvSpPr/>
          <p:nvPr/>
        </p:nvSpPr>
        <p:spPr>
          <a:xfrm>
            <a:off x="1116000" y="2421000"/>
            <a:ext cx="2232000" cy="129528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Text Box 12"/>
          <p:cNvSpPr/>
          <p:nvPr/>
        </p:nvSpPr>
        <p:spPr>
          <a:xfrm>
            <a:off x="1332000" y="27082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Единичное добро 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6732720" y="27082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Вселенские масштабы 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AutoShape 15"/>
          <p:cNvSpPr/>
          <p:nvPr/>
        </p:nvSpPr>
        <p:spPr>
          <a:xfrm>
            <a:off x="900000" y="4797360"/>
            <a:ext cx="2448000" cy="136836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1116000" y="5229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Арифметика 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7"/>
          <p:cNvSpPr/>
          <p:nvPr/>
        </p:nvSpPr>
        <p:spPr>
          <a:xfrm>
            <a:off x="5867280" y="4581360"/>
            <a:ext cx="2305080" cy="1224000"/>
          </a:xfrm>
          <a:prstGeom prst="flowChartPunchedTap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227640" y="465300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Теория, толкающая 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41" name="AutoShape 20"/>
          <p:cNvCxnSpPr>
            <a:stCxn id="230" idx="3"/>
            <a:endCxn id="231" idx="1"/>
          </p:cNvCxnSpPr>
          <p:nvPr/>
        </p:nvCxnSpPr>
        <p:spPr>
          <a:xfrm flipV="1">
            <a:off x="2771640" y="1484280"/>
            <a:ext cx="3385440" cy="178200"/>
          </a:xfrm>
          <a:prstGeom prst="bentConnector3">
            <a:avLst>
              <a:gd name="adj1" fmla="val 49952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42" name="AutoShape 21"/>
          <p:cNvCxnSpPr/>
          <p:nvPr/>
        </p:nvCxnSpPr>
        <p:spPr>
          <a:xfrm flipH="1" flipV="1" rot="5400000">
            <a:off x="4059360" y="1347480"/>
            <a:ext cx="554760" cy="3996000"/>
          </a:xfrm>
          <a:prstGeom prst="bentConnector4">
            <a:avLst>
              <a:gd name="adj1" fmla="val -40909"/>
              <a:gd name="adj2" fmla="val 62140"/>
            </a:avLst>
          </a:prstGeom>
          <a:ln w="9360">
            <a:solidFill>
              <a:srgbClr val="f8f8f8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22"/>
          <p:cNvCxnSpPr/>
          <p:nvPr/>
        </p:nvCxnSpPr>
        <p:spPr>
          <a:xfrm>
            <a:off x="3348000" y="5516640"/>
            <a:ext cx="3672720" cy="202320"/>
          </a:xfrm>
          <a:prstGeom prst="bentConnector4">
            <a:avLst>
              <a:gd name="adj1" fmla="val 34280"/>
              <a:gd name="adj2" fmla="val 273083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77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2" dur="770" fill="hold"/>
                                        <p:tgtEl>
                                          <p:spTgt spid="2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4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6" dur="77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2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4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1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3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77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1" dur="770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3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5" dur="77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77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770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2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4" dur="77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Двойники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714760" y="785880"/>
            <a:ext cx="38750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6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 rot="21240000">
            <a:off x="5796000" y="549360"/>
            <a:ext cx="1081080" cy="79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ЛУЖИН"/>
          <p:cNvPicPr/>
          <p:nvPr/>
        </p:nvPicPr>
        <p:blipFill>
          <a:blip r:embed="rId2"/>
          <a:stretch/>
        </p:blipFill>
        <p:spPr>
          <a:xfrm rot="600000">
            <a:off x="826560" y="404280"/>
            <a:ext cx="1635120" cy="2303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расскольников"/>
          <p:cNvPicPr/>
          <p:nvPr/>
        </p:nvPicPr>
        <p:blipFill>
          <a:blip r:embed="rId3"/>
          <a:stretch/>
        </p:blipFill>
        <p:spPr>
          <a:xfrm>
            <a:off x="3780000" y="1700280"/>
            <a:ext cx="1917360" cy="271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ПОРФЕРИЙ ПЕТРОВИЧ"/>
          <p:cNvPicPr/>
          <p:nvPr/>
        </p:nvPicPr>
        <p:blipFill>
          <a:blip r:embed="rId4"/>
          <a:stretch/>
        </p:blipFill>
        <p:spPr>
          <a:xfrm rot="840000">
            <a:off x="7019640" y="1557360"/>
            <a:ext cx="1295280" cy="1650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СОНЯ"/>
          <p:cNvPicPr/>
          <p:nvPr/>
        </p:nvPicPr>
        <p:blipFill>
          <a:blip r:embed="rId5"/>
          <a:stretch/>
        </p:blipFill>
        <p:spPr>
          <a:xfrm rot="20460000">
            <a:off x="6516720" y="4005360"/>
            <a:ext cx="1314360" cy="201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СВИДРИГАЙЛОВ"/>
          <p:cNvPicPr/>
          <p:nvPr/>
        </p:nvPicPr>
        <p:blipFill>
          <a:blip r:embed="rId6"/>
          <a:stretch/>
        </p:blipFill>
        <p:spPr>
          <a:xfrm rot="20820000">
            <a:off x="1187280" y="3933720"/>
            <a:ext cx="1717920" cy="2303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9528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539640" y="2997360"/>
            <a:ext cx="1944720" cy="5029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Прямая соединительная линия 19"/>
          <p:cNvSpPr/>
          <p:nvPr/>
        </p:nvSpPr>
        <p:spPr>
          <a:xfrm>
            <a:off x="4642560" y="285840"/>
            <a:ext cx="142920" cy="6286320"/>
          </a:xfrm>
          <a:prstGeom prst="line">
            <a:avLst/>
          </a:prstGeom>
          <a:ln w="3816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6" name="Picture 9" descr="ЛУЖИН"/>
          <p:cNvPicPr/>
          <p:nvPr/>
        </p:nvPicPr>
        <p:blipFill>
          <a:blip r:embed="rId1"/>
          <a:stretch/>
        </p:blipFill>
        <p:spPr>
          <a:xfrm>
            <a:off x="6929280" y="500040"/>
            <a:ext cx="16351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7-08-23T19:26:36Z</dcterms:modified>
  <cp:revision>38</cp:revision>
  <dc:subject/>
  <dc:title>     </dc:title>
</cp:coreProperties>
</file>