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9CE-C073-4A98-BB92-C6731E99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126-B001-40C7-95ED-0EC1D293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ED7-3619-4C09-8115-F25D0D3A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8F1-5D14-4C4B-A804-49E91575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5A10-90FE-4A41-BEC1-D547CFDE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C220-40A9-4A6E-AFEA-003968B9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E03A-BF37-4723-9052-ACA5B4D8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D534-8C6E-4717-A83B-953FD9E9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9D41-C99F-4CC5-9B8A-01F6E812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0ABB-A04D-4271-986C-4E2ECB75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DC3B-4AB5-4810-A1F1-B26390EA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6F0-6110-418E-8447-5CA0F696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C33E-F877-415F-B60B-73C3004B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9FDB-04BF-465F-A5DC-AC876E6B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81AE-A0F8-4E9A-A159-0B51C8B5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3930-54E0-48A9-973E-5282D488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D010-6A6A-40AF-BCAD-72BCCEDB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541-6141-46FE-9767-B40A5E7E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507-A7F7-4343-9CB0-53049A7F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7D5D-9E84-4B5F-9C17-885A7C83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E6F-1CE7-4F43-9426-2BEAAE01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57B-2C96-4309-894D-3AA619DB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FB0D-BDFF-41F0-97F9-B5732BEF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726-5835-49EA-BEE6-437B37A5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0305-3064-40C4-854A-EDCF7101C6B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2210-B325-4059-8D7D-E2EBE9366EA9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324000" y="1700280"/>
            <a:ext cx="7921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СИСТЕМА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 </a:t>
            </a: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ДВОЙНИЧЕСТВА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41800" y="5515920"/>
            <a:ext cx="2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Лебезятников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Это карикатура на протест Раскольникова. Его воинствующая глупость компрометирует бунтарский путь переустройства мир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рфирий Петрович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bace"/>
                </a:solidFill>
                <a:latin typeface="Tahoma"/>
              </a:rPr>
              <a:t>«Наполеоны» не должны роптать против существующего мироустройств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видригайл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На нём проверяется «арифметическая» теория Раскольникова: на счету Свидригайлова много добрых дел, но они не могут оправдать минувшего злодеяния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Добрые дела не воскресают его больную душу: совесть высвобождается и вырывается наружу, порождая кошмары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3" name="Содержимое 7" descr="Внутренний мир Свидригайлова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500800" y="78588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8"/>
          <p:cNvSpPr/>
          <p:nvPr/>
        </p:nvSpPr>
        <p:spPr>
          <a:xfrm>
            <a:off x="5500800" y="4357800"/>
            <a:ext cx="27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Внутренний мир Свидригайлова»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ня Мармелад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уть Сони – это путь покаяния, возвращение к родной земле, которую он оскверни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ротягивает ему кипарисовый крестик – символ возвращения к вер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7" name="Содержимое 7" descr="Соня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572080" y="857160"/>
            <a:ext cx="2486160" cy="3429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8"/>
          <p:cNvSpPr/>
          <p:nvPr/>
        </p:nvSpPr>
        <p:spPr>
          <a:xfrm>
            <a:off x="5500800" y="43578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Соня» 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видригайл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Это идеал Раскольникова – он «переступил», но без нравственных мучений (сначал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амоубийство – это один из жизненных итогов (вариант для Раскольников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видригайлов говорит: «Мы одного поля ягоды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оня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Не может перешагнуть через совесть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Собирается с ней вместе идти по одной дороге: «Мы вместе прокляты, вместе пойдём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С Соней Раскольников собирается идти по одной дороге: «Мы вместе прокляты, вместе и пойдём»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расскольников"/>
          <p:cNvPicPr/>
          <p:nvPr/>
        </p:nvPicPr>
        <p:blipFill>
          <a:blip r:embed="rId1"/>
          <a:stretch/>
        </p:blipFill>
        <p:spPr>
          <a:xfrm>
            <a:off x="3564000" y="3789360"/>
            <a:ext cx="1917720" cy="271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ЛУЖИН"/>
          <p:cNvPicPr/>
          <p:nvPr/>
        </p:nvPicPr>
        <p:blipFill>
          <a:blip r:embed="rId2"/>
          <a:stretch/>
        </p:blipFill>
        <p:spPr>
          <a:xfrm>
            <a:off x="250920" y="3860640"/>
            <a:ext cx="1635120" cy="2303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3"/>
          <a:stretch/>
        </p:blipFill>
        <p:spPr>
          <a:xfrm>
            <a:off x="6300720" y="3500280"/>
            <a:ext cx="2664000" cy="23274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4"/>
          <p:cNvSpPr/>
          <p:nvPr/>
        </p:nvSpPr>
        <p:spPr>
          <a:xfrm>
            <a:off x="324000" y="1700280"/>
            <a:ext cx="2592360" cy="1441440"/>
          </a:xfrm>
          <a:prstGeom prst="wedgeRoundRectCallout">
            <a:avLst>
              <a:gd name="adj1" fmla="val -40138"/>
              <a:gd name="adj2" fmla="val 93393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Рациональный эгоиз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908000" y="3500280"/>
            <a:ext cx="1727280" cy="1079640"/>
          </a:xfrm>
          <a:prstGeom prst="wedgeRoundRectCallout">
            <a:avLst>
              <a:gd name="adj1" fmla="val 37777"/>
              <a:gd name="adj2" fmla="val 110587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умный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эгоиз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AutoShape 17"/>
          <p:cNvSpPr/>
          <p:nvPr/>
        </p:nvSpPr>
        <p:spPr>
          <a:xfrm>
            <a:off x="6516720" y="2133720"/>
            <a:ext cx="2376360" cy="936360"/>
          </a:xfrm>
          <a:prstGeom prst="wedgeRoundRectCallout">
            <a:avLst>
              <a:gd name="adj1" fmla="val -41851"/>
              <a:gd name="adj2" fmla="val 86949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Альтруиз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4643280" y="2708280"/>
            <a:ext cx="1657440" cy="936720"/>
          </a:xfrm>
          <a:prstGeom prst="wedgeRoundRectCallout">
            <a:avLst>
              <a:gd name="adj1" fmla="val -43773"/>
              <a:gd name="adj2" fmla="val 80675"/>
              <a:gd name="adj3" fmla="val 16667"/>
            </a:avLst>
          </a:prstGeom>
          <a:solidFill>
            <a:srgbClr val="ff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ичный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льтруиз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ужин – Раскольников – Разумихин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тавятся вопросы, связанные с деятельностью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5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безятников – Раскольников – Порфирий Петрович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ассматриваются социальные пробл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расскольников"/>
          <p:cNvPicPr/>
          <p:nvPr/>
        </p:nvPicPr>
        <p:blipFill>
          <a:blip r:embed="rId1"/>
          <a:stretch/>
        </p:blipFill>
        <p:spPr>
          <a:xfrm>
            <a:off x="3492360" y="3573360"/>
            <a:ext cx="1917720" cy="271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ПОРФЕРИЙ ПЕТРОВИЧ"/>
          <p:cNvPicPr/>
          <p:nvPr/>
        </p:nvPicPr>
        <p:blipFill>
          <a:blip r:embed="rId2"/>
          <a:stretch/>
        </p:blipFill>
        <p:spPr>
          <a:xfrm>
            <a:off x="6804000" y="3789360"/>
            <a:ext cx="1778040" cy="226548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7"/>
          <p:cNvSpPr/>
          <p:nvPr/>
        </p:nvSpPr>
        <p:spPr>
          <a:xfrm>
            <a:off x="250920" y="3284640"/>
            <a:ext cx="2374920" cy="1368360"/>
          </a:xfrm>
          <a:prstGeom prst="wedgeRoundRectCallout">
            <a:avLst>
              <a:gd name="adj1" fmla="val 333"/>
              <a:gd name="adj2" fmla="val 160671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Отрицание нравственных и государственных нор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2627280" y="1700280"/>
            <a:ext cx="2232000" cy="1224000"/>
          </a:xfrm>
          <a:prstGeom prst="wedgeRoundRectCallout">
            <a:avLst>
              <a:gd name="adj1" fmla="val -11949"/>
              <a:gd name="adj2" fmla="val 100972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раво на протест человека необыкновенного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5076720" y="2565360"/>
            <a:ext cx="1871640" cy="1008000"/>
          </a:xfrm>
          <a:prstGeom prst="wedgeRoundRectCallout">
            <a:avLst>
              <a:gd name="adj1" fmla="val -44486"/>
              <a:gd name="adj2" fmla="val 81495"/>
              <a:gd name="adj3" fmla="val 16667"/>
            </a:avLst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виновение «твари дрожащей»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6659640" y="1052640"/>
            <a:ext cx="2016000" cy="1079280"/>
          </a:xfrm>
          <a:prstGeom prst="wedgeRoundRectCallout">
            <a:avLst>
              <a:gd name="adj1" fmla="val 32597"/>
              <a:gd name="adj2" fmla="val 182500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Защита государства и морал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571680" y="5929200"/>
            <a:ext cx="1944360" cy="503280"/>
          </a:xfrm>
          <a:prstGeom prst="flowChartAlternateProcess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идригайлов – Раскольников – Соня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ссматриваются философские, общечеловеческие пробл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5" descr="СВИДРИГАЙЛОВ"/>
          <p:cNvPicPr/>
          <p:nvPr/>
        </p:nvPicPr>
        <p:blipFill>
          <a:blip r:embed="rId1"/>
          <a:stretch/>
        </p:blipFill>
        <p:spPr>
          <a:xfrm>
            <a:off x="395280" y="4005360"/>
            <a:ext cx="1717560" cy="2303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СОНЯ"/>
          <p:cNvPicPr/>
          <p:nvPr/>
        </p:nvPicPr>
        <p:blipFill>
          <a:blip r:embed="rId2"/>
          <a:stretch/>
        </p:blipFill>
        <p:spPr>
          <a:xfrm>
            <a:off x="7524720" y="4076640"/>
            <a:ext cx="1314360" cy="2016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расскольников"/>
          <p:cNvPicPr/>
          <p:nvPr/>
        </p:nvPicPr>
        <p:blipFill>
          <a:blip r:embed="rId3"/>
          <a:stretch/>
        </p:blipFill>
        <p:spPr>
          <a:xfrm>
            <a:off x="3780000" y="1700280"/>
            <a:ext cx="1917360" cy="27176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8"/>
          <p:cNvSpPr/>
          <p:nvPr/>
        </p:nvSpPr>
        <p:spPr>
          <a:xfrm>
            <a:off x="395280" y="2421000"/>
            <a:ext cx="2376360" cy="1152360"/>
          </a:xfrm>
          <a:prstGeom prst="wedgeRoundRectCallout">
            <a:avLst>
              <a:gd name="adj1" fmla="val -45259"/>
              <a:gd name="adj2" fmla="val 86226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Бездеятельность, индивидуализм, культ сильной личност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2268360" y="5300640"/>
            <a:ext cx="2232360" cy="1008000"/>
          </a:xfrm>
          <a:prstGeom prst="wedgeRoundRectCallout">
            <a:avLst>
              <a:gd name="adj1" fmla="val 24962"/>
              <a:gd name="adj2" fmla="val -139606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Безверие, индивидуализм, бунт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4643280" y="5516640"/>
            <a:ext cx="2303640" cy="936720"/>
          </a:xfrm>
          <a:prstGeom prst="wedgeRoundRectCallout">
            <a:avLst>
              <a:gd name="adj1" fmla="val -69643"/>
              <a:gd name="adj2" fmla="val -148134"/>
              <a:gd name="adj3" fmla="val 16667"/>
            </a:avLst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иск веры, мессианство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659640" y="2060640"/>
            <a:ext cx="2232000" cy="1224000"/>
          </a:xfrm>
          <a:prstGeom prst="wedgeRoundRectCallout">
            <a:avLst>
              <a:gd name="adj1" fmla="val 40398"/>
              <a:gd name="adj2" fmla="val 106939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Глубокая вера, христианское смирение, человеколюбие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6178680" y="466560"/>
            <a:ext cx="1081080" cy="793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ЛУЖИН"/>
          <p:cNvPicPr/>
          <p:nvPr/>
        </p:nvPicPr>
        <p:blipFill>
          <a:blip r:embed="rId2"/>
          <a:stretch/>
        </p:blipFill>
        <p:spPr>
          <a:xfrm>
            <a:off x="324000" y="333360"/>
            <a:ext cx="163512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расскольников"/>
          <p:cNvPicPr/>
          <p:nvPr/>
        </p:nvPicPr>
        <p:blipFill>
          <a:blip r:embed="rId3"/>
          <a:stretch/>
        </p:blipFill>
        <p:spPr>
          <a:xfrm>
            <a:off x="3780000" y="1700280"/>
            <a:ext cx="1917360" cy="2717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ПОРФЕРИЙ ПЕТРОВИЧ"/>
          <p:cNvPicPr/>
          <p:nvPr/>
        </p:nvPicPr>
        <p:blipFill>
          <a:blip r:embed="rId4"/>
          <a:stretch/>
        </p:blipFill>
        <p:spPr>
          <a:xfrm>
            <a:off x="7667640" y="1341360"/>
            <a:ext cx="1295280" cy="1650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СОНЯ"/>
          <p:cNvPicPr/>
          <p:nvPr/>
        </p:nvPicPr>
        <p:blipFill>
          <a:blip r:embed="rId5"/>
          <a:stretch/>
        </p:blipFill>
        <p:spPr>
          <a:xfrm>
            <a:off x="7667640" y="4005360"/>
            <a:ext cx="1314360" cy="201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СВИДРИГАЙЛОВ"/>
          <p:cNvPicPr/>
          <p:nvPr/>
        </p:nvPicPr>
        <p:blipFill>
          <a:blip r:embed="rId6"/>
          <a:stretch/>
        </p:blipFill>
        <p:spPr>
          <a:xfrm>
            <a:off x="395280" y="4005360"/>
            <a:ext cx="1717560" cy="23032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3708360" y="44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39528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6227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7308720" y="3068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фирий Петрович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734364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755640" y="2997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539640" y="2997360"/>
            <a:ext cx="1944720" cy="502920"/>
          </a:xfrm>
          <a:prstGeom prst="flowChartAlternateProcess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611280" y="3068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179280" y="587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201" name="AutoShape 17"/>
          <p:cNvCxnSpPr/>
          <p:nvPr/>
        </p:nvCxnSpPr>
        <p:spPr>
          <a:xfrm flipV="1">
            <a:off x="5724000" y="2133360"/>
            <a:ext cx="1971000" cy="89280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2" name="AutoShape 18"/>
          <p:cNvCxnSpPr/>
          <p:nvPr/>
        </p:nvCxnSpPr>
        <p:spPr>
          <a:xfrm>
            <a:off x="5724000" y="3068640"/>
            <a:ext cx="1971000" cy="195480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3" name="AutoShape 19"/>
          <p:cNvCxnSpPr/>
          <p:nvPr/>
        </p:nvCxnSpPr>
        <p:spPr>
          <a:xfrm flipV="1">
            <a:off x="5724000" y="1412280"/>
            <a:ext cx="1251720" cy="164052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4" name="AutoShape 20"/>
          <p:cNvCxnSpPr/>
          <p:nvPr/>
        </p:nvCxnSpPr>
        <p:spPr>
          <a:xfrm flipH="1" flipV="1">
            <a:off x="1979280" y="1483920"/>
            <a:ext cx="1821600" cy="157392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5" name="AutoShape 21"/>
          <p:cNvCxnSpPr>
            <a:endCxn id="198" idx="3"/>
          </p:cNvCxnSpPr>
          <p:nvPr/>
        </p:nvCxnSpPr>
        <p:spPr>
          <a:xfrm flipH="1">
            <a:off x="2483640" y="3068280"/>
            <a:ext cx="1151640" cy="18180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6" name="AutoShape 22"/>
          <p:cNvCxnSpPr/>
          <p:nvPr/>
        </p:nvCxnSpPr>
        <p:spPr>
          <a:xfrm flipH="1">
            <a:off x="2123640" y="3645000"/>
            <a:ext cx="1667520" cy="151344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7" name="AutoShape 23"/>
          <p:cNvCxnSpPr/>
          <p:nvPr/>
        </p:nvCxnSpPr>
        <p:spPr>
          <a:xfrm flipV="1">
            <a:off x="2124000" y="5013000"/>
            <a:ext cx="5555520" cy="144720"/>
          </a:xfrm>
          <a:prstGeom prst="straightConnector1">
            <a:avLst/>
          </a:prstGeom>
          <a:ln w="936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8" name="AutoShape 24"/>
          <p:cNvCxnSpPr/>
          <p:nvPr/>
        </p:nvCxnSpPr>
        <p:spPr>
          <a:xfrm flipV="1">
            <a:off x="2484360" y="2133000"/>
            <a:ext cx="5184000" cy="1083240"/>
          </a:xfrm>
          <a:prstGeom prst="straightConnector1">
            <a:avLst/>
          </a:prstGeom>
          <a:ln w="936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9" name="AutoShape 25"/>
          <p:cNvCxnSpPr/>
          <p:nvPr/>
        </p:nvCxnSpPr>
        <p:spPr>
          <a:xfrm flipV="1">
            <a:off x="1979280" y="620280"/>
            <a:ext cx="4485240" cy="869040"/>
          </a:xfrm>
          <a:prstGeom prst="straightConnector1">
            <a:avLst/>
          </a:prstGeom>
          <a:ln w="936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</p:cxn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Diagram 6"/>
          <p:cNvGrpSpPr/>
          <p:nvPr/>
        </p:nvGrpSpPr>
        <p:grpSpPr>
          <a:xfrm>
            <a:off x="2244600" y="482760"/>
            <a:ext cx="4773600" cy="4114800"/>
            <a:chOff x="2244600" y="482760"/>
            <a:chExt cx="4773600" cy="4114800"/>
          </a:xfrm>
        </p:grpSpPr>
        <p:sp>
          <p:nvSpPr>
            <p:cNvPr id="211" name="_s1028"/>
            <p:cNvSpPr/>
            <p:nvPr/>
          </p:nvSpPr>
          <p:spPr>
            <a:xfrm>
              <a:off x="2244600" y="1635120"/>
              <a:ext cx="2962440" cy="2962440"/>
            </a:xfrm>
            <a:prstGeom prst="donut">
              <a:avLst>
                <a:gd name="adj" fmla="val 16666"/>
              </a:avLst>
            </a:prstGeom>
            <a:solidFill>
              <a:srgbClr val="ff66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2" name="_s1029"/>
            <p:cNvSpPr/>
            <p:nvPr/>
          </p:nvSpPr>
          <p:spPr>
            <a:xfrm>
              <a:off x="6227640" y="1797120"/>
              <a:ext cx="790560" cy="65700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Обществен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3" name="_s1030"/>
            <p:cNvSpPr/>
            <p:nvPr/>
          </p:nvSpPr>
          <p:spPr>
            <a:xfrm>
              <a:off x="2738520" y="2128680"/>
              <a:ext cx="1974600" cy="197496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4" name="_s1031"/>
            <p:cNvSpPr/>
            <p:nvPr/>
          </p:nvSpPr>
          <p:spPr>
            <a:xfrm>
              <a:off x="6227640" y="1139760"/>
              <a:ext cx="790560" cy="65736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Социаль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5" name="_s1032"/>
            <p:cNvSpPr/>
            <p:nvPr/>
          </p:nvSpPr>
          <p:spPr>
            <a:xfrm>
              <a:off x="3232080" y="2622600"/>
              <a:ext cx="987480" cy="9874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6" name="_s1033"/>
            <p:cNvSpPr/>
            <p:nvPr/>
          </p:nvSpPr>
          <p:spPr>
            <a:xfrm>
              <a:off x="6227640" y="482760"/>
              <a:ext cx="790560" cy="65700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Личност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17" name="Line 14"/>
          <p:cNvSpPr/>
          <p:nvPr/>
        </p:nvSpPr>
        <p:spPr>
          <a:xfrm>
            <a:off x="3708360" y="1557360"/>
            <a:ext cx="73080" cy="30240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2268360" y="3068640"/>
            <a:ext cx="2951280" cy="73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627280" y="2060640"/>
            <a:ext cx="2160720" cy="2089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Line 17"/>
          <p:cNvSpPr/>
          <p:nvPr/>
        </p:nvSpPr>
        <p:spPr>
          <a:xfrm flipV="1">
            <a:off x="2627280" y="2133360"/>
            <a:ext cx="2232000" cy="19429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2700360" y="2852640"/>
            <a:ext cx="2160720" cy="3682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6156360" y="3500280"/>
            <a:ext cx="2089080" cy="576360"/>
          </a:xfrm>
          <a:prstGeom prst="wedgeRoundRectCallout">
            <a:avLst>
              <a:gd name="adj1" fmla="val -119226"/>
              <a:gd name="adj2" fmla="val -46967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6659640" y="4292640"/>
            <a:ext cx="1800000" cy="647640"/>
          </a:xfrm>
          <a:prstGeom prst="wedgeRoundRectCallout">
            <a:avLst>
              <a:gd name="adj1" fmla="val -194708"/>
              <a:gd name="adj2" fmla="val -142157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Порфири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716360" y="4941720"/>
            <a:ext cx="1584360" cy="576360"/>
          </a:xfrm>
          <a:prstGeom prst="wedgeRoundRectCallout">
            <a:avLst>
              <a:gd name="adj1" fmla="val -109819"/>
              <a:gd name="adj2" fmla="val -309777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1476360" y="4508640"/>
            <a:ext cx="1513080" cy="576000"/>
          </a:xfrm>
          <a:prstGeom prst="wedgeRoundRectCallout">
            <a:avLst>
              <a:gd name="adj1" fmla="val 83685"/>
              <a:gd name="adj2" fmla="val -249722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179280" y="1844640"/>
            <a:ext cx="2089080" cy="574560"/>
          </a:xfrm>
          <a:prstGeom prst="wedgeRoundRectCallout">
            <a:avLst>
              <a:gd name="adj1" fmla="val 88375"/>
              <a:gd name="adj2" fmla="val 101106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971640" y="549360"/>
            <a:ext cx="2087640" cy="576000"/>
          </a:xfrm>
          <a:prstGeom prst="wedgeRoundRectCallout">
            <a:avLst>
              <a:gd name="adj1" fmla="val 57074"/>
              <a:gd name="adj2" fmla="val 214185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77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7" dur="770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9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6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8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0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8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0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2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9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1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3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77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0" dur="77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2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4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1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3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5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 Раскольникове всего «слишком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68360" y="1197000"/>
            <a:ext cx="2087640" cy="100800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684360" y="13413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Протест Лебезятников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6156360" y="907920"/>
            <a:ext cx="2376360" cy="115272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6588000" y="1197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бунт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AutoShape 11"/>
          <p:cNvSpPr/>
          <p:nvPr/>
        </p:nvSpPr>
        <p:spPr>
          <a:xfrm>
            <a:off x="1116000" y="2421000"/>
            <a:ext cx="2232000" cy="129528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332000" y="2708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Единичное добро Разумихин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AutoShape 13"/>
          <p:cNvSpPr/>
          <p:nvPr/>
        </p:nvSpPr>
        <p:spPr>
          <a:xfrm>
            <a:off x="6300720" y="2349360"/>
            <a:ext cx="2303640" cy="144000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732720" y="2708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Вселенские масштабы добр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AutoShape 15"/>
          <p:cNvSpPr/>
          <p:nvPr/>
        </p:nvSpPr>
        <p:spPr>
          <a:xfrm>
            <a:off x="900000" y="4797360"/>
            <a:ext cx="2448000" cy="136836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1116000" y="5229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Арифметика Лужин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5867280" y="4581360"/>
            <a:ext cx="2305080" cy="122400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6227640" y="465300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Теория, толкающая к топору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241" name="AutoShape 20"/>
          <p:cNvCxnSpPr>
            <a:stCxn id="230" idx="3"/>
            <a:endCxn id="231" idx="1"/>
          </p:cNvCxnSpPr>
          <p:nvPr/>
        </p:nvCxnSpPr>
        <p:spPr>
          <a:xfrm flipV="1">
            <a:off x="2771640" y="1484280"/>
            <a:ext cx="3385440" cy="178200"/>
          </a:xfrm>
          <a:prstGeom prst="bentConnector3">
            <a:avLst>
              <a:gd name="adj1" fmla="val 49952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42" name="AutoShape 21"/>
          <p:cNvCxnSpPr/>
          <p:nvPr/>
        </p:nvCxnSpPr>
        <p:spPr>
          <a:xfrm flipH="1" flipV="1" rot="5400000">
            <a:off x="4059360" y="1347480"/>
            <a:ext cx="554760" cy="3996000"/>
          </a:xfrm>
          <a:prstGeom prst="bentConnector4">
            <a:avLst>
              <a:gd name="adj1" fmla="val -40909"/>
              <a:gd name="adj2" fmla="val 62140"/>
            </a:avLst>
          </a:prstGeom>
          <a:ln w="936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22"/>
          <p:cNvCxnSpPr/>
          <p:nvPr/>
        </p:nvCxnSpPr>
        <p:spPr>
          <a:xfrm>
            <a:off x="3348000" y="5516640"/>
            <a:ext cx="3672720" cy="202320"/>
          </a:xfrm>
          <a:prstGeom prst="bentConnector4">
            <a:avLst>
              <a:gd name="adj1" fmla="val 34280"/>
              <a:gd name="adj2" fmla="val 273083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77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770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77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2" dur="770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6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77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2" dur="770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4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6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1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3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5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1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3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5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77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0" dur="770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2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4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Рисунок 2" descr="Двойники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714760" y="785880"/>
            <a:ext cx="3875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лифонический рома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</a:rPr>
              <a:t>Достоевский – создатель полифонического романа, по выражению Бахтина. Полифония – многоголосица. Его герои как бы вступают в перекличку друг с другом. Автор окружает Раскольникова людьми, варьирующими те или иные мысли главного героя. При этом отрицательные элементы его теории отражают «двойники», а положительные – «антиподы»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6" name="Содержимое 6" descr="Полифония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822920" y="1285920"/>
            <a:ext cx="3178080" cy="42861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4786200" y="564372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Полифония» 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 rot="21240000">
            <a:off x="5796000" y="549360"/>
            <a:ext cx="1081080" cy="79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ЛУЖИН"/>
          <p:cNvPicPr/>
          <p:nvPr/>
        </p:nvPicPr>
        <p:blipFill>
          <a:blip r:embed="rId2"/>
          <a:stretch/>
        </p:blipFill>
        <p:spPr>
          <a:xfrm rot="600000">
            <a:off x="826560" y="404280"/>
            <a:ext cx="1635120" cy="2303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расскольников"/>
          <p:cNvPicPr/>
          <p:nvPr/>
        </p:nvPicPr>
        <p:blipFill>
          <a:blip r:embed="rId3"/>
          <a:stretch/>
        </p:blipFill>
        <p:spPr>
          <a:xfrm>
            <a:off x="3780000" y="1700280"/>
            <a:ext cx="1917360" cy="271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ПОРФЕРИЙ ПЕТРОВИЧ"/>
          <p:cNvPicPr/>
          <p:nvPr/>
        </p:nvPicPr>
        <p:blipFill>
          <a:blip r:embed="rId4"/>
          <a:stretch/>
        </p:blipFill>
        <p:spPr>
          <a:xfrm rot="840000">
            <a:off x="7019640" y="1557360"/>
            <a:ext cx="1295280" cy="165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СОНЯ"/>
          <p:cNvPicPr/>
          <p:nvPr/>
        </p:nvPicPr>
        <p:blipFill>
          <a:blip r:embed="rId5"/>
          <a:stretch/>
        </p:blipFill>
        <p:spPr>
          <a:xfrm rot="20460000">
            <a:off x="6516720" y="4005360"/>
            <a:ext cx="1314360" cy="201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СВИДРИГАЙЛОВ"/>
          <p:cNvPicPr/>
          <p:nvPr/>
        </p:nvPicPr>
        <p:blipFill>
          <a:blip r:embed="rId6"/>
          <a:stretch/>
        </p:blipFill>
        <p:spPr>
          <a:xfrm rot="20820000">
            <a:off x="1187280" y="3933720"/>
            <a:ext cx="1717920" cy="2303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4"/>
          <p:cNvSpPr/>
          <p:nvPr/>
        </p:nvSpPr>
        <p:spPr>
          <a:xfrm>
            <a:off x="3708360" y="44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39528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6227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308720" y="3068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фирий Петрович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734364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755640" y="2997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AutoShape 20"/>
          <p:cNvSpPr/>
          <p:nvPr/>
        </p:nvSpPr>
        <p:spPr>
          <a:xfrm>
            <a:off x="539640" y="2997360"/>
            <a:ext cx="1944720" cy="502920"/>
          </a:xfrm>
          <a:prstGeom prst="flowChartAlternateProcess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11280" y="3068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179280" y="587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19"/>
          <p:cNvSpPr/>
          <p:nvPr/>
        </p:nvSpPr>
        <p:spPr>
          <a:xfrm>
            <a:off x="4642560" y="285840"/>
            <a:ext cx="142920" cy="6286320"/>
          </a:xfrm>
          <a:prstGeom prst="line">
            <a:avLst/>
          </a:prstGeom>
          <a:ln w="38160">
            <a:solidFill>
              <a:srgbClr val="8a2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еория Луж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Приверженец «экономической правды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Отвергает жертвенность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Утверждает беспомощность «единичных щедрот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Считает, что забота о собственном благосостоянии есть забота о «всеобщем преуспеянии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6" name="Picture 9" descr="ЛУЖИН"/>
          <p:cNvPicPr/>
          <p:nvPr/>
        </p:nvPicPr>
        <p:blipFill>
          <a:blip r:embed="rId1"/>
          <a:stretch/>
        </p:blipFill>
        <p:spPr>
          <a:xfrm>
            <a:off x="6929280" y="500040"/>
            <a:ext cx="163512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умихин - альтруи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Докажите это примерами из текст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 rot="21443400">
            <a:off x="5319720" y="1615680"/>
            <a:ext cx="2008080" cy="14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Лужин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Оба разумно находят жертву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Теоретически обосновывают свой выбор (никчёмная старуха только вредит всем, падшая Соня всё равно когда-нибудь украдёт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Считают возможным решать участь другого человека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ahoma"/>
              </a:rPr>
              <a:t>Но в Лужине нет альтруистической направленности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3280" y="1268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азумихин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Рискуя свой жизнью, спасает из огня детей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Содержит больного отца умершего друга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Дважды оставляет деньги Мармеладовым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Пытается спасти падшую девочку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ебезят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Выступает против таких предрассудков, как «целомудрие и женская стыдливость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Взывает к созданию коммун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атует за уничтожение брачных уз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рфирий Петрович выступает против бун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айдите доказательства в тексте, зачитайте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2:42:32Z</dcterms:created>
  <dc:creator>LINKIN PARK</dc:creator>
  <dc:description/>
  <dc:language>en-US</dc:language>
  <cp:lastModifiedBy>1</cp:lastModifiedBy>
  <dcterms:modified xsi:type="dcterms:W3CDTF">2017-08-23T19:26:36Z</dcterms:modified>
  <cp:revision>38</cp:revision>
  <dc:subject/>
  <dc:title>     </dc:title>
</cp:coreProperties>
</file>