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027-E6AE-465C-A5E3-51717E65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B02-A89D-4499-B37F-0CF936DD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DF6-F943-4AF9-86FB-1846BE06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513-20F2-4BF7-905B-A45EA57A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AA78-1781-47A3-B9C6-BDF301BD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5C97-83D0-48E8-BBE6-BE5A4104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24AD-51EB-40A2-85F1-357BE012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8247-6526-4538-AA6E-4F811EE1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F29C-A448-4071-8B50-FEE062A1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A22C-0359-4510-91C0-778AC689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2263-9149-45F0-AFC3-05F134EB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D8E-5826-4D69-87EA-F2DBEDB1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7CFA-6FBD-4E3A-B65F-1A66537D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6B97-C17E-4705-AD7C-8A76BA9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1C9F-3D43-44F4-B1F7-BD89034F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3602-1288-471A-9E95-7012673E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8D0D-39B9-4A45-A43D-EEB7AAB1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0EB-9BDA-46A2-86B4-243D15C0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CCC-2F22-4771-A4B6-C2DB861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0AD-EFFA-472C-9DC2-6A892B66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4DD-6CC1-4F24-9275-F9021A31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5A5-3864-449A-8662-67D9C83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431-7B8F-4E54-8626-287F96C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D00-379E-4EFE-83F0-518EFA6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4482-E148-40B1-B472-B11C5B8DA246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0AA3-921E-44F9-99B3-EF630048118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1700280"/>
            <a:ext cx="7921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СИСТЕМ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ДВОЙНИЧЕСТВ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1800" y="5515920"/>
            <a:ext cx="2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Лебезятнико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Это карикатура на протест Раскольникова. Его воинствующая глупость компрометирует бунтарский путь переустройства мир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рфирий Петрович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bace"/>
                </a:solidFill>
                <a:latin typeface="Tahoma"/>
              </a:rPr>
              <a:t>«Наполеоны» не должны роптать против существующего мироустрой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видригай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 нём проверяется «арифметическая» теория Раскольникова: на счету Свидригайлова много добрых дел, но они не могут оправдать минувшего злодея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Добрые дела не воскресают его больную душу: совесть высвобождается и вырывается наружу, порождая кошмар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3" name="Содержимое 7" descr="Внутренний мир Свидригайло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00800" y="7858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5500800" y="435780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Внутренний мир Свидригайлова»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ня Мармелад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уть Сони – это путь покаяния, возвращение к родной земле, которую он оскверни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ротягивает ему кипарисовый крестик – символ возвращения к ве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7" name="Содержимое 7" descr="Сон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72080" y="857160"/>
            <a:ext cx="248616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8"/>
          <p:cNvSpPr/>
          <p:nvPr/>
        </p:nvSpPr>
        <p:spPr>
          <a:xfrm>
            <a:off x="5500800" y="4357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Сон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Это идеал Раскольникова – он «переступил», но без нравственных мучений (сначал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амоубийство – это один из жизненных итогов (вариант для Раскольников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 говорит: «Мы одного поля ягоды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он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Не может перешагнуть через совес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обирается с ней вместе идти по одной дороге: «Мы вместе прокляты, вместе пойдём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 Соней Раскольников собирается идти по одной дороге: «Мы вместе прокляты, вместе и пойдём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расскольников"/>
          <p:cNvPicPr/>
          <p:nvPr/>
        </p:nvPicPr>
        <p:blipFill>
          <a:blip r:embed="rId1"/>
          <a:stretch/>
        </p:blipFill>
        <p:spPr>
          <a:xfrm>
            <a:off x="3564000" y="3789360"/>
            <a:ext cx="1917720" cy="271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ЛУЖИН"/>
          <p:cNvPicPr/>
          <p:nvPr/>
        </p:nvPicPr>
        <p:blipFill>
          <a:blip r:embed="rId2"/>
          <a:stretch/>
        </p:blipFill>
        <p:spPr>
          <a:xfrm>
            <a:off x="250920" y="3860640"/>
            <a:ext cx="1635120" cy="23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2664000" cy="23274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4"/>
          <p:cNvSpPr/>
          <p:nvPr/>
        </p:nvSpPr>
        <p:spPr>
          <a:xfrm>
            <a:off x="324000" y="1700280"/>
            <a:ext cx="2592360" cy="1441440"/>
          </a:xfrm>
          <a:prstGeom prst="wedgeRoundRectCallout">
            <a:avLst>
              <a:gd name="adj1" fmla="val -40138"/>
              <a:gd name="adj2" fmla="val 93393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циональный эго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908000" y="3500280"/>
            <a:ext cx="1727280" cy="1079640"/>
          </a:xfrm>
          <a:prstGeom prst="wedgeRoundRectCallout">
            <a:avLst>
              <a:gd name="adj1" fmla="val 37777"/>
              <a:gd name="adj2" fmla="val 110587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6516720" y="2133720"/>
            <a:ext cx="2376360" cy="936360"/>
          </a:xfrm>
          <a:prstGeom prst="wedgeRoundRectCallout">
            <a:avLst>
              <a:gd name="adj1" fmla="val -41851"/>
              <a:gd name="adj2" fmla="val 8694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4643280" y="2708280"/>
            <a:ext cx="1657440" cy="936720"/>
          </a:xfrm>
          <a:prstGeom prst="wedgeRoundRectCallout">
            <a:avLst>
              <a:gd name="adj1" fmla="val -43773"/>
              <a:gd name="adj2" fmla="val 80675"/>
              <a:gd name="adj3" fmla="val 16667"/>
            </a:avLst>
          </a:prstGeom>
          <a:solidFill>
            <a:srgbClr val="ff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жин – Раскольников – Разумихин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ятся вопросы, связанные с деятельностью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безятников – Раскольников – Порфирий Петрович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сматриваются социальные пробл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расскольников"/>
          <p:cNvPicPr/>
          <p:nvPr/>
        </p:nvPicPr>
        <p:blipFill>
          <a:blip r:embed="rId1"/>
          <a:stretch/>
        </p:blipFill>
        <p:spPr>
          <a:xfrm>
            <a:off x="3492360" y="3573360"/>
            <a:ext cx="1917720" cy="271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ПОРФЕРИЙ ПЕТРОВИЧ"/>
          <p:cNvPicPr/>
          <p:nvPr/>
        </p:nvPicPr>
        <p:blipFill>
          <a:blip r:embed="rId2"/>
          <a:stretch/>
        </p:blipFill>
        <p:spPr>
          <a:xfrm>
            <a:off x="6804000" y="3789360"/>
            <a:ext cx="1778040" cy="22654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7"/>
          <p:cNvSpPr/>
          <p:nvPr/>
        </p:nvSpPr>
        <p:spPr>
          <a:xfrm>
            <a:off x="250920" y="3284640"/>
            <a:ext cx="2374920" cy="1368360"/>
          </a:xfrm>
          <a:prstGeom prst="wedgeRoundRectCallout">
            <a:avLst>
              <a:gd name="adj1" fmla="val 333"/>
              <a:gd name="adj2" fmla="val 160671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трицание нравственных и государственных нор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2627280" y="1700280"/>
            <a:ext cx="2232000" cy="1224000"/>
          </a:xfrm>
          <a:prstGeom prst="wedgeRoundRectCallout">
            <a:avLst>
              <a:gd name="adj1" fmla="val -11949"/>
              <a:gd name="adj2" fmla="val 100972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раво на протест человека необыкновенног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5076720" y="2565360"/>
            <a:ext cx="1871640" cy="1008000"/>
          </a:xfrm>
          <a:prstGeom prst="wedgeRoundRectCallout">
            <a:avLst>
              <a:gd name="adj1" fmla="val -44486"/>
              <a:gd name="adj2" fmla="val 81495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виновение «твари дрожащей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6659640" y="1052640"/>
            <a:ext cx="2016000" cy="1079280"/>
          </a:xfrm>
          <a:prstGeom prst="wedgeRoundRectCallout">
            <a:avLst>
              <a:gd name="adj1" fmla="val 32597"/>
              <a:gd name="adj2" fmla="val 182500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щита государства и морал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571680" y="5929200"/>
            <a:ext cx="1944360" cy="50328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дригайлов – Раскольников – Сон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сматриваются философские, общечелове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СВИДРИГАЙЛОВ"/>
          <p:cNvPicPr/>
          <p:nvPr/>
        </p:nvPicPr>
        <p:blipFill>
          <a:blip r:embed="rId1"/>
          <a:stretch/>
        </p:blipFill>
        <p:spPr>
          <a:xfrm>
            <a:off x="395280" y="4005360"/>
            <a:ext cx="1717560" cy="2303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СОНЯ"/>
          <p:cNvPicPr/>
          <p:nvPr/>
        </p:nvPicPr>
        <p:blipFill>
          <a:blip r:embed="rId2"/>
          <a:stretch/>
        </p:blipFill>
        <p:spPr>
          <a:xfrm>
            <a:off x="7524720" y="4076640"/>
            <a:ext cx="1314360" cy="20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расскольников"/>
          <p:cNvPicPr/>
          <p:nvPr/>
        </p:nvPicPr>
        <p:blipFill>
          <a:blip r:embed="rId3"/>
          <a:stretch/>
        </p:blipFill>
        <p:spPr>
          <a:xfrm>
            <a:off x="3780000" y="1700280"/>
            <a:ext cx="1917360" cy="2717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8"/>
          <p:cNvSpPr/>
          <p:nvPr/>
        </p:nvSpPr>
        <p:spPr>
          <a:xfrm>
            <a:off x="395280" y="2421000"/>
            <a:ext cx="2376360" cy="1152360"/>
          </a:xfrm>
          <a:prstGeom prst="wedgeRoundRectCallout">
            <a:avLst>
              <a:gd name="adj1" fmla="val -45259"/>
              <a:gd name="adj2" fmla="val 86226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деятельность, индивидуализм, культ сильной лич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2268360" y="5300640"/>
            <a:ext cx="2232360" cy="1008000"/>
          </a:xfrm>
          <a:prstGeom prst="wedgeRoundRectCallout">
            <a:avLst>
              <a:gd name="adj1" fmla="val 24962"/>
              <a:gd name="adj2" fmla="val -13960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верие, индивидуализм, 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5516640"/>
            <a:ext cx="2303640" cy="936720"/>
          </a:xfrm>
          <a:prstGeom prst="wedgeRoundRectCallout">
            <a:avLst>
              <a:gd name="adj1" fmla="val -69643"/>
              <a:gd name="adj2" fmla="val -148134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иск веры, мессианств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659640" y="2060640"/>
            <a:ext cx="2232000" cy="1224000"/>
          </a:xfrm>
          <a:prstGeom prst="wedgeRoundRectCallout">
            <a:avLst>
              <a:gd name="adj1" fmla="val 40398"/>
              <a:gd name="adj2" fmla="val 10693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лубокая вера, христианское смирение, человеколюби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178680" y="466560"/>
            <a:ext cx="1081080" cy="793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ЛУЖИН"/>
          <p:cNvPicPr/>
          <p:nvPr/>
        </p:nvPicPr>
        <p:blipFill>
          <a:blip r:embed="rId2"/>
          <a:stretch/>
        </p:blipFill>
        <p:spPr>
          <a:xfrm>
            <a:off x="324000" y="333360"/>
            <a:ext cx="163512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расскольников"/>
          <p:cNvPicPr/>
          <p:nvPr/>
        </p:nvPicPr>
        <p:blipFill>
          <a:blip r:embed="rId3"/>
          <a:stretch/>
        </p:blipFill>
        <p:spPr>
          <a:xfrm>
            <a:off x="3780000" y="1700280"/>
            <a:ext cx="1917360" cy="271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ПОРФЕРИЙ ПЕТРОВИЧ"/>
          <p:cNvPicPr/>
          <p:nvPr/>
        </p:nvPicPr>
        <p:blipFill>
          <a:blip r:embed="rId4"/>
          <a:stretch/>
        </p:blipFill>
        <p:spPr>
          <a:xfrm>
            <a:off x="7667640" y="1341360"/>
            <a:ext cx="1295280" cy="165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ОНЯ"/>
          <p:cNvPicPr/>
          <p:nvPr/>
        </p:nvPicPr>
        <p:blipFill>
          <a:blip r:embed="rId5"/>
          <a:stretch/>
        </p:blipFill>
        <p:spPr>
          <a:xfrm>
            <a:off x="7667640" y="4005360"/>
            <a:ext cx="1314360" cy="201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СВИДРИГАЙЛОВ"/>
          <p:cNvPicPr/>
          <p:nvPr/>
        </p:nvPicPr>
        <p:blipFill>
          <a:blip r:embed="rId6"/>
          <a:stretch/>
        </p:blipFill>
        <p:spPr>
          <a:xfrm>
            <a:off x="395280" y="4005360"/>
            <a:ext cx="1717560" cy="23032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9528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539640" y="2997360"/>
            <a:ext cx="1944720" cy="5029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01" name="AutoShape 17"/>
          <p:cNvCxnSpPr/>
          <p:nvPr/>
        </p:nvCxnSpPr>
        <p:spPr>
          <a:xfrm flipV="1">
            <a:off x="5724000" y="2133360"/>
            <a:ext cx="1971000" cy="89280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2" name="AutoShape 18"/>
          <p:cNvCxnSpPr/>
          <p:nvPr/>
        </p:nvCxnSpPr>
        <p:spPr>
          <a:xfrm>
            <a:off x="5724000" y="3068640"/>
            <a:ext cx="1971000" cy="195480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3" name="AutoShape 19"/>
          <p:cNvCxnSpPr/>
          <p:nvPr/>
        </p:nvCxnSpPr>
        <p:spPr>
          <a:xfrm flipV="1">
            <a:off x="5724000" y="1412280"/>
            <a:ext cx="1251720" cy="164052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4" name="AutoShape 20"/>
          <p:cNvCxnSpPr/>
          <p:nvPr/>
        </p:nvCxnSpPr>
        <p:spPr>
          <a:xfrm flipH="1" flipV="1">
            <a:off x="1979280" y="1483920"/>
            <a:ext cx="1821600" cy="157392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5" name="AutoShape 21"/>
          <p:cNvCxnSpPr>
            <a:endCxn id="198" idx="3"/>
          </p:cNvCxnSpPr>
          <p:nvPr/>
        </p:nvCxnSpPr>
        <p:spPr>
          <a:xfrm flipH="1">
            <a:off x="2483640" y="3068280"/>
            <a:ext cx="1151640" cy="18180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6" name="AutoShape 22"/>
          <p:cNvCxnSpPr/>
          <p:nvPr/>
        </p:nvCxnSpPr>
        <p:spPr>
          <a:xfrm flipH="1">
            <a:off x="2123640" y="3645000"/>
            <a:ext cx="1667520" cy="151344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7" name="AutoShape 23"/>
          <p:cNvCxnSpPr/>
          <p:nvPr/>
        </p:nvCxnSpPr>
        <p:spPr>
          <a:xfrm flipV="1">
            <a:off x="2124000" y="5013000"/>
            <a:ext cx="5555520" cy="144720"/>
          </a:xfrm>
          <a:prstGeom prst="straightConnector1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8" name="AutoShape 24"/>
          <p:cNvCxnSpPr/>
          <p:nvPr/>
        </p:nvCxnSpPr>
        <p:spPr>
          <a:xfrm flipV="1">
            <a:off x="2484360" y="2133000"/>
            <a:ext cx="5184000" cy="1083240"/>
          </a:xfrm>
          <a:prstGeom prst="straightConnector1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AutoShape 25"/>
          <p:cNvCxnSpPr/>
          <p:nvPr/>
        </p:nvCxnSpPr>
        <p:spPr>
          <a:xfrm flipV="1">
            <a:off x="1979280" y="620280"/>
            <a:ext cx="4485240" cy="869040"/>
          </a:xfrm>
          <a:prstGeom prst="straightConnector1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Diagram 6"/>
          <p:cNvGrpSpPr/>
          <p:nvPr/>
        </p:nvGrpSpPr>
        <p:grpSpPr>
          <a:xfrm>
            <a:off x="2244600" y="482760"/>
            <a:ext cx="4773600" cy="4114800"/>
            <a:chOff x="2244600" y="482760"/>
            <a:chExt cx="4773600" cy="4114800"/>
          </a:xfrm>
        </p:grpSpPr>
        <p:sp>
          <p:nvSpPr>
            <p:cNvPr id="211" name="_s1028"/>
            <p:cNvSpPr/>
            <p:nvPr/>
          </p:nvSpPr>
          <p:spPr>
            <a:xfrm>
              <a:off x="2244600" y="1635120"/>
              <a:ext cx="2962440" cy="2962440"/>
            </a:xfrm>
            <a:prstGeom prst="donut">
              <a:avLst>
                <a:gd name="adj" fmla="val 16666"/>
              </a:avLst>
            </a:prstGeom>
            <a:solidFill>
              <a:srgbClr val="ff66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_s1029"/>
            <p:cNvSpPr/>
            <p:nvPr/>
          </p:nvSpPr>
          <p:spPr>
            <a:xfrm>
              <a:off x="6227640" y="179712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Обществен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_s1030"/>
            <p:cNvSpPr/>
            <p:nvPr/>
          </p:nvSpPr>
          <p:spPr>
            <a:xfrm>
              <a:off x="2738520" y="2128680"/>
              <a:ext cx="1974600" cy="197496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4" name="_s1031"/>
            <p:cNvSpPr/>
            <p:nvPr/>
          </p:nvSpPr>
          <p:spPr>
            <a:xfrm>
              <a:off x="6227640" y="1139760"/>
              <a:ext cx="790560" cy="65736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Социаль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_s1032"/>
            <p:cNvSpPr/>
            <p:nvPr/>
          </p:nvSpPr>
          <p:spPr>
            <a:xfrm>
              <a:off x="3232080" y="2622600"/>
              <a:ext cx="987480" cy="9874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_s1033"/>
            <p:cNvSpPr/>
            <p:nvPr/>
          </p:nvSpPr>
          <p:spPr>
            <a:xfrm>
              <a:off x="6227640" y="48276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Личност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7" name="Line 14"/>
          <p:cNvSpPr/>
          <p:nvPr/>
        </p:nvSpPr>
        <p:spPr>
          <a:xfrm>
            <a:off x="3708360" y="1557360"/>
            <a:ext cx="73080" cy="3024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2268360" y="3068640"/>
            <a:ext cx="2951280" cy="73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627280" y="2060640"/>
            <a:ext cx="2160720" cy="2089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 flipV="1">
            <a:off x="2627280" y="2133360"/>
            <a:ext cx="2232000" cy="1942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6156360" y="3500280"/>
            <a:ext cx="2089080" cy="576360"/>
          </a:xfrm>
          <a:prstGeom prst="wedgeRoundRectCallout">
            <a:avLst>
              <a:gd name="adj1" fmla="val -119226"/>
              <a:gd name="adj2" fmla="val -46967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6659640" y="4292640"/>
            <a:ext cx="1800000" cy="647640"/>
          </a:xfrm>
          <a:prstGeom prst="wedgeRoundRectCallout">
            <a:avLst>
              <a:gd name="adj1" fmla="val -194708"/>
              <a:gd name="adj2" fmla="val -142157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Порфири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716360" y="4941720"/>
            <a:ext cx="1584360" cy="576360"/>
          </a:xfrm>
          <a:prstGeom prst="wedgeRoundRectCallout">
            <a:avLst>
              <a:gd name="adj1" fmla="val -109819"/>
              <a:gd name="adj2" fmla="val -309777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1476360" y="4508640"/>
            <a:ext cx="1513080" cy="576000"/>
          </a:xfrm>
          <a:prstGeom prst="wedgeRoundRectCallout">
            <a:avLst>
              <a:gd name="adj1" fmla="val 83685"/>
              <a:gd name="adj2" fmla="val -249722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179280" y="1844640"/>
            <a:ext cx="2089080" cy="574560"/>
          </a:xfrm>
          <a:prstGeom prst="wedgeRoundRectCallout">
            <a:avLst>
              <a:gd name="adj1" fmla="val 88375"/>
              <a:gd name="adj2" fmla="val 101106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971640" y="549360"/>
            <a:ext cx="2087640" cy="576000"/>
          </a:xfrm>
          <a:prstGeom prst="wedgeRoundRectCallout">
            <a:avLst>
              <a:gd name="adj1" fmla="val 57074"/>
              <a:gd name="adj2" fmla="val 214185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77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7" dur="770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Раскольникове всего «слишк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68360" y="1197000"/>
            <a:ext cx="2087640" cy="100800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84360" y="1341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Протест Лебезятников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6156360" y="907920"/>
            <a:ext cx="2376360" cy="115272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6588000" y="119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1116000" y="2421000"/>
            <a:ext cx="2232000" cy="129528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332000" y="270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Единичное добро Разумих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6300720" y="2349360"/>
            <a:ext cx="2303640" cy="144000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732720" y="2708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Вселенские масштабы добр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900000" y="4797360"/>
            <a:ext cx="2448000" cy="136836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1116000" y="5229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Арифметика Луж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5867280" y="4581360"/>
            <a:ext cx="2305080" cy="122400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227640" y="4653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Теория, толкающая к топору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41" name="AutoShape 20"/>
          <p:cNvCxnSpPr>
            <a:stCxn id="230" idx="3"/>
            <a:endCxn id="231" idx="1"/>
          </p:cNvCxnSpPr>
          <p:nvPr/>
        </p:nvCxnSpPr>
        <p:spPr>
          <a:xfrm flipV="1">
            <a:off x="2771640" y="1484280"/>
            <a:ext cx="3385440" cy="178200"/>
          </a:xfrm>
          <a:prstGeom prst="bentConnector3">
            <a:avLst>
              <a:gd name="adj1" fmla="val 49952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42" name="AutoShape 21"/>
          <p:cNvCxnSpPr/>
          <p:nvPr/>
        </p:nvCxnSpPr>
        <p:spPr>
          <a:xfrm flipH="1" flipV="1" rot="5400000">
            <a:off x="4059360" y="1347480"/>
            <a:ext cx="554760" cy="3996000"/>
          </a:xfrm>
          <a:prstGeom prst="bentConnector4">
            <a:avLst>
              <a:gd name="adj1" fmla="val -40909"/>
              <a:gd name="adj2" fmla="val 62140"/>
            </a:avLst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22"/>
          <p:cNvCxnSpPr/>
          <p:nvPr/>
        </p:nvCxnSpPr>
        <p:spPr>
          <a:xfrm>
            <a:off x="3348000" y="5516640"/>
            <a:ext cx="3672720" cy="202320"/>
          </a:xfrm>
          <a:prstGeom prst="bentConnector4">
            <a:avLst>
              <a:gd name="adj1" fmla="val 34280"/>
              <a:gd name="adj2" fmla="val 273083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1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3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5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2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4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2" descr="Двойники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714760" y="785880"/>
            <a:ext cx="3875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ифонический ром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</a:rPr>
              <a:t>Достоевский – создатель полифонического романа, по выражению Бахтина. Полифония – многоголосица. Его герои как бы вступают в перекличку друг с другом. Автор окружает Раскольникова людьми, варьирующими те или иные мысли главного героя. При этом отрицательные элементы его теории отражают «двойники», а положительные – «антиподы»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6" name="Содержимое 6" descr="Полифони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22920" y="1285920"/>
            <a:ext cx="3178080" cy="4286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4786200" y="5643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Полифони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 rot="21240000">
            <a:off x="5796000" y="549360"/>
            <a:ext cx="1081080" cy="79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ЛУЖИН"/>
          <p:cNvPicPr/>
          <p:nvPr/>
        </p:nvPicPr>
        <p:blipFill>
          <a:blip r:embed="rId2"/>
          <a:stretch/>
        </p:blipFill>
        <p:spPr>
          <a:xfrm rot="600000">
            <a:off x="826560" y="404280"/>
            <a:ext cx="1635120" cy="230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расскольников"/>
          <p:cNvPicPr/>
          <p:nvPr/>
        </p:nvPicPr>
        <p:blipFill>
          <a:blip r:embed="rId3"/>
          <a:stretch/>
        </p:blipFill>
        <p:spPr>
          <a:xfrm>
            <a:off x="3780000" y="1700280"/>
            <a:ext cx="1917360" cy="271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ПОРФЕРИЙ ПЕТРОВИЧ"/>
          <p:cNvPicPr/>
          <p:nvPr/>
        </p:nvPicPr>
        <p:blipFill>
          <a:blip r:embed="rId4"/>
          <a:stretch/>
        </p:blipFill>
        <p:spPr>
          <a:xfrm rot="840000">
            <a:off x="7019640" y="1557360"/>
            <a:ext cx="1295280" cy="165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СОНЯ"/>
          <p:cNvPicPr/>
          <p:nvPr/>
        </p:nvPicPr>
        <p:blipFill>
          <a:blip r:embed="rId5"/>
          <a:stretch/>
        </p:blipFill>
        <p:spPr>
          <a:xfrm rot="20460000">
            <a:off x="6516720" y="4005360"/>
            <a:ext cx="1314360" cy="201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СВИДРИГАЙЛОВ"/>
          <p:cNvPicPr/>
          <p:nvPr/>
        </p:nvPicPr>
        <p:blipFill>
          <a:blip r:embed="rId6"/>
          <a:stretch/>
        </p:blipFill>
        <p:spPr>
          <a:xfrm rot="20820000">
            <a:off x="1187280" y="3933720"/>
            <a:ext cx="1717920" cy="2303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9528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539640" y="2997360"/>
            <a:ext cx="1944720" cy="5029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19"/>
          <p:cNvSpPr/>
          <p:nvPr/>
        </p:nvSpPr>
        <p:spPr>
          <a:xfrm>
            <a:off x="4642560" y="285840"/>
            <a:ext cx="142920" cy="6286320"/>
          </a:xfrm>
          <a:prstGeom prst="line">
            <a:avLst/>
          </a:prstGeom>
          <a:ln w="38160">
            <a:solidFill>
              <a:srgbClr val="8a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еория Луж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риверженец «экономической правды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твергает жертвенност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Утверждает беспомощность «единичных щедрот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Считает, что забота о собственном благосостоянии есть забота о «всеобщем преуспеянии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6" name="Picture 9" descr="ЛУЖИН"/>
          <p:cNvPicPr/>
          <p:nvPr/>
        </p:nvPicPr>
        <p:blipFill>
          <a:blip r:embed="rId1"/>
          <a:stretch/>
        </p:blipFill>
        <p:spPr>
          <a:xfrm>
            <a:off x="6929280" y="500040"/>
            <a:ext cx="16351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умихин - альтру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Докажите это примерами из текс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 rot="21443400">
            <a:off x="5319720" y="1615680"/>
            <a:ext cx="2008080" cy="14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Луж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Оба разумно находят жертв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Теоретически обосновывают свой выбор (никчёмная старуха только вредит всем, падшая Соня всё равно когда-нибудь украдёт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читают возможным решать участь другого человек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ahoma"/>
              </a:rPr>
              <a:t>Но в Лужине нет альтруистической направленност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азумих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Рискуя свой жизнью, спасает из огня детей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одержит больного отца умершего друг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Дважды оставляет деньги Мармеладовым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Пытается спасти падшую девочк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безят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ыступает против таких предрассудков, как «целомудрие и женская стыдливость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зывает к созданию коммун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атует за уничтожение брачных уз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фирий Петрович выступает против бу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айдите доказательства в тексте, зачитайте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42:32Z</dcterms:created>
  <dc:creator>LINKIN PARK</dc:creator>
  <dc:description/>
  <dc:language>en-US</dc:language>
  <cp:lastModifiedBy>1</cp:lastModifiedBy>
  <dcterms:modified xsi:type="dcterms:W3CDTF">2017-08-23T19:26:36Z</dcterms:modified>
  <cp:revision>38</cp:revision>
  <dc:subject/>
  <dc:title>     </dc:title>
</cp:coreProperties>
</file>