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A945-1441-4C3D-BBE4-F828711BC1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C9F-7BEC-4484-B5C4-440BD27334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DFD6-2926-452A-8A18-B2011BBEA4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EF52-CA43-4719-A184-27E8BCA697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5E4-8240-4BA2-BC76-1BD62C54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5CE-BC01-40C2-A386-F0240445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962-3D16-4CD7-ACB6-90EDA8A3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FCB-7854-440F-B580-D5A419A8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9CC-4BC8-4726-880C-1E5B5FB6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924-8265-415F-9ABB-70D88DB5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EB3-A449-4461-A81A-401A9FF5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1DD-2EE3-4E39-B89F-50F2B71A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6BB-B800-4382-BA51-081F4E5B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DC0-4F52-4D9A-80E7-48A27A10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14A-A160-416F-BA5D-EC81348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A7B-03D6-484C-8B81-A1CCF4F6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0875-4C50-481D-AB85-FD689CD8D2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932360" y="2852640"/>
            <a:ext cx="31687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Терпе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и   труд вс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перетру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900igr.net/datas/matematika/Matematika-1-klass/0011-011-Vy-spravili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00080" y="333000"/>
            <a:ext cx="7400880" cy="43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s://ds03.infourok.ru/uploads/ex/0612/0005d271-925b8682/hello_html_m2c69466d.png"/>
          <p:cNvPicPr/>
          <p:nvPr/>
        </p:nvPicPr>
        <p:blipFill>
          <a:blip r:embed="rId2"/>
          <a:stretch/>
        </p:blipFill>
        <p:spPr>
          <a:xfrm rot="2323800">
            <a:off x="674280" y="374760"/>
            <a:ext cx="24400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http://www.lessdraw.com/wp-content/uploads/2014/12/364.jpg"/>
          <p:cNvPicPr/>
          <p:nvPr/>
        </p:nvPicPr>
        <p:blipFill>
          <a:blip r:embed="rId3"/>
          <a:stretch/>
        </p:blipFill>
        <p:spPr>
          <a:xfrm>
            <a:off x="3419640" y="476280"/>
            <a:ext cx="206532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http://images.vfl.ru/ii/1404642167/cd5e2bb5/5634058.jpg"/>
          <p:cNvPicPr/>
          <p:nvPr/>
        </p:nvPicPr>
        <p:blipFill>
          <a:blip r:embed="rId4"/>
          <a:stretch/>
        </p:blipFill>
        <p:spPr>
          <a:xfrm>
            <a:off x="6012000" y="4724280"/>
            <a:ext cx="1598400" cy="14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http://sp-avoska.ru/files/65d/65d9e6f6ea3a832689b0fa48112adae9.jpg"/>
          <p:cNvPicPr/>
          <p:nvPr/>
        </p:nvPicPr>
        <p:blipFill>
          <a:blip r:embed="rId5"/>
          <a:stretch/>
        </p:blipFill>
        <p:spPr>
          <a:xfrm>
            <a:off x="6516720" y="47628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http://www.vlen.ru/assets/img/prod/parusina.png"/>
          <p:cNvPicPr/>
          <p:nvPr/>
        </p:nvPicPr>
        <p:blipFill>
          <a:blip r:embed="rId6"/>
          <a:stretch/>
        </p:blipFill>
        <p:spPr>
          <a:xfrm>
            <a:off x="6156360" y="2205000"/>
            <a:ext cx="2381040" cy="15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https://img.doreenbeads.com/bmz_cache/watermarkimg_new/25/B24069A_310_310.JPG"/>
          <p:cNvPicPr/>
          <p:nvPr/>
        </p:nvPicPr>
        <p:blipFill>
          <a:blip r:embed="rId7"/>
          <a:stretch/>
        </p:blipFill>
        <p:spPr>
          <a:xfrm>
            <a:off x="1692360" y="3141720"/>
            <a:ext cx="934920" cy="93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8"/>
          <a:stretch/>
        </p:blipFill>
        <p:spPr>
          <a:xfrm>
            <a:off x="3054240" y="2054160"/>
            <a:ext cx="2882880" cy="224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http://7kilometr.com/images/products/021110/182248_karand.jpg"/>
          <p:cNvPicPr/>
          <p:nvPr/>
        </p:nvPicPr>
        <p:blipFill>
          <a:blip r:embed="rId9"/>
          <a:stretch/>
        </p:blipFill>
        <p:spPr>
          <a:xfrm rot="2478600">
            <a:off x="1889280" y="4382640"/>
            <a:ext cx="1511280" cy="225576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с вырезом 13"/>
          <p:cNvSpPr/>
          <p:nvPr/>
        </p:nvSpPr>
        <p:spPr>
          <a:xfrm>
            <a:off x="4000680" y="5357880"/>
            <a:ext cx="1357200" cy="357120"/>
          </a:xfrm>
          <a:custGeom>
            <a:avLst/>
            <a:gdLst>
              <a:gd name="textAreaLeft" fmla="*/ 89280 w 1357200"/>
              <a:gd name="textAreaRight" fmla="*/ 1267920 w 13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58" y="5400"/>
                </a:lnTo>
                <a:lnTo>
                  <a:pt x="18758" y="0"/>
                </a:lnTo>
                <a:lnTo>
                  <a:pt x="21600" y="10800"/>
                </a:lnTo>
                <a:lnTo>
                  <a:pt x="18758" y="21600"/>
                </a:lnTo>
                <a:lnTo>
                  <a:pt x="18758" y="16200"/>
                </a:lnTo>
                <a:lnTo>
                  <a:pt x="0" y="16200"/>
                </a:lnTo>
                <a:lnTo>
                  <a:pt x="142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14800" y="2204640"/>
            <a:ext cx="5605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заголовок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810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1720" y="1214280"/>
            <a:ext cx="74721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 Размет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блоны ставим на ткань  и обводим  кусочком мы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6" descr="C:\Documents and Settings\User\Рабочий стол\image065.jpg"/>
          <p:cNvPicPr/>
          <p:nvPr/>
        </p:nvPicPr>
        <p:blipFill>
          <a:blip r:embed="rId1"/>
          <a:stretch/>
        </p:blipFill>
        <p:spPr>
          <a:xfrm>
            <a:off x="2178000" y="2824200"/>
            <a:ext cx="33512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71280" y="1213920"/>
            <a:ext cx="777708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 Раскр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ежем  размеченные детали из тка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атся две дет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http://bookprose.ru/pictures/soft_other/1013618729.jpg"/>
          <p:cNvPicPr/>
          <p:nvPr/>
        </p:nvPicPr>
        <p:blipFill>
          <a:blip r:embed="rId1"/>
          <a:stretch/>
        </p:blipFill>
        <p:spPr>
          <a:xfrm>
            <a:off x="6084720" y="1916280"/>
            <a:ext cx="1805040" cy="122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"/>
          <p:cNvPicPr/>
          <p:nvPr/>
        </p:nvPicPr>
        <p:blipFill>
          <a:blip r:embed="rId2"/>
          <a:stretch/>
        </p:blipFill>
        <p:spPr>
          <a:xfrm>
            <a:off x="2693880" y="3425760"/>
            <a:ext cx="33465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3000" y="1214280"/>
            <a:ext cx="740088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 Сбор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шьём детали , выполняя  строчку косых  стеж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шьём    к кошельку пуговицу и сделаем петельку, чтобы можно было закрывать крышку кошель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3200400" y="2846520"/>
            <a:ext cx="33829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1640" y="1213920"/>
            <a:ext cx="75722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 Размет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ы ставим на ткань  и обводим кусочком мы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 Раскр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ежем  размеченные детали из тка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тся две де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 Сбор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шьём детали , выполняя  строчку косых  стеж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шьём    к кошельку пуговицу и сделаем петельку, чтобы можно было закрывать крышку кошель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714480" y="1600200"/>
            <a:ext cx="497196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C:\Documents and Settings\User\Local Settings\Temporary Internet Files\Content.Word\шов - 0066.jpg"/>
          <p:cNvPicPr/>
          <p:nvPr/>
        </p:nvPicPr>
        <p:blipFill>
          <a:blip r:embed="rId2"/>
          <a:srcRect l="0" t="20256" r="0" b="0"/>
          <a:stretch/>
        </p:blipFill>
        <p:spPr>
          <a:xfrm>
            <a:off x="1500120" y="214200"/>
            <a:ext cx="6143760" cy="3857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User\Local Settings\Temporary Internet Files\Content.Word\шов - 0066.jpg"/>
          <p:cNvPicPr/>
          <p:nvPr/>
        </p:nvPicPr>
        <p:blipFill>
          <a:blip r:embed="rId3"/>
          <a:stretch/>
        </p:blipFill>
        <p:spPr>
          <a:xfrm>
            <a:off x="1579680" y="4071960"/>
            <a:ext cx="6000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6826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26920" y="1196640"/>
            <a:ext cx="76867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 Размет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ы ставим на ткань  и обводим карандаш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 Раскр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ежем  размеченные детали из тка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тся две де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 Сбор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шьём детали , выполняя  строчку косых  стеж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шьём   к кошельку пуговицу и сделать петельку, чтобы можно было закрывать крышку кошель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Зиятова</cp:lastModifiedBy>
  <dcterms:modified xsi:type="dcterms:W3CDTF">2017-03-29T02:45:47Z</dcterms:modified>
  <cp:revision>51</cp:revision>
  <dc:subject/>
  <dc:title>Слайд 1</dc:title>
</cp:coreProperties>
</file>