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3810-7C1A-480D-88C9-9185A6F4DD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2B3-7D89-43A2-A589-A6C7CD5561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81BE-DD53-4D81-8100-4112E60A51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06E2-6A35-46C9-AEEE-30C5163E66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336-8AD1-4077-AD7E-B9781FCC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2EB-CECB-48D8-B30E-5B41000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DB6-3DAE-42BA-B767-7341DCD8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71C-CEAF-447D-A6E7-32086AED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EBFE-DB99-4058-974A-86240084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D6D-54E8-47E9-9B06-96937F61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0C2-C6BB-4057-8758-527910E0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9B75-AD61-475C-AAD6-5742913E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C0A8-F3F6-4DB3-A4A6-C9D57EB9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8B8A-B6AB-491F-8273-18343E0A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7A27-3D32-4C1C-9315-B3E7CC8B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263-9016-4543-84BD-9AAB5FF4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3067-3EE9-4CE6-B812-4B1466B867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Admin\Рабочий стол\основы светской этики\с книгой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932360" y="2852640"/>
            <a:ext cx="31687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                   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Терпе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и   труд вс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перетру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900igr.net/datas/matematika/Matematika-1-klass/0011-011-Vy-spravili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00080" y="333000"/>
            <a:ext cx="7400880" cy="43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https://ds03.infourok.ru/uploads/ex/0612/0005d271-925b8682/hello_html_m2c69466d.png"/>
          <p:cNvPicPr/>
          <p:nvPr/>
        </p:nvPicPr>
        <p:blipFill>
          <a:blip r:embed="rId2"/>
          <a:stretch/>
        </p:blipFill>
        <p:spPr>
          <a:xfrm rot="2323800">
            <a:off x="674280" y="374760"/>
            <a:ext cx="2440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http://www.lessdraw.com/wp-content/uploads/2014/12/364.jpg"/>
          <p:cNvPicPr/>
          <p:nvPr/>
        </p:nvPicPr>
        <p:blipFill>
          <a:blip r:embed="rId3"/>
          <a:stretch/>
        </p:blipFill>
        <p:spPr>
          <a:xfrm>
            <a:off x="3419640" y="476280"/>
            <a:ext cx="2065320" cy="115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9" descr="http://images.vfl.ru/ii/1404642167/cd5e2bb5/5634058.jpg"/>
          <p:cNvPicPr/>
          <p:nvPr/>
        </p:nvPicPr>
        <p:blipFill>
          <a:blip r:embed="rId4"/>
          <a:stretch/>
        </p:blipFill>
        <p:spPr>
          <a:xfrm>
            <a:off x="6012000" y="4724280"/>
            <a:ext cx="1598400" cy="14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http://sp-avoska.ru/files/65d/65d9e6f6ea3a832689b0fa48112adae9.jpg"/>
          <p:cNvPicPr/>
          <p:nvPr/>
        </p:nvPicPr>
        <p:blipFill>
          <a:blip r:embed="rId5"/>
          <a:stretch/>
        </p:blipFill>
        <p:spPr>
          <a:xfrm>
            <a:off x="6516720" y="476280"/>
            <a:ext cx="2160720" cy="144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http://www.vlen.ru/assets/img/prod/parusina.png"/>
          <p:cNvPicPr/>
          <p:nvPr/>
        </p:nvPicPr>
        <p:blipFill>
          <a:blip r:embed="rId6"/>
          <a:stretch/>
        </p:blipFill>
        <p:spPr>
          <a:xfrm>
            <a:off x="6156360" y="2205000"/>
            <a:ext cx="2381040" cy="15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https://img.doreenbeads.com/bmz_cache/watermarkimg_new/25/B24069A_310_310.JPG"/>
          <p:cNvPicPr/>
          <p:nvPr/>
        </p:nvPicPr>
        <p:blipFill>
          <a:blip r:embed="rId7"/>
          <a:stretch/>
        </p:blipFill>
        <p:spPr>
          <a:xfrm>
            <a:off x="1692360" y="3141720"/>
            <a:ext cx="934920" cy="93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3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9" descr=""/>
          <p:cNvPicPr/>
          <p:nvPr/>
        </p:nvPicPr>
        <p:blipFill>
          <a:blip r:embed="rId8"/>
          <a:stretch/>
        </p:blipFill>
        <p:spPr>
          <a:xfrm>
            <a:off x="3054240" y="2054160"/>
            <a:ext cx="2882880" cy="224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http://7kilometr.com/images/products/021110/182248_karand.jpg"/>
          <p:cNvPicPr/>
          <p:nvPr/>
        </p:nvPicPr>
        <p:blipFill>
          <a:blip r:embed="rId9"/>
          <a:stretch/>
        </p:blipFill>
        <p:spPr>
          <a:xfrm rot="2478600">
            <a:off x="1889280" y="4382640"/>
            <a:ext cx="1511280" cy="2255760"/>
          </a:xfrm>
          <a:prstGeom prst="rect">
            <a:avLst/>
          </a:prstGeom>
          <a:ln w="0">
            <a:noFill/>
          </a:ln>
        </p:spPr>
      </p:pic>
      <p:sp>
        <p:nvSpPr>
          <p:cNvPr id="62" name="Стрелка вправо с вырезом 13"/>
          <p:cNvSpPr/>
          <p:nvPr/>
        </p:nvSpPr>
        <p:spPr>
          <a:xfrm>
            <a:off x="4000680" y="5357880"/>
            <a:ext cx="1357200" cy="357120"/>
          </a:xfrm>
          <a:custGeom>
            <a:avLst/>
            <a:gdLst>
              <a:gd name="textAreaLeft" fmla="*/ 89280 w 1357200"/>
              <a:gd name="textAreaRight" fmla="*/ 1267920 w 13572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758" y="5400"/>
                </a:lnTo>
                <a:lnTo>
                  <a:pt x="18758" y="0"/>
                </a:lnTo>
                <a:lnTo>
                  <a:pt x="21600" y="10800"/>
                </a:lnTo>
                <a:lnTo>
                  <a:pt x="18758" y="21600"/>
                </a:lnTo>
                <a:lnTo>
                  <a:pt x="18758" y="16200"/>
                </a:lnTo>
                <a:lnTo>
                  <a:pt x="0" y="16200"/>
                </a:lnTo>
                <a:lnTo>
                  <a:pt x="142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907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14800" y="2204640"/>
            <a:ext cx="5605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заголовок слай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000080" y="357120"/>
            <a:ext cx="78105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1720" y="1214280"/>
            <a:ext cx="747216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 кусочком мыл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6" descr="C:\Documents and Settings\User\Рабочий стол\image065.jpg"/>
          <p:cNvPicPr/>
          <p:nvPr/>
        </p:nvPicPr>
        <p:blipFill>
          <a:blip r:embed="rId1"/>
          <a:stretch/>
        </p:blipFill>
        <p:spPr>
          <a:xfrm>
            <a:off x="2178000" y="2824200"/>
            <a:ext cx="33512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71280" y="1213920"/>
            <a:ext cx="777708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http://bookprose.ru/pictures/soft_other/1013618729.jpg"/>
          <p:cNvPicPr/>
          <p:nvPr/>
        </p:nvPicPr>
        <p:blipFill>
          <a:blip r:embed="rId1"/>
          <a:stretch/>
        </p:blipFill>
        <p:spPr>
          <a:xfrm>
            <a:off x="6084720" y="1916280"/>
            <a:ext cx="1805040" cy="122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9" descr=""/>
          <p:cNvPicPr/>
          <p:nvPr/>
        </p:nvPicPr>
        <p:blipFill>
          <a:blip r:embed="rId2"/>
          <a:stretch/>
        </p:blipFill>
        <p:spPr>
          <a:xfrm>
            <a:off x="2693880" y="3425760"/>
            <a:ext cx="334656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3000" y="1214280"/>
            <a:ext cx="7400880" cy="14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шьём    к кошельку пуговицу и сделаем петельку, чтобы можно было закрывать крышку кошель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200400" y="2846520"/>
            <a:ext cx="338292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71640" y="1213920"/>
            <a:ext cx="75722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кусочком мы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ьём    к кошельку пуговицу и сделаем петельку, чтобы можно было закрывать крышку кошель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714480" y="1600200"/>
            <a:ext cx="497196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C:\Documents and Settings\User\Local Settings\Temporary Internet Files\Content.Word\шов - 0066.jpg"/>
          <p:cNvPicPr/>
          <p:nvPr/>
        </p:nvPicPr>
        <p:blipFill>
          <a:blip r:embed="rId2"/>
          <a:srcRect l="0" t="20256" r="0" b="0"/>
          <a:stretch/>
        </p:blipFill>
        <p:spPr>
          <a:xfrm>
            <a:off x="1500120" y="214200"/>
            <a:ext cx="6143760" cy="3857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User\Local Settings\Temporary Internet Files\Content.Word\шов - 0066.jpg"/>
          <p:cNvPicPr/>
          <p:nvPr/>
        </p:nvPicPr>
        <p:blipFill>
          <a:blip r:embed="rId3"/>
          <a:stretch/>
        </p:blipFill>
        <p:spPr>
          <a:xfrm>
            <a:off x="1579680" y="4071960"/>
            <a:ext cx="60004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6826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20000"/>
                </a:solidFill>
                <a:latin typeface="Times New Roman"/>
              </a:rPr>
              <a:t>План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920" y="1196640"/>
            <a:ext cx="768672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 Размет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ы ставим на ткань  и обводим карандаш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 Раскр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ежем  размеченные детали из ткан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атся две детал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 Сбор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шьём детали , выполняя  строчку косых  стеж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шьём   к кошельку пуговицу и сделать петельку, чтобы можно было закрывать крышку кошель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Зиятова</cp:lastModifiedBy>
  <dcterms:modified xsi:type="dcterms:W3CDTF">2017-03-29T02:45:47Z</dcterms:modified>
  <cp:revision>51</cp:revision>
  <dc:subject/>
  <dc:title>Слайд 1</dc:title>
</cp:coreProperties>
</file>