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7D7E-03C8-4372-ABE0-7565452E11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6C87-D5D1-4D32-8DA9-322ADFE8E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EC5-C993-42F5-8D47-94A9014C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31D-00AD-437F-A655-A5555E01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FCEF-26EC-4F1E-9A14-4818DFFB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0E0-AF3B-4D33-AA84-1D85AD09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ABC7-A3F3-40D7-A6C7-652C34B4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7500-4616-4515-8E1F-C7B796A5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6BA7-3EFC-4D38-98AD-453CBCE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D808-9D35-4421-A892-3A88A504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5215-7FDA-4483-A320-0C02368B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6D55-049C-4DFE-A57E-EF390444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9CDC-EDD9-4B8A-8924-77D747E8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734-BA99-44DA-9B50-C5EC01C7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D7F6-68D0-4D4E-94AD-8964A9A7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574B-2AC4-4D1D-8154-E5F2A83A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19FB-A98A-4C8E-9FC8-5A2E2EC7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95A5-FD70-4ECC-9D34-D97C2B36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BF49-1508-48E3-AB94-37FC97D8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AF89A-97C2-47AB-9041-AFE635EE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57A5-CDB7-4C11-ADA5-EF2B45BA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C62AA-49FA-4F10-996A-B1D2D3F6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62275-1DAA-4A4E-B200-9DF3A93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04125-A80A-4B8F-BCB4-22521DE0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C17-4FFE-45D7-9933-0AC8BB2D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B1FB-F108-4DBD-B9C7-1F6D1BB7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1AB6E-A773-4C46-A862-7194CCA1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B1BD7-3027-4D30-B189-EEDA8B4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963E-E8C1-40D8-A81E-06653401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93888-9DD5-42CB-90F5-3DA6D40B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6A45-252C-49A3-A46F-7A6BB4EB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BD9F-1F2A-44ED-82D4-541B35B4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FE3E9-792A-48F8-B7A2-5F498DFE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684F-6771-4AB7-B704-1FD78206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67169-D5AB-43B8-8160-C281E75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299-BC87-4DD4-9794-52E16D41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BC17E-8A52-4943-93AE-0003AA70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5C63-CA00-43D1-A1A6-CB13193B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76C62-648F-41AE-A7E0-6452EF1D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BFA6-F0CB-4339-A28F-1F718CF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51228-1429-4F04-BC06-0A70C5D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BE9F5-F1AE-4D8D-A88E-0A76C6F4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2B35-64DB-4F9D-9895-5C9AB5AF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D3614-9F82-4262-AD58-23A03FA0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282D-D633-4923-8B5F-F15F23F2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8A14-4389-4A2D-8590-1DC3F14C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85B-38E6-44A0-A42E-B7CB330C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DDA59-3910-403E-9C30-CE89B02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38A7C-AE49-42CC-8883-7D4B5837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481BC-6F84-4322-B717-4FCCB3A5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4718E-C382-47E6-80BD-ACD56649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B3AD9-29F6-44AB-8C25-6B2720EC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B16D6-F550-4685-AE26-7B118F40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EE78B-5AA0-469D-B00B-311C4B80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5E9C4-A38B-4D7F-B727-7AFB52E2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0E18-750A-4550-A4F1-E0CF954F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7C944-EB1F-4F5E-A67C-A6113792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D030-1F53-41FA-9021-46CC248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153C5-6148-44B3-A03A-A93E819E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3E1-BF63-4D79-BF4C-72E4912D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DA68-C37D-41D9-BBC0-B44269F0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7C7-C6A3-49B9-A5BF-BCE0AA4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914C-0391-41E6-84FC-EA688CF9F1A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17F8-8CCE-48CF-898B-CCD3001ACF26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31C-CE70-4FC7-83E4-53C6F1CCBE3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811F-D8EB-485A-BAB8-240772C2C020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6FA9-EED3-4785-933E-060EA3F7B7F1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2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557000"/>
            <a:ext cx="813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11280" y="1915920"/>
            <a:ext cx="82231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Понятие и значение состава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Элементы состава преступления и признаки их характеризующие, виды составов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Характеристика элементов состава преступления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729560" cy="635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8920" y="549360"/>
            <a:ext cx="8280360" cy="58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щи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совокуп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венных отношений, благ, интересов, охраняемых уголовным законом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1 ст. 2 УК РФ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Родово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общего объ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яющая собой групп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енных отношений, на которые посягает круг преступлений, расположенных в определенно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е УК РФ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идовой объект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родового объ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ставляющая собой групп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тесно взаимосвязанны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равнению с входящими в родовой объект) общественных отношений, на которые посягает круг преступлений, расположенных в  определенн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Ф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Непосредственный объект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рет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енное отношение, которому причиняется вред в результате совершени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й ча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Ф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4" descr=""/>
          <p:cNvPicPr/>
          <p:nvPr/>
        </p:nvPicPr>
        <p:blipFill>
          <a:blip r:embed="rId1"/>
          <a:stretch/>
        </p:blipFill>
        <p:spPr>
          <a:xfrm>
            <a:off x="426960" y="231840"/>
            <a:ext cx="7394760" cy="7747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99680" y="1000080"/>
            <a:ext cx="7900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ового объект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еступное посягательство на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яет сущн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ного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льный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ит в соста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ового  объ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ступное посягательство на нег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ставляет сущ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вершенного преступления, однако он всегда страдает наряду с основны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реступного посягательства от может пострадать, а может и не пострадать в зависимости от фактических обстоятельств совершенного преступле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0720" y="469800"/>
            <a:ext cx="7486920" cy="96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428480"/>
            <a:ext cx="7238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4 ст. 111 ЗДОРОВЬЕ  человека при умышленном причинении тяжкого вреда здоровью, повлекшего по неосторожности смерть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ополнительный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4 ст. 111  ЖИЗНЬ   человека при умышленном причинении тяжкого вреда здоровью, повлекшего по неосторожности смерть челове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. 1 ст. 213 ПРАВО СОБСТВЕННОСТИ  при хулиганстве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7535880" cy="7081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7210440" cy="119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характеристика общественно опасного посягательства на охраняемый уголовным правом объек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560" y="2276280"/>
            <a:ext cx="770580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 опасное деяни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 Действ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бщественно опасное, волево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лица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ающего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ездействи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 опасное, волевое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ивно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дение лица, представляющее собой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оверше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 действий, которое лицо должно было и могло совершить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80960" y="-6480"/>
            <a:ext cx="7535880" cy="7081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721044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4000" y="981000"/>
            <a:ext cx="770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щественно опасное послед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 причиненный преступлением вред объекту уголовно – правовой охраны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ичинно – следственна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вязь между деянием и общественно-опасным последствие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пособ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редства и оруди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Место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6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становка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совершения преступлени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7.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Время 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еступления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210440" cy="14079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совершившее общественно опасное деяние, запрещенное Уголовным кодексом, и способное нести за него уголовную ответственность.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95280" y="1628640"/>
            <a:ext cx="7920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е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 гражданин РФ, иностранный гражданин или лицо без гражданст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няем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 е. способность во время совершения преступления осознавать фактический характер и общественную опасность своих действий (бездействий) либо руководить им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уголовной ответственност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721044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 fontScale="97000"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ое отношение преступника к совершенному преступлению</a:t>
            </a: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700"/>
            </a:b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4000" y="1773360"/>
            <a:ext cx="7920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А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психическое отношение лица к совершаемому им общественно опасному деянию и его последствия в форме умысла или неосторожности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589752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6" name="Picture 2" descr="C:\Users\Елена Владимировна\Desktop\0004-004-Formy-vin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536400" y="-6480"/>
            <a:ext cx="7437600" cy="6350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7210440" cy="936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0" anchor="t">
            <a:norm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836640"/>
            <a:ext cx="8066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 признаки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преступ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обуждения, которые вызывают у лица решимость совершить преступление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еступ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представление о желаемом результате, к достижению которого стремится лицо, совершая общественно опасное деяние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мо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ляют собой внутренние переживания лица, совершившего преступлени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225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560" y="1773360"/>
            <a:ext cx="77770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a2e4e"/>
                </a:solidFill>
                <a:latin typeface="Trebuchet MS"/>
              </a:rPr>
              <a:t>Состав преступления</a:t>
            </a:r>
            <a:r>
              <a:rPr b="0" lang="ru-RU" sz="3200" spc="-1" strike="noStrike">
                <a:solidFill>
                  <a:srgbClr val="8a2e4e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овокупность установленных УК РФ объективных и субъективных признаков, характеризующих общественно опасное деяние как конкретное преступление и позволяющих разграничить различные преступ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руга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512640" y="19080"/>
            <a:ext cx="7236000" cy="138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57000"/>
            <a:ext cx="72388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о ст. 8 УК РФ состав преступления входит в </a:t>
            </a:r>
            <a:r>
              <a:rPr b="1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ание   уголовной ответственности;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снованием для правильной </a:t>
            </a: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квалификации преступл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</a:t>
            </a:r>
            <a:r>
              <a:rPr b="0" i="1" lang="ru-RU" sz="32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для разграничения различных преступлени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63680" y="-249120"/>
            <a:ext cx="7656480" cy="12668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ЭЛЕМЕНТЫ СОСТАВ ПРЕСТУПЛЕНИЯ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Объект преступления -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е уголовным законом общественные отношения, блага, интересы, на которые посягает лицо, совершающее преступление, и которым причиняется или может быть причинен вред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Объективная сторона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нешня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бщественно опасного посягательства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й уголовным законом объект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Субъект преступл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о, совершившее преступлени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пособное нес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овну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тственность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. Субъективная сторона преступл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я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преступления, отражающая психическо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лица к совершаемому общественноопасному деянию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1826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6840" y="1484280"/>
            <a:ext cx="771516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 По характеру и степени общественной опасности преступлени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1.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сновной (простой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.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цирован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 отягчающими обстоятельствами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легированны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о смягчающими обстоятельствами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583760" cy="1067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50920" y="836640"/>
            <a:ext cx="7921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 По способу описания в Законе признаков состава преступления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1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. </a:t>
            </a: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Просто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.2.  Сложный: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1. признаки состава описаны многомерно: два объекта, две формы вины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2. состав преступления с альтернативными деяниями  или альтернативными последствия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 Состав с удлиненным процессом совершения преступления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1. продолжительное преступл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2. длящееся преступл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7583760" cy="11826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484280"/>
            <a:ext cx="82184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 По конструкции объективной стороны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1. Формаль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признается оконченным после совершения общественно опасного дея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о от наступления каких-либо общественно опасных последствий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.2. Усечен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мент окончания преступления перенесе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адию неоконченного преступления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3. Материальный, т.е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признается оконченным тольк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наступления общественно опасных последствий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729560" cy="622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8920" y="1125000"/>
            <a:ext cx="813780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яемые уголовным законом общественные отношения, блага, интересы, на которые посягает лицо, совершающее преступление, и которым причиняется или может быть причинен вред в результат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729560" cy="622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777708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8920" y="1197000"/>
            <a:ext cx="79218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Обязательный признак  объекта  преступления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общественные отношения или интересы, которым причиня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енный вре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оздается угроза его причинения в результате преступлени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Факультативные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 признак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преступлени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вещи или люди, на которые непосредственно воздейству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ни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й объект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щественное отношение, которому наряду с основным объектом всегда причиняется вред (либо создается угроза причинения вреда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певши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цо, которому в результате совершения преступления причин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4:24:17Z</dcterms:created>
  <dc:creator>1</dc:creator>
  <dc:description/>
  <dc:language>en-US</dc:language>
  <cp:lastModifiedBy>Елена Владимировна</cp:lastModifiedBy>
  <dcterms:modified xsi:type="dcterms:W3CDTF">2024-01-05T09:36:02Z</dcterms:modified>
  <cp:revision>54</cp:revision>
  <dc:subject/>
  <dc:title>УРОК 6.  Стадии совершения преступлений.</dc:title>
</cp:coreProperties>
</file>