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3B92-86F9-4B79-89B9-7895AD11B5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6FF8-8E22-43F6-AEE9-2FCB256722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7E3-1576-4398-A4B5-407DCE3B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F9B8-E65B-42C5-A644-315A81F1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92A-48FF-4254-B63D-E76F9DB4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85B-0DC8-4212-AD04-05C27D48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CA73-982C-498C-8B71-11365C65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53CE-C44E-4E85-837E-0C809957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C8F1-2513-429E-BA60-9E665764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28CA-52F5-4817-8BC4-A05D9454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FC4E-DAE0-4E42-A8AA-FF46E761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113D-C89A-4E55-BF75-9DF89CE3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B0D7-105C-483A-9D64-EBD3796F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2D03-B8B8-4C19-91D9-387692A9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4EC1-7689-44F4-A513-0EA06D66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6B31-73FC-45A7-BCB3-1BFAA476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EA5C-02C3-4541-B04F-CBC86807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4BE7-BF02-4809-A49D-F5DE9AFE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97D8-9AF5-498D-B818-342CB16D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9F18F-1914-428C-A8EF-FDD82B83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26798-A8DC-4C39-B01B-F6E22F62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8EF1E-37BC-49F2-A275-E44CD407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623D9-39ED-4205-888B-5DC9E2CC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01E91-811B-4535-AAE9-56106AB2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2EB4-9D96-4988-9CAF-FE255798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54029-DB13-4F04-95FF-EC4B274A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A43BB-9895-43BB-AA21-392BE277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B097A-1F69-49D6-B028-EEE0511A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73408-F8EB-4581-BDF5-8E3E1D0C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C1C26-2BE2-4C69-A2D6-52CA16AD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78FD0-5DB0-4601-965B-2856C191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C9145-5923-4C24-8ED8-A7F43055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3D1D0-4C23-4466-B91F-E4495F2F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AB43A-1BEF-4539-867F-79636C36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76A84-A3DD-4452-9EE3-C79E93B8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2C1D-1C02-48AF-ACAE-AEA957B5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57103-5D3F-4278-9DFF-9F0B3279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F918C-9A02-4EDA-B4CC-E3D9ADD1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D13A7-46F9-4527-BD07-53591EDA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E8236-3B4F-4C0D-AA27-F4258C27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2D6B0-29EE-4DCE-9CEA-D2EFBE04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01D59-D5A0-43C1-A1C4-91DCA692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CF1F0-E671-483E-A1EA-4B7A3075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60C04-17E0-4057-AD2A-78621311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217A7-2861-47B0-BBB2-C68BDBC7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0C333-526A-485E-B836-2B02427E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9937-6C2D-447C-A68B-104BBA28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DE5D1-E0F6-466D-ACB4-F0245F38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51229-129E-45ED-9F0E-2327AB06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DE25F-F8A8-445D-A359-0F393293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A1A5D-2677-4F22-9545-77BCEF1E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2E42E-961E-43FB-A3C4-C358520C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3A13D-CA9C-4B27-B1AD-7AED3FC7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1F279-7985-49CE-9620-76F7CFF4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358CA-33B1-4BB3-8DAD-6D76D3B5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434A7-230D-4186-AD84-9A6F1D05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6C7C0-C9A0-4F97-987E-2B278DCA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7E2F-6D4A-4135-9088-0994C222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7E7A1-715F-492F-BC52-DF7F9C54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4CF-300A-4FC4-86ED-319F6AB1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9F9-E14A-4CA4-A3F6-B64F7F70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A44-6EEC-4972-85A2-7AE9FBDD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CB7B-3561-4979-BCAB-A53916509572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7547-F8A6-4EFF-A0CC-A72D85985571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4C90-46BD-4082-B593-A4E29B168A54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23A1-4830-451D-89C0-670C7112458C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F2FA-F908-44A1-A4E1-BA8FEA267D47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2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557000"/>
            <a:ext cx="81392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11280" y="1915920"/>
            <a:ext cx="8223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. Понятие и значение состава преступления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. Элементы состава преступления и признаки их характеризующие, виды составов преступления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. Характеристика элементов состава преступления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729560" cy="6350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77770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78920" y="549360"/>
            <a:ext cx="828036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щий объект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совокуп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ых отношений, благ, интересов, охраняемых уголовным законом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1 ст. 2 УК Р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одовой объект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общего объе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ставляющая собой групп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род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щественных отношений, на которые посягает круг преступлений, расположенных в определенно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 УК РФ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идовой объект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родового объе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ставляющая собой групп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тесно взаимосвязанны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сравнению с входящими в родовой объект) общественных отношений, на которые посягает круг преступлений, расположенных в  определенной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Ф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епосредственный объект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н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щественное отношение, которому причиняется вред в результате соверш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н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ступления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й ча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4" descr=""/>
          <p:cNvPicPr/>
          <p:nvPr/>
        </p:nvPicPr>
        <p:blipFill>
          <a:blip r:embed="rId1"/>
          <a:stretch/>
        </p:blipFill>
        <p:spPr>
          <a:xfrm>
            <a:off x="426960" y="231840"/>
            <a:ext cx="7394760" cy="7747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99680" y="1000080"/>
            <a:ext cx="79009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сновной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ит в соста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ового объект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реступное посягательство на нег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т сущно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ного преступл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полнительный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ит в соста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ового  объек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еступное посягательство на нег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ставляет сущ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ершенного преступления, однако он всегда страдает наряду с основны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Факультативны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преступного посягательства от может пострадать, а может и не пострадать в зависимости от фактических обстоятельств совершенного преступлен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450720" y="469800"/>
            <a:ext cx="7486920" cy="962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428480"/>
            <a:ext cx="7238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сновн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4 ст. 111 ЗДОРОВЬЕ  человека при умышленном причинении тяжкого вреда здоровью, повлекшего по неосторожности смерть человек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полнительный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4 ст. 111  ЖИЗНЬ   человека при умышленном причинении тяжкого вреда здоровью, повлекшего по неосторожности смерть человек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Факультатив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. 1 ст. 213 ПРАВО СОБСТВЕННОСТИ  при хулиганстве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480960" y="-6480"/>
            <a:ext cx="7535880" cy="7081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6840" y="907920"/>
            <a:ext cx="7210440" cy="119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характеристика общественно опасного посягательства на охраняемый уголовным правом объек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560" y="2276280"/>
            <a:ext cx="770580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язательный призна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о опасное деяни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 Действ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ественно опасное, волевое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 лица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ающег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е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ездейств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о опасное, волевое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о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дение лица, представляющее соб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верш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х действий, которое лицо должно было и могло совершить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480960" y="-6480"/>
            <a:ext cx="7535880" cy="7081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6840" y="907920"/>
            <a:ext cx="721044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24000" y="981000"/>
            <a:ext cx="770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Факультативные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признаки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щественно опасное последст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 причиненный преступлением вред объекту уголовно – правовой охраны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ичинно – следственная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вязь между деянием и общественно-опасным последствие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пособ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совершения преступл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4.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редства и орудия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овершения преступл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5.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сто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преступл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6.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становка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совершения преступл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7.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ремя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еступления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536400" y="-6480"/>
            <a:ext cx="7437600" cy="6350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7210440" cy="14079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лицо, совершившее общественно опасное деяние, запрещенное Уголовным кодексом, и способное нести за него уголовную ответственность.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95280" y="1628640"/>
            <a:ext cx="7920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язательные признаки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лиц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 гражданин РФ, иностранный гражданин или лицо без гражданств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няем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 е. способность во время совершения преступления осознавать фактический характер и общественную опасность своих действий (бездействий) либо руководить им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уголовной ответственност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536400" y="-6480"/>
            <a:ext cx="7437600" cy="6350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7210440" cy="9367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 fontScale="97000"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еское отношение преступника к совершенному преступлению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700"/>
            </a:br>
            <a:br>
              <a:rPr sz="700"/>
            </a:b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4000" y="1773360"/>
            <a:ext cx="7920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язательный признак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А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психическое отношение лица к совершаемому им общественно опасному деянию и его последствия в форме умысла или неосторожности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897520" cy="117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6" name="Picture 2" descr="C:\Users\Елена Владимировна\Desktop\0004-004-Formy-vin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536400" y="-6480"/>
            <a:ext cx="7437600" cy="6350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7210440" cy="9363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836640"/>
            <a:ext cx="80661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Факультативные признаки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 преступл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побуждения, которые вызывают у лица решимость совершить преступлени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еступл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представление о желаемом результате, к достижению которого стремится лицо, совершая общественно опасное деяние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Эмо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яют собой внутренние переживания лица, совершившего преступле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7583760" cy="12254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560" y="1773360"/>
            <a:ext cx="77770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a2e4e"/>
                </a:solidFill>
                <a:latin typeface="Trebuchet MS"/>
              </a:rPr>
              <a:t>Состав преступления</a:t>
            </a:r>
            <a:r>
              <a:rPr b="0" lang="ru-RU" sz="3200" spc="-1" strike="noStrike">
                <a:solidFill>
                  <a:srgbClr val="8a2e4e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вокупность установленных УК РФ объективных и субъективных признаков, характеризующих общественно опасное деяние как конкретное преступление и позволяющих разграничить различные преступл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у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уг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512640" y="19080"/>
            <a:ext cx="7236000" cy="1388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57000"/>
            <a:ext cx="72388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о ст. 8 УК РФ состав преступления входит в </a:t>
            </a:r>
            <a:r>
              <a:rPr b="1" i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снование   уголовной ответственности;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основанием для правильной </a:t>
            </a:r>
            <a:r>
              <a:rPr b="0" i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валификации преступл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ется </a:t>
            </a:r>
            <a:r>
              <a:rPr b="0" i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ля разграничения различных преступл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63680" y="-249120"/>
            <a:ext cx="7656480" cy="12668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ЭЛЕМЕНТЫ СОСТАВ ПРЕСТУПЛЕНИЯ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. Объект преступления -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яемые уголовным законом общественные отношения, блага, интересы, на которые посягает лицо, совершающее преступление, и которым причиняется или может быть причинен вред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. Объективная сторона преступ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нешня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общественно опасного посягательства 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яемый уголовным законом объект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. Субъект преступления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о, совершившее преступлен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пособное не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у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ветственност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4. Субъективная сторона преступ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я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преступления, отражающая психическо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лица к совершаемому общественноопасному деянию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7583760" cy="11826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1484280"/>
            <a:ext cx="771516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. По характеру и степени общественной опасности преступлений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.1.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сновной (простой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.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цированны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 отягчающими обстоятельствам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легированны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 смягчающими обстоятельствами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583760" cy="10670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836640"/>
            <a:ext cx="79214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. По способу описания в Законе признаков состава преступления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.1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остой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.2.  Сложный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признаки состава описаны многомерно: два объекта, две формы вины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состав преступления с альтернативными деяниями  или альтернативными последствия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Состав с удлиненным процессом совершения преступления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продолжительное преступл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длящееся преступл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7583760" cy="11826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484280"/>
            <a:ext cx="82184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. По конструкции объективной стороны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.1. Формальный, т.е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е признается оконченным после совершения общественно опасного деян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 от наступления каких-либо общественно опасных последствий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.2. Усеченный, т.е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мент окончания преступления перенесен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адию неоконченного преступления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 Материальный, т.е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е признается оконченным тольк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наступления общественно опасных последствий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7729560" cy="6220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7777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78920" y="1125000"/>
            <a:ext cx="813780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яемые уголовным законом общественные отношения, блага, интересы, на которые посягает лицо, совершающее преступление, и которым причиняется или может быть причинен вред в результат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ступл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7729560" cy="6220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777708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8920" y="1197000"/>
            <a:ext cx="79218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язательный признак  объекта  преступления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общественные отношения или интересы, которым причиня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енный вре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создается угроза его причинения в результате преступлени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Факультативные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признак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преступления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ещи или люди, на которые непосредственно воздейству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ступни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й объек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ое отношение, которому наряду с основным объектом всегда причиняется вред (либо создается угроза причинения вреда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певши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лицо, которому в результате совершения преступления причине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5T04:24:17Z</dcterms:created>
  <dc:creator>1</dc:creator>
  <dc:description/>
  <dc:language>en-US</dc:language>
  <cp:lastModifiedBy>Елена Владимировна</cp:lastModifiedBy>
  <dcterms:modified xsi:type="dcterms:W3CDTF">2024-01-05T09:36:02Z</dcterms:modified>
  <cp:revision>54</cp:revision>
  <dc:subject/>
  <dc:title>УРОК 6.  Стадии совершения преступлений.</dc:title>
</cp:coreProperties>
</file>