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0338-D764-4156-BA29-2B8C24CD1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50B4-5B82-4BBC-93FC-DD802C1E3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0C7-BF05-49A8-8899-CB74217E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91F-D6F4-4FB4-82B3-A346398F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829-A440-4C30-94AB-A36A2A11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74F-5425-4B1E-8FAE-807B86E9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82C1-A999-47F7-B353-383C5FA9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B405-8E4C-45F1-B02A-F4FA5947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BC6D-02C5-4E9C-B861-EFD0DD3E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BB85-D5F3-472D-8A30-FA139DD6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2154-46D5-4C59-89F6-F49A84B1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27F0-CCA7-4814-888F-5BBD6A3A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4701-20FD-4910-8FA7-D39D1E9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BC7-A276-41A6-B3D4-9E4AFB10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6D3B-93ED-4A8D-AF8F-3DF05B9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CDD2-0214-494C-968C-98AD1F2B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0087-0B45-42A3-BF48-4D20D330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7EAF-EB48-4F43-800C-3B1EC290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FCD4-FC26-4D46-9C11-57DFEA4D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9FFC0-0734-4762-95A2-1AD03D36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F3D9-2291-4A31-83F6-859A9520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A5E4-0303-484C-A074-70B7BEC4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269C3-9D90-4E8C-850E-B92BA096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3D61-A5D9-4695-BE89-19D51DAB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E24-6A6E-4218-8BA7-F29C1F4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0B5F-22EC-452F-87E5-E409337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97EF8-4B62-4A44-AC2A-7C68952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4A56-6DEE-45E7-AC25-FE0E14F5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91CE-68B3-4384-8961-9F2AA704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A8369-0F43-4122-94DB-FE9E705C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8762E-1A1D-4BF4-B3E3-F0249D41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2C05-FF1A-4AA7-8F2A-31367CFA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DCF1B-D810-4650-B160-8F0610F9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BAB7-82F5-4E48-A633-11AE755A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DE2BE-9C98-4286-8FC6-85DFC54B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9C4-E7C2-498E-8753-EB44911C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632CC-E327-4905-B22B-64E991E5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AD4C-685D-4897-AA63-54CC60DA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117D-495D-45AB-BC5A-587FA9D0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1286B-1C2F-4C0D-9558-56EB287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64FD-FFE8-4DC5-B6FB-C1AB4069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0ECE-FCD4-4211-8210-8C2D6CFA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703E-E2E1-42DA-81D7-BBD4A391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DBDD-3913-4D58-82B5-D1E1E1D0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9672-700F-4FD9-A27D-345B9617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7077F-48B3-4A65-9AC9-3D716436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74D-CD31-46E5-8CD1-B1F47BB6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D733-8DC6-47E9-A9C9-33803B7C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CCCA-14BD-4759-944B-8A9877AF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E8AB-4820-49DC-B5F4-5AA2423A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56A45-F7B2-4893-8C6A-4FF1EC01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F2793-C96D-4476-B470-0612DCFA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9C44D-D886-4AC9-9CA8-1FF4E155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5B426-E358-41FE-9187-A37866A4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FF13E-05F6-4316-9C59-76210DA8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922E6-D3F4-4138-A29A-3FB3A1E3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5A934-C9BB-4B04-9545-48CD11F7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1F2-19D6-459D-9F5C-69608710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532B-D88C-42F3-A3A0-9BA2CC3D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05E-B4F8-42DB-B420-B1150DA4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EE5-6B72-4343-AA4B-B67859A4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7DE-6EB4-4EEB-A53F-B74E8B92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9A29-39C2-482F-9D5B-839CCE497CA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E7EE-7681-4FA2-B92A-FD8F5884F7EE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9172-9B50-4C7B-AC6B-77424603B82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E098-B451-4F00-9577-8FE7B8923953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E33F-2B62-4F71-B648-6B914CEBF0C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2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557000"/>
            <a:ext cx="813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11280" y="1915920"/>
            <a:ext cx="8223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 Понятие и значение состава преступления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Элементы состава преступления и признаки их характеризующие, виды составов преступления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Характеристика элементов состава преступления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729560" cy="635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7777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8920" y="549360"/>
            <a:ext cx="828036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щий объект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овокуп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х отношений, благ, интересов, охраняемых уголовным законом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1 ст. 2 УК Р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одовой объект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общего объ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ставляющая собой групп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род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ственных отношений, на которые посягает круг преступлений, расположенных в определенн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 УК РФ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идовой объект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одового объ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ставляющая собой групп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тесно взаимосвязанны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равнению с входящими в родовой объект) общественных отношений, на которые посягает круг преступлений, расположенных в  определенн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епосредственный объект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ственное отношение, которому причиняется вред в результате соверш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й ча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4" descr=""/>
          <p:cNvPicPr/>
          <p:nvPr/>
        </p:nvPicPr>
        <p:blipFill>
          <a:blip r:embed="rId1"/>
          <a:stretch/>
        </p:blipFill>
        <p:spPr>
          <a:xfrm>
            <a:off x="426960" y="231840"/>
            <a:ext cx="7394760" cy="774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99680" y="1000080"/>
            <a:ext cx="7900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ой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оста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ого объект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еступное посягательство на нег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сущ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ного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полнительный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оста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вого  объек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ступное посягательство на нег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ставляет сущ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ршенного преступления, однако он всегда страдает наряду с основны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реступного посягательства от может пострадать, а может и не пострадать в зависимости от фактических обстоятельств совершенного преступл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450720" y="469800"/>
            <a:ext cx="7486920" cy="962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428480"/>
            <a:ext cx="7238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4 ст. 111 ЗДОРОВЬЕ  человека при умышленном причинении тяжкого вреда здоровью, повлекшего по неосторожности смерть челове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полнительный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4 ст. 111  ЖИЗНЬ   человека при умышленном причинении тяжкого вреда здоровью, повлекшего по неосторожности смерть челове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. 1 ст. 213 ПРАВО СОБСТВЕННОСТИ  при хулиганстве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80960" y="-6480"/>
            <a:ext cx="7535880" cy="7081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7210440" cy="119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характеристика общественно опасного посягательства на охраняемый уголовным правом объек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560" y="2276280"/>
            <a:ext cx="7705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й призна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о опасное деяни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 Действ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ественно опасное, волевое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лица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ающег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здейств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о опасное, волевое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ение лица, представляющее соб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ерш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 действий, которое лицо должно было и могло совершит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80960" y="-6480"/>
            <a:ext cx="7535880" cy="7081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721044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4000" y="981000"/>
            <a:ext cx="770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е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признак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щественно опасное по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 причиненный преступлением вред объекту уголовно – правовой охраны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чинно – следственная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вязь между деянием и общественно-опасным последствие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пособ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совершения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редства и орудия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овершения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5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ст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6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становка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совершения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7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ремя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ступления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7437600" cy="6350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7210440" cy="14079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лицо, совершившее общественно опасное деяние, запрещенное Уголовным кодексом, и способное нести за него уголовную ответственность.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5280" y="1628640"/>
            <a:ext cx="7920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е признак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лиц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 гражданин РФ, иностранный гражданин или лицо без гражданств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няем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 е. способность во время совершения преступления осознавать фактический характер и общественную опасность своих действий (бездействий) либо руководить им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уголовной ответственност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7437600" cy="635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721044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97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ое отношение преступника к совершенному преступлению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700"/>
            </a:br>
            <a:br>
              <a:rPr sz="700"/>
            </a:b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1773360"/>
            <a:ext cx="7920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й признак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А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психическое отношение лица к совершаемому им общественно опасному деянию и его последствия в форме умысла или неосторожности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897520" cy="11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2" descr="C:\Users\Елена Владимировна\Desktop\0004-004-Formy-vin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7437600" cy="6350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7210440" cy="936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836640"/>
            <a:ext cx="8066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е признак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преступ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побуждения, которые вызывают у лица решимость совершить преступлени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еступ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представление о желаемом результате, к достижению которого стремится лицо, совершая общественно опасное дея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мо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ют собой внутренние переживания лица, совершившего преступл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583760" cy="1225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773360"/>
            <a:ext cx="77770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a2e4e"/>
                </a:solidFill>
                <a:latin typeface="Trebuchet MS"/>
              </a:rPr>
              <a:t>Состав преступления</a:t>
            </a:r>
            <a:r>
              <a:rPr b="0" lang="ru-RU" sz="3200" spc="-1" strike="noStrike">
                <a:solidFill>
                  <a:srgbClr val="8a2e4e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установленных УК РФ объективных и субъективных признаков, характеризующих общественно опасное деяние как конкретное преступление и позволяющих разграничить различные преступ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у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уг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512640" y="19080"/>
            <a:ext cx="7236000" cy="138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57000"/>
            <a:ext cx="72388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о ст. 8 УК РФ состав преступления входит в </a:t>
            </a: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ание   уголовной ответственности;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снованием для правильной </a:t>
            </a:r>
            <a:r>
              <a:rPr b="0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валификации преступ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 </a:t>
            </a:r>
            <a:r>
              <a:rPr b="0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ля разграничения различных преступл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63680" y="-249120"/>
            <a:ext cx="7656480" cy="12668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ЭЛЕМЕНТЫ СОСТАВ ПРЕСТУПЛЕН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 Объект преступления 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яемые уголовным законом общественные отношения, блага, интересы, на которые посягает лицо, совершающее преступление, и которым причиняется или может быть причинен вред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Объективная сторона преступ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ешня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бщественно опасного посягательства 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яемый уголовным законом объект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Субъект преступл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совершившее преступл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пособное не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ветственнос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. Субъективная сторона преступ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я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преступления, отражающая психическо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лица к совершаемому общественноопасному деян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583760" cy="11826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484280"/>
            <a:ext cx="77151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 По характеру и степени общественной опасности преступлений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1.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ой (простой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 отягчающими обстоятельствам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легирован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 смягчающими обстоятельствам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583760" cy="1067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836640"/>
            <a:ext cx="7921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По способу описания в Законе признаков состава преступления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1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остой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2.  Сложный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признаки состава описаны многомерно: два объекта, две формы вин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состав преступления с альтернативными деяниями  или альтернативными последствия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Состав с удлиненным процессом совершения преступления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продолжительное преступл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длящееся преступл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583760" cy="11826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484280"/>
            <a:ext cx="82184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По конструкции объективной стороны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1. Формальный, т.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признается оконченным после совершения общественно опасного дея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наступления каких-либо общественно опасных последствий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2. Усеченный, т.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мент окончания преступления перенесен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дию неоконченного преступлени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 Материальный, т.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признается оконченным тольк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наступления общественно опасных последствий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729560" cy="6220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7777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78920" y="1125000"/>
            <a:ext cx="81378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яемые уголовным законом общественные отношения, блага, интересы, на которые посягает лицо, совершающее преступление, и которым причиняется или может быть причинен вред в результа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729560" cy="6220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77770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8920" y="1197000"/>
            <a:ext cx="79218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й признак  объекта  преступления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общественные отношения или интересы, которым причиня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енный вре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оздается угроза его причинения в результате преступле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е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признак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преступлени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ещи или люди, на которые непосредственно воздейству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ни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объек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ое отношение, которому наряду с основным объектом всегда причиняется вред (либо создается угроза причинения вреда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певш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ицо, которому в результате совершения преступления причине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5T04:24:17Z</dcterms:created>
  <dc:creator>1</dc:creator>
  <dc:description/>
  <dc:language>en-US</dc:language>
  <cp:lastModifiedBy>Елена Владимировна</cp:lastModifiedBy>
  <dcterms:modified xsi:type="dcterms:W3CDTF">2024-01-05T09:36:02Z</dcterms:modified>
  <cp:revision>54</cp:revision>
  <dc:subject/>
  <dc:title>УРОК 6.  Стадии совершения преступлений.</dc:title>
</cp:coreProperties>
</file>