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50B-97A3-47A9-8BBD-0ACAA469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4F8-4596-43D1-AD05-8D5A948C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05E-129F-45A3-85BA-5FEF848A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A50-CECC-48B1-924A-E1AD51D6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B19-20B1-4C1D-AD06-2130EF38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749-F908-48C1-BFD5-A2D52F9F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BDF-D4D2-4F98-A5BF-9502A44C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8D0-D6D8-41C3-93AF-73CAFA7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CBD-8517-47DB-B870-43EA795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559-CBD9-42C7-A912-38D9F52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76D-05FC-4D82-A970-369B2B58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8EC-6B5A-4125-A734-EADFD01D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E181-5021-4BF7-B194-615BB8667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verhneudinsk.ru/news/2012/09/05/svoistva_b.jpg"/>
          <p:cNvPicPr/>
          <p:nvPr/>
        </p:nvPicPr>
        <p:blipFill>
          <a:blip r:embed="rId2"/>
          <a:stretch/>
        </p:blipFill>
        <p:spPr>
          <a:xfrm>
            <a:off x="836640" y="642960"/>
            <a:ext cx="731664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Вода..mp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21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1.bp.blogspot.com/-kis8c4A8nrQ/UK1haLILnVI/AAAAAAAAAVY/C-QBHkiqlGA/s1600/0b22744c569bfe8958d8c2c41e66b41d.jpg"/>
          <p:cNvPicPr/>
          <p:nvPr/>
        </p:nvPicPr>
        <p:blipFill>
          <a:blip r:embed="rId2"/>
          <a:stretch/>
        </p:blipFill>
        <p:spPr>
          <a:xfrm>
            <a:off x="838080" y="533520"/>
            <a:ext cx="80028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. 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andresh.ru/images/sav/stat/Baikal/Baikal-4.jpg"/>
          <p:cNvPicPr/>
          <p:nvPr/>
        </p:nvPicPr>
        <p:blipFill>
          <a:blip r:embed="rId1"/>
          <a:stretch/>
        </p:blipFill>
        <p:spPr>
          <a:xfrm>
            <a:off x="1981080" y="2743200"/>
            <a:ext cx="5330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цве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ttps://ds04.infourok.ru/uploads/ex/0ae5/000156ec-0aff0079/img5.jpg"/>
          <p:cNvPicPr/>
          <p:nvPr/>
        </p:nvPicPr>
        <p:blipFill>
          <a:blip r:embed="rId1"/>
          <a:srcRect l="4134" t="26877" r="40870" b="16457"/>
          <a:stretch/>
        </p:blipFill>
        <p:spPr>
          <a:xfrm>
            <a:off x="3962520" y="2666880"/>
            <a:ext cx="449568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цве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меет зап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mypresentation.ru/documents/61ead799697bda19c96bd43a257b4e6d/img6.jpg"/>
          <p:cNvPicPr/>
          <p:nvPr/>
        </p:nvPicPr>
        <p:blipFill>
          <a:blip r:embed="rId1"/>
          <a:srcRect l="25001" t="20000" r="25001" b="20000"/>
          <a:stretch/>
        </p:blipFill>
        <p:spPr>
          <a:xfrm>
            <a:off x="4495680" y="23623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цве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раство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old.smachno.ua/img/forall/_GLM1573.jpg"/>
          <p:cNvPicPr/>
          <p:nvPr/>
        </p:nvPicPr>
        <p:blipFill>
          <a:blip r:embed="rId1"/>
          <a:srcRect l="20643" t="21022" r="14505" b="11559"/>
          <a:stretch/>
        </p:blipFill>
        <p:spPr>
          <a:xfrm>
            <a:off x="1752480" y="3962520"/>
            <a:ext cx="472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ставь пропущен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да -    ________ ,   _______ жид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да не имеет  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да  -   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xn--90afcnmwva.xn--p1ai/wp-content/uploads/2015/04/djghjcs-.jpg"/>
          <p:cNvPicPr/>
          <p:nvPr/>
        </p:nvPicPr>
        <p:blipFill>
          <a:blip r:embed="rId1"/>
          <a:stretch/>
        </p:blipFill>
        <p:spPr>
          <a:xfrm>
            <a:off x="4800600" y="4191120"/>
            <a:ext cx="3987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9240" y="1599840"/>
            <a:ext cx="76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да -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зрачная, безцветна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жид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да не имеет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ах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да  -  растворитель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«5»  -  если нет не одной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«4»  - одна ошиб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«3»  -  две ошибки  и 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static.iledebeaute.ru/files/images/imgsng/part_2/57028/src/0_64a4f_544d35be_XL.gif"/>
          <p:cNvPicPr/>
          <p:nvPr/>
        </p:nvPicPr>
        <p:blipFill>
          <a:blip r:embed="rId1"/>
          <a:stretch/>
        </p:blipFill>
        <p:spPr>
          <a:xfrm>
            <a:off x="5486400" y="1981080"/>
            <a:ext cx="33084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кончи  предло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егодня я узнал…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ыло интересно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смог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C:\Documents and Settings\User\Рабочий стол\clapping-emoticon-272.jpg"/>
          <p:cNvPicPr/>
          <p:nvPr/>
        </p:nvPicPr>
        <p:blipFill>
          <a:blip r:embed="rId1"/>
          <a:stretch/>
        </p:blipFill>
        <p:spPr>
          <a:xfrm>
            <a:off x="5791320" y="4800600"/>
            <a:ext cx="305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xn----7sbbfnbc5ajrhpegqv.xn--p1ai/tinybrowser/images/photo/voda/_full/_image010.png"/>
          <p:cNvPicPr/>
          <p:nvPr/>
        </p:nvPicPr>
        <p:blipFill>
          <a:blip r:embed="rId2"/>
          <a:stretch/>
        </p:blipFill>
        <p:spPr>
          <a:xfrm>
            <a:off x="762120" y="457200"/>
            <a:ext cx="75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6553080" y="167652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расшир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6248520" y="1676520"/>
            <a:ext cx="266688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расшир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сжимается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zirveart.com/uploads/posts/2013-06/1370864014_4.png"/>
          <p:cNvPicPr/>
          <p:nvPr/>
        </p:nvPicPr>
        <p:blipFill>
          <a:blip r:embed="rId2"/>
          <a:stretch/>
        </p:blipFill>
        <p:spPr>
          <a:xfrm>
            <a:off x="685800" y="60948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1.bp.blogspot.com/-kis8c4A8nrQ/UK1haLILnVI/AAAAAAAAAVY/C-QBHkiqlGA/s1600/0b22744c569bfe8958d8c2c41e66b41d.jpg"/>
          <p:cNvPicPr/>
          <p:nvPr/>
        </p:nvPicPr>
        <p:blipFill>
          <a:blip r:embed="rId2"/>
          <a:stretch/>
        </p:blipFill>
        <p:spPr>
          <a:xfrm>
            <a:off x="870120" y="762120"/>
            <a:ext cx="686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иятова</cp:lastModifiedBy>
  <dcterms:modified xsi:type="dcterms:W3CDTF">2017-09-17T21:31:42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