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503-289B-4AB8-BC27-ADCF7FB73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319-B51D-4E5C-82D6-9A015BA4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018-1042-48B3-984A-1F2D8895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A47-59F7-430F-AAF5-46535C0C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A461-074B-4C8F-BD3C-449C7D2E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9A1-304D-417E-AE4C-4A90E5EC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A81-F43B-4CD4-8DCF-6214D92B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93B-E43D-43D7-8916-27DA055C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CAC-E312-4AA9-B1BA-F25D1C7F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4258-58BB-4678-9B4A-C4577D63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7FA-5E50-47F9-B7DC-0A397A04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1D4-E32B-4042-88DE-B947D936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c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05E9-B1E6-4C90-8921-DBD4CDEABD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verhneudinsk.ru/news/2012/09/05/svoistva_b.jpg"/>
          <p:cNvPicPr/>
          <p:nvPr/>
        </p:nvPicPr>
        <p:blipFill>
          <a:blip r:embed="rId2"/>
          <a:stretch/>
        </p:blipFill>
        <p:spPr>
          <a:xfrm>
            <a:off x="836640" y="642960"/>
            <a:ext cx="731664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Вода..mp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216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1.bp.blogspot.com/-kis8c4A8nrQ/UK1haLILnVI/AAAAAAAAAVY/C-QBHkiqlGA/s1600/0b22744c569bfe8958d8c2c41e66b41d.jpg"/>
          <p:cNvPicPr/>
          <p:nvPr/>
        </p:nvPicPr>
        <p:blipFill>
          <a:blip r:embed="rId2"/>
          <a:stretch/>
        </p:blipFill>
        <p:spPr>
          <a:xfrm>
            <a:off x="838080" y="533520"/>
            <a:ext cx="80028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. Свойства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войства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рач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://andresh.ru/images/sav/stat/Baikal/Baikal-4.jpg"/>
          <p:cNvPicPr/>
          <p:nvPr/>
        </p:nvPicPr>
        <p:blipFill>
          <a:blip r:embed="rId1"/>
          <a:stretch/>
        </p:blipFill>
        <p:spPr>
          <a:xfrm>
            <a:off x="1981080" y="2743200"/>
            <a:ext cx="5330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войства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рач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цвет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https://ds04.infourok.ru/uploads/ex/0ae5/000156ec-0aff0079/img5.jpg"/>
          <p:cNvPicPr/>
          <p:nvPr/>
        </p:nvPicPr>
        <p:blipFill>
          <a:blip r:embed="rId1"/>
          <a:srcRect l="4134" t="26877" r="40870" b="16457"/>
          <a:stretch/>
        </p:blipFill>
        <p:spPr>
          <a:xfrm>
            <a:off x="3962520" y="2666880"/>
            <a:ext cx="4495680" cy="34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войства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рач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цвет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имеет запа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http://mypresentation.ru/documents/61ead799697bda19c96bd43a257b4e6d/img6.jpg"/>
          <p:cNvPicPr/>
          <p:nvPr/>
        </p:nvPicPr>
        <p:blipFill>
          <a:blip r:embed="rId1"/>
          <a:srcRect l="25001" t="20000" r="25001" b="20000"/>
          <a:stretch/>
        </p:blipFill>
        <p:spPr>
          <a:xfrm>
            <a:off x="4495680" y="236232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войства 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рач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сцвет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имеет запа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–раствор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www.old.smachno.ua/img/forall/_GLM1573.jpg"/>
          <p:cNvPicPr/>
          <p:nvPr/>
        </p:nvPicPr>
        <p:blipFill>
          <a:blip r:embed="rId1"/>
          <a:srcRect l="20643" t="21022" r="14505" b="11559"/>
          <a:stretch/>
        </p:blipFill>
        <p:spPr>
          <a:xfrm>
            <a:off x="1752480" y="3962520"/>
            <a:ext cx="47246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Вставь пропущенные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да -    ________ ,   _______ жид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да не имеет  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ода  -   _______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xn--90afcnmwva.xn--p1ai/wp-content/uploads/2015/04/djghjcs-.jpg"/>
          <p:cNvPicPr/>
          <p:nvPr/>
        </p:nvPicPr>
        <p:blipFill>
          <a:blip r:embed="rId1"/>
          <a:stretch/>
        </p:blipFill>
        <p:spPr>
          <a:xfrm>
            <a:off x="4800600" y="4191120"/>
            <a:ext cx="3987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Проверь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9240" y="1599840"/>
            <a:ext cx="76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ода -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зрачная, безцветная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жид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ода не имеет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ах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ода  -  растворитель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«5»  -  если нет не одной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«4»  - одна ошиб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              </a:t>
            </a:r>
            <a:r>
              <a:rPr b="0" i="1" lang="ru-RU" sz="2400" spc="-1" strike="noStrike">
                <a:solidFill>
                  <a:srgbClr val="c00000"/>
                </a:solidFill>
                <a:latin typeface="Arial"/>
              </a:rPr>
              <a:t>«3»  -  две ошибки  и 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static.iledebeaute.ru/files/images/imgsng/part_2/57028/src/0_64a4f_544d35be_XL.gif"/>
          <p:cNvPicPr/>
          <p:nvPr/>
        </p:nvPicPr>
        <p:blipFill>
          <a:blip r:embed="rId1"/>
          <a:stretch/>
        </p:blipFill>
        <p:spPr>
          <a:xfrm>
            <a:off x="5486400" y="1981080"/>
            <a:ext cx="33084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Закончи  предлож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егодня я узнал…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Было интересно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Я смог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6" descr="C:\Documents and Settings\User\Рабочий стол\clapping-emoticon-272.jpg"/>
          <p:cNvPicPr/>
          <p:nvPr/>
        </p:nvPicPr>
        <p:blipFill>
          <a:blip r:embed="rId1"/>
          <a:stretch/>
        </p:blipFill>
        <p:spPr>
          <a:xfrm>
            <a:off x="5791320" y="4800600"/>
            <a:ext cx="3057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________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5715000" y="167652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xn----7sbbfnbc5ajrhpegqv.xn--p1ai/tinybrowser/images/photo/voda/_full/_image010.png"/>
          <p:cNvPicPr/>
          <p:nvPr/>
        </p:nvPicPr>
        <p:blipFill>
          <a:blip r:embed="rId2"/>
          <a:stretch/>
        </p:blipFill>
        <p:spPr>
          <a:xfrm>
            <a:off x="762120" y="457200"/>
            <a:ext cx="7572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 прозра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________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5715000" y="167652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 прозра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бесцве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________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5715000" y="167652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 прозра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бесцве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запа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________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5715000" y="1676520"/>
            <a:ext cx="3200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6553080" y="1676520"/>
            <a:ext cx="2362320" cy="3124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 прозра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бесцве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запа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расшир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________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s://ds04.infourok.ru/uploads/ex/0f94/00040733-d8b67356/img0.jpg"/>
          <p:cNvPicPr/>
          <p:nvPr/>
        </p:nvPicPr>
        <p:blipFill>
          <a:blip r:embed="rId1"/>
          <a:srcRect l="60799" t="60210" r="4201" b="6457"/>
          <a:stretch/>
        </p:blipFill>
        <p:spPr>
          <a:xfrm>
            <a:off x="6248520" y="1676520"/>
            <a:ext cx="266688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Свойства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 прозрач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Воздух  бесцве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Не имеет запа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нагревании расширя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и охлаждении сжимается </a:t>
            </a: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zirveart.com/uploads/posts/2013-06/1370864014_4.png"/>
          <p:cNvPicPr/>
          <p:nvPr/>
        </p:nvPicPr>
        <p:blipFill>
          <a:blip r:embed="rId2"/>
          <a:stretch/>
        </p:blipFill>
        <p:spPr>
          <a:xfrm>
            <a:off x="685800" y="609480"/>
            <a:ext cx="685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1.bp.blogspot.com/-kis8c4A8nrQ/UK1haLILnVI/AAAAAAAAAVY/C-QBHkiqlGA/s1600/0b22744c569bfe8958d8c2c41e66b41d.jpg"/>
          <p:cNvPicPr/>
          <p:nvPr/>
        </p:nvPicPr>
        <p:blipFill>
          <a:blip r:embed="rId2"/>
          <a:stretch/>
        </p:blipFill>
        <p:spPr>
          <a:xfrm>
            <a:off x="870120" y="762120"/>
            <a:ext cx="6865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иятова</cp:lastModifiedBy>
  <dcterms:modified xsi:type="dcterms:W3CDTF">2017-09-17T21:31:42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