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618-0ED9-48CA-8613-EF8EF9AC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721-116B-414A-ADBB-45A811E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569-E710-411E-B4CF-DDD4F1CD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ECB-0033-439A-A16F-6F530613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620-B68F-44A8-A151-7595B09E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E4E-29A3-4632-813B-0F572B0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925-B663-4201-B763-897EA28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4E5-0E4F-4778-A5A7-14D57C6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2FF-E6FD-484B-89E9-5AD629D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0D2-2701-4BE0-A996-ACD612F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899-D7E3-43BA-9E57-4789598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B6E-13C2-4154-AAD9-17AE09E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C1A-F8E4-46AF-9BAD-5B35DF6D7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verhneudinsk.ru/news/2012/09/05/svoistva_b.jpg"/>
          <p:cNvPicPr/>
          <p:nvPr/>
        </p:nvPicPr>
        <p:blipFill>
          <a:blip r:embed="rId2"/>
          <a:stretch/>
        </p:blipFill>
        <p:spPr>
          <a:xfrm>
            <a:off x="836640" y="642960"/>
            <a:ext cx="73166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Вода..mp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21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38080" y="533520"/>
            <a:ext cx="800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.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andresh.ru/images/sav/stat/Baikal/Baikal-4.jpg"/>
          <p:cNvPicPr/>
          <p:nvPr/>
        </p:nvPicPr>
        <p:blipFill>
          <a:blip r:embed="rId1"/>
          <a:stretch/>
        </p:blipFill>
        <p:spPr>
          <a:xfrm>
            <a:off x="1981080" y="2743200"/>
            <a:ext cx="5330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ttps://ds04.infourok.ru/uploads/ex/0ae5/000156ec-0aff0079/img5.jpg"/>
          <p:cNvPicPr/>
          <p:nvPr/>
        </p:nvPicPr>
        <p:blipFill>
          <a:blip r:embed="rId1"/>
          <a:srcRect l="4134" t="26877" r="40870" b="16457"/>
          <a:stretch/>
        </p:blipFill>
        <p:spPr>
          <a:xfrm>
            <a:off x="3962520" y="2666880"/>
            <a:ext cx="4495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mypresentation.ru/documents/61ead799697bda19c96bd43a257b4e6d/img6.jpg"/>
          <p:cNvPicPr/>
          <p:nvPr/>
        </p:nvPicPr>
        <p:blipFill>
          <a:blip r:embed="rId1"/>
          <a:srcRect l="25001" t="20000" r="25001" b="20000"/>
          <a:stretch/>
        </p:blipFill>
        <p:spPr>
          <a:xfrm>
            <a:off x="4495680" y="23623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раство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old.smachno.ua/img/forall/_GLM1573.jpg"/>
          <p:cNvPicPr/>
          <p:nvPr/>
        </p:nvPicPr>
        <p:blipFill>
          <a:blip r:embed="rId1"/>
          <a:srcRect l="20643" t="21022" r="14505" b="11559"/>
          <a:stretch/>
        </p:blipFill>
        <p:spPr>
          <a:xfrm>
            <a:off x="1752480" y="3962520"/>
            <a:ext cx="472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ставь пропущ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-    ________ ,   _______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не имеет  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 -  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xn--90afcnmwva.xn--p1ai/wp-content/uploads/2015/04/djghjcs-.jpg"/>
          <p:cNvPicPr/>
          <p:nvPr/>
        </p:nvPicPr>
        <p:blipFill>
          <a:blip r:embed="rId1"/>
          <a:stretch/>
        </p:blipFill>
        <p:spPr>
          <a:xfrm>
            <a:off x="4800600" y="4191120"/>
            <a:ext cx="3987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9240" y="1599840"/>
            <a:ext cx="76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-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зрачная, безцветна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жид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не имеет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ах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 -  растворитель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5»  -  если нет не одно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4»  - одна оши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3»  -  две ошибки  и 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tic.iledebeaute.ru/files/images/imgsng/part_2/57028/src/0_64a4f_544d35be_XL.gif"/>
          <p:cNvPicPr/>
          <p:nvPr/>
        </p:nvPicPr>
        <p:blipFill>
          <a:blip r:embed="rId1"/>
          <a:stretch/>
        </p:blipFill>
        <p:spPr>
          <a:xfrm>
            <a:off x="5486400" y="1981080"/>
            <a:ext cx="33084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ончи 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егодня я узнал…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ыло интересно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смог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C:\Documents and Settings\User\Рабочий стол\clapping-emoticon-272.jpg"/>
          <p:cNvPicPr/>
          <p:nvPr/>
        </p:nvPicPr>
        <p:blipFill>
          <a:blip r:embed="rId1"/>
          <a:stretch/>
        </p:blipFill>
        <p:spPr>
          <a:xfrm>
            <a:off x="5791320" y="4800600"/>
            <a:ext cx="305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xn----7sbbfnbc5ajrhpegqv.xn--p1ai/tinybrowser/images/photo/voda/_full/_image010.png"/>
          <p:cNvPicPr/>
          <p:nvPr/>
        </p:nvPicPr>
        <p:blipFill>
          <a:blip r:embed="rId2"/>
          <a:stretch/>
        </p:blipFill>
        <p:spPr>
          <a:xfrm>
            <a:off x="762120" y="45720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553080" y="16765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248520" y="167652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сжимается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zirveart.com/uploads/posts/2013-06/1370864014_4.png"/>
          <p:cNvPicPr/>
          <p:nvPr/>
        </p:nvPicPr>
        <p:blipFill>
          <a:blip r:embed="rId2"/>
          <a:stretch/>
        </p:blipFill>
        <p:spPr>
          <a:xfrm>
            <a:off x="685800" y="60948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70120" y="762120"/>
            <a:ext cx="686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иятова</cp:lastModifiedBy>
  <dcterms:modified xsi:type="dcterms:W3CDTF">2017-09-17T21:31:4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