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84A-74CF-4A15-B819-EC072418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8A4-CB29-470E-8FF8-CF02DCD6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65C-EE25-4E03-BC8E-E9AE84106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BAC-3388-4ED4-97C5-FEA66F58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AE50-2B3C-4B6E-9FD6-AC62D69E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5698-6C5C-4938-B4E1-E2F71F89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8371-7582-4DE6-A61B-B17F5846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B85D-E4EA-4ED7-B62B-E245CDD8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2E47-2982-4A97-8240-EFF6745F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08C1-E57B-4068-8245-6BB989F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2536-015D-4F68-8A55-A055EF29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7E09-F7C9-40A0-B094-D19FD2DC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409C-ED04-481E-9B7A-85B0598E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A315-9619-4FEA-94D6-D340B185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6258-D4C1-47FE-8A33-302AD86F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1309-1423-40BE-BABC-82A9E41D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8BD5-23EF-4479-B2E7-89AC6877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BCA2-415B-44B2-A094-314BAC7E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59CE-DBE0-4174-BE05-C7E1A841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32C9A-DF74-4113-9A6E-74A47319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89674-1F8F-4979-ADBB-D206BABC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8D39-7B4E-457F-B538-BA77DACC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47F-B587-4CFC-9C5C-283FA8BC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F974-8558-4EC4-8AD6-7297A50D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CB41-EF61-4E3D-97EF-E1D802BA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963C-D9BA-439A-808E-A9BA301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D76BA-74FA-438C-BBB6-11ADA78B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209EB-09F9-4FF4-850A-B60D0C88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9F52-2C02-4814-BE23-CD5A6EBA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119D-5C70-45D9-BE71-60C132B4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44EA-B860-42FB-A8CA-8EF661C9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B9C7-83B3-40A8-886B-BE28E2B1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9D4-C46C-4718-8207-20929313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83C4-503C-441C-ACD5-C3E531D5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F99-5B2C-4719-BD49-21BE900B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1FD-CE5D-41E2-945F-FFCCBFB6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C8AD-3C20-43E3-839C-9401A5B60F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2EB8-3061-4089-B9E8-657FD5F9F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D9A2-04AD-445C-AA96-CA3FF4A7F6A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8" name="Если добрый ты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 Евангелии от Матфея: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571560" y="1857240"/>
            <a:ext cx="54291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« …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во всем, как хотите чтобы с вами поступали люди, так поступайте и вы с ними»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D6905409"/>
          <p:cNvPicPr/>
          <p:nvPr/>
        </p:nvPicPr>
        <p:blipFill>
          <a:blip r:embed="rId1"/>
          <a:stretch/>
        </p:blipFill>
        <p:spPr>
          <a:xfrm>
            <a:off x="428760" y="1714680"/>
            <a:ext cx="2828880" cy="475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53" name="Духовные притчи. Два волка. 19 августа 2017г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3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гра «Восстановите пословицы»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28800" y="2356920"/>
            <a:ext cx="79293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Жизнь дана на … д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Мир не без … лю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… слово и железные ворота откр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… слово человеку, что дождь в засух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гра «Восстановите пословицы» 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28800" y="2356920"/>
            <a:ext cx="79293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Жизнь дана н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Ы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) Мир не без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ЫХ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люд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О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о и железные ворота открыва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БРО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во человеку, что дождь в засух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WordArt 4"/>
          <p:cNvSpPr txBox="1"/>
          <p:nvPr/>
        </p:nvSpPr>
        <p:spPr>
          <a:xfrm>
            <a:off x="1500120" y="285840"/>
            <a:ext cx="60962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7030a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+mn-lt"/>
              </a:rPr>
              <a:t> </a:t>
            </a:r>
            <a:endParaRPr b="0" lang="en-US" sz="1800" spc="1" strike="noStrike">
              <a:ln w="12600">
                <a:solidFill>
                  <a:srgbClr val="cc99ff"/>
                </a:solidFill>
                <a:miter/>
              </a:ln>
              <a:solidFill>
                <a:srgbClr val="7030a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735120" y="1720800"/>
            <a:ext cx="23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250920" y="134136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брое сло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250920" y="213372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одежда красит челове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250920" y="292428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ропись на доброе дел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9"/>
          <p:cNvSpPr/>
          <p:nvPr/>
        </p:nvSpPr>
        <p:spPr>
          <a:xfrm>
            <a:off x="250920" y="371628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хвались серебром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50920" y="443700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то добро творит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324000" y="522936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ком добра не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250920" y="602136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ищи красоты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3"/>
          <p:cNvSpPr/>
          <p:nvPr/>
        </p:nvSpPr>
        <p:spPr>
          <a:xfrm>
            <a:off x="5435640" y="609300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хвались доб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4"/>
          <p:cNvSpPr/>
          <p:nvPr/>
        </p:nvSpPr>
        <p:spPr>
          <a:xfrm>
            <a:off x="5435640" y="530064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щи добр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5"/>
          <p:cNvSpPr/>
          <p:nvPr/>
        </p:nvSpPr>
        <p:spPr>
          <a:xfrm>
            <a:off x="5435640" y="443700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худое само приспе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5435640" y="364500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ом и правды ма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17"/>
          <p:cNvSpPr/>
          <p:nvPr/>
        </p:nvSpPr>
        <p:spPr>
          <a:xfrm>
            <a:off x="5435640" y="285264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го Бог отблагодари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5435640" y="2133720"/>
            <a:ext cx="338436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ошке прият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9"/>
          <p:cNvSpPr/>
          <p:nvPr/>
        </p:nvSpPr>
        <p:spPr>
          <a:xfrm>
            <a:off x="5435640" y="1341360"/>
            <a:ext cx="33843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его добрые дел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35"/>
          <p:cNvSpPr/>
          <p:nvPr/>
        </p:nvSpPr>
        <p:spPr>
          <a:xfrm>
            <a:off x="3780000" y="1628640"/>
            <a:ext cx="1584000" cy="792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36"/>
          <p:cNvSpPr/>
          <p:nvPr/>
        </p:nvSpPr>
        <p:spPr>
          <a:xfrm flipV="1">
            <a:off x="3924360" y="1700280"/>
            <a:ext cx="1152360" cy="72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37"/>
          <p:cNvSpPr/>
          <p:nvPr/>
        </p:nvSpPr>
        <p:spPr>
          <a:xfrm>
            <a:off x="3780000" y="3284640"/>
            <a:ext cx="158400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38"/>
          <p:cNvSpPr/>
          <p:nvPr/>
        </p:nvSpPr>
        <p:spPr>
          <a:xfrm>
            <a:off x="3708360" y="4076640"/>
            <a:ext cx="1655640" cy="2305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39"/>
          <p:cNvSpPr/>
          <p:nvPr/>
        </p:nvSpPr>
        <p:spPr>
          <a:xfrm flipV="1">
            <a:off x="3780000" y="3212640"/>
            <a:ext cx="1512720" cy="1584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40"/>
          <p:cNvSpPr/>
          <p:nvPr/>
        </p:nvSpPr>
        <p:spPr>
          <a:xfrm flipV="1">
            <a:off x="3851280" y="4076280"/>
            <a:ext cx="1512720" cy="151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41"/>
          <p:cNvSpPr/>
          <p:nvPr/>
        </p:nvSpPr>
        <p:spPr>
          <a:xfrm flipV="1">
            <a:off x="3851280" y="5589720"/>
            <a:ext cx="1441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24"/>
          <p:cNvSpPr/>
          <p:nvPr/>
        </p:nvSpPr>
        <p:spPr>
          <a:xfrm>
            <a:off x="1928880" y="214200"/>
            <a:ext cx="70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бери пословицу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оброта-это внимание и забота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Picture 2" descr="C:\Users\Admin\Desktop\5b004dc9-f926-4080-951a-c692c8bf3324.jpg"/>
          <p:cNvPicPr/>
          <p:nvPr/>
        </p:nvPicPr>
        <p:blipFill>
          <a:blip r:embed="rId1"/>
          <a:stretch/>
        </p:blipFill>
        <p:spPr>
          <a:xfrm>
            <a:off x="395280" y="981000"/>
            <a:ext cx="842472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9" dur="indefinite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0" dur="indefinite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6" name="Очень трогательное видео о доброте!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5" dur="indefinite" restart="never" nodeType="tmRoot">
          <p:childTnLst>
            <p:seq>
              <p:cTn id="136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0" dur="1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https://fsd.multiurok.ru/html/2017/02/26/s_58b2a14080e39/img_s573202_1_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ttps://avatars.mds.yandex.net/get-zen_doc/148075/pub_5b3099f10ef18000a901612b_5b30b8045230a200a97f194b/scale_1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5052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Красота до вечера, </a:t>
            </a:r>
            <a:br>
              <a:rPr sz="4400"/>
            </a:b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а доброта наве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90" name="Picture 2" descr="C:\Users\Admin\Desktop\i.jpg"/>
          <p:cNvPicPr/>
          <p:nvPr/>
        </p:nvPicPr>
        <p:blipFill>
          <a:blip r:embed="rId1"/>
          <a:stretch/>
        </p:blipFill>
        <p:spPr>
          <a:xfrm>
            <a:off x="306360" y="1500120"/>
            <a:ext cx="8442360" cy="5041800"/>
          </a:xfrm>
          <a:prstGeom prst="rect">
            <a:avLst/>
          </a:prstGeom>
          <a:ln w="0">
            <a:noFill/>
          </a:ln>
        </p:spPr>
      </p:pic>
      <p:pic>
        <p:nvPicPr>
          <p:cNvPr id="391" name="Из мультфильмов - Песня Фунтика (minus).mp3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1598760" cy="1598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45579" fill="hold"/>
                                        <p:tgtEl>
                                          <p:spTgt spid="3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Поговорим  о доброте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95280" y="3143160"/>
            <a:ext cx="83916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4" descr="61869107_image"/>
          <p:cNvPicPr/>
          <p:nvPr/>
        </p:nvPicPr>
        <p:blipFill>
          <a:blip r:embed="rId1"/>
          <a:stretch/>
        </p:blipFill>
        <p:spPr>
          <a:xfrm>
            <a:off x="395280" y="692280"/>
            <a:ext cx="3586320" cy="5329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93" name="Содержимое 6" descr="7396923b14f6t"/>
          <p:cNvPicPr/>
          <p:nvPr/>
        </p:nvPicPr>
        <p:blipFill>
          <a:blip r:embed="rId2"/>
          <a:srcRect l="2053" t="0" r="0" b="18304"/>
          <a:stretch/>
        </p:blipFill>
        <p:spPr>
          <a:xfrm>
            <a:off x="4643280" y="1052640"/>
            <a:ext cx="4105440" cy="54007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Аленький_цветоче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06931a7274bd"/>
          <p:cNvPicPr/>
          <p:nvPr/>
        </p:nvPicPr>
        <p:blipFill>
          <a:blip r:embed="rId1"/>
          <a:stretch/>
        </p:blipFill>
        <p:spPr>
          <a:xfrm>
            <a:off x="395280" y="476280"/>
            <a:ext cx="3889440" cy="5126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96" name="Picture 4" descr="i0002404_1"/>
          <p:cNvPicPr/>
          <p:nvPr/>
        </p:nvPicPr>
        <p:blipFill>
          <a:blip r:embed="rId2"/>
          <a:stretch/>
        </p:blipFill>
        <p:spPr>
          <a:xfrm>
            <a:off x="4510080" y="1341360"/>
            <a:ext cx="4238640" cy="5237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5ba763ca1cf5f52590916352e110ac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i"/>
          <p:cNvPicPr/>
          <p:nvPr/>
        </p:nvPicPr>
        <p:blipFill>
          <a:blip r:embed="rId1"/>
          <a:stretch/>
        </p:blipFill>
        <p:spPr>
          <a:xfrm>
            <a:off x="539640" y="404640"/>
            <a:ext cx="4622760" cy="3529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399" name="Picture 4" descr="tmp_04"/>
          <p:cNvPicPr/>
          <p:nvPr/>
        </p:nvPicPr>
        <p:blipFill>
          <a:blip r:embed="rId2"/>
          <a:stretch/>
        </p:blipFill>
        <p:spPr>
          <a:xfrm>
            <a:off x="4572000" y="1197000"/>
            <a:ext cx="4032360" cy="53276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4" descr="7396923b14f6t"/>
          <p:cNvPicPr/>
          <p:nvPr/>
        </p:nvPicPr>
        <p:blipFill>
          <a:blip r:embed="rId1"/>
          <a:srcRect l="0" t="0" r="0" b="5277"/>
          <a:stretch/>
        </p:blipFill>
        <p:spPr>
          <a:xfrm>
            <a:off x="395280" y="333360"/>
            <a:ext cx="4052880" cy="53992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401" name="Picture 4" descr="26867"/>
          <p:cNvPicPr/>
          <p:nvPr/>
        </p:nvPicPr>
        <p:blipFill>
          <a:blip r:embed="rId2"/>
          <a:stretch/>
        </p:blipFill>
        <p:spPr>
          <a:xfrm>
            <a:off x="4716360" y="1268280"/>
            <a:ext cx="3888000" cy="51134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ransition spd="slow">
    <p:wheel spokes="2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86058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гра « Добрый или злой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03" name="Рисунок 10" descr="http://img.espicture.ru/7/kartinki-skazoychnyih-geroev-2.jpg"/>
          <p:cNvPicPr/>
          <p:nvPr/>
        </p:nvPicPr>
        <p:blipFill>
          <a:blip r:embed="rId1"/>
          <a:stretch/>
        </p:blipFill>
        <p:spPr>
          <a:xfrm>
            <a:off x="2286000" y="1214280"/>
            <a:ext cx="2357280" cy="2298960"/>
          </a:xfrm>
          <a:prstGeom prst="rect">
            <a:avLst/>
          </a:prstGeom>
          <a:ln w="0">
            <a:noFill/>
          </a:ln>
        </p:spPr>
      </p:pic>
      <p:pic>
        <p:nvPicPr>
          <p:cNvPr id="404" name="Рисунок 11" descr="http://nattik.ru/wp-content/uploads/2010/02/krasnaya_shapka_flanelegraf.jpg"/>
          <p:cNvPicPr/>
          <p:nvPr/>
        </p:nvPicPr>
        <p:blipFill>
          <a:blip r:embed="rId2"/>
          <a:stretch/>
        </p:blipFill>
        <p:spPr>
          <a:xfrm>
            <a:off x="357120" y="1214280"/>
            <a:ext cx="1776600" cy="2357640"/>
          </a:xfrm>
          <a:prstGeom prst="rect">
            <a:avLst/>
          </a:prstGeom>
          <a:ln w="0">
            <a:noFill/>
          </a:ln>
        </p:spPr>
      </p:pic>
      <p:pic>
        <p:nvPicPr>
          <p:cNvPr id="405" name="Рисунок 12" descr="http://www.coollady.ru/puc/5/GS/04_1.jpg"/>
          <p:cNvPicPr/>
          <p:nvPr/>
        </p:nvPicPr>
        <p:blipFill>
          <a:blip r:embed="rId3"/>
          <a:stretch/>
        </p:blipFill>
        <p:spPr>
          <a:xfrm>
            <a:off x="500040" y="3786120"/>
            <a:ext cx="1857240" cy="2871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izuminki.com/images/est-li-svyaz-mezhdu-skazkoj-buratino-i-vashimi-doxodami/3.jpg"/>
          <p:cNvPicPr/>
          <p:nvPr/>
        </p:nvPicPr>
        <p:blipFill>
          <a:blip r:embed="rId4"/>
          <a:stretch/>
        </p:blipFill>
        <p:spPr>
          <a:xfrm>
            <a:off x="6643800" y="4000680"/>
            <a:ext cx="2022480" cy="26017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8" descr="http://festival.1september.ru/articles/412374/img7.jpg"/>
          <p:cNvPicPr/>
          <p:nvPr/>
        </p:nvPicPr>
        <p:blipFill>
          <a:blip r:embed="rId5"/>
          <a:stretch/>
        </p:blipFill>
        <p:spPr>
          <a:xfrm>
            <a:off x="6858000" y="1214280"/>
            <a:ext cx="2128680" cy="2668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2" descr="http://static.diary.ru/userdir/3/7/3/8/373884/16351687.jpg"/>
          <p:cNvPicPr/>
          <p:nvPr/>
        </p:nvPicPr>
        <p:blipFill>
          <a:blip r:embed="rId6"/>
          <a:stretch/>
        </p:blipFill>
        <p:spPr>
          <a:xfrm>
            <a:off x="4929120" y="1214280"/>
            <a:ext cx="1771560" cy="3021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4" descr="http://s019.radikal.ru/i617/1203/6b/1116531cb826.jpg"/>
          <p:cNvPicPr/>
          <p:nvPr/>
        </p:nvPicPr>
        <p:blipFill>
          <a:blip r:embed="rId7"/>
          <a:stretch/>
        </p:blipFill>
        <p:spPr>
          <a:xfrm>
            <a:off x="2786040" y="4071960"/>
            <a:ext cx="3527280" cy="2550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C:\Users\Admin\Desktop\121793974_hDemqgz3F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Rectangle 8"/>
          <p:cNvSpPr/>
          <p:nvPr/>
        </p:nvSpPr>
        <p:spPr>
          <a:xfrm>
            <a:off x="6227640" y="1413000"/>
            <a:ext cx="20732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Юрий Чичков - Волшебный цветок (minus).mp3" descr=""/>
          <p:cNvPicPr/>
          <p:nvPr/>
        </p:nvPicPr>
        <p:blipFill>
          <a:blip r:embed="rId2"/>
          <a:stretch/>
        </p:blipFill>
        <p:spPr>
          <a:xfrm>
            <a:off x="684360" y="4869000"/>
            <a:ext cx="1366560" cy="1368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61385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5" descr="https://basik.ru/images/donald_zolan/29_donald_zol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https://www.culture.ru/storage/images/7fd2c3c70cf6455d1ec2f74a26c20230/1e3af1be4d966a97bb1725b5341246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17 ФЕВРАЛЯ – ВСЕМИРНЫЙ ДЕНЬ СПОНТАННОГО ПРОЯВЛЕНИЯ ДОБРОТ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500280" y="1785600"/>
            <a:ext cx="5500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айте поклоняться доброт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айте с думой жить о доброт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я в голубой и звездной красот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мля добра. Она дарит нас хлеб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вой водой и деревом в цве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 этим вечно неспокойным неб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вайте воевать за доброту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.Чепур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Содержимое 3" descr="4962380_2512313df150e7139715a78 (367x360, 21Kb)"/>
          <p:cNvPicPr/>
          <p:nvPr/>
        </p:nvPicPr>
        <p:blipFill>
          <a:blip r:embed="rId1"/>
          <a:stretch/>
        </p:blipFill>
        <p:spPr>
          <a:xfrm>
            <a:off x="214200" y="3429000"/>
            <a:ext cx="321480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https://avatars.mds.yandex.net/get-pdb/38069/c8b8a729-6e14-4c54-bb1f-ec11c9d1aec4/s1200?webp=fal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21" name="Песня о доброте (Футтик)+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45" dur="indefinite" restart="never" nodeType="tmRoot">
          <p:childTnLst>
            <p:seq>
              <p:cTn id="246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0" dur="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ЕШИТЕ ДЕЛАТЬ ДОБР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2000160" y="1214280"/>
            <a:ext cx="6786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забывайте подарить добр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едям, родственнику, друг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но, как истинное волшебств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гда вернется к вам по к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Рисунок 4" descr="http://cs323718.userapi.com/v323718480/2b48/BJLPrBmswgY.jpg"/>
          <p:cNvPicPr/>
          <p:nvPr/>
        </p:nvPicPr>
        <p:blipFill>
          <a:blip r:embed="rId1"/>
          <a:stretch/>
        </p:blipFill>
        <p:spPr>
          <a:xfrm>
            <a:off x="2143080" y="3429000"/>
            <a:ext cx="5000760" cy="3143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мятник Добро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213920"/>
            <a:ext cx="82580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ая Академия Доброты устанавливает по всему миру памятники-символы Доброты «Одуванчики». Там, где доброта – там нет границ. Где нет границ начинается понимание и любовь между людь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000400" y="2500200"/>
            <a:ext cx="368604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«Одуванчик»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отражение хрупкости, также как и понятие Доброты, Любви, Дружбы. Идея памятника состоит в том, что каждая тычинка одуванчика - это раскрытая в приветствии ладошка, в центре которой глаз, как символ открытого сердца. И листья одуванчика как губы, на одну из которых приземлилась тычинка в образе ладош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Рисунок 7" descr="В Севастополе установили памятник доброты"/>
          <p:cNvPicPr/>
          <p:nvPr/>
        </p:nvPicPr>
        <p:blipFill>
          <a:blip r:embed="rId1"/>
          <a:stretch/>
        </p:blipFill>
        <p:spPr>
          <a:xfrm>
            <a:off x="108000" y="2276640"/>
            <a:ext cx="2678040" cy="440532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8" descr="http://sevastopol.su/images/uploads/1(164).jpg"/>
          <p:cNvPicPr/>
          <p:nvPr/>
        </p:nvPicPr>
        <p:blipFill>
          <a:blip r:embed="rId2"/>
          <a:stretch/>
        </p:blipFill>
        <p:spPr>
          <a:xfrm>
            <a:off x="2268360" y="2997360"/>
            <a:ext cx="273528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БРО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143000"/>
            <a:ext cx="8258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отзывчив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евное расположение к людям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ление делать добро друг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2920" y="5285880"/>
            <a:ext cx="885816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астоящая доброта рожда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 глубине твоего сердца и начинается с тебя сам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Рисунок 23" descr="http://scienceblog.ru/wp-content/uploads/d184d0bed182d0be-d0b5d0b6d0b8d0ba-d0b4d0bed0b1d180d0bed182d0b0-d183d0b4d0b0d0bbd191d0bdd0bdd0bed0b5-275389.jpeg"/>
          <p:cNvPicPr/>
          <p:nvPr/>
        </p:nvPicPr>
        <p:blipFill>
          <a:blip r:embed="rId1"/>
          <a:stretch/>
        </p:blipFill>
        <p:spPr>
          <a:xfrm>
            <a:off x="2643120" y="2571840"/>
            <a:ext cx="3786120" cy="26334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чества доброго человека по С. Ожегову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214360" y="1600200"/>
            <a:ext cx="67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уш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желатель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рав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рядоч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ердеч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обро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ест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Users\Admin\Desktop\img1.jpg"/>
          <p:cNvPicPr/>
          <p:nvPr/>
        </p:nvPicPr>
        <p:blipFill>
          <a:blip r:embed="rId1"/>
          <a:stretch/>
        </p:blipFill>
        <p:spPr>
          <a:xfrm>
            <a:off x="476280" y="357120"/>
            <a:ext cx="7905600" cy="5929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6840" y="1357200"/>
            <a:ext cx="82580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 это тот, кт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юбит людей и помогает и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юбит природу и сохраняет её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любит животных и защищает и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являет к ним милосерд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000760" y="1357200"/>
            <a:ext cx="392904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 flipV="1" rot="10800000">
            <a:off x="214200" y="5952960"/>
            <a:ext cx="878688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Рисунок 8" descr="http://pozdravish.ru/wp-content/uploads/2011/01/dobrota.png"/>
          <p:cNvPicPr/>
          <p:nvPr/>
        </p:nvPicPr>
        <p:blipFill>
          <a:blip r:embed="rId2"/>
          <a:stretch/>
        </p:blipFill>
        <p:spPr>
          <a:xfrm>
            <a:off x="357120" y="4000680"/>
            <a:ext cx="2286000" cy="252540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9" descr="птиы (500x409, 30Kb)"/>
          <p:cNvPicPr/>
          <p:nvPr/>
        </p:nvPicPr>
        <p:blipFill>
          <a:blip r:embed="rId3"/>
          <a:stretch/>
        </p:blipFill>
        <p:spPr>
          <a:xfrm>
            <a:off x="2786040" y="4286160"/>
            <a:ext cx="2857680" cy="22147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10" descr="http://magicforce.ru/wp-content/uploads/2013/02/dobro_4.jpg"/>
          <p:cNvPicPr/>
          <p:nvPr/>
        </p:nvPicPr>
        <p:blipFill>
          <a:blip r:embed="rId4"/>
          <a:stretch/>
        </p:blipFill>
        <p:spPr>
          <a:xfrm>
            <a:off x="5786280" y="4000680"/>
            <a:ext cx="3071880" cy="2504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Доброта -это делать друг другу приятное и всем делиться !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Admin\Desktop\image1561.jpg"/>
          <p:cNvPicPr/>
          <p:nvPr/>
        </p:nvPicPr>
        <p:blipFill>
          <a:blip r:embed="rId1"/>
          <a:stretch/>
        </p:blipFill>
        <p:spPr>
          <a:xfrm>
            <a:off x="428760" y="1508040"/>
            <a:ext cx="8429400" cy="5349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09:14:50Z</dcterms:created>
  <dc:creator>Наталья Викторовна</dc:creator>
  <dc:description/>
  <dc:language>en-US</dc:language>
  <cp:lastModifiedBy>Mobile Tutor</cp:lastModifiedBy>
  <dcterms:modified xsi:type="dcterms:W3CDTF">2020-03-12T04:38:59Z</dcterms:modified>
  <cp:revision>104</cp:revision>
  <dc:subject/>
  <dc:title>Поговорим  о доброте</dc:title>
</cp:coreProperties>
</file>