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6DE-5086-43A7-B665-F3C8CA4A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118-23DC-46A7-BD94-D11B2AA1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1DA-C13B-4809-99BC-7493FE3D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C07-F36D-4CA4-B264-26E3CB3F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BBBE-0588-48D7-B6E5-1EC5DB1C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468E-E686-4D0E-A41C-DE5CC965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FCBF-320D-4497-B5CB-72C393FE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E345-85B8-4F6C-8F89-504BCDB0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207B-EDEA-4B4B-A27B-3E328499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E22B-D702-4229-9C59-472527E3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AD46-0B9B-4290-865F-CA39FA11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67F-3BFA-4DCF-9FA5-80572691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3320-AFA2-403E-AC3E-24EF3CBB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C09A-140D-4E3F-B5FB-363D0A1E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4750-CF12-4729-8F6A-B538DE2F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60E5-8991-4A86-8C85-355FF4EA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602B-BEFE-4AF9-90CE-E33CF312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7DCC8-40EC-4B34-9C32-5D335AAE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90B2-8524-466D-9DB2-C6A80999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38AF3-14E7-460D-9CAD-7DD38D1D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63F9-12FB-40D6-82CC-D2B01E8D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720D-390E-4851-9670-1B88FC63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85D-24D4-40AB-8182-9EEF487A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7BA4-B1E2-41FA-8329-83A42657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73EC0-9F97-4BD7-B834-CCCB4EEB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A0C0-4697-4BBB-942D-16161998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B71D-00CE-44B8-B59C-EA6945F8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D89F-1533-4933-AE62-E58A64D8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D50B-6014-42B6-B711-9D192C89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F124-BC61-4B94-9C58-97A3596A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2CB-7C25-455D-A67F-84D86021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CDD-C29C-4158-B9C5-30CE7EE8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C44-B55C-4C2B-A2C0-4FBF51E5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AB4-C816-4976-8138-151A92DA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662-DC0D-4368-9204-4EF17D5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FF2-7B95-43CA-AF37-1E4D9EB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3084-2D67-4C61-849C-A14E6D533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57B0-139D-4535-A83F-397057957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C557-BB95-4911-9CD8-D6A0F50C85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8" name="Если добрый ты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Евангелии от Матфея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71560" y="1857240"/>
            <a:ext cx="54291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« …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во всем, как хотите чтобы с вами поступали люди, так поступайте и вы с ними»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D6905409"/>
          <p:cNvPicPr/>
          <p:nvPr/>
        </p:nvPicPr>
        <p:blipFill>
          <a:blip r:embed="rId1"/>
          <a:stretch/>
        </p:blipFill>
        <p:spPr>
          <a:xfrm>
            <a:off x="428760" y="1714680"/>
            <a:ext cx="282888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3" name="Духовные притчи. Два волка. 19 августа 2017г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гра «Восстановите пословицы»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28800" y="2356920"/>
            <a:ext cx="79293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Жизнь дана на … д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Мир не без … лю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… слово и железные ворота откр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… слово человеку, что дождь в засух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гра «Восстановите пословицы»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28800" y="2356920"/>
            <a:ext cx="79293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Жизнь дана н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Мир не без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ю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О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о и железные ворота откр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О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о человеку, что дождь в засух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4"/>
          <p:cNvSpPr txBox="1"/>
          <p:nvPr/>
        </p:nvSpPr>
        <p:spPr>
          <a:xfrm>
            <a:off x="1500120" y="285840"/>
            <a:ext cx="60962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 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7030a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35120" y="172080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250920" y="134136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брое сл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250920" y="213372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одежда красит челове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250920" y="292428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ропись на доброе де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250920" y="371628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хвались серебром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0920" y="443700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то добро творит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324000" y="522936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м добра н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250920" y="602136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ищи красоты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5435640" y="609300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хвались доб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5435640" y="530064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щи добр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5435640" y="443700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худое само приспе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5435640" y="364500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ом и правды ма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5435640" y="285264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го Бог отблагодари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5435640" y="213372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шке прия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5435640" y="134136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его добрые де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5"/>
          <p:cNvSpPr/>
          <p:nvPr/>
        </p:nvSpPr>
        <p:spPr>
          <a:xfrm>
            <a:off x="3780000" y="1628640"/>
            <a:ext cx="1584000" cy="7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6"/>
          <p:cNvSpPr/>
          <p:nvPr/>
        </p:nvSpPr>
        <p:spPr>
          <a:xfrm flipV="1">
            <a:off x="3924360" y="1700280"/>
            <a:ext cx="115236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7"/>
          <p:cNvSpPr/>
          <p:nvPr/>
        </p:nvSpPr>
        <p:spPr>
          <a:xfrm>
            <a:off x="3780000" y="3284640"/>
            <a:ext cx="158400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8"/>
          <p:cNvSpPr/>
          <p:nvPr/>
        </p:nvSpPr>
        <p:spPr>
          <a:xfrm>
            <a:off x="3708360" y="4076640"/>
            <a:ext cx="1655640" cy="23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9"/>
          <p:cNvSpPr/>
          <p:nvPr/>
        </p:nvSpPr>
        <p:spPr>
          <a:xfrm flipV="1">
            <a:off x="3780000" y="3212640"/>
            <a:ext cx="151272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40"/>
          <p:cNvSpPr/>
          <p:nvPr/>
        </p:nvSpPr>
        <p:spPr>
          <a:xfrm flipV="1">
            <a:off x="3851280" y="4076280"/>
            <a:ext cx="1512720" cy="151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41"/>
          <p:cNvSpPr/>
          <p:nvPr/>
        </p:nvSpPr>
        <p:spPr>
          <a:xfrm flipV="1">
            <a:off x="3851280" y="5589720"/>
            <a:ext cx="1441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24"/>
          <p:cNvSpPr/>
          <p:nvPr/>
        </p:nvSpPr>
        <p:spPr>
          <a:xfrm>
            <a:off x="1928880" y="214200"/>
            <a:ext cx="70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бери пословицу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оброта-это внимание и забота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2" descr="C:\Users\Admin\Desktop\5b004dc9-f926-4080-951a-c692c8bf3324.jpg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6" name="Очень трогательное видео о доброте!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https://fsd.multiurok.ru/html/2017/02/26/s_58b2a14080e39/img_s573202_1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ttps://avatars.mds.yandex.net/get-zen_doc/148075/pub_5b3099f10ef18000a901612b_5b30b8045230a200a97f194b/scale_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5052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расота до вечера, </a:t>
            </a: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а доброта наве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0" name="Picture 2" descr="C:\Users\Admin\Desktop\i.jpg"/>
          <p:cNvPicPr/>
          <p:nvPr/>
        </p:nvPicPr>
        <p:blipFill>
          <a:blip r:embed="rId1"/>
          <a:stretch/>
        </p:blipFill>
        <p:spPr>
          <a:xfrm>
            <a:off x="306360" y="1500120"/>
            <a:ext cx="8442360" cy="5041800"/>
          </a:xfrm>
          <a:prstGeom prst="rect">
            <a:avLst/>
          </a:prstGeom>
          <a:ln w="0">
            <a:noFill/>
          </a:ln>
        </p:spPr>
      </p:pic>
      <p:pic>
        <p:nvPicPr>
          <p:cNvPr id="391" name="Из мультфильмов - Песня Фунтика (minus).mp3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1598760" cy="1598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45579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Поговорим  о доброте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95280" y="3143160"/>
            <a:ext cx="8391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61869107_image"/>
          <p:cNvPicPr/>
          <p:nvPr/>
        </p:nvPicPr>
        <p:blipFill>
          <a:blip r:embed="rId1"/>
          <a:stretch/>
        </p:blipFill>
        <p:spPr>
          <a:xfrm>
            <a:off x="395280" y="692280"/>
            <a:ext cx="3586320" cy="5329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93" name="Содержимое 6" descr="7396923b14f6t"/>
          <p:cNvPicPr/>
          <p:nvPr/>
        </p:nvPicPr>
        <p:blipFill>
          <a:blip r:embed="rId2"/>
          <a:srcRect l="2053" t="0" r="0" b="18304"/>
          <a:stretch/>
        </p:blipFill>
        <p:spPr>
          <a:xfrm>
            <a:off x="4643280" y="1052640"/>
            <a:ext cx="4105440" cy="54007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Аленький_цветоче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06931a7274bd"/>
          <p:cNvPicPr/>
          <p:nvPr/>
        </p:nvPicPr>
        <p:blipFill>
          <a:blip r:embed="rId1"/>
          <a:stretch/>
        </p:blipFill>
        <p:spPr>
          <a:xfrm>
            <a:off x="395280" y="476280"/>
            <a:ext cx="3889440" cy="5126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96" name="Picture 4" descr="i0002404_1"/>
          <p:cNvPicPr/>
          <p:nvPr/>
        </p:nvPicPr>
        <p:blipFill>
          <a:blip r:embed="rId2"/>
          <a:stretch/>
        </p:blipFill>
        <p:spPr>
          <a:xfrm>
            <a:off x="4510080" y="1341360"/>
            <a:ext cx="4238640" cy="5237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5ba763ca1cf5f52590916352e110ac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i"/>
          <p:cNvPicPr/>
          <p:nvPr/>
        </p:nvPicPr>
        <p:blipFill>
          <a:blip r:embed="rId1"/>
          <a:stretch/>
        </p:blipFill>
        <p:spPr>
          <a:xfrm>
            <a:off x="539640" y="404640"/>
            <a:ext cx="4622760" cy="3529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99" name="Picture 4" descr="tmp_04"/>
          <p:cNvPicPr/>
          <p:nvPr/>
        </p:nvPicPr>
        <p:blipFill>
          <a:blip r:embed="rId2"/>
          <a:stretch/>
        </p:blipFill>
        <p:spPr>
          <a:xfrm>
            <a:off x="4572000" y="1197000"/>
            <a:ext cx="4032360" cy="5327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7396923b14f6t"/>
          <p:cNvPicPr/>
          <p:nvPr/>
        </p:nvPicPr>
        <p:blipFill>
          <a:blip r:embed="rId1"/>
          <a:srcRect l="0" t="0" r="0" b="5277"/>
          <a:stretch/>
        </p:blipFill>
        <p:spPr>
          <a:xfrm>
            <a:off x="395280" y="333360"/>
            <a:ext cx="4052880" cy="5399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01" name="Picture 4" descr="26867"/>
          <p:cNvPicPr/>
          <p:nvPr/>
        </p:nvPicPr>
        <p:blipFill>
          <a:blip r:embed="rId2"/>
          <a:stretch/>
        </p:blipFill>
        <p:spPr>
          <a:xfrm>
            <a:off x="4716360" y="1268280"/>
            <a:ext cx="3888000" cy="5113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6058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гра « Добрый или злой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3" name="Рисунок 10" descr="http://img.espicture.ru/7/kartinki-skazoychnyih-geroev-2.jpg"/>
          <p:cNvPicPr/>
          <p:nvPr/>
        </p:nvPicPr>
        <p:blipFill>
          <a:blip r:embed="rId1"/>
          <a:stretch/>
        </p:blipFill>
        <p:spPr>
          <a:xfrm>
            <a:off x="2286000" y="1214280"/>
            <a:ext cx="2357280" cy="22989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1" descr="http://nattik.ru/wp-content/uploads/2010/02/krasnaya_shapka_flanelegraf.jpg"/>
          <p:cNvPicPr/>
          <p:nvPr/>
        </p:nvPicPr>
        <p:blipFill>
          <a:blip r:embed="rId2"/>
          <a:stretch/>
        </p:blipFill>
        <p:spPr>
          <a:xfrm>
            <a:off x="357120" y="1214280"/>
            <a:ext cx="1776600" cy="2357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2" descr="http://www.coollady.ru/puc/5/GS/04_1.jpg"/>
          <p:cNvPicPr/>
          <p:nvPr/>
        </p:nvPicPr>
        <p:blipFill>
          <a:blip r:embed="rId3"/>
          <a:stretch/>
        </p:blipFill>
        <p:spPr>
          <a:xfrm>
            <a:off x="500040" y="3786120"/>
            <a:ext cx="1857240" cy="2871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izuminki.com/images/est-li-svyaz-mezhdu-skazkoj-buratino-i-vashimi-doxodami/3.jpg"/>
          <p:cNvPicPr/>
          <p:nvPr/>
        </p:nvPicPr>
        <p:blipFill>
          <a:blip r:embed="rId4"/>
          <a:stretch/>
        </p:blipFill>
        <p:spPr>
          <a:xfrm>
            <a:off x="6643800" y="4000680"/>
            <a:ext cx="2022480" cy="2601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http://festival.1september.ru/articles/412374/img7.jpg"/>
          <p:cNvPicPr/>
          <p:nvPr/>
        </p:nvPicPr>
        <p:blipFill>
          <a:blip r:embed="rId5"/>
          <a:stretch/>
        </p:blipFill>
        <p:spPr>
          <a:xfrm>
            <a:off x="6858000" y="1214280"/>
            <a:ext cx="2128680" cy="2668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2" descr="http://static.diary.ru/userdir/3/7/3/8/373884/16351687.jpg"/>
          <p:cNvPicPr/>
          <p:nvPr/>
        </p:nvPicPr>
        <p:blipFill>
          <a:blip r:embed="rId6"/>
          <a:stretch/>
        </p:blipFill>
        <p:spPr>
          <a:xfrm>
            <a:off x="4929120" y="1214280"/>
            <a:ext cx="1771560" cy="3021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4" descr="http://s019.radikal.ru/i617/1203/6b/1116531cb826.jpg"/>
          <p:cNvPicPr/>
          <p:nvPr/>
        </p:nvPicPr>
        <p:blipFill>
          <a:blip r:embed="rId7"/>
          <a:stretch/>
        </p:blipFill>
        <p:spPr>
          <a:xfrm>
            <a:off x="2786040" y="4071960"/>
            <a:ext cx="3527280" cy="2550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Admin\Desktop\121793974_hDemqgz3F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6227640" y="1413000"/>
            <a:ext cx="20732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Юрий Чичков - Волшебный цветок (minus).mp3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136656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61385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5" descr="https://basik.ru/images/donald_zolan/29_donald_zol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https://www.culture.ru/storage/images/7fd2c3c70cf6455d1ec2f74a26c20230/1e3af1be4d966a97bb1725b5341246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17 ФЕВРАЛЯ – ВСЕМИРНЫЙ ДЕНЬ СПОНТАННОГО ПРОЯВЛЕНИЯ ДОБРОТ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500280" y="1785600"/>
            <a:ext cx="55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айте поклоняться добро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айте с думой жить о добро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я в голубой и звездной красо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добра. Она дарит нас хлеб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ой водой и деревом в цве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этим вечно неспокойным неб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айте воевать за доброт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.Чепур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Содержимое 3" descr="4962380_2512313df150e7139715a78 (367x360, 21Kb)"/>
          <p:cNvPicPr/>
          <p:nvPr/>
        </p:nvPicPr>
        <p:blipFill>
          <a:blip r:embed="rId1"/>
          <a:stretch/>
        </p:blipFill>
        <p:spPr>
          <a:xfrm>
            <a:off x="214200" y="3429000"/>
            <a:ext cx="321480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https://avatars.mds.yandex.net/get-pdb/38069/c8b8a729-6e14-4c54-bb1f-ec11c9d1aec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1" name="Песня о доброте (Футтик)+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0" dur="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ЕШИТЕ ДЕЛАТЬ ДОБР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000160" y="1214280"/>
            <a:ext cx="6786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забывайте подарить добр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ям, родственнику, друг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о, как истинное волшебств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гда вернется к вам по к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Рисунок 4" descr="http://cs323718.userapi.com/v323718480/2b48/BJLPrBmswgY.jpg"/>
          <p:cNvPicPr/>
          <p:nvPr/>
        </p:nvPicPr>
        <p:blipFill>
          <a:blip r:embed="rId1"/>
          <a:stretch/>
        </p:blipFill>
        <p:spPr>
          <a:xfrm>
            <a:off x="2143080" y="3429000"/>
            <a:ext cx="500076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мятник Добр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213920"/>
            <a:ext cx="82580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ая Академия Доброты устанавливает по всему миру памятники-символы Доброты «Одуванчики». Там, где доброта – там нет границ. Где нет границ начинается понимание и любовь между людь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000400" y="2500200"/>
            <a:ext cx="368604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Одуванчик»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отражение хрупкости, также как и понятие Доброты, Любви, Дружбы. Идея памятника состоит в том, что каждая тычинка одуванчика - это раскрытая в приветствии ладошка, в центре которой глаз, как символ открытого сердца. И листья одуванчика как губы, на одну из которых приземлилась тычинка в образе ладо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Рисунок 7" descr="В Севастополе установили памятник доброты"/>
          <p:cNvPicPr/>
          <p:nvPr/>
        </p:nvPicPr>
        <p:blipFill>
          <a:blip r:embed="rId1"/>
          <a:stretch/>
        </p:blipFill>
        <p:spPr>
          <a:xfrm>
            <a:off x="108000" y="2276640"/>
            <a:ext cx="2678040" cy="440532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8" descr="http://sevastopol.su/images/uploads/1(164).jpg"/>
          <p:cNvPicPr/>
          <p:nvPr/>
        </p:nvPicPr>
        <p:blipFill>
          <a:blip r:embed="rId2"/>
          <a:stretch/>
        </p:blipFill>
        <p:spPr>
          <a:xfrm>
            <a:off x="2268360" y="2997360"/>
            <a:ext cx="273528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БР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143000"/>
            <a:ext cx="8258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отзывчив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евное расположение к людя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ление делать добро друг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2920" y="5285880"/>
            <a:ext cx="885816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стоящая доброта рожда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глубине твоего сердца и начинается с тебя сам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Рисунок 23" descr="http://scienceblog.ru/wp-content/uploads/d184d0bed182d0be-d0b5d0b6d0b8d0ba-d0b4d0bed0b1d180d0bed182d0b0-d183d0b4d0b0d0bbd191d0bdd0bdd0bed0b5-275389.jpeg"/>
          <p:cNvPicPr/>
          <p:nvPr/>
        </p:nvPicPr>
        <p:blipFill>
          <a:blip r:embed="rId1"/>
          <a:stretch/>
        </p:blipFill>
        <p:spPr>
          <a:xfrm>
            <a:off x="2643120" y="2571840"/>
            <a:ext cx="3786120" cy="2633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чества доброго человека по С. Ожегову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214360" y="1600200"/>
            <a:ext cx="67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уш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елатель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рав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рядоч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ердеч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ест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Users\Admin\Desktop\img1.jpg"/>
          <p:cNvPicPr/>
          <p:nvPr/>
        </p:nvPicPr>
        <p:blipFill>
          <a:blip r:embed="rId1"/>
          <a:stretch/>
        </p:blipFill>
        <p:spPr>
          <a:xfrm>
            <a:off x="476280" y="357120"/>
            <a:ext cx="7905600" cy="5929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6840" y="1357200"/>
            <a:ext cx="82580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это тот, к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юбит людей и помогает и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юбит природу и сохраняет её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юбит животных и защищает 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являет к ним милосерд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000760" y="1357200"/>
            <a:ext cx="3929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 flipV="1" rot="10800000">
            <a:off x="214200" y="5952960"/>
            <a:ext cx="87868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Рисунок 8" descr="http://pozdravish.ru/wp-content/uploads/2011/01/dobrota.png"/>
          <p:cNvPicPr/>
          <p:nvPr/>
        </p:nvPicPr>
        <p:blipFill>
          <a:blip r:embed="rId2"/>
          <a:stretch/>
        </p:blipFill>
        <p:spPr>
          <a:xfrm>
            <a:off x="357120" y="4000680"/>
            <a:ext cx="2286000" cy="252540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9" descr="птиы (500x409, 30Kb)"/>
          <p:cNvPicPr/>
          <p:nvPr/>
        </p:nvPicPr>
        <p:blipFill>
          <a:blip r:embed="rId3"/>
          <a:stretch/>
        </p:blipFill>
        <p:spPr>
          <a:xfrm>
            <a:off x="2786040" y="4286160"/>
            <a:ext cx="285768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0" descr="http://magicforce.ru/wp-content/uploads/2013/02/dobro_4.jpg"/>
          <p:cNvPicPr/>
          <p:nvPr/>
        </p:nvPicPr>
        <p:blipFill>
          <a:blip r:embed="rId4"/>
          <a:stretch/>
        </p:blipFill>
        <p:spPr>
          <a:xfrm>
            <a:off x="5786280" y="4000680"/>
            <a:ext cx="3071880" cy="2504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оброта -это делать друг другу приятное и всем делиться 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Admin\Desktop\image1561.jpg"/>
          <p:cNvPicPr/>
          <p:nvPr/>
        </p:nvPicPr>
        <p:blipFill>
          <a:blip r:embed="rId1"/>
          <a:stretch/>
        </p:blipFill>
        <p:spPr>
          <a:xfrm>
            <a:off x="428760" y="1508040"/>
            <a:ext cx="8429400" cy="5349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09:14:50Z</dcterms:created>
  <dc:creator>Наталья Викторовна</dc:creator>
  <dc:description/>
  <dc:language>en-US</dc:language>
  <cp:lastModifiedBy>Mobile Tutor</cp:lastModifiedBy>
  <dcterms:modified xsi:type="dcterms:W3CDTF">2020-03-12T04:38:59Z</dcterms:modified>
  <cp:revision>104</cp:revision>
  <dc:subject/>
  <dc:title>Поговорим  о доброте</dc:title>
</cp:coreProperties>
</file>