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9E2-1FFD-4D71-B8C5-C8B240E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DB5-33E8-488A-925F-F4C3042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090-98C8-42B4-8648-ACC29D2C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243-C8DD-471F-93F1-4CC2F144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192-2159-499C-9CAE-96FF7E0D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48B-0C94-476F-B384-B081BA76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2E3-BAFE-4D0F-BF34-B198D19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4D3-24CC-4583-802A-FEE25EF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37B-285C-440B-9F75-5B05ABA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E50-0E13-47EE-A9B3-B211C86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0C1-1359-4CDF-A4CA-D86A75A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AAB-466A-4C88-B3F9-07FBB26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827-C2AC-4B05-9306-9E23AEACC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Числительны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ичественные числительные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обозначают количество предмето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, 13, 30, 12, 20, 11, 15, 50, 55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3, 62, 46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,101,112, 203, 330, 546, 678, 765, 893, 94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0, 14, 31, 42, 53, 64, 78, 82, 96, 79, 54, 16, 23, 3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6, 52, 158, 202, 408, 17,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бразование количественных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числительных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1 до 12 не имеют специальных окончани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2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3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7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ve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9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0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1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lev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12 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e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канчиваются н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tee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4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6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7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8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igh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9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nete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, обозначающие десятки, оканчивают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thi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fo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fif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ix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ev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eigh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nine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Составные числительные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-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ty-two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составных числительных перед десятками (а если их нет, то перед единицами) ставится союз 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hundred and seventy-f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e hundred and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600200"/>
          <a:ext cx="6096240" cy="3886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12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828800"/>
          <a:ext cx="6095880" cy="3733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12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