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957D-84EC-4F14-904A-FC728A7BA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EC71-58F9-484D-83A5-A580CDCD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7AE-4EF6-4A8F-BE4A-650FA927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8F76-7A80-45AB-8B0A-07AE39E9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C61-EFB2-4C26-96C8-6FB5D4F9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B40-B63F-479D-810D-8A55872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204-BB41-4BD2-8FE7-AD7A143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176F-F604-4FED-AFE8-2FEA6E2C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97B-1CD1-4C84-B56E-E26CBD63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C1B8-2E20-43E5-8CFD-899FD07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78B7-02C2-4918-8D43-702762BB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2F99-869E-4BDC-8E0A-B36FE68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9AA5-F688-4457-B5E3-9AF05F6CBA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Числительные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ичественные числительные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обозначают количество предметов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, 13, 30, 12, 20, 11, 15, 50, 55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3, 62, 46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,101,112, 203, 330, 546, 678, 765, 893, 946,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20, 14, 31, 42, 53, 64, 78, 82, 96, 79, 54, 16, 23, 38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6, 52, 158, 202, 408, 17,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бразование количественных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числительных</a:t>
            </a:r>
            <a:br>
              <a:rPr sz="36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1 до 12 не имеют специальных окончаний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2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3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4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5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i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7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ve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9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0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11 –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lev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12 -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we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 от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3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д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9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канчиваются н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–teen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4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if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6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xte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7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ven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8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ighte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19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nete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Количественные числительные, обозначающие десятки, оканчиваются 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y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thi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for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fif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ix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seven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– eighty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– nine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Составные числительные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1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enty-on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rty-two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составных числительных перед десятками (а если их нет, то перед единицами) ставится союз «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»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wo hundred and seventy-f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05 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ee hundred and 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3880" y="1600200"/>
          <a:ext cx="6096240" cy="38862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523880" y="1397160"/>
          <a:ext cx="6096240" cy="4012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200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7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76520" y="1828800"/>
          <a:ext cx="6095880" cy="373392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8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3880" y="1397160"/>
          <a:ext cx="6096240" cy="45720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9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12:1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