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2AD-41F0-453D-A538-E85B87EC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31E-DB21-4505-91E0-251B4754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D6A-DA31-445B-9040-1E7675C7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729-50F9-4250-A117-4BF643A1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39E-5877-44A5-9569-94C13564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E1F-9764-4A4C-B9E3-1EFC4119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9DC-375E-4169-81E7-F9B02F32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392-7E8D-4D73-96ED-24E40F33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0C9-B1ED-443B-84DE-698840D2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2A6-2047-416A-BD55-C068396A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4D7-C2F5-406A-805E-FA36397E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C50-5843-4FD9-9248-1C19751B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60BC-9A4B-42D0-8397-A597D0095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Числительны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ичественные числительные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обозначают количество предметов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, 13, 30, 12, 20, 11, 15, 50, 55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3, 62, 46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,101,112, 203, 330, 546, 678, 765, 893, 946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0, 14, 31, 42, 53, 64, 78, 82, 96, 79, 54, 16, 23, 38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6, 52, 158, 202, 408, 17,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Образование количественных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числительных</a:t>
            </a:r>
            <a:br>
              <a:rPr sz="36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личественные числительные от 1 до 12 не имеют специальных окончаний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2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w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3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4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5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7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ve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9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0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11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lev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12 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we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личественные числительные о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д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9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канчиваются н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–tee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14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6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17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18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igh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19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inete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личественные числительные, обозначающие десятки, оканчиваются 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en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– thir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– for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fif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six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seven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eigh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– ninet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Составные числительные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enty-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rty-two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составных числительных перед десятками (а если их нет, то перед единицами) ставится союз «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5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 hundred and seventy-f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5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ee hundred and 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3880" y="1600200"/>
          <a:ext cx="6096240" cy="38862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129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76520" y="1828800"/>
          <a:ext cx="6095880" cy="37339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572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4-01-05T10:12:1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