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D172-20DE-4843-82A5-38B127C1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528-FBF8-4771-A0F0-AB477A1C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4D6-35DA-495A-806D-21B8F46B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B08-E4F9-44D8-9DF5-81FC7573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4E42-F77E-4E24-BAE5-4C3E4F6A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901E-DA4A-4446-882F-84B67165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09D3-5292-466D-9E43-4E3F8D38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3BAA-7412-464C-9CC0-FE5B57E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482C-CEA4-4B0F-B3EA-A4A3A556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3ED3-279B-495D-97CD-8A76DDCC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1BB6-78A9-46D4-BB87-FDE07FE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5B2-EC16-4C14-9F19-637EFD0A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1C5E-D758-4629-A4A8-8D40B8DD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2508-0667-4825-8FD6-34A7C17C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9870-D81B-4EBA-9684-9CCD2965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0DD62-A598-4C28-B2CE-04DD3022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99C0-9CEA-4788-BDC0-E93E6C01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901F-6AF6-4AC3-AAB3-79BEEBC8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EACE-2AD1-4867-9929-B6E2C203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E681-29B7-43EC-9A78-5429BE24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CF8BF-4F93-4C40-86DE-355EE8B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07143-EC46-4EF1-B2BA-D4FEFB8AC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B35-F967-4A38-B91D-99398D4C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4BDC6-2572-48CF-BA05-1C662854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8370-AA76-4FBB-B250-601FB41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3B20-C465-4DAF-8D2B-C7F53B8D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501D7-89B9-40AE-B8CD-4CFE735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FC19C-E6C1-4401-9818-15271C78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9B17B-CD95-489B-B0DB-C989DFFC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216D7-C8AF-48FE-BF3B-2870DF27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50C7-80A2-4C6A-A351-DE9B2574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C556-B505-4A65-9724-15845780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FE39B-E16C-47AD-B713-DFA3276A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C578-A4C8-4132-A1A2-495B0AAA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CB0E-82EB-4053-9C08-01C45AAE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7DE0B-DE81-4E14-A86A-2484095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6CE62-7F59-4C56-BBEC-95DD20E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10E1-B887-40FC-9DAB-E7E3738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9E496-74BA-4897-8100-9C37E3D1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F6BBC-E4A5-4FEB-B35C-C571260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060B-863B-4511-8C60-121EDBD6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D28B-F36D-4A7B-AD9F-B5443EF3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93381-0F40-4D00-B8A8-26184041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9C1-EF15-4EB5-BAE5-D32625CF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B0CF-6F7D-4FB7-BE0B-33D9D70E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2D9-9C85-4BD6-969D-2DFB793B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4BC-123B-49FF-A720-18F2551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B60D-91F6-4C2D-8F0D-BDF77619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490F-187F-4C10-9794-FAEE3B769E2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B363-DDFA-4CF7-892A-BFE2A58291D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01A8-8EAF-4E9C-9730-7120C7C7B0B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A0AD-C089-4895-B8A3-1F44922A7CD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Теорема Пифагор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7480" y="3933360"/>
            <a:ext cx="36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ель математи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АОУ СОШ №37 им. П. И. Еременко станица Старомышастовская, Краснодарского кр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нышева И.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9400" y="177300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 с гипотенузой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, то по теореме Пифагора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+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D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-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D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CE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√ 5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-3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=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4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AutoShape 9"/>
          <p:cNvSpPr/>
          <p:nvPr/>
        </p:nvSpPr>
        <p:spPr>
          <a:xfrm rot="7465200">
            <a:off x="1252440" y="2293920"/>
            <a:ext cx="2203200" cy="32544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18108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26072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14180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2341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75744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2989080" y="2637000"/>
            <a:ext cx="3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6434280" y="4371840"/>
            <a:ext cx="1738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9"/>
          <p:cNvSpPr/>
          <p:nvPr/>
        </p:nvSpPr>
        <p:spPr>
          <a:xfrm>
            <a:off x="6516720" y="486900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Задача  по сложн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06440" y="1752480"/>
            <a:ext cx="45608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Решение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вписан в окружность и опирается на диаметр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то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&lt;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й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Значит  </a:t>
            </a:r>
            <a:r>
              <a:rPr b="0" lang="el-GR" sz="18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- прямоугольный с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По теореме Пифагора находи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=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 √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M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 =√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+1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"/>
              </a:rPr>
              <a:t>KL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=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Ответ: 1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Oval 8"/>
          <p:cNvSpPr/>
          <p:nvPr/>
        </p:nvSpPr>
        <p:spPr>
          <a:xfrm>
            <a:off x="826920" y="1773360"/>
            <a:ext cx="2808360" cy="27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5688000">
            <a:off x="1249920" y="2162880"/>
            <a:ext cx="1981080" cy="192240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2268360" y="3068640"/>
            <a:ext cx="73080" cy="763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901800" y="39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3203640" y="20606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117800" y="17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269800" y="29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973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053080" y="177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3"/>
          <p:cNvSpPr/>
          <p:nvPr/>
        </p:nvSpPr>
        <p:spPr>
          <a:xfrm>
            <a:off x="6227640" y="47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6156360" y="50846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cc"/>
                </a:solidFill>
                <a:latin typeface="Verdana"/>
              </a:rPr>
              <a:t>Высота, опущенная из вершины прямого угла В </a:t>
            </a:r>
            <a:r>
              <a:rPr b="0" lang="el-GR" sz="1900" spc="-1" strike="noStrike">
                <a:solidFill>
                  <a:srgbClr val="0000cc"/>
                </a:solidFill>
                <a:latin typeface="Verdana"/>
                <a:ea typeface="Arial"/>
              </a:rPr>
              <a:t>Δ</a:t>
            </a:r>
            <a:r>
              <a:rPr b="0" lang="en-US" sz="1900" spc="-1" strike="noStrike">
                <a:solidFill>
                  <a:srgbClr val="0000cc"/>
                </a:solidFill>
                <a:latin typeface="Verdana"/>
                <a:ea typeface="Arial"/>
              </a:rPr>
              <a:t>ABC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Arial"/>
              </a:rPr>
              <a:t>, делит сторону АС на отрезки, равные 16см и 9см. Найдите сторону ВС, если сторона АВ равна 20с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0" y="1699920"/>
            <a:ext cx="3921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о условию АС  В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 следовательно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B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А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– прямоугольные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По теореме Пифагора из </a:t>
            </a: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А находим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200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6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=14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B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=12 с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вет 15с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AutoShape 6"/>
          <p:cNvSpPr/>
          <p:nvPr/>
        </p:nvSpPr>
        <p:spPr>
          <a:xfrm rot="7124400">
            <a:off x="1618560" y="2420640"/>
            <a:ext cx="1584360" cy="287964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7"/>
          <p:cNvSpPr/>
          <p:nvPr/>
        </p:nvSpPr>
        <p:spPr>
          <a:xfrm>
            <a:off x="1547640" y="2492280"/>
            <a:ext cx="7164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781440" y="386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40508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47016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1478160" y="386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2197800" y="3860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3"/>
          <p:cNvSpPr/>
          <p:nvPr/>
        </p:nvSpPr>
        <p:spPr>
          <a:xfrm>
            <a:off x="829080" y="3860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 rot="1861800">
            <a:off x="2270160" y="270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7093080" y="1989000"/>
            <a:ext cx="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7020000" y="2276640"/>
            <a:ext cx="14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395280" y="4292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о теореме Пифагора из треугольника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м В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²+12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²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1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Задача индийского математика </a:t>
            </a: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XII</a:t>
            </a: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века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Verdana"/>
              </a:rPr>
              <a:t> Бхаска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1332000" y="2781360"/>
            <a:ext cx="71280" cy="287964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5"/>
          <p:cNvSpPr/>
          <p:nvPr/>
        </p:nvSpPr>
        <p:spPr>
          <a:xfrm>
            <a:off x="880920" y="1469880"/>
            <a:ext cx="1060560" cy="2909880"/>
          </a:xfrm>
          <a:custGeom>
            <a:avLst/>
            <a:gdLst>
              <a:gd name="textAreaLeft" fmla="*/ 0 w 1060560"/>
              <a:gd name="textAreaRight" fmla="*/ 1060920 w 10605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668" h="1833">
                <a:moveTo>
                  <a:pt x="282" y="1810"/>
                </a:moveTo>
                <a:cubicBezTo>
                  <a:pt x="250" y="1802"/>
                  <a:pt x="239" y="1787"/>
                  <a:pt x="213" y="1769"/>
                </a:cubicBezTo>
                <a:cubicBezTo>
                  <a:pt x="194" y="1740"/>
                  <a:pt x="168" y="1736"/>
                  <a:pt x="138" y="1721"/>
                </a:cubicBezTo>
                <a:cubicBezTo>
                  <a:pt x="106" y="1705"/>
                  <a:pt x="81" y="1674"/>
                  <a:pt x="62" y="1645"/>
                </a:cubicBezTo>
                <a:cubicBezTo>
                  <a:pt x="64" y="1618"/>
                  <a:pt x="64" y="1590"/>
                  <a:pt x="69" y="1563"/>
                </a:cubicBezTo>
                <a:cubicBezTo>
                  <a:pt x="71" y="1549"/>
                  <a:pt x="78" y="1536"/>
                  <a:pt x="83" y="1522"/>
                </a:cubicBezTo>
                <a:cubicBezTo>
                  <a:pt x="85" y="1515"/>
                  <a:pt x="90" y="1501"/>
                  <a:pt x="90" y="1501"/>
                </a:cubicBezTo>
                <a:cubicBezTo>
                  <a:pt x="87" y="1433"/>
                  <a:pt x="101" y="1329"/>
                  <a:pt x="35" y="1282"/>
                </a:cubicBezTo>
                <a:cubicBezTo>
                  <a:pt x="25" y="1252"/>
                  <a:pt x="10" y="1229"/>
                  <a:pt x="0" y="1200"/>
                </a:cubicBezTo>
                <a:cubicBezTo>
                  <a:pt x="16" y="1109"/>
                  <a:pt x="28" y="1021"/>
                  <a:pt x="96" y="953"/>
                </a:cubicBezTo>
                <a:cubicBezTo>
                  <a:pt x="105" y="925"/>
                  <a:pt x="117" y="912"/>
                  <a:pt x="138" y="891"/>
                </a:cubicBezTo>
                <a:cubicBezTo>
                  <a:pt x="145" y="868"/>
                  <a:pt x="157" y="852"/>
                  <a:pt x="165" y="829"/>
                </a:cubicBezTo>
                <a:cubicBezTo>
                  <a:pt x="184" y="701"/>
                  <a:pt x="168" y="822"/>
                  <a:pt x="179" y="555"/>
                </a:cubicBezTo>
                <a:cubicBezTo>
                  <a:pt x="182" y="488"/>
                  <a:pt x="172" y="405"/>
                  <a:pt x="234" y="363"/>
                </a:cubicBezTo>
                <a:cubicBezTo>
                  <a:pt x="245" y="327"/>
                  <a:pt x="237" y="347"/>
                  <a:pt x="268" y="301"/>
                </a:cubicBezTo>
                <a:cubicBezTo>
                  <a:pt x="273" y="294"/>
                  <a:pt x="282" y="281"/>
                  <a:pt x="282" y="281"/>
                </a:cubicBezTo>
                <a:cubicBezTo>
                  <a:pt x="288" y="258"/>
                  <a:pt x="316" y="219"/>
                  <a:pt x="316" y="219"/>
                </a:cubicBezTo>
                <a:cubicBezTo>
                  <a:pt x="321" y="132"/>
                  <a:pt x="330" y="79"/>
                  <a:pt x="343" y="0"/>
                </a:cubicBezTo>
                <a:cubicBezTo>
                  <a:pt x="347" y="12"/>
                  <a:pt x="356" y="36"/>
                  <a:pt x="357" y="48"/>
                </a:cubicBezTo>
                <a:cubicBezTo>
                  <a:pt x="361" y="123"/>
                  <a:pt x="361" y="199"/>
                  <a:pt x="364" y="274"/>
                </a:cubicBezTo>
                <a:cubicBezTo>
                  <a:pt x="368" y="359"/>
                  <a:pt x="385" y="402"/>
                  <a:pt x="405" y="480"/>
                </a:cubicBezTo>
                <a:cubicBezTo>
                  <a:pt x="419" y="536"/>
                  <a:pt x="417" y="570"/>
                  <a:pt x="480" y="589"/>
                </a:cubicBezTo>
                <a:cubicBezTo>
                  <a:pt x="512" y="621"/>
                  <a:pt x="557" y="630"/>
                  <a:pt x="590" y="665"/>
                </a:cubicBezTo>
                <a:cubicBezTo>
                  <a:pt x="608" y="717"/>
                  <a:pt x="581" y="648"/>
                  <a:pt x="618" y="706"/>
                </a:cubicBezTo>
                <a:cubicBezTo>
                  <a:pt x="626" y="718"/>
                  <a:pt x="626" y="733"/>
                  <a:pt x="631" y="747"/>
                </a:cubicBezTo>
                <a:cubicBezTo>
                  <a:pt x="626" y="865"/>
                  <a:pt x="639" y="923"/>
                  <a:pt x="576" y="1008"/>
                </a:cubicBezTo>
                <a:cubicBezTo>
                  <a:pt x="551" y="1092"/>
                  <a:pt x="570" y="1227"/>
                  <a:pt x="624" y="1303"/>
                </a:cubicBezTo>
                <a:cubicBezTo>
                  <a:pt x="635" y="1335"/>
                  <a:pt x="641" y="1358"/>
                  <a:pt x="659" y="1385"/>
                </a:cubicBezTo>
                <a:cubicBezTo>
                  <a:pt x="654" y="1507"/>
                  <a:pt x="668" y="1561"/>
                  <a:pt x="590" y="1639"/>
                </a:cubicBezTo>
                <a:cubicBezTo>
                  <a:pt x="582" y="1661"/>
                  <a:pt x="511" y="1781"/>
                  <a:pt x="474" y="1783"/>
                </a:cubicBezTo>
                <a:cubicBezTo>
                  <a:pt x="433" y="1785"/>
                  <a:pt x="391" y="1787"/>
                  <a:pt x="350" y="1789"/>
                </a:cubicBezTo>
                <a:cubicBezTo>
                  <a:pt x="307" y="1819"/>
                  <a:pt x="338" y="1833"/>
                  <a:pt x="282" y="181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2195640" y="4581360"/>
            <a:ext cx="2382840" cy="1719360"/>
          </a:xfrm>
          <a:custGeom>
            <a:avLst/>
            <a:gdLst>
              <a:gd name="textAreaLeft" fmla="*/ 0 w 2382840"/>
              <a:gd name="textAreaRight" fmla="*/ 2383200 w 2382840"/>
              <a:gd name="textAreaTop" fmla="*/ 0 h 1719360"/>
              <a:gd name="textAreaBottom" fmla="*/ 1719720 h 1719360"/>
            </a:gdLst>
            <a:ahLst/>
            <a:rect l="textAreaLeft" t="textAreaTop" r="textAreaRight" b="textAreaBottom"/>
            <a:pathLst>
              <a:path w="1501" h="1083">
                <a:moveTo>
                  <a:pt x="308" y="267"/>
                </a:moveTo>
                <a:cubicBezTo>
                  <a:pt x="328" y="209"/>
                  <a:pt x="389" y="185"/>
                  <a:pt x="445" y="171"/>
                </a:cubicBezTo>
                <a:cubicBezTo>
                  <a:pt x="476" y="149"/>
                  <a:pt x="511" y="126"/>
                  <a:pt x="548" y="116"/>
                </a:cubicBezTo>
                <a:cubicBezTo>
                  <a:pt x="557" y="109"/>
                  <a:pt x="568" y="104"/>
                  <a:pt x="576" y="96"/>
                </a:cubicBezTo>
                <a:cubicBezTo>
                  <a:pt x="582" y="90"/>
                  <a:pt x="582" y="80"/>
                  <a:pt x="589" y="75"/>
                </a:cubicBezTo>
                <a:cubicBezTo>
                  <a:pt x="619" y="54"/>
                  <a:pt x="662" y="65"/>
                  <a:pt x="699" y="62"/>
                </a:cubicBezTo>
                <a:cubicBezTo>
                  <a:pt x="742" y="55"/>
                  <a:pt x="765" y="38"/>
                  <a:pt x="802" y="20"/>
                </a:cubicBezTo>
                <a:cubicBezTo>
                  <a:pt x="822" y="10"/>
                  <a:pt x="864" y="0"/>
                  <a:pt x="864" y="0"/>
                </a:cubicBezTo>
                <a:cubicBezTo>
                  <a:pt x="946" y="5"/>
                  <a:pt x="965" y="6"/>
                  <a:pt x="1028" y="20"/>
                </a:cubicBezTo>
                <a:cubicBezTo>
                  <a:pt x="1041" y="29"/>
                  <a:pt x="1056" y="32"/>
                  <a:pt x="1069" y="41"/>
                </a:cubicBezTo>
                <a:cubicBezTo>
                  <a:pt x="1141" y="90"/>
                  <a:pt x="1037" y="36"/>
                  <a:pt x="1117" y="75"/>
                </a:cubicBezTo>
                <a:cubicBezTo>
                  <a:pt x="1133" y="99"/>
                  <a:pt x="1134" y="113"/>
                  <a:pt x="1158" y="130"/>
                </a:cubicBezTo>
                <a:cubicBezTo>
                  <a:pt x="1160" y="137"/>
                  <a:pt x="1162" y="144"/>
                  <a:pt x="1165" y="151"/>
                </a:cubicBezTo>
                <a:cubicBezTo>
                  <a:pt x="1169" y="158"/>
                  <a:pt x="1176" y="164"/>
                  <a:pt x="1179" y="171"/>
                </a:cubicBezTo>
                <a:cubicBezTo>
                  <a:pt x="1183" y="180"/>
                  <a:pt x="1181" y="191"/>
                  <a:pt x="1186" y="199"/>
                </a:cubicBezTo>
                <a:cubicBezTo>
                  <a:pt x="1191" y="207"/>
                  <a:pt x="1201" y="211"/>
                  <a:pt x="1206" y="219"/>
                </a:cubicBezTo>
                <a:cubicBezTo>
                  <a:pt x="1229" y="251"/>
                  <a:pt x="1240" y="287"/>
                  <a:pt x="1268" y="315"/>
                </a:cubicBezTo>
                <a:cubicBezTo>
                  <a:pt x="1290" y="379"/>
                  <a:pt x="1308" y="400"/>
                  <a:pt x="1344" y="459"/>
                </a:cubicBezTo>
                <a:cubicBezTo>
                  <a:pt x="1360" y="485"/>
                  <a:pt x="1370" y="506"/>
                  <a:pt x="1392" y="528"/>
                </a:cubicBezTo>
                <a:cubicBezTo>
                  <a:pt x="1410" y="566"/>
                  <a:pt x="1439" y="605"/>
                  <a:pt x="1453" y="644"/>
                </a:cubicBezTo>
                <a:cubicBezTo>
                  <a:pt x="1467" y="728"/>
                  <a:pt x="1479" y="815"/>
                  <a:pt x="1501" y="898"/>
                </a:cubicBezTo>
                <a:cubicBezTo>
                  <a:pt x="1499" y="923"/>
                  <a:pt x="1501" y="950"/>
                  <a:pt x="1494" y="974"/>
                </a:cubicBezTo>
                <a:cubicBezTo>
                  <a:pt x="1474" y="1041"/>
                  <a:pt x="1401" y="1061"/>
                  <a:pt x="1344" y="1083"/>
                </a:cubicBezTo>
                <a:cubicBezTo>
                  <a:pt x="1259" y="1081"/>
                  <a:pt x="1175" y="1082"/>
                  <a:pt x="1090" y="1076"/>
                </a:cubicBezTo>
                <a:cubicBezTo>
                  <a:pt x="1035" y="1072"/>
                  <a:pt x="1055" y="1063"/>
                  <a:pt x="1014" y="1049"/>
                </a:cubicBezTo>
                <a:cubicBezTo>
                  <a:pt x="961" y="1031"/>
                  <a:pt x="905" y="1010"/>
                  <a:pt x="850" y="1001"/>
                </a:cubicBezTo>
                <a:cubicBezTo>
                  <a:pt x="605" y="1005"/>
                  <a:pt x="467" y="1003"/>
                  <a:pt x="260" y="1022"/>
                </a:cubicBezTo>
                <a:cubicBezTo>
                  <a:pt x="203" y="1020"/>
                  <a:pt x="146" y="1021"/>
                  <a:pt x="89" y="1015"/>
                </a:cubicBezTo>
                <a:cubicBezTo>
                  <a:pt x="56" y="1012"/>
                  <a:pt x="31" y="988"/>
                  <a:pt x="0" y="980"/>
                </a:cubicBezTo>
                <a:cubicBezTo>
                  <a:pt x="23" y="973"/>
                  <a:pt x="45" y="966"/>
                  <a:pt x="68" y="960"/>
                </a:cubicBezTo>
                <a:cubicBezTo>
                  <a:pt x="78" y="931"/>
                  <a:pt x="93" y="908"/>
                  <a:pt x="102" y="878"/>
                </a:cubicBezTo>
                <a:cubicBezTo>
                  <a:pt x="97" y="809"/>
                  <a:pt x="90" y="786"/>
                  <a:pt x="75" y="727"/>
                </a:cubicBezTo>
                <a:cubicBezTo>
                  <a:pt x="79" y="628"/>
                  <a:pt x="71" y="589"/>
                  <a:pt x="96" y="514"/>
                </a:cubicBezTo>
                <a:cubicBezTo>
                  <a:pt x="109" y="428"/>
                  <a:pt x="164" y="367"/>
                  <a:pt x="240" y="329"/>
                </a:cubicBezTo>
                <a:cubicBezTo>
                  <a:pt x="247" y="320"/>
                  <a:pt x="252" y="310"/>
                  <a:pt x="260" y="302"/>
                </a:cubicBezTo>
                <a:cubicBezTo>
                  <a:pt x="272" y="291"/>
                  <a:pt x="301" y="274"/>
                  <a:pt x="301" y="274"/>
                </a:cubicBezTo>
                <a:cubicBezTo>
                  <a:pt x="319" y="249"/>
                  <a:pt x="339" y="226"/>
                  <a:pt x="363" y="206"/>
                </a:cubicBezTo>
              </a:path>
            </a:pathLst>
          </a:custGeom>
          <a:gradFill rotWithShape="0">
            <a:gsLst>
              <a:gs pos="0">
                <a:srgbClr val="996600">
                  <a:alpha val="72156"/>
                </a:srgbClr>
              </a:gs>
              <a:gs pos="100000">
                <a:srgbClr val="cccc00">
                  <a:alpha val="26274"/>
                </a:srgbClr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3"/>
          <p:cNvSpPr/>
          <p:nvPr/>
        </p:nvSpPr>
        <p:spPr>
          <a:xfrm>
            <a:off x="-11160" y="4834080"/>
            <a:ext cx="2743200" cy="207792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077920"/>
              <a:gd name="textAreaBottom" fmla="*/ 2078280 h 2077920"/>
            </a:gdLst>
            <a:ahLst/>
            <a:rect l="textAreaLeft" t="textAreaTop" r="textAreaRight" b="textAreaBottom"/>
            <a:pathLst>
              <a:path w="1728" h="1309">
                <a:moveTo>
                  <a:pt x="1413" y="822"/>
                </a:moveTo>
                <a:cubicBezTo>
                  <a:pt x="1446" y="815"/>
                  <a:pt x="1458" y="806"/>
                  <a:pt x="1468" y="774"/>
                </a:cubicBezTo>
                <a:cubicBezTo>
                  <a:pt x="1472" y="760"/>
                  <a:pt x="1481" y="733"/>
                  <a:pt x="1481" y="733"/>
                </a:cubicBezTo>
                <a:cubicBezTo>
                  <a:pt x="1480" y="721"/>
                  <a:pt x="1483" y="638"/>
                  <a:pt x="1468" y="603"/>
                </a:cubicBezTo>
                <a:cubicBezTo>
                  <a:pt x="1458" y="580"/>
                  <a:pt x="1440" y="534"/>
                  <a:pt x="1440" y="534"/>
                </a:cubicBezTo>
                <a:cubicBezTo>
                  <a:pt x="1446" y="490"/>
                  <a:pt x="1450" y="455"/>
                  <a:pt x="1474" y="418"/>
                </a:cubicBezTo>
                <a:cubicBezTo>
                  <a:pt x="1476" y="384"/>
                  <a:pt x="1477" y="349"/>
                  <a:pt x="1481" y="315"/>
                </a:cubicBezTo>
                <a:cubicBezTo>
                  <a:pt x="1490" y="238"/>
                  <a:pt x="1593" y="206"/>
                  <a:pt x="1646" y="171"/>
                </a:cubicBezTo>
                <a:cubicBezTo>
                  <a:pt x="1681" y="118"/>
                  <a:pt x="1680" y="115"/>
                  <a:pt x="1728" y="82"/>
                </a:cubicBezTo>
                <a:cubicBezTo>
                  <a:pt x="1694" y="58"/>
                  <a:pt x="1645" y="55"/>
                  <a:pt x="1605" y="41"/>
                </a:cubicBezTo>
                <a:cubicBezTo>
                  <a:pt x="1584" y="20"/>
                  <a:pt x="1568" y="15"/>
                  <a:pt x="1543" y="0"/>
                </a:cubicBezTo>
                <a:cubicBezTo>
                  <a:pt x="1465" y="3"/>
                  <a:pt x="1408" y="2"/>
                  <a:pt x="1337" y="20"/>
                </a:cubicBezTo>
                <a:cubicBezTo>
                  <a:pt x="1290" y="52"/>
                  <a:pt x="1312" y="43"/>
                  <a:pt x="1276" y="54"/>
                </a:cubicBezTo>
                <a:cubicBezTo>
                  <a:pt x="1230" y="85"/>
                  <a:pt x="1219" y="159"/>
                  <a:pt x="1166" y="178"/>
                </a:cubicBezTo>
                <a:cubicBezTo>
                  <a:pt x="1161" y="185"/>
                  <a:pt x="1158" y="193"/>
                  <a:pt x="1152" y="198"/>
                </a:cubicBezTo>
                <a:cubicBezTo>
                  <a:pt x="1146" y="202"/>
                  <a:pt x="1137" y="200"/>
                  <a:pt x="1132" y="205"/>
                </a:cubicBezTo>
                <a:cubicBezTo>
                  <a:pt x="1120" y="217"/>
                  <a:pt x="1118" y="237"/>
                  <a:pt x="1104" y="246"/>
                </a:cubicBezTo>
                <a:cubicBezTo>
                  <a:pt x="1055" y="279"/>
                  <a:pt x="1075" y="263"/>
                  <a:pt x="1042" y="294"/>
                </a:cubicBezTo>
                <a:cubicBezTo>
                  <a:pt x="1032" y="331"/>
                  <a:pt x="1009" y="365"/>
                  <a:pt x="988" y="397"/>
                </a:cubicBezTo>
                <a:cubicBezTo>
                  <a:pt x="979" y="411"/>
                  <a:pt x="960" y="438"/>
                  <a:pt x="960" y="438"/>
                </a:cubicBezTo>
                <a:cubicBezTo>
                  <a:pt x="951" y="466"/>
                  <a:pt x="944" y="477"/>
                  <a:pt x="919" y="493"/>
                </a:cubicBezTo>
                <a:cubicBezTo>
                  <a:pt x="829" y="630"/>
                  <a:pt x="747" y="543"/>
                  <a:pt x="508" y="548"/>
                </a:cubicBezTo>
                <a:cubicBezTo>
                  <a:pt x="478" y="558"/>
                  <a:pt x="449" y="564"/>
                  <a:pt x="418" y="569"/>
                </a:cubicBezTo>
                <a:cubicBezTo>
                  <a:pt x="366" y="587"/>
                  <a:pt x="326" y="628"/>
                  <a:pt x="281" y="658"/>
                </a:cubicBezTo>
                <a:cubicBezTo>
                  <a:pt x="267" y="680"/>
                  <a:pt x="245" y="696"/>
                  <a:pt x="233" y="720"/>
                </a:cubicBezTo>
                <a:cubicBezTo>
                  <a:pt x="211" y="762"/>
                  <a:pt x="193" y="807"/>
                  <a:pt x="172" y="850"/>
                </a:cubicBezTo>
                <a:cubicBezTo>
                  <a:pt x="169" y="856"/>
                  <a:pt x="169" y="864"/>
                  <a:pt x="165" y="870"/>
                </a:cubicBezTo>
                <a:cubicBezTo>
                  <a:pt x="109" y="943"/>
                  <a:pt x="87" y="931"/>
                  <a:pt x="62" y="1028"/>
                </a:cubicBezTo>
                <a:cubicBezTo>
                  <a:pt x="56" y="1104"/>
                  <a:pt x="64" y="1107"/>
                  <a:pt x="21" y="1152"/>
                </a:cubicBezTo>
                <a:cubicBezTo>
                  <a:pt x="16" y="1166"/>
                  <a:pt x="0" y="1178"/>
                  <a:pt x="0" y="1193"/>
                </a:cubicBezTo>
                <a:cubicBezTo>
                  <a:pt x="0" y="1207"/>
                  <a:pt x="26" y="1221"/>
                  <a:pt x="34" y="1227"/>
                </a:cubicBezTo>
                <a:cubicBezTo>
                  <a:pt x="73" y="1286"/>
                  <a:pt x="221" y="1266"/>
                  <a:pt x="261" y="1268"/>
                </a:cubicBezTo>
                <a:cubicBezTo>
                  <a:pt x="314" y="1287"/>
                  <a:pt x="252" y="1268"/>
                  <a:pt x="370" y="1268"/>
                </a:cubicBezTo>
                <a:cubicBezTo>
                  <a:pt x="473" y="1268"/>
                  <a:pt x="576" y="1273"/>
                  <a:pt x="679" y="1275"/>
                </a:cubicBezTo>
                <a:cubicBezTo>
                  <a:pt x="810" y="1309"/>
                  <a:pt x="941" y="1277"/>
                  <a:pt x="1070" y="1261"/>
                </a:cubicBezTo>
                <a:cubicBezTo>
                  <a:pt x="1222" y="1265"/>
                  <a:pt x="1262" y="1282"/>
                  <a:pt x="1372" y="1254"/>
                </a:cubicBezTo>
                <a:cubicBezTo>
                  <a:pt x="1389" y="1197"/>
                  <a:pt x="1372" y="1262"/>
                  <a:pt x="1372" y="1131"/>
                </a:cubicBezTo>
                <a:cubicBezTo>
                  <a:pt x="1372" y="1096"/>
                  <a:pt x="1398" y="1065"/>
                  <a:pt x="1413" y="1035"/>
                </a:cubicBezTo>
                <a:cubicBezTo>
                  <a:pt x="1411" y="992"/>
                  <a:pt x="1411" y="948"/>
                  <a:pt x="1406" y="905"/>
                </a:cubicBezTo>
                <a:cubicBezTo>
                  <a:pt x="1404" y="891"/>
                  <a:pt x="1392" y="864"/>
                  <a:pt x="1392" y="864"/>
                </a:cubicBezTo>
                <a:cubicBezTo>
                  <a:pt x="1394" y="841"/>
                  <a:pt x="1391" y="817"/>
                  <a:pt x="1399" y="795"/>
                </a:cubicBezTo>
                <a:cubicBezTo>
                  <a:pt x="1400" y="792"/>
                  <a:pt x="1459" y="779"/>
                  <a:pt x="1468" y="774"/>
                </a:cubicBezTo>
                <a:cubicBezTo>
                  <a:pt x="1482" y="766"/>
                  <a:pt x="1509" y="747"/>
                  <a:pt x="1509" y="747"/>
                </a:cubicBezTo>
                <a:cubicBezTo>
                  <a:pt x="1523" y="706"/>
                  <a:pt x="1503" y="666"/>
                  <a:pt x="1474" y="637"/>
                </a:cubicBezTo>
                <a:cubicBezTo>
                  <a:pt x="1463" y="600"/>
                  <a:pt x="1438" y="570"/>
                  <a:pt x="1426" y="534"/>
                </a:cubicBezTo>
                <a:cubicBezTo>
                  <a:pt x="1428" y="527"/>
                  <a:pt x="1430" y="520"/>
                  <a:pt x="1433" y="514"/>
                </a:cubicBezTo>
                <a:cubicBezTo>
                  <a:pt x="1437" y="507"/>
                  <a:pt x="1447" y="493"/>
                  <a:pt x="1447" y="493"/>
                </a:cubicBezTo>
              </a:path>
            </a:pathLst>
          </a:custGeom>
          <a:gradFill rotWithShape="0">
            <a:gsLst>
              <a:gs pos="0">
                <a:srgbClr val="00336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4"/>
          <p:cNvSpPr/>
          <p:nvPr/>
        </p:nvSpPr>
        <p:spPr>
          <a:xfrm>
            <a:off x="50760" y="5102280"/>
            <a:ext cx="1319400" cy="1336680"/>
          </a:xfrm>
          <a:custGeom>
            <a:avLst/>
            <a:gdLst>
              <a:gd name="textAreaLeft" fmla="*/ 0 w 1319400"/>
              <a:gd name="textAreaRight" fmla="*/ 1319400 w 13194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831" h="842">
                <a:moveTo>
                  <a:pt x="798" y="400"/>
                </a:moveTo>
                <a:cubicBezTo>
                  <a:pt x="796" y="377"/>
                  <a:pt x="795" y="354"/>
                  <a:pt x="791" y="331"/>
                </a:cubicBezTo>
                <a:cubicBezTo>
                  <a:pt x="788" y="317"/>
                  <a:pt x="777" y="290"/>
                  <a:pt x="777" y="290"/>
                </a:cubicBezTo>
                <a:cubicBezTo>
                  <a:pt x="800" y="223"/>
                  <a:pt x="816" y="104"/>
                  <a:pt x="736" y="77"/>
                </a:cubicBezTo>
                <a:cubicBezTo>
                  <a:pt x="731" y="70"/>
                  <a:pt x="729" y="61"/>
                  <a:pt x="722" y="57"/>
                </a:cubicBezTo>
                <a:cubicBezTo>
                  <a:pt x="710" y="49"/>
                  <a:pt x="681" y="43"/>
                  <a:pt x="681" y="43"/>
                </a:cubicBezTo>
                <a:cubicBezTo>
                  <a:pt x="619" y="0"/>
                  <a:pt x="452" y="65"/>
                  <a:pt x="373" y="77"/>
                </a:cubicBezTo>
                <a:cubicBezTo>
                  <a:pt x="333" y="90"/>
                  <a:pt x="286" y="135"/>
                  <a:pt x="249" y="160"/>
                </a:cubicBezTo>
                <a:cubicBezTo>
                  <a:pt x="228" y="175"/>
                  <a:pt x="201" y="221"/>
                  <a:pt x="201" y="221"/>
                </a:cubicBezTo>
                <a:cubicBezTo>
                  <a:pt x="193" y="245"/>
                  <a:pt x="181" y="262"/>
                  <a:pt x="167" y="283"/>
                </a:cubicBezTo>
                <a:cubicBezTo>
                  <a:pt x="152" y="327"/>
                  <a:pt x="145" y="416"/>
                  <a:pt x="112" y="448"/>
                </a:cubicBezTo>
                <a:cubicBezTo>
                  <a:pt x="93" y="466"/>
                  <a:pt x="69" y="477"/>
                  <a:pt x="50" y="496"/>
                </a:cubicBezTo>
                <a:cubicBezTo>
                  <a:pt x="41" y="521"/>
                  <a:pt x="45" y="514"/>
                  <a:pt x="30" y="537"/>
                </a:cubicBezTo>
                <a:cubicBezTo>
                  <a:pt x="21" y="551"/>
                  <a:pt x="2" y="578"/>
                  <a:pt x="2" y="578"/>
                </a:cubicBezTo>
                <a:cubicBezTo>
                  <a:pt x="4" y="663"/>
                  <a:pt x="0" y="748"/>
                  <a:pt x="9" y="832"/>
                </a:cubicBezTo>
                <a:cubicBezTo>
                  <a:pt x="10" y="839"/>
                  <a:pt x="23" y="842"/>
                  <a:pt x="30" y="839"/>
                </a:cubicBezTo>
                <a:cubicBezTo>
                  <a:pt x="44" y="832"/>
                  <a:pt x="39" y="808"/>
                  <a:pt x="50" y="797"/>
                </a:cubicBezTo>
                <a:cubicBezTo>
                  <a:pt x="72" y="775"/>
                  <a:pt x="100" y="746"/>
                  <a:pt x="126" y="729"/>
                </a:cubicBezTo>
                <a:cubicBezTo>
                  <a:pt x="143" y="679"/>
                  <a:pt x="136" y="628"/>
                  <a:pt x="153" y="578"/>
                </a:cubicBezTo>
                <a:cubicBezTo>
                  <a:pt x="158" y="563"/>
                  <a:pt x="194" y="551"/>
                  <a:pt x="194" y="551"/>
                </a:cubicBezTo>
                <a:cubicBezTo>
                  <a:pt x="214" y="522"/>
                  <a:pt x="271" y="464"/>
                  <a:pt x="304" y="455"/>
                </a:cubicBezTo>
                <a:cubicBezTo>
                  <a:pt x="386" y="399"/>
                  <a:pt x="416" y="412"/>
                  <a:pt x="530" y="407"/>
                </a:cubicBezTo>
                <a:cubicBezTo>
                  <a:pt x="634" y="372"/>
                  <a:pt x="595" y="386"/>
                  <a:pt x="777" y="393"/>
                </a:cubicBezTo>
                <a:cubicBezTo>
                  <a:pt x="829" y="380"/>
                  <a:pt x="831" y="349"/>
                  <a:pt x="811" y="290"/>
                </a:cubicBezTo>
                <a:cubicBezTo>
                  <a:pt x="807" y="278"/>
                  <a:pt x="788" y="281"/>
                  <a:pt x="777" y="276"/>
                </a:cubicBezTo>
              </a:path>
            </a:pathLst>
          </a:custGeom>
          <a:gradFill rotWithShape="0">
            <a:gsLst>
              <a:gs pos="0">
                <a:srgbClr val="996600">
                  <a:alpha val="44313"/>
                </a:srgbClr>
              </a:gs>
              <a:gs pos="100000">
                <a:srgbClr val="cccc00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5"/>
          <p:cNvSpPr/>
          <p:nvPr/>
        </p:nvSpPr>
        <p:spPr>
          <a:xfrm>
            <a:off x="1403280" y="4365720"/>
            <a:ext cx="100800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6"/>
          <p:cNvSpPr/>
          <p:nvPr/>
        </p:nvSpPr>
        <p:spPr>
          <a:xfrm>
            <a:off x="1332000" y="5516640"/>
            <a:ext cx="144360" cy="144360"/>
          </a:xfrm>
          <a:prstGeom prst="ellipse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0"/>
          <p:cNvSpPr/>
          <p:nvPr/>
        </p:nvSpPr>
        <p:spPr>
          <a:xfrm>
            <a:off x="1405080" y="4352760"/>
            <a:ext cx="1038240" cy="15145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654" h="954">
                <a:moveTo>
                  <a:pt x="0" y="1"/>
                </a:moveTo>
                <a:cubicBezTo>
                  <a:pt x="130" y="12"/>
                  <a:pt x="42" y="0"/>
                  <a:pt x="109" y="15"/>
                </a:cubicBezTo>
                <a:cubicBezTo>
                  <a:pt x="130" y="20"/>
                  <a:pt x="171" y="28"/>
                  <a:pt x="171" y="28"/>
                </a:cubicBezTo>
                <a:cubicBezTo>
                  <a:pt x="211" y="49"/>
                  <a:pt x="196" y="55"/>
                  <a:pt x="219" y="90"/>
                </a:cubicBezTo>
                <a:cubicBezTo>
                  <a:pt x="231" y="135"/>
                  <a:pt x="224" y="261"/>
                  <a:pt x="281" y="268"/>
                </a:cubicBezTo>
                <a:cubicBezTo>
                  <a:pt x="311" y="272"/>
                  <a:pt x="340" y="273"/>
                  <a:pt x="370" y="275"/>
                </a:cubicBezTo>
                <a:cubicBezTo>
                  <a:pt x="374" y="277"/>
                  <a:pt x="414" y="296"/>
                  <a:pt x="418" y="303"/>
                </a:cubicBezTo>
                <a:cubicBezTo>
                  <a:pt x="426" y="315"/>
                  <a:pt x="432" y="344"/>
                  <a:pt x="432" y="344"/>
                </a:cubicBezTo>
                <a:cubicBezTo>
                  <a:pt x="434" y="406"/>
                  <a:pt x="419" y="473"/>
                  <a:pt x="445" y="529"/>
                </a:cubicBezTo>
                <a:cubicBezTo>
                  <a:pt x="466" y="573"/>
                  <a:pt x="505" y="631"/>
                  <a:pt x="548" y="652"/>
                </a:cubicBezTo>
                <a:cubicBezTo>
                  <a:pt x="572" y="676"/>
                  <a:pt x="584" y="679"/>
                  <a:pt x="617" y="687"/>
                </a:cubicBezTo>
                <a:cubicBezTo>
                  <a:pt x="635" y="738"/>
                  <a:pt x="624" y="792"/>
                  <a:pt x="637" y="844"/>
                </a:cubicBezTo>
                <a:cubicBezTo>
                  <a:pt x="642" y="884"/>
                  <a:pt x="654" y="916"/>
                  <a:pt x="644" y="954"/>
                </a:cubicBezTo>
                <a:cubicBezTo>
                  <a:pt x="625" y="926"/>
                  <a:pt x="635" y="917"/>
                  <a:pt x="603" y="906"/>
                </a:cubicBezTo>
                <a:cubicBezTo>
                  <a:pt x="573" y="916"/>
                  <a:pt x="560" y="909"/>
                  <a:pt x="534" y="892"/>
                </a:cubicBezTo>
                <a:cubicBezTo>
                  <a:pt x="502" y="844"/>
                  <a:pt x="521" y="860"/>
                  <a:pt x="486" y="837"/>
                </a:cubicBezTo>
                <a:cubicBezTo>
                  <a:pt x="478" y="810"/>
                  <a:pt x="473" y="798"/>
                  <a:pt x="445" y="789"/>
                </a:cubicBezTo>
                <a:cubicBezTo>
                  <a:pt x="394" y="738"/>
                  <a:pt x="360" y="738"/>
                  <a:pt x="294" y="721"/>
                </a:cubicBezTo>
                <a:cubicBezTo>
                  <a:pt x="280" y="712"/>
                  <a:pt x="267" y="702"/>
                  <a:pt x="253" y="693"/>
                </a:cubicBezTo>
                <a:cubicBezTo>
                  <a:pt x="246" y="689"/>
                  <a:pt x="233" y="680"/>
                  <a:pt x="233" y="680"/>
                </a:cubicBezTo>
                <a:cubicBezTo>
                  <a:pt x="211" y="646"/>
                  <a:pt x="148" y="617"/>
                  <a:pt x="109" y="604"/>
                </a:cubicBezTo>
                <a:cubicBezTo>
                  <a:pt x="83" y="578"/>
                  <a:pt x="74" y="551"/>
                  <a:pt x="54" y="522"/>
                </a:cubicBezTo>
                <a:cubicBezTo>
                  <a:pt x="38" y="464"/>
                  <a:pt x="55" y="394"/>
                  <a:pt x="20" y="344"/>
                </a:cubicBezTo>
                <a:cubicBezTo>
                  <a:pt x="3" y="294"/>
                  <a:pt x="20" y="354"/>
                  <a:pt x="20" y="255"/>
                </a:cubicBezTo>
                <a:cubicBezTo>
                  <a:pt x="20" y="89"/>
                  <a:pt x="22" y="100"/>
                  <a:pt x="0" y="1"/>
                </a:cubicBezTo>
                <a:close/>
              </a:path>
            </a:pathLst>
          </a:custGeom>
          <a:gradFill rotWithShape="0">
            <a:gsLst>
              <a:gs pos="0">
                <a:srgbClr val="66ff33">
                  <a:alpha val="74117"/>
                </a:srgbClr>
              </a:gs>
              <a:gs pos="100000">
                <a:srgbClr val="2f7618">
                  <a:alpha val="5411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 берегу реки рос топол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друг ветра порыв его ствол надлом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Бедный тополь уп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угол прямой его ствол с теченьем реки составля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апомни теперь, что в этом месте река в четыре лишь фута была широ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ерхушка склонилась у края ре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талось три фута всего у ствол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ошу тебя скоро теперь мне скажи : «У тополя как велика высота?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2413080" y="58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 flipV="1" rot="10651200">
            <a:off x="1115640" y="55893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1117800" y="4365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5"/>
          <p:cNvSpPr/>
          <p:nvPr/>
        </p:nvSpPr>
        <p:spPr>
          <a:xfrm>
            <a:off x="901800" y="170028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52720" y="21337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Д -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j0189248"/>
          <p:cNvPicPr/>
          <p:nvPr/>
        </p:nvPicPr>
        <p:blipFill>
          <a:blip r:embed="rId1"/>
          <a:stretch/>
        </p:blipFill>
        <p:spPr>
          <a:xfrm>
            <a:off x="17928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 rot="20916000">
            <a:off x="222840" y="280800"/>
            <a:ext cx="676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Теорема Пифаго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 rot="1257600">
            <a:off x="3341160" y="2260080"/>
            <a:ext cx="3311640" cy="295308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"/>
          <p:cNvSpPr/>
          <p:nvPr/>
        </p:nvSpPr>
        <p:spPr>
          <a:xfrm rot="20083800">
            <a:off x="3798360" y="2630520"/>
            <a:ext cx="2387880" cy="2235240"/>
          </a:xfrm>
          <a:prstGeom prst="diamond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/>
          <p:cNvSpPr/>
          <p:nvPr/>
        </p:nvSpPr>
        <p:spPr>
          <a:xfrm rot="20460000">
            <a:off x="3851280" y="2637000"/>
            <a:ext cx="2340000" cy="216360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/>
          <p:cNvSpPr/>
          <p:nvPr/>
        </p:nvSpPr>
        <p:spPr>
          <a:xfrm rot="19371000">
            <a:off x="4066920" y="4941720"/>
            <a:ext cx="1828800" cy="1773360"/>
          </a:xfrm>
          <a:prstGeom prst="diamond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 rot="10399800">
            <a:off x="5723640" y="4292280"/>
            <a:ext cx="1798920" cy="1800360"/>
          </a:xfrm>
          <a:prstGeom prst="diamond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"/>
          <p:cNvSpPr/>
          <p:nvPr/>
        </p:nvSpPr>
        <p:spPr>
          <a:xfrm rot="18459600">
            <a:off x="2824920" y="5895000"/>
            <a:ext cx="397080" cy="1224000"/>
          </a:xfrm>
          <a:custGeom>
            <a:avLst/>
            <a:gdLst>
              <a:gd name="textAreaLeft" fmla="*/ 0 w 397080"/>
              <a:gd name="textAreaRight" fmla="*/ 397440 w 3970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6"/>
          <p:cNvSpPr/>
          <p:nvPr/>
        </p:nvSpPr>
        <p:spPr>
          <a:xfrm>
            <a:off x="3492360" y="6453360"/>
            <a:ext cx="1366920" cy="407880"/>
          </a:xfrm>
          <a:custGeom>
            <a:avLst/>
            <a:gdLst>
              <a:gd name="textAreaLeft" fmla="*/ 0 w 1366920"/>
              <a:gd name="textAreaRight" fmla="*/ 1366920 w 13669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861" h="257">
                <a:moveTo>
                  <a:pt x="861" y="0"/>
                </a:moveTo>
                <a:cubicBezTo>
                  <a:pt x="728" y="98"/>
                  <a:pt x="596" y="197"/>
                  <a:pt x="453" y="227"/>
                </a:cubicBezTo>
                <a:cubicBezTo>
                  <a:pt x="310" y="257"/>
                  <a:pt x="155" y="219"/>
                  <a:pt x="0" y="182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7"/>
          <p:cNvSpPr/>
          <p:nvPr/>
        </p:nvSpPr>
        <p:spPr>
          <a:xfrm rot="1059600">
            <a:off x="8244000" y="4365720"/>
            <a:ext cx="396720" cy="1224000"/>
          </a:xfrm>
          <a:custGeom>
            <a:avLst/>
            <a:gdLst>
              <a:gd name="textAreaLeft" fmla="*/ 0 w 396720"/>
              <a:gd name="textAreaRight" fmla="*/ 397080 w 396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529" h="1050">
                <a:moveTo>
                  <a:pt x="370" y="1012"/>
                </a:moveTo>
                <a:cubicBezTo>
                  <a:pt x="400" y="1050"/>
                  <a:pt x="347" y="1042"/>
                  <a:pt x="370" y="967"/>
                </a:cubicBezTo>
                <a:cubicBezTo>
                  <a:pt x="393" y="892"/>
                  <a:pt x="529" y="710"/>
                  <a:pt x="506" y="559"/>
                </a:cubicBezTo>
                <a:cubicBezTo>
                  <a:pt x="483" y="408"/>
                  <a:pt x="317" y="120"/>
                  <a:pt x="234" y="60"/>
                </a:cubicBezTo>
                <a:cubicBezTo>
                  <a:pt x="151" y="0"/>
                  <a:pt x="14" y="83"/>
                  <a:pt x="7" y="196"/>
                </a:cubicBezTo>
                <a:cubicBezTo>
                  <a:pt x="0" y="309"/>
                  <a:pt x="129" y="604"/>
                  <a:pt x="189" y="740"/>
                </a:cubicBezTo>
                <a:cubicBezTo>
                  <a:pt x="249" y="876"/>
                  <a:pt x="340" y="974"/>
                  <a:pt x="370" y="101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9"/>
          <p:cNvSpPr/>
          <p:nvPr/>
        </p:nvSpPr>
        <p:spPr>
          <a:xfrm>
            <a:off x="7093080" y="5373720"/>
            <a:ext cx="1295280" cy="56340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816" h="355">
                <a:moveTo>
                  <a:pt x="0" y="227"/>
                </a:moveTo>
                <a:cubicBezTo>
                  <a:pt x="249" y="291"/>
                  <a:pt x="499" y="355"/>
                  <a:pt x="635" y="317"/>
                </a:cubicBezTo>
                <a:cubicBezTo>
                  <a:pt x="771" y="279"/>
                  <a:pt x="793" y="139"/>
                  <a:pt x="816" y="0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>
            <a:off x="3059280" y="1557360"/>
            <a:ext cx="1441440" cy="1224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25"/>
          <p:cNvSpPr/>
          <p:nvPr/>
        </p:nvSpPr>
        <p:spPr>
          <a:xfrm>
            <a:off x="3330720" y="1828800"/>
            <a:ext cx="131760" cy="19512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83" h="123">
                <a:moveTo>
                  <a:pt x="83" y="69"/>
                </a:moveTo>
                <a:cubicBezTo>
                  <a:pt x="66" y="93"/>
                  <a:pt x="66" y="107"/>
                  <a:pt x="41" y="123"/>
                </a:cubicBezTo>
                <a:cubicBezTo>
                  <a:pt x="17" y="108"/>
                  <a:pt x="9" y="95"/>
                  <a:pt x="0" y="69"/>
                </a:cubicBezTo>
                <a:cubicBezTo>
                  <a:pt x="25" y="44"/>
                  <a:pt x="28" y="35"/>
                  <a:pt x="2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6"/>
          <p:cNvSpPr/>
          <p:nvPr/>
        </p:nvSpPr>
        <p:spPr>
          <a:xfrm>
            <a:off x="2124000" y="2565360"/>
            <a:ext cx="2376720" cy="2808360"/>
          </a:xfrm>
          <a:custGeom>
            <a:avLst/>
            <a:gdLst>
              <a:gd name="textAreaLeft" fmla="*/ 0 w 2376720"/>
              <a:gd name="textAreaRight" fmla="*/ 2376720 w 237672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97" h="1769">
                <a:moveTo>
                  <a:pt x="1315" y="0"/>
                </a:moveTo>
                <a:cubicBezTo>
                  <a:pt x="793" y="98"/>
                  <a:pt x="272" y="196"/>
                  <a:pt x="136" y="408"/>
                </a:cubicBezTo>
                <a:cubicBezTo>
                  <a:pt x="0" y="620"/>
                  <a:pt x="272" y="1043"/>
                  <a:pt x="499" y="1270"/>
                </a:cubicBezTo>
                <a:cubicBezTo>
                  <a:pt x="726" y="1497"/>
                  <a:pt x="1111" y="1633"/>
                  <a:pt x="1497" y="1769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27"/>
          <p:cNvSpPr/>
          <p:nvPr/>
        </p:nvSpPr>
        <p:spPr>
          <a:xfrm>
            <a:off x="4140360" y="5300640"/>
            <a:ext cx="252360" cy="289080"/>
          </a:xfrm>
          <a:custGeom>
            <a:avLst/>
            <a:gdLst>
              <a:gd name="textAreaLeft" fmla="*/ 0 w 252360"/>
              <a:gd name="textAreaRight" fmla="*/ 252720 w 252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59" h="182">
                <a:moveTo>
                  <a:pt x="0" y="0"/>
                </a:moveTo>
                <a:cubicBezTo>
                  <a:pt x="56" y="53"/>
                  <a:pt x="113" y="106"/>
                  <a:pt x="136" y="136"/>
                </a:cubicBezTo>
                <a:cubicBezTo>
                  <a:pt x="159" y="166"/>
                  <a:pt x="147" y="174"/>
                  <a:pt x="136" y="182"/>
                </a:cubicBezTo>
              </a:path>
            </a:pathLst>
          </a:custGeom>
          <a:noFill/>
          <a:ln w="540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8"/>
          <p:cNvSpPr/>
          <p:nvPr/>
        </p:nvSpPr>
        <p:spPr>
          <a:xfrm>
            <a:off x="3995640" y="1749600"/>
            <a:ext cx="3492720" cy="2974680"/>
          </a:xfrm>
          <a:custGeom>
            <a:avLst/>
            <a:gdLst>
              <a:gd name="textAreaLeft" fmla="*/ 0 w 3492720"/>
              <a:gd name="textAreaRight" fmla="*/ 3493080 w 3492720"/>
              <a:gd name="textAreaTop" fmla="*/ 0 h 2974680"/>
              <a:gd name="textAreaBottom" fmla="*/ 2975040 h 2974680"/>
            </a:gdLst>
            <a:ahLst/>
            <a:rect l="textAreaLeft" t="textAreaTop" r="textAreaRight" b="textAreaBottom"/>
            <a:pathLst>
              <a:path w="2200" h="1874">
                <a:moveTo>
                  <a:pt x="0" y="332"/>
                </a:moveTo>
                <a:cubicBezTo>
                  <a:pt x="366" y="181"/>
                  <a:pt x="733" y="30"/>
                  <a:pt x="998" y="15"/>
                </a:cubicBezTo>
                <a:cubicBezTo>
                  <a:pt x="1263" y="0"/>
                  <a:pt x="1399" y="83"/>
                  <a:pt x="1588" y="242"/>
                </a:cubicBezTo>
                <a:cubicBezTo>
                  <a:pt x="1777" y="401"/>
                  <a:pt x="2064" y="695"/>
                  <a:pt x="2132" y="967"/>
                </a:cubicBezTo>
                <a:cubicBezTo>
                  <a:pt x="2200" y="1239"/>
                  <a:pt x="2098" y="1556"/>
                  <a:pt x="1996" y="1874"/>
                </a:cubicBezTo>
              </a:path>
            </a:pathLst>
          </a:custGeom>
          <a:noFill/>
          <a:ln w="69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9"/>
          <p:cNvSpPr/>
          <p:nvPr/>
        </p:nvSpPr>
        <p:spPr>
          <a:xfrm>
            <a:off x="6877080" y="4365720"/>
            <a:ext cx="358920" cy="2156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26" h="136">
                <a:moveTo>
                  <a:pt x="226" y="0"/>
                </a:moveTo>
                <a:cubicBezTo>
                  <a:pt x="218" y="33"/>
                  <a:pt x="211" y="67"/>
                  <a:pt x="181" y="90"/>
                </a:cubicBezTo>
                <a:cubicBezTo>
                  <a:pt x="151" y="113"/>
                  <a:pt x="75" y="136"/>
                  <a:pt x="45" y="136"/>
                </a:cubicBezTo>
                <a:cubicBezTo>
                  <a:pt x="15" y="136"/>
                  <a:pt x="7" y="113"/>
                  <a:pt x="0" y="9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0"/>
          <p:cNvSpPr/>
          <p:nvPr/>
        </p:nvSpPr>
        <p:spPr>
          <a:xfrm>
            <a:off x="7236000" y="450864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91" h="227">
                <a:moveTo>
                  <a:pt x="0" y="0"/>
                </a:moveTo>
                <a:cubicBezTo>
                  <a:pt x="45" y="4"/>
                  <a:pt x="91" y="8"/>
                  <a:pt x="91" y="46"/>
                </a:cubicBezTo>
                <a:cubicBezTo>
                  <a:pt x="91" y="84"/>
                  <a:pt x="45" y="155"/>
                  <a:pt x="0" y="227"/>
                </a:cubicBezTo>
              </a:path>
            </a:pathLst>
          </a:custGeom>
          <a:noFill/>
          <a:ln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1"/>
          <p:cNvSpPr/>
          <p:nvPr/>
        </p:nvSpPr>
        <p:spPr>
          <a:xfrm rot="3558000">
            <a:off x="3046680" y="387432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800000"/>
                </a:solidFill>
                <a:latin typeface="Arial"/>
              </a:rPr>
              <a:t>Теор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2"/>
          <p:cNvSpPr/>
          <p:nvPr/>
        </p:nvSpPr>
        <p:spPr>
          <a:xfrm rot="2881200">
            <a:off x="3132000" y="5805720"/>
            <a:ext cx="134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</a:rPr>
              <a:t>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3"/>
          <p:cNvSpPr/>
          <p:nvPr/>
        </p:nvSpPr>
        <p:spPr>
          <a:xfrm rot="19529400">
            <a:off x="6231600" y="580500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ифагоровы ш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4"/>
          <p:cNvSpPr/>
          <p:nvPr/>
        </p:nvSpPr>
        <p:spPr>
          <a:xfrm rot="1077000">
            <a:off x="5078520" y="486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"/>
          <p:cNvSpPr/>
          <p:nvPr/>
        </p:nvSpPr>
        <p:spPr>
          <a:xfrm rot="18294600">
            <a:off x="5778720" y="4600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6"/>
          <p:cNvSpPr/>
          <p:nvPr/>
        </p:nvSpPr>
        <p:spPr>
          <a:xfrm rot="20562000">
            <a:off x="5293080" y="4652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7"/>
          <p:cNvSpPr/>
          <p:nvPr/>
        </p:nvSpPr>
        <p:spPr>
          <a:xfrm rot="18330000">
            <a:off x="6157440" y="5228280"/>
            <a:ext cx="16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c²=a²+b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0" descr="j0282740"/>
          <p:cNvPicPr/>
          <p:nvPr/>
        </p:nvPicPr>
        <p:blipFill>
          <a:blip r:embed="rId2"/>
          <a:stretch/>
        </p:blipFill>
        <p:spPr>
          <a:xfrm rot="19036200">
            <a:off x="1919160" y="466200"/>
            <a:ext cx="210528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800000"/>
                </a:solidFill>
                <a:latin typeface="Comic Sans MS"/>
              </a:rPr>
              <a:t>Пифаго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Пифагор – древнегреческий ученый </a:t>
            </a:r>
            <a:r>
              <a:rPr b="1" i="1" lang="en-US" sz="2600" spc="-1" strike="noStrike">
                <a:solidFill>
                  <a:srgbClr val="0000cc"/>
                </a:solidFill>
                <a:latin typeface="Comic Sans MS"/>
              </a:rPr>
              <a:t>VI </a:t>
            </a:r>
            <a:r>
              <a:rPr b="1" i="1" lang="ru-RU" sz="2600" spc="-1" strike="noStrike">
                <a:solidFill>
                  <a:srgbClr val="0000cc"/>
                </a:solidFill>
                <a:latin typeface="Comic Sans MS"/>
              </a:rPr>
              <a:t>в. до н.э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4" descr="CCI00047"/>
          <p:cNvPicPr/>
          <p:nvPr/>
        </p:nvPicPr>
        <p:blipFill>
          <a:blip r:embed="rId1"/>
          <a:stretch/>
        </p:blipFill>
        <p:spPr>
          <a:xfrm>
            <a:off x="179280" y="1628640"/>
            <a:ext cx="446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 u="sng">
                <a:solidFill>
                  <a:srgbClr val="0000cc"/>
                </a:solidFill>
                <a:uFillTx/>
                <a:latin typeface="Verdana"/>
              </a:rPr>
              <a:t>Прямоугольный треугольни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2720" y="1805040"/>
            <a:ext cx="3989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С – прямоугольны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В – гипотенуза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С и ВС - катет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116000" y="2060640"/>
            <a:ext cx="3024360" cy="309708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57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8"/>
          <p:cNvSpPr/>
          <p:nvPr/>
        </p:nvSpPr>
        <p:spPr>
          <a:xfrm rot="2931600">
            <a:off x="255600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3418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973440" y="17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2"/>
          <p:cNvSpPr/>
          <p:nvPr/>
        </p:nvSpPr>
        <p:spPr>
          <a:xfrm>
            <a:off x="901800" y="5157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4141800" y="51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5" descr="j0223745"/>
          <p:cNvPicPr/>
          <p:nvPr/>
        </p:nvPicPr>
        <p:blipFill>
          <a:blip r:embed="rId1"/>
          <a:stretch/>
        </p:blipFill>
        <p:spPr>
          <a:xfrm>
            <a:off x="6300720" y="4076640"/>
            <a:ext cx="2087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800000"/>
                </a:solidFill>
                <a:latin typeface="Verdana"/>
              </a:rPr>
              <a:t>Теорема Пифаго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183200" y="1805040"/>
            <a:ext cx="434016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  <a:ea typeface="Arial"/>
            </a:endParaRPr>
          </a:p>
        </p:txBody>
      </p:sp>
      <p:pic>
        <p:nvPicPr>
          <p:cNvPr id="230" name="Picture 8" descr="j0223745"/>
          <p:cNvPicPr/>
          <p:nvPr/>
        </p:nvPicPr>
        <p:blipFill>
          <a:blip r:embed="rId1"/>
          <a:stretch/>
        </p:blipFill>
        <p:spPr>
          <a:xfrm>
            <a:off x="7740720" y="18900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1"/>
          <p:cNvSpPr/>
          <p:nvPr/>
        </p:nvSpPr>
        <p:spPr>
          <a:xfrm>
            <a:off x="900000" y="2349360"/>
            <a:ext cx="1656000" cy="21592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541440" y="2133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2629080" y="4437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686160" y="4508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5"/>
          <p:cNvSpPr/>
          <p:nvPr/>
        </p:nvSpPr>
        <p:spPr>
          <a:xfrm>
            <a:off x="154980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6"/>
          <p:cNvSpPr/>
          <p:nvPr/>
        </p:nvSpPr>
        <p:spPr>
          <a:xfrm>
            <a:off x="54180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1836720" y="314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8"/>
          <p:cNvSpPr/>
          <p:nvPr/>
        </p:nvSpPr>
        <p:spPr>
          <a:xfrm>
            <a:off x="611280" y="5013360"/>
            <a:ext cx="317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Arial"/>
              </a:rPr>
              <a:t>Квадрат гипотенузы равен сумме квадратов ка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012000" y="2349360"/>
            <a:ext cx="792000" cy="16560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6012000" y="4005360"/>
            <a:ext cx="792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4211640" y="2349360"/>
            <a:ext cx="1779480" cy="1656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 rot="20025000">
            <a:off x="6321240" y="1810800"/>
            <a:ext cx="1871640" cy="1862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6445080" y="292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615816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5653440" y="306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5726160" y="1989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687888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8"/>
          <p:cNvSpPr/>
          <p:nvPr/>
        </p:nvSpPr>
        <p:spPr>
          <a:xfrm>
            <a:off x="5726520" y="39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9"/>
          <p:cNvSpPr/>
          <p:nvPr/>
        </p:nvSpPr>
        <p:spPr>
          <a:xfrm>
            <a:off x="7310160" y="24922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0"/>
          <p:cNvSpPr/>
          <p:nvPr/>
        </p:nvSpPr>
        <p:spPr>
          <a:xfrm>
            <a:off x="6229440" y="4365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1"/>
          <p:cNvSpPr/>
          <p:nvPr/>
        </p:nvSpPr>
        <p:spPr>
          <a:xfrm>
            <a:off x="4418280" y="32464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2"/>
          <p:cNvSpPr/>
          <p:nvPr/>
        </p:nvSpPr>
        <p:spPr>
          <a:xfrm>
            <a:off x="4356000" y="4941720"/>
            <a:ext cx="460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cc"/>
                </a:solidFill>
                <a:latin typeface="Arial"/>
              </a:rPr>
              <a:t>Площадь квадрата, построенного на гипотенузе прямоугольного треугольника равна сумме площадей квадратов, построенных на его катет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ано: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– прямоугольный; а,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b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– катеты; с – гипотенуз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ь: </a:t>
            </a: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Доказательство: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1. Достроим </a:t>
            </a:r>
            <a:r>
              <a:rPr b="0" lang="el-GR" sz="1700" spc="-1" strike="noStrike">
                <a:solidFill>
                  <a:srgbClr val="0000cc"/>
                </a:solidFill>
                <a:latin typeface="Verdana"/>
                <a:ea typeface="Arial"/>
              </a:rPr>
              <a:t>ΔΑΒ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С  до квадрат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2.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=(a+b)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3. </a:t>
            </a:r>
            <a:r>
              <a:rPr b="0" lang="en-US" sz="1700" spc="-1" strike="noStrike">
                <a:solidFill>
                  <a:srgbClr val="0000cc"/>
                </a:solidFill>
                <a:latin typeface="Verdana"/>
                <a:ea typeface="Arial"/>
              </a:rPr>
              <a:t>S</a:t>
            </a:r>
            <a:r>
              <a:rPr b="0" lang="ru-RU" sz="1700" spc="-1" strike="noStrike">
                <a:solidFill>
                  <a:srgbClr val="0000cc"/>
                </a:solidFill>
                <a:latin typeface="Verdana"/>
                <a:ea typeface="Arial"/>
              </a:rPr>
              <a:t> кв=4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½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4. 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+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²+2ab+b²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- 2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ab</a:t>
            </a:r>
            <a:r>
              <a:rPr b="0" lang="ru-RU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= с</a:t>
            </a:r>
            <a:r>
              <a:rPr b="0" lang="en-US" sz="1700" spc="-1" strike="noStrike">
                <a:solidFill>
                  <a:srgbClr val="0000cc"/>
                </a:solidFill>
                <a:latin typeface="Comic Sans MS"/>
                <a:ea typeface="Arial"/>
              </a:rPr>
              <a:t>²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Verdana"/>
                <a:ea typeface="Arial"/>
              </a:rPr>
              <a:t>c²=a²+b²</a:t>
            </a:r>
            <a:r>
              <a:rPr b="0" lang="ru-RU" sz="2200" spc="-1" strike="noStrike">
                <a:solidFill>
                  <a:srgbClr val="800000"/>
                </a:solidFill>
                <a:latin typeface="Verdana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826920" y="4149720"/>
            <a:ext cx="865440" cy="187164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 flipV="1">
            <a:off x="826920" y="3357720"/>
            <a:ext cx="0" cy="86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692360" y="6021360"/>
            <a:ext cx="187164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3"/>
          <p:cNvSpPr/>
          <p:nvPr/>
        </p:nvSpPr>
        <p:spPr>
          <a:xfrm>
            <a:off x="826920" y="3357720"/>
            <a:ext cx="180036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2627280" y="3357720"/>
            <a:ext cx="936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5"/>
          <p:cNvSpPr/>
          <p:nvPr/>
        </p:nvSpPr>
        <p:spPr>
          <a:xfrm>
            <a:off x="3564000" y="3357720"/>
            <a:ext cx="0" cy="18000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3564000" y="5157720"/>
            <a:ext cx="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 rot="20097600">
            <a:off x="1190520" y="3661920"/>
            <a:ext cx="2089080" cy="2071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1117800" y="595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4701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6"/>
          <p:cNvSpPr/>
          <p:nvPr/>
        </p:nvSpPr>
        <p:spPr>
          <a:xfrm>
            <a:off x="3061080" y="29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7"/>
          <p:cNvSpPr/>
          <p:nvPr/>
        </p:nvSpPr>
        <p:spPr>
          <a:xfrm>
            <a:off x="3565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8"/>
          <p:cNvSpPr/>
          <p:nvPr/>
        </p:nvSpPr>
        <p:spPr>
          <a:xfrm>
            <a:off x="2773800" y="60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9"/>
          <p:cNvSpPr/>
          <p:nvPr/>
        </p:nvSpPr>
        <p:spPr>
          <a:xfrm>
            <a:off x="3565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1332000" y="299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47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104436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541440" y="400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4"/>
          <p:cNvSpPr/>
          <p:nvPr/>
        </p:nvSpPr>
        <p:spPr>
          <a:xfrm>
            <a:off x="1621080" y="6021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"/>
          <p:cNvSpPr/>
          <p:nvPr/>
        </p:nvSpPr>
        <p:spPr>
          <a:xfrm>
            <a:off x="541440" y="6021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7"/>
          <p:cNvSpPr/>
          <p:nvPr/>
        </p:nvSpPr>
        <p:spPr>
          <a:xfrm>
            <a:off x="6372360" y="4869000"/>
            <a:ext cx="215640" cy="1425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так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8" name="Picture 4" descr="j0236333"/>
          <p:cNvPicPr/>
          <p:nvPr/>
        </p:nvPicPr>
        <p:blipFill>
          <a:blip r:embed="rId1"/>
          <a:stretch/>
        </p:blipFill>
        <p:spPr>
          <a:xfrm>
            <a:off x="6516720" y="3645000"/>
            <a:ext cx="2376360" cy="18716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Если дан нам треугольни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притом с прямым углом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То квадрат гипотенуз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Мы всегда легко найде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Сумму степеней находим –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И таким простым пут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Comic Sans MS"/>
              </a:rPr>
              <a:t>К результату мы прид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Comic Sans MS"/>
              </a:rPr>
              <a:t>шарж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5" descr="j0223744"/>
          <p:cNvPicPr/>
          <p:nvPr/>
        </p:nvPicPr>
        <p:blipFill>
          <a:blip r:embed="rId1"/>
          <a:stretch/>
        </p:blipFill>
        <p:spPr>
          <a:xfrm>
            <a:off x="7740720" y="44280"/>
            <a:ext cx="1439640" cy="1295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6" descr="j0282740"/>
          <p:cNvPicPr/>
          <p:nvPr/>
        </p:nvPicPr>
        <p:blipFill>
          <a:blip r:embed="rId2"/>
          <a:stretch/>
        </p:blipFill>
        <p:spPr>
          <a:xfrm>
            <a:off x="1476360" y="1052640"/>
            <a:ext cx="1511280" cy="151272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7"/>
          <p:cNvSpPr/>
          <p:nvPr/>
        </p:nvSpPr>
        <p:spPr>
          <a:xfrm>
            <a:off x="1403280" y="2565360"/>
            <a:ext cx="1728720" cy="79236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403280" y="3357720"/>
            <a:ext cx="1728720" cy="15112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9"/>
          <p:cNvSpPr/>
          <p:nvPr/>
        </p:nvSpPr>
        <p:spPr>
          <a:xfrm rot="20476200">
            <a:off x="1187280" y="5373360"/>
            <a:ext cx="100836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 rot="19194600">
            <a:off x="863640" y="1927080"/>
            <a:ext cx="1203120" cy="1203480"/>
          </a:xfrm>
          <a:prstGeom prst="rect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"/>
          <p:cNvSpPr/>
          <p:nvPr/>
        </p:nvSpPr>
        <p:spPr>
          <a:xfrm rot="2695200">
            <a:off x="2507760" y="1998720"/>
            <a:ext cx="1203480" cy="1166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3"/>
          <p:cNvSpPr/>
          <p:nvPr/>
        </p:nvSpPr>
        <p:spPr>
          <a:xfrm>
            <a:off x="3395520" y="149076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4"/>
          <p:cNvSpPr/>
          <p:nvPr/>
        </p:nvSpPr>
        <p:spPr>
          <a:xfrm rot="17002800">
            <a:off x="539640" y="1196640"/>
            <a:ext cx="835200" cy="806400"/>
          </a:xfrm>
          <a:custGeom>
            <a:avLst/>
            <a:gdLst>
              <a:gd name="textAreaLeft" fmla="*/ 0 w 835200"/>
              <a:gd name="textAreaRight" fmla="*/ 835560 w 8352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6" h="508">
                <a:moveTo>
                  <a:pt x="0" y="350"/>
                </a:moveTo>
                <a:cubicBezTo>
                  <a:pt x="46" y="338"/>
                  <a:pt x="67" y="312"/>
                  <a:pt x="83" y="268"/>
                </a:cubicBezTo>
                <a:cubicBezTo>
                  <a:pt x="80" y="196"/>
                  <a:pt x="109" y="117"/>
                  <a:pt x="48" y="76"/>
                </a:cubicBezTo>
                <a:cubicBezTo>
                  <a:pt x="57" y="49"/>
                  <a:pt x="62" y="37"/>
                  <a:pt x="90" y="28"/>
                </a:cubicBezTo>
                <a:cubicBezTo>
                  <a:pt x="151" y="49"/>
                  <a:pt x="112" y="152"/>
                  <a:pt x="131" y="206"/>
                </a:cubicBezTo>
                <a:cubicBezTo>
                  <a:pt x="147" y="182"/>
                  <a:pt x="156" y="119"/>
                  <a:pt x="165" y="110"/>
                </a:cubicBezTo>
                <a:cubicBezTo>
                  <a:pt x="176" y="99"/>
                  <a:pt x="195" y="100"/>
                  <a:pt x="206" y="90"/>
                </a:cubicBezTo>
                <a:cubicBezTo>
                  <a:pt x="221" y="77"/>
                  <a:pt x="233" y="62"/>
                  <a:pt x="247" y="48"/>
                </a:cubicBezTo>
                <a:cubicBezTo>
                  <a:pt x="269" y="25"/>
                  <a:pt x="304" y="17"/>
                  <a:pt x="330" y="0"/>
                </a:cubicBezTo>
                <a:cubicBezTo>
                  <a:pt x="349" y="31"/>
                  <a:pt x="345" y="48"/>
                  <a:pt x="316" y="69"/>
                </a:cubicBezTo>
                <a:cubicBezTo>
                  <a:pt x="297" y="96"/>
                  <a:pt x="280" y="124"/>
                  <a:pt x="261" y="151"/>
                </a:cubicBezTo>
                <a:cubicBezTo>
                  <a:pt x="249" y="186"/>
                  <a:pt x="250" y="169"/>
                  <a:pt x="275" y="158"/>
                </a:cubicBezTo>
                <a:cubicBezTo>
                  <a:pt x="284" y="154"/>
                  <a:pt x="293" y="153"/>
                  <a:pt x="302" y="151"/>
                </a:cubicBezTo>
                <a:cubicBezTo>
                  <a:pt x="311" y="124"/>
                  <a:pt x="324" y="119"/>
                  <a:pt x="350" y="110"/>
                </a:cubicBezTo>
                <a:cubicBezTo>
                  <a:pt x="367" y="86"/>
                  <a:pt x="377" y="71"/>
                  <a:pt x="405" y="62"/>
                </a:cubicBezTo>
                <a:cubicBezTo>
                  <a:pt x="428" y="64"/>
                  <a:pt x="459" y="52"/>
                  <a:pt x="474" y="69"/>
                </a:cubicBezTo>
                <a:cubicBezTo>
                  <a:pt x="526" y="127"/>
                  <a:pt x="410" y="155"/>
                  <a:pt x="384" y="172"/>
                </a:cubicBezTo>
                <a:cubicBezTo>
                  <a:pt x="378" y="181"/>
                  <a:pt x="330" y="226"/>
                  <a:pt x="330" y="227"/>
                </a:cubicBezTo>
                <a:cubicBezTo>
                  <a:pt x="330" y="234"/>
                  <a:pt x="344" y="223"/>
                  <a:pt x="350" y="220"/>
                </a:cubicBezTo>
                <a:cubicBezTo>
                  <a:pt x="357" y="216"/>
                  <a:pt x="364" y="210"/>
                  <a:pt x="371" y="206"/>
                </a:cubicBezTo>
                <a:cubicBezTo>
                  <a:pt x="382" y="200"/>
                  <a:pt x="409" y="195"/>
                  <a:pt x="419" y="192"/>
                </a:cubicBezTo>
                <a:cubicBezTo>
                  <a:pt x="449" y="194"/>
                  <a:pt x="481" y="187"/>
                  <a:pt x="508" y="199"/>
                </a:cubicBezTo>
                <a:cubicBezTo>
                  <a:pt x="517" y="203"/>
                  <a:pt x="507" y="219"/>
                  <a:pt x="501" y="227"/>
                </a:cubicBezTo>
                <a:cubicBezTo>
                  <a:pt x="489" y="242"/>
                  <a:pt x="465" y="237"/>
                  <a:pt x="446" y="240"/>
                </a:cubicBezTo>
                <a:cubicBezTo>
                  <a:pt x="418" y="254"/>
                  <a:pt x="410" y="272"/>
                  <a:pt x="384" y="288"/>
                </a:cubicBezTo>
                <a:cubicBezTo>
                  <a:pt x="380" y="295"/>
                  <a:pt x="377" y="303"/>
                  <a:pt x="371" y="309"/>
                </a:cubicBezTo>
                <a:cubicBezTo>
                  <a:pt x="365" y="315"/>
                  <a:pt x="350" y="315"/>
                  <a:pt x="350" y="323"/>
                </a:cubicBezTo>
                <a:cubicBezTo>
                  <a:pt x="350" y="330"/>
                  <a:pt x="364" y="318"/>
                  <a:pt x="371" y="316"/>
                </a:cubicBezTo>
                <a:cubicBezTo>
                  <a:pt x="380" y="313"/>
                  <a:pt x="389" y="311"/>
                  <a:pt x="398" y="309"/>
                </a:cubicBezTo>
                <a:cubicBezTo>
                  <a:pt x="429" y="319"/>
                  <a:pt x="447" y="341"/>
                  <a:pt x="426" y="378"/>
                </a:cubicBezTo>
                <a:cubicBezTo>
                  <a:pt x="422" y="384"/>
                  <a:pt x="412" y="384"/>
                  <a:pt x="405" y="384"/>
                </a:cubicBezTo>
                <a:cubicBezTo>
                  <a:pt x="339" y="388"/>
                  <a:pt x="272" y="389"/>
                  <a:pt x="206" y="391"/>
                </a:cubicBezTo>
                <a:cubicBezTo>
                  <a:pt x="195" y="425"/>
                  <a:pt x="162" y="487"/>
                  <a:pt x="131" y="508"/>
                </a:cubicBezTo>
                <a:cubicBezTo>
                  <a:pt x="129" y="501"/>
                  <a:pt x="127" y="494"/>
                  <a:pt x="124" y="487"/>
                </a:cubicBezTo>
                <a:cubicBezTo>
                  <a:pt x="120" y="480"/>
                  <a:pt x="110" y="475"/>
                  <a:pt x="110" y="467"/>
                </a:cubicBezTo>
                <a:cubicBezTo>
                  <a:pt x="110" y="453"/>
                  <a:pt x="124" y="426"/>
                  <a:pt x="124" y="426"/>
                </a:cubicBezTo>
                <a:cubicBezTo>
                  <a:pt x="91" y="404"/>
                  <a:pt x="36" y="425"/>
                  <a:pt x="14" y="391"/>
                </a:cubicBezTo>
                <a:cubicBezTo>
                  <a:pt x="6" y="379"/>
                  <a:pt x="5" y="364"/>
                  <a:pt x="0" y="350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1835280" y="4869000"/>
            <a:ext cx="339480" cy="43164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2268360" y="4869000"/>
            <a:ext cx="339840" cy="431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7"/>
          <p:cNvSpPr/>
          <p:nvPr/>
        </p:nvSpPr>
        <p:spPr>
          <a:xfrm rot="20476200">
            <a:off x="1619280" y="5373360"/>
            <a:ext cx="1008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 rot="20476200">
            <a:off x="2123640" y="2852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 rot="20476200">
            <a:off x="2123640" y="342864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 rot="20476200">
            <a:off x="2123640" y="4076280"/>
            <a:ext cx="360360" cy="29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1"/>
          <p:cNvSpPr/>
          <p:nvPr/>
        </p:nvSpPr>
        <p:spPr>
          <a:xfrm>
            <a:off x="5724360" y="2421000"/>
            <a:ext cx="1800360" cy="936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2"/>
          <p:cNvSpPr/>
          <p:nvPr/>
        </p:nvSpPr>
        <p:spPr>
          <a:xfrm rot="1681800">
            <a:off x="6012000" y="980640"/>
            <a:ext cx="2084400" cy="1987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3"/>
          <p:cNvSpPr/>
          <p:nvPr/>
        </p:nvSpPr>
        <p:spPr>
          <a:xfrm>
            <a:off x="5724360" y="3357720"/>
            <a:ext cx="1800360" cy="172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4"/>
          <p:cNvSpPr/>
          <p:nvPr/>
        </p:nvSpPr>
        <p:spPr>
          <a:xfrm>
            <a:off x="4716360" y="2421000"/>
            <a:ext cx="9860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25"/>
          <p:cNvSpPr/>
          <p:nvPr/>
        </p:nvSpPr>
        <p:spPr>
          <a:xfrm>
            <a:off x="6407280" y="2828880"/>
            <a:ext cx="336600" cy="466920"/>
          </a:xfrm>
          <a:custGeom>
            <a:avLst/>
            <a:gdLst>
              <a:gd name="textAreaLeft" fmla="*/ 0 w 336600"/>
              <a:gd name="textAreaRight" fmla="*/ 336960 w 33660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212" h="294">
                <a:moveTo>
                  <a:pt x="23" y="106"/>
                </a:moveTo>
                <a:cubicBezTo>
                  <a:pt x="38" y="68"/>
                  <a:pt x="54" y="30"/>
                  <a:pt x="69" y="15"/>
                </a:cubicBezTo>
                <a:cubicBezTo>
                  <a:pt x="84" y="0"/>
                  <a:pt x="91" y="0"/>
                  <a:pt x="114" y="15"/>
                </a:cubicBezTo>
                <a:cubicBezTo>
                  <a:pt x="137" y="30"/>
                  <a:pt x="198" y="68"/>
                  <a:pt x="205" y="106"/>
                </a:cubicBezTo>
                <a:cubicBezTo>
                  <a:pt x="212" y="144"/>
                  <a:pt x="189" y="212"/>
                  <a:pt x="159" y="242"/>
                </a:cubicBezTo>
                <a:cubicBezTo>
                  <a:pt x="129" y="272"/>
                  <a:pt x="46" y="294"/>
                  <a:pt x="23" y="287"/>
                </a:cubicBezTo>
                <a:cubicBezTo>
                  <a:pt x="0" y="280"/>
                  <a:pt x="15" y="204"/>
                  <a:pt x="23" y="197"/>
                </a:cubicBezTo>
                <a:cubicBezTo>
                  <a:pt x="31" y="190"/>
                  <a:pt x="54" y="242"/>
                  <a:pt x="69" y="242"/>
                </a:cubicBezTo>
                <a:cubicBezTo>
                  <a:pt x="84" y="242"/>
                  <a:pt x="107" y="220"/>
                  <a:pt x="114" y="197"/>
                </a:cubicBezTo>
                <a:cubicBezTo>
                  <a:pt x="121" y="174"/>
                  <a:pt x="121" y="121"/>
                  <a:pt x="114" y="106"/>
                </a:cubicBezTo>
                <a:cubicBezTo>
                  <a:pt x="107" y="91"/>
                  <a:pt x="76" y="99"/>
                  <a:pt x="69" y="106"/>
                </a:cubicBezTo>
                <a:cubicBezTo>
                  <a:pt x="62" y="113"/>
                  <a:pt x="77" y="144"/>
                  <a:pt x="69" y="151"/>
                </a:cubicBezTo>
                <a:cubicBezTo>
                  <a:pt x="61" y="158"/>
                  <a:pt x="31" y="166"/>
                  <a:pt x="23" y="151"/>
                </a:cubicBezTo>
                <a:cubicBezTo>
                  <a:pt x="15" y="136"/>
                  <a:pt x="19" y="98"/>
                  <a:pt x="23" y="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26"/>
          <p:cNvSpPr/>
          <p:nvPr/>
        </p:nvSpPr>
        <p:spPr>
          <a:xfrm>
            <a:off x="5796000" y="2708280"/>
            <a:ext cx="312840" cy="227160"/>
          </a:xfrm>
          <a:custGeom>
            <a:avLst/>
            <a:gdLst/>
            <a:ahLst/>
            <a:rect l="l" t="t" r="r" b="b"/>
            <a:pathLst>
              <a:path w="197" h="143">
                <a:moveTo>
                  <a:pt x="45" y="0"/>
                </a:moveTo>
                <a:cubicBezTo>
                  <a:pt x="79" y="38"/>
                  <a:pt x="113" y="76"/>
                  <a:pt x="136" y="91"/>
                </a:cubicBezTo>
                <a:cubicBezTo>
                  <a:pt x="159" y="106"/>
                  <a:pt x="197" y="84"/>
                  <a:pt x="182" y="91"/>
                </a:cubicBezTo>
                <a:cubicBezTo>
                  <a:pt x="167" y="98"/>
                  <a:pt x="75" y="129"/>
                  <a:pt x="45" y="136"/>
                </a:cubicBezTo>
                <a:cubicBezTo>
                  <a:pt x="15" y="143"/>
                  <a:pt x="7" y="139"/>
                  <a:pt x="0" y="136"/>
                </a:cubicBezTo>
              </a:path>
            </a:pathLst>
          </a:custGeom>
          <a:solidFill>
            <a:srgbClr val="000080"/>
          </a:solidFill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27"/>
          <p:cNvSpPr/>
          <p:nvPr/>
        </p:nvSpPr>
        <p:spPr>
          <a:xfrm>
            <a:off x="5651640" y="3141720"/>
            <a:ext cx="312480" cy="142920"/>
          </a:xfrm>
          <a:custGeom>
            <a:avLst/>
            <a:gdLst>
              <a:gd name="textAreaLeft" fmla="*/ 0 w 312480"/>
              <a:gd name="textAreaRight" fmla="*/ 312480 w 312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97" h="90">
                <a:moveTo>
                  <a:pt x="46" y="45"/>
                </a:moveTo>
                <a:cubicBezTo>
                  <a:pt x="106" y="22"/>
                  <a:pt x="167" y="0"/>
                  <a:pt x="182" y="0"/>
                </a:cubicBezTo>
                <a:cubicBezTo>
                  <a:pt x="197" y="0"/>
                  <a:pt x="166" y="30"/>
                  <a:pt x="136" y="45"/>
                </a:cubicBezTo>
                <a:cubicBezTo>
                  <a:pt x="106" y="60"/>
                  <a:pt x="53" y="75"/>
                  <a:pt x="0" y="90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29"/>
          <p:cNvSpPr/>
          <p:nvPr/>
        </p:nvSpPr>
        <p:spPr>
          <a:xfrm>
            <a:off x="6053040" y="2579760"/>
            <a:ext cx="1414440" cy="7840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784080"/>
              <a:gd name="textAreaBottom" fmla="*/ 784440 h 784080"/>
            </a:gdLst>
            <a:ahLst/>
            <a:rect l="textAreaLeft" t="textAreaTop" r="textAreaRight" b="textAreaBottom"/>
            <a:pathLst>
              <a:path w="891" h="494">
                <a:moveTo>
                  <a:pt x="0" y="0"/>
                </a:moveTo>
                <a:cubicBezTo>
                  <a:pt x="23" y="16"/>
                  <a:pt x="39" y="31"/>
                  <a:pt x="54" y="55"/>
                </a:cubicBezTo>
                <a:cubicBezTo>
                  <a:pt x="56" y="96"/>
                  <a:pt x="51" y="138"/>
                  <a:pt x="61" y="178"/>
                </a:cubicBezTo>
                <a:cubicBezTo>
                  <a:pt x="65" y="192"/>
                  <a:pt x="70" y="151"/>
                  <a:pt x="75" y="137"/>
                </a:cubicBezTo>
                <a:cubicBezTo>
                  <a:pt x="79" y="124"/>
                  <a:pt x="80" y="110"/>
                  <a:pt x="82" y="96"/>
                </a:cubicBezTo>
                <a:cubicBezTo>
                  <a:pt x="80" y="158"/>
                  <a:pt x="81" y="220"/>
                  <a:pt x="75" y="281"/>
                </a:cubicBezTo>
                <a:cubicBezTo>
                  <a:pt x="67" y="355"/>
                  <a:pt x="46" y="244"/>
                  <a:pt x="68" y="329"/>
                </a:cubicBezTo>
                <a:cubicBezTo>
                  <a:pt x="119" y="312"/>
                  <a:pt x="82" y="277"/>
                  <a:pt x="102" y="240"/>
                </a:cubicBezTo>
                <a:cubicBezTo>
                  <a:pt x="110" y="225"/>
                  <a:pt x="121" y="213"/>
                  <a:pt x="130" y="199"/>
                </a:cubicBezTo>
                <a:cubicBezTo>
                  <a:pt x="135" y="192"/>
                  <a:pt x="144" y="178"/>
                  <a:pt x="144" y="178"/>
                </a:cubicBezTo>
                <a:cubicBezTo>
                  <a:pt x="151" y="180"/>
                  <a:pt x="161" y="179"/>
                  <a:pt x="164" y="185"/>
                </a:cubicBezTo>
                <a:cubicBezTo>
                  <a:pt x="189" y="242"/>
                  <a:pt x="147" y="248"/>
                  <a:pt x="192" y="233"/>
                </a:cubicBezTo>
                <a:cubicBezTo>
                  <a:pt x="225" y="182"/>
                  <a:pt x="203" y="195"/>
                  <a:pt x="253" y="185"/>
                </a:cubicBezTo>
                <a:cubicBezTo>
                  <a:pt x="282" y="167"/>
                  <a:pt x="294" y="178"/>
                  <a:pt x="329" y="185"/>
                </a:cubicBezTo>
                <a:cubicBezTo>
                  <a:pt x="363" y="240"/>
                  <a:pt x="329" y="224"/>
                  <a:pt x="425" y="233"/>
                </a:cubicBezTo>
                <a:cubicBezTo>
                  <a:pt x="460" y="245"/>
                  <a:pt x="454" y="281"/>
                  <a:pt x="459" y="316"/>
                </a:cubicBezTo>
                <a:cubicBezTo>
                  <a:pt x="477" y="314"/>
                  <a:pt x="496" y="306"/>
                  <a:pt x="514" y="309"/>
                </a:cubicBezTo>
                <a:cubicBezTo>
                  <a:pt x="538" y="313"/>
                  <a:pt x="525" y="358"/>
                  <a:pt x="521" y="364"/>
                </a:cubicBezTo>
                <a:cubicBezTo>
                  <a:pt x="517" y="370"/>
                  <a:pt x="507" y="368"/>
                  <a:pt x="500" y="370"/>
                </a:cubicBezTo>
                <a:cubicBezTo>
                  <a:pt x="474" y="397"/>
                  <a:pt x="463" y="402"/>
                  <a:pt x="473" y="439"/>
                </a:cubicBezTo>
                <a:cubicBezTo>
                  <a:pt x="489" y="437"/>
                  <a:pt x="506" y="437"/>
                  <a:pt x="521" y="432"/>
                </a:cubicBezTo>
                <a:cubicBezTo>
                  <a:pt x="548" y="424"/>
                  <a:pt x="545" y="401"/>
                  <a:pt x="576" y="391"/>
                </a:cubicBezTo>
                <a:cubicBezTo>
                  <a:pt x="591" y="416"/>
                  <a:pt x="589" y="430"/>
                  <a:pt x="617" y="439"/>
                </a:cubicBezTo>
                <a:cubicBezTo>
                  <a:pt x="662" y="423"/>
                  <a:pt x="693" y="414"/>
                  <a:pt x="706" y="466"/>
                </a:cubicBezTo>
                <a:cubicBezTo>
                  <a:pt x="762" y="456"/>
                  <a:pt x="810" y="471"/>
                  <a:pt x="864" y="480"/>
                </a:cubicBezTo>
                <a:cubicBezTo>
                  <a:pt x="887" y="488"/>
                  <a:pt x="879" y="482"/>
                  <a:pt x="891" y="494"/>
                </a:cubicBez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30"/>
          <p:cNvSpPr/>
          <p:nvPr/>
        </p:nvSpPr>
        <p:spPr>
          <a:xfrm>
            <a:off x="5664240" y="3357720"/>
            <a:ext cx="1860480" cy="755640"/>
          </a:xfrm>
          <a:custGeom>
            <a:avLst/>
            <a:gdLst>
              <a:gd name="textAreaLeft" fmla="*/ 0 w 1860480"/>
              <a:gd name="textAreaRight" fmla="*/ 1860840 w 1860480"/>
              <a:gd name="textAreaTop" fmla="*/ 0 h 755640"/>
              <a:gd name="textAreaBottom" fmla="*/ 756000 h 755640"/>
            </a:gdLst>
            <a:ahLst/>
            <a:rect l="textAreaLeft" t="textAreaTop" r="textAreaRight" b="textAreaBottom"/>
            <a:pathLst>
              <a:path w="1172" h="476">
                <a:moveTo>
                  <a:pt x="1172" y="0"/>
                </a:moveTo>
                <a:cubicBezTo>
                  <a:pt x="994" y="49"/>
                  <a:pt x="817" y="98"/>
                  <a:pt x="673" y="136"/>
                </a:cubicBezTo>
                <a:cubicBezTo>
                  <a:pt x="529" y="174"/>
                  <a:pt x="416" y="173"/>
                  <a:pt x="310" y="226"/>
                </a:cubicBezTo>
                <a:cubicBezTo>
                  <a:pt x="204" y="279"/>
                  <a:pt x="0" y="430"/>
                  <a:pt x="38" y="453"/>
                </a:cubicBezTo>
                <a:cubicBezTo>
                  <a:pt x="76" y="476"/>
                  <a:pt x="462" y="386"/>
                  <a:pt x="537" y="363"/>
                </a:cubicBezTo>
                <a:cubicBezTo>
                  <a:pt x="612" y="340"/>
                  <a:pt x="438" y="332"/>
                  <a:pt x="491" y="317"/>
                </a:cubicBezTo>
                <a:cubicBezTo>
                  <a:pt x="544" y="302"/>
                  <a:pt x="741" y="302"/>
                  <a:pt x="854" y="272"/>
                </a:cubicBezTo>
                <a:cubicBezTo>
                  <a:pt x="967" y="242"/>
                  <a:pt x="1119" y="159"/>
                  <a:pt x="1172" y="136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32"/>
          <p:cNvSpPr/>
          <p:nvPr/>
        </p:nvSpPr>
        <p:spPr>
          <a:xfrm>
            <a:off x="5627520" y="3333600"/>
            <a:ext cx="1176480" cy="32400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41" h="204">
                <a:moveTo>
                  <a:pt x="741" y="15"/>
                </a:moveTo>
                <a:cubicBezTo>
                  <a:pt x="669" y="7"/>
                  <a:pt x="597" y="0"/>
                  <a:pt x="514" y="15"/>
                </a:cubicBezTo>
                <a:cubicBezTo>
                  <a:pt x="431" y="30"/>
                  <a:pt x="303" y="82"/>
                  <a:pt x="242" y="105"/>
                </a:cubicBezTo>
                <a:cubicBezTo>
                  <a:pt x="181" y="128"/>
                  <a:pt x="189" y="136"/>
                  <a:pt x="151" y="151"/>
                </a:cubicBezTo>
                <a:cubicBezTo>
                  <a:pt x="113" y="166"/>
                  <a:pt x="30" y="204"/>
                  <a:pt x="15" y="196"/>
                </a:cubicBezTo>
                <a:cubicBezTo>
                  <a:pt x="0" y="188"/>
                  <a:pt x="53" y="128"/>
                  <a:pt x="61" y="105"/>
                </a:cubicBezTo>
                <a:cubicBezTo>
                  <a:pt x="69" y="82"/>
                  <a:pt x="61" y="67"/>
                  <a:pt x="61" y="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33"/>
          <p:cNvSpPr/>
          <p:nvPr/>
        </p:nvSpPr>
        <p:spPr>
          <a:xfrm rot="678000">
            <a:off x="6012000" y="4652640"/>
            <a:ext cx="1139760" cy="95040"/>
          </a:xfrm>
          <a:custGeom>
            <a:avLst/>
            <a:gdLst>
              <a:gd name="textAreaLeft" fmla="*/ 0 w 1139760"/>
              <a:gd name="textAreaRight" fmla="*/ 1139760 w 113976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718" h="60">
                <a:moveTo>
                  <a:pt x="627" y="7"/>
                </a:moveTo>
                <a:cubicBezTo>
                  <a:pt x="396" y="3"/>
                  <a:pt x="166" y="0"/>
                  <a:pt x="83" y="7"/>
                </a:cubicBezTo>
                <a:cubicBezTo>
                  <a:pt x="0" y="14"/>
                  <a:pt x="37" y="44"/>
                  <a:pt x="128" y="52"/>
                </a:cubicBezTo>
                <a:cubicBezTo>
                  <a:pt x="219" y="60"/>
                  <a:pt x="536" y="60"/>
                  <a:pt x="627" y="52"/>
                </a:cubicBezTo>
                <a:cubicBezTo>
                  <a:pt x="718" y="44"/>
                  <a:pt x="680" y="14"/>
                  <a:pt x="673" y="7"/>
                </a:cubicBezTo>
                <a:cubicBezTo>
                  <a:pt x="666" y="0"/>
                  <a:pt x="624" y="3"/>
                  <a:pt x="582" y="7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34"/>
          <p:cNvSpPr/>
          <p:nvPr/>
        </p:nvSpPr>
        <p:spPr>
          <a:xfrm>
            <a:off x="6443640" y="3813120"/>
            <a:ext cx="924120" cy="911160"/>
          </a:xfrm>
          <a:custGeom>
            <a:avLst/>
            <a:gdLst>
              <a:gd name="textAreaLeft" fmla="*/ 0 w 924120"/>
              <a:gd name="textAreaRight" fmla="*/ 924480 w 92412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582" h="574">
                <a:moveTo>
                  <a:pt x="0" y="529"/>
                </a:moveTo>
                <a:cubicBezTo>
                  <a:pt x="30" y="487"/>
                  <a:pt x="61" y="446"/>
                  <a:pt x="91" y="393"/>
                </a:cubicBezTo>
                <a:cubicBezTo>
                  <a:pt x="121" y="340"/>
                  <a:pt x="152" y="272"/>
                  <a:pt x="182" y="212"/>
                </a:cubicBezTo>
                <a:cubicBezTo>
                  <a:pt x="212" y="152"/>
                  <a:pt x="213" y="60"/>
                  <a:pt x="273" y="30"/>
                </a:cubicBezTo>
                <a:cubicBezTo>
                  <a:pt x="333" y="0"/>
                  <a:pt x="508" y="0"/>
                  <a:pt x="545" y="30"/>
                </a:cubicBezTo>
                <a:cubicBezTo>
                  <a:pt x="582" y="60"/>
                  <a:pt x="537" y="121"/>
                  <a:pt x="499" y="212"/>
                </a:cubicBezTo>
                <a:cubicBezTo>
                  <a:pt x="461" y="303"/>
                  <a:pt x="389" y="438"/>
                  <a:pt x="318" y="574"/>
                </a:cubicBez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35"/>
          <p:cNvSpPr/>
          <p:nvPr/>
        </p:nvSpPr>
        <p:spPr>
          <a:xfrm rot="20476200">
            <a:off x="6443280" y="5516280"/>
            <a:ext cx="792360" cy="253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36"/>
          <p:cNvSpPr/>
          <p:nvPr/>
        </p:nvSpPr>
        <p:spPr>
          <a:xfrm rot="20476200">
            <a:off x="5861160" y="5554800"/>
            <a:ext cx="792000" cy="220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7"/>
          <p:cNvSpPr/>
          <p:nvPr/>
        </p:nvSpPr>
        <p:spPr>
          <a:xfrm>
            <a:off x="630072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8"/>
          <p:cNvSpPr/>
          <p:nvPr/>
        </p:nvSpPr>
        <p:spPr>
          <a:xfrm>
            <a:off x="6804000" y="5084640"/>
            <a:ext cx="3398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40"/>
          <p:cNvSpPr/>
          <p:nvPr/>
        </p:nvSpPr>
        <p:spPr>
          <a:xfrm rot="20476200">
            <a:off x="5652720" y="416052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1"/>
          <p:cNvSpPr/>
          <p:nvPr/>
        </p:nvSpPr>
        <p:spPr>
          <a:xfrm rot="20476200">
            <a:off x="5724000" y="4581000"/>
            <a:ext cx="289080" cy="293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2"/>
          <p:cNvSpPr/>
          <p:nvPr/>
        </p:nvSpPr>
        <p:spPr>
          <a:xfrm>
            <a:off x="5435640" y="2276640"/>
            <a:ext cx="2305080" cy="122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800000"/>
                </a:solidFill>
                <a:latin typeface="Verdana"/>
              </a:rPr>
              <a:t>Простая задач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Picture 4" descr="j0223745"/>
          <p:cNvPicPr/>
          <p:nvPr/>
        </p:nvPicPr>
        <p:blipFill>
          <a:blip r:embed="rId1"/>
          <a:stretch/>
        </p:blipFill>
        <p:spPr>
          <a:xfrm>
            <a:off x="395280" y="333360"/>
            <a:ext cx="923760" cy="137160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5"/>
          <p:cNvSpPr/>
          <p:nvPr/>
        </p:nvSpPr>
        <p:spPr>
          <a:xfrm>
            <a:off x="971640" y="2205000"/>
            <a:ext cx="2808360" cy="2736720"/>
          </a:xfrm>
          <a:prstGeom prst="rtTriangl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ешение: </a:t>
            </a:r>
            <a:r>
              <a:rPr b="0" lang="el-GR" sz="2600" spc="-1" strike="noStrike">
                <a:solidFill>
                  <a:srgbClr val="000000"/>
                </a:solidFill>
                <a:latin typeface="Verdana"/>
                <a:ea typeface="Arial"/>
              </a:rPr>
              <a:t>Δ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C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 – прямоугольный, то по теореме Пифагора найдем АС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B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=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√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A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Arial"/>
              </a:rPr>
              <a:t>+BC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АВ = √8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+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6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²</a:t>
            </a: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  =10 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Ответ: 10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757440" y="1844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781440" y="494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90180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91016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541800" y="414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601200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6012000" y="4221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6"/>
          <p:cNvSpPr/>
          <p:nvPr/>
        </p:nvSpPr>
        <p:spPr>
          <a:xfrm>
            <a:off x="6084720" y="4724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2341800" y="32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1:16:53Z</dcterms:created>
  <dc:creator>Даниил</dc:creator>
  <dc:description/>
  <dc:language>en-US</dc:language>
  <cp:lastModifiedBy>User</cp:lastModifiedBy>
  <dcterms:modified xsi:type="dcterms:W3CDTF">2024-01-05T10:21:06Z</dcterms:modified>
  <cp:revision>13</cp:revision>
  <dc:subject/>
  <dc:title>Слайд 1</dc:title>
</cp:coreProperties>
</file>