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DA38-FCD6-4742-81C7-CAB25BDF0D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4C90-DF02-4808-BF60-16B47D0B02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использования нетрадиционных техник изобразитель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7592-6CB3-4C08-B2F8-10035638BF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B6D0-54BD-4080-9FEC-2E16DF4112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5F85-582C-4012-B5A6-75CAD02B95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2EB7-6852-4AB0-A37B-F46EC5EAC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2F89-1EB5-4FF5-A476-C536B504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F532-337D-46B1-AE36-A83812FEA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BFD2-B680-4F99-B6CF-ECAFC640F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5B1E-93F0-41FD-95E1-3F97C9C0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2FE6-0255-4C4B-8979-20FEB0F5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CF87-2932-43B7-BB3E-C7FC8D48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8E07-F804-4CFC-BE5B-3E61A968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4F38-DDF1-4CE7-9B92-1579E65B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AAED-E887-4F3A-9412-C632ED92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663E-F883-45CA-AD3E-69FCCAD5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1389-7F80-4F37-BABB-F05D36CC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5097-7EFB-4242-8A95-2CC6B6599153}" type="datetime">
              <a:rPr b="0" lang="ru-RU" sz="9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2349-E112-4EA6-A4A5-E8BF25673D6A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2"/>
          <p:cNvSpPr/>
          <p:nvPr/>
        </p:nvSpPr>
        <p:spPr>
          <a:xfrm>
            <a:off x="755640" y="958680"/>
            <a:ext cx="8388360" cy="24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Monotype Corsiva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РАДИЦИОННЫЕ ТЕХНИКИ ИЗОБРАЗИТЕЛЬНОЙ ДЕЯТЕЛЬНОСТ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УДОЖЕСТВЕННО-ЭСТЕТИЧЕСКОМ РАЗВИТИЯ ДЕТЕЙ ДОШКОЛЬНОГО ВОЗРАСТА</a:t>
            </a:r>
            <a:r>
              <a:rPr b="1" lang="ru-RU" sz="3400" spc="-1" strike="noStrike">
                <a:solidFill>
                  <a:srgbClr val="000000"/>
                </a:solidFill>
                <a:latin typeface="Monotype Corsiva"/>
              </a:rPr>
              <a:t>»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3564000" y="4135320"/>
            <a:ext cx="53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-236520" y="120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№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«Дельфин» комбинированного вид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5219640" y="5589720"/>
            <a:ext cx="368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ю подготовил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и подготовительной группы № 4 «Красная шапочк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олзина Т.М., Кокташева В.С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CABD-65C5-4C9B-BD03-EF707D1EA1DD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3165840" y="10800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353"/>
                </a:solidFill>
                <a:latin typeface="Times New Roman"/>
                <a:ea typeface="Times New Roman"/>
              </a:rPr>
              <a:t>Отпечатки листье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3" descr=""/>
          <p:cNvPicPr/>
          <p:nvPr/>
        </p:nvPicPr>
        <p:blipFill>
          <a:blip r:embed="rId1"/>
          <a:stretch/>
        </p:blipFill>
        <p:spPr>
          <a:xfrm>
            <a:off x="1720800" y="698400"/>
            <a:ext cx="5761080" cy="40752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09" name="TextBox 4"/>
          <p:cNvSpPr/>
          <p:nvPr/>
        </p:nvSpPr>
        <p:spPr>
          <a:xfrm>
            <a:off x="324000" y="5038560"/>
            <a:ext cx="8496000" cy="16185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Технология рисования: </a:t>
            </a:r>
            <a:r>
              <a:rPr b="0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ребёнок покрывает листок дерева красками разных цветов, затем прикладывает его к бумаге окрашенной стороной для получения отпечатка. Каждый раз берётся новый листок. Черешки у листьев дорисовываются кисть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Материалы: </a:t>
            </a:r>
            <a:r>
              <a:rPr b="0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лист бумаги, листья разных деревьев, гуашь, ки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EE2B-57E7-4AA8-B4C6-CDBB08AD1F30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1791720" y="108000"/>
            <a:ext cx="5677920" cy="4597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353"/>
                </a:solidFill>
                <a:latin typeface="Times New Roman"/>
                <a:ea typeface="Times New Roman"/>
              </a:rPr>
              <a:t>Рисование: восковые мелки + акваре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Рисунок 3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3240360" cy="4581360"/>
          </a:xfrm>
          <a:prstGeom prst="rect">
            <a:avLst/>
          </a:prstGeom>
          <a:ln w="0">
            <a:noFill/>
          </a:ln>
          <a:effectLst>
            <a:outerShdw dist="50911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13" name="Рисунок 4" descr=""/>
          <p:cNvPicPr/>
          <p:nvPr/>
        </p:nvPicPr>
        <p:blipFill>
          <a:blip r:embed="rId2"/>
          <a:stretch/>
        </p:blipFill>
        <p:spPr>
          <a:xfrm>
            <a:off x="5003640" y="692280"/>
            <a:ext cx="3240360" cy="458136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14" name="TextBox 6"/>
          <p:cNvSpPr/>
          <p:nvPr/>
        </p:nvSpPr>
        <p:spPr>
          <a:xfrm>
            <a:off x="309600" y="5292720"/>
            <a:ext cx="8640720" cy="13136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Технология рисования: </a:t>
            </a:r>
            <a:r>
              <a:rPr b="0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ребёнок рисует восковыми карандашами на белой бумаге. Затем закрашивает лист акварелью в один или несколько цветов. Рисунок восковыми карандашами остаётся незакрашенны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Материал: </a:t>
            </a:r>
            <a:r>
              <a:rPr b="0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восковые карандаши, плотная бумага, акварель, ки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омер слайда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7C24-F903-48C2-95E3-9E7C0592DF60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2455920" y="108000"/>
            <a:ext cx="4234680" cy="4597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353"/>
                </a:solidFill>
                <a:latin typeface="Times New Roman"/>
                <a:ea typeface="Times New Roman"/>
              </a:rPr>
              <a:t>Рисование полусухой кисть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Рисунок 7" descr=""/>
          <p:cNvPicPr/>
          <p:nvPr/>
        </p:nvPicPr>
        <p:blipFill>
          <a:blip r:embed="rId1"/>
          <a:stretch/>
        </p:blipFill>
        <p:spPr>
          <a:xfrm>
            <a:off x="1693800" y="698400"/>
            <a:ext cx="5759640" cy="40752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18" name="TextBox 8"/>
          <p:cNvSpPr/>
          <p:nvPr/>
        </p:nvSpPr>
        <p:spPr>
          <a:xfrm>
            <a:off x="577800" y="5005440"/>
            <a:ext cx="7991640" cy="16185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Технология рисования: </a:t>
            </a:r>
            <a:r>
              <a:rPr b="0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ребёнок опускает в гуашь кисть и ударяет ею по бумаге, держа вертикально. При работе кисть в воду не опускается. Таким образом заполняется весь лист, контур или шаблон. Получается имитация фактурности пушистой, или фактурной поверх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Материалы: </a:t>
            </a:r>
            <a:r>
              <a:rPr b="0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жёсткая кисть, гуашь, бумага любого цве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7D52-0CF5-4F61-8487-F5C30FDA568A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2686320" y="108000"/>
            <a:ext cx="3879360" cy="4597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353"/>
                </a:solidFill>
                <a:latin typeface="Times New Roman"/>
                <a:ea typeface="Times New Roman"/>
              </a:rPr>
              <a:t>Рисование мыльной пе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Рисунок 6" descr=""/>
          <p:cNvPicPr/>
          <p:nvPr/>
        </p:nvPicPr>
        <p:blipFill>
          <a:blip r:embed="rId1"/>
          <a:stretch/>
        </p:blipFill>
        <p:spPr>
          <a:xfrm>
            <a:off x="1655640" y="698400"/>
            <a:ext cx="5759640" cy="40752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22" name="TextBox 7"/>
          <p:cNvSpPr/>
          <p:nvPr/>
        </p:nvSpPr>
        <p:spPr>
          <a:xfrm>
            <a:off x="250920" y="4797360"/>
            <a:ext cx="8642160" cy="19234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Технология рисования: </a:t>
            </a:r>
            <a:r>
              <a:rPr b="0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гуашь смешать с мыльным раствором, вспенить раствор через трубочку, когда пена начнёт активно выходить из стаканчика – трубочкой аккуратно выкладываем её на лист бумаги. Даём пенному рисунку высохнуть. Дорисовываем рисунок кисточк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Материалы: </a:t>
            </a:r>
            <a:r>
              <a:rPr b="0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гуашевые краски, стаканчики, вода, мыльный раствор для мытья посуды, коктейльная трубочка, листы бумаг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2100-A3EF-4C34-A9FE-9F928D66E543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3980880" y="108000"/>
            <a:ext cx="1368000" cy="4597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353"/>
                </a:solidFill>
                <a:latin typeface="Times New Roman"/>
                <a:ea typeface="Times New Roman"/>
              </a:rPr>
              <a:t>Гратта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Рисунок 6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4103640" cy="2903400"/>
          </a:xfrm>
          <a:prstGeom prst="rect">
            <a:avLst/>
          </a:prstGeom>
          <a:ln w="0">
            <a:noFill/>
          </a:ln>
          <a:effectLst>
            <a:outerShdw dist="50911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26" name="Рисунок 7" descr=""/>
          <p:cNvPicPr/>
          <p:nvPr/>
        </p:nvPicPr>
        <p:blipFill>
          <a:blip r:embed="rId2"/>
          <a:stretch/>
        </p:blipFill>
        <p:spPr>
          <a:xfrm>
            <a:off x="4686480" y="855720"/>
            <a:ext cx="4093920" cy="289728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27" name="TextBox 8"/>
          <p:cNvSpPr/>
          <p:nvPr/>
        </p:nvSpPr>
        <p:spPr>
          <a:xfrm>
            <a:off x="324000" y="4154400"/>
            <a:ext cx="8456400" cy="19234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Технология рисования: </a:t>
            </a:r>
            <a:r>
              <a:rPr b="0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лист бумаги раскрасить свечой в произвольной форме. Смешать чёрную гуашь с зубной пастой в палитре. Полученной краской тонировать весь лист. После высыхания с помощью зубочистки процарапать задуманный рисуно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Материалы: </a:t>
            </a:r>
            <a:r>
              <a:rPr b="0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листы бумаги, свеча, гуашь, зубная паста, зубочистка, палит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2"/>
          <p:cNvSpPr/>
          <p:nvPr/>
        </p:nvSpPr>
        <p:spPr>
          <a:xfrm>
            <a:off x="4070520" y="108000"/>
            <a:ext cx="1034280" cy="4597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353"/>
                </a:solidFill>
                <a:latin typeface="Times New Roman"/>
                <a:ea typeface="Times New Roman"/>
              </a:rPr>
              <a:t>Бат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Рисунок 5" descr=""/>
          <p:cNvPicPr/>
          <p:nvPr/>
        </p:nvPicPr>
        <p:blipFill>
          <a:blip r:embed="rId1"/>
          <a:stretch/>
        </p:blipFill>
        <p:spPr>
          <a:xfrm>
            <a:off x="2467080" y="569880"/>
            <a:ext cx="4019400" cy="42274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30" name="TextBox 6"/>
          <p:cNvSpPr/>
          <p:nvPr/>
        </p:nvSpPr>
        <p:spPr>
          <a:xfrm>
            <a:off x="231840" y="4797360"/>
            <a:ext cx="8713800" cy="19234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Технология рисования: </a:t>
            </a:r>
            <a:r>
              <a:rPr b="0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закрепив ткань в пяльцах, наносим клей ПВА по контуру рисунка, даём клею высохнуть. Затем специальной краской закрашиваем фон с помощью кисточки, мелкие детали прорисовываем после просушки издел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Материалы: </a:t>
            </a:r>
            <a:r>
              <a:rPr b="0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ткань, пяльца, клей ПВА, краски по ткани, клеёнка, кисти, карандаш.</a:t>
            </a:r>
            <a:r>
              <a:rPr b="1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B658-CAB0-457B-9922-9232632F6EC2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Рисунок 4" descr="DSC01091.JPG"/>
          <p:cNvPicPr/>
          <p:nvPr/>
        </p:nvPicPr>
        <p:blipFill>
          <a:blip r:embed="rId1"/>
          <a:stretch/>
        </p:blipFill>
        <p:spPr>
          <a:xfrm>
            <a:off x="1000080" y="3571920"/>
            <a:ext cx="3962520" cy="297504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3"/>
          <p:cNvSpPr/>
          <p:nvPr/>
        </p:nvSpPr>
        <p:spPr>
          <a:xfrm>
            <a:off x="539640" y="404640"/>
            <a:ext cx="417672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ластилинография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 —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вый вид декоративно-прикладного искусства. Представляет собой создания лепных картин с изображением более или менее выпуклых, полуобъемных объектов на горизонтальной поверхности.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ой материал — пластилин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5" descr="C:\Users\Дельфин\Desktop\IMG20210125144659.jpg"/>
          <p:cNvPicPr/>
          <p:nvPr/>
        </p:nvPicPr>
        <p:blipFill>
          <a:blip r:embed="rId2"/>
          <a:stretch/>
        </p:blipFill>
        <p:spPr>
          <a:xfrm>
            <a:off x="5364000" y="571680"/>
            <a:ext cx="3494160" cy="47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Номер слайда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9DDD-E2DD-4577-BCB6-B93AEC722A74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C:\Users\Дельфин\Desktop\IMG_20210125_154115.jpg"/>
          <p:cNvPicPr/>
          <p:nvPr/>
        </p:nvPicPr>
        <p:blipFill>
          <a:blip r:embed="rId1"/>
          <a:stretch/>
        </p:blipFill>
        <p:spPr>
          <a:xfrm>
            <a:off x="1000080" y="4143240"/>
            <a:ext cx="2928960" cy="2216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C:\Users\Дельфин\Desktop\IMG20210125144716.jpg"/>
          <p:cNvPicPr/>
          <p:nvPr/>
        </p:nvPicPr>
        <p:blipFill>
          <a:blip r:embed="rId2"/>
          <a:stretch/>
        </p:blipFill>
        <p:spPr>
          <a:xfrm>
            <a:off x="4357800" y="571680"/>
            <a:ext cx="3133440" cy="2189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C:\Users\Дельфин\Desktop\IMG20210125144344.jpg"/>
          <p:cNvPicPr/>
          <p:nvPr/>
        </p:nvPicPr>
        <p:blipFill>
          <a:blip r:embed="rId3"/>
          <a:stretch/>
        </p:blipFill>
        <p:spPr>
          <a:xfrm>
            <a:off x="428760" y="785880"/>
            <a:ext cx="2114280" cy="2924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C:\Users\Дельфин\Desktop\IMG20210125144707.jpg"/>
          <p:cNvPicPr/>
          <p:nvPr/>
        </p:nvPicPr>
        <p:blipFill>
          <a:blip r:embed="rId4"/>
          <a:stretch/>
        </p:blipFill>
        <p:spPr>
          <a:xfrm>
            <a:off x="5786280" y="3500280"/>
            <a:ext cx="2252880" cy="2957760"/>
          </a:xfrm>
          <a:prstGeom prst="rect">
            <a:avLst/>
          </a:prstGeom>
          <a:ln w="0">
            <a:noFill/>
          </a:ln>
        </p:spPr>
      </p:pic>
      <p:sp>
        <p:nvSpPr>
          <p:cNvPr id="140" name="TextBox 7"/>
          <p:cNvSpPr/>
          <p:nvPr/>
        </p:nvSpPr>
        <p:spPr>
          <a:xfrm>
            <a:off x="220680" y="3643200"/>
            <a:ext cx="342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ингвины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ние восковыми мелками + акварел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4357800" y="2857680"/>
            <a:ext cx="307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алют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ние мятой бумаго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9"/>
          <p:cNvSpPr/>
          <p:nvPr/>
        </p:nvSpPr>
        <p:spPr>
          <a:xfrm>
            <a:off x="5429160" y="5929200"/>
            <a:ext cx="307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Цветы в вазе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ка - набрызг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857160" y="6334200"/>
            <a:ext cx="307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етка рябины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ние ватными палочкам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5A2D-A389-456C-8799-156B1E9EA389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2"/>
          <p:cNvSpPr/>
          <p:nvPr/>
        </p:nvSpPr>
        <p:spPr>
          <a:xfrm>
            <a:off x="2790360" y="590400"/>
            <a:ext cx="36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педагог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3"/>
          <p:cNvSpPr/>
          <p:nvPr/>
        </p:nvSpPr>
        <p:spPr>
          <a:xfrm>
            <a:off x="985680" y="1484280"/>
            <a:ext cx="7272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йте разные формы художественной деятельности: коллективное творчество, самостоятельную игровую деятельность по освоению нетрадиционных техник рисова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ланировании занятий по изобразительной деятельности соблюдайте систему и преемственность использования нетрадиционных изобразительных техник, учитывая возрастные и индивидуальные способности дет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йте свой профессиональный уровень и мастерство через ознакомление, и овладении новыми нетрадиционными способами и приёмами рисов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омер слайда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D990-B65D-4E3E-8CE9-4E1E1E83DB28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Рисунок 2" descr=""/>
          <p:cNvPicPr/>
          <p:nvPr/>
        </p:nvPicPr>
        <p:blipFill>
          <a:blip r:embed="rId1"/>
          <a:stretch/>
        </p:blipFill>
        <p:spPr>
          <a:xfrm>
            <a:off x="-237960" y="12600"/>
            <a:ext cx="9381960" cy="6845400"/>
          </a:xfrm>
          <a:prstGeom prst="rect">
            <a:avLst/>
          </a:prstGeom>
          <a:ln w="0">
            <a:noFill/>
          </a:ln>
        </p:spPr>
      </p:pic>
      <p:sp>
        <p:nvSpPr>
          <p:cNvPr id="149" name="TextBox 3"/>
          <p:cNvSpPr/>
          <p:nvPr/>
        </p:nvSpPr>
        <p:spPr>
          <a:xfrm>
            <a:off x="781200" y="692280"/>
            <a:ext cx="734364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усть дети рисуют, творят, фантазируют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каждый из них станет художником, но рисование доставит им удовольстви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ни познают радость творчества, научатся видеть прекрасное в обычн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усть они растут с душой художник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539640" y="2571480"/>
            <a:ext cx="803304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400" spc="-1" strike="noStrike">
                <a:solidFill>
                  <a:srgbClr val="de0000"/>
                </a:solidFill>
                <a:latin typeface="Times New Roman"/>
                <a:ea typeface="Times New Roman"/>
              </a:rPr>
              <a:t>Нетрадиционные изобразительные техники </a:t>
            </a:r>
            <a:r>
              <a:rPr b="1" lang="ru-RU" sz="24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- это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ффективное средство изображения, включающее новые художественно-выразительные приёмы создания художественного образа, композиции и колорита, позволяющие обеспечить наибольшую выразительность образа в творческой работ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бы у детей не создавалось шабло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3203640" y="189000"/>
            <a:ext cx="568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"Истоки способностей и дарования детей — на кончиках их пальцев. От пальцев, образно говоря, идут тончайшие нити — ручейки, которые питают источник творческой мысли. Другими словами, чем больше мастерства в детской руке, тем умнее ребенок", — утвержда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                                                        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В.А.Сухомлин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Номер слайда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FF61-6E7E-453A-9877-25C7FB1D2C04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29840" y="-360"/>
            <a:ext cx="8713800" cy="635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960" indent="-1659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5960" indent="-1659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ОБЫЧНОЕ ВСЕГДА ИНТЕРЕСНО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5960" indent="-1659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чень важно с самых ранних лет приучить человека к прекрасному. А что может быть более наглядным примером для достижения красоты, чем изобразительное искусство? Но порой заинтересовать ребенка не так уж просто. Маленькие дети постоянно находятся в состоянии изучения окружающего мира. Они уже знают, что стул создан для того, чтобы сидеть, одеяло - чтобы укрываться, а кисточка - чтобы рисов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5960" indent="-1659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</a:t>
            </a:r>
            <a:r>
              <a:rPr b="0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есконечная череда «взрослых» правил и ни шага в сторону. Нетрадиционные техники рисования разрывают шаблоны обучения ребенка изобразительному искусств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5960" indent="-1659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</a:t>
            </a:r>
            <a:r>
              <a:rPr b="0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нечно, перед тем как приступить к ним, необходимо дать азы обращения с карандашами, мелками и кисточк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5960" indent="-1659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олько после того как маленький художник усвоит основные классические техники рисования, необходимо приступать к нетрадиционным.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5960" indent="-165960">
              <a:lnSpc>
                <a:spcPct val="90000"/>
              </a:lnSpc>
              <a:spcBef>
                <a:spcPts val="751"/>
              </a:spcBef>
              <a:buClr>
                <a:srgbClr val="7030a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1B3C-392B-4C85-84EE-FB37A628F5D2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1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2C99-9FCE-46D5-95E4-22DFB2075D7F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8" descr="DSC08926.JPG"/>
          <p:cNvPicPr/>
          <p:nvPr/>
        </p:nvPicPr>
        <p:blipFill>
          <a:blip r:embed="rId1"/>
          <a:stretch/>
        </p:blipFill>
        <p:spPr>
          <a:xfrm>
            <a:off x="5241960" y="4340160"/>
            <a:ext cx="3273480" cy="245736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1"/>
          <p:cNvSpPr/>
          <p:nvPr/>
        </p:nvSpPr>
        <p:spPr>
          <a:xfrm>
            <a:off x="971640" y="333360"/>
            <a:ext cx="76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ем привлекательна нетрадиционная техника рисован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2"/>
          <p:cNvSpPr/>
          <p:nvPr/>
        </p:nvSpPr>
        <p:spPr>
          <a:xfrm>
            <a:off x="324000" y="1717560"/>
            <a:ext cx="8602560" cy="29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традиционные техники рисования привлекают детей своей спонтанностью и свободой. Здесь нет никаких правил, а главное - процесс. В ходе таких занятий развивается не только видение и понимание прекрасного, но и фантазия, ловкость, изобретательность и мотор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</a:t>
            </a:r>
            <a:r>
              <a:rPr b="0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традиционные техники стимулируют положительную мотивацию, способствуют выражению индивидуальности ребенка. Комбинирование различных техник побуждает ребенка думать, самостоятельно выбирать подходящие приемы для создания уникальных и более выразительных произвед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6"/>
          <p:cNvSpPr/>
          <p:nvPr/>
        </p:nvSpPr>
        <p:spPr>
          <a:xfrm>
            <a:off x="468360" y="911160"/>
            <a:ext cx="828036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дение творческой художественной деятельности с использованием нетрадиционных техник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обуждает детей к творческим поискам и решения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Учит детей свободно выражать свой замысе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Учит работать с разнообразным материало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звивает уверенность в своих сила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звивает пространственное мышлен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звивает чувство композиции, ритма, колорита, цветовосприятия; чувство фактурности и объём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звивает творческие способности, воображение и полёт фантаз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звивает мелкую моторику ру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пособствует снятию детских страх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о время работы дети получают эстетическое удовольств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Номер слайда 7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579E-65F1-402E-BC0C-596BD67C706A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9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5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1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Овал 6"/>
          <p:cNvSpPr/>
          <p:nvPr/>
        </p:nvSpPr>
        <p:spPr>
          <a:xfrm>
            <a:off x="2908440" y="2622600"/>
            <a:ext cx="3528720" cy="1197000"/>
          </a:xfrm>
          <a:prstGeom prst="ellipse">
            <a:avLst/>
          </a:prstGeom>
          <a:solidFill>
            <a:srgbClr val="00b0f0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нетрадиционных техн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Облако 8"/>
          <p:cNvSpPr/>
          <p:nvPr/>
        </p:nvSpPr>
        <p:spPr>
          <a:xfrm>
            <a:off x="1055520" y="100080"/>
            <a:ext cx="2303640" cy="1297080"/>
          </a:xfrm>
          <a:prstGeom prst="pie">
            <a:avLst/>
          </a:prstGeom>
          <a:solidFill>
            <a:srgbClr val="d5fdff"/>
          </a:solidFill>
          <a:ln w="1260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Монотип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(предметная, пейзажна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Облако 10"/>
          <p:cNvSpPr/>
          <p:nvPr/>
        </p:nvSpPr>
        <p:spPr>
          <a:xfrm>
            <a:off x="6823080" y="461880"/>
            <a:ext cx="2160720" cy="1224000"/>
          </a:xfrm>
          <a:prstGeom prst="pie">
            <a:avLst/>
          </a:prstGeom>
          <a:solidFill>
            <a:srgbClr val="d5fdff"/>
          </a:solidFill>
          <a:ln w="12600">
            <a:solidFill>
              <a:srgbClr val="00206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Рисование ладошкой и пальц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Облако 11"/>
          <p:cNvSpPr/>
          <p:nvPr/>
        </p:nvSpPr>
        <p:spPr>
          <a:xfrm>
            <a:off x="4586400" y="154080"/>
            <a:ext cx="1871640" cy="934920"/>
          </a:xfrm>
          <a:prstGeom prst="pie">
            <a:avLst/>
          </a:prstGeom>
          <a:solidFill>
            <a:srgbClr val="d5fdff"/>
          </a:solidFill>
          <a:ln w="12600">
            <a:solidFill>
              <a:srgbClr val="00206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Рисование по сыром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Облако 12"/>
          <p:cNvSpPr/>
          <p:nvPr/>
        </p:nvSpPr>
        <p:spPr>
          <a:xfrm>
            <a:off x="3573360" y="1488960"/>
            <a:ext cx="1440000" cy="720720"/>
          </a:xfrm>
          <a:prstGeom prst="pie">
            <a:avLst/>
          </a:prstGeom>
          <a:solidFill>
            <a:srgbClr val="d5fdff"/>
          </a:solidFill>
          <a:ln w="12600">
            <a:solidFill>
              <a:srgbClr val="00206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Гратта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Облако 13"/>
          <p:cNvSpPr/>
          <p:nvPr/>
        </p:nvSpPr>
        <p:spPr>
          <a:xfrm>
            <a:off x="2424240" y="5748480"/>
            <a:ext cx="1871640" cy="936360"/>
          </a:xfrm>
          <a:prstGeom prst="pie">
            <a:avLst/>
          </a:prstGeom>
          <a:solidFill>
            <a:srgbClr val="d5fdff"/>
          </a:solidFill>
          <a:ln w="12600">
            <a:solidFill>
              <a:srgbClr val="00206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Отпечатки листье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Облако 15"/>
          <p:cNvSpPr/>
          <p:nvPr/>
        </p:nvSpPr>
        <p:spPr>
          <a:xfrm>
            <a:off x="271440" y="1812960"/>
            <a:ext cx="2448000" cy="1152360"/>
          </a:xfrm>
          <a:prstGeom prst="pie">
            <a:avLst/>
          </a:prstGeom>
          <a:solidFill>
            <a:srgbClr val="d5fdff"/>
          </a:solidFill>
          <a:ln w="1260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Восковые мелки + акваре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Облако 16"/>
          <p:cNvSpPr/>
          <p:nvPr/>
        </p:nvSpPr>
        <p:spPr>
          <a:xfrm>
            <a:off x="6626160" y="3359160"/>
            <a:ext cx="1944720" cy="1225440"/>
          </a:xfrm>
          <a:prstGeom prst="pie">
            <a:avLst/>
          </a:prstGeom>
          <a:solidFill>
            <a:srgbClr val="d5fdff"/>
          </a:solidFill>
          <a:ln w="12600">
            <a:solidFill>
              <a:srgbClr val="00206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Рисование мятой бумаг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Облако 17"/>
          <p:cNvSpPr/>
          <p:nvPr/>
        </p:nvSpPr>
        <p:spPr>
          <a:xfrm>
            <a:off x="7315200" y="2065320"/>
            <a:ext cx="1177920" cy="647640"/>
          </a:xfrm>
          <a:prstGeom prst="pie">
            <a:avLst/>
          </a:prstGeom>
          <a:solidFill>
            <a:srgbClr val="d5fdff"/>
          </a:solidFill>
          <a:ln w="1260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Бати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Облако 18"/>
          <p:cNvSpPr/>
          <p:nvPr/>
        </p:nvSpPr>
        <p:spPr>
          <a:xfrm>
            <a:off x="520560" y="3381480"/>
            <a:ext cx="1947960" cy="1224000"/>
          </a:xfrm>
          <a:prstGeom prst="pie">
            <a:avLst/>
          </a:prstGeom>
          <a:solidFill>
            <a:srgbClr val="d5fdff"/>
          </a:solidFill>
          <a:ln w="1260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Рисование полусухой кисть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Облако 19"/>
          <p:cNvSpPr/>
          <p:nvPr/>
        </p:nvSpPr>
        <p:spPr>
          <a:xfrm>
            <a:off x="169920" y="5122800"/>
            <a:ext cx="2367000" cy="863640"/>
          </a:xfrm>
          <a:prstGeom prst="pie">
            <a:avLst/>
          </a:prstGeom>
          <a:solidFill>
            <a:srgbClr val="d5fdff"/>
          </a:solidFill>
          <a:ln w="1260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Кляксограф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Облако 20"/>
          <p:cNvSpPr/>
          <p:nvPr/>
        </p:nvSpPr>
        <p:spPr>
          <a:xfrm>
            <a:off x="6962760" y="5013360"/>
            <a:ext cx="2017800" cy="1417680"/>
          </a:xfrm>
          <a:prstGeom prst="pie">
            <a:avLst/>
          </a:prstGeom>
          <a:solidFill>
            <a:srgbClr val="d5fdff"/>
          </a:solidFill>
          <a:ln w="12600">
            <a:solidFill>
              <a:srgbClr val="00206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Рисование мыльной пен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Облако 21"/>
          <p:cNvSpPr/>
          <p:nvPr/>
        </p:nvSpPr>
        <p:spPr>
          <a:xfrm>
            <a:off x="3573360" y="4773600"/>
            <a:ext cx="3240360" cy="1027080"/>
          </a:xfrm>
          <a:prstGeom prst="pie">
            <a:avLst/>
          </a:prstGeom>
          <a:solidFill>
            <a:srgbClr val="d5fdff"/>
          </a:solidFill>
          <a:ln w="12600">
            <a:solidFill>
              <a:srgbClr val="00206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Пластилинограф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ая соединительная линия 23"/>
          <p:cNvSpPr/>
          <p:nvPr/>
        </p:nvSpPr>
        <p:spPr>
          <a:xfrm>
            <a:off x="2687760" y="1238400"/>
            <a:ext cx="1050840" cy="1503360"/>
          </a:xfrm>
          <a:prstGeom prst="line">
            <a:avLst/>
          </a:prstGeom>
          <a:ln w="64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ая соединительная линия 30"/>
          <p:cNvSpPr/>
          <p:nvPr/>
        </p:nvSpPr>
        <p:spPr>
          <a:xfrm>
            <a:off x="4292640" y="2208240"/>
            <a:ext cx="17280" cy="441360"/>
          </a:xfrm>
          <a:prstGeom prst="line">
            <a:avLst/>
          </a:prstGeom>
          <a:ln w="64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ая соединительная линия 18432"/>
          <p:cNvSpPr/>
          <p:nvPr/>
        </p:nvSpPr>
        <p:spPr>
          <a:xfrm flipH="1">
            <a:off x="5168520" y="1087560"/>
            <a:ext cx="353880" cy="1555560"/>
          </a:xfrm>
          <a:prstGeom prst="line">
            <a:avLst/>
          </a:prstGeom>
          <a:ln w="64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ая соединительная линия 18434"/>
          <p:cNvSpPr/>
          <p:nvPr/>
        </p:nvSpPr>
        <p:spPr>
          <a:xfrm flipH="1">
            <a:off x="5740200" y="1438200"/>
            <a:ext cx="1222200" cy="1332000"/>
          </a:xfrm>
          <a:prstGeom prst="line">
            <a:avLst/>
          </a:prstGeom>
          <a:ln w="64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ая соединительная линия 18438"/>
          <p:cNvSpPr/>
          <p:nvPr/>
        </p:nvSpPr>
        <p:spPr>
          <a:xfrm flipH="1">
            <a:off x="6241680" y="2522520"/>
            <a:ext cx="1073160" cy="525600"/>
          </a:xfrm>
          <a:prstGeom prst="line">
            <a:avLst/>
          </a:prstGeom>
          <a:ln w="64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ая соединительная линия 18440"/>
          <p:cNvSpPr/>
          <p:nvPr/>
        </p:nvSpPr>
        <p:spPr>
          <a:xfrm>
            <a:off x="6242040" y="3484440"/>
            <a:ext cx="384120" cy="400320"/>
          </a:xfrm>
          <a:prstGeom prst="line">
            <a:avLst/>
          </a:prstGeom>
          <a:ln w="64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ая соединительная линия 18442"/>
          <p:cNvSpPr/>
          <p:nvPr/>
        </p:nvSpPr>
        <p:spPr>
          <a:xfrm>
            <a:off x="5740560" y="3633840"/>
            <a:ext cx="1423800" cy="1920960"/>
          </a:xfrm>
          <a:prstGeom prst="line">
            <a:avLst/>
          </a:prstGeom>
          <a:ln w="64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ая соединительная линия 18448"/>
          <p:cNvSpPr/>
          <p:nvPr/>
        </p:nvSpPr>
        <p:spPr>
          <a:xfrm>
            <a:off x="4694400" y="3838680"/>
            <a:ext cx="109440" cy="1023840"/>
          </a:xfrm>
          <a:prstGeom prst="line">
            <a:avLst/>
          </a:prstGeom>
          <a:ln w="64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ая соединительная линия 18452"/>
          <p:cNvSpPr/>
          <p:nvPr/>
        </p:nvSpPr>
        <p:spPr>
          <a:xfrm flipH="1">
            <a:off x="3185640" y="3743280"/>
            <a:ext cx="709560" cy="2038320"/>
          </a:xfrm>
          <a:prstGeom prst="line">
            <a:avLst/>
          </a:prstGeom>
          <a:ln w="64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ая соединительная линия 18455"/>
          <p:cNvSpPr/>
          <p:nvPr/>
        </p:nvSpPr>
        <p:spPr>
          <a:xfrm flipV="1">
            <a:off x="2233440" y="3645000"/>
            <a:ext cx="1192320" cy="1533600"/>
          </a:xfrm>
          <a:prstGeom prst="line">
            <a:avLst/>
          </a:prstGeom>
          <a:ln w="64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ая соединительная линия 18457"/>
          <p:cNvSpPr/>
          <p:nvPr/>
        </p:nvSpPr>
        <p:spPr>
          <a:xfrm flipV="1">
            <a:off x="2398680" y="3427560"/>
            <a:ext cx="611280" cy="255600"/>
          </a:xfrm>
          <a:prstGeom prst="line">
            <a:avLst/>
          </a:prstGeom>
          <a:ln w="64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ая соединительная линия 18459"/>
          <p:cNvSpPr/>
          <p:nvPr/>
        </p:nvSpPr>
        <p:spPr>
          <a:xfrm>
            <a:off x="2658960" y="2514600"/>
            <a:ext cx="554040" cy="401760"/>
          </a:xfrm>
          <a:prstGeom prst="line">
            <a:avLst/>
          </a:prstGeom>
          <a:ln w="64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омер слайда 1126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A878-671F-407D-BDD2-642322CC4F2E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11" nodeType="after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21" nodeType="after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31" nodeType="after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41" nodeType="after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51" nodeType="after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61" nodeType="after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7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41FF-7B21-49CC-B798-7BFFFA8123DA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8"/>
          <p:cNvSpPr/>
          <p:nvPr/>
        </p:nvSpPr>
        <p:spPr>
          <a:xfrm>
            <a:off x="2156400" y="108000"/>
            <a:ext cx="4969080" cy="4597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353"/>
                </a:solidFill>
                <a:latin typeface="Times New Roman"/>
                <a:ea typeface="Times New Roman"/>
              </a:rPr>
              <a:t>Рисование ладошкой, пальчик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9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3959280" cy="2802240"/>
          </a:xfrm>
          <a:prstGeom prst="rect">
            <a:avLst/>
          </a:prstGeom>
          <a:ln w="0">
            <a:noFill/>
          </a:ln>
          <a:effectLst>
            <a:outerShdw dist="50911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92" name="Рисунок 10" descr=""/>
          <p:cNvPicPr/>
          <p:nvPr/>
        </p:nvPicPr>
        <p:blipFill>
          <a:blip r:embed="rId2"/>
          <a:stretch/>
        </p:blipFill>
        <p:spPr>
          <a:xfrm>
            <a:off x="4716360" y="1268280"/>
            <a:ext cx="3959280" cy="280224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93" name="TextBox 12"/>
          <p:cNvSpPr/>
          <p:nvPr/>
        </p:nvSpPr>
        <p:spPr>
          <a:xfrm>
            <a:off x="466560" y="4486320"/>
            <a:ext cx="8209080" cy="19234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Технология рисования: </a:t>
            </a:r>
            <a:r>
              <a:rPr b="0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посередине листа ребёнок рисует ребром ладошки, или ладошкой и пальчиками. Макает в краску и отпечатывает на бумаге так, как необходимо для того рисунка, какой он изображает. Потом краска вытирается салфеткой с пальчиков и ладоше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Материал: </a:t>
            </a:r>
            <a:r>
              <a:rPr b="0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альбомный лист бумаги, гуашевые краски, влажные салфетки.</a:t>
            </a:r>
            <a:r>
              <a:rPr b="0" lang="ru-RU" sz="20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омер слайда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F3B6-378A-4658-8050-F9B9F8CABA57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2771640" y="136440"/>
            <a:ext cx="5294520" cy="4597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353"/>
                </a:solidFill>
                <a:latin typeface="Times New Roman"/>
                <a:ea typeface="Times New Roman"/>
              </a:rPr>
              <a:t>Рисование мятой  бумаг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Рисунок 8" descr=""/>
          <p:cNvPicPr/>
          <p:nvPr/>
        </p:nvPicPr>
        <p:blipFill>
          <a:blip r:embed="rId1"/>
          <a:stretch/>
        </p:blipFill>
        <p:spPr>
          <a:xfrm>
            <a:off x="387360" y="836640"/>
            <a:ext cx="4479840" cy="31687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97" name="TextBox 9"/>
          <p:cNvSpPr/>
          <p:nvPr/>
        </p:nvSpPr>
        <p:spPr>
          <a:xfrm>
            <a:off x="638280" y="4941720"/>
            <a:ext cx="8254800" cy="16185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Технология рисования: </a:t>
            </a:r>
            <a:r>
              <a:rPr b="0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развести акварельную краску в блюдце, помять бумагу, окунать в краску и делать отпечаток на бумаге. Потом кисточкой дорисовать детали рисун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Материал: </a:t>
            </a:r>
            <a:r>
              <a:rPr b="0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альбомный лист бумаги, мятая бумага, акварельная краска, блюдце, салфет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2"/>
          <p:cNvSpPr/>
          <p:nvPr/>
        </p:nvSpPr>
        <p:spPr>
          <a:xfrm>
            <a:off x="5076720" y="816120"/>
            <a:ext cx="3888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весьма занятная техника рисования, которая дает простор для фантазии и свободу маленьким ручка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лекательным является даже процесс подготовки к занятию. Бумажные комочки, которыми собственно и будет выполняться работа, дети с удовольствием могут намять сами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омер слайда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7B00-29EF-4CA6-98E1-EB0783F148B6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3642840" y="108000"/>
            <a:ext cx="1788480" cy="4597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353"/>
                </a:solidFill>
                <a:latin typeface="Times New Roman"/>
                <a:ea typeface="Times New Roman"/>
              </a:rPr>
              <a:t>Монотип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Рисунок 4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4070160" cy="2879640"/>
          </a:xfrm>
          <a:prstGeom prst="rect">
            <a:avLst/>
          </a:prstGeom>
          <a:ln w="0">
            <a:noFill/>
          </a:ln>
          <a:effectLst>
            <a:outerShdw dist="50911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02" name="Рисунок 5" descr=""/>
          <p:cNvPicPr/>
          <p:nvPr/>
        </p:nvPicPr>
        <p:blipFill>
          <a:blip r:embed="rId2"/>
          <a:stretch/>
        </p:blipFill>
        <p:spPr>
          <a:xfrm>
            <a:off x="4716360" y="1341360"/>
            <a:ext cx="4070520" cy="28796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03" name="TextBox 6"/>
          <p:cNvSpPr/>
          <p:nvPr/>
        </p:nvSpPr>
        <p:spPr>
          <a:xfrm>
            <a:off x="1566720" y="866880"/>
            <a:ext cx="1584360" cy="398880"/>
          </a:xfrm>
          <a:prstGeom prst="rect">
            <a:avLst/>
          </a:prstGeom>
          <a:noFill/>
          <a:ln w="0">
            <a:noFill/>
          </a:ln>
          <a:effectLst>
            <a:outerShdw dist="25455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353"/>
                </a:solidFill>
                <a:latin typeface="Times New Roman"/>
                <a:ea typeface="Times New Roman"/>
              </a:rPr>
              <a:t>Предметн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6019560" y="866880"/>
            <a:ext cx="1463760" cy="3988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353"/>
                </a:solidFill>
                <a:latin typeface="Times New Roman"/>
                <a:ea typeface="Times New Roman"/>
              </a:rPr>
              <a:t>Пейзажн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324000" y="4678200"/>
            <a:ext cx="8462880" cy="16185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Технология рисования: </a:t>
            </a:r>
            <a:r>
              <a:rPr b="0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ребёнок складывает лист бумаги вдвое и на одной его половине рисует половинку изображаемого предмета. После рисования каждой части предмета, пока не высохла краска лист снова складывается пополам для получения отпечат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Материал: </a:t>
            </a:r>
            <a:r>
              <a:rPr b="0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плотная бумага, кисти, гуашь или акварел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21T20:14:32Z</dcterms:created>
  <dc:creator>Киселева Е.В.</dc:creator>
  <dc:description/>
  <cp:keywords/>
  <dc:language>en-US</dc:language>
  <cp:lastModifiedBy>DNS</cp:lastModifiedBy>
  <dcterms:modified xsi:type="dcterms:W3CDTF">2021-01-26T06:37:38Z</dcterms:modified>
  <cp:revision>27</cp:revision>
  <dc:subject/>
  <dc:title>Нетрадиционные техники для художественно-эстетического развития.</dc:title>
</cp:coreProperties>
</file>