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0C44-5240-43FC-B60A-A156C8EE4E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248-438D-4C1B-925A-A0B09E7B2F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спользования нетрадиционных техник изобразительн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B1C0-2CE6-45EE-961E-95CF2835C7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C9E-01EC-4FC1-814E-662857E240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963F-4D79-4610-A154-F1C3C442AA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C29-F2D1-4879-903E-1E563CB6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F0B-0BBE-49A1-958C-F613A7A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B255-BC02-4FFC-BFD7-E0763F4E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6F1-01C0-40C3-A2B2-B76A5722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070-C1EC-4FF8-809B-FE0810B9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5EE-9D6B-4656-B6AA-8B98EA68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A7D-C901-4EB7-943A-3A88B0FA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CF2-1047-443B-AFB6-60B66502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4CE-794A-4852-AFD5-0565BC65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9ABF-B692-45C3-900B-0F36C1AB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B29-731D-4FF7-9C9D-D225CF89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0D7-3407-450C-8E2B-64C5DC2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D87B-F618-4208-AEAC-D5D06EE9A6AA}" type="datetime">
              <a:rPr b="0" lang="ru-RU" sz="9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E6A7-FAD4-41FA-8442-B99AAB35AE45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755640" y="958680"/>
            <a:ext cx="838836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РАДИЦИОННЫЕ ТЕХНИКИ ИЗОБРАЗИТЕЛЬНОЙ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УДОЖЕСТВЕННО-ЭСТЕТИЧЕСКОМ РАЗВИТИЯ ДЕТЕЙ ДОШКОЛЬНОГО ВОЗРАСТА</a:t>
            </a:r>
            <a:r>
              <a:rPr b="1" lang="ru-RU" sz="3400" spc="-1" strike="noStrike">
                <a:solidFill>
                  <a:srgbClr val="000000"/>
                </a:solidFill>
                <a:latin typeface="Monotype Corsiva"/>
              </a:rPr>
              <a:t>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564000" y="4135320"/>
            <a:ext cx="53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-236520" y="120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«Дельфин» комбинированного вид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219640" y="5589720"/>
            <a:ext cx="36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и подготовительной группы № 4 «Красная шап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зина Т.М., Кокташева В.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B23D-097F-4766-B5F0-A884F178577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3165840" y="108000"/>
            <a:ext cx="2872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Отпечатки листь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720800" y="698400"/>
            <a:ext cx="576108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9" name="TextBox 4"/>
          <p:cNvSpPr/>
          <p:nvPr/>
        </p:nvSpPr>
        <p:spPr>
          <a:xfrm>
            <a:off x="324000" y="5038560"/>
            <a:ext cx="84960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покрывает листок дерева красками разных цветов, затем прикладывает его к бумаге окрашенной стороной для получения отпечатка. Каждый раз берётся новый листок. Черешки у листьев дорисовываются кис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, листья разных деревьев, гуаш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C537-BB39-4605-B5FF-ADB73FE04ED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1791720" y="108000"/>
            <a:ext cx="56779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: восковые мелки + аквар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3" name="Рисунок 4" descr=""/>
          <p:cNvPicPr/>
          <p:nvPr/>
        </p:nvPicPr>
        <p:blipFill>
          <a:blip r:embed="rId2"/>
          <a:stretch/>
        </p:blipFill>
        <p:spPr>
          <a:xfrm>
            <a:off x="5003640" y="692280"/>
            <a:ext cx="3240360" cy="458136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309600" y="5292720"/>
            <a:ext cx="8640720" cy="13136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рисует восковыми карандашами на белой бумаге. Затем закрашивает лист акварелью в один или несколько цветов. Рисунок восковыми карандашами остаётся незакрашен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восковые карандаши, плотная бумага, акварель, ки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EB5-EB33-4916-A52D-6A23B6556A9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2455920" y="108000"/>
            <a:ext cx="42346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полусухой ки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7" descr=""/>
          <p:cNvPicPr/>
          <p:nvPr/>
        </p:nvPicPr>
        <p:blipFill>
          <a:blip r:embed="rId1"/>
          <a:stretch/>
        </p:blipFill>
        <p:spPr>
          <a:xfrm>
            <a:off x="169380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TextBox 8"/>
          <p:cNvSpPr/>
          <p:nvPr/>
        </p:nvSpPr>
        <p:spPr>
          <a:xfrm>
            <a:off x="577800" y="5005440"/>
            <a:ext cx="799164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опускает в гуашь кисть и ударяет ею по бумаге, держа вертикально. При работе кисть в воду не опускается. Таким образом заполняется весь лист, контур или шаблон. Получается имитация фактурности пушистой, или фактурной поверх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жёсткая кисть, гуашь, бумага любого цве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48B6-EC77-4575-9001-96DB4546367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2686320" y="108000"/>
            <a:ext cx="387936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ыльной пе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6" descr=""/>
          <p:cNvPicPr/>
          <p:nvPr/>
        </p:nvPicPr>
        <p:blipFill>
          <a:blip r:embed="rId1"/>
          <a:stretch/>
        </p:blipFill>
        <p:spPr>
          <a:xfrm>
            <a:off x="1655640" y="698400"/>
            <a:ext cx="5759640" cy="40752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2" name="TextBox 7"/>
          <p:cNvSpPr/>
          <p:nvPr/>
        </p:nvSpPr>
        <p:spPr>
          <a:xfrm>
            <a:off x="250920" y="4797360"/>
            <a:ext cx="864216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ь смешать с мыльным раствором, вспенить раствор через трубочку, когда пена начнёт активно выходить из стаканчика – трубочкой аккуратно выкладываем её на лист бумаги. Даём пенному рисунку высохнуть. Дорисовываем рисунок кисточк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гуашевые краски, стаканчики, вода, мыльный раствор для мытья посуды, коктейльная трубочка, листы бумаг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6984-AA4F-4B1E-A3BB-C59436325C0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3980880" y="108000"/>
            <a:ext cx="136800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Гратта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6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4103640" cy="290340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6" name="Рисунок 7" descr=""/>
          <p:cNvPicPr/>
          <p:nvPr/>
        </p:nvPicPr>
        <p:blipFill>
          <a:blip r:embed="rId2"/>
          <a:stretch/>
        </p:blipFill>
        <p:spPr>
          <a:xfrm>
            <a:off x="4686480" y="855720"/>
            <a:ext cx="4093920" cy="289728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7" name="TextBox 8"/>
          <p:cNvSpPr/>
          <p:nvPr/>
        </p:nvSpPr>
        <p:spPr>
          <a:xfrm>
            <a:off x="324000" y="4154400"/>
            <a:ext cx="84564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 бумаги раскрасить свечой в произвольной форме. Смешать чёрную гуашь с зубной пастой в палитре. Полученной краской тонировать весь лист. После высыхания с помощью зубочистки процарапать задуманный рисун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листы бумаги, свеча, гуашь, зубная паста, зубочистка, палит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4070520" y="108000"/>
            <a:ext cx="10342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Бат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5" descr=""/>
          <p:cNvPicPr/>
          <p:nvPr/>
        </p:nvPicPr>
        <p:blipFill>
          <a:blip r:embed="rId1"/>
          <a:stretch/>
        </p:blipFill>
        <p:spPr>
          <a:xfrm>
            <a:off x="2467080" y="569880"/>
            <a:ext cx="4019400" cy="42274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30" name="TextBox 6"/>
          <p:cNvSpPr/>
          <p:nvPr/>
        </p:nvSpPr>
        <p:spPr>
          <a:xfrm>
            <a:off x="231840" y="4797360"/>
            <a:ext cx="871380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закрепив ткань в пяльцах, наносим клей ПВА по контуру рисунка, даём клею высохнуть. Затем специальной краской закрашиваем фон с помощью кисточки, мелкие детали прорисовываем после просушки издел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ы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ткань, пяльца, клей ПВА, краски по ткани, клеёнка, кисти, карандаш.</a:t>
            </a: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8555-B9E5-48B7-B5CB-A4544CDDDAE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4" descr="DSC01091.JPG"/>
          <p:cNvPicPr/>
          <p:nvPr/>
        </p:nvPicPr>
        <p:blipFill>
          <a:blip r:embed="rId1"/>
          <a:stretch/>
        </p:blipFill>
        <p:spPr>
          <a:xfrm>
            <a:off x="1000080" y="3571920"/>
            <a:ext cx="3962520" cy="29750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539640" y="404640"/>
            <a:ext cx="41767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стилинография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 —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ый вид декоративно-прикладного искусства. Представляет собой создания лепных картин с изображением более или менее выпуклых, полуобъемных объектов на горизонтальной поверхности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ой материал — пластилин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C:\Users\Дельфин\Desktop\IMG20210125144659.jpg"/>
          <p:cNvPicPr/>
          <p:nvPr/>
        </p:nvPicPr>
        <p:blipFill>
          <a:blip r:embed="rId2"/>
          <a:stretch/>
        </p:blipFill>
        <p:spPr>
          <a:xfrm>
            <a:off x="5364000" y="571680"/>
            <a:ext cx="34941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49B2-0E17-4B54-9F95-B0DB83FC753C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C:\Users\Дельфин\Desktop\IMG_20210125_154115.jpg"/>
          <p:cNvPicPr/>
          <p:nvPr/>
        </p:nvPicPr>
        <p:blipFill>
          <a:blip r:embed="rId1"/>
          <a:stretch/>
        </p:blipFill>
        <p:spPr>
          <a:xfrm>
            <a:off x="1000080" y="4143240"/>
            <a:ext cx="2928960" cy="2216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Users\Дельфин\Desktop\IMG20210125144716.jpg"/>
          <p:cNvPicPr/>
          <p:nvPr/>
        </p:nvPicPr>
        <p:blipFill>
          <a:blip r:embed="rId2"/>
          <a:stretch/>
        </p:blipFill>
        <p:spPr>
          <a:xfrm>
            <a:off x="4357800" y="571680"/>
            <a:ext cx="3133440" cy="2189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Users\Дельфин\Desktop\IMG20210125144344.jpg"/>
          <p:cNvPicPr/>
          <p:nvPr/>
        </p:nvPicPr>
        <p:blipFill>
          <a:blip r:embed="rId3"/>
          <a:stretch/>
        </p:blipFill>
        <p:spPr>
          <a:xfrm>
            <a:off x="428760" y="785880"/>
            <a:ext cx="2114280" cy="292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Дельфин\Desktop\IMG20210125144707.jpg"/>
          <p:cNvPicPr/>
          <p:nvPr/>
        </p:nvPicPr>
        <p:blipFill>
          <a:blip r:embed="rId4"/>
          <a:stretch/>
        </p:blipFill>
        <p:spPr>
          <a:xfrm>
            <a:off x="5786280" y="3500280"/>
            <a:ext cx="2252880" cy="29577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20680" y="3643200"/>
            <a:ext cx="342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нгв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осковыми мелками + акварел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357800" y="285768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алют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мятой бумаго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5429160" y="5929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веты в вазе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- набрыз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857160" y="6334200"/>
            <a:ext cx="30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етка рябины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ватными палоч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4EE8-24FC-4F7C-91D4-C857CE755A9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"/>
          <p:cNvSpPr/>
          <p:nvPr/>
        </p:nvSpPr>
        <p:spPr>
          <a:xfrm>
            <a:off x="2790360" y="590400"/>
            <a:ext cx="36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едагог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85680" y="1484280"/>
            <a:ext cx="7272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те разные формы художественной деятельности: коллективное творчество, самостоятельную игровую деятельность по освоению нетрадиционных техник рис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ланировании занятий по изобразительной деятельности соблюдайте систему и преемственность использования нетрадиционных изобразительных техник, учитывая возрастные и индивидуальные способности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йте свой профессиональный уровень и мастерство через ознакомление, и овладении новыми нетрадиционными способами и приёмами рис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0256-7C1F-4CDC-B085-B9B36E761CA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1"/>
          <a:stretch/>
        </p:blipFill>
        <p:spPr>
          <a:xfrm>
            <a:off x="-237960" y="12600"/>
            <a:ext cx="9381960" cy="68454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"/>
          <p:cNvSpPr/>
          <p:nvPr/>
        </p:nvSpPr>
        <p:spPr>
          <a:xfrm>
            <a:off x="781200" y="692280"/>
            <a:ext cx="73436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дети рисуют, творят, фантазируют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каждый из них станет художником, но рисование доставит им удовольств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 познают радость творчества, научатся видеть прекрасное в обычн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они растут с душой художника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39640" y="2571480"/>
            <a:ext cx="80330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Нетрадиционные изобразительные техники </a:t>
            </a:r>
            <a:r>
              <a:rPr b="1" lang="ru-RU" sz="24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- это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ффективное средство изображения, включающее новые художественно-выразительные приёмы создания художественного образа, композиции и колорита, позволяющие обеспечить наибольшую выразительность образа в творческой работ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у детей не создавалось шабл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203640" y="18900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"Истоки способностей и дарования детей — на кончиках их пальцев. От пальцев, образно говоря, идут тончайшие нити — ручейки, которые питают источник творческой мысли. Другими словами, чем больше мастерства в детской руке, тем умнее ребенок", — утвержд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                                                           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В.А.Сухомлин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F9B-8D4E-483B-96A9-0A14E99515E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29840" y="-360"/>
            <a:ext cx="8713800" cy="63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ЫЧНОЕ ВСЕГДА ИНТЕРЕС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чень важно с самых ранних лет приучить человека к прекрасному. А что может быть более наглядным примером для достижения красоты, чем изобразительное искусство? Но порой заинтересовать ребенка не так уж просто. Маленькие дети постоянно находятся в состоянии изучения окружающего мира. Они уже знают, что стул создан для того, чтобы сидеть, одеяло - чтобы укрываться, а кисточка - чтобы рисо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сконечная череда «взрослых» правил и ни шага в сторону. Нетрадиционные техники рисования разрывают шаблоны обучения ребенка изобразительному искусств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нечно, перед тем как приступить к ним, необходимо дать азы обращения с карандашами, мелками и кисточ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лько после того как маленький художник усвоит основные классические техники рисования, необходимо приступать к нетрадиционным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омер слайда 3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1647-2DBF-4046-B8A5-D6E9D137EE0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1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D19C-1E78-4E78-83B2-09ED4972004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8" descr="DSC08926.JPG"/>
          <p:cNvPicPr/>
          <p:nvPr/>
        </p:nvPicPr>
        <p:blipFill>
          <a:blip r:embed="rId1"/>
          <a:stretch/>
        </p:blipFill>
        <p:spPr>
          <a:xfrm>
            <a:off x="5241960" y="4340160"/>
            <a:ext cx="3273480" cy="2457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971640" y="333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м привлекательна нетрадиционная техника рисован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24000" y="1717560"/>
            <a:ext cx="860256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рисования привлекают детей своей спонтанностью и свободой. Здесь нет никаких правил, а главное - процесс. В ходе таких занятий развивается не только видение и понимание прекрасного, но и фантазия, ловкость, изобретательность и мотор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</a:t>
            </a:r>
            <a:r>
              <a:rPr b="0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традиционные техники стимулируют положительную мотивацию, способствуют выражению индивидуальности ребенка. Комбинирование различных техник побуждает ребенка думать, самостоятельно выбирать подходящие приемы для создания уникальных и более выразительных произвед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6"/>
          <p:cNvSpPr/>
          <p:nvPr/>
        </p:nvSpPr>
        <p:spPr>
          <a:xfrm>
            <a:off x="468360" y="911160"/>
            <a:ext cx="828036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едение творческой художественной деятельности с использованием нетрадиционных техни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буждает детей к творческим поискам и решения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детей свободно выражать свой замысе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Учит работать с разнообразным материал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уверенность в своих сил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пространственное мышле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чувство композиции, ритма, колорита, цветовосприятия; чувство фактурности и объём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творческие способности, воображение и полёт фантаз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звивает мелкую моторику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пособствует снятию детских страх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о время работы дети получают эстетическое удовольств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67B-B6F2-4B99-9E90-6EB21132097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Овал 6"/>
          <p:cNvSpPr/>
          <p:nvPr/>
        </p:nvSpPr>
        <p:spPr>
          <a:xfrm>
            <a:off x="2908440" y="2622600"/>
            <a:ext cx="3528720" cy="1197000"/>
          </a:xfrm>
          <a:prstGeom prst="ellipse">
            <a:avLst/>
          </a:prstGeom>
          <a:solidFill>
            <a:srgbClr val="00b0f0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нетрадиционных техни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блако 8"/>
          <p:cNvSpPr/>
          <p:nvPr/>
        </p:nvSpPr>
        <p:spPr>
          <a:xfrm>
            <a:off x="1055520" y="100080"/>
            <a:ext cx="2303640" cy="129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Монотип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(предметная, пейзажна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10"/>
          <p:cNvSpPr/>
          <p:nvPr/>
        </p:nvSpPr>
        <p:spPr>
          <a:xfrm>
            <a:off x="6823080" y="461880"/>
            <a:ext cx="216072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ладошкой и пальц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блако 11"/>
          <p:cNvSpPr/>
          <p:nvPr/>
        </p:nvSpPr>
        <p:spPr>
          <a:xfrm>
            <a:off x="4586400" y="154080"/>
            <a:ext cx="1871640" cy="9349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 сыром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блако 12"/>
          <p:cNvSpPr/>
          <p:nvPr/>
        </p:nvSpPr>
        <p:spPr>
          <a:xfrm>
            <a:off x="3573360" y="1488960"/>
            <a:ext cx="1440000" cy="72072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Гратта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2424240" y="5748480"/>
            <a:ext cx="1871640" cy="936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Отпечатки листье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блако 15"/>
          <p:cNvSpPr/>
          <p:nvPr/>
        </p:nvSpPr>
        <p:spPr>
          <a:xfrm>
            <a:off x="271440" y="1812960"/>
            <a:ext cx="2448000" cy="115236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Восковые мелки + акваре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блако 16"/>
          <p:cNvSpPr/>
          <p:nvPr/>
        </p:nvSpPr>
        <p:spPr>
          <a:xfrm>
            <a:off x="6626160" y="3359160"/>
            <a:ext cx="1944720" cy="12254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ятой бума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блако 17"/>
          <p:cNvSpPr/>
          <p:nvPr/>
        </p:nvSpPr>
        <p:spPr>
          <a:xfrm>
            <a:off x="7315200" y="2065320"/>
            <a:ext cx="1177920" cy="647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Бат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блако 18"/>
          <p:cNvSpPr/>
          <p:nvPr/>
        </p:nvSpPr>
        <p:spPr>
          <a:xfrm>
            <a:off x="520560" y="3381480"/>
            <a:ext cx="1947960" cy="122400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полусухой кисть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блако 19"/>
          <p:cNvSpPr/>
          <p:nvPr/>
        </p:nvSpPr>
        <p:spPr>
          <a:xfrm>
            <a:off x="169920" y="5122800"/>
            <a:ext cx="2367000" cy="86364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Клякс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Облако 20"/>
          <p:cNvSpPr/>
          <p:nvPr/>
        </p:nvSpPr>
        <p:spPr>
          <a:xfrm>
            <a:off x="6962760" y="5013360"/>
            <a:ext cx="2017800" cy="14176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Рисование мыльной пе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21"/>
          <p:cNvSpPr/>
          <p:nvPr/>
        </p:nvSpPr>
        <p:spPr>
          <a:xfrm>
            <a:off x="3573360" y="4773600"/>
            <a:ext cx="3240360" cy="1027080"/>
          </a:xfrm>
          <a:prstGeom prst="pie">
            <a:avLst/>
          </a:prstGeom>
          <a:solidFill>
            <a:srgbClr val="d5fdff"/>
          </a:solidFill>
          <a:ln w="12600">
            <a:solidFill>
              <a:srgbClr val="002060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Пластилинограф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23"/>
          <p:cNvSpPr/>
          <p:nvPr/>
        </p:nvSpPr>
        <p:spPr>
          <a:xfrm>
            <a:off x="2687760" y="1238400"/>
            <a:ext cx="1050840" cy="1503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ая соединительная линия 30"/>
          <p:cNvSpPr/>
          <p:nvPr/>
        </p:nvSpPr>
        <p:spPr>
          <a:xfrm>
            <a:off x="4292640" y="2208240"/>
            <a:ext cx="17280" cy="4413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ая соединительная линия 18432"/>
          <p:cNvSpPr/>
          <p:nvPr/>
        </p:nvSpPr>
        <p:spPr>
          <a:xfrm flipH="1">
            <a:off x="5168520" y="1087560"/>
            <a:ext cx="353880" cy="15555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ая соединительная линия 18434"/>
          <p:cNvSpPr/>
          <p:nvPr/>
        </p:nvSpPr>
        <p:spPr>
          <a:xfrm flipH="1">
            <a:off x="5740200" y="1438200"/>
            <a:ext cx="1222200" cy="13320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ая соединительная линия 18438"/>
          <p:cNvSpPr/>
          <p:nvPr/>
        </p:nvSpPr>
        <p:spPr>
          <a:xfrm flipH="1">
            <a:off x="6241680" y="2522520"/>
            <a:ext cx="1073160" cy="52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ая соединительная линия 18440"/>
          <p:cNvSpPr/>
          <p:nvPr/>
        </p:nvSpPr>
        <p:spPr>
          <a:xfrm>
            <a:off x="6242040" y="3484440"/>
            <a:ext cx="384120" cy="400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ая соединительная линия 18442"/>
          <p:cNvSpPr/>
          <p:nvPr/>
        </p:nvSpPr>
        <p:spPr>
          <a:xfrm>
            <a:off x="5740560" y="3633840"/>
            <a:ext cx="1423800" cy="19209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18448"/>
          <p:cNvSpPr/>
          <p:nvPr/>
        </p:nvSpPr>
        <p:spPr>
          <a:xfrm>
            <a:off x="4694400" y="3838680"/>
            <a:ext cx="109440" cy="102384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8452"/>
          <p:cNvSpPr/>
          <p:nvPr/>
        </p:nvSpPr>
        <p:spPr>
          <a:xfrm flipH="1">
            <a:off x="3185640" y="3743280"/>
            <a:ext cx="709560" cy="203832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8455"/>
          <p:cNvSpPr/>
          <p:nvPr/>
        </p:nvSpPr>
        <p:spPr>
          <a:xfrm flipV="1">
            <a:off x="2233440" y="3645000"/>
            <a:ext cx="1192320" cy="1533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8457"/>
          <p:cNvSpPr/>
          <p:nvPr/>
        </p:nvSpPr>
        <p:spPr>
          <a:xfrm flipV="1">
            <a:off x="2398680" y="3427560"/>
            <a:ext cx="611280" cy="25560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18459"/>
          <p:cNvSpPr/>
          <p:nvPr/>
        </p:nvSpPr>
        <p:spPr>
          <a:xfrm>
            <a:off x="2658960" y="2514600"/>
            <a:ext cx="554040" cy="401760"/>
          </a:xfrm>
          <a:prstGeom prst="line">
            <a:avLst/>
          </a:prstGeom>
          <a:ln w="64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1126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F69B-04C7-4052-9095-6497FF12F3A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61" nodeType="after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7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58F0-3083-470B-968C-9912073B712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2156400" y="108000"/>
            <a:ext cx="49690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ладошкой, пальчик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9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2" name="Рисунок 10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959280" cy="2802240"/>
          </a:xfrm>
          <a:prstGeom prst="rect">
            <a:avLst/>
          </a:prstGeom>
          <a:ln w="0">
            <a:noFill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3" name="TextBox 12"/>
          <p:cNvSpPr/>
          <p:nvPr/>
        </p:nvSpPr>
        <p:spPr>
          <a:xfrm>
            <a:off x="466560" y="4486320"/>
            <a:ext cx="8209080" cy="19234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осередине листа ребёнок рисует ребром ладошки, или ладошкой и пальчиками. Макает в краску и отпечатывает на бумаге так, как необходимо для того рисунка, какой он изображает. Потом краска вытирается салфеткой с пальчиков и ладош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гуашевые краски, влажные салфетки.</a:t>
            </a:r>
            <a:r>
              <a:rPr b="0" lang="ru-RU" sz="2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E963-47A7-4899-8F0A-CFBA33E1A8B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771640" y="136440"/>
            <a:ext cx="529452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Рисование мятой  бума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8" descr=""/>
          <p:cNvPicPr/>
          <p:nvPr/>
        </p:nvPicPr>
        <p:blipFill>
          <a:blip r:embed="rId1"/>
          <a:stretch/>
        </p:blipFill>
        <p:spPr>
          <a:xfrm>
            <a:off x="387360" y="836640"/>
            <a:ext cx="4479840" cy="3168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97" name="TextBox 9"/>
          <p:cNvSpPr/>
          <p:nvPr/>
        </p:nvSpPr>
        <p:spPr>
          <a:xfrm>
            <a:off x="638280" y="4941720"/>
            <a:ext cx="825480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азвести акварельную краску в блюдце, помять бумагу, окунать в краску и делать отпечаток на бумаге. Потом кисточкой дорисовать детали рису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альбомный лист бумаги, мятая бумага, акварельная краска, блюдце, салфет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5076720" y="816120"/>
            <a:ext cx="388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сьма занятная техника рисования, которая дает простор для фантазии и свободу маленьким руч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ательным является даже процесс подготовки к занятию. Бумажные комочки, которыми собственно и будет выполняться работа, дети с удовольствием могут намять сам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9445-E524-4769-9944-238F07D0AFA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3642840" y="108000"/>
            <a:ext cx="1788480" cy="459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Монотип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070160" cy="2879640"/>
          </a:xfrm>
          <a:prstGeom prst="rect">
            <a:avLst/>
          </a:prstGeom>
          <a:ln w="0">
            <a:noFill/>
          </a:ln>
          <a:effectLst>
            <a:outerShdw dist="50911" dir="81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2" name="Рисунок 5" descr=""/>
          <p:cNvPicPr/>
          <p:nvPr/>
        </p:nvPicPr>
        <p:blipFill>
          <a:blip r:embed="rId2"/>
          <a:stretch/>
        </p:blipFill>
        <p:spPr>
          <a:xfrm>
            <a:off x="4716360" y="1341360"/>
            <a:ext cx="4070520" cy="2879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3" name="TextBox 6"/>
          <p:cNvSpPr/>
          <p:nvPr/>
        </p:nvSpPr>
        <p:spPr>
          <a:xfrm>
            <a:off x="1566720" y="866880"/>
            <a:ext cx="1584360" cy="398880"/>
          </a:xfrm>
          <a:prstGeom prst="rect">
            <a:avLst/>
          </a:prstGeom>
          <a:noFill/>
          <a:ln w="0">
            <a:noFill/>
          </a:ln>
          <a:effectLst>
            <a:outerShdw dist="25455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редмет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019560" y="866880"/>
            <a:ext cx="1463760" cy="398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353"/>
                </a:solidFill>
                <a:latin typeface="Times New Roman"/>
                <a:ea typeface="Times New Roman"/>
              </a:rPr>
              <a:t>Пейзажна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324000" y="4678200"/>
            <a:ext cx="8462880" cy="1618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Технология рисования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ребёнок складывает лист бумаги вдвое и на одной его половине рисует половинку изображаемого предмета. После рисования каждой части предмета, пока не высохла краска лист снова складывается пополам для получения отпечат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Материал: </a:t>
            </a:r>
            <a:r>
              <a:rPr b="0" lang="ru-RU" sz="2000" spc="-1" strike="noStrike">
                <a:solidFill>
                  <a:srgbClr val="385723"/>
                </a:solidFill>
                <a:latin typeface="Times New Roman"/>
                <a:ea typeface="Times New Roman"/>
              </a:rPr>
              <a:t>плотная бумага, кисти, гуашь или акварел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out" orient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1T20:14:32Z</dcterms:created>
  <dc:creator>Киселева Е.В.</dc:creator>
  <dc:description/>
  <cp:keywords/>
  <dc:language>en-US</dc:language>
  <cp:lastModifiedBy>DNS</cp:lastModifiedBy>
  <dcterms:modified xsi:type="dcterms:W3CDTF">2021-01-26T06:37:38Z</dcterms:modified>
  <cp:revision>27</cp:revision>
  <dc:subject/>
  <dc:title>Нетрадиционные техники для художественно-эстетического развития.</dc:title>
</cp:coreProperties>
</file>