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8853-B4A2-48D5-AB2B-85519DBDD7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9AC-0A7D-4056-A369-73B8777A7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спользования нетрадиционных техник изобрази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ED4-2A3E-447C-8176-CB29C6251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2374-F335-4DF4-ADDC-BB0F39A38A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062-35D1-45DD-B4D4-4EC8DF0BE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90F-9858-4B6B-9117-4E8640F1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226-534E-4681-997F-DB667111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9DD-0891-4FDA-A308-3DCC5F86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B89-C2DE-480B-8252-28364CF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115-A675-400B-A96E-2C1FB610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554-4109-4F5D-ABEC-080FB94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A07-D7BE-4457-87D6-D8D76B0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69B-2C7C-469F-98B0-5F4B606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55D-8202-4129-9349-9B95DE6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24-CBD2-491B-BBFC-14BCAAFB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4E5-B10F-4DE4-A231-B2F04D6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064-51DE-4FD6-9DF5-7087D06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FDD-32DC-4141-BCEA-C0C8E271CE8D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A10-5DF1-4738-AFE7-F87F4DBB20B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755640" y="958680"/>
            <a:ext cx="838836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ТЕХНИКИ ИЗОБРАЗИТЕЛЬНОЙ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УДОЖЕСТВЕННО-ЭСТЕТИЧЕСКОМ РАЗВИТИЯ ДЕТЕЙ ДОШКОЛЬНОГО ВОЗРАСТА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564000" y="41353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236520" y="120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Дельфин»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219640" y="5589720"/>
            <a:ext cx="36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подготовительной группы № 4 «Красная шап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зина Т.М., Кокташева В.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243-F0AF-4FDF-B59C-C991B294770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165840" y="1080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Отпечатки лист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720800" y="698400"/>
            <a:ext cx="576108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9" name="TextBox 4"/>
          <p:cNvSpPr/>
          <p:nvPr/>
        </p:nvSpPr>
        <p:spPr>
          <a:xfrm>
            <a:off x="324000" y="5038560"/>
            <a:ext cx="84960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покрывает листок дерева красками разных цветов, затем прикладывает его к бумаге окрашенной стороной для получения отпечатка. Каждый раз берётся новый листок. Черешки у листьев дорисовываются 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, листья разных деревьев, гуаш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EAB-3C4F-41AE-9083-92E533E4A2C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791720" y="108000"/>
            <a:ext cx="56779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: восковые мелки + аквар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309600" y="5292720"/>
            <a:ext cx="8640720" cy="1313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рисует восковыми карандашами на белой бумаге. Затем закрашивает лист акварелью в один или несколько цветов. Рисунок восковыми карандашами остаётся незакраше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сковые карандаши, плотная бумага, акварел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6849-7EA4-4E7D-8314-F498D192E29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455920" y="108000"/>
            <a:ext cx="42346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полусухой ки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7" descr=""/>
          <p:cNvPicPr/>
          <p:nvPr/>
        </p:nvPicPr>
        <p:blipFill>
          <a:blip r:embed="rId1"/>
          <a:stretch/>
        </p:blipFill>
        <p:spPr>
          <a:xfrm>
            <a:off x="169380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TextBox 8"/>
          <p:cNvSpPr/>
          <p:nvPr/>
        </p:nvSpPr>
        <p:spPr>
          <a:xfrm>
            <a:off x="577800" y="5005440"/>
            <a:ext cx="799164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опускает в гуашь кисть и ударяет ею по бумаге, держа вертикально. При работе кисть в воду не опускается. Таким образом заполняется весь лист, контур или шаблон. Получается имитация фактурности пушистой, или фактурной поверх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жёсткая кисть, гуашь, бумага люб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E4D-883E-498A-95BD-37580ECE110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686320" y="108000"/>
            <a:ext cx="387936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ыльной пе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1"/>
          <a:stretch/>
        </p:blipFill>
        <p:spPr>
          <a:xfrm>
            <a:off x="165564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2" name="TextBox 7"/>
          <p:cNvSpPr/>
          <p:nvPr/>
        </p:nvSpPr>
        <p:spPr>
          <a:xfrm>
            <a:off x="250920" y="4797360"/>
            <a:ext cx="864216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ь смешать с мыльным раствором, вспенить раствор через трубочку, когда пена начнёт активно выходить из стаканчика – трубочкой аккуратно выкладываем её на лист бумаги. Даём пенному рисунку высохнуть. Дорисовываем рисунок кисточ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евые краски, стаканчики, вода, мыльный раствор для мытья посуды, коктейльная трубочка, листы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DE7-6EED-4F5D-AE08-EAE7377EEC8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3980880" y="108000"/>
            <a:ext cx="136800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Гратт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6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103640" cy="290340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Рисунок 7" descr=""/>
          <p:cNvPicPr/>
          <p:nvPr/>
        </p:nvPicPr>
        <p:blipFill>
          <a:blip r:embed="rId2"/>
          <a:stretch/>
        </p:blipFill>
        <p:spPr>
          <a:xfrm>
            <a:off x="4686480" y="855720"/>
            <a:ext cx="4093920" cy="289728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324000" y="4154400"/>
            <a:ext cx="84564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 раскрасить свечой в произвольной форме. Смешать чёрную гуашь с зубной пастой в палитре. Полученной краской тонировать весь лист. После высыхания с помощью зубочистки процарапать задуманный рису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ы бумаги, свеча, гуашь, зубная паста, зубочистка, пали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070520" y="108000"/>
            <a:ext cx="10342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Ба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1"/>
          <a:stretch/>
        </p:blipFill>
        <p:spPr>
          <a:xfrm>
            <a:off x="2467080" y="569880"/>
            <a:ext cx="4019400" cy="4227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0" name="TextBox 6"/>
          <p:cNvSpPr/>
          <p:nvPr/>
        </p:nvSpPr>
        <p:spPr>
          <a:xfrm>
            <a:off x="231840" y="4797360"/>
            <a:ext cx="87138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репив ткань в пяльцах, наносим клей ПВА по контуру рисунка, даём клею высохнуть. Затем специальной краской закрашиваем фон с помощью кисточки, мелкие детали прорисовываем после просушки издел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ткань, пяльца, клей ПВА, краски по ткани, клеёнка, кисти, карандаш.</a:t>
            </a: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D55-42B0-40D7-B17E-068137171B8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4" descr="DSC01091.JPG"/>
          <p:cNvPicPr/>
          <p:nvPr/>
        </p:nvPicPr>
        <p:blipFill>
          <a:blip r:embed="rId1"/>
          <a:stretch/>
        </p:blipFill>
        <p:spPr>
          <a:xfrm>
            <a:off x="1000080" y="357192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539640" y="404640"/>
            <a:ext cx="4176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стилинография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 —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й вид декоративно-прикладного искусства. Представляет собой создания лепных картин с изображением более или менее выпуклых, полуобъемных объектов на горизонтальной поверхности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й материал — пласти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C:\Users\Дельфин\Desktop\IMG20210125144659.jpg"/>
          <p:cNvPicPr/>
          <p:nvPr/>
        </p:nvPicPr>
        <p:blipFill>
          <a:blip r:embed="rId2"/>
          <a:stretch/>
        </p:blipFill>
        <p:spPr>
          <a:xfrm>
            <a:off x="5364000" y="571680"/>
            <a:ext cx="34941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9842-AFA8-41FC-ADB4-551E35917BB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Дельфин\Desktop\IMG_20210125_154115.jpg"/>
          <p:cNvPicPr/>
          <p:nvPr/>
        </p:nvPicPr>
        <p:blipFill>
          <a:blip r:embed="rId1"/>
          <a:stretch/>
        </p:blipFill>
        <p:spPr>
          <a:xfrm>
            <a:off x="1000080" y="4143240"/>
            <a:ext cx="2928960" cy="2216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Дельфин\Desktop\IMG20210125144716.jpg"/>
          <p:cNvPicPr/>
          <p:nvPr/>
        </p:nvPicPr>
        <p:blipFill>
          <a:blip r:embed="rId2"/>
          <a:stretch/>
        </p:blipFill>
        <p:spPr>
          <a:xfrm>
            <a:off x="4357800" y="571680"/>
            <a:ext cx="31334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Дельфин\Desktop\IMG20210125144344.jpg"/>
          <p:cNvPicPr/>
          <p:nvPr/>
        </p:nvPicPr>
        <p:blipFill>
          <a:blip r:embed="rId3"/>
          <a:stretch/>
        </p:blipFill>
        <p:spPr>
          <a:xfrm>
            <a:off x="428760" y="785880"/>
            <a:ext cx="211428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Дельфин\Desktop\IMG20210125144707.jpg"/>
          <p:cNvPicPr/>
          <p:nvPr/>
        </p:nvPicPr>
        <p:blipFill>
          <a:blip r:embed="rId4"/>
          <a:stretch/>
        </p:blipFill>
        <p:spPr>
          <a:xfrm>
            <a:off x="5786280" y="3500280"/>
            <a:ext cx="2252880" cy="2957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20680" y="3643200"/>
            <a:ext cx="342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нгв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осковыми мелками + аквар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357800" y="28576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лю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мятой бумаг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429160" y="5929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ы в ваз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- набрыз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857160" y="6334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тка ряб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FA7B-FE64-464C-8F1C-6E13CF7C3C1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790360" y="59040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едагог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85680" y="1484280"/>
            <a:ext cx="72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разные формы художественной деятельности: коллективное творчество, самостоятельную игровую деятельность по освоению нетрадиционных техник рис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ировании занятий по изобразительной деятельности соблюдайте систему и преемственность использования нетрадиционных изобразительных техник, учитывая возрастные и индивидуальные способ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свой профессиональный уровень и мастерство через ознакомление, и овладении новыми нетрадиционными способами и приёмами рис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32E-E0B0-434A-B25F-23A230D8143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-237960" y="12600"/>
            <a:ext cx="9381960" cy="68454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781200" y="692280"/>
            <a:ext cx="7343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дети рисуют, творят, фантазирую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каждый из них станет художником, но рисование доставит им удовольств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познают радость творчества, научатся видеть прекрасное в обыч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они растут с душой художни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2571480"/>
            <a:ext cx="80330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Нетрадиционные изобразительные техники </a:t>
            </a: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- это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ффективное средство изображения, включающее новые художественно-выразительные приёмы создания художественного образа, композиции и колорита, позволяющие обеспечить наибольшую выразительность образа в творческой рабо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у детей не создавалось шабл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203640" y="18900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"Истоки способностей и дарования детей — на кончиках их пальцев. От пальцев, образно говоря, идут тончайшие нити — ручейки, которые питают источник творческой мысли. Другими словами, чем больше мастерства в детской руке, тем умнее ребенок", — утвержд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A2C9-6033-41E6-B97E-B23D739AE67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9840" y="-360"/>
            <a:ext cx="87138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ЫЧНОЕ ВСЕГДА ИНТЕРЕС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чень важно с самых ранних лет приучить человека к прекрасному. А что может быть более наглядным примером для достижения красоты, чем изобразительное искусство? Но порой заинтересовать ребенка не так уж просто. Маленькие дети постоянно находятся в состоянии изучения окружающего мира. Они уже знают, что стул создан для того, чтобы сидеть, одеяло - чтобы укрываться, а кисточка - чтобы рис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конечная череда «взрослых» правил и ни шага в сторону. Нетрадиционные техники рисования разрывают шаблоны обучения ребенка изобразительному искусст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ечно, перед тем как приступить к ним, необходимо дать азы обращения с карандашами, мелками и кисто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лько после того как маленький художник усвоит основные классические техники рисования, необходимо приступать к нетрадиционным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B6A-0DD2-4D4E-BE66-DB6E4A143DD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53F-2A6E-4C65-8BCF-3AA5D54C4C7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8" descr="DSC08926.JPG"/>
          <p:cNvPicPr/>
          <p:nvPr/>
        </p:nvPicPr>
        <p:blipFill>
          <a:blip r:embed="rId1"/>
          <a:stretch/>
        </p:blipFill>
        <p:spPr>
          <a:xfrm>
            <a:off x="5241960" y="4340160"/>
            <a:ext cx="3273480" cy="2457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971640" y="33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привлекательна нетрадиционная техника рисо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24000" y="1717560"/>
            <a:ext cx="860256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рисования привлекают детей своей спонтанностью и свободой. Здесь нет никаких правил, а главное - процесс. В ходе таких занятий развивается не только видение и понимание прекрасного, но и фантазия, ловкость, изобретательность и мотор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стимулируют положительную мотивацию, способствуют выражению индивидуальности ребенка. Комбинирование различных техник побуждает ребенка думать, самостоятельно выбирать подходящие приемы для создания уникальных и более выразительных произве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468360" y="91116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творческой художественной деятельности с использованием нетрадиционных техн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буждает детей к творческим поискам и решен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детей свободно выражать свой замыс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работать с разнообразным материа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уверенность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пространственное мыш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чувство композиции, ритма, колорита, цветовосприятия; чувство фактурности и объём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творческие способности, воображение и полёт фантаз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мелкую моторику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особствует снятию детских страх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 время работы дети получают эстетическое удовольст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FF0E-BE84-485D-B9B8-65500232780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 6"/>
          <p:cNvSpPr/>
          <p:nvPr/>
        </p:nvSpPr>
        <p:spPr>
          <a:xfrm>
            <a:off x="2908440" y="2622600"/>
            <a:ext cx="3528720" cy="119700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етрадиционных тех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блако 8"/>
          <p:cNvSpPr/>
          <p:nvPr/>
        </p:nvSpPr>
        <p:spPr>
          <a:xfrm>
            <a:off x="1055520" y="100080"/>
            <a:ext cx="2303640" cy="129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Монотип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предметная, пейзажн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10"/>
          <p:cNvSpPr/>
          <p:nvPr/>
        </p:nvSpPr>
        <p:spPr>
          <a:xfrm>
            <a:off x="6823080" y="461880"/>
            <a:ext cx="216072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ладошкой и пальц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блако 11"/>
          <p:cNvSpPr/>
          <p:nvPr/>
        </p:nvSpPr>
        <p:spPr>
          <a:xfrm>
            <a:off x="4586400" y="154080"/>
            <a:ext cx="1871640" cy="9349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 сыр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блако 12"/>
          <p:cNvSpPr/>
          <p:nvPr/>
        </p:nvSpPr>
        <p:spPr>
          <a:xfrm>
            <a:off x="3573360" y="1488960"/>
            <a:ext cx="1440000" cy="7207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Гратта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2424240" y="5748480"/>
            <a:ext cx="1871640" cy="936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тпечатки листь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15"/>
          <p:cNvSpPr/>
          <p:nvPr/>
        </p:nvSpPr>
        <p:spPr>
          <a:xfrm>
            <a:off x="271440" y="1812960"/>
            <a:ext cx="2448000" cy="1152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осковые мелки + аквар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блако 16"/>
          <p:cNvSpPr/>
          <p:nvPr/>
        </p:nvSpPr>
        <p:spPr>
          <a:xfrm>
            <a:off x="6626160" y="3359160"/>
            <a:ext cx="1944720" cy="12254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ятой бума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блако 17"/>
          <p:cNvSpPr/>
          <p:nvPr/>
        </p:nvSpPr>
        <p:spPr>
          <a:xfrm>
            <a:off x="7315200" y="2065320"/>
            <a:ext cx="1177920" cy="647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Бат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блако 18"/>
          <p:cNvSpPr/>
          <p:nvPr/>
        </p:nvSpPr>
        <p:spPr>
          <a:xfrm>
            <a:off x="520560" y="3381480"/>
            <a:ext cx="194796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лусухой ки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лако 19"/>
          <p:cNvSpPr/>
          <p:nvPr/>
        </p:nvSpPr>
        <p:spPr>
          <a:xfrm>
            <a:off x="169920" y="5122800"/>
            <a:ext cx="2367000" cy="863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Клякс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лако 20"/>
          <p:cNvSpPr/>
          <p:nvPr/>
        </p:nvSpPr>
        <p:spPr>
          <a:xfrm>
            <a:off x="6962760" y="5013360"/>
            <a:ext cx="2017800" cy="14176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ыльной пе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21"/>
          <p:cNvSpPr/>
          <p:nvPr/>
        </p:nvSpPr>
        <p:spPr>
          <a:xfrm>
            <a:off x="3573360" y="4773600"/>
            <a:ext cx="3240360" cy="102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ластилин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>
            <a:off x="2687760" y="1238400"/>
            <a:ext cx="1050840" cy="1503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30"/>
          <p:cNvSpPr/>
          <p:nvPr/>
        </p:nvSpPr>
        <p:spPr>
          <a:xfrm>
            <a:off x="4292640" y="2208240"/>
            <a:ext cx="17280" cy="441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8432"/>
          <p:cNvSpPr/>
          <p:nvPr/>
        </p:nvSpPr>
        <p:spPr>
          <a:xfrm flipH="1">
            <a:off x="5168520" y="1087560"/>
            <a:ext cx="353880" cy="15555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18434"/>
          <p:cNvSpPr/>
          <p:nvPr/>
        </p:nvSpPr>
        <p:spPr>
          <a:xfrm flipH="1">
            <a:off x="5740200" y="1438200"/>
            <a:ext cx="1222200" cy="13320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8438"/>
          <p:cNvSpPr/>
          <p:nvPr/>
        </p:nvSpPr>
        <p:spPr>
          <a:xfrm flipH="1">
            <a:off x="6241680" y="2522520"/>
            <a:ext cx="1073160" cy="52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18440"/>
          <p:cNvSpPr/>
          <p:nvPr/>
        </p:nvSpPr>
        <p:spPr>
          <a:xfrm>
            <a:off x="6242040" y="3484440"/>
            <a:ext cx="384120" cy="400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8442"/>
          <p:cNvSpPr/>
          <p:nvPr/>
        </p:nvSpPr>
        <p:spPr>
          <a:xfrm>
            <a:off x="5740560" y="3633840"/>
            <a:ext cx="1423800" cy="19209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8448"/>
          <p:cNvSpPr/>
          <p:nvPr/>
        </p:nvSpPr>
        <p:spPr>
          <a:xfrm>
            <a:off x="4694400" y="3838680"/>
            <a:ext cx="109440" cy="102384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8452"/>
          <p:cNvSpPr/>
          <p:nvPr/>
        </p:nvSpPr>
        <p:spPr>
          <a:xfrm flipH="1">
            <a:off x="3185640" y="3743280"/>
            <a:ext cx="709560" cy="2038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8455"/>
          <p:cNvSpPr/>
          <p:nvPr/>
        </p:nvSpPr>
        <p:spPr>
          <a:xfrm flipV="1">
            <a:off x="2233440" y="3645000"/>
            <a:ext cx="1192320" cy="1533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8457"/>
          <p:cNvSpPr/>
          <p:nvPr/>
        </p:nvSpPr>
        <p:spPr>
          <a:xfrm flipV="1">
            <a:off x="2398680" y="3427560"/>
            <a:ext cx="611280" cy="25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8459"/>
          <p:cNvSpPr/>
          <p:nvPr/>
        </p:nvSpPr>
        <p:spPr>
          <a:xfrm>
            <a:off x="2658960" y="2514600"/>
            <a:ext cx="554040" cy="4017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1126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265-15F7-47B4-BB62-15CFDD5D225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DA0-6D04-43C1-BE21-FCABDCD5833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2156400" y="108000"/>
            <a:ext cx="4969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ладошкой, пальч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9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Рисунок 10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TextBox 12"/>
          <p:cNvSpPr/>
          <p:nvPr/>
        </p:nvSpPr>
        <p:spPr>
          <a:xfrm>
            <a:off x="466560" y="4486320"/>
            <a:ext cx="820908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середине листа ребёнок рисует ребром ладошки, или ладошкой и пальчиками. Макает в краску и отпечатывает на бумаге так, как необходимо для того рисунка, какой он изображает. Потом краска вытирается салфеткой с пальчиков и ладо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гуашевые краски, влажные салфетки.</a:t>
            </a:r>
            <a:r>
              <a:rPr b="0" lang="ru-RU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378D-4F7E-42F6-B924-449FC43645A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771640" y="136440"/>
            <a:ext cx="52945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ятой  бума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8" descr=""/>
          <p:cNvPicPr/>
          <p:nvPr/>
        </p:nvPicPr>
        <p:blipFill>
          <a:blip r:embed="rId1"/>
          <a:stretch/>
        </p:blipFill>
        <p:spPr>
          <a:xfrm>
            <a:off x="387360" y="836640"/>
            <a:ext cx="4479840" cy="316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TextBox 9"/>
          <p:cNvSpPr/>
          <p:nvPr/>
        </p:nvSpPr>
        <p:spPr>
          <a:xfrm>
            <a:off x="638280" y="4941720"/>
            <a:ext cx="82548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звести акварельную краску в блюдце, помять бумагу, окунать в краску и делать отпечаток на бумаге. Потом кисточкой дорисовать детали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мятая бумага, акварельная краска, блюдце, салф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076720" y="816120"/>
            <a:ext cx="388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сьма занятная техника рисования, которая дает простор для фантазии и свободу маленьким руч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м является даже процесс подготовки к занятию. Бумажные комочки, которыми собственно и будет выполняться работа, дети с удовольствием могут намять с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CD3-053A-4E0C-A177-0CCA4E1E45C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642840" y="10800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Моноти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70160" cy="28796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2" name="Рисунок 5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070520" cy="2879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6"/>
          <p:cNvSpPr/>
          <p:nvPr/>
        </p:nvSpPr>
        <p:spPr>
          <a:xfrm>
            <a:off x="1566720" y="86688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редмет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019560" y="866880"/>
            <a:ext cx="1463760" cy="398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ейза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24000" y="4678200"/>
            <a:ext cx="846288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складывает лист бумаги вдвое и на одной его половине рисует половинку изображаемого предмета. После рисования каждой части предмета, пока не высохла краска лист снова складывается пополам для получения отпеча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лотная бумага, кисти, гуашь или аквар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1T20:14:32Z</dcterms:created>
  <dc:creator>Киселева Е.В.</dc:creator>
  <dc:description/>
  <cp:keywords/>
  <dc:language>en-US</dc:language>
  <cp:lastModifiedBy>DNS</cp:lastModifiedBy>
  <dcterms:modified xsi:type="dcterms:W3CDTF">2021-01-26T06:37:38Z</dcterms:modified>
  <cp:revision>27</cp:revision>
  <dc:subject/>
  <dc:title>Нетрадиционные техники для художественно-эстетического развития.</dc:title>
</cp:coreProperties>
</file>