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F5A-922F-41D2-A43E-6D430106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127-D0ED-4403-8F23-A66671B6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E68-38C9-487A-BE94-7672FD27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BEA-ABDD-4354-942F-C2564F4F5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5EA-AA97-4466-AE19-A4C72C0F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CFB-7C7B-4FF5-9A2F-1F42AB0A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748-27E5-41B7-A40D-70557274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10A-0EAC-4934-B11F-58DA8E72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5EE2-DE4E-4DA8-839C-5B433DE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9AC-379F-45E3-B63B-4C4D23B5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C65-0DE7-4E5B-89D8-BA0E6F9E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28A-F288-42FE-A72E-C20FD860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409D-3817-4522-B1EE-59C7A27B6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frf-kabinet.ru/grazhdanam/potrebitelskaya-korzina.html" TargetMode="External"/><Relationship Id="rId2" Type="http://schemas.openxmlformats.org/officeDocument/2006/relationships/hyperlink" Target="https://www.gd.ru/images/articles/10554/potrebitelskaya-korzina.jpg" TargetMode="External"/><Relationship Id="rId3" Type="http://schemas.openxmlformats.org/officeDocument/2006/relationships/hyperlink" Target="https://rosinfostat.ru/wp-content/uploads/2020/03/minimum.jpg" TargetMode="External"/><Relationship Id="rId4" Type="http://schemas.openxmlformats.org/officeDocument/2006/relationships/hyperlink" Target="http://echo.pln24.ru/pictures/190128074540.jpg" TargetMode="External"/><Relationship Id="rId5" Type="http://schemas.openxmlformats.org/officeDocument/2006/relationships/hyperlink" Target="https://static.riafan.ru/uploads/2019/03/11/orig-15522965051428582967d9c36c12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Заголовок 1"/>
          <p:cNvGrpSpPr/>
          <p:nvPr/>
        </p:nvGrpSpPr>
        <p:grpSpPr>
          <a:xfrm>
            <a:off x="-6480" y="1047600"/>
            <a:ext cx="5651640" cy="615960"/>
            <a:chOff x="-6480" y="1047600"/>
            <a:chExt cx="5651640" cy="615960"/>
          </a:xfrm>
        </p:grpSpPr>
        <p:pic>
          <p:nvPicPr>
            <p:cNvPr id="4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-6480" y="1047600"/>
              <a:ext cx="5651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1052640"/>
              <a:ext cx="56372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Потребительская корзин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108000" y="2997360"/>
            <a:ext cx="5556240" cy="37465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"/>
          <p:cNvSpPr/>
          <p:nvPr/>
        </p:nvSpPr>
        <p:spPr>
          <a:xfrm>
            <a:off x="379440" y="206064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по финансовой грамотности, 4 класс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6602400" y="12600"/>
            <a:ext cx="2541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24000" y="11160"/>
          <a:ext cx="8569080" cy="7402320"/>
        </p:xfrm>
        <a:graphic>
          <a:graphicData uri="http://schemas.openxmlformats.org/drawingml/2006/table">
            <a:tbl>
              <a:tblPr/>
              <a:tblGrid>
                <a:gridCol w="2131920"/>
                <a:gridCol w="2146320"/>
                <a:gridCol w="2144520"/>
                <a:gridCol w="2146320"/>
              </a:tblGrid>
              <a:tr h="1914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имальное потребление для взрослых в 2021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ы Министерства здравоох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рма потребления в СС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60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ебобулочные изделия и кр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тоф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6980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5187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 и жи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2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й и спе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79280" y="1052640"/>
            <a:ext cx="878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Как видим, потребительская корзина Росстата несколько отличается от той, что рекомендована Министерством здравоохранения для рационального питания работающего человека. Она лишь характеризует возможность проживания в условиях жёсткой экономии при минимально допустимых размерах до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Цена потребительской корзины на 2023 год по федеральным округам выглядит таким образо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еверо-Запад – 11,7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Центральный ФО – 8,2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Южный ФО – 8,5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еверный Кавказ – 8,4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Приволжье – 8,5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Урал – 9,7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ибирь – 9,3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Дальний Восток – 10,2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С-Петербург – 10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12c4e"/>
                </a:solidFill>
                <a:latin typeface="PT Sans"/>
              </a:rPr>
              <a:t>Москва – 14,4 тыс. руб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96000" y="4900680"/>
            <a:ext cx="3203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PT Sans"/>
              </a:rPr>
              <a:t>Размер потребительской корзины 202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Размер потребительской корзины 2021 года для разных групп граждан РФ в денежном исчислении составля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Взрослые трудоспособные лиц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   </a:t>
            </a: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10 8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Пенсионеры – 8 2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2c4e"/>
                </a:solidFill>
                <a:latin typeface="PT Sans"/>
              </a:rPr>
              <a:t>Дети – 9 9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100000"/>
              </a:lnSpc>
              <a:spcBef>
                <a:spcPts val="799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 потребительской корзины включает в себя несколько основных потреб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944640"/>
          <a:ext cx="8280360" cy="664524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04240"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а товаров и услу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о вхо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доволь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продукты пит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rowSpan="4"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довольственные това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камен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ежда и обув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ства гигие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0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ор вещей культурно-бытового характера (сюда также относятся учебные принадлежност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920">
                <a:tc rowSpan="4"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КХ , налог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ные рас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на культурные мероприят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36720" bIns="367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ые типы рас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720" marR="36720">
                    <a:lnL w="3600">
                      <a:solidFill>
                        <a:srgbClr val="dddddd"/>
                      </a:solidFill>
                    </a:lnL>
                    <a:lnR w="3600">
                      <a:solidFill>
                        <a:srgbClr val="dddddd"/>
                      </a:solidFill>
                    </a:lnR>
                    <a:lnT w="3600">
                      <a:solidFill>
                        <a:srgbClr val="dddddd"/>
                      </a:solidFill>
                    </a:lnT>
                    <a:lnB w="3600">
                      <a:solidFill>
                        <a:srgbClr val="ddddd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Rectangle 1"/>
          <p:cNvSpPr/>
          <p:nvPr/>
        </p:nvSpPr>
        <p:spPr>
          <a:xfrm>
            <a:off x="1356480" y="1690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40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7394760" cy="38973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611280" y="189000"/>
            <a:ext cx="7754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Потребительская корзина в ценовом выраже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50% – продук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25% – другие товар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Open Sans"/>
              </a:rPr>
              <a:t>25% – различные услу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Стоимость потребительской корзины рассчитывается каждым регионом в отдельности силами местных органов статистики. Данные обновляется ежекварталь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В среднем по России цена потребкорзины составляет 10609 руб на душу насе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b2b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Times New Roman"/>
                <a:ea typeface="Times New Roman"/>
              </a:rPr>
              <a:t>Задача №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09160" y="13413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 решила отправиться за продуктами в магазин. В таблице показана стоимость продуктов в магазине № 1 и в магазине № 2. Сосчитай, сколько необходимо потратить денег в магазинах, внеси ответ в таблиц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азин № 1 находится рядом, а до  магазина № 2 необходимо добираться на маршрутном такси. Стоимость проезда на маршрутном такси туда и обратно обойдётся в 86 рублей. Где выгоднее приобрести продукты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0920" y="333360"/>
          <a:ext cx="8497800" cy="6367320"/>
        </p:xfrm>
        <a:graphic>
          <a:graphicData uri="http://schemas.openxmlformats.org/drawingml/2006/table">
            <a:tbl>
              <a:tblPr/>
              <a:tblGrid>
                <a:gridCol w="2832120"/>
                <a:gridCol w="2833560"/>
                <a:gridCol w="2832120"/>
              </a:tblGrid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родук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газин №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агазин №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а (1 кг)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уста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локи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(1 кг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(1 л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йца (десяток)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руб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2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требительская корз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ительская корзина – то примерный минимальный набор товаров и услуг, который обеспечивает комфортное и полноценное проживание человека на протяжении года и удовлетворяет его минимальные потреб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427640" y="4219560"/>
            <a:ext cx="47163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179280" y="1916280"/>
            <a:ext cx="871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одно лишнее слово, которое имеет другой смысл. Дайте общее название оставшимся слов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ена, цент, евро, доллар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латник, сребреник, грош, пушн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анкноты, купюры, бумажные деньги, монет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Гурт, реверс, аверс, эмблем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№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61800" y="1484280"/>
            <a:ext cx="8426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8 Марта девочкам часто дарят цветы. В обычное время розы стоят 50 рублей за штуку. Но перед 8 Марта стоимость роз увеличилась на 1/2 часть от обычной стоимо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ьте на вопросы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акой будет стоимость 1 розы накануне 8 Мар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 какого наибольшего числа роз Илья сможет купить букет накануне 8 Марта, если у него есть 400 рублей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0:2*1=25 (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50+25=75 (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400:75=5 (ост.2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594da"/>
                </a:solidFill>
                <a:latin typeface="Calibri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4000" y="1052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pfrf-kabinet.ru/grazhdanam/potrebitelskaya-korzin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s://www.gd.ru/images/articles/10554/potrebitelskaya-korzina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rosinfostat.ru/wp-content/uploads/2020/03/minimu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cho.pln24.ru/pictures/190128074540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s://static.riafan.ru/uploads/2019/03/11/orig-15522965051428582967d9c36c12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opensii.info/answers/potrebitelskaya-korzina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s://zakon-navigator.ru/stoimost-potrebitelskoj-korziny-v-2019-2020-godah-v-rossii-oficialnye-dannye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midov-house.ru/subsidii/3776-potrebitelskaya-korzina-2021-rossiya-sostav-spisok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НИК  МАТЕМАТИЧЕСКИХ ЗАДАЧ «ОСНОВЫ ФИНАНСОВ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ОСТ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s://kartinkinaden.ru/6028-fon-dlja-prezentacii-finansovoj-gramotnosti-24-foto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785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личия от прожиточного минимум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Потребительская корзина в РФ, хотя и является близким по значению к прожиточному минимуму, но далеко не одинаковым. Прожиточный минимум выражается в денежной величине и определяет некую сумму, требуемую человеку для удовлетворения его жизненных потребностей. В продовольственную корзину, кроме набора продуктов, входят различные непродовольственные товары, а также необходимые услуги, сюда же входит стоимость одежды, коммунальных услуг, проезда в общественном транспорте, социально-культурных благ и т.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c4e"/>
                </a:solidFill>
                <a:latin typeface="Times New Roman"/>
                <a:ea typeface="Times New Roman"/>
              </a:rPr>
              <a:t>Рассчитывается размер прожиточного минимума как совокупность всех расходов на продукты, услуги и товары первой необходимости. Соответственно, продуктовая корзина, даже являясь важным компонентом для определения жизненного уровня населения, сама по себе, не может выступать самодостаточным социально-экономическим показа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43720" indent="-243720" algn="just">
              <a:lnSpc>
                <a:spcPct val="80000"/>
              </a:lnSpc>
              <a:spcBef>
                <a:spcPts val="601"/>
              </a:spcBef>
              <a:buClr>
                <a:srgbClr val="212c4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Times New Roman"/>
                <a:ea typeface="Times New Roman"/>
              </a:rPr>
              <a:t>На основании закона в корзину входят продовольственные продукты, непродовольственные товары и услуги. Общая продуктовая корзина на месяц может включать в себя следующий список продуктов: Хлебобулочная продукция. Сахар. Яйца. Макароны. Мука. Различные крупы. Овощи. Фрукты. Мясо. Рыба. Молочные изделия. Растительное масло. Маргарин. Приправы. Ча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594da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b0f0"/>
                </a:solidFill>
                <a:latin typeface="PT Sans"/>
                <a:ea typeface="Arial"/>
              </a:rPr>
              <a:t>Для взрослых, детей и пенсионеров минимальное годовое потребление продуктов первой необходимости разно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20108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8000" y="66600"/>
          <a:ext cx="9002520" cy="6883560"/>
        </p:xfrm>
        <a:graphic>
          <a:graphicData uri="http://schemas.openxmlformats.org/drawingml/2006/table">
            <a:tbl>
              <a:tblPr/>
              <a:tblGrid>
                <a:gridCol w="3044880"/>
                <a:gridCol w="2146320"/>
                <a:gridCol w="2355840"/>
                <a:gridCol w="1455480"/>
              </a:tblGrid>
              <a:tr h="9712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родук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требление взросл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нсионер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29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ебобулочные, макаронные изделия и кру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тоф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ощ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5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хар и кондитерские изд-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48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с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12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5475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чные продук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756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 ш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  <a:tr h="3938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а и жи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4440">
                <a:tc>
                  <a:txBody>
                    <a:bodyPr lIns="8388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й и спе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8388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   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  <a:tc>
                  <a:txBody>
                    <a:bodyPr lIns="50400" rIns="83880" tIns="41760" bIns="46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   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к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400" marR="83880">
                    <a:lnL w="3600">
                      <a:solidFill>
                        <a:srgbClr val="e1e1e1"/>
                      </a:solidFill>
                    </a:lnL>
                    <a:lnR w="3600">
                      <a:solidFill>
                        <a:srgbClr val="e1e1e1"/>
                      </a:solidFill>
                    </a:lnR>
                    <a:lnT w="3600">
                      <a:solidFill>
                        <a:srgbClr val="e1e1e1"/>
                      </a:solidFill>
                    </a:lnT>
                    <a:lnB w="3600">
                      <a:solidFill>
                        <a:srgbClr val="e1e1e1"/>
                      </a:solidFill>
                    </a:lnB>
                    <a:solidFill>
                      <a:srgbClr val="f3f6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08T04:43:46Z</dcterms:created>
  <dc:creator>Пользователь</dc:creator>
  <dc:description/>
  <dc:language>en-US</dc:language>
  <cp:lastModifiedBy>1</cp:lastModifiedBy>
  <dcterms:modified xsi:type="dcterms:W3CDTF">2023-10-06T19:33:03Z</dcterms:modified>
  <cp:revision>3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110000000000010243100207f6000400038000</vt:lpwstr>
  </property>
</Properties>
</file>