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7E8-EA7E-47C4-8EC6-59282EAA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231-FBA7-47E5-8846-7F7EE02D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0CE-41AA-4BF1-BDD5-9AED4212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509-3CDF-44B8-AF0D-C4B9844A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7A0-B4D9-410F-BB92-8F0E1A3C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02D-6D31-4DAF-9549-E186D9E0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13A-77B1-4A95-9FA2-A2000A29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CB3-1E7E-488A-9D0D-68968A1A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BDC-7886-483A-9DA8-AF9E95E4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778-DE53-49DB-91E2-1364B3B2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323-AA02-4732-B8BE-D96886B9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29A-4EAE-403C-B2A3-C3793D2D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1462-9ADF-4A15-9093-9AD76217E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frf-kabinet.ru/grazhdanam/potrebitelskaya-korzina.html" TargetMode="External"/><Relationship Id="rId2" Type="http://schemas.openxmlformats.org/officeDocument/2006/relationships/hyperlink" Target="https://www.gd.ru/images/articles/10554/potrebitelskaya-korzina.jpg" TargetMode="External"/><Relationship Id="rId3" Type="http://schemas.openxmlformats.org/officeDocument/2006/relationships/hyperlink" Target="https://rosinfostat.ru/wp-content/uploads/2020/03/minimum.jpg" TargetMode="External"/><Relationship Id="rId4" Type="http://schemas.openxmlformats.org/officeDocument/2006/relationships/hyperlink" Target="http://echo.pln24.ru/pictures/190128074540.jpg" TargetMode="External"/><Relationship Id="rId5" Type="http://schemas.openxmlformats.org/officeDocument/2006/relationships/hyperlink" Target="https://static.riafan.ru/uploads/2019/03/11/orig-15522965051428582967d9c36c12.jpg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-6480" y="1047600"/>
            <a:ext cx="5651640" cy="615960"/>
            <a:chOff x="-6480" y="1047600"/>
            <a:chExt cx="5651640" cy="61596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480" y="1047600"/>
              <a:ext cx="5651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1052640"/>
              <a:ext cx="56372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Потребительская корзин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108000" y="2997360"/>
            <a:ext cx="5556240" cy="37465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379440" y="206064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о финансовой грамотности, 4 класс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6602400" y="12600"/>
            <a:ext cx="2541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24000" y="11160"/>
          <a:ext cx="8569080" cy="7402320"/>
        </p:xfrm>
        <a:graphic>
          <a:graphicData uri="http://schemas.openxmlformats.org/drawingml/2006/table">
            <a:tbl>
              <a:tblPr/>
              <a:tblGrid>
                <a:gridCol w="2131920"/>
                <a:gridCol w="2146320"/>
                <a:gridCol w="2144520"/>
                <a:gridCol w="2146320"/>
              </a:tblGrid>
              <a:tr h="1914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ду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мальное потребление для взрослых в 2021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ы Министерства здравоохра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а потребления в 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ебобулочные изделия и кру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тоф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о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с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6980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ые 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й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51876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о и жи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2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й и спе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79280" y="1052640"/>
            <a:ext cx="878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Times New Roman"/>
                <a:ea typeface="Times New Roman"/>
              </a:rPr>
              <a:t>Как видим, потребительская корзина Росстата несколько отличается от той, что рекомендована Министерством здравоохранения для рационального питания работающего человека. Она лишь характеризует возможность проживания в условиях жёсткой экономии при минимально допустимых размерах до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Цена потребительской корзины на 2023 год по федеральным округам выглядит таким образом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Северо-Запад – 11,7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Центральный ФО – 8,2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Южный ФО – 8,5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Северный Кавказ – 8,4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Приволжье – 8,5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Урал – 9,7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Сибирь – 9,3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Дальний Восток – 10,2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С-Петербург – 10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Москва – 14,4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96000" y="4900680"/>
            <a:ext cx="3203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PT Sans"/>
              </a:rPr>
              <a:t>Размер потребительской корзины 202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Размер потребительской корзины 2021 года для разных групп граждан РФ в денежном исчислении составля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Взрослые трудоспособные лиц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   </a:t>
            </a: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10 8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Пенсионеры – 8 2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Дети – 9 9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став потребительской корзины включает в себя несколько основных потреб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944640"/>
          <a:ext cx="8280360" cy="664524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804240"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а товаров и услу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вхо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оволь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продукты 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rowSpan="4"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одовольственные това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ка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ежда и обу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ства гигие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ор вещей культурно-бытового характера (сюда также относятся учебные принадлежност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920">
                <a:tc rowSpan="4"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КХ , нал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ные рас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 на культурные меропри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типы расх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1"/>
          <p:cNvSpPr/>
          <p:nvPr/>
        </p:nvSpPr>
        <p:spPr>
          <a:xfrm>
            <a:off x="1356480" y="16905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40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394760" cy="3897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611280" y="189000"/>
            <a:ext cx="775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Open Sans"/>
              </a:rPr>
              <a:t>Потребительская корзина в ценовом выраже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Open Sans"/>
              </a:rPr>
              <a:t>50% – продук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Open Sans"/>
              </a:rPr>
              <a:t>25% – другие това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Open Sans"/>
              </a:rPr>
              <a:t>25% – различные услу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2b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Стоимость потребительской корзины рассчитывается каждым регионом в отдельности силами местных органов статистики. Данные обновляется ежекварта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2b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В среднем по России цена потребкорзины составляет 10609 руб на душу насе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2b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Times New Roman"/>
                <a:ea typeface="Times New Roman"/>
              </a:rPr>
              <a:t>Задача №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09160" y="134136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решила отправиться за продуктами в магазин. В таблице показана стоимость продуктов в магазине № 1 и в магазине № 2. Сосчитай, сколько необходимо потратить денег в магазинах, внеси ответ в таблиц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азин № 1 находится рядом, а до  магазина № 2 необходимо добираться на маршрутном такси. Стоимость проезда на маршрутном такси туда и обратно обойдётся в 86 рублей. Где выгоднее приобрести продукты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0920" y="333360"/>
          <a:ext cx="8497800" cy="636732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родук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газин №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газин №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ка (1 кг)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уста (1 кг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локи (1 кг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 (1 кг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 (1 л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 (десяток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2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требительская корз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ская корзина – то примерный минимальный набор товаров и услуг, который обеспечивает комфортное и полноценное проживание человека на протяжении года и удовлетворяет его минимальные потреб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427640" y="4219560"/>
            <a:ext cx="47163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79280" y="191628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дно лишнее слово, которое имеет другой смысл. Дайте общее название оставшимся слова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ена, цент, евро, доллар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латник, сребреник, грош, пушнин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анкноты, купюры, бумажные деньги, монет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урт, реверс, аверс, эмблем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61800" y="1484280"/>
            <a:ext cx="8426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8 Марта девочкам часто дарят цветы. В обычное время розы стоят 50 рублей за штуку. Но перед 8 Марта стоимость роз увеличилась на 1/2 часть от обычной стоим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ьте на вопросы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кой будет стоимость 1 розы накануне 8 Март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з какого наибольшего числа роз Илья сможет купить букет накануне 8 Марта, если у него есть 400 рубле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50:2*1=25 (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50+25=75 (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400:75=5 (ост.2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052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pfrf-kabinet.ru/grazhdanam/potrebitelskaya-korzin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gd.ru/images/articles/10554/potrebitelskaya-korzina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rosinfostat.ru/wp-content/uploads/2020/03/minimu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cho.pln24.ru/pictures/190128074540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s://static.riafan.ru/uploads/2019/03/11/orig-15522965051428582967d9c36c1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opensii.info/answers/potrebitelskaya-korzina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zakon-navigator.ru/stoimost-potrebitelskoj-korziny-v-2019-2020-godah-v-rossii-oficialnye-dannye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midov-house.ru/subsidii/3776-potrebitelskaya-korzina-2021-rossiya-sostav-spisok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НИК  МАТЕМАТИЧЕСКИХ ЗАДАЧ «ОСНОВЫ ФИНАНС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s://kartinkinaden.ru/6028-fon-dlja-prezentacii-finansovoj-gramotnosti-24-foto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8785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личия от прожиточного минимум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-243720" algn="just">
              <a:lnSpc>
                <a:spcPct val="80000"/>
              </a:lnSpc>
              <a:spcBef>
                <a:spcPts val="601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c4e"/>
                </a:solidFill>
                <a:latin typeface="Times New Roman"/>
                <a:ea typeface="Times New Roman"/>
              </a:rPr>
              <a:t>Потребительская корзина в РФ, хотя и является близким по значению к прожиточному минимуму, но далеко не одинаковым. Прожиточный минимум выражается в денежной величине и определяет некую сумму, требуемую человеку для удовлетворения его жизненных потребностей. В продовольственную корзину, кроме набора продуктов, входят различные непродовольственные товары, а также необходимые услуги, сюда же входит стоимость одежды, коммунальных услуг, проезда в общественном транспорте, социально-культурных благ и т.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720" indent="-243720" algn="just">
              <a:lnSpc>
                <a:spcPct val="80000"/>
              </a:lnSpc>
              <a:spcBef>
                <a:spcPts val="601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c4e"/>
                </a:solidFill>
                <a:latin typeface="Times New Roman"/>
                <a:ea typeface="Times New Roman"/>
              </a:rPr>
              <a:t>Рассчитывается размер прожиточного минимума как совокупность всех расходов на продукты, услуги и товары первой необходимости. Соответственно, продуктовая корзина, даже являясь важным компонентом для определения жизненного уровня населения, сама по себе, не может выступать самодостаточным социально-экономическим показа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720" indent="-243720" algn="just">
              <a:lnSpc>
                <a:spcPct val="80000"/>
              </a:lnSpc>
              <a:spcBef>
                <a:spcPts val="601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На основании закона в корзину входят продовольственные продукты, непродовольственные товары и услуги. Общая продуктовая корзина на месяц может включать в себя следующий список продуктов: Хлебобулочная продукция. Сахар. Яйца. Макароны. Мука. Различные крупы. Овощи. Фрукты. Мясо. Рыба. Молочные изделия. Растительное масло. Маргарин. Приправы. Ча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b0f0"/>
                </a:solidFill>
                <a:latin typeface="PT Sans"/>
                <a:ea typeface="Arial"/>
              </a:rPr>
              <a:t>Для взрослых, детей и пенсионеров минимальное годовое потребление продуктов первой необходимости разно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2010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8000" y="66600"/>
          <a:ext cx="9002520" cy="6883560"/>
        </p:xfrm>
        <a:graphic>
          <a:graphicData uri="http://schemas.openxmlformats.org/drawingml/2006/table">
            <a:tbl>
              <a:tblPr/>
              <a:tblGrid>
                <a:gridCol w="3044880"/>
                <a:gridCol w="2146320"/>
                <a:gridCol w="2355840"/>
                <a:gridCol w="1455480"/>
              </a:tblGrid>
              <a:tr h="97128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ду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ребление взросл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нсионе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96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ебобулочные, макаронные изделия и кру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8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тоф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о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8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5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ар и кондитерские изд-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48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с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54756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ые 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7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й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8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а и жи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44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й и спе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08T04:43:46Z</dcterms:created>
  <dc:creator>Пользователь</dc:creator>
  <dc:description/>
  <dc:language>en-US</dc:language>
  <cp:lastModifiedBy>1</cp:lastModifiedBy>
  <dcterms:modified xsi:type="dcterms:W3CDTF">2023-10-06T19:33:03Z</dcterms:modified>
  <cp:revision>3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110000000000010243100207f6000400038000</vt:lpwstr>
  </property>
</Properties>
</file>