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C8A3A-9ECF-4727-99A3-78CEE2947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2AAF2-E778-41F2-8506-0410DEF76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31AB0-6CA0-4581-8F10-3365292D3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30133-2D4F-4375-BF03-DA5B40640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A9692-FB1E-4B3B-B91E-23FFD7072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6EBE1-795C-453C-AC4D-39971C9C2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9E005-43B5-451E-A9F5-F8EF2C1F0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F73E0-567C-47DA-AFE6-C8C2926BE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739D3-24CC-4D14-8E31-FBAA39DA3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9D36F-71B0-4282-9FB0-B1E7A6551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989F4-2A38-4EC7-B249-6A8C19BDB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3BE86-B3F1-4F51-A972-85798151A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97FE1-B393-4F88-B8EB-6819171D66F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s://pfrf-kabinet.ru/grazhdanam/potrebitelskaya-korzina.html" TargetMode="External"/><Relationship Id="rId2" Type="http://schemas.openxmlformats.org/officeDocument/2006/relationships/hyperlink" Target="https://www.gd.ru/images/articles/10554/potrebitelskaya-korzina.jpg" TargetMode="External"/><Relationship Id="rId3" Type="http://schemas.openxmlformats.org/officeDocument/2006/relationships/hyperlink" Target="https://rosinfostat.ru/wp-content/uploads/2020/03/minimum.jpg" TargetMode="External"/><Relationship Id="rId4" Type="http://schemas.openxmlformats.org/officeDocument/2006/relationships/hyperlink" Target="http://echo.pln24.ru/pictures/190128074540.jpg" TargetMode="External"/><Relationship Id="rId5" Type="http://schemas.openxmlformats.org/officeDocument/2006/relationships/hyperlink" Target="https://static.riafan.ru/uploads/2019/03/11/orig-15522965051428582967d9c36c12.jpg" TargetMode="External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Заголовок 1"/>
          <p:cNvGrpSpPr/>
          <p:nvPr/>
        </p:nvGrpSpPr>
        <p:grpSpPr>
          <a:xfrm>
            <a:off x="-6480" y="1047600"/>
            <a:ext cx="5651640" cy="615960"/>
            <a:chOff x="-6480" y="1047600"/>
            <a:chExt cx="5651640" cy="615960"/>
          </a:xfrm>
        </p:grpSpPr>
        <p:pic>
          <p:nvPicPr>
            <p:cNvPr id="42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-6480" y="1047600"/>
              <a:ext cx="5651640" cy="61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0" y="1052640"/>
              <a:ext cx="563724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b0f0"/>
                  </a:solidFill>
                  <a:latin typeface="Times New Roman"/>
                  <a:ea typeface="Times New Roman"/>
                </a:rPr>
                <a:t>Потребительская корзина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44" name="Picture 3" descr=""/>
          <p:cNvPicPr/>
          <p:nvPr/>
        </p:nvPicPr>
        <p:blipFill>
          <a:blip r:embed="rId2"/>
          <a:stretch/>
        </p:blipFill>
        <p:spPr>
          <a:xfrm>
            <a:off x="108000" y="2997360"/>
            <a:ext cx="5556240" cy="3746520"/>
          </a:xfrm>
          <a:prstGeom prst="rect">
            <a:avLst/>
          </a:prstGeom>
          <a:ln w="0">
            <a:noFill/>
          </a:ln>
        </p:spPr>
      </p:pic>
      <p:sp>
        <p:nvSpPr>
          <p:cNvPr id="45" name="Прямоугольник 1"/>
          <p:cNvSpPr/>
          <p:nvPr/>
        </p:nvSpPr>
        <p:spPr>
          <a:xfrm>
            <a:off x="379440" y="2060640"/>
            <a:ext cx="8064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зентация по финансовой грамотности, 4 класс,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К «Школа России»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6" descr=""/>
          <p:cNvPicPr/>
          <p:nvPr/>
        </p:nvPicPr>
        <p:blipFill>
          <a:blip r:embed="rId3"/>
          <a:stretch/>
        </p:blipFill>
        <p:spPr>
          <a:xfrm>
            <a:off x="6602400" y="12600"/>
            <a:ext cx="2541600" cy="14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324000" y="11160"/>
          <a:ext cx="8569080" cy="7402320"/>
        </p:xfrm>
        <a:graphic>
          <a:graphicData uri="http://schemas.openxmlformats.org/drawingml/2006/table">
            <a:tbl>
              <a:tblPr/>
              <a:tblGrid>
                <a:gridCol w="2131920"/>
                <a:gridCol w="2146320"/>
                <a:gridCol w="2144520"/>
                <a:gridCol w="2146320"/>
              </a:tblGrid>
              <a:tr h="1914120">
                <a:tc>
                  <a:txBody>
                    <a:bodyPr lIns="83880" rIns="83880" tIns="41760" bIns="46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вание продук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3880" marR="83880">
                    <a:lnL w="3600">
                      <a:solidFill>
                        <a:srgbClr val="e1e1e1"/>
                      </a:solidFill>
                    </a:lnL>
                    <a:lnR w="3600">
                      <a:solidFill>
                        <a:srgbClr val="e1e1e1"/>
                      </a:solidFill>
                    </a:lnR>
                    <a:lnT w="3600">
                      <a:solidFill>
                        <a:srgbClr val="e1e1e1"/>
                      </a:solidFill>
                    </a:lnT>
                    <a:lnB w="3600">
                      <a:solidFill>
                        <a:srgbClr val="e1e1e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400" rIns="83880" tIns="41760" bIns="46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инимальное потребление для взрослых в 2021 г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0400" marR="83880">
                    <a:lnL w="3600">
                      <a:solidFill>
                        <a:srgbClr val="e1e1e1"/>
                      </a:solidFill>
                    </a:lnL>
                    <a:lnR w="3600">
                      <a:solidFill>
                        <a:srgbClr val="e1e1e1"/>
                      </a:solidFill>
                    </a:lnR>
                    <a:lnT w="3600">
                      <a:solidFill>
                        <a:srgbClr val="e1e1e1"/>
                      </a:solidFill>
                    </a:lnT>
                    <a:lnB w="3600">
                      <a:solidFill>
                        <a:srgbClr val="e1e1e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400" rIns="83880" tIns="41760" bIns="46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ормы Министерства здравоохран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0400" marR="83880">
                    <a:lnL w="3600">
                      <a:solidFill>
                        <a:srgbClr val="e1e1e1"/>
                      </a:solidFill>
                    </a:lnL>
                    <a:lnR w="3600">
                      <a:solidFill>
                        <a:srgbClr val="e1e1e1"/>
                      </a:solidFill>
                    </a:lnR>
                    <a:lnT w="3600">
                      <a:solidFill>
                        <a:srgbClr val="e1e1e1"/>
                      </a:solidFill>
                    </a:lnT>
                    <a:lnB w="3600">
                      <a:solidFill>
                        <a:srgbClr val="e1e1e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400" rIns="83880" tIns="41760" bIns="46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орма потребления в ССС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0400" marR="83880">
                    <a:lnL w="3600">
                      <a:solidFill>
                        <a:srgbClr val="e1e1e1"/>
                      </a:solidFill>
                    </a:lnL>
                    <a:lnR w="3600">
                      <a:solidFill>
                        <a:srgbClr val="e1e1e1"/>
                      </a:solidFill>
                    </a:lnR>
                    <a:lnT w="3600">
                      <a:solidFill>
                        <a:srgbClr val="e1e1e1"/>
                      </a:solidFill>
                    </a:lnT>
                    <a:lnB w="3600">
                      <a:solidFill>
                        <a:srgbClr val="e1e1e1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02600">
                <a:tc>
                  <a:txBody>
                    <a:bodyPr lIns="83880" rIns="83880" tIns="41760" bIns="46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Хлебобулочные изделия и круп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3880" marR="83880">
                    <a:lnL w="3600">
                      <a:solidFill>
                        <a:srgbClr val="e1e1e1"/>
                      </a:solidFill>
                    </a:lnL>
                    <a:lnR w="3600">
                      <a:solidFill>
                        <a:srgbClr val="e1e1e1"/>
                      </a:solidFill>
                    </a:lnR>
                    <a:lnT w="3600">
                      <a:solidFill>
                        <a:srgbClr val="e1e1e1"/>
                      </a:solidFill>
                    </a:lnT>
                    <a:lnB w="3600">
                      <a:solidFill>
                        <a:srgbClr val="e1e1e1"/>
                      </a:solidFill>
                    </a:lnB>
                    <a:solidFill>
                      <a:srgbClr val="f3f6f7"/>
                    </a:solidFill>
                  </a:tcPr>
                </a:tc>
                <a:tc>
                  <a:txBody>
                    <a:bodyPr lIns="50400" rIns="83880" tIns="41760" bIns="46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6 к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0400" marR="83880">
                    <a:lnL w="3600">
                      <a:solidFill>
                        <a:srgbClr val="e1e1e1"/>
                      </a:solidFill>
                    </a:lnL>
                    <a:lnR w="3600">
                      <a:solidFill>
                        <a:srgbClr val="e1e1e1"/>
                      </a:solidFill>
                    </a:lnR>
                    <a:lnT w="3600">
                      <a:solidFill>
                        <a:srgbClr val="e1e1e1"/>
                      </a:solidFill>
                    </a:lnT>
                    <a:lnB w="3600">
                      <a:solidFill>
                        <a:srgbClr val="e1e1e1"/>
                      </a:solidFill>
                    </a:lnB>
                    <a:solidFill>
                      <a:srgbClr val="f3f6f7"/>
                    </a:solidFill>
                  </a:tcPr>
                </a:tc>
                <a:tc>
                  <a:txBody>
                    <a:bodyPr lIns="50400" rIns="83880" tIns="41760" bIns="46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6 к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0400" marR="83880">
                    <a:lnL w="3600">
                      <a:solidFill>
                        <a:srgbClr val="e1e1e1"/>
                      </a:solidFill>
                    </a:lnL>
                    <a:lnR w="3600">
                      <a:solidFill>
                        <a:srgbClr val="e1e1e1"/>
                      </a:solidFill>
                    </a:lnR>
                    <a:lnT w="3600">
                      <a:solidFill>
                        <a:srgbClr val="e1e1e1"/>
                      </a:solidFill>
                    </a:lnT>
                    <a:lnB w="3600">
                      <a:solidFill>
                        <a:srgbClr val="e1e1e1"/>
                      </a:solidFill>
                    </a:lnB>
                    <a:solidFill>
                      <a:srgbClr val="f3f6f7"/>
                    </a:solidFill>
                  </a:tcPr>
                </a:tc>
                <a:tc>
                  <a:txBody>
                    <a:bodyPr lIns="50400" rIns="83880" tIns="41760" bIns="46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0 к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0400" marR="83880">
                    <a:lnL w="3600">
                      <a:solidFill>
                        <a:srgbClr val="e1e1e1"/>
                      </a:solidFill>
                    </a:lnL>
                    <a:lnR w="3600">
                      <a:solidFill>
                        <a:srgbClr val="e1e1e1"/>
                      </a:solidFill>
                    </a:lnR>
                    <a:lnT w="3600">
                      <a:solidFill>
                        <a:srgbClr val="e1e1e1"/>
                      </a:solidFill>
                    </a:lnT>
                    <a:lnB w="3600">
                      <a:solidFill>
                        <a:srgbClr val="e1e1e1"/>
                      </a:solidFill>
                    </a:lnB>
                    <a:solidFill>
                      <a:srgbClr val="f3f6f7"/>
                    </a:solidFill>
                  </a:tcPr>
                </a:tc>
              </a:tr>
              <a:tr h="393120">
                <a:tc>
                  <a:txBody>
                    <a:bodyPr lIns="83880" rIns="83880" tIns="41760" bIns="46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артофел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3880" marR="83880">
                    <a:lnL w="3600">
                      <a:solidFill>
                        <a:srgbClr val="e1e1e1"/>
                      </a:solidFill>
                    </a:lnL>
                    <a:lnR w="3600">
                      <a:solidFill>
                        <a:srgbClr val="e1e1e1"/>
                      </a:solidFill>
                    </a:lnR>
                    <a:lnT w="3600">
                      <a:solidFill>
                        <a:srgbClr val="e1e1e1"/>
                      </a:solidFill>
                    </a:lnT>
                    <a:lnB w="3600">
                      <a:solidFill>
                        <a:srgbClr val="e1e1e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400" rIns="83880" tIns="41760" bIns="46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 к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0400" marR="83880">
                    <a:lnL w="3600">
                      <a:solidFill>
                        <a:srgbClr val="e1e1e1"/>
                      </a:solidFill>
                    </a:lnL>
                    <a:lnR w="3600">
                      <a:solidFill>
                        <a:srgbClr val="e1e1e1"/>
                      </a:solidFill>
                    </a:lnR>
                    <a:lnT w="3600">
                      <a:solidFill>
                        <a:srgbClr val="e1e1e1"/>
                      </a:solidFill>
                    </a:lnT>
                    <a:lnB w="3600">
                      <a:solidFill>
                        <a:srgbClr val="e1e1e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400" rIns="83880" tIns="41760" bIns="46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 к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0400" marR="83880">
                    <a:lnL w="3600">
                      <a:solidFill>
                        <a:srgbClr val="e1e1e1"/>
                      </a:solidFill>
                    </a:lnL>
                    <a:lnR w="3600">
                      <a:solidFill>
                        <a:srgbClr val="e1e1e1"/>
                      </a:solidFill>
                    </a:lnR>
                    <a:lnT w="3600">
                      <a:solidFill>
                        <a:srgbClr val="e1e1e1"/>
                      </a:solidFill>
                    </a:lnT>
                    <a:lnB w="3600">
                      <a:solidFill>
                        <a:srgbClr val="e1e1e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400" rIns="83880" tIns="41760" bIns="46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5 к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0400" marR="83880">
                    <a:lnL w="3600">
                      <a:solidFill>
                        <a:srgbClr val="e1e1e1"/>
                      </a:solidFill>
                    </a:lnL>
                    <a:lnR w="3600">
                      <a:solidFill>
                        <a:srgbClr val="e1e1e1"/>
                      </a:solidFill>
                    </a:lnR>
                    <a:lnT w="3600">
                      <a:solidFill>
                        <a:srgbClr val="e1e1e1"/>
                      </a:solidFill>
                    </a:lnT>
                    <a:lnB w="3600">
                      <a:solidFill>
                        <a:srgbClr val="e1e1e1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3120">
                <a:tc>
                  <a:txBody>
                    <a:bodyPr lIns="83880" rIns="83880" tIns="41760" bIns="46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вощ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3880" marR="83880">
                    <a:lnL w="3600">
                      <a:solidFill>
                        <a:srgbClr val="e1e1e1"/>
                      </a:solidFill>
                    </a:lnL>
                    <a:lnR w="3600">
                      <a:solidFill>
                        <a:srgbClr val="e1e1e1"/>
                      </a:solidFill>
                    </a:lnR>
                    <a:lnT w="3600">
                      <a:solidFill>
                        <a:srgbClr val="e1e1e1"/>
                      </a:solidFill>
                    </a:lnT>
                    <a:lnB w="3600">
                      <a:solidFill>
                        <a:srgbClr val="e1e1e1"/>
                      </a:solidFill>
                    </a:lnB>
                    <a:solidFill>
                      <a:srgbClr val="f3f6f7"/>
                    </a:solidFill>
                  </a:tcPr>
                </a:tc>
                <a:tc>
                  <a:txBody>
                    <a:bodyPr lIns="50400" rIns="83880" tIns="41760" bIns="46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4 к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0400" marR="83880">
                    <a:lnL w="3600">
                      <a:solidFill>
                        <a:srgbClr val="e1e1e1"/>
                      </a:solidFill>
                    </a:lnL>
                    <a:lnR w="3600">
                      <a:solidFill>
                        <a:srgbClr val="e1e1e1"/>
                      </a:solidFill>
                    </a:lnR>
                    <a:lnT w="3600">
                      <a:solidFill>
                        <a:srgbClr val="e1e1e1"/>
                      </a:solidFill>
                    </a:lnT>
                    <a:lnB w="3600">
                      <a:solidFill>
                        <a:srgbClr val="e1e1e1"/>
                      </a:solidFill>
                    </a:lnB>
                    <a:solidFill>
                      <a:srgbClr val="f3f6f7"/>
                    </a:solidFill>
                  </a:tcPr>
                </a:tc>
                <a:tc>
                  <a:txBody>
                    <a:bodyPr lIns="50400" rIns="83880" tIns="41760" bIns="46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0 к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0400" marR="83880">
                    <a:lnL w="3600">
                      <a:solidFill>
                        <a:srgbClr val="e1e1e1"/>
                      </a:solidFill>
                    </a:lnL>
                    <a:lnR w="3600">
                      <a:solidFill>
                        <a:srgbClr val="e1e1e1"/>
                      </a:solidFill>
                    </a:lnR>
                    <a:lnT w="3600">
                      <a:solidFill>
                        <a:srgbClr val="e1e1e1"/>
                      </a:solidFill>
                    </a:lnT>
                    <a:lnB w="3600">
                      <a:solidFill>
                        <a:srgbClr val="e1e1e1"/>
                      </a:solidFill>
                    </a:lnB>
                    <a:solidFill>
                      <a:srgbClr val="f3f6f7"/>
                    </a:solidFill>
                  </a:tcPr>
                </a:tc>
                <a:tc>
                  <a:txBody>
                    <a:bodyPr lIns="50400" rIns="83880" tIns="41760" bIns="46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6 к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0400" marR="83880">
                    <a:lnL w="3600">
                      <a:solidFill>
                        <a:srgbClr val="e1e1e1"/>
                      </a:solidFill>
                    </a:lnL>
                    <a:lnR w="3600">
                      <a:solidFill>
                        <a:srgbClr val="e1e1e1"/>
                      </a:solidFill>
                    </a:lnR>
                    <a:lnT w="3600">
                      <a:solidFill>
                        <a:srgbClr val="e1e1e1"/>
                      </a:solidFill>
                    </a:lnT>
                    <a:lnB w="3600">
                      <a:solidFill>
                        <a:srgbClr val="e1e1e1"/>
                      </a:solidFill>
                    </a:lnB>
                    <a:solidFill>
                      <a:srgbClr val="f3f6f7"/>
                    </a:solidFill>
                  </a:tcPr>
                </a:tc>
              </a:tr>
              <a:tr h="393120">
                <a:tc>
                  <a:txBody>
                    <a:bodyPr lIns="83880" rIns="83880" tIns="41760" bIns="46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Фрукт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3880" marR="83880">
                    <a:lnL w="3600">
                      <a:solidFill>
                        <a:srgbClr val="e1e1e1"/>
                      </a:solidFill>
                    </a:lnL>
                    <a:lnR w="3600">
                      <a:solidFill>
                        <a:srgbClr val="e1e1e1"/>
                      </a:solidFill>
                    </a:lnR>
                    <a:lnT w="3600">
                      <a:solidFill>
                        <a:srgbClr val="e1e1e1"/>
                      </a:solidFill>
                    </a:lnT>
                    <a:lnB w="3600">
                      <a:solidFill>
                        <a:srgbClr val="e1e1e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400" rIns="83880" tIns="41760" bIns="46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 к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0400" marR="83880">
                    <a:lnL w="3600">
                      <a:solidFill>
                        <a:srgbClr val="e1e1e1"/>
                      </a:solidFill>
                    </a:lnL>
                    <a:lnR w="3600">
                      <a:solidFill>
                        <a:srgbClr val="e1e1e1"/>
                      </a:solidFill>
                    </a:lnR>
                    <a:lnT w="3600">
                      <a:solidFill>
                        <a:srgbClr val="e1e1e1"/>
                      </a:solidFill>
                    </a:lnT>
                    <a:lnB w="3600">
                      <a:solidFill>
                        <a:srgbClr val="e1e1e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400" rIns="83880" tIns="41760" bIns="46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 к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0400" marR="83880">
                    <a:lnL w="3600">
                      <a:solidFill>
                        <a:srgbClr val="e1e1e1"/>
                      </a:solidFill>
                    </a:lnL>
                    <a:lnR w="3600">
                      <a:solidFill>
                        <a:srgbClr val="e1e1e1"/>
                      </a:solidFill>
                    </a:lnR>
                    <a:lnT w="3600">
                      <a:solidFill>
                        <a:srgbClr val="e1e1e1"/>
                      </a:solidFill>
                    </a:lnT>
                    <a:lnB w="3600">
                      <a:solidFill>
                        <a:srgbClr val="e1e1e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400" rIns="83880" tIns="41760" bIns="46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0 к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0400" marR="83880">
                    <a:lnL w="3600">
                      <a:solidFill>
                        <a:srgbClr val="e1e1e1"/>
                      </a:solidFill>
                    </a:lnL>
                    <a:lnR w="3600">
                      <a:solidFill>
                        <a:srgbClr val="e1e1e1"/>
                      </a:solidFill>
                    </a:lnR>
                    <a:lnT w="3600">
                      <a:solidFill>
                        <a:srgbClr val="e1e1e1"/>
                      </a:solidFill>
                    </a:lnT>
                    <a:lnB w="3600">
                      <a:solidFill>
                        <a:srgbClr val="e1e1e1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3480">
                <a:tc>
                  <a:txBody>
                    <a:bodyPr lIns="83880" rIns="83880" tIns="41760" bIns="46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аха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3880" marR="83880">
                    <a:lnL w="3600">
                      <a:solidFill>
                        <a:srgbClr val="e1e1e1"/>
                      </a:solidFill>
                    </a:lnL>
                    <a:lnR w="3600">
                      <a:solidFill>
                        <a:srgbClr val="e1e1e1"/>
                      </a:solidFill>
                    </a:lnR>
                    <a:lnT w="3600">
                      <a:solidFill>
                        <a:srgbClr val="e1e1e1"/>
                      </a:solidFill>
                    </a:lnT>
                    <a:lnB w="3600">
                      <a:solidFill>
                        <a:srgbClr val="e1e1e1"/>
                      </a:solidFill>
                    </a:lnB>
                    <a:solidFill>
                      <a:srgbClr val="f3f6f7"/>
                    </a:solidFill>
                  </a:tcPr>
                </a:tc>
                <a:tc>
                  <a:txBody>
                    <a:bodyPr lIns="50400" rIns="83880" tIns="41760" bIns="46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 к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0400" marR="83880">
                    <a:lnL w="3600">
                      <a:solidFill>
                        <a:srgbClr val="e1e1e1"/>
                      </a:solidFill>
                    </a:lnL>
                    <a:lnR w="3600">
                      <a:solidFill>
                        <a:srgbClr val="e1e1e1"/>
                      </a:solidFill>
                    </a:lnR>
                    <a:lnT w="3600">
                      <a:solidFill>
                        <a:srgbClr val="e1e1e1"/>
                      </a:solidFill>
                    </a:lnT>
                    <a:lnB w="3600">
                      <a:solidFill>
                        <a:srgbClr val="e1e1e1"/>
                      </a:solidFill>
                    </a:lnB>
                    <a:solidFill>
                      <a:srgbClr val="f3f6f7"/>
                    </a:solidFill>
                  </a:tcPr>
                </a:tc>
                <a:tc>
                  <a:txBody>
                    <a:bodyPr lIns="50400" rIns="83880" tIns="41760" bIns="46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 к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0400" marR="83880">
                    <a:lnL w="3600">
                      <a:solidFill>
                        <a:srgbClr val="e1e1e1"/>
                      </a:solidFill>
                    </a:lnL>
                    <a:lnR w="3600">
                      <a:solidFill>
                        <a:srgbClr val="e1e1e1"/>
                      </a:solidFill>
                    </a:lnR>
                    <a:lnT w="3600">
                      <a:solidFill>
                        <a:srgbClr val="e1e1e1"/>
                      </a:solidFill>
                    </a:lnT>
                    <a:lnB w="3600">
                      <a:solidFill>
                        <a:srgbClr val="e1e1e1"/>
                      </a:solidFill>
                    </a:lnB>
                    <a:solidFill>
                      <a:srgbClr val="f3f6f7"/>
                    </a:solidFill>
                  </a:tcPr>
                </a:tc>
                <a:tc>
                  <a:txBody>
                    <a:bodyPr lIns="50400" rIns="83880" tIns="41760" bIns="46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 к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0400" marR="83880">
                    <a:lnL w="3600">
                      <a:solidFill>
                        <a:srgbClr val="e1e1e1"/>
                      </a:solidFill>
                    </a:lnL>
                    <a:lnR w="3600">
                      <a:solidFill>
                        <a:srgbClr val="e1e1e1"/>
                      </a:solidFill>
                    </a:lnR>
                    <a:lnT w="3600">
                      <a:solidFill>
                        <a:srgbClr val="e1e1e1"/>
                      </a:solidFill>
                    </a:lnT>
                    <a:lnB w="3600">
                      <a:solidFill>
                        <a:srgbClr val="e1e1e1"/>
                      </a:solidFill>
                    </a:lnB>
                    <a:solidFill>
                      <a:srgbClr val="f3f6f7"/>
                    </a:solidFill>
                  </a:tcPr>
                </a:tc>
              </a:tr>
              <a:tr h="393120">
                <a:tc>
                  <a:txBody>
                    <a:bodyPr lIns="83880" rIns="83880" tIns="41760" bIns="46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яс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3880" marR="83880">
                    <a:lnL w="3600">
                      <a:solidFill>
                        <a:srgbClr val="e1e1e1"/>
                      </a:solidFill>
                    </a:lnL>
                    <a:lnR w="3600">
                      <a:solidFill>
                        <a:srgbClr val="e1e1e1"/>
                      </a:solidFill>
                    </a:lnR>
                    <a:lnT w="3600">
                      <a:solidFill>
                        <a:srgbClr val="e1e1e1"/>
                      </a:solidFill>
                    </a:lnT>
                    <a:lnB w="3600">
                      <a:solidFill>
                        <a:srgbClr val="e1e1e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400" rIns="83880" tIns="41760" bIns="46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8 к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0400" marR="83880">
                    <a:lnL w="3600">
                      <a:solidFill>
                        <a:srgbClr val="e1e1e1"/>
                      </a:solidFill>
                    </a:lnL>
                    <a:lnR w="3600">
                      <a:solidFill>
                        <a:srgbClr val="e1e1e1"/>
                      </a:solidFill>
                    </a:lnR>
                    <a:lnT w="3600">
                      <a:solidFill>
                        <a:srgbClr val="e1e1e1"/>
                      </a:solidFill>
                    </a:lnT>
                    <a:lnB w="3600">
                      <a:solidFill>
                        <a:srgbClr val="e1e1e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400" rIns="83880" tIns="41760" bIns="46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3 к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0400" marR="83880">
                    <a:lnL w="3600">
                      <a:solidFill>
                        <a:srgbClr val="e1e1e1"/>
                      </a:solidFill>
                    </a:lnL>
                    <a:lnR w="3600">
                      <a:solidFill>
                        <a:srgbClr val="e1e1e1"/>
                      </a:solidFill>
                    </a:lnR>
                    <a:lnT w="3600">
                      <a:solidFill>
                        <a:srgbClr val="e1e1e1"/>
                      </a:solidFill>
                    </a:lnT>
                    <a:lnB w="3600">
                      <a:solidFill>
                        <a:srgbClr val="e1e1e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400" rIns="83880" tIns="41760" bIns="46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4 к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0400" marR="83880">
                    <a:lnL w="3600">
                      <a:solidFill>
                        <a:srgbClr val="e1e1e1"/>
                      </a:solidFill>
                    </a:lnL>
                    <a:lnR w="3600">
                      <a:solidFill>
                        <a:srgbClr val="e1e1e1"/>
                      </a:solidFill>
                    </a:lnR>
                    <a:lnT w="3600">
                      <a:solidFill>
                        <a:srgbClr val="e1e1e1"/>
                      </a:solidFill>
                    </a:lnT>
                    <a:lnB w="3600">
                      <a:solidFill>
                        <a:srgbClr val="e1e1e1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3480">
                <a:tc>
                  <a:txBody>
                    <a:bodyPr lIns="83880" rIns="83880" tIns="41760" bIns="46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ыб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3880" marR="83880">
                    <a:lnL w="3600">
                      <a:solidFill>
                        <a:srgbClr val="e1e1e1"/>
                      </a:solidFill>
                    </a:lnL>
                    <a:lnR w="3600">
                      <a:solidFill>
                        <a:srgbClr val="e1e1e1"/>
                      </a:solidFill>
                    </a:lnR>
                    <a:lnT w="3600">
                      <a:solidFill>
                        <a:srgbClr val="e1e1e1"/>
                      </a:solidFill>
                    </a:lnT>
                    <a:lnB w="3600">
                      <a:solidFill>
                        <a:srgbClr val="e1e1e1"/>
                      </a:solidFill>
                    </a:lnB>
                    <a:solidFill>
                      <a:srgbClr val="f3f6f7"/>
                    </a:solidFill>
                  </a:tcPr>
                </a:tc>
                <a:tc>
                  <a:txBody>
                    <a:bodyPr lIns="50400" rIns="83880" tIns="41760" bIns="46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 к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0400" marR="83880">
                    <a:lnL w="3600">
                      <a:solidFill>
                        <a:srgbClr val="e1e1e1"/>
                      </a:solidFill>
                    </a:lnL>
                    <a:lnR w="3600">
                      <a:solidFill>
                        <a:srgbClr val="e1e1e1"/>
                      </a:solidFill>
                    </a:lnR>
                    <a:lnT w="3600">
                      <a:solidFill>
                        <a:srgbClr val="e1e1e1"/>
                      </a:solidFill>
                    </a:lnT>
                    <a:lnB w="3600">
                      <a:solidFill>
                        <a:srgbClr val="e1e1e1"/>
                      </a:solidFill>
                    </a:lnB>
                    <a:solidFill>
                      <a:srgbClr val="f3f6f7"/>
                    </a:solidFill>
                  </a:tcPr>
                </a:tc>
                <a:tc>
                  <a:txBody>
                    <a:bodyPr lIns="50400" rIns="83880" tIns="41760" bIns="46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 к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0400" marR="83880">
                    <a:lnL w="3600">
                      <a:solidFill>
                        <a:srgbClr val="e1e1e1"/>
                      </a:solidFill>
                    </a:lnL>
                    <a:lnR w="3600">
                      <a:solidFill>
                        <a:srgbClr val="e1e1e1"/>
                      </a:solidFill>
                    </a:lnR>
                    <a:lnT w="3600">
                      <a:solidFill>
                        <a:srgbClr val="e1e1e1"/>
                      </a:solidFill>
                    </a:lnT>
                    <a:lnB w="3600">
                      <a:solidFill>
                        <a:srgbClr val="e1e1e1"/>
                      </a:solidFill>
                    </a:lnB>
                    <a:solidFill>
                      <a:srgbClr val="f3f6f7"/>
                    </a:solidFill>
                  </a:tcPr>
                </a:tc>
                <a:tc>
                  <a:txBody>
                    <a:bodyPr lIns="50400" rIns="83880" tIns="41760" bIns="46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 к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0400" marR="83880">
                    <a:lnL w="3600">
                      <a:solidFill>
                        <a:srgbClr val="e1e1e1"/>
                      </a:solidFill>
                    </a:lnL>
                    <a:lnR w="3600">
                      <a:solidFill>
                        <a:srgbClr val="e1e1e1"/>
                      </a:solidFill>
                    </a:lnR>
                    <a:lnT w="3600">
                      <a:solidFill>
                        <a:srgbClr val="e1e1e1"/>
                      </a:solidFill>
                    </a:lnT>
                    <a:lnB w="3600">
                      <a:solidFill>
                        <a:srgbClr val="e1e1e1"/>
                      </a:solidFill>
                    </a:lnB>
                    <a:solidFill>
                      <a:srgbClr val="f3f6f7"/>
                    </a:solidFill>
                  </a:tcPr>
                </a:tc>
              </a:tr>
              <a:tr h="698040">
                <a:tc>
                  <a:txBody>
                    <a:bodyPr lIns="83880" rIns="83880" tIns="41760" bIns="46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олочные продукт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3880" marR="83880">
                    <a:lnL w="3600">
                      <a:solidFill>
                        <a:srgbClr val="e1e1e1"/>
                      </a:solidFill>
                    </a:lnL>
                    <a:lnR w="3600">
                      <a:solidFill>
                        <a:srgbClr val="e1e1e1"/>
                      </a:solidFill>
                    </a:lnR>
                    <a:lnT w="3600">
                      <a:solidFill>
                        <a:srgbClr val="e1e1e1"/>
                      </a:solidFill>
                    </a:lnT>
                    <a:lnB w="3600">
                      <a:solidFill>
                        <a:srgbClr val="e1e1e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400" rIns="83880" tIns="41760" bIns="46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0 к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0400" marR="83880">
                    <a:lnL w="3600">
                      <a:solidFill>
                        <a:srgbClr val="e1e1e1"/>
                      </a:solidFill>
                    </a:lnL>
                    <a:lnR w="3600">
                      <a:solidFill>
                        <a:srgbClr val="e1e1e1"/>
                      </a:solidFill>
                    </a:lnR>
                    <a:lnT w="3600">
                      <a:solidFill>
                        <a:srgbClr val="e1e1e1"/>
                      </a:solidFill>
                    </a:lnT>
                    <a:lnB w="3600">
                      <a:solidFill>
                        <a:srgbClr val="e1e1e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400" rIns="83880" tIns="41760" bIns="46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5 к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0400" marR="83880">
                    <a:lnL w="3600">
                      <a:solidFill>
                        <a:srgbClr val="e1e1e1"/>
                      </a:solidFill>
                    </a:lnL>
                    <a:lnR w="3600">
                      <a:solidFill>
                        <a:srgbClr val="e1e1e1"/>
                      </a:solidFill>
                    </a:lnR>
                    <a:lnT w="3600">
                      <a:solidFill>
                        <a:srgbClr val="e1e1e1"/>
                      </a:solidFill>
                    </a:lnT>
                    <a:lnB w="3600">
                      <a:solidFill>
                        <a:srgbClr val="e1e1e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400" rIns="83880" tIns="41760" bIns="46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0 к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0400" marR="83880">
                    <a:lnL w="3600">
                      <a:solidFill>
                        <a:srgbClr val="e1e1e1"/>
                      </a:solidFill>
                    </a:lnL>
                    <a:lnR w="3600">
                      <a:solidFill>
                        <a:srgbClr val="e1e1e1"/>
                      </a:solidFill>
                    </a:lnR>
                    <a:lnT w="3600">
                      <a:solidFill>
                        <a:srgbClr val="e1e1e1"/>
                      </a:solidFill>
                    </a:lnT>
                    <a:lnB w="3600">
                      <a:solidFill>
                        <a:srgbClr val="e1e1e1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3120">
                <a:tc>
                  <a:txBody>
                    <a:bodyPr lIns="83880" rIns="83880" tIns="41760" bIns="46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Яйц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3880" marR="83880">
                    <a:lnL w="3600">
                      <a:solidFill>
                        <a:srgbClr val="e1e1e1"/>
                      </a:solidFill>
                    </a:lnL>
                    <a:lnR w="3600">
                      <a:solidFill>
                        <a:srgbClr val="e1e1e1"/>
                      </a:solidFill>
                    </a:lnR>
                    <a:lnT w="3600">
                      <a:solidFill>
                        <a:srgbClr val="e1e1e1"/>
                      </a:solidFill>
                    </a:lnT>
                    <a:lnB w="3600">
                      <a:solidFill>
                        <a:srgbClr val="e1e1e1"/>
                      </a:solidFill>
                    </a:lnB>
                    <a:solidFill>
                      <a:srgbClr val="f3f6f7"/>
                    </a:solidFill>
                  </a:tcPr>
                </a:tc>
                <a:tc>
                  <a:txBody>
                    <a:bodyPr lIns="50400" rIns="83880" tIns="41760" bIns="46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0 шт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0400" marR="83880">
                    <a:lnL w="3600">
                      <a:solidFill>
                        <a:srgbClr val="e1e1e1"/>
                      </a:solidFill>
                    </a:lnL>
                    <a:lnR w="3600">
                      <a:solidFill>
                        <a:srgbClr val="e1e1e1"/>
                      </a:solidFill>
                    </a:lnR>
                    <a:lnT w="3600">
                      <a:solidFill>
                        <a:srgbClr val="e1e1e1"/>
                      </a:solidFill>
                    </a:lnT>
                    <a:lnB w="3600">
                      <a:solidFill>
                        <a:srgbClr val="e1e1e1"/>
                      </a:solidFill>
                    </a:lnB>
                    <a:solidFill>
                      <a:srgbClr val="f3f6f7"/>
                    </a:solidFill>
                  </a:tcPr>
                </a:tc>
                <a:tc>
                  <a:txBody>
                    <a:bodyPr lIns="50400" rIns="83880" tIns="41760" bIns="46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0 шт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0400" marR="83880">
                    <a:lnL w="3600">
                      <a:solidFill>
                        <a:srgbClr val="e1e1e1"/>
                      </a:solidFill>
                    </a:lnL>
                    <a:lnR w="3600">
                      <a:solidFill>
                        <a:srgbClr val="e1e1e1"/>
                      </a:solidFill>
                    </a:lnR>
                    <a:lnT w="3600">
                      <a:solidFill>
                        <a:srgbClr val="e1e1e1"/>
                      </a:solidFill>
                    </a:lnT>
                    <a:lnB w="3600">
                      <a:solidFill>
                        <a:srgbClr val="e1e1e1"/>
                      </a:solidFill>
                    </a:lnB>
                    <a:solidFill>
                      <a:srgbClr val="f3f6f7"/>
                    </a:solidFill>
                  </a:tcPr>
                </a:tc>
                <a:tc>
                  <a:txBody>
                    <a:bodyPr lIns="50400" rIns="83880" tIns="41760" bIns="46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0 шт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0400" marR="83880">
                    <a:lnL w="3600">
                      <a:solidFill>
                        <a:srgbClr val="e1e1e1"/>
                      </a:solidFill>
                    </a:lnL>
                    <a:lnR w="3600">
                      <a:solidFill>
                        <a:srgbClr val="e1e1e1"/>
                      </a:solidFill>
                    </a:lnR>
                    <a:lnT w="3600">
                      <a:solidFill>
                        <a:srgbClr val="e1e1e1"/>
                      </a:solidFill>
                    </a:lnT>
                    <a:lnB w="3600">
                      <a:solidFill>
                        <a:srgbClr val="e1e1e1"/>
                      </a:solidFill>
                    </a:lnB>
                    <a:solidFill>
                      <a:srgbClr val="f3f6f7"/>
                    </a:solidFill>
                  </a:tcPr>
                </a:tc>
              </a:tr>
              <a:tr h="518760">
                <a:tc>
                  <a:txBody>
                    <a:bodyPr lIns="83880" rIns="83880" tIns="41760" bIns="46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сло и жир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3880" marR="83880">
                    <a:lnL w="3600">
                      <a:solidFill>
                        <a:srgbClr val="e1e1e1"/>
                      </a:solidFill>
                    </a:lnL>
                    <a:lnR w="3600">
                      <a:solidFill>
                        <a:srgbClr val="e1e1e1"/>
                      </a:solidFill>
                    </a:lnR>
                    <a:lnT w="3600">
                      <a:solidFill>
                        <a:srgbClr val="e1e1e1"/>
                      </a:solidFill>
                    </a:lnT>
                    <a:lnB w="3600">
                      <a:solidFill>
                        <a:srgbClr val="e1e1e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400" rIns="83880" tIns="41760" bIns="46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 к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0400" marR="83880">
                    <a:lnL w="3600">
                      <a:solidFill>
                        <a:srgbClr val="e1e1e1"/>
                      </a:solidFill>
                    </a:lnL>
                    <a:lnR w="3600">
                      <a:solidFill>
                        <a:srgbClr val="e1e1e1"/>
                      </a:solidFill>
                    </a:lnR>
                    <a:lnT w="3600">
                      <a:solidFill>
                        <a:srgbClr val="e1e1e1"/>
                      </a:solidFill>
                    </a:lnT>
                    <a:lnB w="3600">
                      <a:solidFill>
                        <a:srgbClr val="e1e1e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400" rIns="83880" tIns="41760" bIns="46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 к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0400" marR="83880">
                    <a:lnL w="3600">
                      <a:solidFill>
                        <a:srgbClr val="e1e1e1"/>
                      </a:solidFill>
                    </a:lnL>
                    <a:lnR w="3600">
                      <a:solidFill>
                        <a:srgbClr val="e1e1e1"/>
                      </a:solidFill>
                    </a:lnR>
                    <a:lnT w="3600">
                      <a:solidFill>
                        <a:srgbClr val="e1e1e1"/>
                      </a:solidFill>
                    </a:lnT>
                    <a:lnB w="3600">
                      <a:solidFill>
                        <a:srgbClr val="e1e1e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400" rIns="83880" tIns="41760" bIns="46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 к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0400" marR="83880">
                    <a:lnL w="3600">
                      <a:solidFill>
                        <a:srgbClr val="e1e1e1"/>
                      </a:solidFill>
                    </a:lnL>
                    <a:lnR w="3600">
                      <a:solidFill>
                        <a:srgbClr val="e1e1e1"/>
                      </a:solidFill>
                    </a:lnR>
                    <a:lnT w="3600">
                      <a:solidFill>
                        <a:srgbClr val="e1e1e1"/>
                      </a:solidFill>
                    </a:lnT>
                    <a:lnB w="3600">
                      <a:solidFill>
                        <a:srgbClr val="e1e1e1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6240">
                <a:tc>
                  <a:txBody>
                    <a:bodyPr lIns="83880" rIns="83880" tIns="41760" bIns="46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ай и спец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3880" marR="83880">
                    <a:lnL w="3600">
                      <a:solidFill>
                        <a:srgbClr val="e1e1e1"/>
                      </a:solidFill>
                    </a:lnL>
                    <a:lnR w="3600">
                      <a:solidFill>
                        <a:srgbClr val="e1e1e1"/>
                      </a:solidFill>
                    </a:lnR>
                    <a:lnT w="3600">
                      <a:solidFill>
                        <a:srgbClr val="e1e1e1"/>
                      </a:solidFill>
                    </a:lnT>
                    <a:lnB w="3600">
                      <a:solidFill>
                        <a:srgbClr val="e1e1e1"/>
                      </a:solidFill>
                    </a:lnB>
                    <a:solidFill>
                      <a:srgbClr val="f3f6f7"/>
                    </a:solidFill>
                  </a:tcPr>
                </a:tc>
                <a:tc>
                  <a:txBody>
                    <a:bodyPr lIns="50400" rIns="83880" tIns="41760" bIns="46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 к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0400" marR="83880">
                    <a:lnL w="3600">
                      <a:solidFill>
                        <a:srgbClr val="e1e1e1"/>
                      </a:solidFill>
                    </a:lnL>
                    <a:lnR w="3600">
                      <a:solidFill>
                        <a:srgbClr val="e1e1e1"/>
                      </a:solidFill>
                    </a:lnR>
                    <a:lnT w="3600">
                      <a:solidFill>
                        <a:srgbClr val="e1e1e1"/>
                      </a:solidFill>
                    </a:lnT>
                    <a:lnB w="3600">
                      <a:solidFill>
                        <a:srgbClr val="e1e1e1"/>
                      </a:solidFill>
                    </a:lnB>
                    <a:solidFill>
                      <a:srgbClr val="f3f6f7"/>
                    </a:solidFill>
                  </a:tcPr>
                </a:tc>
                <a:tc>
                  <a:txBody>
                    <a:bodyPr lIns="50400" rIns="83880" tIns="41760" bIns="46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 к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0400" marR="83880">
                    <a:lnL w="3600">
                      <a:solidFill>
                        <a:srgbClr val="e1e1e1"/>
                      </a:solidFill>
                    </a:lnL>
                    <a:lnR w="3600">
                      <a:solidFill>
                        <a:srgbClr val="e1e1e1"/>
                      </a:solidFill>
                    </a:lnR>
                    <a:lnT w="3600">
                      <a:solidFill>
                        <a:srgbClr val="e1e1e1"/>
                      </a:solidFill>
                    </a:lnT>
                    <a:lnB w="3600">
                      <a:solidFill>
                        <a:srgbClr val="e1e1e1"/>
                      </a:solidFill>
                    </a:lnB>
                    <a:solidFill>
                      <a:srgbClr val="f3f6f7"/>
                    </a:solidFill>
                  </a:tcPr>
                </a:tc>
                <a:tc>
                  <a:txBody>
                    <a:bodyPr lIns="50400" rIns="83880" tIns="41760" bIns="46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 к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0400" marR="83880">
                    <a:lnL w="3600">
                      <a:solidFill>
                        <a:srgbClr val="e1e1e1"/>
                      </a:solidFill>
                    </a:lnL>
                    <a:lnR w="3600">
                      <a:solidFill>
                        <a:srgbClr val="e1e1e1"/>
                      </a:solidFill>
                    </a:lnR>
                    <a:lnT w="3600">
                      <a:solidFill>
                        <a:srgbClr val="e1e1e1"/>
                      </a:solidFill>
                    </a:lnT>
                    <a:lnB w="3600">
                      <a:solidFill>
                        <a:srgbClr val="e1e1e1"/>
                      </a:solidFill>
                    </a:lnB>
                    <a:solidFill>
                      <a:srgbClr val="f3f6f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Прямоугольник 1"/>
          <p:cNvSpPr/>
          <p:nvPr/>
        </p:nvSpPr>
        <p:spPr>
          <a:xfrm>
            <a:off x="179280" y="1052640"/>
            <a:ext cx="87854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12c4e"/>
                </a:solidFill>
                <a:latin typeface="Times New Roman"/>
                <a:ea typeface="Times New Roman"/>
              </a:rPr>
              <a:t>Как видим, потребительская корзина Росстата несколько отличается от той, что рекомендована Министерством здравоохранения для рационального питания работающего человека. Она лишь характеризует возможность проживания в условиях жёсткой экономии при минимально допустимых размерах доход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Цена потребительской корзины на 2023 год по федеральным округам выглядит таким образом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-264960">
              <a:lnSpc>
                <a:spcPct val="80000"/>
              </a:lnSpc>
              <a:spcBef>
                <a:spcPts val="675"/>
              </a:spcBef>
              <a:buClr>
                <a:srgbClr val="212c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212c4e"/>
                </a:solidFill>
                <a:latin typeface="PT Sans"/>
              </a:rPr>
              <a:t>Северо-Запад – 11,7 тыс. руб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64960" indent="-264960">
              <a:lnSpc>
                <a:spcPct val="80000"/>
              </a:lnSpc>
              <a:spcBef>
                <a:spcPts val="675"/>
              </a:spcBef>
              <a:buClr>
                <a:srgbClr val="212c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212c4e"/>
                </a:solidFill>
                <a:latin typeface="PT Sans"/>
              </a:rPr>
              <a:t>Центральный ФО – 8,2 тыс. руб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64960" indent="-264960">
              <a:lnSpc>
                <a:spcPct val="80000"/>
              </a:lnSpc>
              <a:spcBef>
                <a:spcPts val="675"/>
              </a:spcBef>
              <a:buClr>
                <a:srgbClr val="212c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212c4e"/>
                </a:solidFill>
                <a:latin typeface="PT Sans"/>
              </a:rPr>
              <a:t>Южный ФО – 8,5 тыс. руб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64960" indent="-264960">
              <a:lnSpc>
                <a:spcPct val="80000"/>
              </a:lnSpc>
              <a:spcBef>
                <a:spcPts val="675"/>
              </a:spcBef>
              <a:buClr>
                <a:srgbClr val="212c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212c4e"/>
                </a:solidFill>
                <a:latin typeface="PT Sans"/>
              </a:rPr>
              <a:t>Северный Кавказ – 8,4 тыс. руб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64960" indent="-264960">
              <a:lnSpc>
                <a:spcPct val="80000"/>
              </a:lnSpc>
              <a:spcBef>
                <a:spcPts val="675"/>
              </a:spcBef>
              <a:buClr>
                <a:srgbClr val="212c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212c4e"/>
                </a:solidFill>
                <a:latin typeface="PT Sans"/>
              </a:rPr>
              <a:t>Приволжье – 8,5 тыс. руб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64960" indent="-264960">
              <a:lnSpc>
                <a:spcPct val="80000"/>
              </a:lnSpc>
              <a:spcBef>
                <a:spcPts val="675"/>
              </a:spcBef>
              <a:buClr>
                <a:srgbClr val="212c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212c4e"/>
                </a:solidFill>
                <a:latin typeface="PT Sans"/>
              </a:rPr>
              <a:t>Урал – 9,7 тыс. руб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64960" indent="-264960">
              <a:lnSpc>
                <a:spcPct val="80000"/>
              </a:lnSpc>
              <a:spcBef>
                <a:spcPts val="675"/>
              </a:spcBef>
              <a:buClr>
                <a:srgbClr val="212c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212c4e"/>
                </a:solidFill>
                <a:latin typeface="PT Sans"/>
              </a:rPr>
              <a:t>Сибирь – 9,3 тыс. руб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64960" indent="-264960">
              <a:lnSpc>
                <a:spcPct val="80000"/>
              </a:lnSpc>
              <a:spcBef>
                <a:spcPts val="675"/>
              </a:spcBef>
              <a:buClr>
                <a:srgbClr val="212c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212c4e"/>
                </a:solidFill>
                <a:latin typeface="PT Sans"/>
              </a:rPr>
              <a:t>Дальний Восток – 10,2 тыс. руб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64960" indent="-264960">
              <a:lnSpc>
                <a:spcPct val="80000"/>
              </a:lnSpc>
              <a:spcBef>
                <a:spcPts val="675"/>
              </a:spcBef>
              <a:buClr>
                <a:srgbClr val="212c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212c4e"/>
                </a:solidFill>
                <a:latin typeface="PT Sans"/>
              </a:rPr>
              <a:t>С-Петербург – 10 тыс. руб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64960" indent="-264960">
              <a:lnSpc>
                <a:spcPct val="80000"/>
              </a:lnSpc>
              <a:spcBef>
                <a:spcPts val="675"/>
              </a:spcBef>
              <a:buClr>
                <a:srgbClr val="212c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212c4e"/>
                </a:solidFill>
                <a:latin typeface="PT Sans"/>
              </a:rPr>
              <a:t>Москва – 14,4 тыс. руб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64960" indent="-264960">
              <a:lnSpc>
                <a:spcPct val="80000"/>
              </a:lnSpc>
              <a:spcBef>
                <a:spcPts val="675"/>
              </a:spcBef>
              <a:buClr>
                <a:srgbClr val="212c4e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5796000" y="4900680"/>
            <a:ext cx="3203640" cy="18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b0f0"/>
                </a:solidFill>
                <a:latin typeface="PT Sans"/>
              </a:rPr>
              <a:t>Размер потребительской корзины 2023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-264960">
              <a:lnSpc>
                <a:spcPct val="100000"/>
              </a:lnSpc>
              <a:spcBef>
                <a:spcPts val="799"/>
              </a:spcBef>
              <a:buClr>
                <a:srgbClr val="212c4e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12c4e"/>
                </a:solidFill>
                <a:latin typeface="PT Sans"/>
              </a:rPr>
              <a:t>Размер потребительской корзины 2021 года для разных групп граждан РФ в денежном исчислении составляет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4960" indent="-264960">
              <a:lnSpc>
                <a:spcPct val="100000"/>
              </a:lnSpc>
              <a:spcBef>
                <a:spcPts val="799"/>
              </a:spcBef>
              <a:buClr>
                <a:srgbClr val="212c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12c4e"/>
                </a:solidFill>
                <a:latin typeface="PT Sans"/>
              </a:rPr>
              <a:t>Взрослые трудоспособные лица –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4960" indent="-2649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12c4e"/>
                </a:solidFill>
                <a:latin typeface="PT Sans"/>
              </a:rPr>
              <a:t>   </a:t>
            </a:r>
            <a:r>
              <a:rPr b="0" lang="ru-RU" sz="3200" spc="-1" strike="noStrike">
                <a:solidFill>
                  <a:srgbClr val="212c4e"/>
                </a:solidFill>
                <a:latin typeface="PT Sans"/>
              </a:rPr>
              <a:t>10 800 руб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4960" indent="-264960">
              <a:lnSpc>
                <a:spcPct val="100000"/>
              </a:lnSpc>
              <a:spcBef>
                <a:spcPts val="799"/>
              </a:spcBef>
              <a:buClr>
                <a:srgbClr val="212c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12c4e"/>
                </a:solidFill>
                <a:latin typeface="PT Sans"/>
              </a:rPr>
              <a:t>Пенсионеры – 8 200 руб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4960" indent="-264960">
              <a:lnSpc>
                <a:spcPct val="100000"/>
              </a:lnSpc>
              <a:spcBef>
                <a:spcPts val="799"/>
              </a:spcBef>
              <a:buClr>
                <a:srgbClr val="212c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12c4e"/>
                </a:solidFill>
                <a:latin typeface="PT Sans"/>
              </a:rPr>
              <a:t>Дети – 9 900 руб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4960" indent="-264960">
              <a:lnSpc>
                <a:spcPct val="100000"/>
              </a:lnSpc>
              <a:spcBef>
                <a:spcPts val="799"/>
              </a:spcBef>
              <a:buClr>
                <a:srgbClr val="212c4e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-100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Состав потребительской корзины включает в себя несколько основных потребносте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324000" y="944640"/>
          <a:ext cx="8280360" cy="6645240"/>
        </p:xfrm>
        <a:graphic>
          <a:graphicData uri="http://schemas.openxmlformats.org/drawingml/2006/table">
            <a:tbl>
              <a:tblPr/>
              <a:tblGrid>
                <a:gridCol w="4140000"/>
                <a:gridCol w="4140360"/>
              </a:tblGrid>
              <a:tr h="804240">
                <a:tc>
                  <a:txBody>
                    <a:bodyPr lIns="36720" rIns="36720" tIns="36720" bIns="367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руппа товаров и услу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720" marR="36720">
                    <a:lnL w="3600">
                      <a:solidFill>
                        <a:srgbClr val="dddddd"/>
                      </a:solidFill>
                    </a:lnL>
                    <a:lnR w="3600">
                      <a:solidFill>
                        <a:srgbClr val="dddddd"/>
                      </a:solidFill>
                    </a:lnR>
                    <a:lnT w="3600">
                      <a:solidFill>
                        <a:srgbClr val="dddddd"/>
                      </a:solidFill>
                    </a:lnT>
                    <a:lnB w="3600">
                      <a:solidFill>
                        <a:srgbClr val="ddddd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720" rIns="36720" tIns="36720" bIns="367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то входи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720" marR="36720">
                    <a:lnL w="3600">
                      <a:solidFill>
                        <a:srgbClr val="dddddd"/>
                      </a:solidFill>
                    </a:lnL>
                    <a:lnR w="3600">
                      <a:solidFill>
                        <a:srgbClr val="dddddd"/>
                      </a:solidFill>
                    </a:lnR>
                    <a:lnT w="3600">
                      <a:solidFill>
                        <a:srgbClr val="dddddd"/>
                      </a:solidFill>
                    </a:lnT>
                    <a:lnB w="3600">
                      <a:solidFill>
                        <a:srgbClr val="dddddd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6800">
                <a:tc>
                  <a:txBody>
                    <a:bodyPr lIns="36720" rIns="36720" tIns="36720" bIns="367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довольств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720" marR="36720">
                    <a:lnL w="3600">
                      <a:solidFill>
                        <a:srgbClr val="dddddd"/>
                      </a:solidFill>
                    </a:lnL>
                    <a:lnR w="3600">
                      <a:solidFill>
                        <a:srgbClr val="dddddd"/>
                      </a:solidFill>
                    </a:lnR>
                    <a:lnT w="3600">
                      <a:solidFill>
                        <a:srgbClr val="dddddd"/>
                      </a:solidFill>
                    </a:lnT>
                    <a:lnB w="3600">
                      <a:solidFill>
                        <a:srgbClr val="ddddd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720" rIns="36720" tIns="36720" bIns="367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 продукты пита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720" marR="36720">
                    <a:lnL w="3600">
                      <a:solidFill>
                        <a:srgbClr val="dddddd"/>
                      </a:solidFill>
                    </a:lnL>
                    <a:lnR w="3600">
                      <a:solidFill>
                        <a:srgbClr val="dddddd"/>
                      </a:solidFill>
                    </a:lnR>
                    <a:lnT w="3600">
                      <a:solidFill>
                        <a:srgbClr val="dddddd"/>
                      </a:solidFill>
                    </a:lnT>
                    <a:lnB w="3600">
                      <a:solidFill>
                        <a:srgbClr val="dddddd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9560">
                <a:tc rowSpan="4">
                  <a:txBody>
                    <a:bodyPr lIns="36720" rIns="36720" tIns="36720" bIns="367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продовольственные товар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720" marR="36720">
                    <a:lnL w="3600">
                      <a:solidFill>
                        <a:srgbClr val="dddddd"/>
                      </a:solidFill>
                    </a:lnL>
                    <a:lnR w="3600">
                      <a:solidFill>
                        <a:srgbClr val="dddddd"/>
                      </a:solidFill>
                    </a:lnR>
                    <a:lnT w="3600">
                      <a:solidFill>
                        <a:srgbClr val="dddddd"/>
                      </a:solidFill>
                    </a:lnT>
                    <a:lnB w="3600">
                      <a:solidFill>
                        <a:srgbClr val="ddddd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720" rIns="36720" tIns="36720" bIns="367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дикамент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720" marR="36720">
                    <a:lnL w="3600">
                      <a:solidFill>
                        <a:srgbClr val="dddddd"/>
                      </a:solidFill>
                    </a:lnL>
                    <a:lnR w="3600">
                      <a:solidFill>
                        <a:srgbClr val="dddddd"/>
                      </a:solidFill>
                    </a:lnR>
                    <a:lnT w="3600">
                      <a:solidFill>
                        <a:srgbClr val="dddddd"/>
                      </a:solidFill>
                    </a:lnT>
                    <a:lnB w="3600">
                      <a:solidFill>
                        <a:srgbClr val="dddddd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9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720" rIns="36720" tIns="36720" bIns="367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дежда и обув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720" marR="36720">
                    <a:lnL w="3600">
                      <a:solidFill>
                        <a:srgbClr val="dddddd"/>
                      </a:solidFill>
                    </a:lnL>
                    <a:lnR w="3600">
                      <a:solidFill>
                        <a:srgbClr val="dddddd"/>
                      </a:solidFill>
                    </a:lnR>
                    <a:lnT w="3600">
                      <a:solidFill>
                        <a:srgbClr val="dddddd"/>
                      </a:solidFill>
                    </a:lnT>
                    <a:lnB w="3600">
                      <a:solidFill>
                        <a:srgbClr val="dddddd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9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720" rIns="36720" tIns="36720" bIns="367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редства гигиен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720" marR="36720">
                    <a:lnL w="3600">
                      <a:solidFill>
                        <a:srgbClr val="dddddd"/>
                      </a:solidFill>
                    </a:lnL>
                    <a:lnR w="3600">
                      <a:solidFill>
                        <a:srgbClr val="dddddd"/>
                      </a:solidFill>
                    </a:lnR>
                    <a:lnT w="3600">
                      <a:solidFill>
                        <a:srgbClr val="dddddd"/>
                      </a:solidFill>
                    </a:lnT>
                    <a:lnB w="3600">
                      <a:solidFill>
                        <a:srgbClr val="dddddd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00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720" rIns="36720" tIns="36720" bIns="367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бор вещей культурно-бытового характера (сюда также относятся учебные принадлежности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720" marR="36720">
                    <a:lnL w="3600">
                      <a:solidFill>
                        <a:srgbClr val="dddddd"/>
                      </a:solidFill>
                    </a:lnL>
                    <a:lnR w="3600">
                      <a:solidFill>
                        <a:srgbClr val="dddddd"/>
                      </a:solidFill>
                    </a:lnR>
                    <a:lnT w="3600">
                      <a:solidFill>
                        <a:srgbClr val="dddddd"/>
                      </a:solidFill>
                    </a:lnT>
                    <a:lnB w="3600">
                      <a:solidFill>
                        <a:srgbClr val="dddddd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9920">
                <a:tc rowSpan="4">
                  <a:txBody>
                    <a:bodyPr lIns="36720" rIns="36720" tIns="36720" bIns="367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слуг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720" marR="36720">
                    <a:lnL w="3600">
                      <a:solidFill>
                        <a:srgbClr val="dddddd"/>
                      </a:solidFill>
                    </a:lnL>
                    <a:lnR w="3600">
                      <a:solidFill>
                        <a:srgbClr val="dddddd"/>
                      </a:solidFill>
                    </a:lnR>
                    <a:lnT w="3600">
                      <a:solidFill>
                        <a:srgbClr val="dddddd"/>
                      </a:solidFill>
                    </a:lnT>
                    <a:lnB w="3600">
                      <a:solidFill>
                        <a:srgbClr val="ddddd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720" rIns="36720" tIns="36720" bIns="367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ЖКХ , налог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720" marR="36720">
                    <a:lnL w="3600">
                      <a:solidFill>
                        <a:srgbClr val="dddddd"/>
                      </a:solidFill>
                    </a:lnL>
                    <a:lnR w="3600">
                      <a:solidFill>
                        <a:srgbClr val="dddddd"/>
                      </a:solidFill>
                    </a:lnR>
                    <a:lnT w="3600">
                      <a:solidFill>
                        <a:srgbClr val="dddddd"/>
                      </a:solidFill>
                    </a:lnT>
                    <a:lnB w="3600">
                      <a:solidFill>
                        <a:srgbClr val="dddddd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9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720" rIns="36720" tIns="36720" bIns="367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ранспортные расход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720" marR="36720">
                    <a:lnL w="3600">
                      <a:solidFill>
                        <a:srgbClr val="dddddd"/>
                      </a:solidFill>
                    </a:lnL>
                    <a:lnR w="3600">
                      <a:solidFill>
                        <a:srgbClr val="dddddd"/>
                      </a:solidFill>
                    </a:lnR>
                    <a:lnT w="3600">
                      <a:solidFill>
                        <a:srgbClr val="dddddd"/>
                      </a:solidFill>
                    </a:lnT>
                    <a:lnB w="3600">
                      <a:solidFill>
                        <a:srgbClr val="dddddd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05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720" rIns="36720" tIns="36720" bIns="367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сходы на культурные мероприят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720" marR="36720">
                    <a:lnL w="3600">
                      <a:solidFill>
                        <a:srgbClr val="dddddd"/>
                      </a:solidFill>
                    </a:lnL>
                    <a:lnR w="3600">
                      <a:solidFill>
                        <a:srgbClr val="dddddd"/>
                      </a:solidFill>
                    </a:lnR>
                    <a:lnT w="3600">
                      <a:solidFill>
                        <a:srgbClr val="dddddd"/>
                      </a:solidFill>
                    </a:lnT>
                    <a:lnB w="3600">
                      <a:solidFill>
                        <a:srgbClr val="dddddd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9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720" rIns="36720" tIns="36720" bIns="367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ные типы расходо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720" marR="36720">
                    <a:lnL w="3600">
                      <a:solidFill>
                        <a:srgbClr val="dddddd"/>
                      </a:solidFill>
                    </a:lnL>
                    <a:lnR w="3600">
                      <a:solidFill>
                        <a:srgbClr val="dddddd"/>
                      </a:solidFill>
                    </a:lnR>
                    <a:lnT w="3600">
                      <a:solidFill>
                        <a:srgbClr val="dddddd"/>
                      </a:solidFill>
                    </a:lnT>
                    <a:lnB w="3600">
                      <a:solidFill>
                        <a:srgbClr val="dddddd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72" name="Rectangle 1"/>
          <p:cNvSpPr/>
          <p:nvPr/>
        </p:nvSpPr>
        <p:spPr>
          <a:xfrm>
            <a:off x="1356480" y="1690560"/>
            <a:ext cx="22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2692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br>
              <a:rPr sz="4000"/>
            </a:b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7394760" cy="3897360"/>
          </a:xfrm>
          <a:prstGeom prst="rect">
            <a:avLst/>
          </a:prstGeom>
          <a:ln w="0">
            <a:noFill/>
          </a:ln>
        </p:spPr>
      </p:pic>
      <p:sp>
        <p:nvSpPr>
          <p:cNvPr id="75" name="Прямоугольник 3"/>
          <p:cNvSpPr/>
          <p:nvPr/>
        </p:nvSpPr>
        <p:spPr>
          <a:xfrm>
            <a:off x="611280" y="189000"/>
            <a:ext cx="77547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b0f0"/>
                </a:solidFill>
                <a:latin typeface="Open Sans"/>
              </a:rPr>
              <a:t>Потребительская корзина в ценовом выражении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b0f0"/>
                </a:solidFill>
                <a:latin typeface="Open Sans"/>
              </a:rPr>
              <a:t>50% – продукты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b0f0"/>
                </a:solidFill>
                <a:latin typeface="Open Sans"/>
              </a:rPr>
              <a:t>25% – другие товары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b0f0"/>
                </a:solidFill>
                <a:latin typeface="Open Sans"/>
              </a:rPr>
              <a:t>25% – различные услуг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6594da"/>
              </a:solidFill>
              <a:latin typeface="Calibri"/>
            </a:endParaRPr>
          </a:p>
        </p:txBody>
      </p:sp>
      <p:pic>
        <p:nvPicPr>
          <p:cNvPr id="77" name="Picture 2" descr=""/>
          <p:cNvPicPr/>
          <p:nvPr/>
        </p:nvPicPr>
        <p:blipFill>
          <a:blip r:embed="rId1"/>
          <a:stretch/>
        </p:blipFill>
        <p:spPr>
          <a:xfrm>
            <a:off x="108000" y="115920"/>
            <a:ext cx="89280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6594da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2b2b2b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b2b2b"/>
                </a:solidFill>
                <a:latin typeface="Times New Roman"/>
                <a:ea typeface="Times New Roman"/>
              </a:rPr>
              <a:t>Стоимость потребительской корзины рассчитывается каждым регионом в отдельности силами местных органов статистики. Данные обновляется ежеквартально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2b2b2b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b2b2b"/>
                </a:solidFill>
                <a:latin typeface="Times New Roman"/>
                <a:ea typeface="Times New Roman"/>
              </a:rPr>
              <a:t>В среднем по России цена потребкорзины составляет 10609 руб на душу населен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2b2b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594da"/>
                </a:solidFill>
                <a:latin typeface="Times New Roman"/>
                <a:ea typeface="Times New Roman"/>
              </a:rPr>
              <a:t>Задача №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209160" y="134136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ма решила отправиться за продуктами в магазин. В таблице показана стоимость продуктов в магазине № 1 и в магазине № 2. Сосчитай, сколько необходимо потратить денег в магазинах, внеси ответ в таблицу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газин № 1 находится рядом, а до  магазина № 2 необходимо добираться на маршрутном такси. Стоимость проезда на маршрутном такси туда и обратно обойдётся в 86 рублей. Где выгоднее приобрести продукты?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" name=""/>
          <p:cNvGraphicFramePr/>
          <p:nvPr/>
        </p:nvGraphicFramePr>
        <p:xfrm>
          <a:off x="250920" y="333360"/>
          <a:ext cx="8497800" cy="6367320"/>
        </p:xfrm>
        <a:graphic>
          <a:graphicData uri="http://schemas.openxmlformats.org/drawingml/2006/table">
            <a:tbl>
              <a:tblPr/>
              <a:tblGrid>
                <a:gridCol w="2832120"/>
                <a:gridCol w="2833560"/>
                <a:gridCol w="2832120"/>
              </a:tblGrid>
              <a:tr h="9046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аименование продукто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Магазин №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Магазин №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823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ука (1 кг) 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 руб.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 руб.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23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пуста (1 кг)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 руб.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 руб.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823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блоки (1 кг)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6 руб.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 руб.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23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ахар (1 кг)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 руб.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 руб.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823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локо (1 л)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 руб.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 руб.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23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йца (десяток)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 руб.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 руб.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2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Потребительская корзин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5092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ребительская корзина – то примерный минимальный набор товаров и услуг, который обеспечивает комфортное и полноценное проживание человека на протяжении года и удовлетворяет его минимальные потребност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3" descr=""/>
          <p:cNvPicPr/>
          <p:nvPr/>
        </p:nvPicPr>
        <p:blipFill>
          <a:blip r:embed="rId1"/>
          <a:stretch/>
        </p:blipFill>
        <p:spPr>
          <a:xfrm>
            <a:off x="4427640" y="4219560"/>
            <a:ext cx="4716360" cy="26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Прямоугольник 1"/>
          <p:cNvSpPr/>
          <p:nvPr/>
        </p:nvSpPr>
        <p:spPr>
          <a:xfrm>
            <a:off x="179280" y="1916280"/>
            <a:ext cx="8713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йдите одно лишнее слово, которое имеет другой смысл. Дайте общее название оставшимся словам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Иена, цент, евро, доллар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Златник, сребреник, грош, пушнина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Банкноты, купюры, бумажные деньги, монеты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Гурт, реверс, аверс, эмблема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а №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а №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Прямоугольник 2"/>
          <p:cNvSpPr/>
          <p:nvPr/>
        </p:nvSpPr>
        <p:spPr>
          <a:xfrm>
            <a:off x="361800" y="1484280"/>
            <a:ext cx="84265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8 Марта девочкам часто дарят цветы. В обычное время розы стоят 50 рублей за штуку. Но перед 8 Марта стоимость роз увеличилась на 1/2 часть от обычной стоимости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ьте на вопросы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Какой будет стоимость 1 розы накануне 8 Марта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Из какого наибольшего числа роз Илья сможет купить букет накануне 8 Марта, если у него есть 400 рублей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50:2*1=25 (р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50+25=75 (р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400:75=5 (ост.25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115920"/>
            <a:ext cx="8229600" cy="112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594da"/>
                </a:solidFill>
                <a:latin typeface="Calibri"/>
              </a:rPr>
              <a:t>Интернет-ресурс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24000" y="105228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-2649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s://pfrf-kabinet.ru/grazhdanam/potrebitelskaya-korzina.htm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64960" indent="-264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s://www.gd.ru/images/articles/10554/potrebitelskaya-korzina.jp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64960" indent="-264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s://rosinfostat.ru/wp-content/uploads/2020/03/minimum.jp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64960" indent="-264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64960" indent="-264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http://echo.pln24.ru/pictures/190128074540.jp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64960" indent="-264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64960" indent="-264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https://static.riafan.ru/uploads/2019/03/11/orig-15522965051428582967d9c36c12.jp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64960" indent="-264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s://opensii.info/answers/potrebitelskaya-korzina/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64960" indent="-264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64960" indent="-264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s://zakon-navigator.ru/stoimost-potrebitelskoj-korziny-v-2019-2020-godah-v-rossii-oficialnye-dannye/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64960" indent="-264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demidov-house.ru/subsidii/3776-potrebitelskaya-korzina-2021-rossiya-sostav-spisok.htm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64960" indent="-264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БОРНИК  МАТЕМАТИЧЕСКИХ ЗАДАЧ «ОСНОВЫ ФИНАНСОВО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64960" indent="-2649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МОТНОСТИ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64960" indent="-264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https://kartinkinaden.ru/6028-fon-dlja-prezentacii-finansovoj-gramotnosti-24-foto.htm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64960" indent="-264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64960" indent="-264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64960" indent="-264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6594da"/>
              </a:solidFill>
              <a:latin typeface="Calibri"/>
            </a:endParaRPr>
          </a:p>
        </p:txBody>
      </p:sp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108000" y="333360"/>
            <a:ext cx="8785080" cy="65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Отличия от прожиточного минимума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9528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43720" indent="-243720" algn="just">
              <a:lnSpc>
                <a:spcPct val="80000"/>
              </a:lnSpc>
              <a:spcBef>
                <a:spcPts val="601"/>
              </a:spcBef>
              <a:buClr>
                <a:srgbClr val="212c4e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12c4e"/>
                </a:solidFill>
                <a:latin typeface="Times New Roman"/>
                <a:ea typeface="Times New Roman"/>
              </a:rPr>
              <a:t>Потребительская корзина в РФ, хотя и является близким по значению к прожиточному минимуму, но далеко не одинаковым. Прожиточный минимум выражается в денежной величине и определяет некую сумму, требуемую человеку для удовлетворения его жизненных потребностей. В продовольственную корзину, кроме набора продуктов, входят различные непродовольственные товары, а также необходимые услуги, сюда же входит стоимость одежды, коммунальных услуг, проезда в общественном транспорте, социально-культурных благ и т.д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43720" indent="-243720" algn="just">
              <a:lnSpc>
                <a:spcPct val="80000"/>
              </a:lnSpc>
              <a:spcBef>
                <a:spcPts val="601"/>
              </a:spcBef>
              <a:buClr>
                <a:srgbClr val="212c4e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12c4e"/>
                </a:solidFill>
                <a:latin typeface="Times New Roman"/>
                <a:ea typeface="Times New Roman"/>
              </a:rPr>
              <a:t>Рассчитывается размер прожиточного минимума как совокупность всех расходов на продукты, услуги и товары первой необходимости. Соответственно, продуктовая корзина, даже являясь важным компонентом для определения жизненного уровня населения, сама по себе, не может выступать самодостаточным социально-экономическим показателе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43720" indent="-243720" algn="just">
              <a:lnSpc>
                <a:spcPct val="80000"/>
              </a:lnSpc>
              <a:spcBef>
                <a:spcPts val="601"/>
              </a:spcBef>
              <a:buClr>
                <a:srgbClr val="212c4e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6594da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b2b2b"/>
                </a:solidFill>
                <a:latin typeface="Times New Roman"/>
                <a:ea typeface="Times New Roman"/>
              </a:rPr>
              <a:t>На основании закона в корзину входят продовольственные продукты, непродовольственные товары и услуги. Общая продуктовая корзина на месяц может включать в себя следующий список продуктов: Хлебобулочная продукция. Сахар. Яйца. Макароны. Мука. Различные крупы. Овощи. Фрукты. Мясо. Рыба. Молочные изделия. Растительное масло. Маргарин. Приправы. Чай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6594da"/>
              </a:solidFill>
              <a:latin typeface="Calibri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66320" cy="683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6594da"/>
              </a:solidFill>
              <a:latin typeface="Calibri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0" y="36360"/>
            <a:ext cx="9144000" cy="682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b0f0"/>
                </a:solidFill>
                <a:latin typeface="PT Sans"/>
                <a:ea typeface="Arial"/>
              </a:rPr>
              <a:t>Для взрослых, детей и пенсионеров минимальное годовое потребление продуктов первой необходимости разное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1042920" y="1773360"/>
            <a:ext cx="7201080" cy="488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"/>
          <p:cNvGraphicFramePr/>
          <p:nvPr/>
        </p:nvGraphicFramePr>
        <p:xfrm>
          <a:off x="108000" y="66600"/>
          <a:ext cx="9002520" cy="6883560"/>
        </p:xfrm>
        <a:graphic>
          <a:graphicData uri="http://schemas.openxmlformats.org/drawingml/2006/table">
            <a:tbl>
              <a:tblPr/>
              <a:tblGrid>
                <a:gridCol w="3044880"/>
                <a:gridCol w="2146320"/>
                <a:gridCol w="2355840"/>
                <a:gridCol w="1455480"/>
              </a:tblGrid>
              <a:tr h="971280">
                <a:tc>
                  <a:txBody>
                    <a:bodyPr lIns="83880" rIns="83880" tIns="41760" bIns="46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вание продук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3880" marR="83880">
                    <a:lnL w="3600">
                      <a:solidFill>
                        <a:srgbClr val="e1e1e1"/>
                      </a:solidFill>
                    </a:lnL>
                    <a:lnR w="3600">
                      <a:solidFill>
                        <a:srgbClr val="e1e1e1"/>
                      </a:solidFill>
                    </a:lnR>
                    <a:lnT w="3600">
                      <a:solidFill>
                        <a:srgbClr val="e1e1e1"/>
                      </a:solidFill>
                    </a:lnT>
                    <a:lnB w="3600">
                      <a:solidFill>
                        <a:srgbClr val="e1e1e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400" rIns="83880" tIns="41760" bIns="46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требление взрослым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0400" marR="83880">
                    <a:lnL w="3600">
                      <a:solidFill>
                        <a:srgbClr val="e1e1e1"/>
                      </a:solidFill>
                    </a:lnL>
                    <a:lnR w="3600">
                      <a:solidFill>
                        <a:srgbClr val="e1e1e1"/>
                      </a:solidFill>
                    </a:lnR>
                    <a:lnT w="3600">
                      <a:solidFill>
                        <a:srgbClr val="e1e1e1"/>
                      </a:solidFill>
                    </a:lnT>
                    <a:lnB w="3600">
                      <a:solidFill>
                        <a:srgbClr val="e1e1e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400" rIns="83880" tIns="41760" bIns="46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енсионерам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0400" marR="83880">
                    <a:lnL w="3600">
                      <a:solidFill>
                        <a:srgbClr val="e1e1e1"/>
                      </a:solidFill>
                    </a:lnL>
                    <a:lnR w="3600">
                      <a:solidFill>
                        <a:srgbClr val="e1e1e1"/>
                      </a:solidFill>
                    </a:lnR>
                    <a:lnT w="3600">
                      <a:solidFill>
                        <a:srgbClr val="e1e1e1"/>
                      </a:solidFill>
                    </a:lnT>
                    <a:lnB w="3600">
                      <a:solidFill>
                        <a:srgbClr val="e1e1e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400" rIns="83880" tIns="41760" bIns="46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етьм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0400" marR="83880">
                    <a:lnL w="3600">
                      <a:solidFill>
                        <a:srgbClr val="e1e1e1"/>
                      </a:solidFill>
                    </a:lnL>
                    <a:lnR w="3600">
                      <a:solidFill>
                        <a:srgbClr val="e1e1e1"/>
                      </a:solidFill>
                    </a:lnR>
                    <a:lnT w="3600">
                      <a:solidFill>
                        <a:srgbClr val="e1e1e1"/>
                      </a:solidFill>
                    </a:lnT>
                    <a:lnB w="3600">
                      <a:solidFill>
                        <a:srgbClr val="e1e1e1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02960">
                <a:tc>
                  <a:txBody>
                    <a:bodyPr lIns="83880" rIns="83880" tIns="41760" bIns="46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Хлебобулочные, макаронные изделия и круп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3880" marR="83880">
                    <a:lnL w="3600">
                      <a:solidFill>
                        <a:srgbClr val="e1e1e1"/>
                      </a:solidFill>
                    </a:lnL>
                    <a:lnR w="3600">
                      <a:solidFill>
                        <a:srgbClr val="e1e1e1"/>
                      </a:solidFill>
                    </a:lnR>
                    <a:lnT w="3600">
                      <a:solidFill>
                        <a:srgbClr val="e1e1e1"/>
                      </a:solidFill>
                    </a:lnT>
                    <a:lnB w="3600">
                      <a:solidFill>
                        <a:srgbClr val="e1e1e1"/>
                      </a:solidFill>
                    </a:lnB>
                    <a:solidFill>
                      <a:srgbClr val="f3f6f7"/>
                    </a:solidFill>
                  </a:tcPr>
                </a:tc>
                <a:tc>
                  <a:txBody>
                    <a:bodyPr lIns="50400" rIns="83880" tIns="41760" bIns="46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6 к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0400" marR="83880">
                    <a:lnL w="3600">
                      <a:solidFill>
                        <a:srgbClr val="e1e1e1"/>
                      </a:solidFill>
                    </a:lnL>
                    <a:lnR w="3600">
                      <a:solidFill>
                        <a:srgbClr val="e1e1e1"/>
                      </a:solidFill>
                    </a:lnR>
                    <a:lnT w="3600">
                      <a:solidFill>
                        <a:srgbClr val="e1e1e1"/>
                      </a:solidFill>
                    </a:lnT>
                    <a:lnB w="3600">
                      <a:solidFill>
                        <a:srgbClr val="e1e1e1"/>
                      </a:solidFill>
                    </a:lnB>
                    <a:solidFill>
                      <a:srgbClr val="f3f6f7"/>
                    </a:solidFill>
                  </a:tcPr>
                </a:tc>
                <a:tc>
                  <a:txBody>
                    <a:bodyPr lIns="50400" rIns="83880" tIns="41760" bIns="46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8 к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0400" marR="83880">
                    <a:lnL w="3600">
                      <a:solidFill>
                        <a:srgbClr val="e1e1e1"/>
                      </a:solidFill>
                    </a:lnL>
                    <a:lnR w="3600">
                      <a:solidFill>
                        <a:srgbClr val="e1e1e1"/>
                      </a:solidFill>
                    </a:lnR>
                    <a:lnT w="3600">
                      <a:solidFill>
                        <a:srgbClr val="e1e1e1"/>
                      </a:solidFill>
                    </a:lnT>
                    <a:lnB w="3600">
                      <a:solidFill>
                        <a:srgbClr val="e1e1e1"/>
                      </a:solidFill>
                    </a:lnB>
                    <a:solidFill>
                      <a:srgbClr val="f3f6f7"/>
                    </a:solidFill>
                  </a:tcPr>
                </a:tc>
                <a:tc>
                  <a:txBody>
                    <a:bodyPr lIns="50400" rIns="83880" tIns="41760" bIns="46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7 к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0400" marR="83880">
                    <a:lnL w="3600">
                      <a:solidFill>
                        <a:srgbClr val="e1e1e1"/>
                      </a:solidFill>
                    </a:lnL>
                    <a:lnR w="3600">
                      <a:solidFill>
                        <a:srgbClr val="e1e1e1"/>
                      </a:solidFill>
                    </a:lnR>
                    <a:lnT w="3600">
                      <a:solidFill>
                        <a:srgbClr val="e1e1e1"/>
                      </a:solidFill>
                    </a:lnT>
                    <a:lnB w="3600">
                      <a:solidFill>
                        <a:srgbClr val="e1e1e1"/>
                      </a:solidFill>
                    </a:lnB>
                    <a:solidFill>
                      <a:srgbClr val="f3f6f7"/>
                    </a:solidFill>
                  </a:tcPr>
                </a:tc>
              </a:tr>
              <a:tr h="393840">
                <a:tc>
                  <a:txBody>
                    <a:bodyPr lIns="83880" rIns="83880" tIns="41760" bIns="46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артофел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3880" marR="83880">
                    <a:lnL w="3600">
                      <a:solidFill>
                        <a:srgbClr val="e1e1e1"/>
                      </a:solidFill>
                    </a:lnL>
                    <a:lnR w="3600">
                      <a:solidFill>
                        <a:srgbClr val="e1e1e1"/>
                      </a:solidFill>
                    </a:lnR>
                    <a:lnT w="3600">
                      <a:solidFill>
                        <a:srgbClr val="e1e1e1"/>
                      </a:solidFill>
                    </a:lnT>
                    <a:lnB w="3600">
                      <a:solidFill>
                        <a:srgbClr val="e1e1e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400" rIns="83880" tIns="41760" bIns="46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 к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0400" marR="83880">
                    <a:lnL w="3600">
                      <a:solidFill>
                        <a:srgbClr val="e1e1e1"/>
                      </a:solidFill>
                    </a:lnL>
                    <a:lnR w="3600">
                      <a:solidFill>
                        <a:srgbClr val="e1e1e1"/>
                      </a:solidFill>
                    </a:lnR>
                    <a:lnT w="3600">
                      <a:solidFill>
                        <a:srgbClr val="e1e1e1"/>
                      </a:solidFill>
                    </a:lnT>
                    <a:lnB w="3600">
                      <a:solidFill>
                        <a:srgbClr val="e1e1e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400" rIns="83880" tIns="41760" bIns="46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0 к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0400" marR="83880">
                    <a:lnL w="3600">
                      <a:solidFill>
                        <a:srgbClr val="e1e1e1"/>
                      </a:solidFill>
                    </a:lnL>
                    <a:lnR w="3600">
                      <a:solidFill>
                        <a:srgbClr val="e1e1e1"/>
                      </a:solidFill>
                    </a:lnR>
                    <a:lnT w="3600">
                      <a:solidFill>
                        <a:srgbClr val="e1e1e1"/>
                      </a:solidFill>
                    </a:lnT>
                    <a:lnB w="3600">
                      <a:solidFill>
                        <a:srgbClr val="e1e1e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400" rIns="83880" tIns="41760" bIns="46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8 к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0400" marR="83880">
                    <a:lnL w="3600">
                      <a:solidFill>
                        <a:srgbClr val="e1e1e1"/>
                      </a:solidFill>
                    </a:lnL>
                    <a:lnR w="3600">
                      <a:solidFill>
                        <a:srgbClr val="e1e1e1"/>
                      </a:solidFill>
                    </a:lnR>
                    <a:lnT w="3600">
                      <a:solidFill>
                        <a:srgbClr val="e1e1e1"/>
                      </a:solidFill>
                    </a:lnT>
                    <a:lnB w="3600">
                      <a:solidFill>
                        <a:srgbClr val="e1e1e1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3120">
                <a:tc>
                  <a:txBody>
                    <a:bodyPr lIns="83880" rIns="83880" tIns="41760" bIns="46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вощ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3880" marR="83880">
                    <a:lnL w="3600">
                      <a:solidFill>
                        <a:srgbClr val="e1e1e1"/>
                      </a:solidFill>
                    </a:lnL>
                    <a:lnR w="3600">
                      <a:solidFill>
                        <a:srgbClr val="e1e1e1"/>
                      </a:solidFill>
                    </a:lnR>
                    <a:lnT w="3600">
                      <a:solidFill>
                        <a:srgbClr val="e1e1e1"/>
                      </a:solidFill>
                    </a:lnT>
                    <a:lnB w="3600">
                      <a:solidFill>
                        <a:srgbClr val="e1e1e1"/>
                      </a:solidFill>
                    </a:lnB>
                    <a:solidFill>
                      <a:srgbClr val="f3f6f7"/>
                    </a:solidFill>
                  </a:tcPr>
                </a:tc>
                <a:tc>
                  <a:txBody>
                    <a:bodyPr lIns="50400" rIns="83880" tIns="41760" bIns="46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4 к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0400" marR="83880">
                    <a:lnL w="3600">
                      <a:solidFill>
                        <a:srgbClr val="e1e1e1"/>
                      </a:solidFill>
                    </a:lnL>
                    <a:lnR w="3600">
                      <a:solidFill>
                        <a:srgbClr val="e1e1e1"/>
                      </a:solidFill>
                    </a:lnR>
                    <a:lnT w="3600">
                      <a:solidFill>
                        <a:srgbClr val="e1e1e1"/>
                      </a:solidFill>
                    </a:lnT>
                    <a:lnB w="3600">
                      <a:solidFill>
                        <a:srgbClr val="e1e1e1"/>
                      </a:solidFill>
                    </a:lnB>
                    <a:solidFill>
                      <a:srgbClr val="f3f6f7"/>
                    </a:solidFill>
                  </a:tcPr>
                </a:tc>
                <a:tc>
                  <a:txBody>
                    <a:bodyPr lIns="50400" rIns="83880" tIns="41760" bIns="46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8 к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0400" marR="83880">
                    <a:lnL w="3600">
                      <a:solidFill>
                        <a:srgbClr val="e1e1e1"/>
                      </a:solidFill>
                    </a:lnL>
                    <a:lnR w="3600">
                      <a:solidFill>
                        <a:srgbClr val="e1e1e1"/>
                      </a:solidFill>
                    </a:lnR>
                    <a:lnT w="3600">
                      <a:solidFill>
                        <a:srgbClr val="e1e1e1"/>
                      </a:solidFill>
                    </a:lnT>
                    <a:lnB w="3600">
                      <a:solidFill>
                        <a:srgbClr val="e1e1e1"/>
                      </a:solidFill>
                    </a:lnB>
                    <a:solidFill>
                      <a:srgbClr val="f3f6f7"/>
                    </a:solidFill>
                  </a:tcPr>
                </a:tc>
                <a:tc>
                  <a:txBody>
                    <a:bodyPr lIns="50400" rIns="83880" tIns="41760" bIns="46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2 к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0400" marR="83880">
                    <a:lnL w="3600">
                      <a:solidFill>
                        <a:srgbClr val="e1e1e1"/>
                      </a:solidFill>
                    </a:lnL>
                    <a:lnR w="3600">
                      <a:solidFill>
                        <a:srgbClr val="e1e1e1"/>
                      </a:solidFill>
                    </a:lnR>
                    <a:lnT w="3600">
                      <a:solidFill>
                        <a:srgbClr val="e1e1e1"/>
                      </a:solidFill>
                    </a:lnT>
                    <a:lnB w="3600">
                      <a:solidFill>
                        <a:srgbClr val="e1e1e1"/>
                      </a:solidFill>
                    </a:lnB>
                    <a:solidFill>
                      <a:srgbClr val="f3f6f7"/>
                    </a:solidFill>
                  </a:tcPr>
                </a:tc>
              </a:tr>
              <a:tr h="393840">
                <a:tc>
                  <a:txBody>
                    <a:bodyPr lIns="83880" rIns="83880" tIns="41760" bIns="46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Фрукт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3880" marR="83880">
                    <a:lnL w="3600">
                      <a:solidFill>
                        <a:srgbClr val="e1e1e1"/>
                      </a:solidFill>
                    </a:lnL>
                    <a:lnR w="3600">
                      <a:solidFill>
                        <a:srgbClr val="e1e1e1"/>
                      </a:solidFill>
                    </a:lnR>
                    <a:lnT w="3600">
                      <a:solidFill>
                        <a:srgbClr val="e1e1e1"/>
                      </a:solidFill>
                    </a:lnT>
                    <a:lnB w="3600">
                      <a:solidFill>
                        <a:srgbClr val="e1e1e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400" rIns="83880" tIns="41760" bIns="46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 к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0400" marR="83880">
                    <a:lnL w="3600">
                      <a:solidFill>
                        <a:srgbClr val="e1e1e1"/>
                      </a:solidFill>
                    </a:lnL>
                    <a:lnR w="3600">
                      <a:solidFill>
                        <a:srgbClr val="e1e1e1"/>
                      </a:solidFill>
                    </a:lnR>
                    <a:lnT w="3600">
                      <a:solidFill>
                        <a:srgbClr val="e1e1e1"/>
                      </a:solidFill>
                    </a:lnT>
                    <a:lnB w="3600">
                      <a:solidFill>
                        <a:srgbClr val="e1e1e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400" rIns="83880" tIns="41760" bIns="46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 к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0400" marR="83880">
                    <a:lnL w="3600">
                      <a:solidFill>
                        <a:srgbClr val="e1e1e1"/>
                      </a:solidFill>
                    </a:lnL>
                    <a:lnR w="3600">
                      <a:solidFill>
                        <a:srgbClr val="e1e1e1"/>
                      </a:solidFill>
                    </a:lnR>
                    <a:lnT w="3600">
                      <a:solidFill>
                        <a:srgbClr val="e1e1e1"/>
                      </a:solidFill>
                    </a:lnT>
                    <a:lnB w="3600">
                      <a:solidFill>
                        <a:srgbClr val="e1e1e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400" rIns="83880" tIns="41760" bIns="46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8 к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0400" marR="83880">
                    <a:lnL w="3600">
                      <a:solidFill>
                        <a:srgbClr val="e1e1e1"/>
                      </a:solidFill>
                    </a:lnL>
                    <a:lnR w="3600">
                      <a:solidFill>
                        <a:srgbClr val="e1e1e1"/>
                      </a:solidFill>
                    </a:lnR>
                    <a:lnT w="3600">
                      <a:solidFill>
                        <a:srgbClr val="e1e1e1"/>
                      </a:solidFill>
                    </a:lnT>
                    <a:lnB w="3600">
                      <a:solidFill>
                        <a:srgbClr val="e1e1e1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58520">
                <a:tc>
                  <a:txBody>
                    <a:bodyPr lIns="83880" rIns="83880" tIns="41760" bIns="46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ахар и кондитерские изд-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3880" marR="83880">
                    <a:lnL w="3600">
                      <a:solidFill>
                        <a:srgbClr val="e1e1e1"/>
                      </a:solidFill>
                    </a:lnL>
                    <a:lnR w="3600">
                      <a:solidFill>
                        <a:srgbClr val="e1e1e1"/>
                      </a:solidFill>
                    </a:lnR>
                    <a:lnT w="3600">
                      <a:solidFill>
                        <a:srgbClr val="e1e1e1"/>
                      </a:solidFill>
                    </a:lnT>
                    <a:lnB w="3600">
                      <a:solidFill>
                        <a:srgbClr val="e1e1e1"/>
                      </a:solidFill>
                    </a:lnB>
                    <a:solidFill>
                      <a:srgbClr val="f3f6f7"/>
                    </a:solidFill>
                  </a:tcPr>
                </a:tc>
                <a:tc>
                  <a:txBody>
                    <a:bodyPr lIns="50400" rIns="83880" tIns="41760" bIns="46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 к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0400" marR="83880">
                    <a:lnL w="3600">
                      <a:solidFill>
                        <a:srgbClr val="e1e1e1"/>
                      </a:solidFill>
                    </a:lnL>
                    <a:lnR w="3600">
                      <a:solidFill>
                        <a:srgbClr val="e1e1e1"/>
                      </a:solidFill>
                    </a:lnR>
                    <a:lnT w="3600">
                      <a:solidFill>
                        <a:srgbClr val="e1e1e1"/>
                      </a:solidFill>
                    </a:lnT>
                    <a:lnB w="3600">
                      <a:solidFill>
                        <a:srgbClr val="e1e1e1"/>
                      </a:solidFill>
                    </a:lnB>
                    <a:solidFill>
                      <a:srgbClr val="f3f6f7"/>
                    </a:solidFill>
                  </a:tcPr>
                </a:tc>
                <a:tc>
                  <a:txBody>
                    <a:bodyPr lIns="50400" rIns="83880" tIns="41760" bIns="46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 к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0400" marR="83880">
                    <a:lnL w="3600">
                      <a:solidFill>
                        <a:srgbClr val="e1e1e1"/>
                      </a:solidFill>
                    </a:lnL>
                    <a:lnR w="3600">
                      <a:solidFill>
                        <a:srgbClr val="e1e1e1"/>
                      </a:solidFill>
                    </a:lnR>
                    <a:lnT w="3600">
                      <a:solidFill>
                        <a:srgbClr val="e1e1e1"/>
                      </a:solidFill>
                    </a:lnT>
                    <a:lnB w="3600">
                      <a:solidFill>
                        <a:srgbClr val="e1e1e1"/>
                      </a:solidFill>
                    </a:lnB>
                    <a:solidFill>
                      <a:srgbClr val="f3f6f7"/>
                    </a:solidFill>
                  </a:tcPr>
                </a:tc>
                <a:tc>
                  <a:txBody>
                    <a:bodyPr lIns="50400" rIns="83880" tIns="41760" bIns="46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 к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0400" marR="83880">
                    <a:lnL w="3600">
                      <a:solidFill>
                        <a:srgbClr val="e1e1e1"/>
                      </a:solidFill>
                    </a:lnL>
                    <a:lnR w="3600">
                      <a:solidFill>
                        <a:srgbClr val="e1e1e1"/>
                      </a:solidFill>
                    </a:lnR>
                    <a:lnT w="3600">
                      <a:solidFill>
                        <a:srgbClr val="e1e1e1"/>
                      </a:solidFill>
                    </a:lnT>
                    <a:lnB w="3600">
                      <a:solidFill>
                        <a:srgbClr val="e1e1e1"/>
                      </a:solidFill>
                    </a:lnB>
                    <a:solidFill>
                      <a:srgbClr val="f3f6f7"/>
                    </a:solidFill>
                  </a:tcPr>
                </a:tc>
              </a:tr>
              <a:tr h="393480">
                <a:tc>
                  <a:txBody>
                    <a:bodyPr lIns="83880" rIns="83880" tIns="41760" bIns="46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яс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3880" marR="83880">
                    <a:lnL w="3600">
                      <a:solidFill>
                        <a:srgbClr val="e1e1e1"/>
                      </a:solidFill>
                    </a:lnL>
                    <a:lnR w="3600">
                      <a:solidFill>
                        <a:srgbClr val="e1e1e1"/>
                      </a:solidFill>
                    </a:lnR>
                    <a:lnT w="3600">
                      <a:solidFill>
                        <a:srgbClr val="e1e1e1"/>
                      </a:solidFill>
                    </a:lnT>
                    <a:lnB w="3600">
                      <a:solidFill>
                        <a:srgbClr val="e1e1e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400" rIns="83880" tIns="41760" bIns="46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8 к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0400" marR="83880">
                    <a:lnL w="3600">
                      <a:solidFill>
                        <a:srgbClr val="e1e1e1"/>
                      </a:solidFill>
                    </a:lnL>
                    <a:lnR w="3600">
                      <a:solidFill>
                        <a:srgbClr val="e1e1e1"/>
                      </a:solidFill>
                    </a:lnR>
                    <a:lnT w="3600">
                      <a:solidFill>
                        <a:srgbClr val="e1e1e1"/>
                      </a:solidFill>
                    </a:lnT>
                    <a:lnB w="3600">
                      <a:solidFill>
                        <a:srgbClr val="e1e1e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400" rIns="83880" tIns="41760" bIns="46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4 к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0400" marR="83880">
                    <a:lnL w="3600">
                      <a:solidFill>
                        <a:srgbClr val="e1e1e1"/>
                      </a:solidFill>
                    </a:lnL>
                    <a:lnR w="3600">
                      <a:solidFill>
                        <a:srgbClr val="e1e1e1"/>
                      </a:solidFill>
                    </a:lnR>
                    <a:lnT w="3600">
                      <a:solidFill>
                        <a:srgbClr val="e1e1e1"/>
                      </a:solidFill>
                    </a:lnT>
                    <a:lnB w="3600">
                      <a:solidFill>
                        <a:srgbClr val="e1e1e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400" rIns="83880" tIns="41760" bIns="46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4 к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0400" marR="83880">
                    <a:lnL w="3600">
                      <a:solidFill>
                        <a:srgbClr val="e1e1e1"/>
                      </a:solidFill>
                    </a:lnL>
                    <a:lnR w="3600">
                      <a:solidFill>
                        <a:srgbClr val="e1e1e1"/>
                      </a:solidFill>
                    </a:lnR>
                    <a:lnT w="3600">
                      <a:solidFill>
                        <a:srgbClr val="e1e1e1"/>
                      </a:solidFill>
                    </a:lnT>
                    <a:lnB w="3600">
                      <a:solidFill>
                        <a:srgbClr val="e1e1e1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3120">
                <a:tc>
                  <a:txBody>
                    <a:bodyPr lIns="83880" rIns="83880" tIns="41760" bIns="46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ыб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3880" marR="83880">
                    <a:lnL w="3600">
                      <a:solidFill>
                        <a:srgbClr val="e1e1e1"/>
                      </a:solidFill>
                    </a:lnL>
                    <a:lnR w="3600">
                      <a:solidFill>
                        <a:srgbClr val="e1e1e1"/>
                      </a:solidFill>
                    </a:lnR>
                    <a:lnT w="3600">
                      <a:solidFill>
                        <a:srgbClr val="e1e1e1"/>
                      </a:solidFill>
                    </a:lnT>
                    <a:lnB w="3600">
                      <a:solidFill>
                        <a:srgbClr val="e1e1e1"/>
                      </a:solidFill>
                    </a:lnB>
                    <a:solidFill>
                      <a:srgbClr val="f3f6f7"/>
                    </a:solidFill>
                  </a:tcPr>
                </a:tc>
                <a:tc>
                  <a:txBody>
                    <a:bodyPr lIns="50400" rIns="83880" tIns="41760" bIns="46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 к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0400" marR="83880">
                    <a:lnL w="3600">
                      <a:solidFill>
                        <a:srgbClr val="e1e1e1"/>
                      </a:solidFill>
                    </a:lnL>
                    <a:lnR w="3600">
                      <a:solidFill>
                        <a:srgbClr val="e1e1e1"/>
                      </a:solidFill>
                    </a:lnR>
                    <a:lnT w="3600">
                      <a:solidFill>
                        <a:srgbClr val="e1e1e1"/>
                      </a:solidFill>
                    </a:lnT>
                    <a:lnB w="3600">
                      <a:solidFill>
                        <a:srgbClr val="e1e1e1"/>
                      </a:solidFill>
                    </a:lnB>
                    <a:solidFill>
                      <a:srgbClr val="f3f6f7"/>
                    </a:solidFill>
                  </a:tcPr>
                </a:tc>
                <a:tc>
                  <a:txBody>
                    <a:bodyPr lIns="50400" rIns="83880" tIns="41760" bIns="46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 к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0400" marR="83880">
                    <a:lnL w="3600">
                      <a:solidFill>
                        <a:srgbClr val="e1e1e1"/>
                      </a:solidFill>
                    </a:lnL>
                    <a:lnR w="3600">
                      <a:solidFill>
                        <a:srgbClr val="e1e1e1"/>
                      </a:solidFill>
                    </a:lnR>
                    <a:lnT w="3600">
                      <a:solidFill>
                        <a:srgbClr val="e1e1e1"/>
                      </a:solidFill>
                    </a:lnT>
                    <a:lnB w="3600">
                      <a:solidFill>
                        <a:srgbClr val="e1e1e1"/>
                      </a:solidFill>
                    </a:lnB>
                    <a:solidFill>
                      <a:srgbClr val="f3f6f7"/>
                    </a:solidFill>
                  </a:tcPr>
                </a:tc>
                <a:tc>
                  <a:txBody>
                    <a:bodyPr lIns="50400" rIns="83880" tIns="41760" bIns="46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 к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0400" marR="83880">
                    <a:lnL w="3600">
                      <a:solidFill>
                        <a:srgbClr val="e1e1e1"/>
                      </a:solidFill>
                    </a:lnL>
                    <a:lnR w="3600">
                      <a:solidFill>
                        <a:srgbClr val="e1e1e1"/>
                      </a:solidFill>
                    </a:lnR>
                    <a:lnT w="3600">
                      <a:solidFill>
                        <a:srgbClr val="e1e1e1"/>
                      </a:solidFill>
                    </a:lnT>
                    <a:lnB w="3600">
                      <a:solidFill>
                        <a:srgbClr val="e1e1e1"/>
                      </a:solidFill>
                    </a:lnB>
                    <a:solidFill>
                      <a:srgbClr val="f3f6f7"/>
                    </a:solidFill>
                  </a:tcPr>
                </a:tc>
              </a:tr>
              <a:tr h="547560">
                <a:tc>
                  <a:txBody>
                    <a:bodyPr lIns="83880" rIns="83880" tIns="41760" bIns="46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олочные продукт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3880" marR="83880">
                    <a:lnL w="3600">
                      <a:solidFill>
                        <a:srgbClr val="e1e1e1"/>
                      </a:solidFill>
                    </a:lnL>
                    <a:lnR w="3600">
                      <a:solidFill>
                        <a:srgbClr val="e1e1e1"/>
                      </a:solidFill>
                    </a:lnR>
                    <a:lnT w="3600">
                      <a:solidFill>
                        <a:srgbClr val="e1e1e1"/>
                      </a:solidFill>
                    </a:lnT>
                    <a:lnB w="3600">
                      <a:solidFill>
                        <a:srgbClr val="e1e1e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400" rIns="83880" tIns="41760" bIns="46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0 к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0400" marR="83880">
                    <a:lnL w="3600">
                      <a:solidFill>
                        <a:srgbClr val="e1e1e1"/>
                      </a:solidFill>
                    </a:lnL>
                    <a:lnR w="3600">
                      <a:solidFill>
                        <a:srgbClr val="e1e1e1"/>
                      </a:solidFill>
                    </a:lnR>
                    <a:lnT w="3600">
                      <a:solidFill>
                        <a:srgbClr val="e1e1e1"/>
                      </a:solidFill>
                    </a:lnT>
                    <a:lnB w="3600">
                      <a:solidFill>
                        <a:srgbClr val="e1e1e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400" rIns="83880" tIns="41760" bIns="46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7 к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0400" marR="83880">
                    <a:lnL w="3600">
                      <a:solidFill>
                        <a:srgbClr val="e1e1e1"/>
                      </a:solidFill>
                    </a:lnL>
                    <a:lnR w="3600">
                      <a:solidFill>
                        <a:srgbClr val="e1e1e1"/>
                      </a:solidFill>
                    </a:lnR>
                    <a:lnT w="3600">
                      <a:solidFill>
                        <a:srgbClr val="e1e1e1"/>
                      </a:solidFill>
                    </a:lnT>
                    <a:lnB w="3600">
                      <a:solidFill>
                        <a:srgbClr val="e1e1e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400" rIns="83880" tIns="41760" bIns="46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0 к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0400" marR="83880">
                    <a:lnL w="3600">
                      <a:solidFill>
                        <a:srgbClr val="e1e1e1"/>
                      </a:solidFill>
                    </a:lnL>
                    <a:lnR w="3600">
                      <a:solidFill>
                        <a:srgbClr val="e1e1e1"/>
                      </a:solidFill>
                    </a:lnR>
                    <a:lnT w="3600">
                      <a:solidFill>
                        <a:srgbClr val="e1e1e1"/>
                      </a:solidFill>
                    </a:lnT>
                    <a:lnB w="3600">
                      <a:solidFill>
                        <a:srgbClr val="e1e1e1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47560">
                <a:tc>
                  <a:txBody>
                    <a:bodyPr lIns="83880" rIns="83880" tIns="41760" bIns="46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Яйц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3880" marR="83880">
                    <a:lnL w="3600">
                      <a:solidFill>
                        <a:srgbClr val="e1e1e1"/>
                      </a:solidFill>
                    </a:lnL>
                    <a:lnR w="3600">
                      <a:solidFill>
                        <a:srgbClr val="e1e1e1"/>
                      </a:solidFill>
                    </a:lnR>
                    <a:lnT w="3600">
                      <a:solidFill>
                        <a:srgbClr val="e1e1e1"/>
                      </a:solidFill>
                    </a:lnT>
                    <a:lnB w="3600">
                      <a:solidFill>
                        <a:srgbClr val="e1e1e1"/>
                      </a:solidFill>
                    </a:lnB>
                    <a:solidFill>
                      <a:srgbClr val="f3f6f7"/>
                    </a:solidFill>
                  </a:tcPr>
                </a:tc>
                <a:tc>
                  <a:txBody>
                    <a:bodyPr lIns="50400" rIns="83880" tIns="41760" bIns="46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0 шт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0400" marR="83880">
                    <a:lnL w="3600">
                      <a:solidFill>
                        <a:srgbClr val="e1e1e1"/>
                      </a:solidFill>
                    </a:lnL>
                    <a:lnR w="3600">
                      <a:solidFill>
                        <a:srgbClr val="e1e1e1"/>
                      </a:solidFill>
                    </a:lnR>
                    <a:lnT w="3600">
                      <a:solidFill>
                        <a:srgbClr val="e1e1e1"/>
                      </a:solidFill>
                    </a:lnT>
                    <a:lnB w="3600">
                      <a:solidFill>
                        <a:srgbClr val="e1e1e1"/>
                      </a:solidFill>
                    </a:lnB>
                    <a:solidFill>
                      <a:srgbClr val="f3f6f7"/>
                    </a:solidFill>
                  </a:tcPr>
                </a:tc>
                <a:tc>
                  <a:txBody>
                    <a:bodyPr lIns="50400" rIns="83880" tIns="41760" bIns="46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 шт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0400" marR="83880">
                    <a:lnL w="3600">
                      <a:solidFill>
                        <a:srgbClr val="e1e1e1"/>
                      </a:solidFill>
                    </a:lnL>
                    <a:lnR w="3600">
                      <a:solidFill>
                        <a:srgbClr val="e1e1e1"/>
                      </a:solidFill>
                    </a:lnR>
                    <a:lnT w="3600">
                      <a:solidFill>
                        <a:srgbClr val="e1e1e1"/>
                      </a:solidFill>
                    </a:lnT>
                    <a:lnB w="3600">
                      <a:solidFill>
                        <a:srgbClr val="e1e1e1"/>
                      </a:solidFill>
                    </a:lnB>
                    <a:solidFill>
                      <a:srgbClr val="f3f6f7"/>
                    </a:solidFill>
                  </a:tcPr>
                </a:tc>
                <a:tc>
                  <a:txBody>
                    <a:bodyPr lIns="50400" rIns="83880" tIns="41760" bIns="46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 шт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0400" marR="83880">
                    <a:lnL w="3600">
                      <a:solidFill>
                        <a:srgbClr val="e1e1e1"/>
                      </a:solidFill>
                    </a:lnL>
                    <a:lnR w="3600">
                      <a:solidFill>
                        <a:srgbClr val="e1e1e1"/>
                      </a:solidFill>
                    </a:lnR>
                    <a:lnT w="3600">
                      <a:solidFill>
                        <a:srgbClr val="e1e1e1"/>
                      </a:solidFill>
                    </a:lnT>
                    <a:lnB w="3600">
                      <a:solidFill>
                        <a:srgbClr val="e1e1e1"/>
                      </a:solidFill>
                    </a:lnB>
                    <a:solidFill>
                      <a:srgbClr val="f3f6f7"/>
                    </a:solidFill>
                  </a:tcPr>
                </a:tc>
              </a:tr>
              <a:tr h="393840">
                <a:tc>
                  <a:txBody>
                    <a:bodyPr lIns="83880" rIns="83880" tIns="41760" bIns="46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сла и жир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3880" marR="83880">
                    <a:lnL w="3600">
                      <a:solidFill>
                        <a:srgbClr val="e1e1e1"/>
                      </a:solidFill>
                    </a:lnL>
                    <a:lnR w="3600">
                      <a:solidFill>
                        <a:srgbClr val="e1e1e1"/>
                      </a:solidFill>
                    </a:lnR>
                    <a:lnT w="3600">
                      <a:solidFill>
                        <a:srgbClr val="e1e1e1"/>
                      </a:solidFill>
                    </a:lnT>
                    <a:lnB w="3600">
                      <a:solidFill>
                        <a:srgbClr val="e1e1e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400" rIns="83880" tIns="41760" bIns="46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 к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0400" marR="83880">
                    <a:lnL w="3600">
                      <a:solidFill>
                        <a:srgbClr val="e1e1e1"/>
                      </a:solidFill>
                    </a:lnL>
                    <a:lnR w="3600">
                      <a:solidFill>
                        <a:srgbClr val="e1e1e1"/>
                      </a:solidFill>
                    </a:lnR>
                    <a:lnT w="3600">
                      <a:solidFill>
                        <a:srgbClr val="e1e1e1"/>
                      </a:solidFill>
                    </a:lnT>
                    <a:lnB w="3600">
                      <a:solidFill>
                        <a:srgbClr val="e1e1e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400" rIns="83880" tIns="41760" bIns="46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 к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0400" marR="83880">
                    <a:lnL w="3600">
                      <a:solidFill>
                        <a:srgbClr val="e1e1e1"/>
                      </a:solidFill>
                    </a:lnL>
                    <a:lnR w="3600">
                      <a:solidFill>
                        <a:srgbClr val="e1e1e1"/>
                      </a:solidFill>
                    </a:lnR>
                    <a:lnT w="3600">
                      <a:solidFill>
                        <a:srgbClr val="e1e1e1"/>
                      </a:solidFill>
                    </a:lnT>
                    <a:lnB w="3600">
                      <a:solidFill>
                        <a:srgbClr val="e1e1e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400" rIns="83880" tIns="41760" bIns="46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 к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0400" marR="83880">
                    <a:lnL w="3600">
                      <a:solidFill>
                        <a:srgbClr val="e1e1e1"/>
                      </a:solidFill>
                    </a:lnL>
                    <a:lnR w="3600">
                      <a:solidFill>
                        <a:srgbClr val="e1e1e1"/>
                      </a:solidFill>
                    </a:lnR>
                    <a:lnT w="3600">
                      <a:solidFill>
                        <a:srgbClr val="e1e1e1"/>
                      </a:solidFill>
                    </a:lnT>
                    <a:lnB w="3600">
                      <a:solidFill>
                        <a:srgbClr val="e1e1e1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94440">
                <a:tc>
                  <a:txBody>
                    <a:bodyPr lIns="83880" rIns="83880" tIns="41760" bIns="46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ай и спец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3880" marR="83880">
                    <a:lnL w="3600">
                      <a:solidFill>
                        <a:srgbClr val="e1e1e1"/>
                      </a:solidFill>
                    </a:lnL>
                    <a:lnR w="3600">
                      <a:solidFill>
                        <a:srgbClr val="e1e1e1"/>
                      </a:solidFill>
                    </a:lnR>
                    <a:lnT w="3600">
                      <a:solidFill>
                        <a:srgbClr val="e1e1e1"/>
                      </a:solidFill>
                    </a:lnT>
                    <a:lnB w="3600">
                      <a:solidFill>
                        <a:srgbClr val="e1e1e1"/>
                      </a:solidFill>
                    </a:lnB>
                    <a:solidFill>
                      <a:srgbClr val="f3f6f7"/>
                    </a:solidFill>
                  </a:tcPr>
                </a:tc>
                <a:tc>
                  <a:txBody>
                    <a:bodyPr lIns="50400" rIns="83880" tIns="41760" bIns="46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                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 к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0400" marR="83880">
                    <a:lnL w="3600">
                      <a:solidFill>
                        <a:srgbClr val="e1e1e1"/>
                      </a:solidFill>
                    </a:lnL>
                    <a:lnR w="3600">
                      <a:solidFill>
                        <a:srgbClr val="e1e1e1"/>
                      </a:solidFill>
                    </a:lnR>
                    <a:lnT w="3600">
                      <a:solidFill>
                        <a:srgbClr val="e1e1e1"/>
                      </a:solidFill>
                    </a:lnT>
                    <a:lnB w="3600">
                      <a:solidFill>
                        <a:srgbClr val="e1e1e1"/>
                      </a:solidFill>
                    </a:lnB>
                    <a:solidFill>
                      <a:srgbClr val="f3f6f7"/>
                    </a:solidFill>
                  </a:tcPr>
                </a:tc>
                <a:tc>
                  <a:txBody>
                    <a:bodyPr lIns="50400" rIns="83880" tIns="41760" bIns="46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                  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 к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0400" marR="83880">
                    <a:lnL w="3600">
                      <a:solidFill>
                        <a:srgbClr val="e1e1e1"/>
                      </a:solidFill>
                    </a:lnL>
                    <a:lnR w="3600">
                      <a:solidFill>
                        <a:srgbClr val="e1e1e1"/>
                      </a:solidFill>
                    </a:lnR>
                    <a:lnT w="3600">
                      <a:solidFill>
                        <a:srgbClr val="e1e1e1"/>
                      </a:solidFill>
                    </a:lnT>
                    <a:lnB w="3600">
                      <a:solidFill>
                        <a:srgbClr val="e1e1e1"/>
                      </a:solidFill>
                    </a:lnB>
                    <a:solidFill>
                      <a:srgbClr val="f3f6f7"/>
                    </a:solidFill>
                  </a:tcPr>
                </a:tc>
                <a:tc>
                  <a:txBody>
                    <a:bodyPr lIns="50400" rIns="83880" tIns="41760" bIns="46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       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 к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0400" marR="83880">
                    <a:lnL w="3600">
                      <a:solidFill>
                        <a:srgbClr val="e1e1e1"/>
                      </a:solidFill>
                    </a:lnL>
                    <a:lnR w="3600">
                      <a:solidFill>
                        <a:srgbClr val="e1e1e1"/>
                      </a:solidFill>
                    </a:lnR>
                    <a:lnT w="3600">
                      <a:solidFill>
                        <a:srgbClr val="e1e1e1"/>
                      </a:solidFill>
                    </a:lnT>
                    <a:lnB w="3600">
                      <a:solidFill>
                        <a:srgbClr val="e1e1e1"/>
                      </a:solidFill>
                    </a:lnB>
                    <a:solidFill>
                      <a:srgbClr val="f3f6f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3-08T04:43:46Z</dcterms:created>
  <dc:creator>Пользователь</dc:creator>
  <dc:description/>
  <dc:language>en-US</dc:language>
  <cp:lastModifiedBy>1</cp:lastModifiedBy>
  <dcterms:modified xsi:type="dcterms:W3CDTF">2023-10-06T19:33:03Z</dcterms:modified>
  <cp:revision>33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a2110000000000010243100207f6000400038000</vt:lpwstr>
  </property>
</Properties>
</file>