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5CC-B360-4C9A-82EA-BF1D4009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E90-CB25-4F31-AABA-C65B7930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ED3B-BDF6-4002-89DB-CEA2852F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FB1-7535-48A3-84A1-9240BB76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AB94-C277-4B9D-9A5B-2932A501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4F6E-12C1-47C5-B662-8D2F1E04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D5F7-279E-4BB2-8C3C-74C5D799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C690-2D11-47BE-AC42-4ED37945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475F-5438-468B-A630-632A165E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D58B-CEC2-4C5E-8EDF-F65F36B7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8DA2-253B-485A-B1A8-E9703E61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09D-A12B-4637-9C36-DEAB0057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7ECE-A699-44AF-86CC-287150B4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2110-7A20-445F-8460-B63534AC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0789-6928-409D-B431-F11CEC57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CF84-6E25-49EA-BBAE-9332B48C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28B5-4C74-4A64-84A1-24096B1E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D18AB-E52E-4230-8F3F-9A4CEB91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4BDF-781F-475A-89BE-7003B945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845F0-9C49-4E5D-9C6B-3EEAD189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B6FE3-046F-4A16-92FB-98CDC918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AB64D-CD6B-4A99-8418-0F688F27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416-F353-443C-804F-CA947A6D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0684B-165F-43EB-BE4A-CAB2EB10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6C2C3-16A0-4E83-B1AF-9CB057D7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41A47-5D65-420B-A2B0-F5EAC479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F5121-A873-437D-B499-EEF74121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1819-77D9-4E04-9244-933F6618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33946-4E5C-48B9-BA31-679D5FF4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130B8-D0F9-4188-87E5-EEFE6294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62B-7999-4D54-9E4D-16ECFE43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55D-CADE-43C4-9EEC-FF72B7EE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0ED-00EB-4C0A-977A-07115F31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5FE-6416-47AA-82C5-1FC51904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88A-39D3-4203-8A73-1ACC6E1D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083-E48B-464A-9641-CFB11723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2F60-E3D3-4126-9774-C603B874C7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A72A-C167-49AC-90D3-C6C0D2CE617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C3BB-8F7D-4EBF-95D3-39304E3F7CE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1000080" y="1571760"/>
            <a:ext cx="7715160" cy="33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ТЕХНИКА БЕЗОПА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 УРОК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ФИЗИЧЕСКОЙ КУЛЬТУ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8"/>
          <p:cNvSpPr/>
          <p:nvPr/>
        </p:nvSpPr>
        <p:spPr>
          <a:xfrm>
            <a:off x="179280" y="3573360"/>
            <a:ext cx="871380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достаточная тренированность и форсированная нагру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79280" y="4221000"/>
            <a:ext cx="8713800" cy="48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Пренебрежительное отношение к разм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79280" y="2924280"/>
            <a:ext cx="8713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Отсутствие страховки и самострах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79280" y="1916280"/>
            <a:ext cx="8713800" cy="122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благоприятные погодные условия и несоответствующая виду спорта или месту занятий одежда и обу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79280" y="907920"/>
            <a:ext cx="871380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удовлетворительная подготовка мест занятий, оборудо-вания  и  инвент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79280" y="4869000"/>
            <a:ext cx="8713800" cy="88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изкая поведенческая культура учащихся</a:t>
            </a:r>
            <a:r>
              <a:rPr b="1" lang="ru-RU" sz="2600" spc="-1" strike="noStrike">
                <a:solidFill>
                  <a:srgbClr val="000000"/>
                </a:solidFill>
                <a:latin typeface="Poor Richard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соблюдение дисциплины</a:t>
            </a:r>
            <a:r>
              <a:rPr b="1" lang="ru-RU" sz="2600" spc="-1" strike="noStrike">
                <a:solidFill>
                  <a:srgbClr val="000000"/>
                </a:solidFill>
                <a:latin typeface="Poor Richard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468360" y="115920"/>
            <a:ext cx="80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Основные причины травматиз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179280" y="5877000"/>
            <a:ext cx="871380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Отсутствие медицинского контроля и нарушение врачеб-ных требо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7"/>
          <p:cNvSpPr/>
          <p:nvPr/>
        </p:nvSpPr>
        <p:spPr>
          <a:xfrm>
            <a:off x="755640" y="5877000"/>
            <a:ext cx="7416720" cy="482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Times New Roman"/>
              </a:rPr>
              <a:t>ЕСЛИ ЧЕЛОВЕК ПОПАЛ В БЕД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324000" y="549360"/>
            <a:ext cx="8207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755640" y="3141720"/>
            <a:ext cx="4010040" cy="1203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Виды тра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5724360" y="220500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раны, ссадины, пор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5724360" y="285264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5724360" y="350028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уш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724360" y="414972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выви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5724360" y="479736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ерел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1"/>
          <p:cNvSpPr/>
          <p:nvPr/>
        </p:nvSpPr>
        <p:spPr>
          <a:xfrm>
            <a:off x="5292720" y="306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5292720" y="429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4788000" y="37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529272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5"/>
          <p:cNvSpPr/>
          <p:nvPr/>
        </p:nvSpPr>
        <p:spPr>
          <a:xfrm>
            <a:off x="529272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5292720" y="234936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3"/>
          <p:cNvSpPr/>
          <p:nvPr/>
        </p:nvSpPr>
        <p:spPr>
          <a:xfrm>
            <a:off x="468360" y="6094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33"/>
                </a:solidFill>
                <a:latin typeface="Poor Richard"/>
              </a:rPr>
              <a:t>Не соблюдение ТБ на уроках физической культуры приводит к травмам</a:t>
            </a:r>
            <a:r>
              <a:rPr b="1" lang="ru-RU" sz="28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6"/>
          <p:cNvSpPr txBox="1"/>
          <p:nvPr/>
        </p:nvSpPr>
        <p:spPr>
          <a:xfrm rot="20730600">
            <a:off x="684000" y="1557360"/>
            <a:ext cx="6984720" cy="21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ff"/>
                    </a:gs>
                    <a:gs pos="100000">
                      <a:srgbClr val="0000ff"/>
                    </a:gs>
                  </a:gsLst>
                  <a:lin ang="171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й и ум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ff"/>
                  </a:gs>
                  <a:gs pos="100000">
                    <a:srgbClr val="0000ff"/>
                  </a:gs>
                </a:gsLst>
                <a:lin ang="171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077840" y="333360"/>
            <a:ext cx="80661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022560" y="465300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Book Antiqua"/>
              </a:rPr>
              <a:t>Первая помощь при трав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539640" y="333360"/>
            <a:ext cx="8064720" cy="503280"/>
          </a:xfrm>
          <a:prstGeom prst="rect">
            <a:avLst/>
          </a:prstGeom>
          <a:solidFill>
            <a:srgbClr val="afc4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851280" y="907920"/>
            <a:ext cx="47530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050920" y="26028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ны, ссадины, поре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399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1116000" y="4581360"/>
            <a:ext cx="7201080" cy="7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Водой рану промывать не следу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900000" y="537372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Ни в коем случае не прикладывать к ней земл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611280" y="6093000"/>
            <a:ext cx="7200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Если рана глубокая немедленно доставить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пострадавшего в медицинское учрежд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4"/>
          <p:cNvSpPr/>
          <p:nvPr/>
        </p:nvSpPr>
        <p:spPr>
          <a:xfrm>
            <a:off x="1403280" y="3860640"/>
            <a:ext cx="720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5" descr="{7C252B70-2007-4660-A558-00CF08157FBE}"/>
          <p:cNvPicPr/>
          <p:nvPr/>
        </p:nvPicPr>
        <p:blipFill>
          <a:blip r:embed="rId1"/>
          <a:stretch/>
        </p:blipFill>
        <p:spPr>
          <a:xfrm>
            <a:off x="179280" y="3284640"/>
            <a:ext cx="2808360" cy="2006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6" descr="{7D0847F3-A7E7-4E6A-A33F-B2DD135D9BBF}"/>
          <p:cNvPicPr/>
          <p:nvPr/>
        </p:nvPicPr>
        <p:blipFill>
          <a:blip r:embed="rId2"/>
          <a:stretch/>
        </p:blipFill>
        <p:spPr>
          <a:xfrm>
            <a:off x="179280" y="4797360"/>
            <a:ext cx="2664000" cy="19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7" descr="{844DAA33-02B1-42DA-AFF1-61D08A04A623}"/>
          <p:cNvPicPr/>
          <p:nvPr/>
        </p:nvPicPr>
        <p:blipFill>
          <a:blip r:embed="rId3"/>
          <a:stretch/>
        </p:blipFill>
        <p:spPr>
          <a:xfrm>
            <a:off x="324000" y="2924280"/>
            <a:ext cx="2663640" cy="1949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{B728A7F7-4D1E-426D-8BC3-18405FA3E292}"/>
          <p:cNvPicPr/>
          <p:nvPr/>
        </p:nvPicPr>
        <p:blipFill>
          <a:blip r:embed="rId4"/>
          <a:stretch/>
        </p:blipFill>
        <p:spPr>
          <a:xfrm>
            <a:off x="684360" y="981000"/>
            <a:ext cx="2808000" cy="202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9" descr="{39441403-C54E-4212-8271-6BC6585C1045}"/>
          <p:cNvPicPr/>
          <p:nvPr/>
        </p:nvPicPr>
        <p:blipFill>
          <a:blip r:embed="rId5"/>
          <a:stretch/>
        </p:blipFill>
        <p:spPr>
          <a:xfrm>
            <a:off x="468360" y="981000"/>
            <a:ext cx="3024000" cy="2043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1"/>
          <p:cNvSpPr/>
          <p:nvPr/>
        </p:nvSpPr>
        <p:spPr>
          <a:xfrm>
            <a:off x="3995640" y="1909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4932360" y="2852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5335560" y="98100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дения, неисп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вентарь, нару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сциплин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364000" y="190332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ь, нарушение целостности кожного покрова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77080" y="3068640"/>
            <a:ext cx="50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работка окружности раны антисепти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ложение повя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6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6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600"/>
                            </p:stCondLst>
                            <p:childTnLst>
                              <p:par>
                                <p:cTn id="2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6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6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6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76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9600"/>
                            </p:stCondLst>
                            <p:childTnLst>
                              <p:par>
                                <p:cTn id="284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1600"/>
                            </p:stCondLst>
                            <p:childTnLst>
                              <p:par>
                                <p:cTn id="290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36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6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427640" y="1052640"/>
            <a:ext cx="4176720" cy="30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8"/>
          <p:cNvSpPr txBox="1"/>
          <p:nvPr/>
        </p:nvSpPr>
        <p:spPr>
          <a:xfrm>
            <a:off x="1332000" y="333360"/>
            <a:ext cx="640872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вотечения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Picture 9" descr="{F337F3B6-C72C-4863-A45B-015F4048AF4C}"/>
          <p:cNvPicPr/>
          <p:nvPr/>
        </p:nvPicPr>
        <p:blipFill>
          <a:blip r:embed="rId4"/>
          <a:stretch/>
        </p:blipFill>
        <p:spPr>
          <a:xfrm>
            <a:off x="395280" y="1197000"/>
            <a:ext cx="3457440" cy="2763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{15F62B38-96EE-499B-A4F6-FBCEFA88FCA2}"/>
          <p:cNvPicPr/>
          <p:nvPr/>
        </p:nvPicPr>
        <p:blipFill>
          <a:blip r:embed="rId5"/>
          <a:stretch/>
        </p:blipFill>
        <p:spPr>
          <a:xfrm>
            <a:off x="395280" y="3860640"/>
            <a:ext cx="3457440" cy="259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Object 12"/>
          <p:cNvGraphicFramePr/>
          <p:nvPr/>
        </p:nvGraphicFramePr>
        <p:xfrm>
          <a:off x="395280" y="1052640"/>
          <a:ext cx="3457440" cy="282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6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052640"/>
                    <a:ext cx="3457440" cy="28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4"/>
          <p:cNvSpPr/>
          <p:nvPr/>
        </p:nvSpPr>
        <p:spPr>
          <a:xfrm>
            <a:off x="5867280" y="112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79600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508720" y="27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500720" y="14130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орезы, падения, столкновения при выполнение упражнени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4500720" y="22050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головокружение потеря сознания, слабость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4500720" y="3068640"/>
            <a:ext cx="391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оврежденную конечность приподнять, наложить тугую повязку или жгут (при сильном кровотече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611280" y="4941720"/>
            <a:ext cx="7993080" cy="67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гут нельзя держать в затянутом положении более 1,5-2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11280" y="5618160"/>
            <a:ext cx="79930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репить записку с датой и временем наложения жг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611280" y="6237360"/>
            <a:ext cx="7993080" cy="40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го необходимо СРОЧНО доставить к вра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611280" y="4437000"/>
            <a:ext cx="7993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d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395280" y="404640"/>
            <a:ext cx="8209080" cy="720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Перело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50920" y="3933720"/>
            <a:ext cx="727236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356000" y="1239840"/>
            <a:ext cx="453708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5514480" y="1413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6084720" y="119700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5941440" y="1700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500720" y="191628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резкая боль, припухлость, кровоподтек в области травмы, невозможность совершать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924360" y="33577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ff"/>
                </a:solidFill>
                <a:latin typeface="Arial Narrow"/>
              </a:rPr>
              <a:t>обеспечить неподвижность и наложить 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3" descr="перелом"/>
          <p:cNvPicPr/>
          <p:nvPr/>
        </p:nvPicPr>
        <p:blipFill>
          <a:blip r:embed="rId1"/>
          <a:stretch/>
        </p:blipFill>
        <p:spPr>
          <a:xfrm>
            <a:off x="179280" y="1525680"/>
            <a:ext cx="4038840" cy="1771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7" descr="{2D0F55F1-1BE8-427C-9B99-45063492CF9F}"/>
          <p:cNvPicPr/>
          <p:nvPr/>
        </p:nvPicPr>
        <p:blipFill>
          <a:blip r:embed="rId2"/>
          <a:stretch/>
        </p:blipFill>
        <p:spPr>
          <a:xfrm>
            <a:off x="468360" y="125244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9"/>
          <p:cNvSpPr/>
          <p:nvPr/>
        </p:nvSpPr>
        <p:spPr>
          <a:xfrm>
            <a:off x="5508720" y="299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611280" y="458136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должна захватить не менее чем 2 сустав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 и ниже перел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3"/>
          <p:cNvSpPr/>
          <p:nvPr/>
        </p:nvSpPr>
        <p:spPr>
          <a:xfrm>
            <a:off x="971640" y="522936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шину следует обязательно подложи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ую-нибудь мягкую проклад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4"/>
          <p:cNvSpPr/>
          <p:nvPr/>
        </p:nvSpPr>
        <p:spPr>
          <a:xfrm>
            <a:off x="1332000" y="587700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го следует срочно достави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цинск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324000" y="333360"/>
            <a:ext cx="820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067280" y="1125360"/>
            <a:ext cx="475272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95280" y="3789360"/>
            <a:ext cx="72072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327480" y="333360"/>
            <a:ext cx="26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В ы в и 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5225400" y="1413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651640" y="11253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582160" y="17002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5297760" y="2924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4140360" y="1989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сильная боль, опухоль сустава, невозможность двигать конеч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635280" y="32130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cc"/>
                </a:solidFill>
                <a:latin typeface="Arial Narrow"/>
              </a:rPr>
              <a:t>фиксация поврежденной конечности, 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0" descr="{7D0847F3-A7E7-4E6A-A33F-B2DD135D9BBF}"/>
          <p:cNvPicPr/>
          <p:nvPr/>
        </p:nvPicPr>
        <p:blipFill>
          <a:blip r:embed="rId1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{001C51B7-FD14-4960-9B90-68C1CAC4AA38}"/>
          <p:cNvPicPr/>
          <p:nvPr/>
        </p:nvPicPr>
        <p:blipFill>
          <a:blip r:embed="rId2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2"/>
          <p:cNvSpPr/>
          <p:nvPr/>
        </p:nvSpPr>
        <p:spPr>
          <a:xfrm>
            <a:off x="755640" y="436572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их – это стойкое смещение концов кос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ящих в один суста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1116000" y="501336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вывихе сустава верхней конеч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у следует подвесить на косы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1476360" y="5661000"/>
            <a:ext cx="7201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вывихе сустава нижней конечности пострадавшего нужно уложить на носилки и доста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лечебное учреж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500"/>
                            </p:stCondLst>
                            <p:childTnLst>
                              <p:par>
                                <p:cTn id="5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686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539640" y="476280"/>
            <a:ext cx="813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У ш и б 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411280" y="4221000"/>
            <a:ext cx="619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3" descr="{574A6673-7325-41BA-A959-1D1D2D76D160}"/>
          <p:cNvPicPr/>
          <p:nvPr/>
        </p:nvPicPr>
        <p:blipFill>
          <a:blip r:embed="rId1"/>
          <a:stretch/>
        </p:blipFill>
        <p:spPr>
          <a:xfrm>
            <a:off x="468360" y="1197000"/>
            <a:ext cx="3757680" cy="2817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5"/>
          <p:cNvSpPr/>
          <p:nvPr/>
        </p:nvSpPr>
        <p:spPr>
          <a:xfrm>
            <a:off x="4427640" y="1197000"/>
            <a:ext cx="43210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298480" y="15573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724360" y="126828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5654880" y="18446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5796000" y="3141720"/>
            <a:ext cx="18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427640" y="220500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боль, припухлость, кровоподтеки, небольшое нарушение функ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5148360" y="3500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Arial Narrow"/>
              </a:rPr>
              <a:t>На место ушиба следует приложить хол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1979640" y="4797360"/>
            <a:ext cx="6192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й части тела важно создать возвышенное пол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1547640" y="5516640"/>
            <a:ext cx="619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ить покой и 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1116000" y="6093000"/>
            <a:ext cx="6192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жить тугую повяз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5" descr="{7D0847F3-A7E7-4E6A-A33F-B2DD135D9BBF}"/>
          <p:cNvPicPr/>
          <p:nvPr/>
        </p:nvPicPr>
        <p:blipFill>
          <a:blip r:embed="rId2"/>
          <a:stretch/>
        </p:blipFill>
        <p:spPr>
          <a:xfrm>
            <a:off x="468360" y="119700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6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6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6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7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4:46:31Z</dcterms:created>
  <dc:creator>Computer1</dc:creator>
  <dc:description/>
  <dc:language>en-US</dc:language>
  <cp:lastModifiedBy>User</cp:lastModifiedBy>
  <dcterms:modified xsi:type="dcterms:W3CDTF">2021-09-15T02:18:05Z</dcterms:modified>
  <cp:revision>9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Вопрос">
    <vt:lpwstr>????</vt:lpwstr>
  </property>
</Properties>
</file>