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CE0-7AE9-4407-BDAC-971867CB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960-16BB-42A6-84BB-FABD7D16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A64-57FA-4796-9BCF-9ECCA6BE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858-8531-4BFC-8E66-2136F378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8529-4358-48C2-BF66-CB345F20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164D-44AA-4465-8D7B-CE04DA7E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745C-335F-40D2-AA0A-FDD21B58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59E4-A506-4AF3-AF7B-C32ABA60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E75B-2414-4628-9012-BDD9CD91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31FB-2589-4BC3-BF71-A9213B1F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C56C-E67D-457F-BB38-61B1FB5E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C4C-48AA-441C-83A3-6C21E254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0B3B-8853-41E4-AD98-5C93C27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77F2-E416-44A1-AA1C-9B932893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8BF9-5077-45F5-B363-B057C61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9A65-B127-4780-912C-8479CD6F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F54A-7B2E-461E-AD9D-4A2C5647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786E-3B16-4C79-9F0F-E577C35C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5C3B-E12C-4667-A27A-FB66C04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608E-F37A-402F-A1E9-23F5FF2B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ED83-DF52-425E-827D-EF5B52E1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7265-D37A-4124-AE5C-F1F77ABB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A89-28C3-4C37-BE01-8D2D092D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57A4-FA59-4ABE-9E99-5C2F3A34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CE7B-4D7C-497D-9C64-318B9FD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4ADF-7DFA-4C49-A2FE-A256F567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3F7E-61F9-425B-B1FD-B082A21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0FBE-C016-43C9-A193-AECA8A0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8E0F-482C-49B2-8A57-97073D90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5322-6164-4DC1-BAB2-16AE8BF3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74A-B4CA-46CF-8EDB-702736EE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BF1-39B5-4C6B-A747-B66C8C24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C82-1B83-47CE-B062-A9A13AB2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03A-03FA-46DC-A635-AA691CF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561-2149-46CA-B03E-BEEC22DA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AB2-C2D3-401F-91FE-C7074CAE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A2C3-E33C-417D-A627-A1B9DA53E7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A57F-C814-4225-A5EC-8964C9D35A2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7CBA-0E0F-4E0C-98C1-238E9C68022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000080" y="1571760"/>
            <a:ext cx="7715160" cy="33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 УРО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ИЗИЧЕСКОЙ КУЛЬ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179280" y="3573360"/>
            <a:ext cx="8713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достаточная тренированность и форсированная на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79280" y="4221000"/>
            <a:ext cx="8713800" cy="48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Пренебрежительное отношение к разм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9280" y="2924280"/>
            <a:ext cx="8713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страховки и самострах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79280" y="1916280"/>
            <a:ext cx="8713800" cy="122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благоприятные погодные условия и несоответствующая виду спорта или месту занятий одежда и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79280" y="90792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удовлетворительная подготовка мест занятий, оборудо-вания  и  инвент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79280" y="4869000"/>
            <a:ext cx="8713800" cy="88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изкая поведенческая культура учащихся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соблюдение дисциплины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468360" y="11592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Основные причины травмат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79280" y="587700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медицинского контроля и нарушение врачеб-ных треб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755640" y="5877000"/>
            <a:ext cx="7416720" cy="48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ЕСЛИ ЧЕЛОВЕК ПОПАЛ В БЕ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324000" y="549360"/>
            <a:ext cx="820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755640" y="3141720"/>
            <a:ext cx="4010040" cy="120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иды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724360" y="2205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раны, ссадины, по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5724360" y="285264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24360" y="3500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уш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724360" y="414972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выв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724360" y="479736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ерел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529272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5292720" y="429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4788000" y="37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5292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529272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29272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68360" y="6094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33"/>
                </a:solidFill>
                <a:latin typeface="Poor Richard"/>
              </a:rPr>
              <a:t>Не соблюдение ТБ на уроках физической культуры приводит к травмам</a:t>
            </a:r>
            <a:r>
              <a:rPr b="1" lang="ru-RU" sz="2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6"/>
          <p:cNvSpPr txBox="1"/>
          <p:nvPr/>
        </p:nvSpPr>
        <p:spPr>
          <a:xfrm rot="20730600">
            <a:off x="684000" y="1557360"/>
            <a:ext cx="69847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17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и у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17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77840" y="333360"/>
            <a:ext cx="8066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22560" y="46530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Book Antiqua"/>
              </a:rPr>
              <a:t>Первая помощь при трав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333360"/>
            <a:ext cx="8064720" cy="503280"/>
          </a:xfrm>
          <a:prstGeom prst="rect">
            <a:avLst/>
          </a:prstGeom>
          <a:solidFill>
            <a:srgbClr val="afc4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51280" y="907920"/>
            <a:ext cx="47530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050920" y="2602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99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116000" y="4581360"/>
            <a:ext cx="7201080" cy="7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Водой рану промывать не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900000" y="5373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Ни в коем случае не прикладывать к ней земл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611280" y="6093000"/>
            <a:ext cx="720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Если рана глубокая немедленно доставить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острадавшего в медицинское учрежд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1403280" y="3860640"/>
            <a:ext cx="720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{7C252B70-2007-4660-A558-00CF08157FBE}"/>
          <p:cNvPicPr/>
          <p:nvPr/>
        </p:nvPicPr>
        <p:blipFill>
          <a:blip r:embed="rId1"/>
          <a:stretch/>
        </p:blipFill>
        <p:spPr>
          <a:xfrm>
            <a:off x="179280" y="3284640"/>
            <a:ext cx="2808360" cy="200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{7D0847F3-A7E7-4E6A-A33F-B2DD135D9BBF}"/>
          <p:cNvPicPr/>
          <p:nvPr/>
        </p:nvPicPr>
        <p:blipFill>
          <a:blip r:embed="rId2"/>
          <a:stretch/>
        </p:blipFill>
        <p:spPr>
          <a:xfrm>
            <a:off x="179280" y="479736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{844DAA33-02B1-42DA-AFF1-61D08A04A623}"/>
          <p:cNvPicPr/>
          <p:nvPr/>
        </p:nvPicPr>
        <p:blipFill>
          <a:blip r:embed="rId3"/>
          <a:stretch/>
        </p:blipFill>
        <p:spPr>
          <a:xfrm>
            <a:off x="324000" y="292428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{B728A7F7-4D1E-426D-8BC3-18405FA3E292}"/>
          <p:cNvPicPr/>
          <p:nvPr/>
        </p:nvPicPr>
        <p:blipFill>
          <a:blip r:embed="rId4"/>
          <a:stretch/>
        </p:blipFill>
        <p:spPr>
          <a:xfrm>
            <a:off x="684360" y="981000"/>
            <a:ext cx="280800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{39441403-C54E-4212-8271-6BC6585C1045}"/>
          <p:cNvPicPr/>
          <p:nvPr/>
        </p:nvPicPr>
        <p:blipFill>
          <a:blip r:embed="rId5"/>
          <a:stretch/>
        </p:blipFill>
        <p:spPr>
          <a:xfrm>
            <a:off x="468360" y="981000"/>
            <a:ext cx="3024000" cy="2043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1"/>
          <p:cNvSpPr/>
          <p:nvPr/>
        </p:nvSpPr>
        <p:spPr>
          <a:xfrm>
            <a:off x="3995640" y="1909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932360" y="285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335560" y="981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дения, неисп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вентарь, нару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сциплин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364000" y="19033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, нарушение целостности кожного покро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77080" y="3068640"/>
            <a:ext cx="50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работка окружности раны антисепт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ложение повя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6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6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600"/>
                            </p:stCondLst>
                            <p:childTnLst>
                              <p:par>
                                <p:cTn id="29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6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6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427640" y="1052640"/>
            <a:ext cx="41767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332000" y="333360"/>
            <a:ext cx="640872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вотечения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9" descr="{F337F3B6-C72C-4863-A45B-015F4048AF4C}"/>
          <p:cNvPicPr/>
          <p:nvPr/>
        </p:nvPicPr>
        <p:blipFill>
          <a:blip r:embed="rId4"/>
          <a:stretch/>
        </p:blipFill>
        <p:spPr>
          <a:xfrm>
            <a:off x="395280" y="1197000"/>
            <a:ext cx="3457440" cy="276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{15F62B38-96EE-499B-A4F6-FBCEFA88FCA2}"/>
          <p:cNvPicPr/>
          <p:nvPr/>
        </p:nvPicPr>
        <p:blipFill>
          <a:blip r:embed="rId5"/>
          <a:stretch/>
        </p:blipFill>
        <p:spPr>
          <a:xfrm>
            <a:off x="395280" y="3860640"/>
            <a:ext cx="3457440" cy="259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Object 12"/>
          <p:cNvGraphicFramePr/>
          <p:nvPr/>
        </p:nvGraphicFramePr>
        <p:xfrm>
          <a:off x="395280" y="1052640"/>
          <a:ext cx="3457440" cy="28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052640"/>
                    <a:ext cx="345744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4"/>
          <p:cNvSpPr/>
          <p:nvPr/>
        </p:nvSpPr>
        <p:spPr>
          <a:xfrm>
            <a:off x="586728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79600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50872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500720" y="1413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резы, падения, столкновения при выполнение упражне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500720" y="2205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оловокружение потеря сознания, слабость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500720" y="3068640"/>
            <a:ext cx="391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врежденную конечность приподнять, наложить тугую повязку или жгут (при сильном кровоте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11280" y="4941720"/>
            <a:ext cx="7993080" cy="67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гут нельзя держать в затянутом положении более 1,5-2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11280" y="5618160"/>
            <a:ext cx="79930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репить записку с датой и временем наложения жг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11280" y="6237360"/>
            <a:ext cx="7993080" cy="40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необходимо СРОЧНО доставить к вр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611280" y="4437000"/>
            <a:ext cx="799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95280" y="404640"/>
            <a:ext cx="820908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Перел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50920" y="3933720"/>
            <a:ext cx="727236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356000" y="1239840"/>
            <a:ext cx="45370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551448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084720" y="1197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941440" y="1700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500720" y="191628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резкая боль, припухлость, кровоподтек в области травмы, невозможность совершать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24360" y="3357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Arial Narrow"/>
              </a:rPr>
              <a:t>обеспечить неподвижность и наложить 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3" descr="перелом"/>
          <p:cNvPicPr/>
          <p:nvPr/>
        </p:nvPicPr>
        <p:blipFill>
          <a:blip r:embed="rId1"/>
          <a:stretch/>
        </p:blipFill>
        <p:spPr>
          <a:xfrm>
            <a:off x="179280" y="1525680"/>
            <a:ext cx="4038840" cy="1771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{2D0F55F1-1BE8-427C-9B99-45063492CF9F}"/>
          <p:cNvPicPr/>
          <p:nvPr/>
        </p:nvPicPr>
        <p:blipFill>
          <a:blip r:embed="rId2"/>
          <a:stretch/>
        </p:blipFill>
        <p:spPr>
          <a:xfrm>
            <a:off x="468360" y="12524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9"/>
          <p:cNvSpPr/>
          <p:nvPr/>
        </p:nvSpPr>
        <p:spPr>
          <a:xfrm>
            <a:off x="5508720" y="29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611280" y="4581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олжна захватить не менее чем 2 суста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 и ниже перел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971640" y="5229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шину следует обязательно подложи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ую-нибудь мягкую проклад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1332000" y="587700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следует срочно достави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324000" y="333360"/>
            <a:ext cx="820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067280" y="1125360"/>
            <a:ext cx="4752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95280" y="3789360"/>
            <a:ext cx="7207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327480" y="33336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В ы в и 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522540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651640" y="1125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582160" y="1700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297760" y="29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4140360" y="19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ильная боль, опухоль сустава, невозможность двигать конеч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635280" y="3213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 Narrow"/>
              </a:rPr>
              <a:t>фиксация поврежденной конечности,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{7D0847F3-A7E7-4E6A-A33F-B2DD135D9BBF}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{001C51B7-FD14-4960-9B90-68C1CAC4AA38}"/>
          <p:cNvPicPr/>
          <p:nvPr/>
        </p:nvPicPr>
        <p:blipFill>
          <a:blip r:embed="rId2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2"/>
          <p:cNvSpPr/>
          <p:nvPr/>
        </p:nvSpPr>
        <p:spPr>
          <a:xfrm>
            <a:off x="755640" y="4365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их – это стойкое смещение концов к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щих в один суста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1116000" y="501336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верхней коне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у следует подвесить на кос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1476360" y="5661000"/>
            <a:ext cx="720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 пострадавшего нужно уложить на носилки и д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ечебн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500"/>
                            </p:stCondLst>
                            <p:childTnLst>
                              <p:par>
                                <p:cTn id="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539640" y="476280"/>
            <a:ext cx="813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У ш и б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411280" y="4221000"/>
            <a:ext cx="619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3" descr="{574A6673-7325-41BA-A959-1D1D2D76D160}"/>
          <p:cNvPicPr/>
          <p:nvPr/>
        </p:nvPicPr>
        <p:blipFill>
          <a:blip r:embed="rId1"/>
          <a:stretch/>
        </p:blipFill>
        <p:spPr>
          <a:xfrm>
            <a:off x="468360" y="1197000"/>
            <a:ext cx="3757680" cy="2817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4427640" y="1197000"/>
            <a:ext cx="4321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298480" y="1557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724360" y="126828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65488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5796000" y="3141720"/>
            <a:ext cx="18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427640" y="220500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оль, припухлость, кровоподтеки, небольшое нарушение фун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5148360" y="3500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Arial Narrow"/>
              </a:rPr>
              <a:t>На место ушиба следует приложить хол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1979640" y="4797360"/>
            <a:ext cx="6192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й части тела важно создать возвышенное по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547640" y="5516640"/>
            <a:ext cx="619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ть покой и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1116000" y="6093000"/>
            <a:ext cx="6192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ить тугую повяз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5" descr="{7D0847F3-A7E7-4E6A-A33F-B2DD135D9BBF}"/>
          <p:cNvPicPr/>
          <p:nvPr/>
        </p:nvPicPr>
        <p:blipFill>
          <a:blip r:embed="rId2"/>
          <a:stretch/>
        </p:blipFill>
        <p:spPr>
          <a:xfrm>
            <a:off x="468360" y="1197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6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4:46:31Z</dcterms:created>
  <dc:creator>Computer1</dc:creator>
  <dc:description/>
  <dc:language>en-US</dc:language>
  <cp:lastModifiedBy>User</cp:lastModifiedBy>
  <dcterms:modified xsi:type="dcterms:W3CDTF">2021-09-15T02:18:05Z</dcterms:modified>
  <cp:revision>9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опрос">
    <vt:lpwstr>????</vt:lpwstr>
  </property>
</Properties>
</file>