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AD04-554A-4D90-9DCA-447C2378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D03-0DA4-452C-B6AE-EF54AC9E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427-B020-4C06-BBF8-175F544A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5F5-DCFE-4E47-B89B-2CE9A5183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67C8-D84F-4EC7-8B3E-4D8E8504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787A-ECF7-4719-AF46-DF23EDA6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5245-67A1-47A1-941A-CA1522A7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C061-A1BC-4C79-8AE2-72248BD5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6F98-8B91-4642-BAC8-F564A5B1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92F9-B0D7-4663-80AD-4473D385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A68B-FD25-4A8E-94D8-052D6FF2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CE5-CBE7-4735-B4B0-49171582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6991-6252-40AB-9F9B-F55CA69E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83AE-219B-4638-8070-3B095EA0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632E-7BBB-4F88-8A39-B27C577D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3E00-584D-42F7-B225-F900D19A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F290-3D81-4C21-A7EF-345D31D1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5E425-BAF6-4EBB-BB02-3D8FE56E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FE125-C0FF-4FA3-937A-4C16DB30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AE663-6746-4994-A4BE-D088C552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7F4E5-812A-42B2-9092-411C2C29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75D3B-D009-43FD-A25D-24DD9685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8454-CDA5-491A-835D-3FE40A25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F6C30-B329-461C-9BC3-0EF98788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70021-0488-494C-9BFA-123D2F65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C543D-9589-4A51-A09D-20C9026F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9E0B9-B393-431C-8F17-57D477AE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9F946-25F5-4EC2-8919-23B7EAC3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93571-6BE9-4F88-AA7E-C43233D8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5BC70-2640-4830-A98C-3FEE6ADD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8D5E-2167-40E7-A996-44A1B4AD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867-1525-41C1-A141-28D98303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49C-4FF8-4607-998C-53B8A586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B7C-3326-466C-B39D-295CAFFE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8CD-94CD-4844-B636-6BB4D607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FFEF-400E-45A6-83EC-C402E7CF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37D4-F4CB-4A1A-AD9C-93A922DBD4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EA96-60DA-435E-BEF5-BFEE6951D99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EAEC-8A1A-4B31-BBA3-16411282068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1000080" y="1571760"/>
            <a:ext cx="7715160" cy="33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ТЕХНИКА БЕЗОПАСНОС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НА УРОКА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ФИЗИЧЕСКОЙ КУЛЬТУР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55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1155" fill="hold"/>
                                        <p:tgtEl>
                                          <p:spTgt spid="1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115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1155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8"/>
          <p:cNvSpPr/>
          <p:nvPr/>
        </p:nvSpPr>
        <p:spPr>
          <a:xfrm>
            <a:off x="179280" y="3573360"/>
            <a:ext cx="871380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достаточная тренированность и форсированная нагру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179280" y="4221000"/>
            <a:ext cx="8713800" cy="48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Пренебрежительное отношение к разми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179280" y="2924280"/>
            <a:ext cx="87138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oor Richard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Отсутствие страховки и самострахов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79280" y="1916280"/>
            <a:ext cx="8713800" cy="122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благоприятные погодные условия и несоответствующая виду спорта или месту занятий одежда и обув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79280" y="907920"/>
            <a:ext cx="8713800" cy="855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удовлетворительная подготовка мест занятий, оборудо-вания  и  инвент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79280" y="4869000"/>
            <a:ext cx="8713800" cy="88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изкая поведенческая культура учащихся</a:t>
            </a:r>
            <a:r>
              <a:rPr b="1" lang="ru-RU" sz="2600" spc="-1" strike="noStrike">
                <a:solidFill>
                  <a:srgbClr val="000000"/>
                </a:solidFill>
                <a:latin typeface="Poor Richard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несоблюдение дисциплины</a:t>
            </a:r>
            <a:r>
              <a:rPr b="1" lang="ru-RU" sz="2600" spc="-1" strike="noStrike">
                <a:solidFill>
                  <a:srgbClr val="000000"/>
                </a:solidFill>
                <a:latin typeface="Poor Richard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17"/>
          <p:cNvSpPr txBox="1"/>
          <p:nvPr/>
        </p:nvSpPr>
        <p:spPr>
          <a:xfrm>
            <a:off x="468360" y="115920"/>
            <a:ext cx="806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Book Antiqua"/>
              </a:rPr>
              <a:t>Основные причины травматизм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Book Antiqua"/>
              <a:ea typeface="Book Antiqua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179280" y="5877000"/>
            <a:ext cx="8713800" cy="855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Poor Richard"/>
              </a:rPr>
              <a:t>Отсутствие медицинского контроля и нарушение врачеб-ных требов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8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7"/>
          <p:cNvSpPr/>
          <p:nvPr/>
        </p:nvSpPr>
        <p:spPr>
          <a:xfrm>
            <a:off x="755640" y="5877000"/>
            <a:ext cx="7416720" cy="482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cc"/>
                </a:solidFill>
                <a:latin typeface="Times New Roman"/>
              </a:rPr>
              <a:t>ЕСЛИ ЧЕЛОВЕК ПОПАЛ В БЕДУ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8"/>
          <p:cNvSpPr/>
          <p:nvPr/>
        </p:nvSpPr>
        <p:spPr>
          <a:xfrm>
            <a:off x="324000" y="549360"/>
            <a:ext cx="820728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755640" y="3141720"/>
            <a:ext cx="4010040" cy="1203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Arial"/>
              </a:rPr>
              <a:t>Виды трав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0"/>
          <p:cNvSpPr/>
          <p:nvPr/>
        </p:nvSpPr>
        <p:spPr>
          <a:xfrm>
            <a:off x="5724360" y="2205000"/>
            <a:ext cx="266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раны, ссадины, пор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5724360" y="2852640"/>
            <a:ext cx="26654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кровоте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2"/>
          <p:cNvSpPr/>
          <p:nvPr/>
        </p:nvSpPr>
        <p:spPr>
          <a:xfrm>
            <a:off x="5724360" y="350028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уши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5724360" y="414972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вывих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4"/>
          <p:cNvSpPr/>
          <p:nvPr/>
        </p:nvSpPr>
        <p:spPr>
          <a:xfrm>
            <a:off x="5724360" y="479736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перел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1"/>
          <p:cNvSpPr/>
          <p:nvPr/>
        </p:nvSpPr>
        <p:spPr>
          <a:xfrm>
            <a:off x="5292720" y="306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"/>
          <p:cNvSpPr/>
          <p:nvPr/>
        </p:nvSpPr>
        <p:spPr>
          <a:xfrm>
            <a:off x="5292720" y="429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4788000" y="37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529272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5"/>
          <p:cNvSpPr/>
          <p:nvPr/>
        </p:nvSpPr>
        <p:spPr>
          <a:xfrm>
            <a:off x="529272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5292720" y="234936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3"/>
          <p:cNvSpPr/>
          <p:nvPr/>
        </p:nvSpPr>
        <p:spPr>
          <a:xfrm>
            <a:off x="468360" y="60948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990033"/>
                </a:solidFill>
                <a:latin typeface="Poor Richard"/>
              </a:rPr>
              <a:t>Не соблюдение ТБ на уроках физической культуры приводит к травмам</a:t>
            </a:r>
            <a:r>
              <a:rPr b="1" lang="ru-RU" sz="28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6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500"/>
                            </p:stCondLst>
                            <p:childTnLst>
                              <p:par>
                                <p:cTn id="1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6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6"/>
          <p:cNvSpPr txBox="1"/>
          <p:nvPr/>
        </p:nvSpPr>
        <p:spPr>
          <a:xfrm rot="20730600">
            <a:off x="684000" y="1557360"/>
            <a:ext cx="6984720" cy="21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00ffff"/>
                    </a:gs>
                    <a:gs pos="100000">
                      <a:srgbClr val="0000ff"/>
                    </a:gs>
                  </a:gsLst>
                  <a:lin ang="171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най и ум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00ffff"/>
                  </a:gs>
                  <a:gs pos="100000">
                    <a:srgbClr val="0000ff"/>
                  </a:gs>
                </a:gsLst>
                <a:lin ang="171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1077840" y="333360"/>
            <a:ext cx="80661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022560" y="4653000"/>
            <a:ext cx="543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Book Antiqua"/>
              </a:rPr>
              <a:t>Первая помощь при трав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539640" y="333360"/>
            <a:ext cx="8064720" cy="503280"/>
          </a:xfrm>
          <a:prstGeom prst="rect">
            <a:avLst/>
          </a:prstGeom>
          <a:solidFill>
            <a:srgbClr val="afc4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851280" y="907920"/>
            <a:ext cx="4753080" cy="19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2050920" y="260280"/>
            <a:ext cx="48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ны, ссадины, поре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399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9"/>
          <p:cNvSpPr/>
          <p:nvPr/>
        </p:nvSpPr>
        <p:spPr>
          <a:xfrm>
            <a:off x="1116000" y="4581360"/>
            <a:ext cx="7201080" cy="717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Водой рану промывать не следу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0"/>
          <p:cNvSpPr/>
          <p:nvPr/>
        </p:nvSpPr>
        <p:spPr>
          <a:xfrm>
            <a:off x="900000" y="537372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Ни в коем случае не прикладывать к ней землю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2"/>
          <p:cNvSpPr/>
          <p:nvPr/>
        </p:nvSpPr>
        <p:spPr>
          <a:xfrm>
            <a:off x="611280" y="6093000"/>
            <a:ext cx="72007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Если рана глубокая немедленно доставить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Black"/>
              </a:rPr>
              <a:t>пострадавшего в медицинское учрежде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4"/>
          <p:cNvSpPr/>
          <p:nvPr/>
        </p:nvSpPr>
        <p:spPr>
          <a:xfrm>
            <a:off x="1403280" y="3860640"/>
            <a:ext cx="7201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5" descr="{7C252B70-2007-4660-A558-00CF08157FBE}"/>
          <p:cNvPicPr/>
          <p:nvPr/>
        </p:nvPicPr>
        <p:blipFill>
          <a:blip r:embed="rId1"/>
          <a:stretch/>
        </p:blipFill>
        <p:spPr>
          <a:xfrm>
            <a:off x="179280" y="3284640"/>
            <a:ext cx="2808360" cy="2006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6" descr="{7D0847F3-A7E7-4E6A-A33F-B2DD135D9BBF}"/>
          <p:cNvPicPr/>
          <p:nvPr/>
        </p:nvPicPr>
        <p:blipFill>
          <a:blip r:embed="rId2"/>
          <a:stretch/>
        </p:blipFill>
        <p:spPr>
          <a:xfrm>
            <a:off x="179280" y="4797360"/>
            <a:ext cx="2664000" cy="1903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7" descr="{844DAA33-02B1-42DA-AFF1-61D08A04A623}"/>
          <p:cNvPicPr/>
          <p:nvPr/>
        </p:nvPicPr>
        <p:blipFill>
          <a:blip r:embed="rId3"/>
          <a:stretch/>
        </p:blipFill>
        <p:spPr>
          <a:xfrm>
            <a:off x="324000" y="2924280"/>
            <a:ext cx="2663640" cy="1949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8" descr="{B728A7F7-4D1E-426D-8BC3-18405FA3E292}"/>
          <p:cNvPicPr/>
          <p:nvPr/>
        </p:nvPicPr>
        <p:blipFill>
          <a:blip r:embed="rId4"/>
          <a:stretch/>
        </p:blipFill>
        <p:spPr>
          <a:xfrm>
            <a:off x="684360" y="981000"/>
            <a:ext cx="2808000" cy="2022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9" descr="{39441403-C54E-4212-8271-6BC6585C1045}"/>
          <p:cNvPicPr/>
          <p:nvPr/>
        </p:nvPicPr>
        <p:blipFill>
          <a:blip r:embed="rId5"/>
          <a:stretch/>
        </p:blipFill>
        <p:spPr>
          <a:xfrm>
            <a:off x="468360" y="981000"/>
            <a:ext cx="3024000" cy="2043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1"/>
          <p:cNvSpPr/>
          <p:nvPr/>
        </p:nvSpPr>
        <p:spPr>
          <a:xfrm>
            <a:off x="3995640" y="190980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4932360" y="2852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5335560" y="98100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адения, неисправ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вентарь, нару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исциплины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364000" y="190332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ль, нарушение целостности кожного покрова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3277080" y="3068640"/>
            <a:ext cx="503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бработка окружности раны антисепти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аложение повяз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600"/>
                            </p:stCondLst>
                            <p:childTnLst>
                              <p:par>
                                <p:cTn id="2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7600"/>
                            </p:stCondLst>
                            <p:childTnLst>
                              <p:par>
                                <p:cTn id="2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9600"/>
                            </p:stCondLst>
                            <p:childTnLst>
                              <p:par>
                                <p:cTn id="2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6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16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3600"/>
                            </p:stCondLst>
                            <p:childTnLst>
                              <p:par>
                                <p:cTn id="2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6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7600"/>
                            </p:stCondLst>
                            <p:childTnLst>
                              <p:par>
                                <p:cTn id="2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9600"/>
                            </p:stCondLst>
                            <p:childTnLst>
                              <p:par>
                                <p:cTn id="284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8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8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1600"/>
                            </p:stCondLst>
                            <p:childTnLst>
                              <p:par>
                                <p:cTn id="290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9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36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6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1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1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0"/>
                            </p:stCondLst>
                            <p:childTnLst>
                              <p:par>
                                <p:cTn id="327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3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427640" y="1052640"/>
            <a:ext cx="4176720" cy="30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8"/>
          <p:cNvSpPr txBox="1"/>
          <p:nvPr/>
        </p:nvSpPr>
        <p:spPr>
          <a:xfrm>
            <a:off x="1332000" y="333360"/>
            <a:ext cx="640872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овотечения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" name="Picture 9" descr="{F337F3B6-C72C-4863-A45B-015F4048AF4C}"/>
          <p:cNvPicPr/>
          <p:nvPr/>
        </p:nvPicPr>
        <p:blipFill>
          <a:blip r:embed="rId4"/>
          <a:stretch/>
        </p:blipFill>
        <p:spPr>
          <a:xfrm>
            <a:off x="395280" y="1197000"/>
            <a:ext cx="3457440" cy="2763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{15F62B38-96EE-499B-A4F6-FBCEFA88FCA2}"/>
          <p:cNvPicPr/>
          <p:nvPr/>
        </p:nvPicPr>
        <p:blipFill>
          <a:blip r:embed="rId5"/>
          <a:stretch/>
        </p:blipFill>
        <p:spPr>
          <a:xfrm>
            <a:off x="395280" y="3860640"/>
            <a:ext cx="3457440" cy="259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Object 12"/>
          <p:cNvGraphicFramePr/>
          <p:nvPr/>
        </p:nvGraphicFramePr>
        <p:xfrm>
          <a:off x="395280" y="1052640"/>
          <a:ext cx="3457440" cy="2827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6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5280" y="1052640"/>
                    <a:ext cx="3457440" cy="28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14"/>
          <p:cNvSpPr/>
          <p:nvPr/>
        </p:nvSpPr>
        <p:spPr>
          <a:xfrm>
            <a:off x="5867280" y="1125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5796000" y="1989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5508720" y="27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500720" y="141300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орезы, падения, столкновения при выполнение упражнений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4500720" y="2205000"/>
            <a:ext cx="40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головокружение потеря сознания, слабость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4500720" y="3068640"/>
            <a:ext cx="391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оврежденную конечность приподнять, наложить тугую повязку или жгут (при сильном кровотечен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611280" y="4941720"/>
            <a:ext cx="7993080" cy="676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гут нельзя держать в затянутом положении более 1,5-2 ча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611280" y="5618160"/>
            <a:ext cx="799308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репить записку с датой и временем наложения жгу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611280" y="6237360"/>
            <a:ext cx="7993080" cy="40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адавшего необходимо СРОЧНО доставить к врач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611280" y="4437000"/>
            <a:ext cx="7993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0"/>
                            </p:stCondLst>
                            <p:childTnLst>
                              <p:par>
                                <p:cTn id="4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40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6000"/>
                            </p:stCondLst>
                            <p:childTnLst>
                              <p:par>
                                <p:cTn id="4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ddddd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395280" y="404640"/>
            <a:ext cx="8209080" cy="7207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Перело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250920" y="3933720"/>
            <a:ext cx="7272360" cy="64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5"/>
          <p:cNvSpPr/>
          <p:nvPr/>
        </p:nvSpPr>
        <p:spPr>
          <a:xfrm>
            <a:off x="4356000" y="1239840"/>
            <a:ext cx="4537080" cy="165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5514480" y="141300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6084720" y="1197000"/>
            <a:ext cx="15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5941440" y="1700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500720" y="1916280"/>
            <a:ext cx="43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резкая боль, припухлость, кровоподтек в области травмы, невозможность совершать дви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924360" y="335772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ff"/>
                </a:solidFill>
                <a:latin typeface="Arial Narrow"/>
              </a:rPr>
              <a:t>обеспечить неподвижность и наложить 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3" descr="перелом"/>
          <p:cNvPicPr/>
          <p:nvPr/>
        </p:nvPicPr>
        <p:blipFill>
          <a:blip r:embed="rId1"/>
          <a:stretch/>
        </p:blipFill>
        <p:spPr>
          <a:xfrm>
            <a:off x="179280" y="1525680"/>
            <a:ext cx="4038840" cy="1771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7" descr="{2D0F55F1-1BE8-427C-9B99-45063492CF9F}"/>
          <p:cNvPicPr/>
          <p:nvPr/>
        </p:nvPicPr>
        <p:blipFill>
          <a:blip r:embed="rId2"/>
          <a:stretch/>
        </p:blipFill>
        <p:spPr>
          <a:xfrm>
            <a:off x="468360" y="1252440"/>
            <a:ext cx="3384360" cy="253836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29"/>
          <p:cNvSpPr/>
          <p:nvPr/>
        </p:nvSpPr>
        <p:spPr>
          <a:xfrm>
            <a:off x="5508720" y="299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0"/>
          <p:cNvSpPr/>
          <p:nvPr/>
        </p:nvSpPr>
        <p:spPr>
          <a:xfrm>
            <a:off x="611280" y="458136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должна захватить не менее чем 2 сустав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ше и ниже перело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3"/>
          <p:cNvSpPr/>
          <p:nvPr/>
        </p:nvSpPr>
        <p:spPr>
          <a:xfrm>
            <a:off x="971640" y="522936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 шину следует обязательно подложит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ую-нибудь мягкую проклад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4"/>
          <p:cNvSpPr/>
          <p:nvPr/>
        </p:nvSpPr>
        <p:spPr>
          <a:xfrm>
            <a:off x="1332000" y="5877000"/>
            <a:ext cx="72723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адавшего следует срочно доставить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цинск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6000"/>
                            </p:stCondLst>
                            <p:childTnLst>
                              <p:par>
                                <p:cTn id="5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000"/>
                            </p:stCondLst>
                            <p:childTnLst>
                              <p:par>
                                <p:cTn id="5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6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324000" y="333360"/>
            <a:ext cx="82087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067280" y="1125360"/>
            <a:ext cx="475272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95280" y="3789360"/>
            <a:ext cx="72072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Запомнит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3327480" y="333360"/>
            <a:ext cx="261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cc"/>
                </a:solidFill>
                <a:latin typeface="Arial"/>
              </a:rPr>
              <a:t>В ы в и х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5225400" y="141300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651640" y="1125360"/>
            <a:ext cx="15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582160" y="17002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5297760" y="29242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8"/>
          <p:cNvSpPr/>
          <p:nvPr/>
        </p:nvSpPr>
        <p:spPr>
          <a:xfrm>
            <a:off x="4140360" y="1989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сильная боль, опухоль сустава, невозможность двигать конечност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3635280" y="321300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cc"/>
                </a:solidFill>
                <a:latin typeface="Arial Narrow"/>
              </a:rPr>
              <a:t>фиксация поврежденной конечности, не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0" descr="{7D0847F3-A7E7-4E6A-A33F-B2DD135D9BBF}"/>
          <p:cNvPicPr/>
          <p:nvPr/>
        </p:nvPicPr>
        <p:blipFill>
          <a:blip r:embed="rId1"/>
          <a:stretch/>
        </p:blipFill>
        <p:spPr>
          <a:xfrm>
            <a:off x="324000" y="1197000"/>
            <a:ext cx="3168360" cy="2376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1" descr="{001C51B7-FD14-4960-9B90-68C1CAC4AA38}"/>
          <p:cNvPicPr/>
          <p:nvPr/>
        </p:nvPicPr>
        <p:blipFill>
          <a:blip r:embed="rId2"/>
          <a:stretch/>
        </p:blipFill>
        <p:spPr>
          <a:xfrm>
            <a:off x="324000" y="1197000"/>
            <a:ext cx="3168360" cy="23763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22"/>
          <p:cNvSpPr/>
          <p:nvPr/>
        </p:nvSpPr>
        <p:spPr>
          <a:xfrm>
            <a:off x="755640" y="436572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их – это стойкое смещение концов косте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ходящих в один суста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1116000" y="5013360"/>
            <a:ext cx="720108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вывихе сустава верхней конечн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у следует подвесить на косы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5"/>
          <p:cNvSpPr/>
          <p:nvPr/>
        </p:nvSpPr>
        <p:spPr>
          <a:xfrm>
            <a:off x="1476360" y="5661000"/>
            <a:ext cx="7201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вывихе сустава нижней конечности пострадавшего нужно уложить на носилки и достав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лечебное учреж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7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4500"/>
                            </p:stCondLst>
                            <p:childTnLst>
                              <p:par>
                                <p:cTn id="5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000"/>
                            </p:stCondLst>
                            <p:childTnLst>
                              <p:par>
                                <p:cTn id="6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6000"/>
                            </p:stCondLst>
                            <p:childTnLst>
                              <p:par>
                                <p:cTn id="6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76869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539640" y="476280"/>
            <a:ext cx="8136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cc"/>
                </a:solidFill>
                <a:latin typeface="Arial"/>
              </a:rPr>
              <a:t>У ш и б 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2411280" y="4221000"/>
            <a:ext cx="619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3" descr="{574A6673-7325-41BA-A959-1D1D2D76D160}"/>
          <p:cNvPicPr/>
          <p:nvPr/>
        </p:nvPicPr>
        <p:blipFill>
          <a:blip r:embed="rId1"/>
          <a:stretch/>
        </p:blipFill>
        <p:spPr>
          <a:xfrm>
            <a:off x="468360" y="1197000"/>
            <a:ext cx="3757680" cy="2817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5"/>
          <p:cNvSpPr/>
          <p:nvPr/>
        </p:nvSpPr>
        <p:spPr>
          <a:xfrm>
            <a:off x="4427640" y="1197000"/>
            <a:ext cx="432108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298480" y="155736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падение, сильный у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5724360" y="1268280"/>
            <a:ext cx="153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чи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5654880" y="184464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пто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5796000" y="3141720"/>
            <a:ext cx="18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Первая помощ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427640" y="220500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Narrow"/>
              </a:rPr>
              <a:t>боль, припухлость, кровоподтеки, небольшое нарушение функ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5148360" y="3500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Arial Narrow"/>
              </a:rPr>
              <a:t>На место ушиба следует приложить хол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2"/>
          <p:cNvSpPr/>
          <p:nvPr/>
        </p:nvSpPr>
        <p:spPr>
          <a:xfrm>
            <a:off x="1979640" y="4797360"/>
            <a:ext cx="61927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адавшей части тела важно создать возвышенное поло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3"/>
          <p:cNvSpPr/>
          <p:nvPr/>
        </p:nvSpPr>
        <p:spPr>
          <a:xfrm>
            <a:off x="1547640" y="5516640"/>
            <a:ext cx="6193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ить покой и не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4"/>
          <p:cNvSpPr/>
          <p:nvPr/>
        </p:nvSpPr>
        <p:spPr>
          <a:xfrm>
            <a:off x="1116000" y="6093000"/>
            <a:ext cx="6192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ожить тугую повяз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5" descr="{7D0847F3-A7E7-4E6A-A33F-B2DD135D9BBF}"/>
          <p:cNvPicPr/>
          <p:nvPr/>
        </p:nvPicPr>
        <p:blipFill>
          <a:blip r:embed="rId2"/>
          <a:stretch/>
        </p:blipFill>
        <p:spPr>
          <a:xfrm>
            <a:off x="468360" y="119700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16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6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6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6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6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6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6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6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6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000"/>
                            </p:stCondLst>
                            <p:childTnLst>
                              <p:par>
                                <p:cTn id="6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000"/>
                            </p:stCondLst>
                            <p:childTnLst>
                              <p:par>
                                <p:cTn id="7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4:46:31Z</dcterms:created>
  <dc:creator>Computer1</dc:creator>
  <dc:description/>
  <dc:language>en-US</dc:language>
  <cp:lastModifiedBy>User</cp:lastModifiedBy>
  <dcterms:modified xsi:type="dcterms:W3CDTF">2021-09-15T02:18:05Z</dcterms:modified>
  <cp:revision>9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Вопрос">
    <vt:lpwstr>????</vt:lpwstr>
  </property>
</Properties>
</file>