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07B-6B79-465B-ADD1-C6CB9947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EF7-80E3-4DC4-A538-240605D7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4A7-B3D1-4695-AB5F-FABC80E5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B2C-E982-4B9E-BC7D-F1D62F12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49858-96F0-45AD-825A-36C4A509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9321E-953C-47AD-B139-7A47E828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4EF19-9320-40B7-B09E-7C8FFE7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85107-E27C-4E92-9C0F-ED9653E7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8F17C-4D93-4AC7-AC40-89CF0887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AC6CB-049F-44DE-A767-8EAB394A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6BEFB-90E1-4F68-8AA6-73A09B18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79C-7B02-48E9-92C0-7136A4C2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3338D-FE27-4ED3-9FD1-912CB9B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09C6B-2D85-491B-A0DE-AF95143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5CDB9-9212-4FF6-95F2-FA89C63A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4BE01-3011-4481-A073-C75408E1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947BE-08F3-4F9C-8129-D4D94EF4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6A6-AB84-4780-953C-45BBA768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B42-8CBE-4936-9948-1BD27419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FE5-80F5-4674-9F6E-5CC6615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E65-6CA9-4014-A624-AC8F7E4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5E3-F706-40EC-8BB6-0569BDF8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9E3-4D80-4A18-B867-385FB54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ADE-92DB-4101-BEE9-2C124E82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58D8-D6C5-422A-92EC-1B251BAB6E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8CA3-953D-469C-9C9A-F42736605D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2840"/>
            <a:ext cx="6019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3" descr="cat42"/>
          <p:cNvPicPr/>
          <p:nvPr/>
        </p:nvPicPr>
        <p:blipFill>
          <a:blip r:embed="rId1"/>
          <a:stretch/>
        </p:blipFill>
        <p:spPr>
          <a:xfrm>
            <a:off x="498600" y="4267080"/>
            <a:ext cx="1422360" cy="2248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727200" y="2890800"/>
            <a:ext cx="75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826920" y="333360"/>
            <a:ext cx="7632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Республика Саха (Якутия)</a:t>
            </a:r>
            <a:br>
              <a:rPr sz="2000"/>
            </a:br>
            <a:r>
              <a:rPr b="1" lang="ru-RU" sz="20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Олёкминский район</a:t>
            </a:r>
            <a:br>
              <a:rPr sz="2000"/>
            </a:br>
            <a:r>
              <a:rPr b="1" lang="ru-RU" sz="20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МБОУ «Средняя общеобразовательная школа №2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419640" y="4267080"/>
            <a:ext cx="53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Корчагина Галина Анатольев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843280" y="631512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ёкминск - 202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324000" y="1916280"/>
            <a:ext cx="8569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ласс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ренажёр по русскому языку 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3"/>
          <p:cNvSpPr/>
          <p:nvPr/>
        </p:nvSpPr>
        <p:spPr>
          <a:xfrm flipV="1">
            <a:off x="3059280" y="3212640"/>
            <a:ext cx="2520720" cy="1295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3"/>
          <p:cNvSpPr/>
          <p:nvPr/>
        </p:nvSpPr>
        <p:spPr>
          <a:xfrm>
            <a:off x="3203640" y="2565360"/>
            <a:ext cx="2232000" cy="1871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Прямая соединительная линия 4"/>
          <p:cNvSpPr/>
          <p:nvPr/>
        </p:nvSpPr>
        <p:spPr>
          <a:xfrm>
            <a:off x="2700360" y="3141720"/>
            <a:ext cx="2808360" cy="647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Прямая соединительная линия 5"/>
          <p:cNvSpPr/>
          <p:nvPr/>
        </p:nvSpPr>
        <p:spPr>
          <a:xfrm flipV="1">
            <a:off x="2268360" y="2491920"/>
            <a:ext cx="3167280" cy="136836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Прямая соединительная линия 6"/>
          <p:cNvSpPr/>
          <p:nvPr/>
        </p:nvSpPr>
        <p:spPr>
          <a:xfrm flipV="1">
            <a:off x="3059280" y="3141720"/>
            <a:ext cx="2449440" cy="129528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шебник, колдун, строитель, чаро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лекается, забавляется, веселится, скуча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отное, зверь, хвос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ат, ленточка, верёв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ловек, шут, клоу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шебник, колдун, чаро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лекается, забавляется, весели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отное, звер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ат, верёв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ут, клоу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4280" y="141264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324000" y="2708280"/>
            <a:ext cx="7993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цы !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Picture 6" descr="cat42"/>
          <p:cNvPicPr/>
          <p:nvPr/>
        </p:nvPicPr>
        <p:blipFill>
          <a:blip r:embed="rId1"/>
          <a:stretch/>
        </p:blipFill>
        <p:spPr>
          <a:xfrm flipH="1">
            <a:off x="7775280" y="5170320"/>
            <a:ext cx="1081080" cy="1516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льный, добрый, могуч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– это слова, близкие по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отвечают на один и тот же вопро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льный, могуч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– это слова, близкие по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отвечают на один и тот же вопро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3"/>
          <p:cNvSpPr/>
          <p:nvPr/>
        </p:nvSpPr>
        <p:spPr>
          <a:xfrm>
            <a:off x="3203640" y="2565360"/>
            <a:ext cx="2232000" cy="1871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2771640" y="3213000"/>
            <a:ext cx="2737080" cy="57636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3"/>
          <p:cNvSpPr/>
          <p:nvPr/>
        </p:nvSpPr>
        <p:spPr>
          <a:xfrm flipV="1">
            <a:off x="2195640" y="2420640"/>
            <a:ext cx="3313080" cy="1439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1-05T05:44:13Z</dcterms:modified>
  <cp:revision>92</cp:revision>
  <dc:subject/>
  <dc:title>PowerPoint Presentation</dc:title>
</cp:coreProperties>
</file>