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77BD-04D1-4311-A4E0-CA58BBAF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328D-20A6-40FD-B626-6C154B03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6211-0968-4960-859F-887F9EB0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CFF7-3D3B-4648-AAB1-A6D15714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468CF-6654-4E22-9D82-6574A4CC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885BC-AFB5-41C4-9B38-3ADA9770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878BA-F75F-4993-9090-64CD91D6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DBA74-7AFD-4DC7-93C1-F905A487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20B72-258A-48EC-86A9-C16EEA54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CA672-E372-4A5B-89EE-E0C17432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B0452-A28D-41AB-A5E4-0DFFDA45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24FB-D7AE-468E-ADAB-AFBF6ADA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F206A-202A-4076-9285-A30E2340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D8279-1E20-4907-A2DB-C97A7323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03772-41CA-42FF-991A-A19A9F60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9E5EF-0C7E-43A7-8A01-8D0B042F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C7F97-927A-4C30-8389-B6C282F9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1596-D78E-4D25-B84C-2D627D37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8543-B33B-4412-B7AE-51ED7129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CAED-7841-4D24-8DD3-CD0C58B8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78BA-64DE-4C50-A726-EF4481F2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9178-B23D-4C94-877F-2450CBDA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7B69-E881-406E-82BD-F015454A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227A-6C75-486D-BF94-8125E48F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BA18-0015-400A-AD91-E78866B150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8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8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8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8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8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9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B07E-40E8-47F0-9342-6D288E97F4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560" y="2742840"/>
            <a:ext cx="601956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e3e3ff"/>
                </a:solidFill>
                <a:latin typeface="Arial"/>
              </a:rPr>
              <a:t>    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Picture 3" descr="cat42"/>
          <p:cNvPicPr/>
          <p:nvPr/>
        </p:nvPicPr>
        <p:blipFill>
          <a:blip r:embed="rId1"/>
          <a:stretch/>
        </p:blipFill>
        <p:spPr>
          <a:xfrm>
            <a:off x="498600" y="4267080"/>
            <a:ext cx="1422360" cy="22482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727200" y="2890800"/>
            <a:ext cx="759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826920" y="333360"/>
            <a:ext cx="7632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dada"/>
                </a:solidFill>
                <a:latin typeface="Times New Roman"/>
                <a:ea typeface="Times New Roman"/>
              </a:rPr>
              <a:t>Республика Саха (Якутия)</a:t>
            </a:r>
            <a:br>
              <a:rPr sz="2000"/>
            </a:br>
            <a:r>
              <a:rPr b="1" lang="ru-RU" sz="2000" spc="-1" strike="noStrike">
                <a:solidFill>
                  <a:srgbClr val="dadada"/>
                </a:solidFill>
                <a:latin typeface="Times New Roman"/>
                <a:ea typeface="Times New Roman"/>
              </a:rPr>
              <a:t>Олёкминский район</a:t>
            </a:r>
            <a:br>
              <a:rPr sz="2000"/>
            </a:br>
            <a:r>
              <a:rPr b="1" lang="ru-RU" sz="2000" spc="-1" strike="noStrike">
                <a:solidFill>
                  <a:srgbClr val="dadada"/>
                </a:solidFill>
                <a:latin typeface="Times New Roman"/>
                <a:ea typeface="Times New Roman"/>
              </a:rPr>
              <a:t>МБОУ «Средняя общеобразовательная школа №2»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3419640" y="4267080"/>
            <a:ext cx="53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а Корчагина Галина Анатольевн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843280" y="6315120"/>
            <a:ext cx="33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ёкминск - 202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324000" y="1916280"/>
            <a:ext cx="8569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ой класс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Тренажёр по русскому языку »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Соедини синонимы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асивый                      Прия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рный                          Торже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                               Пред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здник                       Прекрас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Соедини синонимы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асивый                      Прия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рный                          Торже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                               Пред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здник                       Прекрас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рямая соединительная линия 3"/>
          <p:cNvSpPr/>
          <p:nvPr/>
        </p:nvSpPr>
        <p:spPr>
          <a:xfrm flipV="1">
            <a:off x="3059280" y="3212640"/>
            <a:ext cx="2520720" cy="129564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wipe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Соедини синонимы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асивый                      Прия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рный                          Торже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                               Пред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здник                       Прекрас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ая соединительная линия 3"/>
          <p:cNvSpPr/>
          <p:nvPr/>
        </p:nvSpPr>
        <p:spPr>
          <a:xfrm>
            <a:off x="3203640" y="2565360"/>
            <a:ext cx="2232000" cy="187164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Прямая соединительная линия 4"/>
          <p:cNvSpPr/>
          <p:nvPr/>
        </p:nvSpPr>
        <p:spPr>
          <a:xfrm>
            <a:off x="2700360" y="3141720"/>
            <a:ext cx="2808360" cy="64764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Прямая соединительная линия 5"/>
          <p:cNvSpPr/>
          <p:nvPr/>
        </p:nvSpPr>
        <p:spPr>
          <a:xfrm flipV="1">
            <a:off x="2268360" y="2491920"/>
            <a:ext cx="3167280" cy="136836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Прямая соединительная линия 6"/>
          <p:cNvSpPr/>
          <p:nvPr/>
        </p:nvSpPr>
        <p:spPr>
          <a:xfrm flipV="1">
            <a:off x="3059280" y="3141720"/>
            <a:ext cx="2449440" cy="129528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Найди лишнее слово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лшебник, колдун, строитель, чарод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влекается, забавляется, веселится, скуча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ивотное, зверь, хвос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нат, ленточка, верёв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еловек, шут, клоун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Найди лишнее слово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лшебник, колдун, чарод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влекается, забавляется, веселитс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ивотное, звер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нат, верёв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ут, клоун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4280" y="1412640"/>
            <a:ext cx="87854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324000" y="2708280"/>
            <a:ext cx="7993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8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лодцы !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6" name="Picture 6" descr="cat42"/>
          <p:cNvPicPr/>
          <p:nvPr/>
        </p:nvPicPr>
        <p:blipFill>
          <a:blip r:embed="rId1"/>
          <a:stretch/>
        </p:blipFill>
        <p:spPr>
          <a:xfrm flipH="1">
            <a:off x="7775280" y="5170320"/>
            <a:ext cx="1081080" cy="1516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Найди лишнее слово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льный, добрый, могуч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онимы – это слова, близкие по знач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онимы отвечают на один и тот же вопро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Найди лишнее слово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льный, могуч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онимы – это слова, близкие по знач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онимы отвечают на один и тот же вопро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Соедини синонимы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асивый                      Прия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рный                          Торже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                               Пред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здник                       Прекрас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Соедини синонимы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асивый                      Прия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рный                          Торже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                               Пред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здник                       Прекрас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ая соединительная линия 3"/>
          <p:cNvSpPr/>
          <p:nvPr/>
        </p:nvSpPr>
        <p:spPr>
          <a:xfrm>
            <a:off x="3203640" y="2565360"/>
            <a:ext cx="2232000" cy="187164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Соедини синонимы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асивый                      Прия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рный                          Торже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                               Пред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здник                       Прекрас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Соедини синонимы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асивый                      Прия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рный                          Торже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                               Пред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здник                       Прекрас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ая соединительная линия 3"/>
          <p:cNvSpPr/>
          <p:nvPr/>
        </p:nvSpPr>
        <p:spPr>
          <a:xfrm>
            <a:off x="2771640" y="3213000"/>
            <a:ext cx="2737080" cy="57636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Соедини синонимы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асивый                      Прия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рный                          Торже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                               Пред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здник                       Прекрас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Соедини синонимы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асивый                      Прия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рный                          Торже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                               Пред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здник                       Прекрас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ая соединительная линия 3"/>
          <p:cNvSpPr/>
          <p:nvPr/>
        </p:nvSpPr>
        <p:spPr>
          <a:xfrm flipV="1">
            <a:off x="2195640" y="2420640"/>
            <a:ext cx="3313080" cy="143964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4-01-05T05:44:13Z</dcterms:modified>
  <cp:revision>92</cp:revision>
  <dc:subject/>
  <dc:title>PowerPoint Presentation</dc:title>
</cp:coreProperties>
</file>