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B3AA-DE98-4BFC-90AB-67C2FFC1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B81-4D32-4E52-AE0F-465EE37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8CA-6F33-4EA6-874F-4ED815A0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BE9-3D15-4DCF-B711-D10FD1FC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E11CC-B6A8-491C-9786-74CD270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AF2BF-71CC-4E51-B44C-46DC0D70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81DCB-DA4C-4F4D-8E10-C91168DE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54672-7E05-4324-83A5-0352AAD4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534C9-3F17-460C-A2ED-67832419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4E45E-C0A0-4298-8C9B-E45B2BCC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4B516-EDB5-4FE6-9B4A-3135858B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420-8366-4ADF-9EA8-A76709B4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E2059-0EDB-4D7B-92AA-0BA969F5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1644A-EFC7-4123-9A3F-4F5DB562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43CC-D174-4601-8A4D-DA09C7D6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8E812-5E4B-4400-ADDE-CF7631F2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9C570-0AFD-4354-879D-163BBB56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E51-0D69-4341-8BFF-CF6B5A4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64EE-6064-4273-AD96-B843522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9E2C-4FAE-46B6-800E-61A763DC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48C-C11A-4ABA-8C5B-224E7808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51F-6E64-4C54-87A1-24D548CB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C42-7AD1-4A80-BD94-25C091DE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46C-7611-4847-8F0F-CE805E95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F72F-1C5B-4B8D-BF3B-D380E486CB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6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8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8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9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7BD0-CB57-4F47-B440-606847CE77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2742840"/>
            <a:ext cx="60195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3" descr="cat42"/>
          <p:cNvPicPr/>
          <p:nvPr/>
        </p:nvPicPr>
        <p:blipFill>
          <a:blip r:embed="rId1"/>
          <a:stretch/>
        </p:blipFill>
        <p:spPr>
          <a:xfrm>
            <a:off x="498600" y="4267080"/>
            <a:ext cx="1422360" cy="2248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727200" y="2890800"/>
            <a:ext cx="75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826920" y="333360"/>
            <a:ext cx="76327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Республика Саха (Якутия)</a:t>
            </a:r>
            <a:br>
              <a:rPr sz="2000"/>
            </a:b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Олёкминский район</a:t>
            </a:r>
            <a:br>
              <a:rPr sz="2000"/>
            </a:br>
            <a:r>
              <a:rPr b="1" lang="ru-RU" sz="2000" spc="-1" strike="noStrike">
                <a:solidFill>
                  <a:srgbClr val="dadada"/>
                </a:solidFill>
                <a:latin typeface="Times New Roman"/>
                <a:ea typeface="Times New Roman"/>
              </a:rPr>
              <a:t>МБОУ «Средняя общеобразовательная школа №2»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3419640" y="426708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Корчагина Галина Анатольевна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843280" y="631512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ёкминск - 202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324000" y="1916280"/>
            <a:ext cx="856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торой класс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ренажёр по русскому языку »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Прямая соединительная линия 3"/>
          <p:cNvSpPr/>
          <p:nvPr/>
        </p:nvSpPr>
        <p:spPr>
          <a:xfrm flipV="1">
            <a:off x="3059280" y="3212640"/>
            <a:ext cx="2520720" cy="1295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3"/>
          <p:cNvSpPr/>
          <p:nvPr/>
        </p:nvSpPr>
        <p:spPr>
          <a:xfrm>
            <a:off x="3203640" y="2565360"/>
            <a:ext cx="2232000" cy="1871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Прямая соединительная линия 4"/>
          <p:cNvSpPr/>
          <p:nvPr/>
        </p:nvSpPr>
        <p:spPr>
          <a:xfrm>
            <a:off x="2700360" y="3141720"/>
            <a:ext cx="2808360" cy="647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Прямая соединительная линия 5"/>
          <p:cNvSpPr/>
          <p:nvPr/>
        </p:nvSpPr>
        <p:spPr>
          <a:xfrm flipV="1">
            <a:off x="2268360" y="2491920"/>
            <a:ext cx="3167280" cy="136836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Прямая соединительная линия 6"/>
          <p:cNvSpPr/>
          <p:nvPr/>
        </p:nvSpPr>
        <p:spPr>
          <a:xfrm flipV="1">
            <a:off x="3059280" y="3141720"/>
            <a:ext cx="2449440" cy="129528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шебник, колдун, строитель, чаро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лекается, забавляется, веселится, скучае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тное, зверь, хво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т, ленточка, верёв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ловек, шут, клоу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олшебник, колдун, чарод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звлекается, забавляется, весели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вотное, звер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нат, верёв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ут, клоу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4280" y="1412640"/>
            <a:ext cx="8785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24000" y="2708280"/>
            <a:ext cx="79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8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лодцы !</a:t>
            </a:r>
            <a:endParaRPr b="0" lang="en-US" sz="8800" spc="-1" strike="noStrike">
              <a:solidFill>
                <a:srgbClr val="ffffff"/>
              </a:solidFill>
              <a:latin typeface="Comic Sans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6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86" name="Picture 6" descr="cat42"/>
          <p:cNvPicPr/>
          <p:nvPr/>
        </p:nvPicPr>
        <p:blipFill>
          <a:blip r:embed="rId1"/>
          <a:stretch/>
        </p:blipFill>
        <p:spPr>
          <a:xfrm flipH="1">
            <a:off x="7775280" y="5170320"/>
            <a:ext cx="1081080" cy="1516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льный, добрый, могуч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– это слова, близкие по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отвечают на один и тот же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Найди лишнее слов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льный, могуч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– это слова, близкие по значен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онимы отвечают на один и тот же вопро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3"/>
          <p:cNvSpPr/>
          <p:nvPr/>
        </p:nvSpPr>
        <p:spPr>
          <a:xfrm>
            <a:off x="3203640" y="2565360"/>
            <a:ext cx="2232000" cy="1871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3"/>
          <p:cNvSpPr/>
          <p:nvPr/>
        </p:nvSpPr>
        <p:spPr>
          <a:xfrm>
            <a:off x="2771640" y="3213000"/>
            <a:ext cx="2737080" cy="57636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онимы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. «Соедини синонимы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сивый                      Прият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ерный                          Торжеств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руг                               Предан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здник                       Прекрас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3"/>
          <p:cNvSpPr/>
          <p:nvPr/>
        </p:nvSpPr>
        <p:spPr>
          <a:xfrm flipV="1">
            <a:off x="2195640" y="2420640"/>
            <a:ext cx="3313080" cy="1439640"/>
          </a:xfrm>
          <a:prstGeom prst="line">
            <a:avLst/>
          </a:prstGeom>
          <a:ln w="9360">
            <a:solidFill>
              <a:srgbClr val="2d95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 spd="slow"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24-01-05T05:44:13Z</dcterms:modified>
  <cp:revision>92</cp:revision>
  <dc:subject/>
  <dc:title>PowerPoint Presentation</dc:title>
</cp:coreProperties>
</file>