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716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5C0-F78F-48C5-B167-D2E575DC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1C9-08F7-4E5D-8EBA-696ADEF6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69F-F049-4A11-9AA3-7BCFE93D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7DE-B8C4-4A8A-AB26-04C6EFB2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8A9-3C06-4ABF-85E5-25C8475F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44DA-26B4-4FF3-9618-CFAB5C36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3B2E-0E11-4FB6-809E-D9BEB371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85D-1B37-4A5D-AA5B-798BDAEA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25BA-B012-47A2-82F6-9C75ACCE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B1B-5D92-404D-AE8A-286AD9E8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FFBB-442F-4B1C-8F11-226CC826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53A3-EA74-48DD-9271-04D3C169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24C9-E0B0-4B07-A045-55CF13A73C0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36240"/>
            <a:ext cx="7772400" cy="29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dfd293"/>
                </a:solidFill>
                <a:latin typeface="Arial"/>
              </a:rPr>
              <a:t>Великая Отечественная война </a:t>
            </a:r>
            <a:br>
              <a:rPr sz="7500"/>
            </a:br>
            <a:r>
              <a:rPr b="1" lang="ru-RU" sz="7500" spc="-1" strike="noStrike">
                <a:solidFill>
                  <a:srgbClr val="dfd293"/>
                </a:solidFill>
                <a:latin typeface="Arial"/>
              </a:rPr>
              <a:t>1941-1945 гг.</a:t>
            </a:r>
            <a:endParaRPr b="0" lang="en-US" sz="75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Кто из советских военачальников командовал во всех названных операциях – сражении за Москву, обороне Ленинграда, боях за освобождение Варшавы, Берлинской операц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lnSpc>
                <a:spcPct val="105000"/>
              </a:lnSpc>
              <a:spcBef>
                <a:spcPts val="624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И.С. Коне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lnSpc>
                <a:spcPct val="105000"/>
              </a:lnSpc>
              <a:spcBef>
                <a:spcPts val="624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Г.К. Жуко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lnSpc>
                <a:spcPct val="105000"/>
              </a:lnSpc>
              <a:spcBef>
                <a:spcPts val="624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А.М. Василевски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lnSpc>
                <a:spcPct val="105000"/>
              </a:lnSpc>
              <a:spcBef>
                <a:spcPts val="624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И.Д. Черняховски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3714840" y="4071960"/>
            <a:ext cx="976320" cy="404640"/>
          </a:xfrm>
          <a:prstGeom prst="leftArrow">
            <a:avLst>
              <a:gd name="adj1" fmla="val 50000"/>
              <a:gd name="adj2" fmla="val 50267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. Создателями новых видов оружия, военной техники в годы Великой Отечественной войны были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.В. Курчатов, Л.Д. Ландау, П.С. Капиц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.А. Ковпак, П.П. Вершигора, Д.Н. Медведев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.С. Конев, И.Х. Баграмян, В.И. Чуйков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.В. Ильюшин, С.П. Королев, М.И. Кошкин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357720" y="5286240"/>
            <a:ext cx="172872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о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. Какое произведение было создано в блокадном Ленинграде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оэма А.Т. Твардовского «Василий Теркин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роман К.М. Симонова «Живые и мертвые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рассказ М.А. Шолохова «Судьба человека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едьмая симфония Д.Д. Шостакович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 rot="10800000">
            <a:off x="4356000" y="5018040"/>
            <a:ext cx="486000" cy="457200"/>
          </a:xfrm>
          <a:prstGeom prst="upArrow">
            <a:avLst>
              <a:gd name="adj1" fmla="val 50000"/>
              <a:gd name="adj2" fmla="val 28269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7. Установите соответствие между названиями военных операций и фамилиями военачальников, которые командовали решающими боевыми действиями в ходе этих операций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8517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Сталинградская бит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Г.К. Жу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17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 освобожд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И.С. Кон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17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орусси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В.И. Чуй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17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битва за Берли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С.А. Ковп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17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) освобождение Праг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) И.Д. Черняхов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4"/>
          <p:cNvSpPr/>
          <p:nvPr/>
        </p:nvSpPr>
        <p:spPr>
          <a:xfrm>
            <a:off x="4643280" y="3643200"/>
            <a:ext cx="433440" cy="71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72" h="816">
                <a:moveTo>
                  <a:pt x="0" y="0"/>
                </a:moveTo>
                <a:cubicBezTo>
                  <a:pt x="53" y="45"/>
                  <a:pt x="106" y="91"/>
                  <a:pt x="136" y="136"/>
                </a:cubicBezTo>
                <a:cubicBezTo>
                  <a:pt x="166" y="181"/>
                  <a:pt x="181" y="212"/>
                  <a:pt x="181" y="272"/>
                </a:cubicBezTo>
                <a:cubicBezTo>
                  <a:pt x="181" y="332"/>
                  <a:pt x="121" y="408"/>
                  <a:pt x="136" y="499"/>
                </a:cubicBezTo>
                <a:cubicBezTo>
                  <a:pt x="151" y="590"/>
                  <a:pt x="211" y="703"/>
                  <a:pt x="272" y="816"/>
                </a:cubicBezTo>
              </a:path>
            </a:pathLst>
          </a:custGeom>
          <a:noFill/>
          <a:ln w="38160">
            <a:solidFill>
              <a:srgbClr val="ff5f6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3143160" y="3571920"/>
            <a:ext cx="1944720" cy="960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 flipV="1">
            <a:off x="3929040" y="4000320"/>
            <a:ext cx="1297080" cy="10206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 flipV="1">
            <a:off x="3286080" y="3571560"/>
            <a:ext cx="1655640" cy="10206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 flipV="1">
            <a:off x="4357800" y="5500800"/>
            <a:ext cx="857160" cy="460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 2"/>
          <p:cNvSpPr/>
          <p:nvPr/>
        </p:nvSpPr>
        <p:spPr>
          <a:xfrm>
            <a:off x="1285920" y="3429000"/>
            <a:ext cx="4248000" cy="480960"/>
          </a:xfrm>
          <a:custGeom>
            <a:avLst/>
            <a:gdLst>
              <a:gd name="textAreaLeft" fmla="*/ 0 w 4248000"/>
              <a:gd name="textAreaRight" fmla="*/ 4248360 w 424800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840" y="135720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Направления «Север», «Центр», «Юг» для наступления германских войск предусматривались в план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окружения Сталинград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«Барбаросса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зятия Курска (операция «Цитадель»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«Ост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Название «Дорога жизни связано с сопротивлением врагу защитник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евастополя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Москвы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Одессы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Ленинград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Freeform 5"/>
          <p:cNvSpPr/>
          <p:nvPr/>
        </p:nvSpPr>
        <p:spPr>
          <a:xfrm>
            <a:off x="500040" y="4143240"/>
            <a:ext cx="4248000" cy="481320"/>
          </a:xfrm>
          <a:custGeom>
            <a:avLst/>
            <a:gdLst>
              <a:gd name="textAreaLeft" fmla="*/ 0 w 4248000"/>
              <a:gd name="textAreaRight" fmla="*/ 4248360 w 4248000"/>
              <a:gd name="textAreaTop" fmla="*/ 0 h 481320"/>
              <a:gd name="textAreaBottom" fmla="*/ 481680 h 48132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оведение партизанскими отрядами операций «Рельсовая война» и «Концерт» связаны с события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ской бит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нятия блокады Ленингра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линградской бит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чала наступления советских войск под Москв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5"/>
          <p:cNvSpPr/>
          <p:nvPr/>
        </p:nvSpPr>
        <p:spPr>
          <a:xfrm>
            <a:off x="857160" y="2857680"/>
            <a:ext cx="4248360" cy="480960"/>
          </a:xfrm>
          <a:custGeom>
            <a:avLst/>
            <a:gdLst>
              <a:gd name="textAreaLeft" fmla="*/ 0 w 4248360"/>
              <a:gd name="textAreaRight" fmla="*/ 4248360 w 424836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перация советских войск под названием «Багратион» проводилась в 1944 г.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 Белоруссии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на Кавказе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 Венгрии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 Крыму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5"/>
          <p:cNvSpPr/>
          <p:nvPr/>
        </p:nvSpPr>
        <p:spPr>
          <a:xfrm>
            <a:off x="500040" y="3071880"/>
            <a:ext cx="4248000" cy="480960"/>
          </a:xfrm>
          <a:custGeom>
            <a:avLst/>
            <a:gdLst>
              <a:gd name="textAreaLeft" fmla="*/ 0 w 4248000"/>
              <a:gd name="textAreaRight" fmla="*/ 4248360 w 424800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Система оказания Соединенными Штатами Америки помощи союзникам путем поставок техники и продовольствия называлас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105000"/>
              </a:lnSpc>
              <a:spcBef>
                <a:spcPts val="14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трибуци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105000"/>
              </a:lnSpc>
              <a:spcBef>
                <a:spcPts val="14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цесси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105000"/>
              </a:lnSpc>
              <a:spcBef>
                <a:spcPts val="14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операци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105000"/>
              </a:lnSpc>
              <a:spcBef>
                <a:spcPts val="14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нд-лиз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5"/>
          <p:cNvSpPr/>
          <p:nvPr/>
        </p:nvSpPr>
        <p:spPr>
          <a:xfrm>
            <a:off x="571680" y="4657680"/>
            <a:ext cx="4248000" cy="479520"/>
          </a:xfrm>
          <a:custGeom>
            <a:avLst/>
            <a:gdLst>
              <a:gd name="textAreaLeft" fmla="*/ 0 w 4248000"/>
              <a:gd name="textAreaRight" fmla="*/ 4248360 w 424800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6. Какая военная операция получила название «огненная дуга»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Курская битв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освобождение Киев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ражение за Сталинград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нятие блокады Ленинград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5"/>
          <p:cNvSpPr/>
          <p:nvPr/>
        </p:nvSpPr>
        <p:spPr>
          <a:xfrm>
            <a:off x="785880" y="2643120"/>
            <a:ext cx="4248000" cy="479520"/>
          </a:xfrm>
          <a:custGeom>
            <a:avLst/>
            <a:gdLst>
              <a:gd name="textAreaLeft" fmla="*/ 0 w 4248000"/>
              <a:gd name="textAreaRight" fmla="*/ 4248360 w 424800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хронологией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Контрнаступление советских войск под Сталинградом началос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 декабря 1941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9 ноября 1942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 июля 1943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 июня 1944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929120" y="3286080"/>
            <a:ext cx="2089080" cy="3002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ильный 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929120" y="2714760"/>
            <a:ext cx="2449440" cy="239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 Москв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429080" y="3929040"/>
            <a:ext cx="2089080" cy="241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рская ду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4429080" y="4572000"/>
            <a:ext cx="2341440" cy="241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торой фро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 «Катюшами» называли в годы войн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ракетные минометы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класс истребителей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амолеты У-2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тип танков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5"/>
          <p:cNvSpPr/>
          <p:nvPr/>
        </p:nvSpPr>
        <p:spPr>
          <a:xfrm>
            <a:off x="684360" y="1838160"/>
            <a:ext cx="4824360" cy="540000"/>
          </a:xfrm>
          <a:custGeom>
            <a:avLst/>
            <a:gdLst>
              <a:gd name="textAreaLeft" fmla="*/ 0 w 4824360"/>
              <a:gd name="textAreaRight" fmla="*/ 4824360 w 482436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ричин и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следствий событ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1. Что из названного было следствием сражения под Москвой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-47988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Германия начала терять союзников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-47988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роизошел коренной перелом в войне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-47988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был сорван немецкий план молниеносной войны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-47988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был открыт второй фронт в Европе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reeform 5"/>
          <p:cNvSpPr/>
          <p:nvPr/>
        </p:nvSpPr>
        <p:spPr>
          <a:xfrm>
            <a:off x="785880" y="3857760"/>
            <a:ext cx="6121440" cy="901440"/>
          </a:xfrm>
          <a:custGeom>
            <a:avLst/>
            <a:gdLst>
              <a:gd name="textAreaLeft" fmla="*/ 0 w 6121440"/>
              <a:gd name="textAreaRight" fmla="*/ 6121800 w 6121440"/>
              <a:gd name="textAreaTop" fmla="*/ 0 h 901440"/>
              <a:gd name="textAreaBottom" fmla="*/ 901800 h 90144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ричин и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следствий событ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2. Быстрая перестройка советской экономики на военный лад в 1941-1942 гг. стала возможна благодаря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военной помощи западных союзнико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использованию труда немецких военнопленных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азрешению частной собственности в деревн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лановому характеру управления хозяйством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reeform 5"/>
          <p:cNvSpPr/>
          <p:nvPr/>
        </p:nvSpPr>
        <p:spPr>
          <a:xfrm>
            <a:off x="611280" y="4118040"/>
            <a:ext cx="8064360" cy="539640"/>
          </a:xfrm>
          <a:custGeom>
            <a:avLst/>
            <a:gdLst>
              <a:gd name="textAreaLeft" fmla="*/ 0 w 8064360"/>
              <a:gd name="textAreaRight" fmla="*/ 8064720 w 806436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ричин и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следствий событ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Что из названного относилось к причинам срыва немецкого наступления в Курской битв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введение в бой сибирских резервных дивизи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упреждающий удар советской артиллери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использование в немецких войсках устаревших моделей танко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удар партизанских соединений в тыл немце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5"/>
          <p:cNvSpPr/>
          <p:nvPr/>
        </p:nvSpPr>
        <p:spPr>
          <a:xfrm>
            <a:off x="928800" y="3286080"/>
            <a:ext cx="7777080" cy="539640"/>
          </a:xfrm>
          <a:custGeom>
            <a:avLst/>
            <a:gdLst>
              <a:gd name="textAreaLeft" fmla="*/ 0 w 7777080"/>
              <a:gd name="textAreaRight" fmla="*/ 7777080 w 777708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ричин и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следствий событ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4. Коренной перелом в ходе Великой Отечественной войны был достигнут в результате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оражения немецких войск под Москво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нятия блокады Ленинграда и освобождения Новгород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ражения под Сталинградом и на Курской дуг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свобождения Киева и Минск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Freeform 5"/>
          <p:cNvSpPr/>
          <p:nvPr/>
        </p:nvSpPr>
        <p:spPr>
          <a:xfrm>
            <a:off x="611280" y="3697200"/>
            <a:ext cx="8281800" cy="540000"/>
          </a:xfrm>
          <a:custGeom>
            <a:avLst/>
            <a:gdLst>
              <a:gd name="textAreaLeft" fmla="*/ 0 w 8281800"/>
              <a:gd name="textAreaRight" fmla="*/ 8282160 w 828180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ричин и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следствий событ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Какая из названных территорий была включена в состав СССР после завершения Великой Отечественной войн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часть карельского перешейка с г.Выборгом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Западная Украин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часть Восточной Прусси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Бессарабия и Северная Буковин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reeform 5"/>
          <p:cNvSpPr/>
          <p:nvPr/>
        </p:nvSpPr>
        <p:spPr>
          <a:xfrm>
            <a:off x="928800" y="3786120"/>
            <a:ext cx="5329080" cy="539640"/>
          </a:xfrm>
          <a:custGeom>
            <a:avLst/>
            <a:gdLst>
              <a:gd name="textAreaLeft" fmla="*/ 0 w 5329080"/>
              <a:gd name="textAreaRight" fmla="*/ 5329440 w 532908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ричин и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следствий событ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Столица какого государства была освобождена в результате совместных действий войск Красной Армии и Народно-освободительной армии, созданной в годы войны на территории этого государст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га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гослав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нг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ст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Freeform 5"/>
          <p:cNvSpPr/>
          <p:nvPr/>
        </p:nvSpPr>
        <p:spPr>
          <a:xfrm>
            <a:off x="1000080" y="4500720"/>
            <a:ext cx="3384720" cy="539640"/>
          </a:xfrm>
          <a:custGeom>
            <a:avLst/>
            <a:gdLst>
              <a:gd name="textAreaLeft" fmla="*/ 0 w 3384720"/>
              <a:gd name="textAreaRight" fmla="*/ 3385080 w 338472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17440"/>
            <a:ext cx="8229600" cy="39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1. Прочтите отрывок из воспоминаний У.Черчилля «Вторая мировая война» и укажите, о событиях какого года в нем говорится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«Таким образом, за шестимесячную кампанию немцы добились </a:t>
            </a:r>
            <a:r>
              <a:rPr b="0" sz="2200" spc="-1" strike="noStrike">
                <a:solidFill>
                  <a:srgbClr val="ffffff"/>
                </a:solidFill>
                <a:latin typeface="Arial"/>
              </a:rPr>
              <a:t>внушительных результатов и нанесли противнику потери, которых не выдержала бы никакая другая страна. но три главных объекта, к которым они стремились, </a:t>
            </a:r>
            <a:r>
              <a:rPr b="0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sz="2200" spc="-1" strike="noStrike">
                <a:solidFill>
                  <a:srgbClr val="ffffff"/>
                </a:solidFill>
                <a:latin typeface="Arial"/>
              </a:rPr>
              <a:t> Москва, Ленинград и нижнее течение Дона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– все еще прочно находились в руках русских. Кавказ, Волга и Архангельск были еще далеко. Русская армия, отнюдь не разгромленная, сражалась лучше, чем когда-либо, и в следующем году ее численность должна была, несомненно, возрасти. Наступила зима. Затяжная война была неизбежной</a:t>
            </a:r>
            <a:r>
              <a:rPr b="0" sz="2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 1941 г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1943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1942 г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 1944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357120" y="4857840"/>
            <a:ext cx="720720" cy="241200"/>
          </a:xfrm>
          <a:custGeom>
            <a:avLst/>
            <a:gdLst>
              <a:gd name="textAreaLeft" fmla="*/ 0 w 720720"/>
              <a:gd name="textAreaRight" fmla="*/ 721080 w 7207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17792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9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2. Прочтите отрывок из приказа Верховного Главнокомандующего (1943 г.) и укажите название городов, о которых идет речь в приказе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«Отразив все попытки прорваться к Курску… наши войска сами перешли в наступление и 5 августа, ровно через месяц после начала июльского наступления немцев, заняли ________ и _________... Сегодня, 5 августа, в 24 часа столица нашей Родины Москва будет салютовать нашим доблестным войскам, освободившим __________ и __________, двенадцатью артиллерийскими залпами из 120 орудий»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1) Новгород и Луг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3) Минск и Бобруйск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2) Орел и Белгород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4) Киев и Гомель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357120" y="4857840"/>
            <a:ext cx="720720" cy="241200"/>
          </a:xfrm>
          <a:custGeom>
            <a:avLst/>
            <a:gdLst>
              <a:gd name="textAreaLeft" fmla="*/ 0 w 720720"/>
              <a:gd name="textAreaRight" fmla="*/ 721080 w 7207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17792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3. Прочтите отрывок из немецкого военного плана и напишите название этого план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«Основные силы русских сухопутных войск, находящиеся в Западной России, должны быть уничтожены в смелых операциях посредством глубокого, быстрого выдвижения танковых клиньев. Отступление боеспособных войск противника на широкие просторы русской территории должно быть предотвращено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онечной целью операции является создание заградительного барьера против Азиатской России по общей линии Волга-Архангельск. Таким образом, в случае необходимости последний индустриальный район, остающийся у русских на Урале, можно будет парализовать с помощью авиации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987640" y="5076720"/>
            <a:ext cx="2952720" cy="3081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Барбаросс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93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хронологией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860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Какое из названных событий произошло в 1943 г.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44280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оленское сра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44280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ное освобождение Ленинграда от блока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44280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вление Советским Союзом войны Япо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44280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ская би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5857920" y="2496960"/>
            <a:ext cx="244944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41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071960" y="3578400"/>
            <a:ext cx="2449440" cy="2379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44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429080" y="4657680"/>
            <a:ext cx="244944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4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429080" y="5234040"/>
            <a:ext cx="2089080" cy="2998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ильный 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1775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4. Прочтите отрывок из воспоминаний немецкого генерала и напишите название битвы, о которой рассказывает авто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«Начавшийся в середине сентября период боев… можно назвать позиционной или «крепостной» войной. Время для проведения крупных операций окончательно миновало. Из просторов степей война перешла на изрезанные оврагами приволжские высоты с перелесками и балками, в фабричный район города, расположенный на неровной, изрытой, пересеченной местности… За каждый цех, водонапорную башню, железнодорожную насыпь, стену, подвал и, наконец, за каждую кучу развалин велась ожесточенная борьба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857920" y="5214960"/>
            <a:ext cx="2952720" cy="3078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линградская би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99648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Прочтите отрывок из приказа Народного комиссара обороны СССР и назовите этот приказ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Военным Советам армий и прежде всего командующим армиями: … сформировать в пределах армии 3-5 хорошо вооруженных заградительных отрядов (до 200 человек в каждом), поставить их в непосредственном тылу неустойчивых дивизий и обязать их в случае паники и беспорядочного отхода частей дивизии расстреливать на месте паникеров и трусов и тем помочь честным бойцам дивизий выполнить свой долг перед Родиной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786200" y="5160960"/>
            <a:ext cx="3527640" cy="3589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каз №227 «Ни шагу назад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Прочтите отрывок из документа и напишите название описываемой в отрывке ме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Переселению подлежат все жители по национальности немцы, проживающие в городах и сельских местностях АССР немцев Поволжья, Саратовской и Сталинградской област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лены ВКП(б) и ВЛКСМ переселяются одновременно вместе с остальн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мцы, проживающие в указанных районах, выселяются на территорию Казахской АССР, Красноярского и Алтайского краев, Омской и Новосибирской областей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714920" y="5286240"/>
            <a:ext cx="2952720" cy="3063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порт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177920"/>
            <a:ext cx="822960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Прочтите отрывок из решения Ялтинской конференции руководителей СССР, Великобритании и США и назовите организацию, о которой идет реч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Мы считаем необходимым создать международную организацию, имеющую целью сохранение мира. Мы считаем, что это существенно как для предупреждения агрессии, так и для устранения политических, экономических и социальных причин войны путем тесного и постоянного сотрудничества всех миролюбивых народов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425840" y="5089680"/>
            <a:ext cx="3170520" cy="2984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хронологией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Какая из названных конференций представителей, лидеров СССР, Великобритании и США произошла раньше други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сдам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геран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лтин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сков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4214880" y="3571920"/>
            <a:ext cx="244944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4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143240" y="4143240"/>
            <a:ext cx="2449800" cy="2383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43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857760" y="4643280"/>
            <a:ext cx="244944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4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857760" y="5143680"/>
            <a:ext cx="2449440" cy="239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41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хронологией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Расположите в хронологическом порядке следующие событ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снятие блокады Ленингра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Смоленское с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) Курская би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) битва за Сталингр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6286680" y="2571840"/>
            <a:ext cx="244944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нварь 1944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357880" y="3214800"/>
            <a:ext cx="266544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юль-сентябрь 1941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3929040" y="3786120"/>
            <a:ext cx="2449440" cy="241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юль-август 1943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000760" y="4429080"/>
            <a:ext cx="331128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юль 1942 – февраль 1943 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5072040" y="4929120"/>
            <a:ext cx="3097080" cy="3603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Г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хронологией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333440"/>
            <a:ext cx="889308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Установите соответствие между событиями и дата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А) начало контрнаступления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1) 2 февраля 1943 г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Красной Армии под Москвой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2) 25 апреля 1945 г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Б) капитуляция немецкой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3) 5-6 декабря 1941 г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группировки под Сталинградом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4) 12 июля 1943 г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) танковое сражение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5) 5 августа 1943 г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у д.Прохоровк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Г) салют в честь освобожден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рла и Белгород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4357800" y="2571840"/>
            <a:ext cx="1500120" cy="714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 flipV="1">
            <a:off x="4000680" y="2571480"/>
            <a:ext cx="1857240" cy="785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 flipV="1">
            <a:off x="3714840" y="4071960"/>
            <a:ext cx="2160360" cy="71424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 flipV="1">
            <a:off x="3571920" y="3714480"/>
            <a:ext cx="2286000" cy="40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5435640" y="4478400"/>
            <a:ext cx="2305080" cy="299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14" y="6851"/>
                </a:moveTo>
                <a:lnTo>
                  <a:pt x="31195" y="6851"/>
                </a:lnTo>
                <a:lnTo>
                  <a:pt x="31195" y="-107429"/>
                </a:lnTo>
                <a:lnTo>
                  <a:pt x="26390" y="-111570"/>
                </a:lnTo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треча на Эльб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Какой город был удостоен звания города-героя за мужество его защитников в первые дни Великой Отечественной вой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р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и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нингр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нс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714760" y="3571920"/>
            <a:ext cx="1944720" cy="2984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ный 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В ходе какой битвы произошло крупнейшее танковое сражение Великой Отечественной вой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4640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твы за Моск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4640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алинградского сра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4640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рской бит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4640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твы за Берл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000680" y="4500720"/>
            <a:ext cx="1944360" cy="2984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ный 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6786720" y="4429080"/>
            <a:ext cx="2158920" cy="5716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5750"/>
              <a:gd name="adj5" fmla="val 34259"/>
              <a:gd name="adj6" fmla="val -39949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ажение у д.Прохор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 феврале 1945 г. состоялась встреча руководителей СССР, Великобритании и США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 Потсдаме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 Ялте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 Тегеране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 Москве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000240" y="3571920"/>
            <a:ext cx="176400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ный 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643200" y="3000240"/>
            <a:ext cx="244980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юль 194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714840" y="4071960"/>
            <a:ext cx="244944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ябрь 1943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357720" y="4714920"/>
            <a:ext cx="244944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нтябрь 1941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17:05:50Z</dcterms:created>
  <dc:creator>Свечников С.К.</dc:creator>
  <dc:description/>
  <dc:language>en-US</dc:language>
  <cp:lastModifiedBy>Пользователь</cp:lastModifiedBy>
  <dcterms:modified xsi:type="dcterms:W3CDTF">2024-01-05T02:34:28Z</dcterms:modified>
  <cp:revision>17</cp:revision>
  <dc:subject/>
  <dc:title>Великая Отечественная война  1941-1945 гг.</dc:title>
</cp:coreProperties>
</file>