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media/image13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78F-5C7D-4A6A-8AED-8DE3C771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D1D-148C-4946-928E-93DD1CBB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C9BC-C4F7-4FCC-9A66-00C11562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AF3F5-41BA-435F-8E49-A7708ED8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AC1BE-5C15-4A6A-8034-861A92A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8A055-8346-4021-BF8E-FDF474A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181B-3C18-4707-9385-B15C17E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25279-2034-4A97-BB48-05B56FDE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3249-52CE-4B08-8187-68067950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EA865-2999-4402-9753-E5E523E8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2A07C-FB34-483C-A2AF-B609D7EA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677FA-2304-404C-AF3A-A4AA169F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4EB-4C14-4BF6-B02D-1D2417ED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E986-45EB-4D77-B0C1-560075C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13EC5-43CD-4BCE-8A42-46843F0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54458-BFE6-4989-BB96-347B682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D5D0-226F-4385-B5C5-607E720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8A6EE-0C91-4B52-B451-C45353B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CCE8F-4C5B-4A52-B453-E93B816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FD615-60C2-4597-A427-C9B1CF60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16BD-5384-44C4-8B58-AB404C7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42BC7-983C-4139-93EA-0C659AA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3F7B2-C096-491A-A548-BBF575A9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28C-5A10-4ED8-A0B4-4B5CB03A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49F84-82EA-45EB-A0D9-C5927FAA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4400-2F8E-4194-A94A-0CD8F6C8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6B43-D1F0-4325-B512-5D31209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5B326-C3FF-4D3A-A86A-EAD2860F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3CE8E-BD5E-4867-BB4E-7D2859D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BC129-FE11-431E-B0BB-26A011A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F0519-770D-4170-B10C-5CFCF94D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D60F-3FE8-4483-9838-B10952A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803BB-25D6-4779-925D-FE95FA9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BABF-4560-4AB9-866C-D46F473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7D3-B953-41F2-B99C-F7D59E3C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1334B-E26B-4F1F-80EA-5669B07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AD74E-0B6C-454A-8E5F-B013723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408A3-373E-4250-BC75-320B523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A589B-ECFB-4DB2-9905-4DD8B47B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72949-69A5-40F1-A205-F545FD08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05DF4-6F34-4EBD-9611-67DBE9AE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3FD8F-4C16-4A0F-98DD-8EEE376A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ED1D0-82F1-4AF4-BFF1-56111623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CFB9F-6EC1-4FCA-957D-9D9C162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DA510-2161-42B9-90FF-C6F7C3C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294-98F2-4E04-B69C-670A2CF7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CDA9B-AB1A-43AC-AE00-895C36C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03998-6F8E-4B89-A1D0-300E757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0A88F-0790-4E77-BE98-B371604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6BAF0-5324-419A-AC85-AA86BDD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A25B7-B373-438C-B26D-02218B9D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5DACD-A728-4EAA-B428-4DDE33D4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8A071-1782-45C7-8BB6-41998F88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8E38A-1AE4-4BF9-B9A2-356DF839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447AD-1A50-4427-8B31-8B40F61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41C42-6F88-4107-A33F-753C3571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B0A-7625-4E27-A6C2-68CD8DE5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1F21B-7DFA-4B4B-B768-2575011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B21F1-25FA-4205-AEC0-A58AD5F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2EF65-2DF0-45B7-8E60-5FC9B93D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B1B5D-E1B7-4369-91FD-4FCCF8F1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6C9DF-3591-4930-9F2F-AD73CAE3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3E52D-C66E-462B-B2EF-0899C6A3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BC1FD-8451-465E-BB4D-A20A5B3B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8D36C-61A3-45D9-9E84-6372A26B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DE66-95A4-42BE-8B0C-FD70C6F6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39A14-A9B7-4D8F-9205-E8734BA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F9B-29CE-4FB4-99E6-55B4B07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9DDE5-5CE9-49CB-A209-30574E3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C91C2-5BF1-4632-9F41-C1FDEBB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EB98D-7D15-45DD-889D-6F35139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417E0-46DF-45D0-923A-E329419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A0084-F341-468A-BEFA-CD02AD1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71553-EB10-4F25-9556-5E37635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478FE-5483-41B1-BD98-550CB29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EF91B-4AB8-45FA-914D-757845FF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03E6A-903A-49FF-AAED-1B2E7503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7C6DE-E806-456B-BDBC-1F4B5A6A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967-E886-40BA-8756-9611F44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AADB8-7800-4919-B738-008A77F0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F92D9-870A-4FDA-A235-136BC42C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E5AA7-CB1F-4331-8EF0-FB6FB11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82CE7-6E31-41A4-B43B-762D900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4F1B1-9B13-4893-B7B8-8C166093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FE2A6-315F-45A7-956F-CC4D509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924D1-9691-470F-A362-7D3AF6C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6D9D0-0AEA-45D8-B821-8DED722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FA4D4-A733-4165-B7D0-9D335CD7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8FF13-979E-4F2A-B248-97870EB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C9F6-26F4-4D6F-BBC6-9667B04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8D4A3-3783-4EEC-A539-1ED13358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BA4CD-A5A4-4304-9A32-5AB9842F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89D38-9235-4EF6-852D-5674B02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B8E8E-4FBB-499F-A091-BF7BFDE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79093-E0C1-4C2A-B006-98C85364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89396-8FFB-4A33-8B2C-6073417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77845-6BFB-4CBF-8F00-0E41A87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D67EF-709E-48A0-A78E-06A5ECE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3D912-6C01-4333-8335-B59ED88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916E7-FC8C-40AF-BC62-3F50714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E057-5700-4D87-860A-3F7B0B8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E0272-6B61-43B7-910D-38CFE49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01755-40E2-4CA8-9D7F-CAF6E97E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17C15-3306-488A-9788-F5617B0F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59056-FF21-4972-8BBD-7F49F4EE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8C1B9-883A-4CE0-A804-A1BB4D8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812F4-4ECC-431C-AE83-089FB33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6EA7B-ECE0-4705-9592-0688740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67179-3BDF-40A8-9109-92602970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CB265-C3BA-40C9-A57F-6C308D5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6B897-6C7D-4E37-9513-38DAD1A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F3B-8785-4C2D-88AB-EB75AB3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283-5A61-4EB4-9741-2284BD6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CFE5D-B418-4882-9C47-79B36AB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E1AF9-C0A6-4182-8083-1FFC72E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C889D-C9FA-4EA2-BAF7-38D75E04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BD6C3-525A-4CAE-97E7-8E8827F9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7C41C-4D4F-4E2B-9687-983AEFD4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55D2E-FF67-4AC7-96F0-71782FCC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1F929-85DE-45F6-BFEB-77B63C3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3EDB4-C1F2-40A3-B905-B3729E2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CF8F5-729F-4BE9-9A9D-27458A00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CA175-5155-408B-A2B5-FAB8375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E55F-6CCD-425D-959F-8B9B4EA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6E88C-1CB0-49B9-BD38-AC667D8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E547D-79ED-471C-8CBF-4D60E6F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D0E93-EA84-4BE8-B0D8-870A9BE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5F426-D106-4A62-8650-5BD7DB9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17696-6548-4C48-8079-B664499B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DF791-7C3E-406D-A14A-790D582A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FCC8C-66E8-4DD4-B578-52E67F76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5A5BB-9E4A-4CDB-955D-0E9D5A76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10BDE-1298-4EFE-A6D7-6800F11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DC485-9C03-4D35-93A5-298A5E7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4CAB-7DA5-4F39-A490-28BE54B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06B8D-A4EA-483E-8A5A-CE53AFEE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DC4D1-A744-4D5C-A0FE-61E67FA4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FEE20-506E-44F2-9E87-F440BF4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968FA-EED7-4E58-AA77-2F8C249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D5576-27A1-4900-8F29-D0D8C78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C2FF7-34D6-4896-A24F-1D892B5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F1117-A20C-4D86-BBE6-1BF8004C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D0AF2-0FC5-4C40-B05C-03523BB7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B02AF-C6DE-4543-BCB9-1E4B0234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C1FD6-F5A5-4A54-BBCF-E38092F5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341D-0EAB-4319-A89B-58205E0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38E03-7809-44D0-8AE9-1FF6CC3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04E40-35C9-4E95-A935-D6E3BF88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23CE6-42E8-487A-95E0-ADCB8DE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15449-BEBE-4C88-967F-6A10B00A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82E3D-56F1-4FB4-8207-7DBBFDF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A36E9-3B6B-438A-8E3A-5225F23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FB807-C70D-44D2-8D2D-2FCFD16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F183B-8535-4E39-A08C-9491AA5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4B3A3-EF6C-43C3-ABD2-23259444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BA93D-20C8-496A-B3BC-572B1B9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674-C98E-467D-86F7-419D5462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68549-A3B6-4702-B5F8-A08ECAB1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18B20-2B96-41CD-A58B-F3DE1925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3C5C6-EC9C-440B-8D87-4945D11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0A7D2-2CD8-4629-AD2C-6547270E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B01EF-44AB-42D0-8D4C-1CC8FBB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6783A-AE1B-416A-84F0-53330737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549C4-F5E4-4E4B-B871-3899366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339EA-FC00-4153-8534-81E73AA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FB291-5C8E-4EBC-913E-5CF7FC5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8613C-7085-4116-9281-25F1A10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6A72-8E6A-4BD9-B3B2-46B77DC1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80B23-B739-4B51-94F4-7524BC4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148F3-E455-4B48-81FE-C4209A3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7451D-4DC3-41A0-A542-34737B49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16930-558D-4B01-8171-B221A944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14BB2-BFA1-4975-BE74-27A8AF8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C8A9FF-AB21-4B1B-A1BC-7BEA04E8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8BBD3-D91D-4DC4-9FE9-E729D3CC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D49D67-DEA9-4B04-B2EA-6A6D1AE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2976D-987A-41D1-BD66-15397DD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2F0FA-F123-48B2-B49C-BA3871D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E8C8-1900-444F-A247-DD27C62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395AB-1007-47BB-814E-BF15118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5A915-AF23-42C9-BC4D-4512FAF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5D2D4-EC7F-42B1-A0CD-1BF451B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2DF17-D306-4901-B5C3-C9494592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0D64A-E628-4201-A3A9-25F61872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2A8363-E428-4619-8E73-53F06F7B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F7D8CE-3F77-429A-B8EE-82A5189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EAB3F-F81A-4D33-9971-0ECF87E4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9B335-D7D3-4427-A075-48084319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F471BC-7B87-4E53-9CE9-0B236F09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16BD-D905-478B-9A83-F83F137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D3836-D733-4EEA-9155-390037E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B21D33-3D82-4CEF-9F52-8D626A3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EFBC1-82EF-41BE-8FDE-8485DB9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6BDF4-E4B0-463D-9E68-48C0069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234AD5-76C7-4799-B2E7-F77386D0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33059-A4FA-4A79-BF28-43D91810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6E8DC8-0644-4EC3-802C-27C16974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18EAF7-6BFE-4C66-AF81-34D75D23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A89D2-4973-41DA-8606-F3486FF6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0B80E-9C70-4ACB-863A-4F2CD84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A2FF-CE6C-44FF-874D-55424612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FB71E-C98E-4C2D-9835-DBBDC26B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2539C-50F1-414D-AC03-ACFA184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2F9D4-ABD6-4AB0-B139-57CC960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C28FA-E1A5-40F8-8517-86F6B72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D30262-DE9C-42A9-B032-CEE2B76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4E875A-3DEF-4262-BD14-AEDC63D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DA014-80F9-4C49-87E8-19731344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225D7-A92B-4045-81B7-E0EF148B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282865-1EC8-4D64-865F-59A53E1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882E5-E38E-487F-BCC6-F2BA02F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84E5-018E-4348-9535-17713C9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E02B0A-14FB-45D0-8677-05E3BE5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E745BF-FFE4-4476-A6A0-84B974D7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C7D9FC-8DA4-45A3-B694-E5A30D7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2C49A0-4272-4221-9F37-829C2DF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CDDC26-2F49-46E5-BE21-18AEEB7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880B00-01D2-442D-85E7-1593EC6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3BD88A-4E16-43C2-8F2D-7C393A2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DCED2B-1698-4EB9-BF8F-D92F6FE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54F0D9-0248-4AC0-93CA-CBD6966C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96A4E2-3FA4-423F-972B-6CD49FD4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D49-9310-412E-8CA2-34A0BF2F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589E-5D94-4A38-8F55-EA55CC38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0A578A-4F6D-41CD-A2AC-350FC3F2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0578D0-A6BB-4DD7-8855-B8898427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C23F86-23CA-4A65-B2A1-E4FB3A2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F50A34-5E09-43C9-9DDE-C60F0F63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3620E-6222-4457-9CF4-FBAAA41A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C367A2-DC60-4FB1-A6AA-9092AEAD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08C82-11C3-4D11-91BE-B03434E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FCECBE-6D3F-432C-B954-1A44F0E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A70E0D-46EF-41CA-8B56-AAB8C97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24B615-17BB-44FE-94FA-5AACFEA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CF0A-21BB-4241-BE22-6B2DE60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52A88-222A-4666-9A46-073BD63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1D40FB-25B5-4E15-A19C-4A35C0B5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B3E2F-A111-4782-9F57-B48F6EBE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AF523-EF75-410E-8B37-8C80FFB2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D4AB9B-03E4-4E6C-A25D-C717E08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941B45-B1D5-4AAC-8939-6C2E060F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28DCD7-4B06-4B36-9E64-BBA4ACB7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747097-FE01-46B9-8935-1F8BEEBF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646412-0DD0-45A2-BDF0-302E3225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CCB000-4402-43FC-9722-192B7DC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7004-2C03-4BF3-B89A-EAAF6BB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1A4228-523E-49D9-9E83-B9075B7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0A978D-1181-43E8-B0CA-7238D5F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D20D8-8E2A-432D-A249-016C885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E1A6B9-CBF7-4BEB-8E02-A5726218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B82528-AA38-4C09-9997-FC9B79AF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275B09-6BBB-4180-A3F1-FAC0ED7F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44D309-00D0-46AC-A62B-8749C2A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760126-C4C5-44B2-8BAB-E544030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3F1CF-AB58-4719-A16E-6A6B576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81902E-6F99-4554-B342-32F920B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3EF3-B323-4135-90E7-A07046E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810E6-63D4-4E4C-BF7E-B1B7CA5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7C20FF-391B-47BD-A837-D6588E7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24A650-976C-4BCC-9F8A-74D0E0B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51944B-E093-45A8-83C0-6737BBB9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FE520D-F0E2-4FA3-A225-96D83AD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037DEB-01DE-42D7-88C4-45BF7333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908DD7-0CB0-4A3A-956D-234CD1CA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9EFB9A-9F92-407E-B6D0-EC75DCCE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D315B6-9202-4D85-8A17-1A59AB3C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B7C8B8-65AA-4302-B3EA-984F84D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E136-CC2F-48BE-9C3D-C998707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70A063-3489-42E4-8D4B-D3009B70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CC5D08-4E57-4BCB-A40E-47BC2C1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FD7AD8-4A2A-4F3E-A80E-396F682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D91E6-B025-469A-BAC7-D59791DC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A2DFF7-F042-4A61-A20C-A8EFA0B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DE90F9-6604-4545-8595-460B7A5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0599AF-0AAC-4078-9ABC-7BD07B8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E9EC8E-C9CB-4606-AC1B-57D24168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28EC12-F26E-49AE-8A5F-967DEDB5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150125-B559-4EBB-85D7-1C799557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91B8-8796-4093-A695-216FC734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5A16DF-51DB-403D-9237-0BBF264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53E165-0734-4666-AB12-F23E4773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A02CE5-4E4C-4932-87E7-795CC4C1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6926E-7A46-46A7-AEB2-88872DC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774F24-457D-4D9D-BF27-C5A8062A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E116A6-8C42-4AF9-8BFC-9F5DE7B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0CC71F-5926-4DBD-8E6D-2911E6B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28E21F-D529-4B01-874A-ABED8E4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F0742F-06D7-4855-B0FC-5B8E1E6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BB0295-948E-4DC8-9AE7-18765E1E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43F7-D71E-4D15-916F-02806388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DF1EF6-29A0-4EA7-8BB3-699E7ED8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654F7D-61D1-46F9-A1E7-78D01C17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5EDC6-BAE3-4067-8E05-82C94293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640DD8-B3D2-4F01-B592-79898578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B630A7-A660-4CAC-A5CC-872A96F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0E6F84-BA76-47B1-AFC6-B353174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2B894E-8F78-4CB5-B86D-B5854D3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BF6CE6-C8AC-4470-A3E4-820F8DD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B85574-26DF-4DFE-8F21-011C7356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538EA7-BB3B-4BB6-8438-079E210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CEA5-9396-46FC-A6E8-BB7E7F3C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7FCD45-37CF-49B6-B287-88F0D13A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559221-FA93-4D2C-BE02-797AAD6E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ED3B9B-2287-46AA-A75A-A2113FFA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64931E-3ED2-4B2C-B2E1-B3E142C8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19F530-CAAE-48AB-8A8E-2583CB83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8EC123-F495-4DC7-9486-03B2AC1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2D7AEB-CD6F-4FC1-ADC0-CD434EC6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FA5684-369B-488E-B371-DF4FC8F3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A7FF7C-77B7-4C22-AB89-086B9A8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967BB5-B9AA-47CF-9DF8-19380DA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CCB6-D07B-4E65-B246-A3F6CD7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0ADBB3-7272-4A39-A3CE-ED3378E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A7C24D-8F21-47E4-ACCE-68E0AE8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E79479-03A0-4C01-ABB9-A6729560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63968E-114C-44BB-92DC-9FEEB618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6B72BD-B9CB-42E4-B456-68B92EC0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EA82C4-C833-4AF6-BC9D-C12B0439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960913-1FE2-4213-8897-71836198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088B34-A1D9-4167-9D26-1476BF1B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83B619-B766-4585-A941-B319FFC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7F779F-82BF-4C39-9096-6A7062A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6FEA-D754-4979-B36B-47F81BAD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867EBE-2299-4713-A55A-3DF7BB0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AC2210-92C6-44EB-BA58-9D882AF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0F4D13-76AE-43BC-B182-338DBCF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7DF2D5-F6CD-4A0F-B1A8-0FD05DD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24BBF5-4727-4BDB-BD83-6F78F91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D93221-1910-427D-896B-971A531D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D44B67-494B-48A7-934B-3A9A8F2F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994B84-8B13-404A-970B-3D34503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2A106-F621-4E0D-A567-AE8098D6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366FF7-FD63-4445-8D4A-7DE8DB5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F57-7CD8-4D86-9058-3ED1C1E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1ABB-BE57-4C07-81E3-92B4B4E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CC258A-4965-438B-9759-F07071C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D88C42-C032-4FFE-A082-12605A1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29660D-7E52-4762-A521-1812851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3488C2-DB3C-4032-9786-701C7B1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D3E528-F654-4798-8165-5C90E6E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11AC62-A831-4914-84EE-FECA2E1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7237EB-0481-43F9-9CD8-46483D6E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AE28CB-1EDD-4211-AC08-33213F0A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3DFBB6-9603-4256-9373-4D0B53B3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744A18-9CFC-416F-832E-A25D6B13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A28B-C7DD-48DC-80D6-879D999C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1B0159-FF4A-45B6-83F4-48D0252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2FEF2C-4447-44CB-83B1-15360C6E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7EAF4B-864B-4BC0-AF98-F52E430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4D0E9F-1520-42EB-AD4F-4821DA46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8BD338-4543-404A-860A-1883D60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6AA719-65CB-4A18-AE5E-5B3F3D2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F6A207-437C-4E14-BE37-2DF0AE6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3340DE-FD9F-4EF0-B327-01057F4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38C3F8-8627-4CAD-95D7-66759C1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DEFB1D-2863-49FF-908F-AC0B80D7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B08F-AC1D-402F-948C-FD99DDAB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3A61B3-5D4F-4FD3-A5B1-6E33C8F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08D0C2-5543-4C43-9C6C-23E5466A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F06650-8741-4AF6-A8DD-B2EAA3D1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293F18-443A-49B9-BAEF-D422E405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A7C414-7A16-42BB-A5DD-5A15C45C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61B7B1-B5FB-4CFC-A2E9-6BC2C57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158B1A-9359-4DB0-AAB4-A1539C9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6219C3-17A5-415E-BDD8-E70646C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42AEFC-930D-42FB-A48E-5F11EE9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78F0A2-2DF9-44BA-969D-F4C33D7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BE6D-B2E7-4F30-BDBF-3D9D5A3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3C722B-7E3E-4A58-96E8-5B45114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91387A-1F64-4B5B-AF32-5AACFA1C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5D310F-C571-4F76-8F2A-18A664FE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CFCBE4-959F-4512-BC45-0DAB7AC1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8C0495-4973-4486-9DCA-BC95933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D64D36-613D-4BBA-A2B2-1FBFE931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74F4D8-30F6-41AA-9001-C17A98F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979261-76A4-4065-81A1-C688442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6D3971-C531-4A27-A229-4AC6BAE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5B6D67-99CB-48B3-885D-727BAC0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D720-89DE-44DB-8E45-3FAB979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30F34D-E5FA-49B1-A303-C56A3D7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6DF901-6A7F-46A6-874F-0F5F08D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335A99-59B4-405E-8C30-D8B8CB5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048032-FE7E-417F-8F42-2DB7310D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E004BE-61BC-438B-BCA1-4AFF7B1F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6ECDCF-8537-4665-B4BF-85A40F05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0BD362-3F89-4B63-BA9E-31774B5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4D95A9-9D9B-40DC-A8ED-6D2D979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6CE5B2-E4E8-4A45-BC3D-24DC1E1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75E9B8-3E56-4687-9D33-7E4FCFE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AA6D-4452-452C-BF6A-A1DE05D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E242A3-7B1B-483A-B904-932ED0F1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0FDC3D-2DC8-4723-A21C-E1464D7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CC3EF3-50E6-4551-BF1D-4E5315E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4E2C44-4C40-4256-8502-5CE165D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840E27-7E34-4FAF-969A-643C588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B3BB5E-33FF-4A5C-8C8E-421793AE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92AD84-B8BB-47B4-BA7E-6108034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4B5DF7-1DC3-405F-B2AC-74F3207F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E2422F-03F6-43F5-9538-83C3175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4C647D-5BE6-4DE3-A1A2-40C01A1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3C33-95EA-415D-A930-34A51C5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E38352-B95F-4E15-BC0E-315DD4A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D0ABB1-66A6-4FED-BD80-250ED77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C2F021-E3E2-48B1-BB34-BF53B15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FD8781-FFEF-48B4-850D-B5A401B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76E724-3AD2-46CA-B257-8435D0B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FB6706-89A3-42E7-B0AF-F55E349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BAA121-E4D5-4C43-81A9-4EFBACA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B2906C-E054-41CE-806D-A082A23E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6E8479-BB98-4AE4-8A41-9E81EF5B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BC4E91-A52B-4550-A2E3-51E92ACF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DEE8-9EEE-44C4-A146-FAC6C45A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EFAF18-E2FD-49BC-B9D7-489FA1C1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19F376-05BA-4B41-8222-AE957C6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9A1459-03EA-446A-818D-B011C07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847312-9558-4317-97E1-C8B2EEF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10D045-0090-4E90-8BA5-90B93347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5A965C-C13E-4CD5-ADA8-40B3B36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0A20B2-0A16-474B-96A5-60E8989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014224-80ED-4CAF-8789-C5F3EDE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28D453-0BA0-48FB-B82E-EBB270F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000B0C-64E2-4ECC-867A-B785CEBE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2D19-8BC7-4E2C-9B64-5F41CAD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C08106-64FB-4F83-A256-392969AE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907C72-6E64-4FCC-B12A-81C01F95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4040A3-CC52-442C-8C5D-72757885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C80BA8-01D1-48B0-B98B-0BD408A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F67298-D4AC-4C11-BBE1-5FEF814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920BEA-E576-428B-A128-CD2E0F1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E3CE6B-D8DD-4379-9196-1364CF3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9A9058-2926-43CF-9F0B-994EE8B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0F930E-0B95-4DB0-8CA1-AFE5CC9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672CFB-BCA5-4343-BADD-266D529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380E-8680-4492-8C06-427CE59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8B1D07-6237-4857-8A11-50BE6B52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79495B-8B6A-44B8-9A23-91E5C645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4B7439-2444-44F4-A139-4698BDB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00C3F9-2E4F-4E9A-99B3-B681516D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9E3A73-52B7-46D5-918C-280A862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96108B-F7A9-4AB5-81B8-6E905E04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ADB483-D963-4A52-9FD2-CDA9E33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F5BA91-1E9C-49CC-A46A-7564197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B52CCE-AC3D-4279-BF40-236967F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11F71E-9830-4CE2-BF14-DE8DC17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A87-A312-459C-88C4-63FC934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9E7E-5A29-42F5-9F02-0D423683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E69C8B-B003-4D47-8518-8533553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C871AB-E3D7-43D4-B9B4-D74CA00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CE21E9-8B6B-4D44-8D75-6FA7B56B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746FA7-29B9-47EF-838D-D480418C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6C742A-AB6A-4FB1-B687-BF652672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3E68BD-05AF-49BC-ADC6-8F6BFB79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364C20-5BED-4F35-961D-7180B39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C1EE1F-F304-4B51-982F-8EBBADC9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308894-2DA1-455F-9BBD-A5B7DEF0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4DA458-FF3B-4957-8B91-EB26F0C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CDE7-14F4-4EBD-8654-410F30B6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19A7C0-690E-4D9B-94B5-7C56C11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B2D5B1-21BE-4C8A-9F02-31EB1B0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1842CF-1989-425C-8B29-88911485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B271B0-BE9F-41CB-9503-2843033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9040B9-AED1-48FB-BD70-C22F65C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620768-C49E-439F-A94A-6660783A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45DE6F-D28B-4548-A295-38FB10EC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15F1DA-63F1-47C3-87C5-6768966E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6BB2AF-8C27-4F06-94E8-9EDDDDD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66F5CA-0C68-4D4F-A943-B0363BB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68D8-7173-46DA-8546-6355F66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2CCA96-DD1A-4574-A63F-528109D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3A1827-FE1F-44BF-BF3A-C9E3732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9F82F6-01CA-44A6-91F4-141070A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1CE8DD-5E24-4010-8C11-76BD526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07174E-4CF2-4875-8BDF-EDC9D4C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DEED7F-8E9E-42DB-9FAE-8540C01D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3FE813-42E0-4945-8539-C53B188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71FF9C-68AD-449D-8BCA-39E0202F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75FA0D-3C43-4B28-8595-0051AF3B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6E5EBA-ED2D-4E7D-B286-F72DF0D3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A1BC-FA63-4A3A-B1D4-8740212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35F2A9-4D48-4889-8C96-C8AF647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7A9C45-5730-4978-82E7-E415857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5E7CDB-6CA8-45C7-B23D-ADAABDF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037844-4DE6-488E-AD43-BDD0D5C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AC2D9B-2B16-4B7E-8D71-106C8D9A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B8DF8C-FBC6-4FFF-8BCC-D6A455C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E1B4DC-4AA1-4340-B30F-650888F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FEEE48-4EEE-4626-B778-11D72C5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46F6462-C721-4031-AF34-44BECC03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51CAA3-F7FB-4CDA-A200-3D6F5B40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3A2F-B26F-41B1-B4C9-ED3042B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FFB9BC-41FC-41E7-A230-BEF451EC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1947C2-11D4-4DCD-8478-A9B97168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065B9A-4004-4365-AC93-FFB88D1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53FEA7-26FB-4792-8E74-4B24007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17BD38-60E3-4EC3-AA2A-B510BD8F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B4D94B-6292-48FD-8D7C-E1FC0B1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80A680-7A0F-4929-8790-5025E2C5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C477D3-F8DB-43D0-B595-4DB80E1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983E09-411E-4A54-89D2-A4442F0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B180F9-A492-4127-B26D-56227F5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25FB-C775-42A7-AB22-9A0B24B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1CB0B1-BA82-4236-B16C-EC2BFC7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A5E826-7580-4D9B-A614-A82157BC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826902-8B3A-4DA2-9D07-C58123E2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A1A4BE-ED2B-4255-B246-B9269D23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96F7D52-62E8-4E13-AF94-24D0BC3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B86560-AB0D-49D2-8046-4CD52B65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244570-8719-40EC-A69E-2F34A6B8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43EE6B-0BAA-4C30-9A4A-0C618D7C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356034-6237-4C5D-8D8A-5D503C60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8F6BF0-D9EC-4A82-9711-B16D1CA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FAC6-FDCC-4B88-ADB5-2437C73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A4CA6D-31D5-4EFD-83D8-C7F5F01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55D8C2-754D-4473-ADE7-9D9EF6A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F5D2B0-97B5-4559-905B-7E3061CD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1FAA4E3-F20D-42BF-BC1C-49C05C18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415040-9DD3-41F0-9AD2-F1895D7C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124FCA-B305-4EAD-85C1-E0593B48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12141A5-75A0-4E51-B372-9FC7CF1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016CBA-9295-4734-98BF-16ABF15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E41EBA-2760-4A8A-BD67-1472B3C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5732E0-187B-46F5-8B91-71A392F7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24F2-F325-4702-B773-FE17E471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B19FEB-9A32-492D-996F-BD5BC5B5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D4F779-2BA7-44D5-9890-9A6788E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B91F29-7382-4240-BCDC-6ABFD77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28AAF1-CC28-48D2-B045-2FFB524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7D9C8B-7EA6-4C01-89AA-F2DBCE2B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D93487-B124-4B63-8B40-45427FB2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D7B8B2-C2D1-4AE1-B449-75393C0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888189-FD6C-448A-B01C-8C9C637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EABE2E-46EC-47D5-BD74-8A074DD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67F5AB-EB60-4413-9B0F-235BAC4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B099-5E77-4194-ADDB-44E6BCD1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76A624-D3E7-48F8-A5E4-AC9870FA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FA6B68-F691-48B3-A85E-630C0F2E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9ED304-FECF-4C91-9D57-415AF54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BE7532-0122-40CF-BFD0-1504782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A57222-A96F-4BDE-8C38-6F0D6FC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3C9659D-3425-48AF-A7B8-33B7182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E5ECAA-B03F-49CE-8077-71D3318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E5133B-7C80-4FD0-8192-CA815B61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E1C9F7-7A0F-4095-843A-0B2E3C41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4EC4C6-E949-4386-9D4E-7D01E87F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1212-2D6B-4423-B98C-572F672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F3E514A-CBA5-4D44-8508-E84C4468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9E091C-CB23-4942-869D-11EAF37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67F8DE-E3A5-4F93-B6AE-5FE003B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9CF4F8-C304-430F-ABB2-3DEEA7E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315FC7-733C-4375-A2A3-E9807F8C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6E863ED-B0F5-4E9A-9297-1E471A3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CD8BAB-AB75-4EA4-BFB7-E017B30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0EAE6E3-3E93-42A3-9CEA-B62F919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8DD9E4-773C-45BD-901B-399198A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212512-7FB8-4F92-87CA-BDFD991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31F-D283-4BD8-A300-526DC60E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F1B7-E157-484E-A84A-B83D09A7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93ADCE0-B055-456E-98FF-39EE30CC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AF42B4-F69E-4891-8537-0C1A11B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F48144-E158-4468-9E35-66812DB6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CB5F1A-B4C5-441F-A319-16B6ECE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18DA84-2DB6-46D3-A931-0DBC5C7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1A4226-FF7A-440C-95D3-3F6B0292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63EB09C-5D9A-4B4E-863F-C2D7F0A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719AC50-CB98-4658-B732-360D4A5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540B4F-E27A-4C51-9424-4DCD659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D16E6C-515F-49E4-9D38-9B6DD77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984D-F473-46DE-B7A3-B8840D0B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F369070-8716-4C15-BFD1-3F611B0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651CC5-110A-49B7-AC9F-06DC22BC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6671C3-88C0-44DD-A5CF-128A74FA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F0D861-48AD-4A37-BF8A-CBB91A26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BACB4E-B1DA-4B9E-910E-85827E1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407BD2-6939-4559-841D-EFB3313E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6105C6-795E-4621-99DB-ACA10947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C4465C-C448-4262-9FB3-C571321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8ED3C0-6B32-402B-BD81-07705009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6B9771-AA6C-4071-BA84-49D5975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48AC-C60B-4435-A78E-3FAF8DA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105467-29D4-4706-955D-0E4393C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012726-C4A6-4489-BFCE-3EC8288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F9F913-AB45-4101-9B41-BD689ABC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928045-789A-414F-BDAC-CD42EF2C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BFE97D-DEA9-431D-A101-78EA6DCA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8466A3-C4AA-491F-992E-22C9FDAA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F55AAB-EFFA-4BBD-8C47-1988509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B8BA247-8BBE-452B-8679-6C0A0304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E35826-53FD-4E04-90F7-ED823B0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1C3F29-50E1-43E4-8CAC-109D144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4615-6F09-4FA3-91E2-A4B3AAA4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0F8D12-94A5-4544-8526-ACCE3D2E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8BEB35-63C7-42DA-8264-005F160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4BF0368-847C-459E-B3EE-E5DDD2B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C274C3E-1E10-433C-8D06-3FF070B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E6BDA1-9806-4107-83C7-3AAB178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B23BAB-3194-4FAF-9092-07F2BFE8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CD75EB-1456-481E-8A3C-1357B3B2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1DBFEB-7068-4728-B2B3-FB6A3E54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A73968-7FBB-44AC-820E-690A1FB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70CE91-2334-4B2B-9251-0557DD3C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3303-DF91-4E59-977D-0937EFC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3F761C-A53C-4EBD-A0CF-DE93C717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47C9F14-D42C-4692-92DE-1C443A3F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419C30-C7D0-4114-882E-1AA21A3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E87140-0441-4E73-980A-F55075B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BCF873-6B4A-4069-A34B-379B135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708753-295E-4EA0-B118-7A12F4C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85C36F-92BE-489B-89BD-3013AD90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4EDEAD-6E6B-4B1E-BBE3-EBEC56A8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DD0783-5088-45ED-AE46-08D552E2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C08517-081F-490B-910D-B6742297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C41B-B738-4A8F-948C-ED8DE42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FFBED1-CD38-462B-BC0F-85EB207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3F0ECC-B79C-49A4-A655-F294514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744244-2709-493A-A615-6415CD0F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9B18C7-F935-4AD6-8F70-035CCF4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C8DBA3-8189-4A3D-948D-4F7D80F8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7E01B7-FD79-431A-AB82-9374252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847500-FC91-4CD8-A95C-049C86A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F0B181-D385-4E1A-A9A7-70683C5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2C158F0-42A0-41D4-9900-09302723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3DABBB-BD68-4B97-BB34-1C4A9F15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D2AC-44BE-4CCF-9270-F25FD61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2AD8A3-55D1-4797-8A08-5FD65927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722F55-152F-4834-A76C-52104F2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4E26533-3217-4A8E-A386-EC424806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45601B-0A59-46C3-9EC5-1E55A9B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DE06752-BA3F-4C5D-82CD-85FD627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A3F04D-6183-4068-A4BE-347AAC3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96082E-C975-4749-B969-368B3A7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BA500DD-C4D3-4B47-8B0B-3BD1CCB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54E409A-2031-4037-BDA1-050E954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22F9C4-DDFA-4A30-A852-5F95050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47A8-3DD5-41F9-ABE7-16D6EED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F71FFD0-0F18-475D-83FF-C044FE3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46BBBF8-5BB2-48A0-8D69-3CDBD3E4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B3C442-F070-4B20-9283-72598917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11E59A-770F-448B-919B-8E8DAE1C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C1B4E8-D5A2-4746-8BAB-A387289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8BBBC8-A4E8-4B05-A37C-69C763B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0D3C1B-9D06-4BA0-8998-D0B43DF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20B2038-BD5E-4188-BE15-2DF28BF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B8EE0D1-6026-45B0-B845-978EDD9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81B60CF-9E1C-4D0A-8E90-0FE49CF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A712-FECF-4016-99F4-17EF50E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04CEDCD-3FEE-4D2A-878A-09C11EE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E5A2BCC-B00E-4924-B9B2-0279F106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F883DC-ECF4-413B-B578-2012FFE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4CECE2-5595-4567-BEB0-26AC873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BF1484D-C6D7-4BF1-BF0E-0841F3C7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9F521A9-97F0-4672-8483-AD0C43D6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C1D407-552F-4A8B-9449-5156B57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3F5C3FD-5DAB-4733-9FC9-E0E0F5B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712B59-5399-45D4-BF89-EE7454E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13D2BCB-8F8C-4A06-A110-DF59060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678E-0073-4D80-AAF5-5B09FDD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8EB6CE-8FAC-48A3-9D8E-8DA9451B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EC4E72-5A20-4288-B085-D6E5BC1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103E1C-37A5-4914-B8BD-AC171EE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4FC649-F0B7-432A-9C2F-C9B29F7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AFC992-0124-4DDD-A98A-70E6650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9B38A7-50F8-42E9-BE01-9248BE64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C58157-9C16-46D1-A581-09F117F4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FA43E28-47E9-468B-80ED-A7B4AA3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76424C-5ABE-4C53-8792-ED5ABCE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AB051C-BB83-413D-9F4F-3C2A069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BF6-7E73-45ED-A2EF-89BCAD7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EC8F8-31C8-4CD9-8C50-1DC20DE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8607D9B-D795-4917-8190-A9A695F8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5ED0D68-29EF-4C61-8814-471CCA6C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D5375F-CF40-477C-8009-DA44D776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74336F-440F-4BA9-90EF-4A057D6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890FFD-5E48-4468-9E37-0EDCFFE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E02F68-27BE-4AE0-95C6-00DD3ED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FA7F9C-CDB1-4D2E-ACC8-056F945D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2283B57-C348-47D4-83D5-2EEAA123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7765EEA-D6A1-4368-B5BC-936F1BB8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3E13813-DD69-4EC2-81D3-8207CE5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7DA9-3AC0-4C4F-8D5E-9E8CD25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5668829-D462-45C7-8FAB-F884DBE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283562-ED8B-4ED2-98DB-F249FE3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ADF41F-8D05-4E5B-9C3F-E0A02E9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394DE3-74A1-4504-85D5-D6E82D4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2FFC5E-12BE-4390-83E0-D2ADF76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392843A-D5EA-4B52-B4F7-2D8440C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C5C1F18-B05A-4786-A4AD-46B5243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D8ABD5-EA49-4D60-8ED1-07906DA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79A6A5E-D456-46BA-A95E-08318ED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B933CFF-06BD-4AAD-9024-BD3F7029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410E-0024-4B9B-9070-95D8A910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41FE3B-80F5-4CBB-90D7-788E82B5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6D98-3E63-4EE2-922A-C190A947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FAE9-A593-41BA-8EF6-C42AF10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12BC-FE10-4F3B-9A5D-68A4EC97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0DC5-F516-4FF5-AEEE-133D6CEA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7FE0-6A67-4588-A5CD-D450C45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BC1C-A845-4327-A8D0-AED2233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DAE0-D3F3-4AF6-BBC5-C6573F1E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C7D-B202-4E3E-84EB-145AF1D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6088-DDB4-463E-B906-DBD64EB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81371-385A-481D-8490-11A18A6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7C78-1FD0-4FE1-AB55-4016241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B7B62-DC22-4BE0-8A68-D6B71B65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2D61-A511-42DE-9FF9-91383EF7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39E1-7D5B-40C7-A5A3-B745210B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1FA8-DCBB-4816-9D48-4C65E668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E5F5D-D7EA-4DA8-B07F-6E9871F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0952-4D79-46C3-90E7-AA6F2B84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A965-0BEB-46A6-B69D-263AD093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246-BBB7-4B6A-8874-358CE1D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B5DE-A972-420B-8494-E8EFA20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B6D2-0B13-49D9-B71A-0D2CC0C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45F1-E28E-46E7-A13E-2EB470D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ABC8-3882-4066-9692-70CBFAC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5453-ED5E-4CBA-939F-544282CB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56431-E9DD-47AE-AD60-0111369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7C4F-CF8A-4FFD-902A-F48E1732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CBC02-5FB0-4036-949E-F3CF6B9F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32C2-7B08-409E-8E36-440C4E0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1DE48-3835-4338-B614-5DBB98C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1E50-BCFB-4F2F-B249-158354245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30D-FB1B-47CA-A9EA-B35CAA8C6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055C-4D08-4EDC-8833-02DD8462B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A94-1CA6-4841-B3FB-B8DD5DA4B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D55-4953-4943-A2CB-C59097CCB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3BA-8419-414A-B9BF-AEC69736F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878-5107-42EE-BCF4-79892155E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DFCC-84D9-4FFE-BAE4-42007A40B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BB7F-0CB0-4582-8033-CEDA02A7BA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EEE3-8B10-4C6C-92F7-5584930156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49AA-5CBF-45D0-932A-819598B954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DF7-40E4-47FC-905E-CD2654F12D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664F-B5E9-4D25-A0FA-8CB448C3C4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BF32-B23D-485D-B340-22ACB45DE1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C477-4345-47AD-81C6-AB517A7E57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762-96AD-4155-B679-7E13E0ECED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636-1BA1-4D6B-A696-37402C9FB2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07D0-FEBB-450B-8779-B414AAF955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6B18-562B-41FE-94C6-A3EC931D75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3E2-46AC-4542-A5FD-E43E5A8EFB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372-E394-4B8E-AE2D-D1BF02B7C7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0C39-4C48-4E6E-85C0-D25D215E3B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4CAD-F840-41DD-AFE4-4399FAD40B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DFF-4047-46F0-9D98-31F80C517A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609-0739-4E5E-AD4F-A93A606A7A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F352-257C-412C-97EE-86DC3277D0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75D-EA37-485B-A8C0-9686B49756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37A-AE8A-420D-9F13-4613C0028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E0A-6803-4CAB-ADD2-86596C8623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A9A-4B35-47F0-B009-EB4DA63DC0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47AB-AC73-4AB7-9D64-8B8E1C7213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294-54E0-496E-AE01-678F931B7A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5E9-BCC7-4B35-B00F-AAC75A45DA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E9B-2CC2-48C9-A570-A71220C7A8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C6A8-F875-42A0-8F53-94CCC0FAA4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E88-2C94-4F4C-AF10-A382533BAD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F12-19BA-4E51-A324-798E976E93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00B-15C7-4036-977E-B968264A59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B10E-107F-4550-B345-233DB26CE7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734-8455-4D01-8E61-0A80904267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8404-9243-4916-97CC-EBFC571949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9F78-0A2B-4A71-8F45-866BF8B3B7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41F-2A24-4F05-928D-B572931515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953-DEBA-4C2D-8D33-520BC915F8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AAA5-BBFA-44A0-914C-8BF0052DAD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8FC-C0D5-4B14-B058-51A961914D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5DD-ADF4-4EF8-84FE-188B315F0E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371E-09F1-446C-A22A-7AEE607025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896-77E7-4BF4-A7FD-09ACA8E7D6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3E51-D21A-49C1-B253-81EDB0E5BE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A73-8529-4CFC-82D5-6FE1798731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066-BF91-4586-B514-571AEBA567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CB60-F9C2-40CF-AC95-F3E64CC1AC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86B-EFF7-429B-A23D-4FD2102669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8071-00C8-4836-B3CB-A89B5B2E69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246-F854-4435-A848-8F505B665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6C71-EB76-4E04-896C-A7286C458C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B86-D3AD-4761-A5C8-7B379A8AB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03C-0305-4F0E-AEEB-68D43C980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BD37-F5FB-4352-AC70-EDC6E64D4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ub-edu.tambov.ru/vjpusk/vjp091/rabot/33/Mos_def_a.gif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osbit.narod.ru/mb1.gi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0" name="Picture 4" descr="2worldwar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5715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8153280" cy="46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Битва за Моск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TextBox 3"/>
          <p:cNvSpPr/>
          <p:nvPr/>
        </p:nvSpPr>
        <p:spPr>
          <a:xfrm>
            <a:off x="2209680" y="4457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подаватель истории МБОУ СОШ №1 г. Большой Ка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умаков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8 героев-панфилов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2" name="Содержимое 3" descr="панфилов.jpg"/>
          <p:cNvPicPr/>
          <p:nvPr/>
        </p:nvPicPr>
        <p:blipFill>
          <a:blip r:embed="rId1"/>
          <a:stretch/>
        </p:blipFill>
        <p:spPr>
          <a:xfrm>
            <a:off x="152280" y="1123920"/>
            <a:ext cx="3200400" cy="3333960"/>
          </a:xfrm>
          <a:prstGeom prst="rect">
            <a:avLst/>
          </a:prstGeom>
          <a:ln w="0">
            <a:noFill/>
          </a:ln>
        </p:spPr>
      </p:pic>
      <p:sp>
        <p:nvSpPr>
          <p:cNvPr id="2493" name="TextBox 4"/>
          <p:cNvSpPr/>
          <p:nvPr/>
        </p:nvSpPr>
        <p:spPr>
          <a:xfrm>
            <a:off x="596880" y="4457880"/>
            <a:ext cx="2374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нфилов Иван Василье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92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Box 5"/>
          <p:cNvSpPr/>
          <p:nvPr/>
        </p:nvSpPr>
        <p:spPr>
          <a:xfrm>
            <a:off x="3492360" y="1028880"/>
            <a:ext cx="5499360" cy="4208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обо отличились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16-я стрелковая дивизия  И.В.Панфило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мандовал, которой удалось задержать продвижение вражеских войск на Волоколамском направле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6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ноября 1941 г. дивизия генерала-майора И.В.Панфилова приостановила на 4 часа продвижение 50 вражеских танков, уничтожив 18 из них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се 28 героев – панфиловцев погибли в бою при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разъезде Дубосеково 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7 км от города Волоколам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Зоя Космодемья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6" name="Содержимое 3" descr="Космодемьянская.jpg"/>
          <p:cNvPicPr/>
          <p:nvPr/>
        </p:nvPicPr>
        <p:blipFill>
          <a:blip r:embed="rId1"/>
          <a:stretch/>
        </p:blipFill>
        <p:spPr>
          <a:xfrm>
            <a:off x="77760" y="1181160"/>
            <a:ext cx="2665440" cy="2759040"/>
          </a:xfrm>
          <a:prstGeom prst="rect">
            <a:avLst/>
          </a:prstGeom>
          <a:ln w="0">
            <a:noFill/>
          </a:ln>
        </p:spPr>
      </p:pic>
      <p:sp>
        <p:nvSpPr>
          <p:cNvPr id="2497" name="TextBox 4"/>
          <p:cNvSpPr/>
          <p:nvPr/>
        </p:nvSpPr>
        <p:spPr>
          <a:xfrm>
            <a:off x="0" y="41529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23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Box 5"/>
          <p:cNvSpPr/>
          <p:nvPr/>
        </p:nvSpPr>
        <p:spPr>
          <a:xfrm>
            <a:off x="2819520" y="876240"/>
            <a:ext cx="617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одилась в 1923 году в Тамбовской обл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чилась в одной из московских школ и мечтала поступить в Литературный инстит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енью 1941 г. ушла добровольцем в партизанский отря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Занималась минированием дорог, поджогом домов в деревне Петрищево Московской области, в которых располагались немецкие офицеры и солд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скоре ее поймали немцы, после долгих допросов и пыток она была казне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Содержимое 3" descr="Зоя.jpg"/>
          <p:cNvPicPr/>
          <p:nvPr/>
        </p:nvPicPr>
        <p:blipFill>
          <a:blip r:embed="rId1"/>
          <a:stretch/>
        </p:blipFill>
        <p:spPr>
          <a:xfrm>
            <a:off x="671400" y="0"/>
            <a:ext cx="7635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лалихин Викто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2" name="Содержимое 3" descr="Талалихин.jpg"/>
          <p:cNvPicPr/>
          <p:nvPr/>
        </p:nvPicPr>
        <p:blipFill>
          <a:blip r:embed="rId1"/>
          <a:stretch/>
        </p:blipFill>
        <p:spPr>
          <a:xfrm>
            <a:off x="152280" y="1333440"/>
            <a:ext cx="2592360" cy="3000600"/>
          </a:xfrm>
          <a:prstGeom prst="rect">
            <a:avLst/>
          </a:prstGeom>
          <a:ln w="0">
            <a:noFill/>
          </a:ln>
        </p:spPr>
      </p:pic>
      <p:sp>
        <p:nvSpPr>
          <p:cNvPr id="2503" name="TextBox 4"/>
          <p:cNvSpPr/>
          <p:nvPr/>
        </p:nvSpPr>
        <p:spPr>
          <a:xfrm>
            <a:off x="304920" y="438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18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Box 5"/>
          <p:cNvSpPr/>
          <p:nvPr/>
        </p:nvSpPr>
        <p:spPr>
          <a:xfrm>
            <a:off x="2895480" y="1117440"/>
            <a:ext cx="6019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 войны работал на Московском мясокомбина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явил себя как выдающийся военный летчик еще в годы Советско-финской войны 1939 – 1940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годы Великой Отечественной войны  произве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более 60 вылет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воздушном бою в ночь на 7 августа 1941 года при отражении очередного налёта немецкой авиации на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оскву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сбил таранным ударом немецкий бомбардировщик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гиб смертью храбрых в схватке с вражескими   истребителями около Подольска 27 октября 1941 г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ext Box 5"/>
          <p:cNvSpPr/>
          <p:nvPr/>
        </p:nvSpPr>
        <p:spPr>
          <a:xfrm>
            <a:off x="380880" y="127080"/>
            <a:ext cx="32004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ор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стантино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у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6" name="Picture 6" descr="img016"/>
          <p:cNvPicPr/>
          <p:nvPr/>
        </p:nvPicPr>
        <p:blipFill>
          <a:blip r:embed="rId1"/>
          <a:stretch/>
        </p:blipFill>
        <p:spPr>
          <a:xfrm>
            <a:off x="76320" y="1638360"/>
            <a:ext cx="3657600" cy="3703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2507" name="Rectangle 7"/>
          <p:cNvSpPr/>
          <p:nvPr/>
        </p:nvSpPr>
        <p:spPr>
          <a:xfrm>
            <a:off x="3886200" y="0"/>
            <a:ext cx="5105520" cy="5524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В конце ноябр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в тыло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йоне, позади Западн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рянского фронтов, бы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средоточены свеж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визии, прибывшие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льнего Востока, из Сибир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Урала. Г.К. Жуков предлож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ейти к контрнаступлен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е предложение он обоснов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к: </a:t>
            </a: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«Противник истощ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Но если мы сейчас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ликвидируем опас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ражеские вклинения, нем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могут подкрепить сво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ойска крупными резервами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и тогда положение мож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ерьезно осложнитьс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AutoShape 3"/>
          <p:cNvSpPr/>
          <p:nvPr/>
        </p:nvSpPr>
        <p:spPr>
          <a:xfrm>
            <a:off x="228600" y="190440"/>
            <a:ext cx="8686800" cy="127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отношение сил и средст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к 5 декабря 1941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9" name=""/>
          <p:cNvGraphicFramePr/>
          <p:nvPr/>
        </p:nvGraphicFramePr>
        <p:xfrm>
          <a:off x="304920" y="1587600"/>
          <a:ext cx="8534160" cy="3741480"/>
        </p:xfrm>
        <a:graphic>
          <a:graphicData uri="http://schemas.openxmlformats.org/drawingml/2006/table">
            <a:tbl>
              <a:tblPr/>
              <a:tblGrid>
                <a:gridCol w="3276360"/>
                <a:gridCol w="1295640"/>
                <a:gridCol w="1828800"/>
                <a:gridCol w="2133360"/>
              </a:tblGrid>
              <a:tr h="7873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РК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Вермах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оотно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7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65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3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анк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7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7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амол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6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,6 : 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6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840" y="38160"/>
            <a:ext cx="4116240" cy="5611680"/>
          </a:xfrm>
          <a:prstGeom prst="rect">
            <a:avLst/>
          </a:prstGeom>
          <a:ln w="0">
            <a:noFill/>
          </a:ln>
        </p:spPr>
      </p:pic>
      <p:sp>
        <p:nvSpPr>
          <p:cNvPr id="2511" name="Rectangle 7"/>
          <p:cNvSpPr/>
          <p:nvPr/>
        </p:nvSpPr>
        <p:spPr>
          <a:xfrm>
            <a:off x="4419720" y="647640"/>
            <a:ext cx="4603680" cy="3886200"/>
          </a:xfrm>
          <a:prstGeom prst="rect">
            <a:avLst/>
          </a:prstGeom>
          <a:solidFill>
            <a:srgbClr val="4a45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5-6 декабря 1941 г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ветс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йск под Моск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Text Box 6"/>
          <p:cNvSpPr/>
          <p:nvPr/>
        </p:nvSpPr>
        <p:spPr>
          <a:xfrm>
            <a:off x="457200" y="190440"/>
            <a:ext cx="815328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первые же дни были освобождены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города Калинин(Тверь), Солнечногорск, Клин, Ис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7"/>
          <p:cNvSpPr/>
          <p:nvPr/>
        </p:nvSpPr>
        <p:spPr>
          <a:xfrm>
            <a:off x="461880" y="1562040"/>
            <a:ext cx="8148600" cy="1557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сего в ходе зимнего наступления советские войска разгромили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38 немецких дивизий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вободили 11 тысяч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раг был отброшен на 100-250 км от Мос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Line 10"/>
          <p:cNvSpPr/>
          <p:nvPr/>
        </p:nvSpPr>
        <p:spPr>
          <a:xfrm>
            <a:off x="6858000" y="20955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Прямоугольник 1"/>
          <p:cNvSpPr/>
          <p:nvPr/>
        </p:nvSpPr>
        <p:spPr>
          <a:xfrm>
            <a:off x="152280" y="3314880"/>
            <a:ext cx="8763120" cy="1618560"/>
          </a:xfrm>
          <a:prstGeom prst="rect">
            <a:avLst/>
          </a:prstGeom>
          <a:solidFill>
            <a:srgbClr val="d1d1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нтрнаступление под Москвой было превращено в общее наступление по всему фронту, которое продолжалось до апреля  1942 г. За это время были полностью освобожде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осковская и Тульская  области, многие райо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лининской, Смоленской,  Рязанской и Орловской обла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Text Box 9"/>
          <p:cNvSpPr/>
          <p:nvPr/>
        </p:nvSpPr>
        <p:spPr>
          <a:xfrm>
            <a:off x="104760" y="1357200"/>
            <a:ext cx="8810640" cy="3765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беда под Москвой означала крах немецких войск»молниеносной войны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Япония и Турция окончательно отказались от вступления в войну на стороне Герм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веян  миф о непобедимости германск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вое  крупное поражение Германии во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рой мировой вой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ое командование не пытало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ольше организовывать наступательные оп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Московском направл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скорен процесс создания антигитлеровской коали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AutoShape 5"/>
          <p:cNvSpPr/>
          <p:nvPr/>
        </p:nvSpPr>
        <p:spPr>
          <a:xfrm>
            <a:off x="228600" y="190440"/>
            <a:ext cx="8610480" cy="1067040"/>
          </a:xfrm>
          <a:prstGeom prst="downArrowCallout">
            <a:avLst>
              <a:gd name="adj1" fmla="val -35556"/>
              <a:gd name="adj2" fmla="val 42626"/>
              <a:gd name="adj3" fmla="val 16667"/>
              <a:gd name="adj4" fmla="val 66667"/>
            </a:avLst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Значение Московской битв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Text Box 5"/>
          <p:cNvSpPr/>
          <p:nvPr/>
        </p:nvSpPr>
        <p:spPr>
          <a:xfrm>
            <a:off x="304920" y="133200"/>
            <a:ext cx="8534160" cy="11912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ему фашистским войскам не удалось взять Москв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tangle 6"/>
          <p:cNvSpPr/>
          <p:nvPr/>
        </p:nvSpPr>
        <p:spPr>
          <a:xfrm>
            <a:off x="304920" y="1473120"/>
            <a:ext cx="8534160" cy="412776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ойкость и героизм советских вои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лководческое искусство советс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оенача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Использование советским командова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вежих резер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Стратегические просчеты герман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ования, некомпетент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мешательство Гитлера в военные пл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еподготовленность германских войс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 ведению боевых действий в зимн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слов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15640" y="-360"/>
            <a:ext cx="8775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Text Box 7"/>
          <p:cNvSpPr/>
          <p:nvPr/>
        </p:nvSpPr>
        <p:spPr>
          <a:xfrm>
            <a:off x="76320" y="700200"/>
            <a:ext cx="4114800" cy="44830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порное сопротивление Красной Армии под Смоленском, Ленинградом, Киевом, Одессой, на многих других участках фронта не позволило осуществить планы немецкого командования по захвату Москвы к началу ос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Прямоугольник 1"/>
          <p:cNvSpPr/>
          <p:nvPr/>
        </p:nvSpPr>
        <p:spPr>
          <a:xfrm>
            <a:off x="4343400" y="711360"/>
            <a:ext cx="4800600" cy="3995280"/>
          </a:xfrm>
          <a:prstGeom prst="rect">
            <a:avLst/>
          </a:prstGeom>
          <a:solidFill>
            <a:srgbClr val="f2f2f2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ля захвата Мос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был подготовлен пл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Arial Black"/>
              </a:rPr>
              <a:t>«Тайфун».</a:t>
            </a: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емцы попытали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остичь на э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правлении троекрат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ревосходства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й силе(в 3-4 раза) и технике: танков- в 2-8раз, артиллерии –в 4-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Text Box 4"/>
          <p:cNvSpPr/>
          <p:nvPr/>
        </p:nvSpPr>
        <p:spPr>
          <a:xfrm>
            <a:off x="875160" y="52070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194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7" name="Picture 5" descr="Рисунок7"/>
          <p:cNvPicPr/>
          <p:nvPr/>
        </p:nvPicPr>
        <p:blipFill>
          <a:blip r:embed="rId1"/>
          <a:stretch/>
        </p:blipFill>
        <p:spPr>
          <a:xfrm>
            <a:off x="158760" y="93600"/>
            <a:ext cx="365760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468" name="Picture 6" descr="Картинка 56 из 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93600"/>
            <a:ext cx="4876920" cy="69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69" name="Text Box 9"/>
          <p:cNvSpPr/>
          <p:nvPr/>
        </p:nvSpPr>
        <p:spPr>
          <a:xfrm>
            <a:off x="4038480" y="1028880"/>
            <a:ext cx="4953240" cy="41248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30 сентября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чалось генеральное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аступление немцев на Мос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м удалось не только прорвать оборону упорно сопротивлявшихся советских войск, но и окружить 4 армии западнее Вязьмы и две- южнее Брян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AutoShape 3"/>
          <p:cNvSpPr/>
          <p:nvPr/>
        </p:nvSpPr>
        <p:spPr>
          <a:xfrm>
            <a:off x="0" y="190440"/>
            <a:ext cx="883908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Black"/>
              </a:rPr>
              <a:t>Битва за Москву 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30 сентября 1941 г. – апрель 194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AutoShape 4"/>
          <p:cNvSpPr/>
          <p:nvPr/>
        </p:nvSpPr>
        <p:spPr>
          <a:xfrm>
            <a:off x="228600" y="2933640"/>
            <a:ext cx="4191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Оборо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ериод бит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30 сентября 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5 декаб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1941 г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AutoShape 5"/>
          <p:cNvSpPr/>
          <p:nvPr/>
        </p:nvSpPr>
        <p:spPr>
          <a:xfrm>
            <a:off x="4648320" y="285768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расной Арм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д Москв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5 декабря 1941 г.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прель 194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AutoShape 6"/>
          <p:cNvSpPr/>
          <p:nvPr/>
        </p:nvSpPr>
        <p:spPr>
          <a:xfrm>
            <a:off x="2133720" y="1968480"/>
            <a:ext cx="380880" cy="889200"/>
          </a:xfrm>
          <a:prstGeom prst="downArrow">
            <a:avLst>
              <a:gd name="adj1" fmla="val 50000"/>
              <a:gd name="adj2" fmla="val 70038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AutoShape 7"/>
          <p:cNvSpPr/>
          <p:nvPr/>
        </p:nvSpPr>
        <p:spPr>
          <a:xfrm>
            <a:off x="6705720" y="1943280"/>
            <a:ext cx="380880" cy="888840"/>
          </a:xfrm>
          <a:prstGeom prst="downArrow">
            <a:avLst>
              <a:gd name="adj1" fmla="val 50000"/>
              <a:gd name="adj2" fmla="val 70009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5"/>
          <p:cNvSpPr/>
          <p:nvPr/>
        </p:nvSpPr>
        <p:spPr>
          <a:xfrm>
            <a:off x="304920" y="114480"/>
            <a:ext cx="8610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Соотношение сил и сред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к 30 сентября 1941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0" y="1181160"/>
          <a:ext cx="9067680" cy="4306680"/>
        </p:xfrm>
        <a:graphic>
          <a:graphicData uri="http://schemas.openxmlformats.org/drawingml/2006/table">
            <a:tbl>
              <a:tblPr/>
              <a:tblGrid>
                <a:gridCol w="3124080"/>
                <a:gridCol w="1524240"/>
                <a:gridCol w="2057400"/>
                <a:gridCol w="2361960"/>
              </a:tblGrid>
              <a:tr h="9298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РК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Вермах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отношение</a:t>
                      </a: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71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88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Та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амол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6" descr="stiker_bitva_za_moskvu"/>
          <p:cNvPicPr/>
          <p:nvPr/>
        </p:nvPicPr>
        <p:blipFill>
          <a:blip r:embed="rId1"/>
          <a:stretch/>
        </p:blipFill>
        <p:spPr>
          <a:xfrm>
            <a:off x="76320" y="311040"/>
            <a:ext cx="3732120" cy="4991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8" name="Text Box 10"/>
          <p:cNvSpPr/>
          <p:nvPr/>
        </p:nvSpPr>
        <p:spPr>
          <a:xfrm>
            <a:off x="3886200" y="66600"/>
            <a:ext cx="5257800" cy="119124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лен к немцам попали 663 тыс. человек. Но и окруженные советские войска продолжали сковывать до 20 немецких дивиз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11"/>
          <p:cNvSpPr/>
          <p:nvPr/>
        </p:nvSpPr>
        <p:spPr>
          <a:xfrm>
            <a:off x="3962520" y="1333440"/>
            <a:ext cx="5181480" cy="8863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ующий Западным фронтом- генерал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Г.К.Жу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5"/>
          <p:cNvSpPr/>
          <p:nvPr/>
        </p:nvSpPr>
        <p:spPr>
          <a:xfrm>
            <a:off x="3809880" y="2552760"/>
            <a:ext cx="5181840" cy="13341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 середине октября враг вплотную подошел к сто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немецкие бинокли отлично просматривались башни Крем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7"/>
          <p:cNvSpPr/>
          <p:nvPr/>
        </p:nvSpPr>
        <p:spPr>
          <a:xfrm>
            <a:off x="3809880" y="4000680"/>
            <a:ext cx="5334120" cy="14655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 решению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ГКО началась эвакуация из Москв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ы правительственных учреждений, дипломатов зарубежных государств, крупных промышленных предприятий, насе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2" name="Picture 4" descr="5"/>
          <p:cNvPicPr/>
          <p:nvPr/>
        </p:nvPicPr>
        <p:blipFill>
          <a:blip r:embed="rId1"/>
          <a:srcRect l="1964" t="0" r="0" b="0"/>
          <a:stretch/>
        </p:blipFill>
        <p:spPr>
          <a:xfrm>
            <a:off x="0" y="952560"/>
            <a:ext cx="9144000" cy="4576680"/>
          </a:xfrm>
          <a:prstGeom prst="rect">
            <a:avLst/>
          </a:prstGeom>
          <a:ln w="0">
            <a:noFill/>
          </a:ln>
        </p:spPr>
      </p:pic>
      <p:sp>
        <p:nvSpPr>
          <p:cNvPr id="2483" name="Rectangle 5"/>
          <p:cNvSpPr/>
          <p:nvPr/>
        </p:nvSpPr>
        <p:spPr>
          <a:xfrm>
            <a:off x="152280" y="127080"/>
            <a:ext cx="8534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Black"/>
              </a:rPr>
              <a:t>7 ноября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 Красной площади прошел пара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Его участники сразу же отправлялись на фро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 Box 4"/>
          <p:cNvSpPr/>
          <p:nvPr/>
        </p:nvSpPr>
        <p:spPr>
          <a:xfrm>
            <a:off x="1447920" y="190440"/>
            <a:ext cx="3504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8"/>
          <p:cNvSpPr/>
          <p:nvPr/>
        </p:nvSpPr>
        <p:spPr>
          <a:xfrm>
            <a:off x="177840" y="501480"/>
            <a:ext cx="8813880" cy="105984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ыли подготовлены к взрыву все важнейшие объекты города на случай прорыва нем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20 октября в Москве было введено осадное по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9"/>
          <p:cNvSpPr/>
          <p:nvPr/>
        </p:nvSpPr>
        <p:spPr>
          <a:xfrm>
            <a:off x="177840" y="2155680"/>
            <a:ext cx="8813880" cy="16084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олоссальным напряжением сил, беспримерным мужеством и героизмом защитников столицы наступление немцев в первых числах ноября было остановле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7 ноября, как и прежде, на Красной площади состоялся военный парад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10"/>
          <p:cNvSpPr/>
          <p:nvPr/>
        </p:nvSpPr>
        <p:spPr>
          <a:xfrm>
            <a:off x="228600" y="4219560"/>
            <a:ext cx="8686800" cy="9169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днако в середине ноября немецкое наступление возобновилось с новой силой. Лишь упорное сопротивление советских воинов спасло столиц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8" name="Picture 2" descr=""/>
          <p:cNvPicPr/>
          <p:nvPr/>
        </p:nvPicPr>
        <p:blipFill>
          <a:blip r:embed="rId1"/>
          <a:stretch/>
        </p:blipFill>
        <p:spPr>
          <a:xfrm>
            <a:off x="189000" y="952560"/>
            <a:ext cx="4002120" cy="4049640"/>
          </a:xfrm>
          <a:prstGeom prst="rect">
            <a:avLst/>
          </a:prstGeom>
          <a:ln w="0">
            <a:noFill/>
          </a:ln>
        </p:spPr>
      </p:pic>
      <p:sp>
        <p:nvSpPr>
          <p:cNvPr id="2489" name="Прямоугольник 1"/>
          <p:cNvSpPr/>
          <p:nvPr/>
        </p:nvSpPr>
        <p:spPr>
          <a:xfrm>
            <a:off x="4419720" y="876240"/>
            <a:ext cx="4495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Легендарным стал подвиг группы бойцов во главе с 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политруком В. Г. Клочковы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долго задержавшей более 30 танков против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Всю страну облетели слова Клочкова, сказанные им солдатам: </a:t>
            </a:r>
            <a:r>
              <a:rPr b="0" lang="ru-RU" sz="2200" spc="-1" strike="noStrike">
                <a:solidFill>
                  <a:srgbClr val="c00000"/>
                </a:solidFill>
                <a:latin typeface="Arial Black"/>
              </a:rPr>
              <a:t>«Велика Россия, а отступать некуда: позади — Москва!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Прямоугольник 3"/>
          <p:cNvSpPr/>
          <p:nvPr/>
        </p:nvSpPr>
        <p:spPr>
          <a:xfrm>
            <a:off x="457200" y="0"/>
            <a:ext cx="754380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. Г. Клоч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5T01:39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