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54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theme/theme56.xml" ContentType="application/vnd.openxmlformats-officedocument.theme+xml"/>
  <Override PartName="/ppt/theme/theme25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media/image13.gif" ContentType="image/gif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</p:sldMasterIdLst>
  <p:sldIdLst>
    <p:sldId id="256" r:id="rId62"/>
    <p:sldId id="257" r:id="rId63"/>
    <p:sldId id="258" r:id="rId64"/>
    <p:sldId id="259" r:id="rId65"/>
    <p:sldId id="260" r:id="rId66"/>
    <p:sldId id="261" r:id="rId67"/>
    <p:sldId id="262" r:id="rId68"/>
    <p:sldId id="263" r:id="rId69"/>
    <p:sldId id="264" r:id="rId70"/>
    <p:sldId id="265" r:id="rId71"/>
    <p:sldId id="266" r:id="rId72"/>
    <p:sldId id="267" r:id="rId73"/>
    <p:sldId id="268" r:id="rId74"/>
    <p:sldId id="269" r:id="rId75"/>
    <p:sldId id="270" r:id="rId76"/>
    <p:sldId id="271" r:id="rId77"/>
    <p:sldId id="272" r:id="rId78"/>
    <p:sldId id="273" r:id="rId79"/>
    <p:sldId id="274" r:id="rId80"/>
  </p:sldIdLst>
  <p:sldSz cx="9144000" cy="5716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" Target="slides/slide1.xml"/><Relationship Id="rId63" Type="http://schemas.openxmlformats.org/officeDocument/2006/relationships/slide" Target="slides/slide2.xml"/><Relationship Id="rId64" Type="http://schemas.openxmlformats.org/officeDocument/2006/relationships/slide" Target="slides/slide3.xml"/><Relationship Id="rId65" Type="http://schemas.openxmlformats.org/officeDocument/2006/relationships/slide" Target="slides/slide4.xml"/><Relationship Id="rId66" Type="http://schemas.openxmlformats.org/officeDocument/2006/relationships/slide" Target="slides/slide5.xml"/><Relationship Id="rId67" Type="http://schemas.openxmlformats.org/officeDocument/2006/relationships/slide" Target="slides/slide6.xml"/><Relationship Id="rId68" Type="http://schemas.openxmlformats.org/officeDocument/2006/relationships/slide" Target="slides/slide7.xml"/><Relationship Id="rId69" Type="http://schemas.openxmlformats.org/officeDocument/2006/relationships/slide" Target="slides/slide8.xml"/><Relationship Id="rId70" Type="http://schemas.openxmlformats.org/officeDocument/2006/relationships/slide" Target="slides/slide9.xml"/><Relationship Id="rId71" Type="http://schemas.openxmlformats.org/officeDocument/2006/relationships/slide" Target="slides/slide10.xml"/><Relationship Id="rId72" Type="http://schemas.openxmlformats.org/officeDocument/2006/relationships/slide" Target="slides/slide11.xml"/><Relationship Id="rId73" Type="http://schemas.openxmlformats.org/officeDocument/2006/relationships/slide" Target="slides/slide12.xml"/><Relationship Id="rId74" Type="http://schemas.openxmlformats.org/officeDocument/2006/relationships/slide" Target="slides/slide13.xml"/><Relationship Id="rId75" Type="http://schemas.openxmlformats.org/officeDocument/2006/relationships/slide" Target="slides/slide14.xml"/><Relationship Id="rId76" Type="http://schemas.openxmlformats.org/officeDocument/2006/relationships/slide" Target="slides/slide15.xml"/><Relationship Id="rId77" Type="http://schemas.openxmlformats.org/officeDocument/2006/relationships/slide" Target="slides/slide16.xml"/><Relationship Id="rId78" Type="http://schemas.openxmlformats.org/officeDocument/2006/relationships/slide" Target="slides/slide17.xml"/><Relationship Id="rId79" Type="http://schemas.openxmlformats.org/officeDocument/2006/relationships/slide" Target="slides/slide18.xml"/><Relationship Id="rId80" Type="http://schemas.openxmlformats.org/officeDocument/2006/relationships/slide" Target="slides/slide19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990-962B-4F8D-92B2-236F48EE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E5E-B27F-4714-AD4D-153116E9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052DB-A084-4C95-8571-1576E0E4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F822F-84D2-4BDB-83D0-28D0A6DA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1FC86-B8C8-4B81-A591-F4B1E0C6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68967-1568-4F72-9CE8-E6C88848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F682F-8233-4CA9-9CE5-4F6D5AAE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6B350-078A-45B5-BF8E-78F66228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13054-D70E-478F-8753-C83C3A04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35C2C7-3E41-4C39-8E75-F6F850A44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227C8-8682-4E5A-8419-125CFA04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BF624-AAFC-429B-8FB2-8082605C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E1D-5024-4ECF-B314-7719E43E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B4F9C-138D-4DCC-A1CB-C14FAA8C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0969C-D1FC-4EFE-9F9F-C3163160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97E66-179D-49BD-86B3-3F284ACD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0D97D-E69C-4285-B33E-118455DA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771815-529C-49B0-B8DE-563C765B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E4150-F31B-4417-BE35-69E57CCF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9DCC7-BD68-4211-AA0F-7E7969A5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738C0-E8BF-477B-99ED-C00466E8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90C1E-943A-42D9-B193-13BB2C9A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97867-C5B2-405C-ABAC-16609E73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84A-291B-44BA-A6B0-A814E6A5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E06B4-6A05-40BD-99DE-4AFD8DB7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7C873-979F-450A-BDC4-74204A0AA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F9DCF-4EE5-439E-AB69-49840E9D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B301E-0F34-4828-B86B-83E83127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323D4-5CCA-42C4-B58E-EBD865A6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8A222-F6D4-4234-AAE8-5CE87B47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762AF-B62F-44CA-8663-5EDF915C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28EA5-980A-4D10-8F7C-6FA289EE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50213-9249-4354-B968-DEF5A911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55F205-50DB-42EF-8DC8-29926D8B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D712-F4B2-4E1C-B75C-A4B2202D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B9F41-C75A-47C5-8A30-47342599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18FB9-C359-4C28-B314-D081A15B1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ED475C-DB1D-467C-91AB-DC7ACEFB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3569B-350D-4993-9E9A-86F7FFE3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744AD-22BE-47DC-9626-60161AD3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CDED2-B3C6-4F0F-AD76-76659976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16C77-D771-438B-BFB2-31109BC7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3CE6AF-128C-49F2-9204-E1B7562C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54CD9-F2FC-44EA-98E5-25C66D8C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EA784-3046-4A34-8243-E604BF79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B760-353F-4E4B-B9B0-0EAC38E2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B8CF4-9535-4E21-B152-7A139EBE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E0261-06DB-40B8-B0F8-4FEA8CDC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E63FF-149A-4256-A704-AF2C08EE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DE135-4340-4194-8632-9B55D7D5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547AE-2516-4992-AFB1-309FB5B00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AA444-9DFB-4D0E-953D-98348FCD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8E72E5-3E47-487E-80AE-961FFA56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36EDB-3BD3-41DC-AECB-3A6B08C8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1DF97-6B7B-4122-AE91-FF175E23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02711-229B-4248-865C-F7953F58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A998-3E62-4837-B6DD-71BA70B6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ACD94D-2661-4151-A8BB-1F00C3D8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FBBF8-80BC-4AEF-9408-A03234B5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9E703-7676-4C71-B4CD-2255FE83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A5F11-1C14-4E6F-B39C-3D7AD9C3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BB502-59DB-4977-9247-6F8A8E60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C51EE-BE1B-4552-AC17-79AD0AF1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001316-B3D0-4D02-B00A-B942A7E9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580C7-892B-47BB-AB83-A028584F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EC508-D3D8-476E-845D-8A59F585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1E81CC-D5F8-4ABE-8A61-3A7E227D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991E-1717-4399-B2DD-D6680772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225AA3-37CA-415F-AE2C-48C24043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CC4474-0A96-4C86-80B5-0E8663B5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D9BD0E-70F6-4DCE-A0E5-55923FCF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AE141D-1B9A-41C5-9B3F-F5F736C8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07131-FC81-4EA3-B2F6-DE6A85EB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5BD1B-69C8-4BF6-A978-0D47D637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3F9D6-0B66-47E3-AB78-CEF5B013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DF6D3-59A4-4D3B-A6D2-99F64326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AAA96-A062-4AD6-BBAD-46980EE61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3366D1-FBD8-451F-B9DC-2114E98E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48D8-F99B-473C-AB39-56BA471E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682319-5B6D-4D18-BC06-1ECE3201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9B236E-A725-4BCB-A75A-F2EFCC82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0D88E-E735-48F5-AE0E-28ADE523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8EE717-5E0A-4541-81E3-2AC0B1AD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295BE-7220-4A92-A681-C7F35533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DEDD08-027B-4088-BD97-6CB9F1BD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9C03F5-D24A-4C03-8CB4-EC7A33E9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C048A-AB9B-47C2-A105-69093E99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7784C9-2614-42A6-94BA-045900D3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90B43D-50FE-435B-BF35-4A44C43A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EC0F-3A64-424E-ADB0-6892CA20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3A1EB-028F-45EE-B773-FC4F37CB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92E769-3CFD-4C68-A9B0-29535EC2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DD849-0BA7-4D83-8369-6699A427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CC3063-91E1-47A9-AE6A-0B0BF4DE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54384C-9734-45DC-A495-EE145B4B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6D448C-A346-4D9B-A7A6-E3193871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2A599-8971-432D-AF41-3B85904C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DFFF0E-A11A-4F84-87B6-1B312FD3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5EE9B4-8921-4B4A-8B8E-74E47963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BA7E5-1352-451C-963D-7EE8CC21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7D18-B382-48CE-B0D9-3CD3EC51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B4CE9-49C3-4898-B476-4B3451C5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4E6488-D6A1-4AD4-91B0-68926483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7598DF-176C-4E27-AD1A-D6A6D312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93FA9A-1BF8-41C9-AB28-EAC2BB0E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95E87B-7B3F-4994-8DA4-DAE814B3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4934F4-13B8-447D-BE6C-69426894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5B7242-4441-4308-AACD-B943DDEF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55AC18-9D4A-40D7-8533-CAFF18DB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721F8C-6FAE-4E7B-ABB6-FDDA5FC8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8F73B9-1FC5-408D-9315-59F85C98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7899-542E-4445-A359-2300B0CC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066C-C61C-4705-9DEA-60B3EF4A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D25382-CF26-4787-95D2-4A8FEEC4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1AEEBE-AD09-498B-AAF1-A0322266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AFE1A-7CE9-4095-B0B1-E2FCB156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1B73BB-1AAA-4404-B4F9-32BEC6F6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6411B6-2AD7-4EE8-8FDB-837BEEF8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5C47A5-1355-43FE-B00A-303B2F6A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A9AF89-922E-4056-9FCE-07E0495C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C537FC-CF40-4845-88AA-2C0C1A49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25D1B7-521C-499D-A132-D4C1A28C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DBCF82-61C0-4A7D-A6F0-C6D57FA9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B698-FEEC-43A6-83A1-B3AA8559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8C2A92-5891-46D9-AA99-643DB31C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2D560F-7854-457A-B712-6F5F8382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3633C8-ABEC-4DDD-AF9E-EAFBE8C6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066DF9-0974-4555-B1AE-DB429372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C9077D-E7EB-49C5-A1E1-945FA66F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8B7EA4-9335-4460-BC6A-68D2516D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265471-9374-4B86-B871-36A284E8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6B5BB3-16F7-4E98-9454-849EA0F9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5F7871-84FA-494B-8596-577B11F0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B32C9-04E2-43C6-8E1C-A8132C2B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9925-6B2F-44F6-B298-9DEFEFFF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E639CC-0BB5-434F-9FA7-1FF097C0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A9CD9E-4663-4839-9628-E4F3DDEC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204237-F4C7-48F4-89B7-CDF39400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6A82FE-7AF6-4A06-89C7-F09C241A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E42F04-4EBB-49EC-A4DD-8373B2F0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9BB44B-BDF8-4F5C-8D87-F2F0EBBD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EC754E-4F32-4839-8009-734101D3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03DEC6-BD1C-4407-9F02-685FEA0C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F0C679-6F48-4590-9E0A-2CF2B984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3F5166-E5C3-455E-B049-0B865B9D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F5B5-0F5A-473C-A324-91A187C6E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4D922F-7890-45D9-886A-5789D9B8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D0CEC-2039-4BBE-A23B-6F023089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BD4D61-1AE1-4DCE-89A2-351A2C63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A54C2C-525B-4099-8C02-A6185F1E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AE7A2A-429F-44AB-8FC1-712423F6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E686A9-4E85-4531-B232-A0AB9577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3F0090-8F0A-406A-A633-0975465C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DC153C-0D8C-4668-A282-12C07506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4F71CD-924B-493A-A6F7-24E36667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C6DC89-C50F-4A8B-80E6-21538300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AC92-B8DA-457A-B359-8D3A6985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023778-96AC-4C8E-856E-F39EBA04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691812-F9F0-4332-A9D0-93767321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C44177-36B5-420B-B70D-9843D74D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183400-0D72-4923-8BFF-AD013BEF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C1E67C-769F-4ABA-B332-9A142794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855971-C89D-40F7-A046-49879973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44491D-0DE5-40A0-9281-9A0B9393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F8CAA8-4153-4599-8F6B-ED7AA395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B8B7B4-FF35-4FB6-AB8E-EF70E0CD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53FB49-FA2C-4B83-9F28-7E85677C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4BC29-C555-4CD7-8DAE-42CD30C4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33E04D-9F5D-4288-B2E5-0CAFE072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CB5C41-F211-4D6F-8AE7-139F9A05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CF500B-4266-48A6-995F-865770D4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A94F42-C84D-476A-AC63-02D91C5D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598815-EFEC-469A-81D1-07F049C7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A3A704-9096-412B-95E5-EBC2D884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CA684F-850F-45E4-BEA4-AA14EB8E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BA4C56-27E0-4324-89AB-1E25FDCF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DB0987-21D5-40D8-9D49-191CAB41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7C45CC-7D29-480B-8002-963ADE85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8AE01-7773-4891-A8CE-995C4807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B33652-6650-4487-AC7C-B1DA0A45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86F50F-35C3-48D5-A595-53A64CBC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6CA9B8-57B1-4A9A-A2F0-0F35C057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4CFE26-6344-4826-866A-C716ABB4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2275ED-C961-470C-AF7A-31091070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B5BCE5-9112-47B0-AF10-FDFC80CE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1EF3A6-EBB4-4617-B2F4-00476D9B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A33BD3-C2EC-4F4E-A107-2F0190E1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C27578-32ED-4750-8967-EB64142C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B57D0E-FD99-431D-A837-BC6EFF34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148A1-4889-4BA9-86FA-7B4EAEE2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2F25BF-C1CA-48FE-9629-D5AFD51B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A31638-CD19-446F-B4B5-D60B3215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E61342-CDE5-45C0-BA37-5324C848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D433F4-D7A8-4F95-9926-A9A8BBAF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A03DAA-BA7A-4DCE-A98A-9EC25B9F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46ECE9-83CA-4E3D-A88F-4C170E31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BF3AE9-423E-40EE-AF47-02C64C8C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2AA53D-D027-4445-86C7-2AAC83FB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F8F3C1-96B9-499C-BB4B-04241407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A11FE7-8F72-49ED-A7C4-C5F62CD7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240D0-0B9A-4BA1-8DD9-D4C7EA8E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D57257-A329-4D0D-A972-8E2D007E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6EE294-A2C0-4127-B86D-6DC04131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2961DA-8940-41A7-8420-8A5215BA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7B5648-6BC4-4796-A9B4-AB374F38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9063EF-A0D1-4456-ACF3-DB5B67CC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ADB0BD-78A1-4643-946E-F9882E54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0F986C-0138-439C-90C9-C9CD6A88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DCF2EB-4502-4E46-8FF0-ADD05381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A15AF3-28CB-47B6-83BF-85680C30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C3BA2E-F43A-4E6A-B16C-3D0BB3FF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46C98-90BE-43BC-87CC-17D81E79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26D79C-9365-4E54-9AEA-B5EE2741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347A0F-7389-4E97-A499-518EC6C3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B9FFD7-CFAE-4860-9AAA-164F673C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F10E99-9CBC-4006-B171-E8CAE0D9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C5C9AB-EB7A-4F4A-A47F-411475FE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D7AA19-8D65-4C4B-BA25-5045A39D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C5FE95-496B-4A05-95CB-90BB4EEB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D07BD9-336B-4E5E-9E79-2F47F4EA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8F1688-38E1-4424-999E-95A84008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40AFA8-713C-496A-8C62-3463472D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276-ABD5-4601-94AE-F045AB2C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FB996-E9C0-4A2E-BB31-942D867C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9B8ABF-3BDC-4694-A982-C3F87F79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889472-10CA-4EBE-8C08-AE155D5A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29E399-A4BE-4D3B-A1B1-57837CE1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71584D-6F36-4043-ADDE-208E3190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701950-CB79-41C2-AA38-58082692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5984C8-EBF3-4538-923A-6DFCB487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8C6CDB4-4E2B-45AC-A74E-B39639A3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E7DA8B-75E3-428C-9776-37D3D7BD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34414A-6787-40CE-94A8-540370BB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76FE0D-EC95-4E65-8432-67FC69A4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7FF69-5446-4BA7-9EA9-38668450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313FFE-D2FF-4FEC-ABE4-79E9650E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C768DC-ACD8-4AC0-BD40-9098F256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DA885B-6DD1-4CFC-A251-09A8CFA9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AE5867-A49B-41CC-8F4B-7624C1CF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458E7F-434F-43CB-ADA3-768A8A83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66DEF9-6E60-47A4-AF0F-A5CCDA65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B4E7C9-17A6-405D-B460-D3BB2228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A82726-9F98-454A-9935-5E091CEC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A90608-8B0A-44FB-A4FD-2C2FF234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7690F3-B6A9-48B6-B4D2-5D8608EC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635B4-E180-40D0-A957-5F919C8E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8E327D-B6F8-4B61-8018-475DBB0D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F4539A1-A579-4E3C-90B3-4D58D728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0C6142-EFC6-456D-AC0F-D9D9733F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9BAC53-E48A-440D-A76D-F67ABD640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E9A9C8-81C6-43A9-ACAB-11B1F140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756A64-6DEC-44A4-A87F-F29C8772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7A7352-E84C-4EAF-8A31-FE0DFD14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077C9AC-73AC-4283-B18B-4661997C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32D97B-0085-4F60-B37B-62381C30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0A6459-E49D-4517-83FF-8CC90890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209C7-8B5A-45ED-AA7E-266FDDB8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8D3286-4E8B-4C81-9A93-AD50D7AD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FE7ABA-CCD1-4E61-B748-1539F54A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55E612-73C4-423F-A4D5-DD7AEA2F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73B74C-8880-4C24-9296-312A04C1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53C775-3994-49FA-909B-254324D4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D7B0BA-2D2F-47F0-8ADE-35C17401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766C54-0410-4D2B-ADB2-E4C40450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95924B-5748-4E2E-94EE-F6B59487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1AF9D0-A501-4DE1-AC3C-496D2935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CD2761-F5A5-41D7-8FEA-F14CFF28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DBD45-EBFC-4903-969E-4FA3FF13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F3440D-B12E-46B8-91E1-E674F5B7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D5B984-179B-40CB-9DA3-4513DBA6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576E47-B0FA-4D5E-8BF3-9D21DE8E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29C404-E29A-4D75-A6F9-55E1D437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D0049F-BACC-4AFA-964C-30616921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EFE3A1-A8A0-4E87-AC69-50382795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4EB501-6DBF-4A69-8C70-722BC18A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FCCE3C-0E54-4753-90B5-AB822292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45B607-32E9-46DC-AA9C-A7A964F0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BA38D3-9E70-446C-A0C0-8F60E6CA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DB7EF-AC78-4F62-B61C-74FE34D1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FBBFF0-48B7-46E4-8F41-A7341D47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372FF2-0972-4E4E-9FFA-2EE9391F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C37EC9-C365-46F4-BF10-819CB493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DAAE73-AFB1-45E2-B2DE-86C28743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BB0B88-9D75-4203-9EF7-553EFDDE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D2B4F1-CAEE-4060-B92F-C435BFAE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CDCDEB-B3F0-42D4-ACAC-471F2FF5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79FAA6-14CD-4453-925B-009E93F6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9BB302-82AC-47C2-A7DA-22DA8D05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64ACA79-5E8A-4EC5-81D1-F891CB1E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CDE7-26CD-4AA3-B4D2-0E0B8D94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F1B214-2C7A-466B-A6EA-6F314DFB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9B669F-D0E4-4DC8-894B-5CE8A974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8739E8-4AAE-4AA9-ADAC-BA7A0EF2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B8494E-61B7-4F90-81F7-69ACE58D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62FEEF-B29B-42C1-A45D-038714C4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D5DC47-CD4C-40D4-A080-9789E88B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52636B-DFD2-49AF-BEF7-7E82A1A1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6E3CD5-4390-4712-AFA3-A4A44FF7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CFF364-A3F1-4488-8063-C61CDE0B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BB29B0-9DE1-4F7F-99CF-28BFA79D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C642F-ADEE-4C0B-8E6E-3CC66504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D2491D-4FF2-46F2-A298-FBF8FF80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F950E99-4EF1-486B-A98B-D72DD525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6013967-5996-46C6-8E54-6DAC9770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2EEAD7-1AA8-4E32-BCBD-51264AEF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5A101C-0546-4FD5-A780-7AB9F9DD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EF9065-DDBD-48F2-9110-E6A1D41D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70771B-3F22-40AB-A46C-68A6B2CD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6234967-2023-4D2E-972B-CD41EADF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41B0CF5-742E-466B-BC1E-8614A8F1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ADADB1-2CDC-4943-B50A-225B6D23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F52F9-666B-41B2-A352-B70402F6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929ABF-C7ED-4D69-8A85-DB9E40E1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1F6EDB-4DC6-4501-A061-1E9327EE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D80C62-37C2-4454-BF48-F68E8270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EF275E-34D0-4CD0-B1B0-C6C9B1B5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4810AD-9348-46C4-A3C2-18A2E900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CBDB38-F657-44E7-9CCD-548F6E440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1FFD55-F4A1-44FA-BA35-4D9CE89C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3B2350-4E68-4954-BB11-E76008F8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4EE495-A060-40D8-B010-910D89AF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05FC03-F869-4DA3-AFB2-18D2F498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E6DB8-1C52-4864-9523-89D4EFBB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7D13F32-D7B1-454A-94AA-A581EC9C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F3EB7E-A0EE-4F97-BC70-7E5CEED2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0133BE3-9EA9-49F8-8C30-5E54AC65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4C99A6F-C314-4C44-BB66-015DDFF1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31A7D7-7CCD-4C7E-8B89-3EA9FC17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D81573E-26F8-40FF-9B16-511CD61E3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6BEBDB-EE9C-4372-A4C2-465E23987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29ABC1-3DFD-4948-8B2B-6F95872C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0415A0-F8DA-4258-9573-CF26F3A9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D93DED-5A56-4270-8A26-785B8143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5B0-9375-4396-B064-B20E70B3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631B5-EDB8-4E37-B5D8-0A717473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E09C6E0-B0F9-4748-A5A4-EC3A47F8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4F84FD6-6A07-42CD-AB0C-6AE8AD92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EA7C140-9B21-493F-811F-99053F6F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1FBF1C-FCE7-4C45-BEBB-D111871F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647EDE-A4FC-4ED1-9900-9B1AB3F7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122894-013E-44B5-93A8-D9D01DA5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E06549-6802-4C8E-AA95-8FB3ECED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8750A23-FFD0-4315-B7FE-B8983FAE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32F0B1-A49E-450A-A707-22CE88D9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AD0BE5-7A28-45B4-8637-BDA5F649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FDFC1-D24C-4462-B283-49884339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A9E202-2EDE-49E0-BEE3-00DD8BD0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088B14-F322-4993-8C37-C3B752EE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84CABA8-D7D6-4535-9BB9-8F6FA4E9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C748EC-6605-487C-8484-21DD5365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1B1C2B-7D2C-462B-B157-B82BF85A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649C86F-61F8-4D88-B2BE-A171F357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E9FBA54-073B-4527-BF11-A80F0ADA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DB13E60-D451-444B-928E-028B7EB9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2D22548-5E96-4C47-9EA6-2CD92B2F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407625-D5ED-43A8-B2A3-2303F419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DE9B7-B41E-4D16-BBF2-67CF5CAD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2AE12E-EBEC-4B55-A67A-8704DBDF5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688AAE-CBA9-4412-8564-F7384009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35ADE1-3A95-4060-99E5-BDDC8D94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D287EA1-5D50-473E-8CAF-52725A02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F41D1A-C302-4156-97CB-9F66530D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46DFDC-EBF5-427D-BA6F-5141B124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4C957C-FFA9-442F-8A34-D37F2A0F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72F11D-2E95-418F-ACF7-CAD1E6CE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A3DF4B5-AF4D-420B-9C1B-412889E4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5CA900-B9ED-4FF1-ADAB-040883B9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C3A93-EBCC-4495-BD25-3F7E387D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F6D6F6-FCC8-4B68-B113-C6A1EF8F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2B60B4-0CD4-466B-9974-F91BD5DD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8B11BA2-744E-4FA0-8AA1-AB0AFAF1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6899B01-8C1C-492F-B491-1557D8A9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E793A65-47C4-4FEE-A2A5-7A7D2AEE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684ACD1-600C-4983-BEDE-432C3D3B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03E51DF-7386-4881-8EFA-7650E06B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A2A46D-3D31-4309-9297-0A25F60D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1B9CBFE-96AA-48D1-A6AD-8D5B6119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85564E0-7AA8-48BA-9CC4-F40B3E15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52C32-43F5-43B7-827C-DA79346F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FBB4A4A-CFC1-4012-BDBE-C5E18111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0355682-9D0B-445B-929B-61E5B203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29204C-794D-42CA-A3AB-3B19F637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7086147-D26D-4479-A2AD-68B6E567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3E52E75-A293-40E8-B3D7-647C7841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986C6DB-014A-474E-872E-56B18B97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99347D-6D0A-40A4-8F2F-26BF103C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D96ED00-F636-44B3-8900-A56F374B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CF8027-85D0-4EB5-891B-9E549268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9FA008B-8A04-4771-B2A8-2E3698CA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EB250-3C83-463E-B521-C59B57F3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7277E5C-89B3-43BE-8F31-BBB14A31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E8985EA-C6FA-48E3-B5F1-7D72DE39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D7CDD37-C359-47A7-AD3F-738581F8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509CFCB-F224-4018-9712-96013B04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94B6F8F-B0AA-41E8-87CA-6032E668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1E7CA8-EDAC-4A1D-A281-F76753FD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6B59A73-2422-4DC6-9BB0-BD3B5021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54EA71A-93DD-47E0-B0A3-D02FD416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86C3A97-2D74-4063-B5B9-FBBAB8FD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72A4D7A-E4C4-4EC5-BD5F-AB61930E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5253F-9B2E-475F-8771-04DCA418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98AD335-D2B2-4A6B-8FEA-478DDFFE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8424C84-C5B6-48D8-B384-7D96C7D1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7EEB405-B437-42D2-B5DF-41A847DE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27C263-F76C-4457-8781-7FF45D7F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18C20BB-4C7F-45EE-BA92-207E8946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58F215D-F327-4205-B0A9-2370CE60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55C0628-E4D0-49FD-9DDE-C222D460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DC4A434-2CAB-4D18-8B56-69485AF3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26A1A77-46D5-4E08-B616-A7AFC46F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F005288-1285-4591-BB2E-2EA7EDA3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DC667-2DF0-4A7D-A392-8A77A4B9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43833E3-9A0A-4975-98B5-48EAA94A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178517A-34BB-478C-89F8-4BD8D8A8B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09586CB-CF85-4684-AE6D-FBCACEFC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3E939A2-BFEA-44BB-A4B1-55645E10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147F7C8-3B84-4035-971C-1A524F0D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64BC6D7-4DE1-478A-937A-E1EC7101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ECC696C-3393-4BFC-A6EF-C9487102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4013865-A105-4C8B-865F-570B3BAE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F9EDC2E-8D7C-4720-B226-C8EF1BD1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0B91F2-2007-4FEF-BEF7-FEA9DCAA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7BBC5-941A-4CF9-BBD9-9CD4B9DE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5EF4F00-B7D9-4CEF-B40B-ECFDCCB5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620DE1B-8572-4100-B83D-D460E9AD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91186C5-65B9-40FA-8235-4C023992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7A6CA0-ACAB-428F-8396-00417BFB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FB09F18-B5A8-4DF6-9138-E9B4E9DC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8C10D7F-B1D3-49B8-914B-48B54C13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FD30DDC-DA66-4D5E-B87C-581B2D78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8D216B1-BA12-4148-977D-F700E2C7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916B15F-11FB-4E7B-A2A0-4E05FD26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7C5140A-645C-4B34-8F46-B7B2FB31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1AC41-DE67-4F77-B2F0-9A406F51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3AFB0CE-6629-4A66-AB0A-FAEED528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18D9223-11AE-478D-9138-463E79C9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244E7FA-8FBB-4999-9E03-0353013C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5C0F071-A489-4505-A639-C8E8F630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9D61278-5943-44EE-8F79-1FE9D4DB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3D30105-A44C-458E-8AED-5C4E1C44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0A23386-4ABB-43FF-B3FB-DBF0AD98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BE378FA-7335-4F60-A39E-C40A3F69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EF6B1B3-68CC-4A51-B4B6-63176294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CA404B0-D1D6-4ADD-BECD-6D4D8A11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B89C-C090-4024-8329-D6FF22FC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47A06-DAEC-4FA0-8EC8-231D077E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C907EAD-7E8B-4F44-8C16-31604CF8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C1DF84C-71D6-4E04-ADCE-B081B4C6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A707CE7-AE6F-45CA-A411-13BF7054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8939DB3-523C-49B6-902F-FD7E9F3B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5F148B-5F31-4909-80A7-A78A6D05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CEEC762-9731-4328-89BA-1BD3A2FE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86FE77D-4A74-43AD-A4F7-37F7BE21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B65F544-F533-4B40-9CCA-C580CA41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C70C69A-9793-44FA-8099-7F32FD58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6FCE800-6964-401B-88C7-4B5F0A3E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60BCD-F665-43DB-A006-EE0252EE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D9C5BA7-7A10-4FC2-BB46-DF816893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D2242BF-F331-4C53-9A4F-07544729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D562A29-029A-4AC1-8541-C813DDA7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D9D6AF3-BEAE-4FEC-8859-2EE0F925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042421F-1760-4D24-9839-4FEF09CB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7E7AAE7-D7F1-4D4F-A9CE-EFBA46494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1ACF59A-33B1-4C73-87DF-488E5225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1DBC9A0-78BE-43EB-8CB6-F466C3B2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508BC63-B83D-4AC2-84C0-55B64641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2DD9A42-E068-45E7-9CEC-A0D9D647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2943B-1723-4732-B82E-82F6E491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DBFF650-D98B-4786-B519-946262CD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0113B3D-6129-4223-8A60-8FE7F481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7C3C888-B04A-45A8-B811-49F3F4F9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DEE9451-EDEF-447A-BC5B-5A3BE42F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A6CF94F-9DFD-4CBA-B4F6-D8E8565D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E25AC87-18FC-431A-82BE-19AA9E80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59783F6-6F94-4CAB-9AB7-2BDA6858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953E359-53C2-4073-8556-B651F2D8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DBFBB3B-707A-4DB4-826E-FDE64660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A80F2C6-7DB1-4A31-AA8E-B6714101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14D9A-61D2-4F29-80CB-87DDD02B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5A0668B-727A-4582-9507-A7300412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5A05139-4542-4D21-8030-AC966F29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8E45D43-4D99-456C-BCA4-B3A88368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32A21AA-5170-433D-9E93-5013B425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59D3809-4A98-4A13-8938-CF235525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A1252A7-DF84-49D2-B4C5-D5CF9323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EA24BE8-AC79-460F-AA3E-DA3D8957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BE69A08-5C32-47DC-A6FC-51AEC91C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B93CA31-AD7F-4852-9615-530E3BD4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997D9B0-F03F-4B2D-B690-AEC2824B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4578B-65F6-4089-9281-4376FAF1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40FC16B-4C17-4118-864F-942151307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D42BA2E-5759-4F91-AB06-A8079155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2DD520C-A7AD-4241-9511-5FCCA97D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571E719-90A1-4326-971C-2CA6F75A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49912DE-0F1E-4813-8CBC-9943AEE6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EC80E97-929E-48D1-B1AA-6B65284B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88B76A5-47C8-4BBC-8A67-5F9DC9A5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0EE702E-9532-418C-9B3E-E8D61640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3143DDE-5AC2-4842-A35A-E87016D2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A3E026F-B6F7-49E2-96F6-5174BB88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3A2D4-3BC9-46A1-89D3-81EDDFFD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0CC084A-7AEF-419E-9254-EDB10EB2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1BE3E88-8308-4741-B262-D6429BF0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4B4EF3F-AD4F-4FF6-B219-C5F6C48D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D325EB1-E373-4403-A94E-4E08F992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670FE37-4C63-41FD-B4C2-2816F54A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C525B8B-CEEC-46BA-988E-68250B04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AF64479-1B65-46A3-897A-3DB79656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8D00DB9-2B9A-40A6-94AC-91D57727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F3F9196-320C-4FF4-A33F-36524998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8FFEF83-35FD-436D-9D16-B4672AD7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54644-0039-406C-819A-4EB58639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B329D48-15C0-45D8-B77F-7D6FDABD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D4CE035-29A9-41C5-8C71-6D1F402E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06FC94A-34DD-4C72-8E2E-E0B9ACA0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CEB2CA0-91FB-4068-A48C-53CCB937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8F1B1B8-E673-4278-930F-E096B792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C6DC57C-C987-4EAE-A727-0242277F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F73BC3C-D4A3-4B0D-88CD-CD3222FE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5BA0E9-EBAE-49A4-AB03-99775CF6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881E532-F69E-40E7-88DF-AE068B8D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F940D23-D119-4327-AB2D-1FF311A1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B6051-1BE4-4740-9C17-627492A8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2087079-BAE9-468E-9270-45F3833D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F1BE37A-963F-4BE7-889B-35857530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A209DF7-4D75-453B-94FF-36BEAB6F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83E8389-11D9-4B3C-AF15-17AF1F5F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904FA1E-101B-4911-BD5E-6305C4FF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4B2F733-7E32-4DDC-8CD9-62BA9FC49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A41503A-CD57-4A28-891F-A00D1A69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77C64FD-7AB0-4ED6-AACC-2CA3B1AC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BB66CC2-DB1F-4A1B-AF2A-A37E1238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C3E224D-09E9-4C71-88AD-47D00308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1F72B-68EA-411B-B940-957F169E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03F7DC1-B545-4476-BC5D-57D941DF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DD5ACC6-E294-43D0-BDB1-B251334E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72300C6-824B-4814-B867-BA13E040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BCFB62F-1EE6-416D-B8B6-3587AD8E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D1B7832-7EEA-4A63-A848-B24949E3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48ADED7-A397-470B-9D9D-F7BB3007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AA2FDCC-8641-4ACD-9058-6E2EFDC2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C58D5E7-0C17-48EA-B1FE-C189ABDB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659E446-9B7B-4246-B36A-BF8557C69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B4DE2FF-25BA-4F94-9822-14E0AB43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3F033-9B32-4C39-A566-DB8C3CCD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4B2D794-19CA-411D-957D-29E66322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02A3A76-EE5B-48F7-970D-2E57A7B5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55ECC40-C796-4407-8058-272DFC60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4B7254C-57E4-4CC1-8A99-B60AC5B7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013674D-D22B-4004-8059-1379552E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41ADCD7-4526-4408-B333-57471C20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A8158D0-A092-47B2-984B-EAF39C71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F6BFF50-0C74-4420-8819-87678617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5AF2B6A-9B3B-4434-B742-29A0A2F4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C6E7CC6-9C8E-45B6-AB84-4A12AC30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C9D-4951-4690-ACAE-6F20356B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2E8BC-4D66-4204-865B-6E474D98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032D86D-7810-4BC8-883B-5E31D1FD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29BFEC3-4440-4278-AE95-BE8BBB57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5381064-E4CB-4D50-A900-4D03ACD3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B64E56B-831D-40CB-B0D7-383F729E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D7F17EB-0823-47B8-B45C-4846586F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1A1CB3A-2220-45F8-A89C-F8D7A86C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FDF2EAA-3F8A-496F-B5BD-0293E20E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177169B0-E4E0-486F-B8EC-D98FC6F5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A3BF5BD-093A-4D2F-93FC-9F22951F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ECE0AC7-04A7-40CE-BDE6-C6486185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F5E40-5F37-4CCB-868B-9A0B05DA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3F69955-5A4E-4C17-813E-AF924778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C9FE0BE-2531-4D65-913B-1FD1EADC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7EC87A2-603C-4587-A6C3-ED898111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3AC5980-B021-4B7F-9DF5-9EE5B495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B7B64E3-D9ED-46D7-A5D3-F0090727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2D96899-8C8C-4261-8AC0-CEC1EC19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93AEB2A-30A7-4F96-8590-86CAFD57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A123C17-8021-41A6-A7F8-2FE217E8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2FADD23-831B-42E4-BC12-887A86B8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3D2AE23-E279-4A3F-90CB-C4546AD9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06ABC-62E8-4000-A140-A8181DAD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DAA1E3B-BEA4-494B-BFC0-B3389F59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5E9E36C-2630-46AF-AE2F-7246F83F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0D07DF6-FFDB-45AF-AC94-5184ED6D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11B7069-C50B-47A7-8B52-C1845C3C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062B801-AD3A-4FA8-B9D5-10AA9261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C23E07D-FC80-4B34-8408-3B0C9485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6D195D1-18F9-42A9-9B58-A6C2B276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2698F27-1B54-44E6-8BA3-57FBFC06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932D80A-C94F-48B8-AF45-D9A1C0E5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8149BCD-8D35-4E3D-9583-0D75DD5F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4707F-D07F-4221-BFCD-4AA99639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28486A6-F00F-4E7A-A445-7CA1153C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CA7DC1C-98AB-41A4-A89D-A8C48C20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D07F40F-9608-464A-A759-BF605FEF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98A727E-6778-45DF-8B59-73A517D7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A1858D6-55FD-4EAC-BB1B-14BF58C5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0AD43DE-1017-4BDA-889B-2170EF72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7DDB301-88EC-4FFA-9A9A-2CB5A093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1D32495-1836-468A-8ADD-0495ED48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BF7EE61-9220-42F2-BA7A-1D8292FB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7E13D37-A6B7-4E88-91D0-4D783A00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3858E-B1F9-4B49-B6F8-6C6A623D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5A25628-C775-4760-98CA-BE2FD31E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F26E766-B575-4396-BFA1-AEF83464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B8AD43D-305F-414E-B908-08F40513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5C522D7-584E-4A21-81D3-B6E12B57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495DD7B-B616-4954-B6FB-4157A4DB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DF683DC-F6FB-41B3-8361-D76D74F8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0F19B3C-D27B-47DD-95FF-F77EEF5F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D68734E-A7B3-49F5-BA4B-7CFBF893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98F3030-9FCF-4AEF-AE47-C2E7293E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4D9823F-0795-4630-8D27-8F937B74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B588F-5809-456F-A5E9-B5AF26F7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7918707-6CDD-4667-9121-B45EED46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7686CD5-4E70-416F-A6CB-82FCD499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F5102F5-2B54-4D89-BEBE-3F34ABDA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38A697B-4ED0-4000-A544-069FAB6D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40A518D-690E-4FC6-8207-78D6A136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FF06D51-329B-4E9A-9037-1EF82C25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4061644-C336-4FFB-856B-088521AF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C590FEB-5700-468F-B022-D06404B4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2FFAB78-CDE6-4116-AC48-5B75E74F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507E09C-977F-4756-857F-B8BB9940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D33D7-2C07-4158-99B0-A6C58991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68FD15D-94DE-4A24-B141-242DD727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0E34F5C-8863-4AA0-977F-DAF400BB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7B8DE82-E069-40CA-B4C8-42B61A21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147EB88-F130-406D-8548-B07187FE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64F9C1C-5832-4B35-8CFF-BE3E6CC9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A784157-BF59-478A-B2F9-87AC1974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E0C6B43-3C36-459A-BF87-72491231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EE4EA5E-3945-4EAF-B0C4-4D203E5D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0393A60-DF1E-477B-8674-AF89EB06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0FDC0F7-7345-462A-BAB7-A7A196F4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87467-F960-4B18-98C0-4BA55AC7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07B2F4B-BED6-406A-99BF-8F6F2D9B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71C20AC-F64F-4585-988F-2F983C393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A79DCF7-C8EE-4702-989B-45D6A607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CBFAD0D-6E65-4BC8-B07E-0EADFEAA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4392C76-C063-4CBF-B449-6D6D50C0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296DA11-86AD-473E-98AF-D6782C42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DB441C2-E123-4566-BB46-383628EF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D196307-5CE6-4E91-B4D1-63BF74B7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1CFDB39-A67D-4F6D-BFFC-1FC16677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F0622CF-B0C0-4731-8062-3FE4FAB5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0B8E2-36DB-4FB9-97CA-D1707424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F622AC5-7CB8-453C-A804-E7E7EEDD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F73FD90-7CCF-4BD2-9BB0-74047555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9718D4E-46DC-4EA0-BECA-AC08A138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C1D61E8-EC0A-423C-96F7-160DABCD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52C4D05-6902-4887-9FFF-9ABE5354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0A5F44E-376D-46AE-B7EC-1047C88C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A249F1C-CF0E-4AF9-ADF5-A2F698EA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6C57296-421D-435F-ADEC-EA47280F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8E0AF2B3-18C1-44F2-AC78-75F9F044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71BF5AD-3298-4AE1-925D-CE8ED519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15905-BF5F-4A33-931A-410985B9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B03BEB7-1C40-46A9-BCA8-77B3AC3E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B79EF16-4419-4165-B647-3F00E0A7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8D66641-9A89-407A-A529-91B33B1C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B319731-6EF2-40F7-B165-9E899BEC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351B87F-3455-4047-978B-73042AE0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7601B1D-7684-49A3-851A-DD8FC74D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8B0ACE0-6D1E-49B6-A5DD-DAE02004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653DFEE-42C6-493E-A663-52A8BDBBC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833FEBE-AA5B-4E14-9BD4-C4FF482D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13096A2-7953-4B5C-9379-406F0CA8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0FA-881E-4D13-87AE-46EF374B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69C87-E0D5-40CC-8C07-97F6C6B0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E953436-B11A-4FB8-B0BB-30C8CA83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590A046-B3B1-414F-9D1F-BE6C2DE3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3B9F9C4-24DF-41A5-8013-778621A4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D542E4F4-4C1C-47DF-A1FE-9AAF43E5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D3BAC84-AA24-44D8-97AA-AE8B0C7F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5AAAA9E9-BD3F-47F7-89CA-69C54853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A4313801-9CF7-4C4E-9DB9-D40415D6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AB67D99-079C-48AC-89DE-4671380D5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2A26E74-9436-45B2-BD00-559AFAE06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EAD41F2-F2A1-4ED2-9CBA-D2831F5B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45E3B-32C1-4222-97D8-73D36C1E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51CB182-BB26-42F4-94F1-72AE0D69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1D620E8-D0C6-4D99-B10D-A74CA99D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75FE3D96-EF5B-4764-8AD6-3B00FC81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4DE5451-8168-4D27-B279-D0238B06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1EE1DDD-E6DE-4D8B-88E0-CAD0FCA3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7A70688-7F0D-4D9E-92DA-D84607B5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B5CE22B-902E-4DB8-B3AA-22A9CE4E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AC43B36-F73E-445E-B4CC-BDF63717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53960C0D-5798-49C3-BF30-2F63AFB8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06A7985-AB91-4350-9C27-87E636BD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48D84-F598-4E4B-B467-FEF0C4FF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52E7736-CC66-4F79-AA42-042FC20E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CD9E7-2DFF-4E77-8E1F-4CE97DD4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CBB08-BB1B-4401-845D-371FECC3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FB064-9704-4688-AF99-3C3ED983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1CBC1-2751-40F1-9BC5-084505C8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1A5FC-3E84-4413-AAEF-5179C512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F4370-94C9-4923-910F-B020AA79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CA6B0-7554-4B31-9BD2-55BA3C25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061-2D1A-48DF-91F7-C6321252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C17D1-57FC-4700-927B-5489A065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D2D85-150D-4B38-852B-77B333D5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61893-6458-45A8-AE69-2024EF27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D3789-2916-49C5-A04E-57F9991D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EED07-C185-4079-985E-BB6CD4C9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8F9CE-0E8C-4CA2-AA21-1D21E3EB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7D127-50E0-4B98-A9FD-17DF755E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9F912-0CB2-4D04-A2A0-E83F6F7B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347AD-A521-403B-90D7-62B68B2C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45392-F65D-41C0-A620-6745CB8E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F652-72AE-4F13-949C-70E57693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581B4-FF31-4C55-A71F-B31BA928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36D3B-3AB5-4680-A1AC-8A82BC17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FD5D6-CEF3-49DF-8AE9-79D5EEAC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3768F-C9A1-459D-8699-330A6219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A4155-CFE4-4D83-AF9B-2CB2CB87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40E29-4BB4-4F6C-B4B4-F98544F7D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61DD6-C680-4DE9-983F-0CF32893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DD334-CD59-424C-8977-DE34F376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A8CBD-0616-4144-A9BE-963CC7E4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53949-9370-49C9-9BD3-62178083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CCAF-9FE8-4D3F-9D86-BC843F5088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44BC-FEBD-4312-B1D5-C791BF2EB4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AFC3-6ED1-4D70-ACCE-1A771CF0B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116A-BA0B-49B1-AAFE-20FCFFECB9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FE76-EDED-4B4A-97DA-AF487C55E1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BB23-3082-4EB3-AB1D-3E86E0F9EA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ADFB-DCEA-4540-9016-D54BCEEED6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FC89-AF2C-4235-9F50-7622449B0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F59B-E74C-4130-A871-0E24FAF5DDB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84A0-846B-4CD5-963A-6FDB2EE4F2D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1967-0B38-4966-ADF6-E21055E812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86AB-DE4A-4071-B973-05735278E22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E1F7-E670-470F-AD5D-47C081CCE29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D1DB-57DE-47E5-960C-6D3CFE4184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B793-D5B5-4656-9A03-1753B77913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3833-F847-4F25-95EF-0B838E6A55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A8CC-405B-497A-9742-E5754A3A03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9B78-5D66-42D6-B300-E94CE2DA58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59C6-0C25-4494-AF71-7CAF416796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D06A-0CD4-41B8-ADB3-F8FA2A18B4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1A21-57E2-45C9-8415-D95614AAD25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0963-E05C-4D68-A494-8EBE5D85D1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E543-97D5-49D0-9D33-3AFA879F1AE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A9EF-C696-4EFB-B263-A08D5D906E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2F4F-FE92-4C8C-8ADD-6DAB14600F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647F-875F-4CB9-A9DA-9CBFAEEB59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490B-FBF7-49EF-BAF7-1F0797ED52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B8ED-8803-443F-ADE7-4E9C525E1C9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AB60-C29C-4FA4-B958-5E1065566F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C7A7-3D21-49C1-9983-BCA968B6B9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3B4F-052C-4738-B1C4-C46394EFCD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C691-79B1-4A66-81C6-A60CC23EEE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10BE-3BBE-48AC-86CB-9C1A03BA9E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0BB9-9735-494F-9357-FE5F52D491E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E4ED-AD01-4B4F-A62F-9DDFEE5C58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DEDF-4669-4671-91BC-A69E47BACD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349A-63C6-490F-86B9-0E28219384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3228-B37A-4B79-851D-F55A8D15F7F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C885-A8D7-49E3-ACEB-9B335E0367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5105-D775-4288-8AD5-9D45CD9C26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FD58-40CA-4490-9F55-7E71781820B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E372-4E38-4486-9195-481A4FADE84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15D3-4E68-49BD-A130-8D70467912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AADF-F2CE-4064-8FAA-B02954CAE5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ED13-787A-409E-BA8D-4D4E6A3C657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14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14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15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A7FA-0125-4BDB-BA15-F2F30BB3CF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dt" idx="15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 type="ftr" idx="15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 type="sldNum" idx="15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509C-B50D-4CF5-9349-3AD9C8F902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 type="dt" idx="15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 type="ftr" idx="15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 type="sldNum" idx="15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37AB-3841-4B25-873B-A150C3185B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 type="dt" idx="15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 type="ftr" idx="15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A5D7-4642-425E-A00A-AD6AB0A45E6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160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161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162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F009-AE7A-4D4A-A619-5C4F2DC069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dt" idx="163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 type="ftr" idx="164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PlaceHolder 5"/>
          <p:cNvSpPr>
            <a:spLocks noGrp="1"/>
          </p:cNvSpPr>
          <p:nvPr>
            <p:ph type="sldNum" idx="165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8302-BDF1-43EE-9096-896BF8A2242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dt" idx="166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ftr" idx="167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sldNum" idx="168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23C7-F576-4A8F-8C5E-0AFDA10FC6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 type="dt" idx="169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 type="ftr" idx="170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 type="sldNum" idx="171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089B-7BBB-4EB6-9AEC-3C33512382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 type="dt" idx="172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4"/>
          <p:cNvSpPr>
            <a:spLocks noGrp="1"/>
          </p:cNvSpPr>
          <p:nvPr>
            <p:ph type="ftr" idx="173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PlaceHolder 5"/>
          <p:cNvSpPr>
            <a:spLocks noGrp="1"/>
          </p:cNvSpPr>
          <p:nvPr>
            <p:ph type="sldNum" idx="174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274C-8123-40EC-9B9B-E52D54FA49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 type="dt" idx="175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 type="ftr" idx="176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PlaceHolder 5"/>
          <p:cNvSpPr>
            <a:spLocks noGrp="1"/>
          </p:cNvSpPr>
          <p:nvPr>
            <p:ph type="sldNum" idx="177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900F-17BA-4E58-80B0-AD390757C7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697B-2F8E-4338-A867-6D98D109B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 type="dt" idx="178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 type="ftr" idx="179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5"/>
          <p:cNvSpPr>
            <a:spLocks noGrp="1"/>
          </p:cNvSpPr>
          <p:nvPr>
            <p:ph type="sldNum" idx="180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C565-4E79-483D-B660-3E5E64D72E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A882-B22C-4B0C-85E9-771AF11405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E209-B075-4011-BB44-52B38130F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A235-F813-4B19-8861-B3CEF42F15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lub-edu.tambov.ru/vjpusk/vjp091/rabot/33/Mos_def_a.gif" TargetMode="Externa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6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mosbit.narod.ru/mb1.gif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0" name="Picture 4" descr="2worldwar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5715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762120" y="190080"/>
            <a:ext cx="8153280" cy="469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 Black"/>
              </a:rPr>
              <a:t>               </a:t>
            </a:r>
            <a:r>
              <a:rPr b="1" lang="ru-RU" sz="6600" spc="-1" strike="noStrike">
                <a:solidFill>
                  <a:srgbClr val="ffffff"/>
                </a:solidFill>
                <a:latin typeface="Arial Black"/>
              </a:rPr>
              <a:t>Битва за Москв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TextBox 3"/>
          <p:cNvSpPr/>
          <p:nvPr/>
        </p:nvSpPr>
        <p:spPr>
          <a:xfrm>
            <a:off x="2209680" y="4457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подаватель истории МБОУ СОШ №1 г. Большой Кам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умакова Ирина Александ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8 героев-панфилов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2" name="Содержимое 3" descr="панфилов.jpg"/>
          <p:cNvPicPr/>
          <p:nvPr/>
        </p:nvPicPr>
        <p:blipFill>
          <a:blip r:embed="rId1"/>
          <a:stretch/>
        </p:blipFill>
        <p:spPr>
          <a:xfrm>
            <a:off x="152280" y="1123920"/>
            <a:ext cx="3200400" cy="3333960"/>
          </a:xfrm>
          <a:prstGeom prst="rect">
            <a:avLst/>
          </a:prstGeom>
          <a:ln w="0">
            <a:noFill/>
          </a:ln>
        </p:spPr>
      </p:pic>
      <p:sp>
        <p:nvSpPr>
          <p:cNvPr id="2493" name="TextBox 4"/>
          <p:cNvSpPr/>
          <p:nvPr/>
        </p:nvSpPr>
        <p:spPr>
          <a:xfrm>
            <a:off x="596880" y="4457880"/>
            <a:ext cx="2374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анфилов Иван Васильеви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892 – 1941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TextBox 5"/>
          <p:cNvSpPr/>
          <p:nvPr/>
        </p:nvSpPr>
        <p:spPr>
          <a:xfrm>
            <a:off x="3492360" y="1028880"/>
            <a:ext cx="5499360" cy="42087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собо отличились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316-я стрелковая дивизия  И.В.Панфилов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омандовал, которой удалось задержать продвижение вражеских войск на Волоколамском направлен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 Black"/>
              </a:rPr>
              <a:t>16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ноября 1941 г. дивизия генерала-майора И.В.Панфилова приостановила на 4 часа продвижение 50 вражеских танков, уничтожив 18 из них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се 28 героев – панфиловцев погибли в бою при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разъезде Дубосеково в 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7 км от города Волоколамс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Зоя Космодемьянск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6" name="Содержимое 3" descr="Космодемьянская.jpg"/>
          <p:cNvPicPr/>
          <p:nvPr/>
        </p:nvPicPr>
        <p:blipFill>
          <a:blip r:embed="rId1"/>
          <a:stretch/>
        </p:blipFill>
        <p:spPr>
          <a:xfrm>
            <a:off x="77760" y="1181160"/>
            <a:ext cx="2665440" cy="2759040"/>
          </a:xfrm>
          <a:prstGeom prst="rect">
            <a:avLst/>
          </a:prstGeom>
          <a:ln w="0">
            <a:noFill/>
          </a:ln>
        </p:spPr>
      </p:pic>
      <p:sp>
        <p:nvSpPr>
          <p:cNvPr id="2497" name="TextBox 4"/>
          <p:cNvSpPr/>
          <p:nvPr/>
        </p:nvSpPr>
        <p:spPr>
          <a:xfrm>
            <a:off x="0" y="41529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923 – 1941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Box 5"/>
          <p:cNvSpPr/>
          <p:nvPr/>
        </p:nvSpPr>
        <p:spPr>
          <a:xfrm>
            <a:off x="2819520" y="876240"/>
            <a:ext cx="6172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одилась в 1923 году в Тамбовской обла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Училась в одной из московских школ и мечтала поступить в Литературный институ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сенью 1941 г. ушла добровольцем в партизанский отря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Занималась минированием дорог, поджогом домов в деревне Петрищево Московской области, в которых располагались немецкие офицеры и солдат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скоре ее поймали немцы, после долгих допросов и пыток она была казнен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0" name="Содержимое 3" descr="Зоя.jpg"/>
          <p:cNvPicPr/>
          <p:nvPr/>
        </p:nvPicPr>
        <p:blipFill>
          <a:blip r:embed="rId1"/>
          <a:stretch/>
        </p:blipFill>
        <p:spPr>
          <a:xfrm>
            <a:off x="671400" y="0"/>
            <a:ext cx="76359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алалихин Виктор Василье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2" name="Содержимое 3" descr="Талалихин.jpg"/>
          <p:cNvPicPr/>
          <p:nvPr/>
        </p:nvPicPr>
        <p:blipFill>
          <a:blip r:embed="rId1"/>
          <a:stretch/>
        </p:blipFill>
        <p:spPr>
          <a:xfrm>
            <a:off x="152280" y="1333440"/>
            <a:ext cx="2592360" cy="3000600"/>
          </a:xfrm>
          <a:prstGeom prst="rect">
            <a:avLst/>
          </a:prstGeom>
          <a:ln w="0">
            <a:noFill/>
          </a:ln>
        </p:spPr>
      </p:pic>
      <p:sp>
        <p:nvSpPr>
          <p:cNvPr id="2503" name="TextBox 4"/>
          <p:cNvSpPr/>
          <p:nvPr/>
        </p:nvSpPr>
        <p:spPr>
          <a:xfrm>
            <a:off x="304920" y="43815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918 – 1941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Box 5"/>
          <p:cNvSpPr/>
          <p:nvPr/>
        </p:nvSpPr>
        <p:spPr>
          <a:xfrm>
            <a:off x="2895480" y="1117440"/>
            <a:ext cx="6019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о войны работал на Московском мясокомбинат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роявил себя как выдающийся военный летчик еще в годы Советско-финской войны 1939 – 1940 г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годы Великой Отечественной войны  произве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Black"/>
              </a:rPr>
              <a:t>более 60 вылетов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воздушном бою в ночь на 7 августа 1941 года при отражении очередного налёта немецкой авиации на 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Москву 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 Black"/>
              </a:rPr>
              <a:t>сбил таранным ударом немецкий бомбардировщик</a:t>
            </a: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гиб смертью храбрых в схватке с вражескими   истребителями около Подольска 27 октября 1941 го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Text Box 5"/>
          <p:cNvSpPr/>
          <p:nvPr/>
        </p:nvSpPr>
        <p:spPr>
          <a:xfrm>
            <a:off x="380880" y="127080"/>
            <a:ext cx="32004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Георг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онстантино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у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6" name="Picture 6" descr="img016"/>
          <p:cNvPicPr/>
          <p:nvPr/>
        </p:nvPicPr>
        <p:blipFill>
          <a:blip r:embed="rId1"/>
          <a:stretch/>
        </p:blipFill>
        <p:spPr>
          <a:xfrm>
            <a:off x="76320" y="1638360"/>
            <a:ext cx="3657600" cy="3703680"/>
          </a:xfrm>
          <a:prstGeom prst="rect">
            <a:avLst/>
          </a:prstGeom>
          <a:ln w="28440">
            <a:solidFill>
              <a:srgbClr val="c00000"/>
            </a:solidFill>
            <a:miter/>
          </a:ln>
        </p:spPr>
      </p:pic>
      <p:sp>
        <p:nvSpPr>
          <p:cNvPr id="2507" name="Rectangle 7"/>
          <p:cNvSpPr/>
          <p:nvPr/>
        </p:nvSpPr>
        <p:spPr>
          <a:xfrm>
            <a:off x="3886200" y="0"/>
            <a:ext cx="5105520" cy="552456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Black"/>
              </a:rPr>
              <a:t>В конце ноября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в тылово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айоне, позади Западного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рянского фронтов, был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средоточены свеж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ивизии, прибывшие 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альнего Востока, из Сибир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 Урала. Г.К. Жуков предложи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ерейти к контрнаступлению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вое предложение он обоснова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ак: </a:t>
            </a: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«Противник истоще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Но если мы сейчас 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ликвидируем опасны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вражеские вклинения, немц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смогут подкрепить сво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войска крупными резервами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и тогда положение може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 Black"/>
              </a:rPr>
              <a:t>серьезно осложниться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AutoShape 3"/>
          <p:cNvSpPr/>
          <p:nvPr/>
        </p:nvSpPr>
        <p:spPr>
          <a:xfrm>
            <a:off x="228600" y="190440"/>
            <a:ext cx="8686800" cy="127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оотношение сил и средст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к 5 декабря 1941 г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9" name=""/>
          <p:cNvGraphicFramePr/>
          <p:nvPr/>
        </p:nvGraphicFramePr>
        <p:xfrm>
          <a:off x="304920" y="1587600"/>
          <a:ext cx="8534160" cy="3741480"/>
        </p:xfrm>
        <a:graphic>
          <a:graphicData uri="http://schemas.openxmlformats.org/drawingml/2006/table">
            <a:tbl>
              <a:tblPr/>
              <a:tblGrid>
                <a:gridCol w="3276360"/>
                <a:gridCol w="1295640"/>
                <a:gridCol w="1828800"/>
                <a:gridCol w="2133360"/>
              </a:tblGrid>
              <a:tr h="78732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илы и средств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РКК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Вермах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Соотноше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4300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ичный состав (тыс. чел.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1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70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 : 1,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896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рудия и миномет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765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35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 : 1,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анки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77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17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 : 1,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амолеты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615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1,6 : 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2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0" name="Picture 6" descr="Картинка 16 из 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840" y="38160"/>
            <a:ext cx="4116240" cy="5611680"/>
          </a:xfrm>
          <a:prstGeom prst="rect">
            <a:avLst/>
          </a:prstGeom>
          <a:ln w="0">
            <a:noFill/>
          </a:ln>
        </p:spPr>
      </p:pic>
      <p:sp>
        <p:nvSpPr>
          <p:cNvPr id="2511" name="Rectangle 7"/>
          <p:cNvSpPr/>
          <p:nvPr/>
        </p:nvSpPr>
        <p:spPr>
          <a:xfrm>
            <a:off x="4419720" y="647640"/>
            <a:ext cx="4603680" cy="3886200"/>
          </a:xfrm>
          <a:prstGeom prst="rect">
            <a:avLst/>
          </a:prstGeom>
          <a:solidFill>
            <a:srgbClr val="4a45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5-6 декабря 1941 г.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онтрнаступл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ветски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ойск под Москв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Text Box 6"/>
          <p:cNvSpPr/>
          <p:nvPr/>
        </p:nvSpPr>
        <p:spPr>
          <a:xfrm>
            <a:off x="457200" y="190440"/>
            <a:ext cx="8153280" cy="82548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 первые же дни были освобождены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города Калинин(Тверь), Солнечногорск, Клин, Ист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Text Box 7"/>
          <p:cNvSpPr/>
          <p:nvPr/>
        </p:nvSpPr>
        <p:spPr>
          <a:xfrm>
            <a:off x="461880" y="1562040"/>
            <a:ext cx="8148600" cy="1557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сего в ходе зимнего наступления советские войска разгромили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38 немецких дивизий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освободили 11 тысяч населенных пунк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раг был отброшен на 100-250 км от Москв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Line 10"/>
          <p:cNvSpPr/>
          <p:nvPr/>
        </p:nvSpPr>
        <p:spPr>
          <a:xfrm>
            <a:off x="6858000" y="209556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Прямоугольник 1"/>
          <p:cNvSpPr/>
          <p:nvPr/>
        </p:nvSpPr>
        <p:spPr>
          <a:xfrm>
            <a:off x="152280" y="3314880"/>
            <a:ext cx="8763120" cy="1618560"/>
          </a:xfrm>
          <a:prstGeom prst="rect">
            <a:avLst/>
          </a:prstGeom>
          <a:solidFill>
            <a:srgbClr val="d1d1f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онтрнаступление под Москвой было превращено в общее наступление по всему фронту, которое продолжалось до апреля  1942 г. За это время были полностью освобожде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Московская и Тульская  области, многие район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Калининской, Смоленской,  Рязанской и Орловской обла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Text Box 9"/>
          <p:cNvSpPr/>
          <p:nvPr/>
        </p:nvSpPr>
        <p:spPr>
          <a:xfrm>
            <a:off x="104760" y="1357200"/>
            <a:ext cx="8810640" cy="3765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беда под Москвой означала крах немецких войск»молниеносной войны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Япония и Турция окончательно отказались от вступления в войну на стороне Герман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Развеян  миф о непобедимости германской арм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ервое  крупное поражение Германии во 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торой мировой вой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мецкое командование не пыталос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больше организовывать наступательные опер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а Московском направлен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Ускорен процесс создания антигитлеровской коали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AutoShape 5"/>
          <p:cNvSpPr/>
          <p:nvPr/>
        </p:nvSpPr>
        <p:spPr>
          <a:xfrm>
            <a:off x="228600" y="190440"/>
            <a:ext cx="8610480" cy="1067040"/>
          </a:xfrm>
          <a:prstGeom prst="downArrowCallout">
            <a:avLst>
              <a:gd name="adj1" fmla="val -35556"/>
              <a:gd name="adj2" fmla="val 42626"/>
              <a:gd name="adj3" fmla="val 16667"/>
              <a:gd name="adj4" fmla="val 66667"/>
            </a:avLst>
          </a:prstGeom>
          <a:solidFill>
            <a:srgbClr val="ffffff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 Black"/>
              </a:rPr>
              <a:t>Значение Московской битвы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Text Box 5"/>
          <p:cNvSpPr/>
          <p:nvPr/>
        </p:nvSpPr>
        <p:spPr>
          <a:xfrm>
            <a:off x="304920" y="133200"/>
            <a:ext cx="8534160" cy="11912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Почему фашистским войскам не удалось взять Москву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Rectangle 6"/>
          <p:cNvSpPr/>
          <p:nvPr/>
        </p:nvSpPr>
        <p:spPr>
          <a:xfrm>
            <a:off x="304920" y="1473120"/>
            <a:ext cx="8534160" cy="4127760"/>
          </a:xfrm>
          <a:prstGeom prst="rect">
            <a:avLst/>
          </a:prstGeom>
          <a:solidFill>
            <a:srgbClr val="d9d9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тойкость и героизм советских воин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олководческое искусство советск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оеначаль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3. Использование советским командовани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вежих резерв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4. Стратегические просчеты германск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командования, некомпетентно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вмешательство Гитлера в военные пла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еподготовленность германских войс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к ведению боевых действий в зимни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услови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215640" y="-360"/>
            <a:ext cx="8775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Text Box 7"/>
          <p:cNvSpPr/>
          <p:nvPr/>
        </p:nvSpPr>
        <p:spPr>
          <a:xfrm>
            <a:off x="76320" y="700200"/>
            <a:ext cx="4114800" cy="448308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Упорное сопротивление Красной Армии под Смоленском, Ленинградом, Киевом, Одессой, на многих других участках фронта не позволило осуществить планы немецкого командования по захвату Москвы к началу ос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Прямоугольник 1"/>
          <p:cNvSpPr/>
          <p:nvPr/>
        </p:nvSpPr>
        <p:spPr>
          <a:xfrm>
            <a:off x="4343400" y="711360"/>
            <a:ext cx="4800600" cy="3995280"/>
          </a:xfrm>
          <a:prstGeom prst="rect">
            <a:avLst/>
          </a:prstGeom>
          <a:solidFill>
            <a:srgbClr val="f2f2f2"/>
          </a:solidFill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Для захвата Москв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был подготовлен пла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Arial Black"/>
              </a:rPr>
              <a:t>«Тайфун».</a:t>
            </a:r>
            <a:r>
              <a:rPr b="1" lang="ru-RU" sz="4000" spc="-1" strike="noStrike">
                <a:solidFill>
                  <a:srgbClr val="a50021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Немцы попытали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достичь на эт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направлении троекратног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превосходства в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живой силе(в 3-4 раза) и технике: танков- в 2-8раз, артиллерии –в 4-7 раз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Text Box 4"/>
          <p:cNvSpPr/>
          <p:nvPr/>
        </p:nvSpPr>
        <p:spPr>
          <a:xfrm>
            <a:off x="875160" y="5207040"/>
            <a:ext cx="19454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лакат 1941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7" name="Picture 5" descr="Рисунок7"/>
          <p:cNvPicPr/>
          <p:nvPr/>
        </p:nvPicPr>
        <p:blipFill>
          <a:blip r:embed="rId1"/>
          <a:stretch/>
        </p:blipFill>
        <p:spPr>
          <a:xfrm>
            <a:off x="158760" y="93600"/>
            <a:ext cx="3657600" cy="4762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2468" name="Picture 6" descr="Картинка 56 из 5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38480" y="93600"/>
            <a:ext cx="4876920" cy="696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469" name="Text Box 9"/>
          <p:cNvSpPr/>
          <p:nvPr/>
        </p:nvSpPr>
        <p:spPr>
          <a:xfrm>
            <a:off x="4038480" y="1028880"/>
            <a:ext cx="4953240" cy="412488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 Black"/>
              </a:rPr>
              <a:t>30 сентября</a:t>
            </a: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началось генеральное 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наступление немцев на Москв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Им удалось не только прорвать оборону упорно сопротивлявшихся советских войск, но и окружить 4 армии западнее Вязьмы и две- южнее Брянс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AutoShape 3"/>
          <p:cNvSpPr/>
          <p:nvPr/>
        </p:nvSpPr>
        <p:spPr>
          <a:xfrm>
            <a:off x="0" y="190440"/>
            <a:ext cx="8839080" cy="171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 Black"/>
              </a:rPr>
              <a:t>Битва за Москву –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30 сентября 1941 г. – апрель 1942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AutoShape 4"/>
          <p:cNvSpPr/>
          <p:nvPr/>
        </p:nvSpPr>
        <p:spPr>
          <a:xfrm>
            <a:off x="228600" y="2933640"/>
            <a:ext cx="4191120" cy="25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Оборонительный</a:t>
            </a: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ериод битв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30 сентября —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5 декабр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1941 год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AutoShape 5"/>
          <p:cNvSpPr/>
          <p:nvPr/>
        </p:nvSpPr>
        <p:spPr>
          <a:xfrm>
            <a:off x="4648320" y="2857680"/>
            <a:ext cx="4343400" cy="2666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 Black"/>
              </a:rPr>
              <a:t>Контрнаступл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Красной Арми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д Москв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(5 декабря 1941 г.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апрель 1942 г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AutoShape 6"/>
          <p:cNvSpPr/>
          <p:nvPr/>
        </p:nvSpPr>
        <p:spPr>
          <a:xfrm>
            <a:off x="2133720" y="1968480"/>
            <a:ext cx="380880" cy="889200"/>
          </a:xfrm>
          <a:prstGeom prst="downArrow">
            <a:avLst>
              <a:gd name="adj1" fmla="val 50000"/>
              <a:gd name="adj2" fmla="val 70038"/>
            </a:avLst>
          </a:prstGeom>
          <a:solidFill>
            <a:srgbClr val="cc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AutoShape 7"/>
          <p:cNvSpPr/>
          <p:nvPr/>
        </p:nvSpPr>
        <p:spPr>
          <a:xfrm>
            <a:off x="6705720" y="1943280"/>
            <a:ext cx="380880" cy="888840"/>
          </a:xfrm>
          <a:prstGeom prst="downArrow">
            <a:avLst>
              <a:gd name="adj1" fmla="val 50000"/>
              <a:gd name="adj2" fmla="val 70009"/>
            </a:avLst>
          </a:prstGeom>
          <a:solidFill>
            <a:srgbClr val="cc0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2000"/>
                                        <p:tgtEl>
                                          <p:spTgt spid="2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2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AutoShape 5"/>
          <p:cNvSpPr/>
          <p:nvPr/>
        </p:nvSpPr>
        <p:spPr>
          <a:xfrm>
            <a:off x="304920" y="114480"/>
            <a:ext cx="86104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 Black"/>
              </a:rPr>
              <a:t>Соотношение сил и средст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 Black"/>
              </a:rPr>
              <a:t>к 30 сентября 1941 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6" name=""/>
          <p:cNvGraphicFramePr/>
          <p:nvPr/>
        </p:nvGraphicFramePr>
        <p:xfrm>
          <a:off x="0" y="1181160"/>
          <a:ext cx="9067680" cy="4306680"/>
        </p:xfrm>
        <a:graphic>
          <a:graphicData uri="http://schemas.openxmlformats.org/drawingml/2006/table">
            <a:tbl>
              <a:tblPr/>
              <a:tblGrid>
                <a:gridCol w="3124080"/>
                <a:gridCol w="1524240"/>
                <a:gridCol w="2057400"/>
                <a:gridCol w="2361960"/>
              </a:tblGrid>
              <a:tr h="92988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Силы и сред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РК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50"/>
                          </a:solidFill>
                          <a:latin typeface="Arial Black"/>
                        </a:rPr>
                        <a:t>Вермах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отношение</a:t>
                      </a:r>
                      <a:r>
                        <a:rPr b="1" lang="ru-RU" sz="24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712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Личный состав (тыс. чел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:1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880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Орудия и миноме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7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:1,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Тан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9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:1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 Black"/>
                        </a:rPr>
                        <a:t>Самоле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6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3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38160" bIns="38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: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7" name="Picture 6" descr="stiker_bitva_za_moskvu"/>
          <p:cNvPicPr/>
          <p:nvPr/>
        </p:nvPicPr>
        <p:blipFill>
          <a:blip r:embed="rId1"/>
          <a:stretch/>
        </p:blipFill>
        <p:spPr>
          <a:xfrm>
            <a:off x="76320" y="311040"/>
            <a:ext cx="3732120" cy="4991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78" name="Text Box 10"/>
          <p:cNvSpPr/>
          <p:nvPr/>
        </p:nvSpPr>
        <p:spPr>
          <a:xfrm>
            <a:off x="3886200" y="66600"/>
            <a:ext cx="5257800" cy="119124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плен к немцам попали 663 тыс. человек. Но и окруженные советские войска продолжали сковывать до 20 немецких дивиз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 Box 11"/>
          <p:cNvSpPr/>
          <p:nvPr/>
        </p:nvSpPr>
        <p:spPr>
          <a:xfrm>
            <a:off x="3962520" y="1333440"/>
            <a:ext cx="5181480" cy="88632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Командующий Западным фронтом- генерал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Г.К.Жук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 Box 5"/>
          <p:cNvSpPr/>
          <p:nvPr/>
        </p:nvSpPr>
        <p:spPr>
          <a:xfrm>
            <a:off x="3809880" y="2552760"/>
            <a:ext cx="5181840" cy="133416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 середине октября враг вплотную подошел к столиц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В немецкие бинокли отлично просматривались башни Кремл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 Box 7"/>
          <p:cNvSpPr/>
          <p:nvPr/>
        </p:nvSpPr>
        <p:spPr>
          <a:xfrm>
            <a:off x="3809880" y="4000680"/>
            <a:ext cx="5334120" cy="146556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о решению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 ГКО началась эвакуация из Москв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ы правительственных учреждений, дипломатов зарубежных государств, крупных промышленных предприятий, насел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2" name="Picture 4" descr="5"/>
          <p:cNvPicPr/>
          <p:nvPr/>
        </p:nvPicPr>
        <p:blipFill>
          <a:blip r:embed="rId1"/>
          <a:srcRect l="1964" t="0" r="0" b="0"/>
          <a:stretch/>
        </p:blipFill>
        <p:spPr>
          <a:xfrm>
            <a:off x="0" y="952560"/>
            <a:ext cx="9144000" cy="4576680"/>
          </a:xfrm>
          <a:prstGeom prst="rect">
            <a:avLst/>
          </a:prstGeom>
          <a:ln w="0">
            <a:noFill/>
          </a:ln>
        </p:spPr>
      </p:pic>
      <p:sp>
        <p:nvSpPr>
          <p:cNvPr id="2483" name="Rectangle 5"/>
          <p:cNvSpPr/>
          <p:nvPr/>
        </p:nvSpPr>
        <p:spPr>
          <a:xfrm>
            <a:off x="152280" y="127080"/>
            <a:ext cx="853452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 Black"/>
              </a:rPr>
              <a:t>7 ноября </a:t>
            </a: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на Красной площади прошел пара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Его участники сразу же отправлялись на фро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Text Box 4"/>
          <p:cNvSpPr/>
          <p:nvPr/>
        </p:nvSpPr>
        <p:spPr>
          <a:xfrm>
            <a:off x="1447920" y="190440"/>
            <a:ext cx="3504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Text Box 8"/>
          <p:cNvSpPr/>
          <p:nvPr/>
        </p:nvSpPr>
        <p:spPr>
          <a:xfrm>
            <a:off x="177840" y="501480"/>
            <a:ext cx="8813880" cy="1059840"/>
          </a:xfrm>
          <a:prstGeom prst="rect">
            <a:avLst/>
          </a:prstGeom>
          <a:solidFill>
            <a:srgbClr val="d9d9d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Были подготовлены к взрыву все важнейшие объекты города на случай прорыва немце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 </a:t>
            </a: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20 октября в Москве было введено осадное положение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Text Box 9"/>
          <p:cNvSpPr/>
          <p:nvPr/>
        </p:nvSpPr>
        <p:spPr>
          <a:xfrm>
            <a:off x="177840" y="2155680"/>
            <a:ext cx="8813880" cy="160848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Колоссальным напряжением сил, беспримерным мужеством и героизмом защитников столицы наступление немцев в первых числах ноября было остановлен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7 ноября, как и прежде, на Красной площади состоялся военный парад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Text Box 10"/>
          <p:cNvSpPr/>
          <p:nvPr/>
        </p:nvSpPr>
        <p:spPr>
          <a:xfrm>
            <a:off x="228600" y="4219560"/>
            <a:ext cx="8686800" cy="916920"/>
          </a:xfrm>
          <a:prstGeom prst="rect">
            <a:avLst/>
          </a:prstGeom>
          <a:solidFill>
            <a:srgbClr val="cdc1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Однако в середине ноября немецкое наступление возобновилось с новой силой. Лишь упорное сопротивление советских воинов спасло столиц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8" name="Picture 2" descr=""/>
          <p:cNvPicPr/>
          <p:nvPr/>
        </p:nvPicPr>
        <p:blipFill>
          <a:blip r:embed="rId1"/>
          <a:stretch/>
        </p:blipFill>
        <p:spPr>
          <a:xfrm>
            <a:off x="189000" y="952560"/>
            <a:ext cx="4002120" cy="4049640"/>
          </a:xfrm>
          <a:prstGeom prst="rect">
            <a:avLst/>
          </a:prstGeom>
          <a:ln w="0">
            <a:noFill/>
          </a:ln>
        </p:spPr>
      </p:pic>
      <p:sp>
        <p:nvSpPr>
          <p:cNvPr id="2489" name="Прямоугольник 1"/>
          <p:cNvSpPr/>
          <p:nvPr/>
        </p:nvSpPr>
        <p:spPr>
          <a:xfrm>
            <a:off x="4419720" y="876240"/>
            <a:ext cx="4495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Легендарным стал подвиг группы бойцов во главе с </a:t>
            </a:r>
            <a:r>
              <a:rPr b="0" lang="ru-RU" sz="2200" spc="-1" strike="noStrike">
                <a:solidFill>
                  <a:srgbClr val="ff0000"/>
                </a:solidFill>
                <a:latin typeface="Arial Black"/>
              </a:rPr>
              <a:t>политруком В. Г. Клочковым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надолго задержавшей более 30 танков противни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Всю страну облетели слова Клочкова, сказанные им солдатам: </a:t>
            </a:r>
            <a:r>
              <a:rPr b="0" lang="ru-RU" sz="2200" spc="-1" strike="noStrike">
                <a:solidFill>
                  <a:srgbClr val="c00000"/>
                </a:solidFill>
                <a:latin typeface="Arial Black"/>
              </a:rPr>
              <a:t>«Велика Россия, а отступать некуда: позади — Москва!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Прямоугольник 3"/>
          <p:cNvSpPr/>
          <p:nvPr/>
        </p:nvSpPr>
        <p:spPr>
          <a:xfrm>
            <a:off x="457200" y="0"/>
            <a:ext cx="7543800" cy="6426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В. Г. Клоч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1-05T01:39:59Z</dcterms:modified>
  <cp:revision>8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