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media/image13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000-70C4-4A2C-8687-9CC60CDC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945-22F2-4BB0-9C52-A6FE82A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F970A-6068-4BD7-A06B-F57CCD99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AB333-74B8-4194-84AD-58908426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C8362-8593-4BC2-AFDA-0B333D3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BC1DA-E91E-402B-A0E4-952F4BE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7E7E4-921A-41F3-A190-7B06E479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401D0-F614-4C15-BD69-1A780C4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CBE42-66A3-48D7-9B26-8E1BB67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15E6-FE98-4843-923E-BAEBB09F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9ED70-6438-4FE0-8261-279006C3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6EBC-290A-4C5A-88EF-0A6BB823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145-ABA7-47EE-8229-9297BA1F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3E315-3802-4D2D-9A90-4F7C244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64D65-6423-4C86-B94B-F56F8DFB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A664D-8FF5-4A1C-B780-8AC36556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64BB9-04AE-44DE-8382-D2BF00F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8C372-FF9C-41DF-98BA-517F5EB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2E55-EABB-46C9-A64D-C795BDF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987A2-C17D-4DFF-B9B0-80D58EA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FECF7-C642-492B-A339-2A227D7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2716E-33C8-40A2-93C8-5D3A5FE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8A9E3-2438-435D-BA95-BA87A12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F06-9322-494D-B23F-0FABDF20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ED399-EA67-4BCD-A912-AEBCA16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4A98-ADA0-42B4-BD0A-6FA0F389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181B4-12EC-474E-BAE5-F050B49C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B9D7-BDA2-47F3-8180-A56F1D3D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7D09A-440B-4972-A7E5-2C59D124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D6FF3-2F77-421D-88DC-17F70507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16BE3-A6E0-4FCF-A6EC-38A9E13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BBDE-CF9B-4D0D-ACAA-E9932B6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EFC37-4EA0-4D7A-A026-B849277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495E9-2BC9-4806-9B7E-2F96F79E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BBE-2B10-47D6-AECF-92A0F7A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8BF4-1DF1-45C3-B567-49F0501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5D25B-9354-4F94-B2D3-CF45646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6979B-9974-4A32-9334-9FDA421F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67E9C-B8FC-420D-BBBE-4936847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10BC-CBD5-4E1F-BAEA-D11F2CF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2B50-35A7-44AF-BF7A-138B27FA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8715B-BF7F-4B4F-A6C9-CCE79D9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7605E-C699-4407-A9EF-92917C6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76ECE-CC98-489E-A4EC-6DB95B5B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45BA-5AA1-462C-9980-F5BA9ED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A0C-2781-415E-9936-71FF0F5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0EFCD-6089-4378-B333-6A46D72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31C2A-A3FD-47DC-986A-0A522BB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72F16-51EC-435D-81E0-611538C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B7BE3-A3E8-4B38-9198-9F62CDD9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2513B-A294-422B-90AE-E7F2E1A4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36E6C-022A-4F3C-A806-ABD3D7C0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928CA-5245-42A3-814B-CD3A8B9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BB73F-1FD7-449A-BB9C-8044631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A019C-8EE0-4101-B40D-455C4E6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CAFB3-0D59-4F0C-B860-C7B20473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1727-302F-4AEE-B5CC-3F24C44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5BF29-A287-499E-A87D-DCCB771F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CB9FF-DA85-4168-A2A7-FE15752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63BEF-4F5D-4CDB-8059-31B926AF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52F88-0F40-4F97-BA04-2F36925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5A143-E63B-46C1-9276-6910E10C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47E76-050C-48D9-BA0D-716A30B7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88105-2CB3-47BC-AFA3-EE070CA0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AC683-EB1E-48CE-B63C-108D0293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8EE44-83DB-44D0-8B3A-9F261CF6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21738-945F-4FAF-B124-AB081AA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300A-4D98-4B1A-B13D-9E6AFAA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0125D-0571-413D-861D-D508184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E46B6-527E-42C3-9F91-729498F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BB8FA-2D87-493A-95C7-52A76F1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C828E-1196-4A01-A6C9-AE5B7DC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BD24F-805C-4C81-8590-C40BDE0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117F8-57CB-41C5-8734-EB03071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D81A7-3AE6-4A89-8B61-7B5254B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9560B-5D0F-4E99-85F1-E2C6716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FCC09-1943-41FF-95EB-217F1F67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1CAE5-9525-4379-9742-74FE31DC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54F7-FFE8-41B8-9C51-404640D1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EB3B2-54BE-4E3E-9C32-5C267C3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EEFBC-6ECA-4F90-A1E1-53B446C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D684F-FA4C-4A66-B2FB-2E425E5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FA783-337D-443C-9CE9-2FA3A9FB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29C6E-EECD-45DE-9EA2-3A51BAE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C610E-4DF6-41C2-92A0-CD56097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4787C-9D7C-44FD-9C29-ABABA4C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42DC7-AF7F-460D-AA6B-FF8071DC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60348-D400-48A7-A6D5-75DEE65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C20B4-83BD-41AD-A8AD-F1458519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4F3-EDAA-40C5-B638-6B12EF6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C4A3B-B78D-4E19-A399-44E4F697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EC32F-2A00-4890-B29A-DEEE386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DF7B4-4F37-4545-9433-6AA172A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499EA-BA53-4409-AA5D-EF971AC5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59330-D7D6-4578-AD38-5C6A506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5FA01-35C6-4481-A4EC-E79793CE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5DFFA-BB4D-43DF-B769-FAC5697E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E3017-D832-4EE9-BF9E-7CE38E9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9F8A8-B3E6-4AC5-AF10-8509F34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21971-F7FC-4666-961E-FB33DD8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D4E-0D47-4B20-BDF1-6EAF2F4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92DD1-143A-401E-B5C0-B017FC6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9FCA8-F8F8-46F0-BE41-F849720D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A0F4-4280-42B0-B831-7D30F806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4F770-6247-4456-BCDF-32335265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92FA0-08A3-40B1-A131-763BD245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5109E-FCD5-4644-B862-E639A73F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7E7EA-C621-44C7-8235-4F56C60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FAF88-5B3B-42DC-AC09-91B3D6C2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0D1D9-CCB0-4F20-97BE-DC808247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F6F85-BA04-437D-A9AA-61B8285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13B-86E6-409A-91F4-A8D3169D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134F-ED00-4B01-ADFF-BE91154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5A0FF-C342-4528-AA2E-BD9791B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2AF04-0A0F-4D62-B26A-406C682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C65A1-B61A-4CFB-946B-4AB73571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0450E-506E-4BB6-B1C0-1771EB6D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92014-68B3-40FC-BFED-712E02C9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C315D-4394-4013-8551-0102BD7C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0542E-E662-4A2F-835C-46F77612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47992-539C-403D-9EBB-412CF39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BF269-B796-4CAA-AC5F-C13AA2A0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FA70E-E001-4745-8625-CE9287B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4F9F-2EFF-4A44-8B66-EB71FFF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F6755-1910-4F62-B614-6AC4CFBE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A4210-C84F-405F-AA6F-2BF6E96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4111C-DDB8-4F29-9FD1-EA2C06B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566BF-BDF1-4303-9571-6DF929D2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45B55-01A0-4000-B920-DAFA09C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815F8-74F2-4C2F-901C-6FC9066E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FDDAE-E09E-43D7-B997-830617C0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93BE9-62EC-4F99-BDAC-3C842BE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4B6F7-6B1E-42F4-8170-A53EB467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98EC8-F42F-4D47-980A-87EDE93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429-8D13-4648-940D-7565CAC7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EFE18-6A37-421B-B7A7-B6E8294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8E128-11F4-4DBC-9F6F-D91019C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28D30-53FD-4436-AA98-B27451E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A86CA-0530-4667-B25D-1CC17E4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6F43C-451F-4629-B5BF-6A1426A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6C311-8F30-4873-9A8C-F868BC5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36A5F-F904-4C28-BE00-C707442B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9CF9D-B3FE-4C1D-94B7-6B9EAA7E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9FB5C-2DE5-4B1D-8726-2F7DCE5E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0C883-9BBD-4424-B579-2DEE6D5F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1C3-39B4-4155-A094-EFE3C299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94127-2B50-48BC-A5B4-AAF9E4BB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2E466-053A-49F7-A8A7-92749DD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36E43-F122-4708-8656-6826F9D3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6507C-B55E-4CEC-802B-65149F61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1EA2F-A753-463C-B14C-9C8921FE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7E4E4-1DE7-4F6F-9433-491E9D3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D276C-A609-4E4A-9F50-E3BB8CF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5E020-5E60-48B9-9580-CC8B353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6891E-D54E-4A23-A0A7-606578B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B8644-3E15-41FE-A98B-CE4B1616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A4B4-FCB0-4224-92D2-1B615C92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E0F8D-7DBA-478F-BA83-D9C256B2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1EE15-DC1C-4EA3-9049-89C2D2C1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ACB095-B935-4900-A833-3C99247B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82D95-E657-4101-BC2C-1687B6D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A24C4-6127-4914-9D45-A81B8F6C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76425-18F6-4A72-9BC7-6C86BB66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296B3-7BB4-4D11-A2EA-CD84759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FBCA9-0889-4AE8-9B51-032118A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658A4-FF41-4E2E-B9DC-524C97B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7752E-58B1-4990-B930-2B7A120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6F45-94C5-4062-B31F-4CA187A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83E2A-2BFB-4687-984A-24629DAA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3D950-1831-40AD-9B6E-2C1C3EE8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90700-D6D5-4B5F-8D29-D8A6552A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28620C-E4FC-4EDC-B6A1-EA34A4A7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0F55D-7AE4-4883-8A1A-98A1D603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F109C-8317-4040-9370-B954DBE2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A11A93-0234-44CC-8390-A4FA717F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F6AE2-BAE8-49AD-90C9-F5FADEBE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F4478D-57C3-4744-8DF8-AF0164AF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5770C-4F76-4EC3-A892-E572326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E884-20FD-426B-B639-DA781065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F29A45-EBCF-4507-94A9-E86FE03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4D127-E1EB-4D44-859C-9FFAB95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8B3FA-E7EF-4A5E-B54A-367840D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BB036-596F-4617-A082-A7842374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B1703E-76CB-4164-BD69-2FAC99F8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6DE5F6-C164-4EF1-96EA-FD5DF1F3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838C6C-B4C3-47AB-8775-32BA5D71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010CB3-84DF-4687-9591-26CA143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DD1BAD-51C2-4600-A8D3-74D7CCD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82FC3-274C-4DEB-845D-A1C17A2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A1CC-88AC-4240-8157-EFCDCC7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3C909C-FC24-4380-954A-1B070A3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AF7C4-BD62-46E6-AFFD-6F5CAB1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DB524-B34D-4DF4-B4EE-A7A1C5F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C3FB1-57B6-4642-97AB-E9A5ABA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655118-AB6C-4BF5-9550-6B5380C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EFF824-2C5E-43CE-A8CB-58BCA5BF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268AE-B6BE-4DB8-ADA4-A53F527F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9326D1-AEE0-4E6F-A8B8-8C284497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92EC4-C896-4A8B-B9CE-3E1BEA28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3039B7-23EB-434F-8C01-8244002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0BCB-D87E-4F35-A57D-B0E959D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186740-6559-4010-9EFA-8028D6B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E36F77-75B5-4596-BF4E-4464A9E9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E92B4-435B-4EBE-9091-BD8187CE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C4CFA-5B35-49FB-988B-1C4C77C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C1D0CA-BB97-42BB-93F1-090DB76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A7919D-4797-4B1A-B86C-BB47788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17F80B-98F2-4E08-812E-E71F563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C6FAB-698A-4B75-AC37-A6EE5E31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0454EA-30D6-45CD-A956-9C5F31F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2F83E2-E2CD-4B42-8D17-97CB59A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34B9-1FCE-4FDD-A70C-04CFD7AA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E09F10-0CB0-4E25-BB13-6E0A7CE6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760D8-032A-42D6-80EA-F0AD98F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1E42E5-8EF9-422E-BAD1-A1CDA2B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48AE37-6B7B-4C0D-9093-E9584B0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601B8A-4E5A-49C1-B9D8-11EBF196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299F32-B544-4599-860E-8A3BEDE4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6E4E96-9C72-4193-8A27-58B99BD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327EBB-019A-49BC-BE4D-785FDF2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2EFF9-CA54-40A3-8CFE-6ADFD2B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A24E50-3ED6-4ACB-A2D5-BCE58143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EE2-C3B9-45BE-ADC7-52B816A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8547-4E73-4864-8BEE-EA545C2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5B0273-32FB-4DB6-93F1-15448BBC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8ED07-FD25-4CF5-B616-6FFFDCBC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F2BE41-9789-4DEF-AA8D-9A41759C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7A0A4E-6096-4CFF-AAB3-20685F2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BA7288-E10D-4657-8502-B21F2FE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D7A39-AA80-4999-AEDC-4AE1B8B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6F79E-DAAB-40F0-A0FC-1F4A9796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7D65D8-CDA4-4F56-A446-5EA5AFB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CC9F42-8458-4F97-88F4-9BD5FF16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8A4783-8767-4327-8E7B-967B2AA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3518-C548-44C1-92CA-6C298CEE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48C2A5-636D-4A64-BE22-5C0037C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7DACD6-6CC3-449D-8070-DFF4F8A7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75B9B-823D-4290-8733-B0A06451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9A05C8-0A8B-498A-8BE3-E77CF783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465A0E-92B4-4A68-A22A-748F5188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D906C2-2F48-45F7-A7C6-21F3B26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C5E80C-7F39-49D9-AFC9-7C09863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248A44-836A-477C-82A9-FF22FF56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046E6-BA63-476B-8C3D-BCF0D28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3094F3-3907-4A11-B88A-406E5EE0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5D3C-25C7-4497-A8C7-C58761D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30E791-4D3D-44E7-839C-77741DD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0BD198-2B8D-4203-B29C-EDC2583A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406592-F36F-4E36-A292-740738C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A10DA1-4F36-45E3-A0AB-9F0B97C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D37EC1-E183-455C-89CE-33092AD5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F51A35-EAD5-4DC9-92A7-A7CB6AE6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76AD75-F326-4D97-A27F-6E586DC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20EF0C-6E12-4862-BD1A-786C9A1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94AD1-51C5-4634-A1D8-874D32E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F667C1-7F24-4EE3-90A8-998AC21C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6D63-EA63-43E6-B239-504E69A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53D1AB-3EDE-4290-9FA4-73FA3C4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F3FAE-1154-4C82-BBFC-3C80020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12BA89-A960-407D-B628-F3CDBC7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F66F02-9931-4454-96B1-E4745DCA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6C0C15-1686-4C4B-A228-1514A84E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D24823-AB28-40FB-AAB8-1E3674E7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010119-EF6A-4CE3-9101-3E90CC20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A448B2-F910-4C7C-81BB-1E6EB8BC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942840-D9E8-42ED-B185-3CAFEA9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7F04D4-343C-464B-ADFF-E74420B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0519-E98F-4F24-AB4A-663568E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111D91-3967-4945-A88F-53AF829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1658EF-5E2D-4048-A1C3-1C7C342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86759E-104F-43AD-BA0C-187B818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12413-16BF-40BE-9C1C-794CBA9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AD4A2F-B5E0-419C-A2D3-33386DF3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997AAF-007D-4E07-8E6D-84DE1A9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69D2D0-C6B8-4DBE-B849-7C6ADE0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21076F-09CE-4BE3-A6EB-32BD471E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45A178-75CC-4CF2-A8AD-7693A015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F89120-6029-4DA3-A83E-991175D5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5106-223A-4BB7-BEA1-AA4485D4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631F8F-8068-4621-BACC-3A649F95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2A9958-2F1C-49FD-AD25-BBC7A155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9976E-CACB-4EB2-94F0-7213F439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7BF3CD-68CB-42B0-A599-4316EA9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B099B-5DE9-4014-A93E-BA37461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6E0B88-E393-4ACA-8DF5-787DE21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64B1AF-DABE-406C-8648-104350C8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78B30A-9BC7-4CBD-BF74-2D62E4B3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0AE363-3620-4E12-80A6-A332D0A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1B8DB-EA37-4F32-88D9-23EB73F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FDFC-77F7-4328-B3E4-5736A562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A3576B-A92A-4E7D-B7B9-0AA16F88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5772C5-4E01-4491-908F-3CC9594E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6C1C64-8683-4064-BF26-1C1095C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43585A-4806-4E32-AF13-C2D0A7D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0C7288-7D59-4C97-AE26-AFD8A772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4585B2-002D-40DB-95A1-17D65082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79CC2A-8202-4C57-BCCF-B965045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89D5D-4473-4F75-BDBB-F81C073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E45E32-7A0D-49EA-AEEB-DA8414C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E12C10-0B85-42F1-B8CC-7BAE93BB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7DC9-2246-42FC-8C4A-D5A41F41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3F87D0-A1C0-4DA5-8B83-B355F045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A95551-75A9-4EC9-896D-F460865A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0CCD52-9008-4F4A-899A-823854E4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EBC9E3-6D3E-4260-A235-83E2609C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92B57E-517D-4CA6-B815-D2A54AF0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425458-7347-423D-9E1D-3CE02C5E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990DDC-3067-4636-8C17-AAB82A83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2F196A-7B29-4342-978E-12BAF3F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487DFB-51A3-4FC8-91E7-F8CA779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9BA72D-6B2C-4FA3-A372-8122D60D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E3AD-F0E5-4617-B103-6B0263A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77C343-7DDC-41BB-B261-9F91ACA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8DD2C8-534C-49DB-A3A9-6B0649F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AE4F6-134D-48AB-83AD-7F147A23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3291F4-6121-4B41-AE66-DF0003AB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A92160-12AF-43E3-B2B6-B3A094AC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AB9A4-DBCA-4905-A91F-B67F3CF7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67CE69-A04F-4E87-BB5C-1F9BB355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0684CB-CAFE-4D32-B235-1ED27C5F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867C9D-654F-4F75-B552-D29EA5C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5D031E-C244-4436-BFCF-5AA0E9F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C8A5-9162-4738-9C3C-E69CCE0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1AB6E2-48AB-4FDD-9CC8-150ABF6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3DCB24-FD6E-4F0D-ACBD-D4B76395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35F7D2-1B7D-4150-BDAF-42FF281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FB9823-3B5F-4E48-9A5C-4DAEED2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4589A6-C31C-430B-87C7-148171C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BA3F63-AC20-4523-B0BD-9609D46D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E4180C-4871-4909-93A4-EB72A917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BE0485-ACC8-4CEC-9A7C-91B62A49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075386-F172-4161-ABEA-5730D5BE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79B453-B71D-4A40-8261-F95B29B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80F-CF94-44DD-BE64-AA50F6E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1634-8C9E-4355-AC13-2B3CF50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2F3B95-E7CA-484D-B346-7A8EB45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FC6182-22E9-41FE-8483-7B88C76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5904A7-2E13-43CF-A747-6E26079F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FE9CCC-CC10-4D7C-AE32-E3EADCB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77BC22-6BAC-4386-B901-2BA312B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B36FB6-C951-4941-A3F2-545CA1B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A4B585-7BFF-4DA8-A0F8-AE3D8DF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55E962-0FF6-4CD8-B964-9BCBF582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E0D979-6C28-4502-A60A-79809311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F19727-9FD0-4A7F-BDF3-273376B4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C85C-2E98-4726-A3D0-C9D69A4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BD0AD3-18F9-4211-B234-4734043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CBBB2A-B373-442D-9704-F8E4A24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46FBA8-DED7-4C57-8513-4C163260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68802D-D986-427F-AB27-875C8DFA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26BAC0-CE11-49AB-BF34-8493CF3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7DEB9F-6E09-41BB-8447-4383392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6C5285-A073-45E1-A6CB-A1B313B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5210CE-10EA-4041-9365-DBB0B5D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0D5E63-AA35-4A57-8801-7398ABCD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8BE650-2E60-4305-BC2B-8AC40B2C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1C67-D87D-4F43-B263-1E797B0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D9A213-E76B-483C-91B1-B4902A51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B8AFDD-A836-4EF7-8941-6F3E7923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F55636-73CA-4A16-8816-61F65FFF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DE5F9E-92FC-417C-830D-E86E39E6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E2C005-D9BA-49D0-B5FA-986F25E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B977FF-5617-49CD-A2DF-57B75C86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F5F319-DE28-4193-8647-3D7B497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C28A28-68E1-4376-8D05-5577404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024CCF-DE2F-488E-9A67-2D6279C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05A4EF-259C-406E-B15A-A868203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2543-36F2-4BC8-8797-845CCC4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5E2062-FE12-4285-A431-CBC3F17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7CFEFB-C70B-4E1B-974B-8A4A315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B3D91F-52DC-4F80-B36B-373432D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94F815-B023-4133-B25B-52C00F1B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668A4A-3ADF-4708-8965-E7B59AB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C74A81-2DF0-4919-BE10-74E2319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9ECFA5-49BA-4388-8CD7-5380A53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5B7A5B-E1E1-4B97-A0B7-8DC2942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1ED7AD-BB7A-4538-A630-8D09C57C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6F121A-D498-4CC3-98BA-3791EB3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B0C9-7233-4825-8805-8CA9A9A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CBFA43-FE21-4BA1-9ED3-5A2848D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EB1858-F12E-4A19-BCFF-14E875B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7DB683-3D96-4074-85ED-4244A5C3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919BCC-FBC4-40C6-9DB5-5B1E9752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6E2EE3-3BA4-424E-9CDA-B59579B4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68223F-0BC0-4F24-A590-975E52BC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7F57F9-097C-4EDE-865C-C142898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1B5AA1-DAFF-4CE8-A1D6-EF3279A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49A1A5-175D-4B35-B23A-3822AA01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D632F2-CC8B-4751-826E-4D78A629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136B-6495-42B3-BF50-0EDB868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E600DB-B091-4B0A-99CD-69587D2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EBF564-4A4F-4B62-B02F-B0F1738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3A6E7A-39D0-4DD0-98F4-2E6F2B9F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4FF184-AC94-4371-AF41-1B2CB78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25FE01-750C-4978-8237-5A9890E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4ACC6D-D417-460B-9DE3-610A220F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D56B68-7F1A-4EB4-9138-B9E88BBA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180590-E626-4DFE-A861-137D2763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F82417-B4F1-4FC5-B04A-88DDA9B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8EF103-B16E-4429-BE7C-CB4AA03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7C9F-4A31-441F-8A4B-9DAD806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A47B67-AABD-450C-8F4B-CAFA1C41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281CBF-5F01-4F34-A008-20D590A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64458E-E0E9-425A-A135-6380E83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6968D8-D114-4E0B-87D9-E9207B2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82AFCE-201F-4535-A154-7AF1620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9E530F-5799-46FB-9B27-E06CD5A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151A2C-5CEE-43AE-8E03-13778805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D00F23-60E4-4872-9F2A-E6492084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BCC1B8-CA89-4221-8A13-FA1075C8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BABCE0-F7CE-4305-9A36-A7A49BBD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E836-2517-434E-9F6F-79EF9A4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2DAE14-0AB5-4B58-B673-9EF1329D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CA5D81-5DA6-48F9-8FD1-11EF23A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E7DE12-4C18-4992-A60F-2FACF7C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C4E2A4-A75F-460E-9D50-40EC77F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4DA27D-BBF0-45EF-A076-638AEA3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02ABBE-3145-4A37-9CB6-0D6308C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F0F946-DF67-4E6E-B6A2-EAB5D6EA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AB351C-4E5E-48BE-ABC4-56ED9B6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613AFD-A2CD-48D9-A61F-4C332F97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8D7604-6D2C-4223-9898-476D9A42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8155-551A-4034-8BF0-AA5F32A3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4EBC2E-B594-4276-9FB3-DF2308DE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1DA08A-AC54-4CAF-BB07-52B69F3B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28A680-E5F0-4440-86C0-81E56F8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496C68-F887-4147-A642-28346779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417095-BEC6-487A-B1AB-3268B8E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DA4FE4-EC5D-46E2-9473-3827A37A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C26DF5-3C57-44F7-9CD7-33F0583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0799B2-C247-4DC4-A3A6-6B821EEE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DEACCE-63CE-44F2-A185-E165B13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E6436F-E4DA-43C7-A233-18B1C7DD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FDC9-0546-4BE5-8965-566C7B4A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B9FD79-BCA9-47C5-88AA-B9B8B88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26F697-2110-4AF5-ACB9-2ABCF74F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BC3E72-7D2E-48E2-8953-A34814FF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E4B9F5-3E2A-49FB-BA1E-8041B012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650260-F316-433D-9860-9F518F82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E9A803-21B8-4BD6-98D4-51F088C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ECC211-2E4C-405C-8229-0C9D1EB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7D22C5-D9C1-4270-8F1C-1D449B62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7E6037-2E37-440A-8AA8-EFEA41E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C61832-D91B-459B-AF6C-2C43827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50C-62C4-4387-8897-95AC3B9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EA8D-F99E-48F3-8CB8-48B48AF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E90D41-B5DE-4DA5-875C-786D76F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9518B8-CCC5-4025-B49A-FB66981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4C311A-46E8-40DB-ADA4-BF804A57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856474-3D4F-44CE-9A11-FBF80B0C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28EE3A-2118-47B7-9C94-B47DD8E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E91B0A-1FD6-419F-919A-9DAB2C0A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2982E1-3A05-4554-A7D2-FC6D4B99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0E2643-FC54-4170-85BD-C66F326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CBBB0F-0980-4959-913B-70F1E9E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131C2B-2AB3-4C1E-A894-D6BA347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D1ED-2CC3-42EF-A489-FCE8A66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A2EC84-4FB5-4745-9EA7-7235DA1E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4A4499-2FAD-4F8D-B57A-D6DEABB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82938B-DB06-4A29-AFF4-34070A0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E4CD88-AF37-41F4-93D1-54CDA80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14314B7-CC2D-4856-B89E-B4D70D6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6DC9D0-97D9-4878-A93D-360D0AFD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8582D7-7BBD-4C4D-BC4C-A697BFAC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C46A51-ADBD-4129-A51E-4A12E4CC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07638D-431D-4B58-9863-9C1C30BE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F98C0B-4F88-4A41-815D-2AE7912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372B-3811-46EE-805B-171F2449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268F1C-C97D-4CA9-88AD-36CD55EC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62A4BA-5F66-4FFD-A896-0781BEB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0F0649-868F-4CC0-859E-389952CA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AC505A-22E3-47E5-B8A6-68BC172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BF0789-E614-4AE2-92FB-1C084F5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4177EF-019F-46BA-9088-71AF1FA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58202E-F04A-433F-8888-68287B2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502B15-9866-48E0-A470-4AFF3272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B51EFF-922A-4C6B-B1DE-EEDCE301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50E203-6080-424E-9329-79B469BD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FDB2-2423-4778-A2E2-813A40D1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D59CEA-D64E-4CEF-8313-0042D54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624C56-C4FB-4E68-8D60-E6724DC2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FC55E5-51BF-49F0-886C-29222D77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9BEDE0-2A4B-449A-B288-47CA389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ECF62A-EA2C-4246-8CB3-AB888722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994BBF-BD9F-45B2-9C62-87E0399C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16E815-14BF-45B7-8651-604E59C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00510E-F346-4BE5-A887-85EC28E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4B72FC-9145-4202-BBDD-31700D07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6CD645-0D7A-4A94-9AAA-3BD2328A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36E61-16E1-4646-AD56-FB36C7E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E3CFD2-C4F1-4340-A0DB-71DDE698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37581D-488F-4E63-98D7-0760B964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0454E0-2CD1-4E07-AEF3-CFE54D42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29A2A3-E3AF-456F-804D-8F1F9BB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50B848-7942-4B12-B100-2B0A04A5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8180C4-0332-472B-A38D-E456F2E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04493D-CDC5-407C-8017-3AE0A594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79455B-0197-43B4-8FC4-9CC4F46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1AE3B1-5B3D-4236-852F-DEB0EB2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8BDF5E-499D-4590-BA5B-F2A6F0E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1022-9E63-47C3-A9E7-EAEB69B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E221BF-434E-4749-A089-29E00448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F132D6-09B7-4336-AFD2-12EC927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373474-BD87-4FB7-813C-C87BFE99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686569-64C7-4193-85CF-3A08F0D9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F3EB36-C626-4DEF-85BC-6C256CEE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1A2D9D-1063-472F-95EE-6F7FE91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7ED4BE-B218-4D23-AEDF-BCF15D1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030EAD-8856-4E58-84F7-AA9E76B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39BCAC-4FBB-43CF-A10B-3E45C16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6C36C3-6786-48E8-9B6B-7F6BD97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8BC9-B412-4E2A-ACDA-DE49F02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7FDB8F-A2FC-4D6D-9254-0A3D821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4CFF49-B170-47DA-9860-8F7CA1F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B1C59A-DD03-4E6B-9405-898C210A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700800-B638-47F0-88AE-FF519628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30AA5A-A8BC-4848-BFBC-46A01203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2FA3ED-0263-45B3-89E4-2A5D32D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FF00D6-7F8E-4467-B3C0-6110697D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E1D16D-EFFA-4546-B560-2B5A994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B0DF06-02E9-461A-9110-3D155A5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BE922A-EE5C-4734-827B-57728D9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FD97-D30B-41E1-89BF-8FA138E9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C64980-7062-443D-AFD2-EB1560BD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4B4477-B287-4956-B422-900F72C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64C974-4E77-42E9-BB64-26F1CDD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088901-DC2D-44AB-8E2E-66F1561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989375-D13A-4F9A-9374-3B67C926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D2B425-D61D-4EA8-8DEB-B35F7DF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CE15E5-6333-411E-8CB7-36DC2AD3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E669F2-23F1-4D65-99E9-97A35DBA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255A3B-CFE1-488D-9BD9-0FB60E25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E5E2E9-36EA-4D52-9AF9-B39222F2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F982F-F261-41A3-AD27-CCA66E7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CEF85F-2A2C-470B-B202-AEF59E6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16556B-8EEF-42B6-8581-497DC00A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9C32A2-E29A-4DF0-AB8C-29367ED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4D21F0-D67C-4987-8E1B-772EE55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355FF6-4927-4352-85D0-2CDA71B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2B18F1-30A2-4313-9342-F3CF388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F2789E-F6D3-48AB-8355-52B3EDF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BD54F3-90E6-46C9-95A5-67AF217D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60191B-3723-43E9-B532-1B5F0ED4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7B89A8-FE51-4945-85E6-C0BD4784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629E-0E2E-435D-865F-E4AD29D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704D51-0AD8-4449-AD37-4F2188A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AB6D1B-4509-4EFE-8275-4D18237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1A1060-9F05-4011-974A-93B10BC0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9BB55C-BD62-4E06-8FB6-C01EAF4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8C167E-6C2C-41CC-BABA-020B58F7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15DA81B-9401-4526-B4C0-09BBF2E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97C325-7397-466A-9C12-268878B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C0649AF-B372-4F16-A2A3-8B3DD73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879280-F11C-4C6F-94EF-712C691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7DB29D-C64F-424A-9B14-2EC0FE6B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8DB-C7E3-4B34-86C5-DC7AA77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BF6FC-0964-40D8-9023-25C43A86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A4DB7E-4617-4D92-B371-ECF48B78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2765D39-3501-4446-8E91-F93DD67F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4E32D9-033E-4BC2-B034-9A162D57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17F3B93-8277-4E01-9755-636C2E8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15E801B-7EB2-457C-9755-04C412E2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33DF574-70F9-40C0-BB43-232CE42D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EB83C6-856C-467F-9D65-BF585BA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AC9366D-BDE7-4FF8-8FEB-EBDED70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F8DA9F-B7F3-46BC-B6CC-98E0CB3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BD9810-0D8D-408A-871E-597B597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D25B-C701-4982-88F1-889737B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D79F76-576F-428B-A222-65337A28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A7EAE3-EE4D-4648-AC1B-13238A72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216DD4-8750-4ADF-9B07-BE93646C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7BBF04-CC31-44EE-BA10-584A3BB2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524BCF-E5DC-4331-B384-956690D0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F247CA-F3AF-426E-93B8-1D7D0A2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DE2D5E-6A75-4F9B-8D42-305B6D2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4D66A2-993D-4507-89DE-84A52F1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E9D450-55D1-487B-84C5-01DE25A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63C113-3C00-4B81-B08B-7E1810C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17103-CB37-4C29-84CB-469DB1E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CFB0EC-438F-43B7-90AB-C25D5D7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12D97C-EFB8-4A92-8332-B947176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35E5AE-6F1C-45C0-B7D0-60DF279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7228B4-83EA-49C8-8B78-4BF1DB5E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6B38E54-B020-4DCC-A0B4-29980160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531A77D-F1D2-4BA7-89AB-1BB09F1E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8BA817-B0B7-452B-BCD6-1EB58F5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C4DF521-9E24-4FC2-B623-D1A59494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CAA810-C8BB-447E-A25D-F71F02A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C3EBD7-4987-4518-B4F6-E6807EA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5F82-9831-483C-AF7F-028A5AB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B4E8CF-DAED-4F23-8B15-C15AD10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499AAB-C93A-4E44-8A01-7AA9EC0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ADDA14-AA21-4509-9665-35DA4D4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8B4C35-C36F-4D53-B81B-A25A2B4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4E3F93-67B7-4281-81E3-2167441C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45FE4B-1ED3-4FFE-A2B5-305D624D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FECCD5-7D26-49A6-839F-6565A52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544278-6849-4984-9DC5-273EE850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D25E6DB-972E-491D-B97A-0A90430A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31071D-E721-443A-975E-40B79BAA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8B63F-44B3-4E50-ABA1-C175B98C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7AC9C9-6A55-44EB-9780-0D3C4E7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8568CD-EDB5-4EA8-B827-D615E33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353F22-C714-49F9-8A27-B75C1E2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9DA96D-A936-4681-993A-83824B1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FEBE94-14A9-4315-9A04-CB3CF49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2CE81D-2612-4F31-8973-EFEF9F1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D00CB1-21A5-418E-A3BE-5380B241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E030BF-8477-4FA5-A93D-9B41CD60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68B12D2-6A62-470B-834D-48DABE4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98783F-58F7-481A-805B-36DCAC9D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8627B-6F02-4BC8-B422-49C95229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C58499-309D-4450-9F12-4F27987B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5BDC58-E618-4CAD-9EA3-77A9BAA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5CF4918-44A9-48E2-80A8-1F515A6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A041E3-4614-4564-8AAF-BC21EA03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A3A8B9-6F6C-4C65-9D98-B7EF520F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A7C2270-F211-4107-8495-ED0CCEF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069017-2DE8-4318-88F8-0A01D19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5ADB94-B5B0-460A-9734-C8780AA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261830-DC8F-4A62-A517-07DD1DA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D5ADF1-421D-4E3C-A6B9-85584EDB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671D-30FB-4F8E-B0B9-DD26FEE1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8CAD22-B844-4E2C-9B5F-E254E056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94F130-34C2-4191-A177-11A3B1CE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D98ECC-9D95-4DC9-A3B7-1A8F194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1BE590-72CF-4E1A-91B0-50C1D163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321EC8-4556-4CE2-A348-B154E18C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99B70C-BC2F-47C0-9591-BEAAE44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1D26A9-FF19-40D6-9033-8229BFB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EA1637-3F70-453E-8E9E-929F490B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F4510F8-E549-422D-9439-AC39B40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5BC9C7-1364-486E-A7D6-74E4A06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2354-E5AF-4F26-AC1A-90E0FF2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3680894-CB4E-48F3-9F4C-25AD7828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9D71DF-EEEA-4860-BD53-FBFA2097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3ED573-4089-4C6F-BE24-09EC8564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06AAED-5F12-4142-B29D-E875E59B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01C846-144C-4109-939A-9857CE5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87F9C7D-6013-4801-B503-5DC11D9D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4D4368F-6390-4A07-B5D0-38D2E0F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A58C47C-8AAD-4AC7-9A74-FFABFA7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CB4C65-CA55-4CE2-9E2E-AF6CEE78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E40F61-A940-4AFC-81ED-2B01B84B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67B7-14F4-448F-8228-46C2BEA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20A75D5-6BEB-40FF-8CD2-9E50D59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1259F98-47A6-4ED6-81FD-C7BC3B0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F9B4B9-63AB-4F6E-89FE-86DC74A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BE33CA-6E59-400E-8052-0D6475D1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583833-D94D-4EEE-913C-9050EA6C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7FE6C7D-BA68-44D3-BEFA-6186022B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1B07D3-A9EC-4085-A5D4-B98FF81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6828F4B-4ED3-4958-B741-B9F189AC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98A472-237F-4E68-8EEB-E037E5C7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BE0B5F0-DE62-4F55-BEF2-39FEC58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B459-B476-488F-A9FF-CD0948D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EFA3731-09F3-465E-B62B-67E8ACD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4037FD6-FECC-421E-B734-0A198A9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CE8B3A-7381-4757-A5EF-95FE229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EDEB01-C3FB-45B6-9B52-DD9DC29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DDD41A-7BC9-4D66-9B68-19049A1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AD491F-318A-497C-BF2E-895E47A0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CF6DFC-DA4C-45E2-8496-B1E2202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FDB4933-DEFB-41EF-9DBC-7975997C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7A1CF8-835C-477E-ABBC-AD18A57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997BD3-C791-4AA9-9FF9-0F197B79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EBB-8939-4551-9269-64A2547E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5B70-7828-43BA-A669-03EB516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BA32CBA-D6FC-46E8-934D-25B7DEB3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D9917C6-F6EF-486F-9817-5F3366E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8022381-5B64-4429-966D-CA35A1C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0BDD51-430F-47C8-A370-575732B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6B9D6E1-8D8F-4389-AB73-B88C908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9E4BD21-A39C-42DA-82B0-C74066C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791F7A-9774-4EC5-B2B0-AFEC3F9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F4B680-1AEE-4254-94E4-CC616579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DEFD386-9C1D-4E59-913A-D5E6438A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A40B34E-6634-4DC8-9610-C98DD7BF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705D-3FC3-4D2D-B4D9-A3FB9572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F907D1E-3B39-4785-BEBF-8F18AF41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23B1DC7-A6AB-4521-BD2E-27AB26F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655497-2A46-4C3F-9EA2-9042AD45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FA84BAA-CBC2-40D5-BCA5-3E032B8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411F99-BABA-482B-AE06-18AA375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748F3C-A902-4309-9B37-45C8178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AE2840-8037-437D-A575-36194B6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C5140EC-1A87-4E81-8941-511B8D5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A023F9B-2886-4EB1-B265-43BD274A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935CC51-66E0-4410-8AD0-B92895C7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1964-8936-4E28-B4D6-613C3554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F39D08-EC8E-47EB-9AAC-231345EA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50FE-154C-42B2-B671-E1A2FAB9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CEFF-52A8-4062-BF40-A74E80C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875D-529C-425C-B46A-98CAE03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3ECB-9FDD-465C-8AF6-AB70947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A2A3-6C64-400A-9A05-BEC6DF0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37D7-A4E3-4DD0-A204-78C4FD9A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356B-025A-400F-9849-0CFF9807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8C7-8E56-4718-A151-08FD4BE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7C72-36B8-42AB-933E-20E0140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522AC-7F39-438B-935E-C6AF9D3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284B2-D42A-4EC6-A01D-BFFCB404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2989-0823-4317-80F9-8E001260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3E35-94B6-44E6-9778-574F2B83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E809-5B83-489F-B00A-5B80C645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A332-CE9E-4510-B704-D18CB4C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202E-5405-4772-A63E-5A27FD4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5773-EB25-41C8-BC43-DFECADF5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B32A-C0CD-4899-99FB-89033A5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586-BC6E-4A70-9FC2-4D1ACFE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FBE3-2E72-482E-93E2-ED0D5C4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37CD-A76F-4AEB-9A4B-18B5CF3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0A32-CD88-4B6E-B831-6F6B2F6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9B6BC-7BBC-43F2-A541-60F00DF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DBFC-C456-4E50-BD50-7992EF39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B72C4-057E-4CE4-A94A-F53C695D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0FBB9-D4DA-4FA1-9B0C-55E4C5E0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FABD-2115-475A-834A-C4018F1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B3AA2-9E69-4EE7-9535-7AD4534D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105F4-C1F0-4971-9180-5F4243C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349E-EC92-4294-8E38-88EF961C3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377D-6746-4453-9EC7-900B5B985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1B0-977D-44B5-851A-F624070E7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5B6-7747-41F5-80EA-81621BD52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23B-71CA-41D3-BCB2-F93B8011B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01F-9E6C-4472-A286-9C0AF79C1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26BF-BE44-43E8-8689-E73CA38BA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791-BB50-4FCC-820D-D084E5269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B1D4-6C62-4E46-91B3-84ED8424B4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2FA-A6BD-4970-8BE5-D828F944B9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A8B2-26EC-4AFD-8A12-8A41A48BEF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C520-BD4F-4E0D-B108-67B03F12C2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DAE-C2EC-476C-B6E4-D81B4B45A8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6BE3-140C-4C18-B170-AC23371888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68E-5318-4083-A727-7E1865FFFA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82AE-5212-4966-BA7C-A2C5F2E771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63F-B365-4A65-8A9D-B243EC2789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08E-4BC2-45D7-84C9-E65F78EA28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5010-457E-4017-BF5D-A644F71CAA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B2F-120B-4182-B957-B1B788E551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F79-6E91-4B1D-8439-34CD8AEA13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932E-94A6-47FB-B8F8-C43F30474B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299-0254-4A3E-BC2F-5D18B8C6F7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EDC6-77CE-4B89-8A74-046E53109D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7731-10F8-411E-84F1-A70F632159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9651-4811-4ADD-8535-523A083937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5ED-9203-407D-90D6-FE7DCC8196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14B-4DA0-4616-B521-31861DF2DB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990C-6C53-4CBF-9E0E-245386B429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754B-5EAF-4BAE-A972-CEC24D9A97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872-BB38-4B30-88D1-16CEB90C6D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4094-1A3A-4BF7-A3DD-F5CAE2C2D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3A1-8F76-40B9-83C9-BC9551350F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DB45-BA9A-4168-B627-3E52C5EBC4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9B6-2011-4657-B072-B1B2A0C910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864-9776-4F07-8CBA-2185AF7BA5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F31-2A17-4B5B-AA91-59DE141965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260E-E3D6-45AB-833A-F55062D109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16A-6AC4-4218-9259-88BE90D60E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691-E7C7-4540-B71F-43084C4BC6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DAB-F8A5-40CB-886C-3404C7F92C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245-19A3-4718-AD44-DD8F7D7007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82D-8FF9-48D7-8391-0EA098D54E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388-4C9F-4E7A-9CA4-D19BD8F240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018F-E9E2-4BA9-AE22-3AE2EAC7C9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8CBD-5816-42B2-A6DF-62E4FFB50E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E55-0A63-4085-B3E9-DAE25B92C1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C26-7371-404A-B217-74A5FE043A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9F1-775D-405D-A536-7777B8ED32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5CBE-0CFC-408E-8BBA-B3DE8F5EAB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8A8-173C-41A0-AA54-62D6B1524D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5FD-533D-4058-A242-46A68D20B6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BC2-DF30-480E-88E3-C9C17307BD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738-AD69-4B8D-BD84-26B45201CE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AD3-5B49-468B-ACC3-AFB2AF8BD3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453-6235-4706-94DA-9B3D081C0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0D4-ED03-4F90-B135-0EF0F7D4C3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928-4C98-4524-9988-1A628317F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889-3375-453B-9FCE-5B523B9FD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92E5-C0E3-4D86-9C9C-0BE52AAF3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ub-edu.tambov.ru/vjpusk/vjp091/rabot/33/Mos_def_a.gif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osbit.narod.ru/mb1.gi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0" name="Picture 4" descr="2worldwar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5715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8153280" cy="46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Битва за Моск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TextBox 3"/>
          <p:cNvSpPr/>
          <p:nvPr/>
        </p:nvSpPr>
        <p:spPr>
          <a:xfrm>
            <a:off x="2209680" y="4457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подаватель истории МБОУ СОШ №1 г. Большой Ка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умаков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8 героев-панфилов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2" name="Содержимое 3" descr="панфилов.jpg"/>
          <p:cNvPicPr/>
          <p:nvPr/>
        </p:nvPicPr>
        <p:blipFill>
          <a:blip r:embed="rId1"/>
          <a:stretch/>
        </p:blipFill>
        <p:spPr>
          <a:xfrm>
            <a:off x="152280" y="1123920"/>
            <a:ext cx="3200400" cy="3333960"/>
          </a:xfrm>
          <a:prstGeom prst="rect">
            <a:avLst/>
          </a:prstGeom>
          <a:ln w="0">
            <a:noFill/>
          </a:ln>
        </p:spPr>
      </p:pic>
      <p:sp>
        <p:nvSpPr>
          <p:cNvPr id="2493" name="TextBox 4"/>
          <p:cNvSpPr/>
          <p:nvPr/>
        </p:nvSpPr>
        <p:spPr>
          <a:xfrm>
            <a:off x="596880" y="4457880"/>
            <a:ext cx="2374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нфилов Иван Василье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92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Box 5"/>
          <p:cNvSpPr/>
          <p:nvPr/>
        </p:nvSpPr>
        <p:spPr>
          <a:xfrm>
            <a:off x="3492360" y="1028880"/>
            <a:ext cx="5499360" cy="4208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обо отличились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16-я стрелковая дивизия  И.В.Панфило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мандовал, которой удалось задержать продвижение вражеских войск на Волоколамском направле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6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ноября 1941 г. дивизия генерала-майора И.В.Панфилова приостановила на 4 часа продвижение 50 вражеских танков, уничтожив 18 из них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се 28 героев – панфиловцев погибли в бою при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разъезде Дубосеково 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7 км от города Волоколам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Зоя Космодемья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6" name="Содержимое 3" descr="Космодемьянская.jpg"/>
          <p:cNvPicPr/>
          <p:nvPr/>
        </p:nvPicPr>
        <p:blipFill>
          <a:blip r:embed="rId1"/>
          <a:stretch/>
        </p:blipFill>
        <p:spPr>
          <a:xfrm>
            <a:off x="77760" y="1181160"/>
            <a:ext cx="2665440" cy="2759040"/>
          </a:xfrm>
          <a:prstGeom prst="rect">
            <a:avLst/>
          </a:prstGeom>
          <a:ln w="0">
            <a:noFill/>
          </a:ln>
        </p:spPr>
      </p:pic>
      <p:sp>
        <p:nvSpPr>
          <p:cNvPr id="2497" name="TextBox 4"/>
          <p:cNvSpPr/>
          <p:nvPr/>
        </p:nvSpPr>
        <p:spPr>
          <a:xfrm>
            <a:off x="0" y="41529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23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Box 5"/>
          <p:cNvSpPr/>
          <p:nvPr/>
        </p:nvSpPr>
        <p:spPr>
          <a:xfrm>
            <a:off x="2819520" y="876240"/>
            <a:ext cx="617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одилась в 1923 году в Тамбовской обл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чилась в одной из московских школ и мечтала поступить в Литературный инстит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енью 1941 г. ушла добровольцем в партизанский отря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Занималась минированием дорог, поджогом домов в деревне Петрищево Московской области, в которых располагались немецкие офицеры и солд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скоре ее поймали немцы, после долгих допросов и пыток она была казне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Содержимое 3" descr="Зоя.jpg"/>
          <p:cNvPicPr/>
          <p:nvPr/>
        </p:nvPicPr>
        <p:blipFill>
          <a:blip r:embed="rId1"/>
          <a:stretch/>
        </p:blipFill>
        <p:spPr>
          <a:xfrm>
            <a:off x="671400" y="0"/>
            <a:ext cx="7635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лалихин Викто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2" name="Содержимое 3" descr="Талалихин.jpg"/>
          <p:cNvPicPr/>
          <p:nvPr/>
        </p:nvPicPr>
        <p:blipFill>
          <a:blip r:embed="rId1"/>
          <a:stretch/>
        </p:blipFill>
        <p:spPr>
          <a:xfrm>
            <a:off x="152280" y="1333440"/>
            <a:ext cx="2592360" cy="3000600"/>
          </a:xfrm>
          <a:prstGeom prst="rect">
            <a:avLst/>
          </a:prstGeom>
          <a:ln w="0">
            <a:noFill/>
          </a:ln>
        </p:spPr>
      </p:pic>
      <p:sp>
        <p:nvSpPr>
          <p:cNvPr id="2503" name="TextBox 4"/>
          <p:cNvSpPr/>
          <p:nvPr/>
        </p:nvSpPr>
        <p:spPr>
          <a:xfrm>
            <a:off x="304920" y="438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18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Box 5"/>
          <p:cNvSpPr/>
          <p:nvPr/>
        </p:nvSpPr>
        <p:spPr>
          <a:xfrm>
            <a:off x="2895480" y="1117440"/>
            <a:ext cx="6019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 войны работал на Московском мясокомбина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явил себя как выдающийся военный летчик еще в годы Советско-финской войны 1939 – 1940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годы Великой Отечественной войны  произве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более 60 вылет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воздушном бою в ночь на 7 августа 1941 года при отражении очередного налёта немецкой авиации на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оскву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сбил таранным ударом немецкий бомбардировщик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гиб смертью храбрых в схватке с вражескими   истребителями около Подольска 27 октября 1941 г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ext Box 5"/>
          <p:cNvSpPr/>
          <p:nvPr/>
        </p:nvSpPr>
        <p:spPr>
          <a:xfrm>
            <a:off x="380880" y="127080"/>
            <a:ext cx="32004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ор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стантино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у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6" name="Picture 6" descr="img016"/>
          <p:cNvPicPr/>
          <p:nvPr/>
        </p:nvPicPr>
        <p:blipFill>
          <a:blip r:embed="rId1"/>
          <a:stretch/>
        </p:blipFill>
        <p:spPr>
          <a:xfrm>
            <a:off x="76320" y="1638360"/>
            <a:ext cx="3657600" cy="3703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2507" name="Rectangle 7"/>
          <p:cNvSpPr/>
          <p:nvPr/>
        </p:nvSpPr>
        <p:spPr>
          <a:xfrm>
            <a:off x="3886200" y="0"/>
            <a:ext cx="5105520" cy="5524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В конце ноябр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в тыло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йоне, позади Западн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рянского фронтов, бы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средоточены свеж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визии, прибывшие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льнего Востока, из Сибир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Урала. Г.К. Жуков предлож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ейти к контрнаступлен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е предложение он обоснов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к: </a:t>
            </a: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«Противник истощ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Но если мы сейчас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ликвидируем опас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ражеские вклинения, нем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могут подкрепить сво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ойска крупными резервами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и тогда положение мож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ерьезно осложнитьс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AutoShape 3"/>
          <p:cNvSpPr/>
          <p:nvPr/>
        </p:nvSpPr>
        <p:spPr>
          <a:xfrm>
            <a:off x="228600" y="190440"/>
            <a:ext cx="8686800" cy="127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отношение сил и средст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к 5 декабря 1941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9" name=""/>
          <p:cNvGraphicFramePr/>
          <p:nvPr/>
        </p:nvGraphicFramePr>
        <p:xfrm>
          <a:off x="304920" y="1587600"/>
          <a:ext cx="8534160" cy="3741480"/>
        </p:xfrm>
        <a:graphic>
          <a:graphicData uri="http://schemas.openxmlformats.org/drawingml/2006/table">
            <a:tbl>
              <a:tblPr/>
              <a:tblGrid>
                <a:gridCol w="3276360"/>
                <a:gridCol w="1295640"/>
                <a:gridCol w="1828800"/>
                <a:gridCol w="2133360"/>
              </a:tblGrid>
              <a:tr h="7873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РК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Вермах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оотно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7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65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3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анк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7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7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амол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6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,6 : 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6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840" y="38160"/>
            <a:ext cx="4116240" cy="5611680"/>
          </a:xfrm>
          <a:prstGeom prst="rect">
            <a:avLst/>
          </a:prstGeom>
          <a:ln w="0">
            <a:noFill/>
          </a:ln>
        </p:spPr>
      </p:pic>
      <p:sp>
        <p:nvSpPr>
          <p:cNvPr id="2511" name="Rectangle 7"/>
          <p:cNvSpPr/>
          <p:nvPr/>
        </p:nvSpPr>
        <p:spPr>
          <a:xfrm>
            <a:off x="4419720" y="647640"/>
            <a:ext cx="4603680" cy="3886200"/>
          </a:xfrm>
          <a:prstGeom prst="rect">
            <a:avLst/>
          </a:prstGeom>
          <a:solidFill>
            <a:srgbClr val="4a45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5-6 декабря 1941 г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ветс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йск под Моск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Text Box 6"/>
          <p:cNvSpPr/>
          <p:nvPr/>
        </p:nvSpPr>
        <p:spPr>
          <a:xfrm>
            <a:off x="457200" y="190440"/>
            <a:ext cx="815328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первые же дни были освобождены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города Калинин(Тверь), Солнечногорск, Клин, Ис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7"/>
          <p:cNvSpPr/>
          <p:nvPr/>
        </p:nvSpPr>
        <p:spPr>
          <a:xfrm>
            <a:off x="461880" y="1562040"/>
            <a:ext cx="8148600" cy="1557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сего в ходе зимнего наступления советские войска разгромили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38 немецких дивизий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вободили 11 тысяч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раг был отброшен на 100-250 км от Мос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Line 10"/>
          <p:cNvSpPr/>
          <p:nvPr/>
        </p:nvSpPr>
        <p:spPr>
          <a:xfrm>
            <a:off x="6858000" y="20955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Прямоугольник 1"/>
          <p:cNvSpPr/>
          <p:nvPr/>
        </p:nvSpPr>
        <p:spPr>
          <a:xfrm>
            <a:off x="152280" y="3314880"/>
            <a:ext cx="8763120" cy="1618560"/>
          </a:xfrm>
          <a:prstGeom prst="rect">
            <a:avLst/>
          </a:prstGeom>
          <a:solidFill>
            <a:srgbClr val="d1d1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нтрнаступление под Москвой было превращено в общее наступление по всему фронту, которое продолжалось до апреля  1942 г. За это время были полностью освобожде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осковская и Тульская  области, многие райо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лининской, Смоленской,  Рязанской и Орловской обла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Text Box 9"/>
          <p:cNvSpPr/>
          <p:nvPr/>
        </p:nvSpPr>
        <p:spPr>
          <a:xfrm>
            <a:off x="104760" y="1357200"/>
            <a:ext cx="8810640" cy="3765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беда под Москвой означала крах немецких войск»молниеносной войны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Япония и Турция окончательно отказались от вступления в войну на стороне Герм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веян  миф о непобедимости германск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вое  крупное поражение Германии во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рой мировой вой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ое командование не пытало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ольше организовывать наступательные оп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Московском направл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скорен процесс создания антигитлеровской коали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AutoShape 5"/>
          <p:cNvSpPr/>
          <p:nvPr/>
        </p:nvSpPr>
        <p:spPr>
          <a:xfrm>
            <a:off x="228600" y="190440"/>
            <a:ext cx="8610480" cy="1067040"/>
          </a:xfrm>
          <a:prstGeom prst="downArrowCallout">
            <a:avLst>
              <a:gd name="adj1" fmla="val -35556"/>
              <a:gd name="adj2" fmla="val 42626"/>
              <a:gd name="adj3" fmla="val 16667"/>
              <a:gd name="adj4" fmla="val 66667"/>
            </a:avLst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Значение Московской битв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Text Box 5"/>
          <p:cNvSpPr/>
          <p:nvPr/>
        </p:nvSpPr>
        <p:spPr>
          <a:xfrm>
            <a:off x="304920" y="133200"/>
            <a:ext cx="8534160" cy="11912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ему фашистским войскам не удалось взять Москв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tangle 6"/>
          <p:cNvSpPr/>
          <p:nvPr/>
        </p:nvSpPr>
        <p:spPr>
          <a:xfrm>
            <a:off x="304920" y="1473120"/>
            <a:ext cx="8534160" cy="412776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ойкость и героизм советских вои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лководческое искусство советс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оенача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Использование советским командова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вежих резер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Стратегические просчеты герман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ования, некомпетент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мешательство Гитлера в военные пл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еподготовленность германских войс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 ведению боевых действий в зимн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слов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15640" y="-360"/>
            <a:ext cx="8775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Text Box 7"/>
          <p:cNvSpPr/>
          <p:nvPr/>
        </p:nvSpPr>
        <p:spPr>
          <a:xfrm>
            <a:off x="76320" y="700200"/>
            <a:ext cx="4114800" cy="44830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порное сопротивление Красной Армии под Смоленском, Ленинградом, Киевом, Одессой, на многих других участках фронта не позволило осуществить планы немецкого командования по захвату Москвы к началу ос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Прямоугольник 1"/>
          <p:cNvSpPr/>
          <p:nvPr/>
        </p:nvSpPr>
        <p:spPr>
          <a:xfrm>
            <a:off x="4343400" y="711360"/>
            <a:ext cx="4800600" cy="3995280"/>
          </a:xfrm>
          <a:prstGeom prst="rect">
            <a:avLst/>
          </a:prstGeom>
          <a:solidFill>
            <a:srgbClr val="f2f2f2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ля захвата Мос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был подготовлен пл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Arial Black"/>
              </a:rPr>
              <a:t>«Тайфун».</a:t>
            </a: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емцы попытали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остичь на э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правлении троекрат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ревосходства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й силе(в 3-4 раза) и технике: танков- в 2-8раз, артиллерии –в 4-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Text Box 4"/>
          <p:cNvSpPr/>
          <p:nvPr/>
        </p:nvSpPr>
        <p:spPr>
          <a:xfrm>
            <a:off x="875160" y="52070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194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7" name="Picture 5" descr="Рисунок7"/>
          <p:cNvPicPr/>
          <p:nvPr/>
        </p:nvPicPr>
        <p:blipFill>
          <a:blip r:embed="rId1"/>
          <a:stretch/>
        </p:blipFill>
        <p:spPr>
          <a:xfrm>
            <a:off x="158760" y="93600"/>
            <a:ext cx="365760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468" name="Picture 6" descr="Картинка 56 из 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93600"/>
            <a:ext cx="4876920" cy="69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69" name="Text Box 9"/>
          <p:cNvSpPr/>
          <p:nvPr/>
        </p:nvSpPr>
        <p:spPr>
          <a:xfrm>
            <a:off x="4038480" y="1028880"/>
            <a:ext cx="4953240" cy="41248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30 сентября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чалось генеральное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аступление немцев на Мос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м удалось не только прорвать оборону упорно сопротивлявшихся советских войск, но и окружить 4 армии западнее Вязьмы и две- южнее Брян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AutoShape 3"/>
          <p:cNvSpPr/>
          <p:nvPr/>
        </p:nvSpPr>
        <p:spPr>
          <a:xfrm>
            <a:off x="0" y="190440"/>
            <a:ext cx="883908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Black"/>
              </a:rPr>
              <a:t>Битва за Москву 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30 сентября 1941 г. – апрель 194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AutoShape 4"/>
          <p:cNvSpPr/>
          <p:nvPr/>
        </p:nvSpPr>
        <p:spPr>
          <a:xfrm>
            <a:off x="228600" y="2933640"/>
            <a:ext cx="4191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Оборо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ериод бит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30 сентября 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5 декаб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1941 г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AutoShape 5"/>
          <p:cNvSpPr/>
          <p:nvPr/>
        </p:nvSpPr>
        <p:spPr>
          <a:xfrm>
            <a:off x="4648320" y="285768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расной Арм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д Москв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5 декабря 1941 г.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прель 194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AutoShape 6"/>
          <p:cNvSpPr/>
          <p:nvPr/>
        </p:nvSpPr>
        <p:spPr>
          <a:xfrm>
            <a:off x="2133720" y="1968480"/>
            <a:ext cx="380880" cy="889200"/>
          </a:xfrm>
          <a:prstGeom prst="downArrow">
            <a:avLst>
              <a:gd name="adj1" fmla="val 50000"/>
              <a:gd name="adj2" fmla="val 70038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AutoShape 7"/>
          <p:cNvSpPr/>
          <p:nvPr/>
        </p:nvSpPr>
        <p:spPr>
          <a:xfrm>
            <a:off x="6705720" y="1943280"/>
            <a:ext cx="380880" cy="888840"/>
          </a:xfrm>
          <a:prstGeom prst="downArrow">
            <a:avLst>
              <a:gd name="adj1" fmla="val 50000"/>
              <a:gd name="adj2" fmla="val 70009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5"/>
          <p:cNvSpPr/>
          <p:nvPr/>
        </p:nvSpPr>
        <p:spPr>
          <a:xfrm>
            <a:off x="304920" y="114480"/>
            <a:ext cx="8610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Соотношение сил и сред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к 30 сентября 1941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0" y="1181160"/>
          <a:ext cx="9067680" cy="4306680"/>
        </p:xfrm>
        <a:graphic>
          <a:graphicData uri="http://schemas.openxmlformats.org/drawingml/2006/table">
            <a:tbl>
              <a:tblPr/>
              <a:tblGrid>
                <a:gridCol w="3124080"/>
                <a:gridCol w="1524240"/>
                <a:gridCol w="2057400"/>
                <a:gridCol w="2361960"/>
              </a:tblGrid>
              <a:tr h="9298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РК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Вермах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отношение</a:t>
                      </a: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71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88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Та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амол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6" descr="stiker_bitva_za_moskvu"/>
          <p:cNvPicPr/>
          <p:nvPr/>
        </p:nvPicPr>
        <p:blipFill>
          <a:blip r:embed="rId1"/>
          <a:stretch/>
        </p:blipFill>
        <p:spPr>
          <a:xfrm>
            <a:off x="76320" y="311040"/>
            <a:ext cx="3732120" cy="4991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8" name="Text Box 10"/>
          <p:cNvSpPr/>
          <p:nvPr/>
        </p:nvSpPr>
        <p:spPr>
          <a:xfrm>
            <a:off x="3886200" y="66600"/>
            <a:ext cx="5257800" cy="119124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лен к немцам попали 663 тыс. человек. Но и окруженные советские войска продолжали сковывать до 20 немецких дивиз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11"/>
          <p:cNvSpPr/>
          <p:nvPr/>
        </p:nvSpPr>
        <p:spPr>
          <a:xfrm>
            <a:off x="3962520" y="1333440"/>
            <a:ext cx="5181480" cy="8863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ующий Западным фронтом- генерал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Г.К.Жу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5"/>
          <p:cNvSpPr/>
          <p:nvPr/>
        </p:nvSpPr>
        <p:spPr>
          <a:xfrm>
            <a:off x="3809880" y="2552760"/>
            <a:ext cx="5181840" cy="13341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 середине октября враг вплотную подошел к сто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немецкие бинокли отлично просматривались башни Крем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7"/>
          <p:cNvSpPr/>
          <p:nvPr/>
        </p:nvSpPr>
        <p:spPr>
          <a:xfrm>
            <a:off x="3809880" y="4000680"/>
            <a:ext cx="5334120" cy="14655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 решению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ГКО началась эвакуация из Москв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ы правительственных учреждений, дипломатов зарубежных государств, крупных промышленных предприятий, насе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2" name="Picture 4" descr="5"/>
          <p:cNvPicPr/>
          <p:nvPr/>
        </p:nvPicPr>
        <p:blipFill>
          <a:blip r:embed="rId1"/>
          <a:srcRect l="1964" t="0" r="0" b="0"/>
          <a:stretch/>
        </p:blipFill>
        <p:spPr>
          <a:xfrm>
            <a:off x="0" y="952560"/>
            <a:ext cx="9144000" cy="4576680"/>
          </a:xfrm>
          <a:prstGeom prst="rect">
            <a:avLst/>
          </a:prstGeom>
          <a:ln w="0">
            <a:noFill/>
          </a:ln>
        </p:spPr>
      </p:pic>
      <p:sp>
        <p:nvSpPr>
          <p:cNvPr id="2483" name="Rectangle 5"/>
          <p:cNvSpPr/>
          <p:nvPr/>
        </p:nvSpPr>
        <p:spPr>
          <a:xfrm>
            <a:off x="152280" y="127080"/>
            <a:ext cx="8534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Black"/>
              </a:rPr>
              <a:t>7 ноября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 Красной площади прошел пара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Его участники сразу же отправлялись на фро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 Box 4"/>
          <p:cNvSpPr/>
          <p:nvPr/>
        </p:nvSpPr>
        <p:spPr>
          <a:xfrm>
            <a:off x="1447920" y="190440"/>
            <a:ext cx="3504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8"/>
          <p:cNvSpPr/>
          <p:nvPr/>
        </p:nvSpPr>
        <p:spPr>
          <a:xfrm>
            <a:off x="177840" y="501480"/>
            <a:ext cx="8813880" cy="105984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ыли подготовлены к взрыву все важнейшие объекты города на случай прорыва нем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20 октября в Москве было введено осадное по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9"/>
          <p:cNvSpPr/>
          <p:nvPr/>
        </p:nvSpPr>
        <p:spPr>
          <a:xfrm>
            <a:off x="177840" y="2155680"/>
            <a:ext cx="8813880" cy="16084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олоссальным напряжением сил, беспримерным мужеством и героизмом защитников столицы наступление немцев в первых числах ноября было остановле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7 ноября, как и прежде, на Красной площади состоялся военный парад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10"/>
          <p:cNvSpPr/>
          <p:nvPr/>
        </p:nvSpPr>
        <p:spPr>
          <a:xfrm>
            <a:off x="228600" y="4219560"/>
            <a:ext cx="8686800" cy="9169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днако в середине ноября немецкое наступление возобновилось с новой силой. Лишь упорное сопротивление советских воинов спасло столиц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8" name="Picture 2" descr=""/>
          <p:cNvPicPr/>
          <p:nvPr/>
        </p:nvPicPr>
        <p:blipFill>
          <a:blip r:embed="rId1"/>
          <a:stretch/>
        </p:blipFill>
        <p:spPr>
          <a:xfrm>
            <a:off x="189000" y="952560"/>
            <a:ext cx="4002120" cy="4049640"/>
          </a:xfrm>
          <a:prstGeom prst="rect">
            <a:avLst/>
          </a:prstGeom>
          <a:ln w="0">
            <a:noFill/>
          </a:ln>
        </p:spPr>
      </p:pic>
      <p:sp>
        <p:nvSpPr>
          <p:cNvPr id="2489" name="Прямоугольник 1"/>
          <p:cNvSpPr/>
          <p:nvPr/>
        </p:nvSpPr>
        <p:spPr>
          <a:xfrm>
            <a:off x="4419720" y="876240"/>
            <a:ext cx="4495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Легендарным стал подвиг группы бойцов во главе с 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политруком В. Г. Клочковы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долго задержавшей более 30 танков против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Всю страну облетели слова Клочкова, сказанные им солдатам: </a:t>
            </a:r>
            <a:r>
              <a:rPr b="0" lang="ru-RU" sz="2200" spc="-1" strike="noStrike">
                <a:solidFill>
                  <a:srgbClr val="c00000"/>
                </a:solidFill>
                <a:latin typeface="Arial Black"/>
              </a:rPr>
              <a:t>«Велика Россия, а отступать некуда: позади — Москва!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Прямоугольник 3"/>
          <p:cNvSpPr/>
          <p:nvPr/>
        </p:nvSpPr>
        <p:spPr>
          <a:xfrm>
            <a:off x="457200" y="0"/>
            <a:ext cx="754380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. Г. Клоч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5T01:39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