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0CF4-A342-4EA8-A1C1-FA54DF15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3D8-5D3A-4615-B0F0-CA29292B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4107-ED4A-416A-B75A-EDC4446D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62E2-2C2C-4901-BD9A-249AABC5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E481-6C37-4AB8-AFB4-348342F9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8574-E58F-4409-927D-76764C37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CD05-12E5-46B8-9DE7-19113D72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DFBC-7D5B-43F9-9853-9998248E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32E0-94DD-46E0-A62F-210F361D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8086-C7A5-400F-8AF1-D4D85FF2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DF79-B101-4C18-9364-750AC3A5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3A6-85E3-4443-9681-55493BE9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5732-7623-4A6F-BD0E-6B59C67456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Объект 7" descr=""/>
          <p:cNvPicPr/>
          <p:nvPr/>
        </p:nvPicPr>
        <p:blipFill>
          <a:blip r:embed="rId2"/>
          <a:stretch/>
        </p:blipFill>
        <p:spPr>
          <a:xfrm>
            <a:off x="0" y="0"/>
            <a:ext cx="6051600" cy="32972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"/>
          <p:cNvPicPr/>
          <p:nvPr/>
        </p:nvPicPr>
        <p:blipFill>
          <a:blip r:embed="rId3"/>
          <a:stretch/>
        </p:blipFill>
        <p:spPr>
          <a:xfrm>
            <a:off x="6051600" y="-25560"/>
            <a:ext cx="6140520" cy="33051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9" descr=""/>
          <p:cNvPicPr/>
          <p:nvPr/>
        </p:nvPicPr>
        <p:blipFill>
          <a:blip r:embed="rId4"/>
          <a:stretch/>
        </p:blipFill>
        <p:spPr>
          <a:xfrm>
            <a:off x="6051600" y="3279600"/>
            <a:ext cx="6140520" cy="35784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0" descr=""/>
          <p:cNvPicPr/>
          <p:nvPr/>
        </p:nvPicPr>
        <p:blipFill>
          <a:blip r:embed="rId5"/>
          <a:stretch/>
        </p:blipFill>
        <p:spPr>
          <a:xfrm>
            <a:off x="22320" y="3297240"/>
            <a:ext cx="60292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3400" y="15224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зло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Заголовок 1"/>
          <p:cNvSpPr/>
          <p:nvPr/>
        </p:nvSpPr>
        <p:spPr>
          <a:xfrm>
            <a:off x="927000" y="31035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Bookman Old Style"/>
              </a:rPr>
              <a:t>добры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0200" y="1476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невежлив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784080" y="300672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вежлив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1480" y="1500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груб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Заголовок 1"/>
          <p:cNvSpPr/>
          <p:nvPr/>
        </p:nvSpPr>
        <p:spPr>
          <a:xfrm>
            <a:off x="930240" y="29973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ласков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56920" y="1359000"/>
            <a:ext cx="108903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отнять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Заголовок 1"/>
          <p:cNvSpPr/>
          <p:nvPr/>
        </p:nvSpPr>
        <p:spPr>
          <a:xfrm>
            <a:off x="539640" y="3065400"/>
            <a:ext cx="110491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отдать, подарит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31800" y="1328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поругать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2603520" y="28544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похвалит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0560" y="1233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ленив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669960" y="28335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трудолюбив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6560" y="1355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жадн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53960" y="27399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щедр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6560" y="1328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обидеть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588960" y="2709720"/>
            <a:ext cx="1051560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защитит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41360" y="1328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огорчить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547560" y="27669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обрадоват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0960" y="13806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грустн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Заголовок 1"/>
          <p:cNvSpPr/>
          <p:nvPr/>
        </p:nvSpPr>
        <p:spPr>
          <a:xfrm>
            <a:off x="453960" y="30495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весел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3800" y="8398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1f4e79"/>
                </a:solidFill>
                <a:latin typeface="Bookman Old Style"/>
              </a:rPr>
              <a:t>«Пусть сердце будет добрым» 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47560" y="13806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неряшлив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453960" y="28749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аккуратн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0560" y="1166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сломать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53960" y="25923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починить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560" y="11520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криклив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453960" y="27399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молчалив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3560" y="1301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развязн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Заголовок 1"/>
          <p:cNvSpPr/>
          <p:nvPr/>
        </p:nvSpPr>
        <p:spPr>
          <a:xfrm>
            <a:off x="360360" y="271296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скромн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3560" y="15663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трусливый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Заголовок 1"/>
          <p:cNvSpPr/>
          <p:nvPr/>
        </p:nvSpPr>
        <p:spPr>
          <a:xfrm>
            <a:off x="606600" y="2771640"/>
            <a:ext cx="10515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смелый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04920" y="1885680"/>
            <a:ext cx="111981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Calibri"/>
              </a:rPr>
              <a:t>1. Она может быть     настоящая и мнимая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6188040" y="246240"/>
          <a:ext cx="373392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3000"/>
                <a:gridCol w="590760"/>
                <a:gridCol w="704880"/>
                <a:gridCol w="615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387440" y="1146240"/>
          <a:ext cx="7223040" cy="914400"/>
        </p:xfrm>
        <a:graphic>
          <a:graphicData uri="http://schemas.openxmlformats.org/drawingml/2006/table">
            <a:tbl>
              <a:tblPr/>
              <a:tblGrid>
                <a:gridCol w="601560"/>
                <a:gridCol w="601920"/>
                <a:gridCol w="601560"/>
                <a:gridCol w="603360"/>
                <a:gridCol w="601560"/>
                <a:gridCol w="601560"/>
                <a:gridCol w="601920"/>
                <a:gridCol w="601560"/>
                <a:gridCol w="601560"/>
                <a:gridCol w="60336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998960" y="2027160"/>
          <a:ext cx="361152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87160"/>
                <a:gridCol w="617400"/>
                <a:gridCol w="60192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801960" y="2921040"/>
          <a:ext cx="420696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99760"/>
                <a:gridCol w="601920"/>
                <a:gridCol w="582480"/>
                <a:gridCol w="619200"/>
                <a:gridCol w="60012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578560" y="3821040"/>
          <a:ext cx="502920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581040"/>
                <a:gridCol w="587160"/>
                <a:gridCol w="676440"/>
                <a:gridCol w="639720"/>
                <a:gridCol w="716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124080" y="4702320"/>
          <a:ext cx="4286520" cy="914400"/>
        </p:xfrm>
        <a:graphic>
          <a:graphicData uri="http://schemas.openxmlformats.org/drawingml/2006/table">
            <a:tbl>
              <a:tblPr/>
              <a:tblGrid>
                <a:gridCol w="685800"/>
                <a:gridCol w="594000"/>
                <a:gridCol w="579240"/>
                <a:gridCol w="590760"/>
                <a:gridCol w="614160"/>
                <a:gridCol w="593640"/>
                <a:gridCol w="62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801960" y="5616720"/>
          <a:ext cx="4824360" cy="914400"/>
        </p:xfrm>
        <a:graphic>
          <a:graphicData uri="http://schemas.openxmlformats.org/drawingml/2006/table">
            <a:tbl>
              <a:tblPr/>
              <a:tblGrid>
                <a:gridCol w="603360"/>
                <a:gridCol w="603360"/>
                <a:gridCol w="538200"/>
                <a:gridCol w="641160"/>
                <a:gridCol w="579600"/>
                <a:gridCol w="652320"/>
                <a:gridCol w="603360"/>
                <a:gridCol w="60300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325160" y="910800"/>
            <a:ext cx="11612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2. Готовность помочь, отозваться на чужие нужд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188040" y="246240"/>
          <a:ext cx="373392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3000"/>
                <a:gridCol w="590760"/>
                <a:gridCol w="704880"/>
                <a:gridCol w="615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387440" y="1146240"/>
          <a:ext cx="7223040" cy="914400"/>
        </p:xfrm>
        <a:graphic>
          <a:graphicData uri="http://schemas.openxmlformats.org/drawingml/2006/table">
            <a:tbl>
              <a:tblPr/>
              <a:tblGrid>
                <a:gridCol w="601560"/>
                <a:gridCol w="601920"/>
                <a:gridCol w="601560"/>
                <a:gridCol w="603360"/>
                <a:gridCol w="601560"/>
                <a:gridCol w="601560"/>
                <a:gridCol w="601920"/>
                <a:gridCol w="601560"/>
                <a:gridCol w="601560"/>
                <a:gridCol w="60336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4998960" y="2027160"/>
          <a:ext cx="361152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87160"/>
                <a:gridCol w="617400"/>
                <a:gridCol w="60192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801960" y="2921040"/>
          <a:ext cx="420696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99760"/>
                <a:gridCol w="601920"/>
                <a:gridCol w="582480"/>
                <a:gridCol w="619200"/>
                <a:gridCol w="60012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578560" y="3821040"/>
          <a:ext cx="502920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581040"/>
                <a:gridCol w="587160"/>
                <a:gridCol w="676440"/>
                <a:gridCol w="639720"/>
                <a:gridCol w="716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124080" y="4702320"/>
          <a:ext cx="4286520" cy="914400"/>
        </p:xfrm>
        <a:graphic>
          <a:graphicData uri="http://schemas.openxmlformats.org/drawingml/2006/table">
            <a:tbl>
              <a:tblPr/>
              <a:tblGrid>
                <a:gridCol w="685800"/>
                <a:gridCol w="594000"/>
                <a:gridCol w="579240"/>
                <a:gridCol w="590760"/>
                <a:gridCol w="614160"/>
                <a:gridCol w="593640"/>
                <a:gridCol w="62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801960" y="5616720"/>
          <a:ext cx="4824360" cy="914400"/>
        </p:xfrm>
        <a:graphic>
          <a:graphicData uri="http://schemas.openxmlformats.org/drawingml/2006/table">
            <a:tbl>
              <a:tblPr/>
              <a:tblGrid>
                <a:gridCol w="603360"/>
                <a:gridCol w="603360"/>
                <a:gridCol w="538200"/>
                <a:gridCol w="641160"/>
                <a:gridCol w="579600"/>
                <a:gridCol w="652320"/>
                <a:gridCol w="603360"/>
                <a:gridCol w="60300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0520" y="590040"/>
            <a:ext cx="118112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3. Это чувство необходимо каждому человеку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3080" y="260280"/>
            <a:ext cx="9593280" cy="46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222a35"/>
                </a:solidFill>
                <a:latin typeface="Bookman Old Style"/>
              </a:rPr>
              <a:t>Что такое доброта?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6188040" y="246240"/>
          <a:ext cx="373392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3000"/>
                <a:gridCol w="590760"/>
                <a:gridCol w="704880"/>
                <a:gridCol w="615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387440" y="1146240"/>
          <a:ext cx="7223040" cy="914400"/>
        </p:xfrm>
        <a:graphic>
          <a:graphicData uri="http://schemas.openxmlformats.org/drawingml/2006/table">
            <a:tbl>
              <a:tblPr/>
              <a:tblGrid>
                <a:gridCol w="601560"/>
                <a:gridCol w="601920"/>
                <a:gridCol w="601560"/>
                <a:gridCol w="603360"/>
                <a:gridCol w="601560"/>
                <a:gridCol w="601560"/>
                <a:gridCol w="601920"/>
                <a:gridCol w="601560"/>
                <a:gridCol w="601560"/>
                <a:gridCol w="60336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998960" y="2027160"/>
          <a:ext cx="361152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87160"/>
                <a:gridCol w="617400"/>
                <a:gridCol w="60192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801960" y="2921040"/>
          <a:ext cx="420696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99760"/>
                <a:gridCol w="601920"/>
                <a:gridCol w="582480"/>
                <a:gridCol w="619200"/>
                <a:gridCol w="60012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578560" y="3821040"/>
          <a:ext cx="502920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581040"/>
                <a:gridCol w="587160"/>
                <a:gridCol w="676440"/>
                <a:gridCol w="639720"/>
                <a:gridCol w="716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124080" y="4702320"/>
          <a:ext cx="4286520" cy="914400"/>
        </p:xfrm>
        <a:graphic>
          <a:graphicData uri="http://schemas.openxmlformats.org/drawingml/2006/table">
            <a:tbl>
              <a:tblPr/>
              <a:tblGrid>
                <a:gridCol w="685800"/>
                <a:gridCol w="594000"/>
                <a:gridCol w="579240"/>
                <a:gridCol w="590760"/>
                <a:gridCol w="614160"/>
                <a:gridCol w="593640"/>
                <a:gridCol w="62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3801960" y="5616720"/>
          <a:ext cx="4824360" cy="914400"/>
        </p:xfrm>
        <a:graphic>
          <a:graphicData uri="http://schemas.openxmlformats.org/drawingml/2006/table">
            <a:tbl>
              <a:tblPr/>
              <a:tblGrid>
                <a:gridCol w="603360"/>
                <a:gridCol w="603360"/>
                <a:gridCol w="538200"/>
                <a:gridCol w="641160"/>
                <a:gridCol w="579600"/>
                <a:gridCol w="652320"/>
                <a:gridCol w="603360"/>
                <a:gridCol w="60300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0520" y="590040"/>
            <a:ext cx="118112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4.Между друзьями должно быть взаимопонимание и…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88040" y="246240"/>
          <a:ext cx="373392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3000"/>
                <a:gridCol w="590760"/>
                <a:gridCol w="704880"/>
                <a:gridCol w="615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387440" y="1146240"/>
          <a:ext cx="7223040" cy="914400"/>
        </p:xfrm>
        <a:graphic>
          <a:graphicData uri="http://schemas.openxmlformats.org/drawingml/2006/table">
            <a:tbl>
              <a:tblPr/>
              <a:tblGrid>
                <a:gridCol w="601560"/>
                <a:gridCol w="601920"/>
                <a:gridCol w="601560"/>
                <a:gridCol w="603360"/>
                <a:gridCol w="601560"/>
                <a:gridCol w="601560"/>
                <a:gridCol w="601920"/>
                <a:gridCol w="601560"/>
                <a:gridCol w="601560"/>
                <a:gridCol w="60336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998960" y="2027160"/>
          <a:ext cx="361152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87160"/>
                <a:gridCol w="617400"/>
                <a:gridCol w="60192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801960" y="2921040"/>
          <a:ext cx="420696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99760"/>
                <a:gridCol w="601920"/>
                <a:gridCol w="582480"/>
                <a:gridCol w="619200"/>
                <a:gridCol w="60012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5578560" y="3821040"/>
          <a:ext cx="502920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581040"/>
                <a:gridCol w="587160"/>
                <a:gridCol w="676440"/>
                <a:gridCol w="639720"/>
                <a:gridCol w="716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124080" y="4702320"/>
          <a:ext cx="4286520" cy="914400"/>
        </p:xfrm>
        <a:graphic>
          <a:graphicData uri="http://schemas.openxmlformats.org/drawingml/2006/table">
            <a:tbl>
              <a:tblPr/>
              <a:tblGrid>
                <a:gridCol w="685800"/>
                <a:gridCol w="594000"/>
                <a:gridCol w="579240"/>
                <a:gridCol w="590760"/>
                <a:gridCol w="614160"/>
                <a:gridCol w="593640"/>
                <a:gridCol w="62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801960" y="5616720"/>
          <a:ext cx="4824360" cy="914400"/>
        </p:xfrm>
        <a:graphic>
          <a:graphicData uri="http://schemas.openxmlformats.org/drawingml/2006/table">
            <a:tbl>
              <a:tblPr/>
              <a:tblGrid>
                <a:gridCol w="603360"/>
                <a:gridCol w="603360"/>
                <a:gridCol w="538200"/>
                <a:gridCol w="641160"/>
                <a:gridCol w="579600"/>
                <a:gridCol w="652320"/>
                <a:gridCol w="603360"/>
                <a:gridCol w="60300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22040" y="1657080"/>
            <a:ext cx="119631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5. Столкновение противоположных интересо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6188040" y="246240"/>
          <a:ext cx="373392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3000"/>
                <a:gridCol w="590760"/>
                <a:gridCol w="704880"/>
                <a:gridCol w="615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387440" y="1146240"/>
          <a:ext cx="7223040" cy="914400"/>
        </p:xfrm>
        <a:graphic>
          <a:graphicData uri="http://schemas.openxmlformats.org/drawingml/2006/table">
            <a:tbl>
              <a:tblPr/>
              <a:tblGrid>
                <a:gridCol w="601560"/>
                <a:gridCol w="601920"/>
                <a:gridCol w="601560"/>
                <a:gridCol w="603360"/>
                <a:gridCol w="601560"/>
                <a:gridCol w="601560"/>
                <a:gridCol w="601920"/>
                <a:gridCol w="601560"/>
                <a:gridCol w="601560"/>
                <a:gridCol w="60336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998960" y="2027160"/>
          <a:ext cx="361152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87160"/>
                <a:gridCol w="617400"/>
                <a:gridCol w="60192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801960" y="2921040"/>
          <a:ext cx="420696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99760"/>
                <a:gridCol w="601920"/>
                <a:gridCol w="582480"/>
                <a:gridCol w="619200"/>
                <a:gridCol w="60012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578560" y="3821040"/>
          <a:ext cx="502920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581040"/>
                <a:gridCol w="587160"/>
                <a:gridCol w="676440"/>
                <a:gridCol w="639720"/>
                <a:gridCol w="716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124080" y="4702320"/>
          <a:ext cx="4286520" cy="914400"/>
        </p:xfrm>
        <a:graphic>
          <a:graphicData uri="http://schemas.openxmlformats.org/drawingml/2006/table">
            <a:tbl>
              <a:tblPr/>
              <a:tblGrid>
                <a:gridCol w="685800"/>
                <a:gridCol w="594000"/>
                <a:gridCol w="579240"/>
                <a:gridCol w="590760"/>
                <a:gridCol w="614160"/>
                <a:gridCol w="593640"/>
                <a:gridCol w="62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801960" y="5616720"/>
          <a:ext cx="4824360" cy="914400"/>
        </p:xfrm>
        <a:graphic>
          <a:graphicData uri="http://schemas.openxmlformats.org/drawingml/2006/table">
            <a:tbl>
              <a:tblPr/>
              <a:tblGrid>
                <a:gridCol w="603360"/>
                <a:gridCol w="603360"/>
                <a:gridCol w="538200"/>
                <a:gridCol w="641160"/>
                <a:gridCol w="579600"/>
                <a:gridCol w="652320"/>
                <a:gridCol w="603360"/>
                <a:gridCol w="60300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782360" y="742680"/>
            <a:ext cx="126493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6. Доброе, отзывчивое отношение к человеку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188040" y="246240"/>
          <a:ext cx="373392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3000"/>
                <a:gridCol w="590760"/>
                <a:gridCol w="704880"/>
                <a:gridCol w="615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387440" y="1146240"/>
          <a:ext cx="7223040" cy="914400"/>
        </p:xfrm>
        <a:graphic>
          <a:graphicData uri="http://schemas.openxmlformats.org/drawingml/2006/table">
            <a:tbl>
              <a:tblPr/>
              <a:tblGrid>
                <a:gridCol w="601560"/>
                <a:gridCol w="601920"/>
                <a:gridCol w="601560"/>
                <a:gridCol w="603360"/>
                <a:gridCol w="601560"/>
                <a:gridCol w="601560"/>
                <a:gridCol w="601920"/>
                <a:gridCol w="601560"/>
                <a:gridCol w="601560"/>
                <a:gridCol w="60336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998960" y="2027160"/>
          <a:ext cx="361152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87160"/>
                <a:gridCol w="617400"/>
                <a:gridCol w="60192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801960" y="2921040"/>
          <a:ext cx="420696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99760"/>
                <a:gridCol w="601920"/>
                <a:gridCol w="582480"/>
                <a:gridCol w="619200"/>
                <a:gridCol w="60012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578560" y="3821040"/>
          <a:ext cx="502920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581040"/>
                <a:gridCol w="587160"/>
                <a:gridCol w="676440"/>
                <a:gridCol w="639720"/>
                <a:gridCol w="716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124080" y="4702320"/>
          <a:ext cx="4286520" cy="914400"/>
        </p:xfrm>
        <a:graphic>
          <a:graphicData uri="http://schemas.openxmlformats.org/drawingml/2006/table">
            <a:tbl>
              <a:tblPr/>
              <a:tblGrid>
                <a:gridCol w="685800"/>
                <a:gridCol w="594000"/>
                <a:gridCol w="579240"/>
                <a:gridCol w="590760"/>
                <a:gridCol w="614160"/>
                <a:gridCol w="593640"/>
                <a:gridCol w="62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3801960" y="5616720"/>
          <a:ext cx="4824360" cy="914400"/>
        </p:xfrm>
        <a:graphic>
          <a:graphicData uri="http://schemas.openxmlformats.org/drawingml/2006/table">
            <a:tbl>
              <a:tblPr/>
              <a:tblGrid>
                <a:gridCol w="603360"/>
                <a:gridCol w="603360"/>
                <a:gridCol w="538200"/>
                <a:gridCol w="641160"/>
                <a:gridCol w="579600"/>
                <a:gridCol w="652320"/>
                <a:gridCol w="603360"/>
                <a:gridCol w="60300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-334800" y="944640"/>
            <a:ext cx="126489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7. Заботливое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отношение к людям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6188040" y="246240"/>
          <a:ext cx="373392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3000"/>
                <a:gridCol w="590760"/>
                <a:gridCol w="704880"/>
                <a:gridCol w="615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387440" y="1146240"/>
          <a:ext cx="7223040" cy="914400"/>
        </p:xfrm>
        <a:graphic>
          <a:graphicData uri="http://schemas.openxmlformats.org/drawingml/2006/table">
            <a:tbl>
              <a:tblPr/>
              <a:tblGrid>
                <a:gridCol w="601560"/>
                <a:gridCol w="601920"/>
                <a:gridCol w="601560"/>
                <a:gridCol w="603360"/>
                <a:gridCol w="601560"/>
                <a:gridCol w="601560"/>
                <a:gridCol w="601920"/>
                <a:gridCol w="601560"/>
                <a:gridCol w="601560"/>
                <a:gridCol w="60336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998960" y="2027160"/>
          <a:ext cx="361152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87160"/>
                <a:gridCol w="617400"/>
                <a:gridCol w="601920"/>
                <a:gridCol w="60156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Ю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801960" y="2921040"/>
          <a:ext cx="4206960" cy="914400"/>
        </p:xfrm>
        <a:graphic>
          <a:graphicData uri="http://schemas.openxmlformats.org/drawingml/2006/table">
            <a:tbl>
              <a:tblPr/>
              <a:tblGrid>
                <a:gridCol w="601920"/>
                <a:gridCol w="599760"/>
                <a:gridCol w="601920"/>
                <a:gridCol w="582480"/>
                <a:gridCol w="619200"/>
                <a:gridCol w="600120"/>
                <a:gridCol w="60156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578560" y="3821040"/>
          <a:ext cx="5029200" cy="9144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581040"/>
                <a:gridCol w="587160"/>
                <a:gridCol w="676440"/>
                <a:gridCol w="639720"/>
                <a:gridCol w="716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3124080" y="4702320"/>
          <a:ext cx="4286520" cy="914400"/>
        </p:xfrm>
        <a:graphic>
          <a:graphicData uri="http://schemas.openxmlformats.org/drawingml/2006/table">
            <a:tbl>
              <a:tblPr/>
              <a:tblGrid>
                <a:gridCol w="685800"/>
                <a:gridCol w="594000"/>
                <a:gridCol w="579240"/>
                <a:gridCol w="590760"/>
                <a:gridCol w="614160"/>
                <a:gridCol w="593640"/>
                <a:gridCol w="62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801960" y="5616720"/>
          <a:ext cx="4824360" cy="914400"/>
        </p:xfrm>
        <a:graphic>
          <a:graphicData uri="http://schemas.openxmlformats.org/drawingml/2006/table">
            <a:tbl>
              <a:tblPr/>
              <a:tblGrid>
                <a:gridCol w="603360"/>
                <a:gridCol w="603360"/>
                <a:gridCol w="538200"/>
                <a:gridCol w="641160"/>
                <a:gridCol w="579600"/>
                <a:gridCol w="652320"/>
                <a:gridCol w="603360"/>
                <a:gridCol w="60300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p:transition spd="slow"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63320" y="1158480"/>
            <a:ext cx="1183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man Old Style"/>
              </a:rPr>
              <a:t>Избегайте конфликтов, ссор, не совершайте необдуманных поступков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man Old Style"/>
              </a:rPr>
              <a:t>В споре будьте вежливы и тактичны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9680" y="22273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222a35"/>
                </a:solidFill>
                <a:latin typeface="Bookman Old Style"/>
              </a:rPr>
              <a:t>«Доброта-отзывчивость, душевное расположение к людям, стремление делать добро другим»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57360" y="36288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51040" y="1126800"/>
            <a:ext cx="1107576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man Old Style"/>
              </a:rPr>
              <a:t>Никогда не упрекайте. Если же все-таки упреки прозвучали, и                       ссора произошла-скорее помиритесь.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954000" y="1063440"/>
            <a:ext cx="1094256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6000" spc="-1" strike="noStrike">
                <a:solidFill>
                  <a:srgbClr val="000000"/>
                </a:solidFill>
                <a:latin typeface="Bookman Old Style"/>
              </a:rPr>
              <a:t>Старайтесь видеть в  людях прежде всего хорошее и доброе: от этого все окружающие становятся лучше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17040" y="1106280"/>
            <a:ext cx="108442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Bookman Old Style"/>
              </a:rPr>
              <a:t>Чаще ими пользуйтесь, тогда вы будете жить без ссор и конфликтов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Из кинофильмов - Дорогою добра (minus).mp3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9680" y="22273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222a35"/>
                </a:solidFill>
                <a:latin typeface="Bookman Old Style"/>
              </a:rPr>
              <a:t>«Доброта-стремление помочь людям, причем не требуя за это благодарности »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7360" y="36288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520" y="2678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Bookman Old Style"/>
              </a:rPr>
              <a:t>Что значит добрый человек?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849240" y="4003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8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50760" y="973080"/>
            <a:ext cx="10515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« Добрый-делающий добро другим, отзывчивый, несущий благо, добро, благополучие, хороший, нравственный, безукоризненный, честный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Объект 3" descr=""/>
          <p:cNvPicPr/>
          <p:nvPr/>
        </p:nvPicPr>
        <p:blipFill>
          <a:blip r:embed="rId2"/>
          <a:stretch/>
        </p:blipFill>
        <p:spPr>
          <a:xfrm>
            <a:off x="3524400" y="2279520"/>
            <a:ext cx="4784400" cy="4353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74760" y="387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Bookman Old Style"/>
              </a:rPr>
              <a:t>«Конфликт»</a:t>
            </a:r>
            <a:endParaRPr b="0" lang="en-US" sz="8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3960" y="18255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Конфликт (лат.</a:t>
            </a: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Confliktus-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столкнувшийся) наиболее острый способ решения противоречий в интересах, целях, взглядах, возникающих в процессе социального взаимодействия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70040" y="397008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31T12:54:52Z</dcterms:created>
  <dc:creator>RAP</dc:creator>
  <dc:description/>
  <dc:language>en-US</dc:language>
  <cp:lastModifiedBy>Марина Захарова</cp:lastModifiedBy>
  <dcterms:modified xsi:type="dcterms:W3CDTF">2024-01-04T18:35:30Z</dcterms:modified>
  <cp:revision>65</cp:revision>
  <dc:subject/>
  <dc:title>Привет</dc:title>
</cp:coreProperties>
</file>