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4B9-2165-4344-9626-30841D70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405-016D-4B8A-8250-38D04CE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4CF-00DC-4AFF-8133-83570F77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B31-48DA-46F3-BD30-311F9DF8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196-C7FA-4067-80E3-0D853C6F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181-D873-45FE-944C-8AA051CF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1EE-BD1E-4893-A8BE-0FC1950B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68A-404E-4A00-9190-B582271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613-C8B9-45AB-A39D-366F013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77C-F02D-45FC-A595-CCA1A7F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A7D-19AE-4851-88B3-1E5F42F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03E-FCE8-4E62-905F-00C76BA1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AF9F-EAD8-452F-A107-20E0484EE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7" descr=""/>
          <p:cNvPicPr/>
          <p:nvPr/>
        </p:nvPicPr>
        <p:blipFill>
          <a:blip r:embed="rId2"/>
          <a:stretch/>
        </p:blipFill>
        <p:spPr>
          <a:xfrm>
            <a:off x="0" y="0"/>
            <a:ext cx="6051600" cy="3297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3"/>
          <a:stretch/>
        </p:blipFill>
        <p:spPr>
          <a:xfrm>
            <a:off x="6051600" y="-25560"/>
            <a:ext cx="6140520" cy="3305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"/>
          <p:cNvPicPr/>
          <p:nvPr/>
        </p:nvPicPr>
        <p:blipFill>
          <a:blip r:embed="rId4"/>
          <a:stretch/>
        </p:blipFill>
        <p:spPr>
          <a:xfrm>
            <a:off x="6051600" y="3279600"/>
            <a:ext cx="6140520" cy="3578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"/>
          <p:cNvPicPr/>
          <p:nvPr/>
        </p:nvPicPr>
        <p:blipFill>
          <a:blip r:embed="rId5"/>
          <a:stretch/>
        </p:blipFill>
        <p:spPr>
          <a:xfrm>
            <a:off x="22320" y="3297240"/>
            <a:ext cx="60292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400" y="1522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зло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927000" y="3103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Bookman Old Style"/>
              </a:rPr>
              <a:t>добры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76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невеж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784080" y="300672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вежл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480" y="1500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груб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930240" y="2997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ласко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6920" y="1359000"/>
            <a:ext cx="10890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ня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539640" y="3065400"/>
            <a:ext cx="11049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дать, подар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180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руга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2603520" y="2854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хвал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0560" y="1233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лен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669960" y="2833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трудолюб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1355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жад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53960" y="2739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щедр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656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биде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88960" y="270972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защит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136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горчи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547560" y="2766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брадова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0960" y="13806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груст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453960" y="3049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весел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3800" y="8398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1f4e79"/>
                </a:solidFill>
                <a:latin typeface="Bookman Old Style"/>
              </a:rPr>
              <a:t>«Пусть сердце будет добрым» 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7560" y="13806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неряш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53960" y="2874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аккуратн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166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лома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53960" y="2592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чин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560" y="11520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крик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53960" y="2739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молчал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560" y="1301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развяз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360360" y="2712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кромн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3560" y="1566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трус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606600" y="27716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мел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1885680"/>
            <a:ext cx="11198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Calibri"/>
              </a:rPr>
              <a:t>1. Она может быть     настоящая и мнима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325160" y="910800"/>
            <a:ext cx="11612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2. Готовность помочь, отозваться на чужие нужд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520" y="590040"/>
            <a:ext cx="11811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3. Это чувство необходимо каждому человек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3080" y="260280"/>
            <a:ext cx="9593280" cy="46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222a35"/>
                </a:solidFill>
                <a:latin typeface="Bookman Old Style"/>
              </a:rPr>
              <a:t>Что такое доброта?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520" y="590040"/>
            <a:ext cx="11811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4.Между друзьями должно быть взаимопонимание и…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2040" y="1657080"/>
            <a:ext cx="11963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5. Столкновение противоположных интересо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782360" y="742680"/>
            <a:ext cx="12649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6. Доброе, отзывчивое отношение к человек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334800" y="944640"/>
            <a:ext cx="126489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7. Заботливое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ношение к людям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63320" y="1158480"/>
            <a:ext cx="1183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Избегайте конфликтов, ссор, не совершайте необдуманных поступков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В споре будьте вежливы и тактичны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680" y="22273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22a35"/>
                </a:solidFill>
                <a:latin typeface="Bookman Old Style"/>
              </a:rPr>
              <a:t>«Доброта-отзывчивость, душевное расположение к людям, стремление делать добро другим»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7360" y="3628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51040" y="1126800"/>
            <a:ext cx="110757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Никогда не упрекайте. Если же все-таки упреки прозвучали, и                       ссора произошла-скорее помиритесь.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54000" y="1063440"/>
            <a:ext cx="109425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Старайтесь видеть в  людях прежде всего хорошее и доброе: от этого все окружающие становятся лучш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17040" y="1106280"/>
            <a:ext cx="10844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Чаще ими пользуйтесь, тогда вы будете жить без ссор и конфликтов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Из кинофильмов - Дорогою добра (minus).mp3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9680" y="22273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22a35"/>
                </a:solidFill>
                <a:latin typeface="Bookman Old Style"/>
              </a:rPr>
              <a:t>«Доброта-стремление помочь людям, причем не требуя за это благодарности »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7360" y="3628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520" y="2678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Что значит добрый человек?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49240" y="4003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50760" y="973080"/>
            <a:ext cx="10515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« Добрый-делающий добро другим, отзывчивый, несущий благо, добро, благополучие, хороший, нравственный, безукоризненный, честны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3" descr=""/>
          <p:cNvPicPr/>
          <p:nvPr/>
        </p:nvPicPr>
        <p:blipFill>
          <a:blip r:embed="rId2"/>
          <a:stretch/>
        </p:blipFill>
        <p:spPr>
          <a:xfrm>
            <a:off x="3524400" y="2279520"/>
            <a:ext cx="4784400" cy="4353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760" y="387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Bookman Old Style"/>
              </a:rPr>
              <a:t>«Конфликт»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3960" y="18255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Конфликт (лат.</a:t>
            </a: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Confliktus-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толкнувшийся) наиболее острый способ решения противоречий в интересах, целях, взглядах, возникающих в процессе социального взаимодействия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0040" y="3970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12:54:52Z</dcterms:created>
  <dc:creator>RAP</dc:creator>
  <dc:description/>
  <dc:language>en-US</dc:language>
  <cp:lastModifiedBy>Марина Захарова</cp:lastModifiedBy>
  <dcterms:modified xsi:type="dcterms:W3CDTF">2024-01-04T18:35:30Z</dcterms:modified>
  <cp:revision>65</cp:revision>
  <dc:subject/>
  <dc:title>Привет</dc:title>
</cp:coreProperties>
</file>