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08009-0035-4646-981B-FF79FF585A7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778D1-C1F6-4AC5-ADC7-2968517CC21E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EB26A-34CE-4CD4-9322-38BE396E784E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1E6EB-4008-4DC8-94CD-D4B124EA466A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184E-BA4D-4FAB-B86A-B63D6CA9F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B9ED-2388-4575-9B2D-66A36FC0D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7F36-6C94-4485-8BF6-905072035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2D5E-3857-419C-BF9C-F5FF6030C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EB8A7-9E83-4F31-A3A3-8029333EE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DA5A2-7652-4DB9-AD15-576BB7A94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5DF1C-3E56-4A1B-803E-2E80C6C02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9602C-768B-420B-A2B7-7AB955317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12557-E3DE-414E-9A66-8BA6A6715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906FE-EEA3-4175-824C-E57582160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D732A-05CA-4436-9A75-2672D305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28A0-DC16-45A8-BCE3-D50BE8D0D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9B6F8-33EA-40BC-A99E-80367CAD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56B33-2E72-4F94-8775-A92DDC7C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37BB7-84FB-46D7-83E3-05804BB92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AF920-739C-4336-B1BE-2E63EC98A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39132-C022-4D98-92CA-81484344A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4CC37-8701-47A5-922A-98FFDF417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E88B5-8CE6-4CB6-9068-0A51D0103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34787-1B6B-424C-964F-B976557DC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18951-C044-4611-854E-7C92EB3DC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8BBFC-3FAE-4285-80BB-AA0CF749B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0237-3293-4044-9B22-9468F9DF4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76CCE-F3FE-4DE2-BA43-644AEB456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30F89-751D-48F0-806A-DA432EB4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F69BD-4AA5-4286-94E1-779D9E94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9E1D8-3002-47AF-8933-3CBE6999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A451C-F70A-4C0C-AA47-278517336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44AE6-3F13-4ED0-BEC8-41BC1CC3F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66093-DE1C-4DC3-9927-8C48A5BDF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EA55-C80C-4049-B6C1-5CB63D8C6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C1D1-7384-4C46-89F8-5DF0BDF08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3E30-7344-4E91-9FEF-1EA01FC98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9788-A004-429E-9DC1-5F14BFB1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0083-F482-4EE7-9327-FA390574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07E4-028B-4DAA-8CC1-DC9A7971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93FE7-4884-4AFA-B974-5F948208FA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7BA0C-2524-4BC8-BF86-EE101F88BE98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92A69-5566-4EE1-9F9D-DEF51BE5E789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26920" y="3644640"/>
            <a:ext cx="788688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ологическая роль экзокринных желез</a:t>
            </a:r>
            <a:br>
              <a:rPr sz="6600"/>
            </a:br>
            <a:br>
              <a:rPr sz="6600"/>
            </a:b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971280" y="4941360"/>
            <a:ext cx="7886520" cy="9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и: Полтавская Б.Б. и Жекшенбекова А.Ж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а:Б(м)-1-2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езы внутренней секреции (эндокринные)</a:t>
            </a: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784836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имеют протоков, выделяют секрет в кровь. Секретируемые вещества – </a:t>
            </a:r>
            <a:r>
              <a:rPr b="1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ормо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7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ипофи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7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Щитовид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желе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7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дпочечн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Picture 9" descr="эндокринные железы"/>
          <p:cNvPicPr/>
          <p:nvPr/>
        </p:nvPicPr>
        <p:blipFill>
          <a:blip r:embed="rId1"/>
          <a:stretch/>
        </p:blipFill>
        <p:spPr>
          <a:xfrm>
            <a:off x="3419640" y="2349360"/>
            <a:ext cx="5219640" cy="43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34920" y="0"/>
          <a:ext cx="9109080" cy="6865920"/>
        </p:xfrm>
        <a:graphic>
          <a:graphicData uri="http://schemas.openxmlformats.org/drawingml/2006/table">
            <a:tbl>
              <a:tblPr/>
              <a:tblGrid>
                <a:gridCol w="1584360"/>
                <a:gridCol w="2663640"/>
                <a:gridCol w="2449800"/>
                <a:gridCol w="2411280"/>
              </a:tblGrid>
              <a:tr h="83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Calibri"/>
                        </a:rPr>
                        <a:t>Признаки для срав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Calibri"/>
                        </a:rPr>
                        <a:t>Внешней секреции - </a:t>
                      </a:r>
                      <a:r>
                        <a:rPr b="1" lang="ru-RU" sz="1600" spc="-1" strike="noStrike">
                          <a:solidFill>
                            <a:srgbClr val="00b0f0"/>
                          </a:solidFill>
                          <a:latin typeface="Times New Roman"/>
                          <a:ea typeface="Calibri"/>
                        </a:rPr>
                        <a:t>ЭКЗОКРИН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Calibri"/>
                        </a:rPr>
                        <a:t>Внутренней секреции - </a:t>
                      </a:r>
                      <a:r>
                        <a:rPr b="1" lang="ru-RU" sz="1600" spc="-1" strike="noStrike">
                          <a:solidFill>
                            <a:srgbClr val="00b0f0"/>
                          </a:solidFill>
                          <a:latin typeface="Times New Roman"/>
                          <a:ea typeface="Calibri"/>
                        </a:rPr>
                        <a:t>ЭНДОКРИН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Calibri"/>
                        </a:rPr>
                        <a:t>Смешанной секре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 gridSpan="4"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обенности желе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3766ab"/>
                          </a:solidFill>
                          <a:latin typeface="Times New Roman"/>
                          <a:ea typeface="Calibri"/>
                        </a:rPr>
                        <a:t>1.Наличие выводных прото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меют выводные проток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 имеют выводных протоков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Имеют выводные проток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Куда выделяют секре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деляют секреты на поверхность кожи или эпителиальной выстилк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х секреты поступают в циркулирующие жидкости: кровь или лимфу.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деляют секреты на поверхность кожи или эпителиальной выстилки. Их секреты поступают в кровь или лимф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6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3766ab"/>
                          </a:solidFill>
                          <a:latin typeface="Times New Roman"/>
                          <a:ea typeface="Calibri"/>
                        </a:rPr>
                        <a:t>3.Примеры желёз и их секре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товые, сальные, слезные, млечные, и др., выделяют пот, слёзы, молоко, слюну и другие биологически активные вещ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рабатывают гормоны. Гипофиз, щитовидная железа, надпочечники, эпифиз и други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Вырабатывают гормоны и др. биологические активные веществ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Поджелудочная железа, половые железы и д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6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 Функции желё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68672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грают роль в терморегуляции. Секрет сальных желёз смягчает эпидермис, регулирует испарение воды и др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ормоны регулируют обмен веществ, влияют на рост, развитие и дифференцировку тканей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джелудочная железа регулирует количество сахара в организме. Половые железы регулируют созревание половых клеток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4167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езы смешанной секреции</a:t>
            </a: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27" name="Picture 6" descr="железы смеш"/>
          <p:cNvPicPr/>
          <p:nvPr/>
        </p:nvPicPr>
        <p:blipFill>
          <a:blip r:embed="rId1"/>
          <a:stretch/>
        </p:blipFill>
        <p:spPr>
          <a:xfrm>
            <a:off x="0" y="2133720"/>
            <a:ext cx="4753080" cy="426384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570880" cy="460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7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ботают одновременно как экзокринные и эндокринные желез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4" marL="40233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4" marL="402336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желудочна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4" marL="402336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елез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4" marL="4023360"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вые железы: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1" lang="ru-RU" sz="3600" spc="-1" strike="noStrike">
                <a:solidFill>
                  <a:srgbClr val="3766ab"/>
                </a:solidFill>
                <a:latin typeface="Times New Roman"/>
                <a:ea typeface="Times New Roman"/>
              </a:rPr>
              <a:t>Семенники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3766ab"/>
                </a:solidFill>
                <a:latin typeface="Times New Roman"/>
                <a:ea typeface="Times New Roman"/>
              </a:rPr>
              <a:t>(♂)                                          </a:t>
            </a:r>
            <a:r>
              <a:rPr b="1" lang="ru-RU" sz="3600" spc="-1" strike="noStrike">
                <a:solidFill>
                  <a:srgbClr val="70ad47"/>
                </a:solidFill>
                <a:latin typeface="Times New Roman"/>
                <a:ea typeface="Times New Roman"/>
              </a:rPr>
              <a:t>Яичники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70ad47"/>
                </a:solidFill>
                <a:latin typeface="Times New Roman"/>
                <a:ea typeface="Times New Roman"/>
              </a:rPr>
              <a:t>(♀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9280" y="174240"/>
            <a:ext cx="8964720" cy="666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Типы желез: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внешней секреции – 1,5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внутренней секреции – 2,3,4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смешанной секреции – 6,7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К железам внутренней секреции относятся: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джелудочная железа; половые железы; щитовидная железа).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Смешанными железами являются: (гипофиз; слюнная железа; половые железы).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Железа, в которой одновременно образуются гормоны и пищеварительный сок,- (печень, поджелудочная, щитовидная, слюнная).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Куда непосредственно попадают гормоны, вырабатывающиеся в железах внутренней секреции? (кишечник, тканевая жидкость, кровяное русло, нервные клетки, поверхность кожи).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Каково значение гормонов? (торможение функции органа, активизация функции органа, рост организма, развитие организма, регуляция обмена веществ, всё перечисленное).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Печень относят к железам внешней секреции, так как (она участвует в регуляции обмена веществ, в ней обезвреживаются ядовитые вещества, которые кровь приносит из кишечника, в ней происходит превращение глюкозы в гликоген, желчь попадает в тонкую кишку по специальному протоку)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ы секреции. Экзокринные железы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реция — синтез и выделение клеткой определенных химических веществ. 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людей, так же как и во всех клетках эукариот, процесс секреции происходит путем экзоцитоза.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рет — жидкость, выделяемая клетками и содержащая биологически активные вещества.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омощью секреции происходит образование и выделение молока, слюны, пота, желудочного, поджелудочного и кишечного сока, желчи, гормонов.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реторную функцию выполняют специализированные клетки — гландулоциты.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ндулоциты — клетки железистого эпителия.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гландулоцитов изменяется в зависимости от фазы секреции. Отличительной особенностью гландулоцитов являются крупные ядра, большое количество митохондрий и секреторные включения в цитоплазме. Хорошо развита гранулярная эндоплазматическая сеть, продуцирующая белковый секрет. В клетках, синтезирующих липиды, лучше развита гладкая эндоплазматическая сеть. Характерно наличие хорошо развитого комплекса Гольджи, где осуществляется формирование секреторных гранул. Важная роль в перемещении секреторных продуктов в гландулоцитах и их выделении принадлежит элементам цитоскелета — микротрубочкам и микрофиламента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9280" y="-458640"/>
            <a:ext cx="8964720" cy="74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местонахождению: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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доэпителиальные железы: одноклеточные; представлены бокаловидными клетками в составе реснитчатого многорядного эпителия воздухоносных путей и однослойного призматического эпителия кишки.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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зоэпителиальные железы: многоклеточные; расположены в соединительной ткани (например, потовые железы в дерме) и связаны с эпителием выводными протоками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оличеству выводных протоков подразделяют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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ые: имеют один неветвящийся выводной проток;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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ые: имеют разветвленный выводной проток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оличеству секреторных отделов: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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азветвленные: имеют один конечный секреторный отдел;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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етвленные: имеют несколько конечных секреторных отделов;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ые железы всегда разветвленные, потому что их многочисленные выводные протоки заканчиваются многими секреторными отделами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форме секреторных отделов железы подразделяют на: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бчатые: конечный отдел имеет форму трубочки;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ьвеолярные: конечный отдел имеет форму мешочка;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бчато-альвеолярные: в железе есть оба типа концевых отделов.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80880" y="403200"/>
            <a:ext cx="7283160" cy="41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8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33" name="Picture 16" descr="6d26a7215e1e"/>
          <p:cNvPicPr/>
          <p:nvPr/>
        </p:nvPicPr>
        <p:blipFill>
          <a:blip r:embed="rId1"/>
          <a:stretch/>
        </p:blipFill>
        <p:spPr>
          <a:xfrm>
            <a:off x="6066000" y="3789360"/>
            <a:ext cx="2867040" cy="28926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8" descr="gnom29"/>
          <p:cNvPicPr/>
          <p:nvPr/>
        </p:nvPicPr>
        <p:blipFill>
          <a:blip r:embed="rId2"/>
          <a:stretch/>
        </p:blipFill>
        <p:spPr>
          <a:xfrm>
            <a:off x="0" y="2274840"/>
            <a:ext cx="2521080" cy="4583160"/>
          </a:xfrm>
          <a:prstGeom prst="rect">
            <a:avLst/>
          </a:prstGeom>
          <a:ln w="0">
            <a:noFill/>
          </a:ln>
        </p:spPr>
      </p:pic>
      <p:sp>
        <p:nvSpPr>
          <p:cNvPr id="235" name="Line 9"/>
          <p:cNvSpPr/>
          <p:nvPr/>
        </p:nvSpPr>
        <p:spPr>
          <a:xfrm>
            <a:off x="1619280" y="2852640"/>
            <a:ext cx="720720" cy="93528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0" dur="250" autoRev="1" fill="hold"/>
                                        <p:tgtEl>
                                          <p:spTgt spid="2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5" dur="250" autoRev="1" fill="hold"/>
                                        <p:tgtEl>
                                          <p:spTgt spid="2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2836800" y="2349360"/>
            <a:ext cx="302436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Comic Sans MS"/>
              </a:rPr>
              <a:t>Секрет</a:t>
            </a:r>
            <a:endParaRPr b="0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1187280" y="2637000"/>
            <a:ext cx="1656000" cy="1296720"/>
          </a:xfrm>
          <a:custGeom>
            <a:avLst/>
            <a:gdLst>
              <a:gd name="textAreaLeft" fmla="*/ 221760 w 1656000"/>
              <a:gd name="textAreaRight" fmla="*/ 1434240 w 1656000"/>
              <a:gd name="textAreaTop" fmla="*/ 226800 h 1296720"/>
              <a:gd name="textAreaBottom" fmla="*/ 940320 h 129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33358"/>
                <a:lnTo>
                  <a:pt x="14587" y="21190"/>
                </a:lnTo>
                <a:lnTo>
                  <a:pt x="21600" y="17280"/>
                </a:lnTo>
                <a:lnTo>
                  <a:pt x="14587" y="12550"/>
                </a:lnTo>
                <a:lnTo>
                  <a:pt x="14587" y="14710"/>
                </a:lnTo>
                <a:arcTo wR="21600" hR="7560" stAng="8066642" swAng="2375924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5861160" y="2637000"/>
            <a:ext cx="1722240" cy="1296720"/>
          </a:xfrm>
          <a:custGeom>
            <a:avLst/>
            <a:gdLst>
              <a:gd name="textAreaLeft" fmla="*/ 230760 w 1722240"/>
              <a:gd name="textAreaRight" fmla="*/ 1491480 w 1722240"/>
              <a:gd name="textAreaTop" fmla="*/ 226800 h 1296720"/>
              <a:gd name="textAreaBottom" fmla="*/ 940320 h 12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739392"/>
                <a:lnTo>
                  <a:pt x="6991" y="21193"/>
                </a:lnTo>
                <a:lnTo>
                  <a:pt x="0" y="17280"/>
                </a:lnTo>
                <a:lnTo>
                  <a:pt x="6991" y="12553"/>
                </a:lnTo>
                <a:lnTo>
                  <a:pt x="6991" y="14713"/>
                </a:lnTo>
                <a:arcTo wR="21600" hR="7560" stAng="2739392" swAng="-2381957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5" name="Прямоугольник 4"/>
          <p:cNvSpPr/>
          <p:nvPr/>
        </p:nvSpPr>
        <p:spPr>
          <a:xfrm>
            <a:off x="250920" y="4005360"/>
            <a:ext cx="4033800" cy="273672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 лат.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retum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- тайна,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тайный способ,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крытая причина,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тайное устройство механизма.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6" name="Прямоугольник 5"/>
          <p:cNvSpPr/>
          <p:nvPr/>
        </p:nvSpPr>
        <p:spPr>
          <a:xfrm>
            <a:off x="4643280" y="4005360"/>
            <a:ext cx="4321440" cy="285264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 лат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Secretus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- вещества,                                    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ырабатываемые клетками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азличных желез и необходимые для жизненных функций организма (физиол.)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37" name="Picture 4" descr="1324"/>
          <p:cNvPicPr/>
          <p:nvPr/>
        </p:nvPicPr>
        <p:blipFill>
          <a:blip r:embed="rId1"/>
          <a:stretch/>
        </p:blipFill>
        <p:spPr>
          <a:xfrm>
            <a:off x="468360" y="297000"/>
            <a:ext cx="231624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2987640" y="333360"/>
            <a:ext cx="302436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Comic Sans MS"/>
              </a:rPr>
              <a:t>Секрет</a:t>
            </a:r>
            <a:endParaRPr b="0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39" name="Стрелка вниз 7"/>
          <p:cNvSpPr/>
          <p:nvPr/>
        </p:nvSpPr>
        <p:spPr>
          <a:xfrm>
            <a:off x="3087720" y="1347840"/>
            <a:ext cx="287280" cy="792000"/>
          </a:xfrm>
          <a:prstGeom prst="downArrow">
            <a:avLst>
              <a:gd name="adj1" fmla="val 50000"/>
              <a:gd name="adj2" fmla="val 49994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0" name="Стрелка вниз 9"/>
          <p:cNvSpPr/>
          <p:nvPr/>
        </p:nvSpPr>
        <p:spPr>
          <a:xfrm>
            <a:off x="5589720" y="1347840"/>
            <a:ext cx="287280" cy="792000"/>
          </a:xfrm>
          <a:prstGeom prst="downArrow">
            <a:avLst>
              <a:gd name="adj1" fmla="val 50000"/>
              <a:gd name="adj2" fmla="val 49994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1" name="Стрелка влево 10"/>
          <p:cNvSpPr/>
          <p:nvPr/>
        </p:nvSpPr>
        <p:spPr>
          <a:xfrm>
            <a:off x="1979640" y="549360"/>
            <a:ext cx="1008000" cy="28728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2" name="Стрелка вправо 11"/>
          <p:cNvSpPr/>
          <p:nvPr/>
        </p:nvSpPr>
        <p:spPr>
          <a:xfrm>
            <a:off x="6031080" y="549360"/>
            <a:ext cx="865080" cy="28728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3" name="Прямоугольник 24"/>
          <p:cNvSpPr/>
          <p:nvPr/>
        </p:nvSpPr>
        <p:spPr>
          <a:xfrm>
            <a:off x="108000" y="479520"/>
            <a:ext cx="1871640" cy="119520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6ab"/>
                </a:solidFill>
                <a:latin typeface="Comic Sans MS"/>
              </a:rPr>
              <a:t>СЛЁЗЫ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6ab"/>
                </a:solidFill>
                <a:latin typeface="Comic Sans MS"/>
              </a:rPr>
              <a:t>СЛЮНА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4" name="Прямоугольник 25"/>
          <p:cNvSpPr/>
          <p:nvPr/>
        </p:nvSpPr>
        <p:spPr>
          <a:xfrm>
            <a:off x="468360" y="2205000"/>
            <a:ext cx="4032360" cy="12225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6ab"/>
                </a:solidFill>
                <a:latin typeface="Comic Sans MS"/>
              </a:rPr>
              <a:t>ЖЕЛУДОЧНЫЙ СОК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6ab"/>
                </a:solidFill>
                <a:latin typeface="Comic Sans MS"/>
              </a:rPr>
              <a:t>ЖЕЛЧЬ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5" name="Прямоугольник 26"/>
          <p:cNvSpPr/>
          <p:nvPr/>
        </p:nvSpPr>
        <p:spPr>
          <a:xfrm>
            <a:off x="6916680" y="476280"/>
            <a:ext cx="1997280" cy="119520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6ab"/>
                </a:solidFill>
                <a:latin typeface="Comic Sans MS"/>
              </a:rPr>
              <a:t>ПОТ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6ab"/>
                </a:solidFill>
                <a:latin typeface="Comic Sans MS"/>
              </a:rPr>
              <a:t>МОЛОКО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6" name="Прямоугольник 27"/>
          <p:cNvSpPr/>
          <p:nvPr/>
        </p:nvSpPr>
        <p:spPr>
          <a:xfrm>
            <a:off x="4716360" y="2205000"/>
            <a:ext cx="3600720" cy="12225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6ab"/>
                </a:solidFill>
                <a:latin typeface="Comic Sans MS"/>
              </a:rPr>
              <a:t>ГОРМОНЫ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7" name="Прямоугольник 28"/>
          <p:cNvSpPr/>
          <p:nvPr/>
        </p:nvSpPr>
        <p:spPr>
          <a:xfrm>
            <a:off x="755640" y="3789360"/>
            <a:ext cx="7488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СЕКРЕТЫ оказывают влияние на процессы обмена веществ, роста и развития, стимулируют синтез ферментов или блокируют их, т.е. осуществляют функционирование нашего организма и его отдельных органов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080" y="188640"/>
            <a:ext cx="14572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8600" spc="-1" strike="noStrike">
                <a:solidFill>
                  <a:srgbClr val="f11313"/>
                </a:solidFill>
                <a:latin typeface="Arial Black"/>
              </a:rPr>
              <a:t>?</a:t>
            </a:r>
            <a:endParaRPr b="0" lang="en-US" sz="8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187280" y="115920"/>
            <a:ext cx="777744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3766ab"/>
                </a:solidFill>
                <a:latin typeface="Comic Sans MS"/>
              </a:rPr>
              <a:t>Какие органы называют железами?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Прямоугольник 1"/>
          <p:cNvSpPr/>
          <p:nvPr/>
        </p:nvSpPr>
        <p:spPr>
          <a:xfrm>
            <a:off x="3492360" y="765000"/>
            <a:ext cx="2448000" cy="71928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Comic Sans MS"/>
              </a:rPr>
              <a:t>Железа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1" name="Стрелка вниз 2"/>
          <p:cNvSpPr/>
          <p:nvPr/>
        </p:nvSpPr>
        <p:spPr>
          <a:xfrm>
            <a:off x="3708360" y="1484280"/>
            <a:ext cx="287280" cy="936720"/>
          </a:xfrm>
          <a:prstGeom prst="downArrow">
            <a:avLst>
              <a:gd name="adj1" fmla="val 50000"/>
              <a:gd name="adj2" fmla="val 50012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2" name="Стрелка вниз 6"/>
          <p:cNvSpPr/>
          <p:nvPr/>
        </p:nvSpPr>
        <p:spPr>
          <a:xfrm>
            <a:off x="5411880" y="1474920"/>
            <a:ext cx="288720" cy="946080"/>
          </a:xfrm>
          <a:prstGeom prst="downArrow">
            <a:avLst>
              <a:gd name="adj1" fmla="val 50000"/>
              <a:gd name="adj2" fmla="val 50032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3" name="Стрелка вправо 3"/>
          <p:cNvSpPr/>
          <p:nvPr/>
        </p:nvSpPr>
        <p:spPr>
          <a:xfrm>
            <a:off x="5967360" y="1001880"/>
            <a:ext cx="720720" cy="287280"/>
          </a:xfrm>
          <a:prstGeom prst="rightArrow">
            <a:avLst>
              <a:gd name="adj1" fmla="val 50000"/>
              <a:gd name="adj2" fmla="val 50013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4" name="Стрелка влево 4"/>
          <p:cNvSpPr/>
          <p:nvPr/>
        </p:nvSpPr>
        <p:spPr>
          <a:xfrm>
            <a:off x="2771640" y="1001880"/>
            <a:ext cx="720720" cy="287280"/>
          </a:xfrm>
          <a:prstGeom prst="leftArrow">
            <a:avLst>
              <a:gd name="adj1" fmla="val 50000"/>
              <a:gd name="adj2" fmla="val 50013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5" name="Прямоугольник 5"/>
          <p:cNvSpPr/>
          <p:nvPr/>
        </p:nvSpPr>
        <p:spPr>
          <a:xfrm>
            <a:off x="684360" y="836640"/>
            <a:ext cx="2016000" cy="128592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Орган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гормон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6" name="Прямоугольник 10"/>
          <p:cNvSpPr/>
          <p:nvPr/>
        </p:nvSpPr>
        <p:spPr>
          <a:xfrm>
            <a:off x="6688080" y="765000"/>
            <a:ext cx="1916280" cy="13449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Секрет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проток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7" name="Прямоугольник 11"/>
          <p:cNvSpPr/>
          <p:nvPr/>
        </p:nvSpPr>
        <p:spPr>
          <a:xfrm>
            <a:off x="4716360" y="2421000"/>
            <a:ext cx="3024360" cy="131580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Функция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выделение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8" name="Прямоугольник 13"/>
          <p:cNvSpPr/>
          <p:nvPr/>
        </p:nvSpPr>
        <p:spPr>
          <a:xfrm>
            <a:off x="1332000" y="2421000"/>
            <a:ext cx="3068640" cy="131580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Печень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надпочечники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9" name="Выгнутая влево стрелка 7"/>
          <p:cNvSpPr/>
          <p:nvPr/>
        </p:nvSpPr>
        <p:spPr>
          <a:xfrm>
            <a:off x="539640" y="2122560"/>
            <a:ext cx="792360" cy="801720"/>
          </a:xfrm>
          <a:custGeom>
            <a:avLst/>
            <a:gdLst>
              <a:gd name="textAreaLeft" fmla="*/ 106200 w 792360"/>
              <a:gd name="textAreaRight" fmla="*/ 686160 w 792360"/>
              <a:gd name="textAreaTop" fmla="*/ 126000 h 801720"/>
              <a:gd name="textAreaBottom" fmla="*/ 576720 h 801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98" stAng="-5400000" swAng="-5400000"/>
                <a:lnTo>
                  <a:pt x="0" y="12134"/>
                </a:lnTo>
                <a:arcTo wR="21600" hR="6798" stAng="10800000" swAng="-3038068"/>
                <a:lnTo>
                  <a:pt x="16200" y="21384"/>
                </a:lnTo>
                <a:lnTo>
                  <a:pt x="21600" y="16264"/>
                </a:lnTo>
                <a:lnTo>
                  <a:pt x="16200" y="10712"/>
                </a:lnTo>
                <a:lnTo>
                  <a:pt x="16200" y="13380"/>
                </a:lnTo>
                <a:arcTo wR="21600" hR="6798" stAng="7761932" swAng="2579146"/>
                <a:lnTo>
                  <a:pt x="1733" y="9466"/>
                </a:lnTo>
                <a:arcTo wR="21600" hR="6798" stAng="-10341079" swAng="4941079"/>
                <a:close/>
              </a:path>
              <a:path fill="darkenLess" w="21600" h="21600">
                <a:moveTo>
                  <a:pt x="21600" y="0"/>
                </a:moveTo>
                <a:arcTo wR="21600" hR="6798" stAng="-5400000" swAng="-5400000"/>
                <a:lnTo>
                  <a:pt x="0" y="6798"/>
                </a:lnTo>
                <a:arcTo wR="21600" hR="6798" stAng="10800000" swAng="-458921"/>
                <a:lnTo>
                  <a:pt x="1733" y="9466"/>
                </a:lnTo>
                <a:arcTo wR="21600" hR="6798" stAng="-10341079" swAng="4941079"/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0" name="Выгнутая вправо стрелка 8"/>
          <p:cNvSpPr/>
          <p:nvPr/>
        </p:nvSpPr>
        <p:spPr>
          <a:xfrm>
            <a:off x="7740720" y="2133720"/>
            <a:ext cx="863640" cy="730080"/>
          </a:xfrm>
          <a:custGeom>
            <a:avLst/>
            <a:gdLst>
              <a:gd name="textAreaLeft" fmla="*/ 115560 w 863640"/>
              <a:gd name="textAreaRight" fmla="*/ 748080 w 863640"/>
              <a:gd name="textAreaTop" fmla="*/ 114120 h 730080"/>
              <a:gd name="textAreaBottom" fmla="*/ 524880 h 73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318810"/>
                <a:lnTo>
                  <a:pt x="4566" y="21447"/>
                </a:lnTo>
                <a:lnTo>
                  <a:pt x="0" y="16200"/>
                </a:lnTo>
                <a:lnTo>
                  <a:pt x="4566" y="10647"/>
                </a:lnTo>
                <a:lnTo>
                  <a:pt x="4566" y="13347"/>
                </a:lnTo>
                <a:arcTo wR="21600" hR="6750" stAng="3318810" swAng="-2852824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1" name="Выгнутая вниз стрелка 9"/>
          <p:cNvSpPr/>
          <p:nvPr/>
        </p:nvSpPr>
        <p:spPr>
          <a:xfrm>
            <a:off x="3348000" y="3736800"/>
            <a:ext cx="2592360" cy="844560"/>
          </a:xfrm>
          <a:custGeom>
            <a:avLst/>
            <a:gdLst>
              <a:gd name="textAreaLeft" fmla="*/ 568800 w 2592360"/>
              <a:gd name="textAreaRight" fmla="*/ 1918080 w 2592360"/>
              <a:gd name="textAreaTop" fmla="*/ 113040 h 844560"/>
              <a:gd name="textAreaBottom" fmla="*/ 731520 h 84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481" hR="21600" stAng="10800000" swAng="-5400000"/>
                <a:lnTo>
                  <a:pt x="11241" y="21600"/>
                </a:lnTo>
                <a:arcTo wR="9481" hR="21600" stAng="5400000" swAng="-3571978"/>
                <a:lnTo>
                  <a:pt x="21299" y="5400"/>
                </a:lnTo>
                <a:lnTo>
                  <a:pt x="19841" y="0"/>
                </a:lnTo>
                <a:lnTo>
                  <a:pt x="17781" y="5400"/>
                </a:lnTo>
                <a:lnTo>
                  <a:pt x="18660" y="5400"/>
                </a:lnTo>
                <a:arcTo wR="9481" hR="21600" stAng="1828022" swAng="3431393"/>
                <a:lnTo>
                  <a:pt x="10361" y="21507"/>
                </a:lnTo>
                <a:arcTo wR="9481" hR="21600" stAng="5540585" swAng="5259415"/>
                <a:close/>
              </a:path>
              <a:path fill="darkenLess" w="21600" h="21600">
                <a:moveTo>
                  <a:pt x="0" y="0"/>
                </a:moveTo>
                <a:arcTo wR="9481" hR="21600" stAng="10800000" swAng="-5400000"/>
                <a:lnTo>
                  <a:pt x="11241" y="21600"/>
                </a:lnTo>
                <a:arcTo wR="9481" hR="21600" stAng="5400000" swAng="140585"/>
                <a:lnTo>
                  <a:pt x="10361" y="21507"/>
                </a:lnTo>
                <a:arcTo wR="9481" hR="21600" stAng="5540585" swAng="5259415"/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1273320" y="4581360"/>
            <a:ext cx="7200720" cy="2232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6ab"/>
                </a:solidFill>
                <a:latin typeface="Comic Sans MS"/>
              </a:rPr>
              <a:t>Железа́ — орган, функцией которого является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6ab"/>
                </a:solidFill>
                <a:latin typeface="Comic Sans MS"/>
              </a:rPr>
              <a:t>производство какого-либо вещества,  играющего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6ab"/>
                </a:solidFill>
                <a:latin typeface="Comic Sans MS"/>
              </a:rPr>
              <a:t>важную роль в организме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6ab"/>
                </a:solidFill>
                <a:latin typeface="Comic Sans MS"/>
              </a:rPr>
              <a:t> </a:t>
            </a:r>
            <a:r>
              <a:rPr b="1" i="1" lang="ru-RU" sz="2000" spc="-1" strike="noStrike">
                <a:solidFill>
                  <a:srgbClr val="3766ab"/>
                </a:solidFill>
                <a:latin typeface="Comic Sans MS"/>
              </a:rPr>
              <a:t>Вещество может выделяться  в качестве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766ab"/>
                </a:solidFill>
                <a:latin typeface="Comic Sans MS"/>
              </a:rPr>
              <a:t> </a:t>
            </a:r>
            <a:r>
              <a:rPr b="1" i="1" lang="ru-RU" sz="2000" spc="-1" strike="noStrike">
                <a:solidFill>
                  <a:srgbClr val="3766ab"/>
                </a:solidFill>
                <a:latin typeface="Comic Sans MS"/>
              </a:rPr>
              <a:t>секрета наружу, либо в качестве гормона прямо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766ab"/>
                </a:solidFill>
                <a:latin typeface="Comic Sans MS"/>
              </a:rPr>
              <a:t> </a:t>
            </a:r>
            <a:r>
              <a:rPr b="1" i="1" lang="ru-RU" sz="2000" spc="-1" strike="noStrike">
                <a:solidFill>
                  <a:srgbClr val="3766ab"/>
                </a:solidFill>
                <a:latin typeface="Comic Sans MS"/>
              </a:rPr>
              <a:t>в систему кровообращения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1027"/>
          <p:cNvSpPr/>
          <p:nvPr/>
        </p:nvSpPr>
        <p:spPr>
          <a:xfrm>
            <a:off x="2771640" y="333360"/>
            <a:ext cx="23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4" name="Text Box 1028"/>
          <p:cNvSpPr/>
          <p:nvPr/>
        </p:nvSpPr>
        <p:spPr>
          <a:xfrm>
            <a:off x="3566160" y="404640"/>
            <a:ext cx="230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6ab"/>
                </a:solidFill>
                <a:latin typeface="Comic Sans MS"/>
              </a:rPr>
              <a:t>Железы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5" name="Text Box 1029"/>
          <p:cNvSpPr/>
          <p:nvPr/>
        </p:nvSpPr>
        <p:spPr>
          <a:xfrm>
            <a:off x="1042920" y="1197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6" name="Text Box 1030"/>
          <p:cNvSpPr/>
          <p:nvPr/>
        </p:nvSpPr>
        <p:spPr>
          <a:xfrm>
            <a:off x="324000" y="1112760"/>
            <a:ext cx="30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6ab"/>
                </a:solidFill>
                <a:latin typeface="Comic Sans MS"/>
              </a:rPr>
              <a:t>Внутренней секреции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7" name="Text Box 1031"/>
          <p:cNvSpPr/>
          <p:nvPr/>
        </p:nvSpPr>
        <p:spPr>
          <a:xfrm>
            <a:off x="2890800" y="1197000"/>
            <a:ext cx="351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6ab"/>
                </a:solidFill>
                <a:latin typeface="Comic Sans MS"/>
              </a:rPr>
              <a:t>Внешней секреции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8" name="Text Box 1032"/>
          <p:cNvSpPr/>
          <p:nvPr/>
        </p:nvSpPr>
        <p:spPr>
          <a:xfrm>
            <a:off x="6546960" y="1197000"/>
            <a:ext cx="242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6ab"/>
                </a:solidFill>
                <a:latin typeface="Comic Sans MS"/>
              </a:rPr>
              <a:t>Смешанной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6ab"/>
                </a:solidFill>
                <a:latin typeface="Comic Sans MS"/>
              </a:rPr>
              <a:t>секреции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9" name="AutoShape 1033"/>
          <p:cNvSpPr/>
          <p:nvPr/>
        </p:nvSpPr>
        <p:spPr>
          <a:xfrm rot="16200000">
            <a:off x="4118760" y="-977040"/>
            <a:ext cx="901800" cy="8999640"/>
          </a:xfrm>
          <a:custGeom>
            <a:avLst/>
            <a:gdLst>
              <a:gd name="textAreaLeft" fmla="*/ 576360 w 901800"/>
              <a:gd name="textAreaRight" fmla="*/ 902160 w 901800"/>
              <a:gd name="textAreaTop" fmla="*/ 234360 h 8999640"/>
              <a:gd name="textAreaBottom" fmla="*/ 8765280 h 899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304"/>
                </a:lnTo>
                <a:cubicBezTo>
                  <a:pt x="10800" y="9204"/>
                  <a:pt x="5400" y="10104"/>
                  <a:pt x="0" y="10104"/>
                </a:cubicBezTo>
                <a:cubicBezTo>
                  <a:pt x="5400" y="10104"/>
                  <a:pt x="10800" y="11004"/>
                  <a:pt x="10800" y="1190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0" name="Text Box 1034"/>
          <p:cNvSpPr/>
          <p:nvPr/>
        </p:nvSpPr>
        <p:spPr>
          <a:xfrm>
            <a:off x="3570480" y="3913200"/>
            <a:ext cx="171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omic Sans MS"/>
              </a:rPr>
              <a:t>СЕКРЕТЫ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1" name="AutoShape 1036"/>
          <p:cNvSpPr/>
          <p:nvPr/>
        </p:nvSpPr>
        <p:spPr>
          <a:xfrm rot="5400000">
            <a:off x="478440" y="4776120"/>
            <a:ext cx="955440" cy="318960"/>
          </a:xfrm>
          <a:prstGeom prst="flowChartTerminator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2" name="Text Box 1037"/>
          <p:cNvSpPr/>
          <p:nvPr/>
        </p:nvSpPr>
        <p:spPr>
          <a:xfrm>
            <a:off x="1035720" y="4653000"/>
            <a:ext cx="33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Кровеносный сосуд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3" name="AutoShape 1039"/>
          <p:cNvSpPr/>
          <p:nvPr/>
        </p:nvSpPr>
        <p:spPr>
          <a:xfrm>
            <a:off x="4427640" y="2133720"/>
            <a:ext cx="733320" cy="792000"/>
          </a:xfrm>
          <a:custGeom>
            <a:avLst/>
            <a:gdLst>
              <a:gd name="textAreaLeft" fmla="*/ 98280 w 733320"/>
              <a:gd name="textAreaRight" fmla="*/ 635040 w 733320"/>
              <a:gd name="textAreaTop" fmla="*/ 138600 h 792000"/>
              <a:gd name="textAreaBottom" fmla="*/ 57420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4" name="Text Box 1040"/>
          <p:cNvSpPr/>
          <p:nvPr/>
        </p:nvSpPr>
        <p:spPr>
          <a:xfrm>
            <a:off x="2900880" y="5465880"/>
            <a:ext cx="13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Железа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5" name="Text Box 1042"/>
          <p:cNvSpPr/>
          <p:nvPr/>
        </p:nvSpPr>
        <p:spPr>
          <a:xfrm>
            <a:off x="6372360" y="5734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6" name="Text Box 1043"/>
          <p:cNvSpPr/>
          <p:nvPr/>
        </p:nvSpPr>
        <p:spPr>
          <a:xfrm>
            <a:off x="4899240" y="5592600"/>
            <a:ext cx="34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Секрет выделяемый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Comic Sans MS"/>
              </a:rPr>
              <a:t>железой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7" name="AutoShape 1044"/>
          <p:cNvSpPr/>
          <p:nvPr/>
        </p:nvSpPr>
        <p:spPr>
          <a:xfrm rot="5400000">
            <a:off x="1234440" y="2661840"/>
            <a:ext cx="914400" cy="289080"/>
          </a:xfrm>
          <a:prstGeom prst="flowChartTerminator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8" name="AutoShape 1046"/>
          <p:cNvSpPr/>
          <p:nvPr/>
        </p:nvSpPr>
        <p:spPr>
          <a:xfrm>
            <a:off x="684360" y="2276640"/>
            <a:ext cx="936360" cy="718920"/>
          </a:xfrm>
          <a:custGeom>
            <a:avLst/>
            <a:gdLst>
              <a:gd name="textAreaLeft" fmla="*/ 125280 w 936360"/>
              <a:gd name="textAreaRight" fmla="*/ 811080 w 936360"/>
              <a:gd name="textAreaTop" fmla="*/ 125640 h 718920"/>
              <a:gd name="textAreaBottom" fmla="*/ 522000 h 71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52" stAng="-5400000" swAng="-5400000"/>
                <a:lnTo>
                  <a:pt x="0" y="11904"/>
                </a:lnTo>
                <a:arcTo wR="21600" hR="7552" stAng="10800000" swAng="-2680818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72"/>
                </a:lnTo>
                <a:arcTo wR="21600" hR="7552" stAng="8119182" swAng="2320484"/>
                <a:lnTo>
                  <a:pt x="916" y="9728"/>
                </a:lnTo>
                <a:arcTo wR="21600" hR="7552" stAng="-10439666" swAng="5039666"/>
                <a:close/>
              </a:path>
              <a:path fill="darkenLess" w="21600" h="21600">
                <a:moveTo>
                  <a:pt x="21600" y="0"/>
                </a:moveTo>
                <a:arcTo wR="21600" hR="7552" stAng="-5400000" swAng="-5400000"/>
                <a:lnTo>
                  <a:pt x="0" y="7552"/>
                </a:lnTo>
                <a:arcTo wR="21600" hR="7552" stAng="10800000" swAng="-360334"/>
                <a:lnTo>
                  <a:pt x="916" y="9728"/>
                </a:lnTo>
                <a:arcTo wR="21600" hR="7552" stAng="-10439666" swAng="5039666"/>
                <a:close/>
              </a:path>
            </a:pathLst>
          </a:cu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9" name="AutoShape 1048"/>
          <p:cNvSpPr/>
          <p:nvPr/>
        </p:nvSpPr>
        <p:spPr>
          <a:xfrm>
            <a:off x="1619280" y="2708280"/>
            <a:ext cx="169920" cy="216000"/>
          </a:xfrm>
          <a:prstGeom prst="flowChartConnector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0" name="AutoShape 1049"/>
          <p:cNvSpPr/>
          <p:nvPr/>
        </p:nvSpPr>
        <p:spPr>
          <a:xfrm rot="5400000">
            <a:off x="4987440" y="2438280"/>
            <a:ext cx="914400" cy="304920"/>
          </a:xfrm>
          <a:prstGeom prst="flowChartTerminator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1" name="AutoShape 1051"/>
          <p:cNvSpPr/>
          <p:nvPr/>
        </p:nvSpPr>
        <p:spPr>
          <a:xfrm rot="5400000">
            <a:off x="4300920" y="5828400"/>
            <a:ext cx="830520" cy="358920"/>
          </a:xfrm>
          <a:prstGeom prst="flowChartConnector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2" name="AutoShape 1053"/>
          <p:cNvSpPr/>
          <p:nvPr/>
        </p:nvSpPr>
        <p:spPr>
          <a:xfrm>
            <a:off x="5091120" y="3068640"/>
            <a:ext cx="142920" cy="289080"/>
          </a:xfrm>
          <a:prstGeom prst="flowChartConnector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3" name="AutoShape 1054"/>
          <p:cNvSpPr/>
          <p:nvPr/>
        </p:nvSpPr>
        <p:spPr>
          <a:xfrm>
            <a:off x="2214720" y="5272200"/>
            <a:ext cx="733320" cy="1008000"/>
          </a:xfrm>
          <a:custGeom>
            <a:avLst/>
            <a:gdLst>
              <a:gd name="textAreaLeft" fmla="*/ 98280 w 733320"/>
              <a:gd name="textAreaRight" fmla="*/ 635040 w 73332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4" name="AutoShape 1056"/>
          <p:cNvSpPr/>
          <p:nvPr/>
        </p:nvSpPr>
        <p:spPr>
          <a:xfrm>
            <a:off x="7539120" y="2278080"/>
            <a:ext cx="690480" cy="920880"/>
          </a:xfrm>
          <a:custGeom>
            <a:avLst/>
            <a:gdLst>
              <a:gd name="textAreaLeft" fmla="*/ 92520 w 690480"/>
              <a:gd name="textAreaRight" fmla="*/ 597960 w 690480"/>
              <a:gd name="textAreaTop" fmla="*/ 160920 h 920880"/>
              <a:gd name="textAreaBottom" fmla="*/ 667800 h 9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5" name="AutoShape 1057"/>
          <p:cNvSpPr/>
          <p:nvPr/>
        </p:nvSpPr>
        <p:spPr>
          <a:xfrm rot="5400000">
            <a:off x="8227440" y="2581200"/>
            <a:ext cx="914400" cy="304920"/>
          </a:xfrm>
          <a:prstGeom prst="flowChartTerminator">
            <a:avLst/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6" name="AutoShape 1058"/>
          <p:cNvSpPr/>
          <p:nvPr/>
        </p:nvSpPr>
        <p:spPr>
          <a:xfrm rot="5653800">
            <a:off x="8088120" y="3152520"/>
            <a:ext cx="312840" cy="144720"/>
          </a:xfrm>
          <a:prstGeom prst="flowChartConnector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7" name="AutoShape 1059"/>
          <p:cNvSpPr/>
          <p:nvPr/>
        </p:nvSpPr>
        <p:spPr>
          <a:xfrm>
            <a:off x="7667640" y="2266920"/>
            <a:ext cx="876240" cy="646200"/>
          </a:xfrm>
          <a:custGeom>
            <a:avLst/>
            <a:gdLst>
              <a:gd name="textAreaLeft" fmla="*/ 117360 w 876240"/>
              <a:gd name="textAreaRight" fmla="*/ 758880 w 876240"/>
              <a:gd name="textAreaTop" fmla="*/ 112680 h 646200"/>
              <a:gd name="textAreaBottom" fmla="*/ 469080 h 64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52" stAng="-5400000" swAng="-5400000"/>
                <a:lnTo>
                  <a:pt x="0" y="11904"/>
                </a:lnTo>
                <a:arcTo wR="21600" hR="7552" stAng="10800000" swAng="-2680818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72"/>
                </a:lnTo>
                <a:arcTo wR="21600" hR="7552" stAng="8119182" swAng="2320484"/>
                <a:lnTo>
                  <a:pt x="916" y="9728"/>
                </a:lnTo>
                <a:arcTo wR="21600" hR="7552" stAng="-10439666" swAng="5039666"/>
                <a:close/>
              </a:path>
              <a:path fill="darkenLess" w="21600" h="21600">
                <a:moveTo>
                  <a:pt x="21600" y="0"/>
                </a:moveTo>
                <a:arcTo wR="21600" hR="7552" stAng="-5400000" swAng="-5400000"/>
                <a:lnTo>
                  <a:pt x="0" y="7552"/>
                </a:lnTo>
                <a:arcTo wR="21600" hR="7552" stAng="10800000" swAng="-360334"/>
                <a:lnTo>
                  <a:pt x="916" y="9728"/>
                </a:lnTo>
                <a:arcTo wR="21600" hR="7552" stAng="-10439666" swAng="5039666"/>
                <a:close/>
              </a:path>
            </a:pathLst>
          </a:cu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8" name="AutoShape 1060"/>
          <p:cNvSpPr/>
          <p:nvPr/>
        </p:nvSpPr>
        <p:spPr>
          <a:xfrm>
            <a:off x="8604360" y="2852640"/>
            <a:ext cx="169920" cy="216000"/>
          </a:xfrm>
          <a:prstGeom prst="flowChartConnector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9" name="Выгнутая влево стрелка 1"/>
          <p:cNvSpPr/>
          <p:nvPr/>
        </p:nvSpPr>
        <p:spPr>
          <a:xfrm>
            <a:off x="1476360" y="623880"/>
            <a:ext cx="2103480" cy="644400"/>
          </a:xfrm>
          <a:custGeom>
            <a:avLst/>
            <a:gdLst>
              <a:gd name="textAreaLeft" fmla="*/ 281520 w 2103480"/>
              <a:gd name="textAreaRight" fmla="*/ 1821960 w 2103480"/>
              <a:gd name="textAreaTop" fmla="*/ 100440 h 644400"/>
              <a:gd name="textAreaBottom" fmla="*/ 463320 h 64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571078"/>
                <a:lnTo>
                  <a:pt x="19945" y="21580"/>
                </a:lnTo>
                <a:lnTo>
                  <a:pt x="21600" y="16200"/>
                </a:lnTo>
                <a:lnTo>
                  <a:pt x="19945" y="10780"/>
                </a:lnTo>
                <a:lnTo>
                  <a:pt x="19945" y="13480"/>
                </a:lnTo>
                <a:arcTo wR="21600" hR="6750" stAng="6228922" swAng="4105092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0" name="Выгнутая вправо стрелка 2"/>
          <p:cNvSpPr/>
          <p:nvPr/>
        </p:nvSpPr>
        <p:spPr>
          <a:xfrm>
            <a:off x="5797440" y="574560"/>
            <a:ext cx="2293920" cy="676440"/>
          </a:xfrm>
          <a:custGeom>
            <a:avLst/>
            <a:gdLst>
              <a:gd name="textAreaLeft" fmla="*/ 307080 w 2293920"/>
              <a:gd name="textAreaRight" fmla="*/ 1986840 w 2293920"/>
              <a:gd name="textAreaTop" fmla="*/ 105480 h 676440"/>
              <a:gd name="textAreaBottom" fmla="*/ 486360 h 6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4601658"/>
                <a:lnTo>
                  <a:pt x="1592" y="21582"/>
                </a:lnTo>
                <a:lnTo>
                  <a:pt x="0" y="16200"/>
                </a:lnTo>
                <a:lnTo>
                  <a:pt x="1592" y="10782"/>
                </a:lnTo>
                <a:lnTo>
                  <a:pt x="1592" y="13482"/>
                </a:lnTo>
                <a:arcTo wR="21600" hR="6750" stAng="4601658" swAng="-4135672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3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3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3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3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3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AutoShape 4"/>
          <p:cNvSpPr/>
          <p:nvPr/>
        </p:nvSpPr>
        <p:spPr>
          <a:xfrm>
            <a:off x="2987640" y="404640"/>
            <a:ext cx="3313080" cy="72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Железы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2" name="AutoShape 5"/>
          <p:cNvSpPr/>
          <p:nvPr/>
        </p:nvSpPr>
        <p:spPr>
          <a:xfrm>
            <a:off x="684360" y="1773360"/>
            <a:ext cx="3671640" cy="503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КЗОКРИННЫЕ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3" name="AutoShape 6"/>
          <p:cNvSpPr/>
          <p:nvPr/>
        </p:nvSpPr>
        <p:spPr>
          <a:xfrm>
            <a:off x="4716360" y="1773360"/>
            <a:ext cx="3672000" cy="503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НДОКРИННЫЕ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4" name="AutoShape 7"/>
          <p:cNvSpPr/>
          <p:nvPr/>
        </p:nvSpPr>
        <p:spPr>
          <a:xfrm>
            <a:off x="755640" y="2565360"/>
            <a:ext cx="3600360" cy="504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6ab"/>
                </a:solidFill>
                <a:latin typeface="Comic Sans MS"/>
              </a:rPr>
              <a:t>Железы внешней секреции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5" name="AutoShape 8"/>
          <p:cNvSpPr/>
          <p:nvPr/>
        </p:nvSpPr>
        <p:spPr>
          <a:xfrm>
            <a:off x="4716360" y="2565360"/>
            <a:ext cx="3816360" cy="504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6ab"/>
                </a:solidFill>
                <a:latin typeface="Comic Sans MS"/>
              </a:rPr>
              <a:t>Железы внутренней секреции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6" name="AutoShape 9"/>
          <p:cNvSpPr/>
          <p:nvPr/>
        </p:nvSpPr>
        <p:spPr>
          <a:xfrm rot="5400000">
            <a:off x="935640" y="2169000"/>
            <a:ext cx="360360" cy="432000"/>
          </a:xfrm>
          <a:custGeom>
            <a:avLst/>
            <a:gdLst>
              <a:gd name="textAreaLeft" fmla="*/ 45000 w 360360"/>
              <a:gd name="textAreaRight" fmla="*/ 315360 w 36036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7" name="AutoShape 10"/>
          <p:cNvSpPr/>
          <p:nvPr/>
        </p:nvSpPr>
        <p:spPr>
          <a:xfrm rot="5400000">
            <a:off x="7847640" y="2169000"/>
            <a:ext cx="360360" cy="432000"/>
          </a:xfrm>
          <a:custGeom>
            <a:avLst/>
            <a:gdLst>
              <a:gd name="textAreaLeft" fmla="*/ 45000 w 360360"/>
              <a:gd name="textAreaRight" fmla="*/ 315360 w 36036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8" name="AutoShape 12"/>
          <p:cNvSpPr/>
          <p:nvPr/>
        </p:nvSpPr>
        <p:spPr>
          <a:xfrm>
            <a:off x="395280" y="4076640"/>
            <a:ext cx="4175280" cy="244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3766ab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6ab"/>
                </a:solidFill>
                <a:latin typeface="Comic Sans MS"/>
              </a:rPr>
              <a:t>Железы, имеющие выводные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6ab"/>
                </a:solidFill>
                <a:latin typeface="Comic Sans MS"/>
              </a:rPr>
              <a:t>протоки  и выделяющие  свои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6ab"/>
                </a:solidFill>
                <a:latin typeface="Comic Sans MS"/>
              </a:rPr>
              <a:t>секреты на  поверхность тела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6ab"/>
                </a:solidFill>
                <a:latin typeface="Comic Sans MS"/>
              </a:rPr>
              <a:t>или в полости тела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9" name="AutoShape 13"/>
          <p:cNvSpPr/>
          <p:nvPr/>
        </p:nvSpPr>
        <p:spPr>
          <a:xfrm>
            <a:off x="4643280" y="4076640"/>
            <a:ext cx="4176720" cy="244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3766ab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6ab"/>
                </a:solidFill>
                <a:latin typeface="Comic Sans MS"/>
              </a:rPr>
              <a:t>Железы, не имеющие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6ab"/>
                </a:solidFill>
                <a:latin typeface="Comic Sans MS"/>
              </a:rPr>
              <a:t>выводных протоков 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6ab"/>
                </a:solidFill>
                <a:latin typeface="Comic Sans MS"/>
              </a:rPr>
              <a:t>и выделяющие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6ab"/>
                </a:solidFill>
                <a:latin typeface="Comic Sans MS"/>
              </a:rPr>
              <a:t>вырабатываемые ими гормоны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6ab"/>
                </a:solidFill>
                <a:latin typeface="Comic Sans MS"/>
              </a:rPr>
              <a:t>непосредственно в кровь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6ab"/>
                </a:solidFill>
                <a:latin typeface="Comic Sans MS"/>
              </a:rPr>
              <a:t>или лимфу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0" name="Стрелка вниз 1"/>
          <p:cNvSpPr/>
          <p:nvPr/>
        </p:nvSpPr>
        <p:spPr>
          <a:xfrm>
            <a:off x="3276720" y="1125360"/>
            <a:ext cx="287280" cy="64800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1" name="Стрелка вниз 13"/>
          <p:cNvSpPr/>
          <p:nvPr/>
        </p:nvSpPr>
        <p:spPr>
          <a:xfrm>
            <a:off x="5653080" y="1125360"/>
            <a:ext cx="28908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2" name="Выгнутая вправо стрелка 3"/>
          <p:cNvSpPr/>
          <p:nvPr/>
        </p:nvSpPr>
        <p:spPr>
          <a:xfrm>
            <a:off x="6624720" y="3070080"/>
            <a:ext cx="731880" cy="1216080"/>
          </a:xfrm>
          <a:custGeom>
            <a:avLst/>
            <a:gdLst>
              <a:gd name="textAreaLeft" fmla="*/ 97920 w 731880"/>
              <a:gd name="textAreaRight" fmla="*/ 633960 w 731880"/>
              <a:gd name="textAreaTop" fmla="*/ 235440 h 1216080"/>
              <a:gd name="textAreaBottom" fmla="*/ 889200 h 121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63" stAng="-5400000" swAng="5400000"/>
                <a:lnTo>
                  <a:pt x="21600" y="11613"/>
                </a:lnTo>
                <a:arcTo wR="21600" hR="8363" stAng="0" swAng="3377999"/>
                <a:lnTo>
                  <a:pt x="5400" y="21334"/>
                </a:lnTo>
                <a:lnTo>
                  <a:pt x="0" y="18350"/>
                </a:lnTo>
                <a:lnTo>
                  <a:pt x="5400" y="14834"/>
                </a:lnTo>
                <a:lnTo>
                  <a:pt x="5400" y="16459"/>
                </a:lnTo>
                <a:arcTo wR="21600" hR="8363" stAng="3377999" swAng="-3114862"/>
                <a:lnTo>
                  <a:pt x="21188" y="9988"/>
                </a:lnTo>
                <a:arcTo wR="21600" hR="8363" stAng="-263137" swAng="-5136863"/>
                <a:close/>
              </a:path>
              <a:path fill="darkenLess" w="21600" h="21600">
                <a:moveTo>
                  <a:pt x="0" y="0"/>
                </a:moveTo>
                <a:arcTo wR="21600" hR="8363" stAng="-5400000" swAng="5400000"/>
                <a:lnTo>
                  <a:pt x="21600" y="11613"/>
                </a:lnTo>
                <a:arcTo wR="21600" hR="8363" stAng="0" swAng="-263137"/>
                <a:lnTo>
                  <a:pt x="21188" y="9988"/>
                </a:lnTo>
                <a:arcTo wR="21600" hR="8363" stAng="-263137" swAng="-5136863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3" name="Выгнутая влево стрелка 4"/>
          <p:cNvSpPr/>
          <p:nvPr/>
        </p:nvSpPr>
        <p:spPr>
          <a:xfrm>
            <a:off x="1581120" y="3075120"/>
            <a:ext cx="731880" cy="1215720"/>
          </a:xfrm>
          <a:custGeom>
            <a:avLst/>
            <a:gdLst>
              <a:gd name="textAreaLeft" fmla="*/ 97920 w 731880"/>
              <a:gd name="textAreaRight" fmla="*/ 633960 w 731880"/>
              <a:gd name="textAreaTop" fmla="*/ 235080 h 1215720"/>
              <a:gd name="textAreaBottom" fmla="*/ 888840 h 1215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63" stAng="-5400000" swAng="-5400000"/>
                <a:lnTo>
                  <a:pt x="0" y="11613"/>
                </a:lnTo>
                <a:arcTo wR="21600" hR="8363" stAng="10800000" swAng="-3377999"/>
                <a:lnTo>
                  <a:pt x="16200" y="21334"/>
                </a:lnTo>
                <a:lnTo>
                  <a:pt x="21600" y="18350"/>
                </a:lnTo>
                <a:lnTo>
                  <a:pt x="16200" y="14834"/>
                </a:lnTo>
                <a:lnTo>
                  <a:pt x="16200" y="16459"/>
                </a:lnTo>
                <a:arcTo wR="21600" hR="8363" stAng="7422001" swAng="3114862"/>
                <a:lnTo>
                  <a:pt x="412" y="9988"/>
                </a:lnTo>
                <a:arcTo wR="21600" hR="8363" stAng="-10536863" swAng="5136863"/>
                <a:close/>
              </a:path>
              <a:path fill="darkenLess" w="21600" h="21600">
                <a:moveTo>
                  <a:pt x="21600" y="0"/>
                </a:moveTo>
                <a:arcTo wR="21600" hR="8363" stAng="-5400000" swAng="-5400000"/>
                <a:lnTo>
                  <a:pt x="0" y="8363"/>
                </a:lnTo>
                <a:arcTo wR="21600" hR="8363" stAng="10800000" swAng="-263137"/>
                <a:lnTo>
                  <a:pt x="412" y="9988"/>
                </a:lnTo>
                <a:arcTo wR="21600" hR="8363" stAng="-10536863" swAng="5136863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887480" y="241560"/>
            <a:ext cx="5881320" cy="974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езы внешней секреции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экзокринны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5"/>
          <p:cNvSpPr/>
          <p:nvPr/>
        </p:nvSpPr>
        <p:spPr>
          <a:xfrm>
            <a:off x="324000" y="1628640"/>
            <a:ext cx="2663640" cy="180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ные протоки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ходят на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рхность тела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6" name="AutoShape 6"/>
          <p:cNvSpPr/>
          <p:nvPr/>
        </p:nvSpPr>
        <p:spPr>
          <a:xfrm>
            <a:off x="3240000" y="1700280"/>
            <a:ext cx="2627280" cy="1800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ные протоки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ваются в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сти тела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7" name="AutoShape 7"/>
          <p:cNvSpPr/>
          <p:nvPr/>
        </p:nvSpPr>
        <p:spPr>
          <a:xfrm>
            <a:off x="6084720" y="1700280"/>
            <a:ext cx="2808360" cy="18223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шанные железы,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временно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ющиеся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езами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енней секреции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8" name="AutoShape 8"/>
          <p:cNvSpPr/>
          <p:nvPr/>
        </p:nvSpPr>
        <p:spPr>
          <a:xfrm rot="5400000">
            <a:off x="1691280" y="3393000"/>
            <a:ext cx="360360" cy="432000"/>
          </a:xfrm>
          <a:custGeom>
            <a:avLst/>
            <a:gdLst>
              <a:gd name="textAreaLeft" fmla="*/ 45000 w 360360"/>
              <a:gd name="textAreaRight" fmla="*/ 315360 w 36036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9" name="AutoShape 9"/>
          <p:cNvSpPr/>
          <p:nvPr/>
        </p:nvSpPr>
        <p:spPr>
          <a:xfrm rot="5400000">
            <a:off x="4536000" y="3464640"/>
            <a:ext cx="360360" cy="431640"/>
          </a:xfrm>
          <a:custGeom>
            <a:avLst/>
            <a:gdLst>
              <a:gd name="textAreaLeft" fmla="*/ 45000 w 360360"/>
              <a:gd name="textAreaRight" fmla="*/ 315360 w 36036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0" name="AutoShape 10"/>
          <p:cNvSpPr/>
          <p:nvPr/>
        </p:nvSpPr>
        <p:spPr>
          <a:xfrm rot="5400000">
            <a:off x="7490520" y="3499200"/>
            <a:ext cx="360360" cy="432000"/>
          </a:xfrm>
          <a:custGeom>
            <a:avLst/>
            <a:gdLst>
              <a:gd name="textAreaLeft" fmla="*/ 45000 w 360360"/>
              <a:gd name="textAreaRight" fmla="*/ 315360 w 36036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1" name="Rectangle 11"/>
          <p:cNvSpPr/>
          <p:nvPr/>
        </p:nvSpPr>
        <p:spPr>
          <a:xfrm>
            <a:off x="71280" y="3841920"/>
            <a:ext cx="2916360" cy="27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вые железы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льные железы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зные железы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очные железы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2" name="Rectangle 12"/>
          <p:cNvSpPr/>
          <p:nvPr/>
        </p:nvSpPr>
        <p:spPr>
          <a:xfrm>
            <a:off x="3095640" y="3878280"/>
            <a:ext cx="2809800" cy="269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юнные железы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езы желудка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езы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шечника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3" name="Rectangle 13"/>
          <p:cNvSpPr/>
          <p:nvPr/>
        </p:nvSpPr>
        <p:spPr>
          <a:xfrm>
            <a:off x="6012000" y="3894120"/>
            <a:ext cx="3024000" cy="266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вые железы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желудочная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еза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чень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езы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-пёрстной кишки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4" name="Стрелка вниз 1"/>
          <p:cNvSpPr/>
          <p:nvPr/>
        </p:nvSpPr>
        <p:spPr>
          <a:xfrm>
            <a:off x="2195640" y="1268280"/>
            <a:ext cx="288720" cy="360360"/>
          </a:xfrm>
          <a:prstGeom prst="downArrow">
            <a:avLst>
              <a:gd name="adj1" fmla="val 50000"/>
              <a:gd name="adj2" fmla="val 5003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5" name="Стрелка вниз 12"/>
          <p:cNvSpPr/>
          <p:nvPr/>
        </p:nvSpPr>
        <p:spPr>
          <a:xfrm>
            <a:off x="6875640" y="1311120"/>
            <a:ext cx="288720" cy="389160"/>
          </a:xfrm>
          <a:prstGeom prst="downArrow">
            <a:avLst>
              <a:gd name="adj1" fmla="val 50000"/>
              <a:gd name="adj2" fmla="val 5006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6" name="Стрелка вниз 13"/>
          <p:cNvSpPr/>
          <p:nvPr/>
        </p:nvSpPr>
        <p:spPr>
          <a:xfrm>
            <a:off x="4537080" y="1268280"/>
            <a:ext cx="287280" cy="419400"/>
          </a:xfrm>
          <a:prstGeom prst="downArrow">
            <a:avLst>
              <a:gd name="adj1" fmla="val 50000"/>
              <a:gd name="adj2" fmla="val 5004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250560" y="189000"/>
            <a:ext cx="85359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ак, железы внешней секреции — экзогенные. Они вырабатывают вещества (секрет) и выводят их во внешнюю среду организма либо в его поло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вые железы — это кожные железы, выделяющие секрет в виде пота на поверхность тела. Пот — это водный раствор солей и органических веществ. Потовые железы распределены практически по всей поверхности те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вая железа состоит из секреторного клубочка (концевого отдела) и более узкого выводного протока. Секреторные клубочки залегают в глубоких слоях дермы и подкожной жировой клетчатке. Имеют вид крупной, свёрнутой в клубок трубоч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вые железы располагаются как в подкожно-жировой клетчатке (ладони, подошва), так и в глубоких слоях дермы (прочие участки тела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нцевом отделе потовых желёз представлены два слоя клеток: внутренний слой секреторных клеток и наружный слой миоэпителиальных клет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50920" y="10800"/>
            <a:ext cx="860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езы внешней секреции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экзокринные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454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меют специальные протоки для выведения секрета на поверхность тела или в полые орга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2" descr="Слюнные железы"/>
          <p:cNvPicPr/>
          <p:nvPr/>
        </p:nvPicPr>
        <p:blipFill>
          <a:blip r:embed="rId1"/>
          <a:stretch/>
        </p:blipFill>
        <p:spPr>
          <a:xfrm>
            <a:off x="-181080" y="2205000"/>
            <a:ext cx="4846680" cy="40338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3" descr="железы желудка"/>
          <p:cNvPicPr/>
          <p:nvPr/>
        </p:nvPicPr>
        <p:blipFill>
          <a:blip r:embed="rId2"/>
          <a:stretch/>
        </p:blipFill>
        <p:spPr>
          <a:xfrm>
            <a:off x="4427640" y="2349360"/>
            <a:ext cx="451944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4T17:12:47Z</dcterms:created>
  <dc:creator>паша</dc:creator>
  <dc:description/>
  <dc:language>en-US</dc:language>
  <cp:lastModifiedBy>Пользователь</cp:lastModifiedBy>
  <dcterms:modified xsi:type="dcterms:W3CDTF">2024-01-04T19:02:19Z</dcterms:modified>
  <cp:revision>38</cp:revision>
  <dc:subject/>
  <dc:title>Слайд 1</dc:title>
</cp:coreProperties>
</file>