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CF42-8F93-4A61-AF35-7C2954984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09C-B88A-4779-B1DF-063DE36E7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3F68-5203-4FAB-A5E4-EA522A8BE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C0C0-8C89-424D-BD29-A469A8254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CDD8-630D-498C-B063-6342FAE29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0BC4-8E9B-4651-A1F4-7A7A2340E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BBD-85C4-44E9-B53A-AFFF574E0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F6D8-BF23-4F75-99C2-EC927C1E6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BFA0-38DE-438D-AB29-6DC801A6E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0C59-ADCD-4623-8933-A49042CA6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9DDC-0079-414F-AB65-8CFEA3BE3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09F-F030-4B5D-BB73-2FF6C984E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617D-AFA2-40E4-BE3B-7E77F3932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AE8A-6CA3-4EFF-8939-B038F2294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8F5-D790-40FB-9A42-4F2B2189F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CC1-D040-4443-A31F-65F7D81A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67B-C716-4D4C-A81D-0A616DC2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2E9-C2E7-4884-BF7A-8AB12E8C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E2F-1844-42B4-96FB-EC1A52BF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890-C2C3-46A9-9C25-C0028BDB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5DC9-1DB2-46F9-A031-6B1394DB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0B5C-4AF0-447F-827F-FE5C2927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1241-9C34-482A-A65B-D85D67EF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F0F-27DA-4BBD-AA87-6BD15E87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6F4E-7EF8-49FC-B69E-D08B17F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AD9F-3DF4-438B-B33A-8E6A4E5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12-23CA-4B7F-A829-1136C96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A035-ABE3-4EF6-BDF5-2AF1703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31DD-3A90-4094-A4FE-0C06D9A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BE03-D72A-4127-A760-9F6375F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2E0-4F92-4E2D-8447-04072BAD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1591-D383-44F1-AFC1-FF215DBB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8174-C7D6-4919-AB24-8B26278B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D6D6-1EC8-4C2C-B0B4-0C714D6C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DDE4-DAF3-45D2-BDCB-5B20871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48CA-2802-422C-89A4-7D76A01F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54FD-A1ED-4491-9C37-E5F7E826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B77-1546-408F-8DF3-CE6D9DB4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6225-34C0-4249-9F21-DA446671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00B6-752C-4E02-A4CF-56A63DF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ABB9-06A7-468C-93F6-231794B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A89F-DDB9-4221-8465-C58B357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0D67-52A4-4492-AAD2-4152969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4188-5EF8-46BE-9AA1-237C28C0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8E32-F00A-45A2-BD69-90FE63A7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3803-5D21-4173-B932-0C112C93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3D38-3123-41CB-A5EE-8545859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F398-12F5-4914-8B94-41F5113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1EF-979B-47FD-8AEE-7B0C4D63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8EB1-F708-4B3F-8055-622447E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4196-0109-4492-9A74-5EFD9AB5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0ABD-0BA2-4457-B13A-62A8170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A002-4CE5-4D0D-81EA-0A01A97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9EFB-D87C-48E0-9084-12417C97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FA53-BA01-4ECE-B632-F6A11CB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ACC2-65AC-4327-A51E-CAA1777A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D353-93E3-4130-87F4-8B138FD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8384-1F40-4675-89D0-37F79791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F565-CA99-436B-B59A-0A6D82E9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104-A6A9-4206-BC81-B2883723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21CB-DFC3-4CAD-AABF-836076EA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7686-D7F3-4C20-BDDF-B788EA8C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88E64-7208-4FCB-A051-12D6904D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87994-50F1-4498-894A-4D0A421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BD09-513E-4F37-AE14-613FBAB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9B40-BE53-4EBB-AAE0-CB45AA6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CADD-9521-444F-99D2-BD164C0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604CB-CF11-4E52-AC8E-A7040A7E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E455-D839-46DB-A248-75DB99F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64180-7E14-450C-A52B-6FC9E259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30B-7737-4251-B929-EF138DF4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B159-3A48-4399-82F9-71E97FD3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55C-66D1-4249-8262-AFD70C13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2F8-8E1B-41DD-AD86-79ED41A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D5C-9483-4B61-9AD6-1FFA6C6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58FC-AB1A-4B1A-BD0F-514B8E8F4632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818-5A26-46DD-A9AF-CA3AF2533C30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E015-A37C-4064-AC1C-2F7409CF930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EF5B-52CA-4AA9-906E-B35FA62CA431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6A3-98E0-4C6F-8BB1-5A2E34BF94B9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Двоичное кодировани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4617b"/>
                </a:solidFill>
                <a:latin typeface="Calibri"/>
              </a:rPr>
              <a:t>10 класс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дготовил: учитель информатики МКОУ «Карланюртовская СОШ имени А.Д. Шихалиева»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Беалиев Р.В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(True Col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76200" y="947880"/>
            <a:ext cx="62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3. От цвета – к числам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5"/>
          <p:cNvGraphicFramePr/>
          <p:nvPr/>
        </p:nvGraphicFramePr>
        <p:xfrm>
          <a:off x="6829560" y="1217520"/>
          <a:ext cx="189360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9560" y="1217520"/>
                    <a:ext cx="18936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7"/>
          <p:cNvSpPr/>
          <p:nvPr/>
        </p:nvSpPr>
        <p:spPr>
          <a:xfrm>
            <a:off x="1397160" y="1380960"/>
            <a:ext cx="48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цвет =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 +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 +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2370240" y="1790640"/>
            <a:ext cx="10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4707360" y="181764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3457440" y="180828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275920" y="2678040"/>
            <a:ext cx="10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218</a:t>
            </a:r>
            <a:br>
              <a:rPr sz="1800"/>
            </a:br>
            <a:r>
              <a:rPr b="1" lang="en-US" sz="1800" spc="-1" strike="noStrike">
                <a:solidFill>
                  <a:srgbClr val="00dd15"/>
                </a:solidFill>
                <a:latin typeface="Arial"/>
              </a:rPr>
              <a:t>G = 164</a:t>
            </a:r>
            <a:br>
              <a:rPr sz="1800"/>
            </a:b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4749120" y="2714760"/>
            <a:ext cx="10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135</a:t>
            </a:r>
            <a:br>
              <a:rPr sz="1800"/>
            </a:br>
            <a:r>
              <a:rPr b="1" lang="en-US" sz="1800" spc="-1" strike="noStrike">
                <a:solidFill>
                  <a:srgbClr val="00dd15"/>
                </a:solidFill>
                <a:latin typeface="Arial"/>
              </a:rPr>
              <a:t>G = 206</a:t>
            </a:r>
            <a:br>
              <a:rPr sz="1800"/>
            </a:b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 =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906480" y="2770200"/>
            <a:ext cx="1171440" cy="727200"/>
          </a:xfrm>
          <a:prstGeom prst="rect">
            <a:avLst/>
          </a:prstGeom>
          <a:solidFill>
            <a:srgbClr val="daa4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3537000" y="2770200"/>
            <a:ext cx="1171440" cy="727200"/>
          </a:xfrm>
          <a:prstGeom prst="rect">
            <a:avLst/>
          </a:prstGeom>
          <a:solidFill>
            <a:srgbClr val="87ce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469800" y="3616200"/>
            <a:ext cx="62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. Числа – в двоичн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628560" y="5167440"/>
            <a:ext cx="7959960" cy="663480"/>
            <a:chOff x="628560" y="5167440"/>
            <a:chExt cx="7959960" cy="663480"/>
          </a:xfrm>
        </p:grpSpPr>
        <p:sp>
          <p:nvSpPr>
            <p:cNvPr id="358" name="Text Box 20"/>
            <p:cNvSpPr/>
            <p:nvPr/>
          </p:nvSpPr>
          <p:spPr>
            <a:xfrm>
              <a:off x="1095480" y="5274000"/>
              <a:ext cx="7493040" cy="3988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олько памяти нужно для хранения цвета 1 пикселя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"/>
            <p:cNvSpPr/>
            <p:nvPr/>
          </p:nvSpPr>
          <p:spPr>
            <a:xfrm>
              <a:off x="628560" y="5167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4"/>
          <p:cNvGrpSpPr/>
          <p:nvPr/>
        </p:nvGrpSpPr>
        <p:grpSpPr>
          <a:xfrm>
            <a:off x="628560" y="4103640"/>
            <a:ext cx="6429600" cy="663480"/>
            <a:chOff x="628560" y="4103640"/>
            <a:chExt cx="6429600" cy="663480"/>
          </a:xfrm>
        </p:grpSpPr>
        <p:sp>
          <p:nvSpPr>
            <p:cNvPr id="361" name="Text Box 22"/>
            <p:cNvSpPr/>
            <p:nvPr/>
          </p:nvSpPr>
          <p:spPr>
            <a:xfrm>
              <a:off x="1095480" y="4209840"/>
              <a:ext cx="5962680" cy="3988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олько разных цветов можно кодировать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28560" y="4103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27"/>
          <p:cNvSpPr/>
          <p:nvPr/>
        </p:nvSpPr>
        <p:spPr>
          <a:xfrm>
            <a:off x="1306080" y="4721400"/>
            <a:ext cx="56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56 =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  <a:ea typeface="Arial"/>
              </a:rPr>
              <a:t> 16 777 216 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True</a:t>
            </a:r>
            <a:r>
              <a:rPr b="1" i="1" lang="ru-RU" sz="2400" spc="-1" strike="noStrike">
                <a:solidFill>
                  <a:srgbClr val="009dd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Colo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1406520" y="5784840"/>
            <a:ext cx="650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256=2</a:t>
            </a:r>
            <a:r>
              <a:rPr b="1" lang="ru-RU" sz="2400" spc="-1" strike="noStrike" baseline="30000">
                <a:solidFill>
                  <a:srgbClr val="009dd9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вариантов, нужно 8 бит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= 1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байт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 всего 3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75"/>
          <p:cNvSpPr/>
          <p:nvPr/>
        </p:nvSpPr>
        <p:spPr>
          <a:xfrm>
            <a:off x="7315200" y="4098960"/>
            <a:ext cx="1603440" cy="777960"/>
          </a:xfrm>
          <a:prstGeom prst="wedgeRoundRectCallout">
            <a:avLst>
              <a:gd name="adj1" fmla="val -61384"/>
              <a:gd name="adj2" fmla="val 1064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овая модель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G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443664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Цветные изображения могут иметь различную глубину цвета, которая задается количеством битов, используемых для кодирования цвета точк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Если кодировать цвет одной точки изображения тремя битами (по одному биту на каждый цвет RGB), то мы получим все восемь различных цвет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23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072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True Col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36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На практике же, для сохранения информации о цвете каждой точки цветного изображения в модели RGB обычно отводится 3 байта (т.е. 24 бита) - по 1 байту (т.е. по 8 бит) под значение цвета каждой составляюще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им образом, каждая RGB-составляющая может принимать значение в диапазоне от 0 до 255 (всего 2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=256 значений), а каждая точка изображения, при такой системе кодирования может быть окрашена в один из 16 777 216 цветов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ой набор цветов принято называть True Color (правдивые цвета), потому что человеческий глаз все равно не в состоянии различить большего разнообразия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числим объем видеопамя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46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ля того чтобы на экране монитора формировалось изображение, информация о каждой точке (код цвета точки) должна храниться в видеопамяти компьютер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ссчитаем необходимый объем видеопамяти для одного из графических режимов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современных компьютерах разрешение экрана обычно составляет 1280х1024 точек. Т.е. всего 1280 * 1024 = 1310720 точек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 глубине цвета 32 бита на точку необходимый объем видеопамяти: 32 *1310720 = 41943040 бит = 5242880 байт = 5120 Кб = 5 Мб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7893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(True Col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79280" y="888840"/>
            <a:ext cx="504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CMYK-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трактивная (вычитательная)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при подготовк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печати н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фессиональном принтере 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ит основой для технологи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етырехкрасочной печ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4932360" y="782640"/>
            <a:ext cx="3781440" cy="26082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79280" y="3573360"/>
            <a:ext cx="889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овыми компонентами данной модели служат цвета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е вычитанием первичных из белог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убой (Су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красны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зеленый - си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урпурный (М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ta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зеленый = красный + си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елты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синий = красный + зеле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50920" y="5478480"/>
            <a:ext cx="8640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цветовой модели СМУ: на практике ни одна краска не является абсолютно чистой и обязательно содержит примеси, наложение друг на друга дополнительных цветов на практике не дает чистого черного цвета. Поэтому в эту цветовую модель и был включен компонент чистого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482760" y="990720"/>
            <a:ext cx="396720" cy="396720"/>
            <a:chOff x="482760" y="990720"/>
            <a:chExt cx="396720" cy="396720"/>
          </a:xfrm>
        </p:grpSpPr>
        <p:sp>
          <p:nvSpPr>
            <p:cNvPr id="383" name="Oval 5"/>
            <p:cNvSpPr/>
            <p:nvPr/>
          </p:nvSpPr>
          <p:spPr>
            <a:xfrm>
              <a:off x="482760" y="99072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6"/>
            <p:cNvGrpSpPr/>
            <p:nvPr/>
          </p:nvGrpSpPr>
          <p:grpSpPr>
            <a:xfrm>
              <a:off x="536400" y="1038240"/>
              <a:ext cx="298440" cy="298440"/>
              <a:chOff x="536400" y="1038240"/>
              <a:chExt cx="298440" cy="298440"/>
            </a:xfrm>
          </p:grpSpPr>
          <p:sp>
            <p:nvSpPr>
              <p:cNvPr id="385" name="Rectangle 7"/>
              <p:cNvSpPr/>
              <p:nvPr/>
            </p:nvSpPr>
            <p:spPr>
              <a:xfrm>
                <a:off x="536400" y="113904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8"/>
              <p:cNvSpPr/>
              <p:nvPr/>
            </p:nvSpPr>
            <p:spPr>
              <a:xfrm rot="16200000">
                <a:off x="537480" y="113868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Freeform 9"/>
            <p:cNvSpPr/>
            <p:nvPr/>
          </p:nvSpPr>
          <p:spPr>
            <a:xfrm>
              <a:off x="536040" y="1037880"/>
              <a:ext cx="29880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0"/>
          <p:cNvGrpSpPr/>
          <p:nvPr/>
        </p:nvGrpSpPr>
        <p:grpSpPr>
          <a:xfrm>
            <a:off x="546120" y="3228840"/>
            <a:ext cx="395280" cy="395280"/>
            <a:chOff x="546120" y="3228840"/>
            <a:chExt cx="395280" cy="395280"/>
          </a:xfrm>
        </p:grpSpPr>
        <p:sp>
          <p:nvSpPr>
            <p:cNvPr id="389" name="Oval 11"/>
            <p:cNvSpPr/>
            <p:nvPr/>
          </p:nvSpPr>
          <p:spPr>
            <a:xfrm>
              <a:off x="546120" y="32288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"/>
            <p:cNvSpPr/>
            <p:nvPr/>
          </p:nvSpPr>
          <p:spPr>
            <a:xfrm>
              <a:off x="596880" y="33796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3"/>
          <p:cNvSpPr/>
          <p:nvPr/>
        </p:nvSpPr>
        <p:spPr>
          <a:xfrm>
            <a:off x="985680" y="954000"/>
            <a:ext cx="73454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способ для хран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граф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изображений без четких гра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эфф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тени, ореолы,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1014480" y="319392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зменении размеров рисунка о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аж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фай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зависит от сложности рису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Кодирование векторных изображений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087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Векторное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зображение представляет собой совокупность графических примитивов (точка, отрезок, эллипс…). Каждый примитив описывается математическими формулами. Кодирование зависти от прикладной среды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Достоинством векторной графики является то, что файлы, хранящие векторные графические изображения, имеют сравнительно небольшой объе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ажно также, что векторные графические изображения могут быть увеличены или уменьшены без потери качества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17672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торн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405360" y="973080"/>
            <a:ext cx="579708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Строятся из геометрических фигу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ки, ломаные, прямоуголь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ности, эллипсы, д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глаженные линии (кривые Безь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Для каждой фигуры в памяти хран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ы и координаты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 стиль г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 стиль заливки (для замкнутых фигу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Форматы фай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Windows Meta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relDr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5" descr="J0195384"/>
          <p:cNvPicPr/>
          <p:nvPr/>
        </p:nvPicPr>
        <p:blipFill>
          <a:blip r:embed="rId1"/>
          <a:stretch/>
        </p:blipFill>
        <p:spPr>
          <a:xfrm>
            <a:off x="1101600" y="3851280"/>
            <a:ext cx="1233720" cy="125244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6"/>
          <p:cNvGrpSpPr/>
          <p:nvPr/>
        </p:nvGrpSpPr>
        <p:grpSpPr>
          <a:xfrm>
            <a:off x="3875040" y="3846600"/>
            <a:ext cx="4442040" cy="1606320"/>
            <a:chOff x="3875040" y="3846600"/>
            <a:chExt cx="4442040" cy="1606320"/>
          </a:xfrm>
        </p:grpSpPr>
        <p:sp>
          <p:nvSpPr>
            <p:cNvPr id="401" name="AutoShape 7"/>
            <p:cNvSpPr/>
            <p:nvPr/>
          </p:nvSpPr>
          <p:spPr>
            <a:xfrm>
              <a:off x="3875040" y="3846600"/>
              <a:ext cx="444204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>
              <a:off x="5623200" y="3914280"/>
              <a:ext cx="954720" cy="551880"/>
            </a:xfrm>
            <a:prstGeom prst="pie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"/>
            <p:cNvSpPr/>
            <p:nvPr/>
          </p:nvSpPr>
          <p:spPr>
            <a:xfrm>
              <a:off x="7296120" y="4031640"/>
              <a:ext cx="401040" cy="5176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"/>
            <p:cNvSpPr/>
            <p:nvPr/>
          </p:nvSpPr>
          <p:spPr>
            <a:xfrm>
              <a:off x="7384680" y="3912120"/>
              <a:ext cx="583560" cy="4708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1"/>
            <p:cNvSpPr/>
            <p:nvPr/>
          </p:nvSpPr>
          <p:spPr>
            <a:xfrm>
              <a:off x="4170600" y="4925880"/>
              <a:ext cx="801000" cy="2725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>
              <a:off x="6197040" y="4568040"/>
              <a:ext cx="816120" cy="802800"/>
            </a:xfrm>
            <a:prstGeom prst="pie">
              <a:avLst/>
            </a:pr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3"/>
            <p:cNvSpPr/>
            <p:nvPr/>
          </p:nvSpPr>
          <p:spPr>
            <a:xfrm>
              <a:off x="3943440" y="4180680"/>
              <a:ext cx="642240" cy="7830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4"/>
            <p:cNvSpPr/>
            <p:nvPr/>
          </p:nvSpPr>
          <p:spPr>
            <a:xfrm>
              <a:off x="5783400" y="4452120"/>
              <a:ext cx="565560" cy="223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"/>
            <p:cNvSpPr/>
            <p:nvPr/>
          </p:nvSpPr>
          <p:spPr>
            <a:xfrm>
              <a:off x="6261120" y="4375440"/>
              <a:ext cx="109440" cy="1472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>
              <a:off x="5982480" y="4443480"/>
              <a:ext cx="171000" cy="1893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7"/>
            <p:cNvSpPr/>
            <p:nvPr/>
          </p:nvSpPr>
          <p:spPr>
            <a:xfrm>
              <a:off x="7570080" y="4602960"/>
              <a:ext cx="467640" cy="4482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>
              <a:off x="7652160" y="4886280"/>
              <a:ext cx="199800" cy="433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9"/>
            <p:cNvSpPr/>
            <p:nvPr/>
          </p:nvSpPr>
          <p:spPr>
            <a:xfrm>
              <a:off x="5764680" y="4437360"/>
              <a:ext cx="1173960" cy="58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0"/>
            <p:cNvSpPr/>
            <p:nvPr/>
          </p:nvSpPr>
          <p:spPr>
            <a:xfrm>
              <a:off x="6725520" y="3992040"/>
              <a:ext cx="303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1"/>
            <p:cNvSpPr/>
            <p:nvPr/>
          </p:nvSpPr>
          <p:spPr>
            <a:xfrm>
              <a:off x="4257720" y="4034520"/>
              <a:ext cx="590400" cy="59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6726600" y="4188600"/>
              <a:ext cx="401040" cy="4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3"/>
            <p:cNvSpPr/>
            <p:nvPr/>
          </p:nvSpPr>
          <p:spPr>
            <a:xfrm>
              <a:off x="7167960" y="4276800"/>
              <a:ext cx="1548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"/>
            <p:cNvSpPr/>
            <p:nvPr/>
          </p:nvSpPr>
          <p:spPr>
            <a:xfrm>
              <a:off x="4810680" y="3906720"/>
              <a:ext cx="38088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5"/>
            <p:cNvSpPr/>
            <p:nvPr/>
          </p:nvSpPr>
          <p:spPr>
            <a:xfrm>
              <a:off x="7075800" y="3916440"/>
              <a:ext cx="137520" cy="25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6"/>
            <p:cNvSpPr/>
            <p:nvPr/>
          </p:nvSpPr>
          <p:spPr>
            <a:xfrm>
              <a:off x="5222880" y="3911400"/>
              <a:ext cx="342720" cy="38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7"/>
            <p:cNvSpPr/>
            <p:nvPr/>
          </p:nvSpPr>
          <p:spPr>
            <a:xfrm>
              <a:off x="4106520" y="4428360"/>
              <a:ext cx="44856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8"/>
            <p:cNvSpPr/>
            <p:nvPr/>
          </p:nvSpPr>
          <p:spPr>
            <a:xfrm>
              <a:off x="3959280" y="4497840"/>
              <a:ext cx="58824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9"/>
            <p:cNvSpPr/>
            <p:nvPr/>
          </p:nvSpPr>
          <p:spPr>
            <a:xfrm>
              <a:off x="4383360" y="4629600"/>
              <a:ext cx="2952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"/>
            <p:cNvSpPr/>
            <p:nvPr/>
          </p:nvSpPr>
          <p:spPr>
            <a:xfrm>
              <a:off x="6020280" y="4503240"/>
              <a:ext cx="331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1"/>
            <p:cNvSpPr/>
            <p:nvPr/>
          </p:nvSpPr>
          <p:spPr>
            <a:xfrm>
              <a:off x="4329720" y="4637520"/>
              <a:ext cx="3888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2"/>
            <p:cNvSpPr/>
            <p:nvPr/>
          </p:nvSpPr>
          <p:spPr>
            <a:xfrm>
              <a:off x="4064400" y="4651200"/>
              <a:ext cx="30096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3"/>
            <p:cNvSpPr/>
            <p:nvPr/>
          </p:nvSpPr>
          <p:spPr>
            <a:xfrm>
              <a:off x="5220000" y="4868640"/>
              <a:ext cx="1033200" cy="49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4"/>
            <p:cNvSpPr/>
            <p:nvPr/>
          </p:nvSpPr>
          <p:spPr>
            <a:xfrm>
              <a:off x="7021080" y="4771800"/>
              <a:ext cx="42840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5"/>
            <p:cNvSpPr/>
            <p:nvPr/>
          </p:nvSpPr>
          <p:spPr>
            <a:xfrm>
              <a:off x="7371720" y="4768200"/>
              <a:ext cx="254160" cy="31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"/>
            <p:cNvSpPr/>
            <p:nvPr/>
          </p:nvSpPr>
          <p:spPr>
            <a:xfrm>
              <a:off x="4975920" y="4807440"/>
              <a:ext cx="7560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7"/>
            <p:cNvSpPr/>
            <p:nvPr/>
          </p:nvSpPr>
          <p:spPr>
            <a:xfrm>
              <a:off x="4758120" y="4551120"/>
              <a:ext cx="52200" cy="2336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8"/>
            <p:cNvSpPr/>
            <p:nvPr/>
          </p:nvSpPr>
          <p:spPr>
            <a:xfrm>
              <a:off x="4945320" y="4516560"/>
              <a:ext cx="52920" cy="322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9"/>
            <p:cNvSpPr/>
            <p:nvPr/>
          </p:nvSpPr>
          <p:spPr>
            <a:xfrm>
              <a:off x="5167800" y="4569480"/>
              <a:ext cx="52920" cy="265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AutoShape 40"/>
          <p:cNvSpPr/>
          <p:nvPr/>
        </p:nvSpPr>
        <p:spPr>
          <a:xfrm>
            <a:off x="2781360" y="4351320"/>
            <a:ext cx="647640" cy="468360"/>
          </a:xfrm>
          <a:prstGeom prst="pie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4"/>
          <p:cNvSpPr/>
          <p:nvPr/>
        </p:nvSpPr>
        <p:spPr>
          <a:xfrm>
            <a:off x="4160880" y="567360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dobe Illustr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Free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торн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520560" y="1160640"/>
            <a:ext cx="397080" cy="396720"/>
            <a:chOff x="520560" y="1160640"/>
            <a:chExt cx="397080" cy="396720"/>
          </a:xfrm>
        </p:grpSpPr>
        <p:sp>
          <p:nvSpPr>
            <p:cNvPr id="439" name="Oval 5"/>
            <p:cNvSpPr/>
            <p:nvPr/>
          </p:nvSpPr>
          <p:spPr>
            <a:xfrm>
              <a:off x="520560" y="11606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6"/>
            <p:cNvGrpSpPr/>
            <p:nvPr/>
          </p:nvGrpSpPr>
          <p:grpSpPr>
            <a:xfrm>
              <a:off x="574560" y="1208160"/>
              <a:ext cx="298440" cy="298440"/>
              <a:chOff x="574560" y="1208160"/>
              <a:chExt cx="298440" cy="298440"/>
            </a:xfrm>
          </p:grpSpPr>
          <p:sp>
            <p:nvSpPr>
              <p:cNvPr id="441" name="Rectangle 7"/>
              <p:cNvSpPr/>
              <p:nvPr/>
            </p:nvSpPr>
            <p:spPr>
              <a:xfrm>
                <a:off x="574560" y="13089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8"/>
              <p:cNvSpPr/>
              <p:nvPr/>
            </p:nvSpPr>
            <p:spPr>
              <a:xfrm rot="16200000">
                <a:off x="575640" y="13086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Freeform 9"/>
            <p:cNvSpPr/>
            <p:nvPr/>
          </p:nvSpPr>
          <p:spPr>
            <a:xfrm>
              <a:off x="573840" y="1207800"/>
              <a:ext cx="29916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0"/>
          <p:cNvGrpSpPr/>
          <p:nvPr/>
        </p:nvGrpSpPr>
        <p:grpSpPr>
          <a:xfrm>
            <a:off x="584280" y="4200480"/>
            <a:ext cx="395280" cy="395280"/>
            <a:chOff x="584280" y="4200480"/>
            <a:chExt cx="395280" cy="395280"/>
          </a:xfrm>
        </p:grpSpPr>
        <p:sp>
          <p:nvSpPr>
            <p:cNvPr id="445" name="Oval 11"/>
            <p:cNvSpPr/>
            <p:nvPr/>
          </p:nvSpPr>
          <p:spPr>
            <a:xfrm>
              <a:off x="584280" y="4200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635040" y="4351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13"/>
          <p:cNvSpPr/>
          <p:nvPr/>
        </p:nvSpPr>
        <p:spPr>
          <a:xfrm>
            <a:off x="1023840" y="1123920"/>
            <a:ext cx="78026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способ для хран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тежей, схем, кар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одирован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потери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зменении размер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искаж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фай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висит от сложности рисун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1052640" y="416556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эффективно использовать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граф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размытых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аты графических файлов определяют способ хранения информации в файле (растровый или векторный), а также форму хранения информации (используемый алгоритм сжат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иболее популярные растровые формат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GI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JPE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TIF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P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глав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в компьюте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алоговая и дискретная форма представления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графических изображ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зву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видео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текстовой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Bit MaP image (BMP)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— универсальный формат растровых графических файлов, используется в операционной системе Windows. Поддерживается многими графическими редакторами, в том числе редактором Paint. Рекомендуется для хранения и обмена данными с другими приложениям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Tagged Image File Format (TIFF)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поддерживается всеми основными графическими редакторами и компьютерными платформами. Включает в себя алгоритм сжатия без потерь информации. Используется для обмена документами между различными программами. Рекомендуется для использования при работе с издательскими системам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Graphics Interchange Format (GIF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поддерживается приложениями для различных операционных систем. Включает алгоритм сжатия без потерь информации, позволяющий уменьшить объем файла в несколько раз. Рекомендуется для хранения изображений, создаваемых программным путем (диаграмм, графиков и так далее) и рисунков (типа аппликации) с ограниченным количеством цветов (до 256). Использ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Portable Network Graphic (PNG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аналогичный формату GIF. Рекоменд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Joint Photographic Expert Group (JPEG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который реализует эффективный алгоритм сжатия (метод JPEG) для отсканированных фотографий и иллюстраций. Алгоритм сжатия позволяет уменьшить объем файла в десятки раз, однако приводит к необратимой потере части информации. Поддерживается приложениями для различных операционных систем. Использ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виды компьютерных изображений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е максимальное количество цветов может быть использовано в изображении, если на каждую точку отводится 3 бит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вы знаете о цветовой модел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G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считайте необходимый объем видеопамяти для графического режима: разрешение экрана 800х600, качество цветопередачи 16 би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дирование зву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Звук – волна с непрерывно изменяющейся амплитудой и частотой: чем больше амплитуда, тем он громче для человека, чем больше частота, тем выше тон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ложные непрерывные звуковые сигналы можно с достаточной точностью представлять в виде суммы некоторого числа простейших синусоидальных колебани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ждая синусоида, может быть точно задана некоторым набором числовых параметров – </a:t>
            </a:r>
            <a:r>
              <a:rPr b="0" lang="ru-RU" sz="2500" spc="-1" strike="noStrike">
                <a:solidFill>
                  <a:srgbClr val="04617b"/>
                </a:solidFill>
                <a:latin typeface="Constantia"/>
              </a:rPr>
              <a:t>амплитуды, фазы и частоты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, которые можно рассматривать как код звука в некоторый момент времен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ременная дискретизация зву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41716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В процессе кодирования звукового сигнала производится его временная дискретизация – непрерывная волна разбивается на отдельные маленькие временные участки и для каждого такого участка устанавливается определенная величина амплитуд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им образом непрерывная зависимость амплитуды сигнала от времени заменяется на дискретную последовательность уровней громк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32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Качество двоичного кодирования звука определяется глубиной кодирования и частотой дискретизац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4617b"/>
                </a:solidFill>
                <a:uFillTx/>
                <a:latin typeface="Constantia"/>
              </a:rPr>
              <a:t>Частота 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количество измерений уровня сигнала в единицу врем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ичество уровней громкости определяет </a:t>
            </a: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глубину кодирова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овременные звуковые карты обеспечивают 16-битную глубину кодирования звука. При этом количество уровней громкости равно 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6553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895320" y="1547640"/>
            <a:ext cx="8077320" cy="1824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дставление видеоинформ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Обработка видеоинформации требует очень высокого быстродействия компьютерной системы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Что представляет собой </a:t>
            </a:r>
            <a:r>
              <a:rPr b="0" i="1" lang="ru-RU" sz="2500" spc="-1" strike="noStrike">
                <a:solidFill>
                  <a:srgbClr val="000000"/>
                </a:solidFill>
                <a:latin typeface="Constantia"/>
              </a:rPr>
              <a:t>фильм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с точки зрения информатики? Прежде всего, это </a:t>
            </a:r>
            <a:r>
              <a:rPr b="0" i="1" lang="ru-RU" sz="2500" spc="-1" strike="noStrike">
                <a:solidFill>
                  <a:srgbClr val="000000"/>
                </a:solidFill>
                <a:latin typeface="Constantia"/>
              </a:rPr>
              <a:t>сочетание звуковой и графической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. Кроме того, для создания на экране эффекта движения используется дискретная по своей сути технология быстрой смены статических картинок. Исследования показали, что если за одну секунду сменяется более 10-12 кадров, то человеческий глаз воспринимает изменения на них как непрерывные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дставление видеоинформ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и использовании традиционных методов сохранения информации электронная версия фильма получится слишком большо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Достаточно очевидное усовершенствование состоит в том, чтобы первый кадр запомнить целиком (в литературе его принято называть ключевым), а в следующих сохранять лишь отличия от начального кадра (разностные кадры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которые форматы видеофайл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6840" y="1052640"/>
            <a:ext cx="84358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уществует множество различных форматов представления видеоданных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Video for Windows, базирующийся на универсальных файлах с расширением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AVI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Audio Video Interleave – чередование аудио и видео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се большее распространение в последнее время получают системы сжатия видеоизображений, допускающие некоторые незаметные для глаза искажения изображения с целью повышения степени сжатия. Наиболее известным стандартом подобного класса служит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MPEG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Motion Picture Expert Group). Методы, применяемые в MPEG, непросты для понимания и опираются на достаточно сложную математику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ольшее распространение получила технология под названием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DivX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Digital Video Express). Благодаря DivX удалось достигнуть степени сжатия, позволившей вмесить качественную запись полнометражного фильма на один компакт-диск – сжать 4,7 Гб DVD-фильма до 650 Мб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Двоичное кодирование в компьютере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ся информация, которую обрабатывает компьютер должна быть представлена двоичным кодом с помощью двух цифр: </a:t>
            </a:r>
            <a:r>
              <a:rPr b="1" lang="ru-RU" sz="2500" spc="-1" strike="noStrike">
                <a:solidFill>
                  <a:srgbClr val="000099"/>
                </a:solidFill>
                <a:latin typeface="Constantia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lang="ru-RU" sz="2500" spc="-1" strike="noStrike">
                <a:solidFill>
                  <a:srgbClr val="000099"/>
                </a:solidFill>
                <a:latin typeface="Constantia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ru-RU" sz="2500" spc="-1" strike="noStrike">
                <a:solidFill>
                  <a:srgbClr val="000099"/>
                </a:solidFill>
                <a:latin typeface="Constantia"/>
              </a:rPr>
              <a:t>Эти два символа принято называть двоичными цифрами или битами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компьютере обязательно должно быть организованно : кодирование и декодирование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e2d700"/>
                </a:solidFill>
                <a:uFillTx/>
                <a:latin typeface="Constantia"/>
              </a:rPr>
              <a:t>Кодирование</a:t>
            </a: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 – преобразование входной информации в форму, воспринимаемую компьютером, т.е. двоичный код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e2d700"/>
                </a:solidFill>
                <a:uFillTx/>
                <a:latin typeface="Constantia"/>
              </a:rPr>
              <a:t>Декодирование</a:t>
            </a: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 – преобразование данных из двоичного кода в форму, понятную человеку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5681520" y="5373720"/>
            <a:ext cx="2965680" cy="1122480"/>
            <a:chOff x="5681520" y="5373720"/>
            <a:chExt cx="2965680" cy="1122480"/>
          </a:xfrm>
        </p:grpSpPr>
        <p:pic>
          <p:nvPicPr>
            <p:cNvPr id="270" name="Picture 4" descr="mycomputer"/>
            <p:cNvPicPr/>
            <p:nvPr/>
          </p:nvPicPr>
          <p:blipFill>
            <a:blip r:embed="rId1"/>
            <a:stretch/>
          </p:blipFill>
          <p:spPr>
            <a:xfrm>
              <a:off x="7885080" y="53737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5"/>
            <p:cNvSpPr/>
            <p:nvPr/>
          </p:nvSpPr>
          <p:spPr>
            <a:xfrm>
              <a:off x="5940360" y="5445000"/>
              <a:ext cx="23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99ccff"/>
                  </a:solidFill>
                  <a:latin typeface="Arial"/>
                </a:rPr>
                <a:t>Привет!        1001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>
              <a:off x="6588000" y="5734080"/>
              <a:ext cx="863640" cy="216000"/>
            </a:xfrm>
            <a:prstGeom prst="leftRightArrow">
              <a:avLst>
                <a:gd name="adj1" fmla="val 50000"/>
                <a:gd name="adj2" fmla="val 79596"/>
              </a:avLst>
            </a:prstGeom>
            <a:solidFill>
              <a:srgbClr val="fff6dd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7" descr="gaim"/>
            <p:cNvPicPr/>
            <p:nvPr/>
          </p:nvPicPr>
          <p:blipFill>
            <a:blip r:embed="rId2"/>
            <a:stretch/>
          </p:blipFill>
          <p:spPr>
            <a:xfrm>
              <a:off x="5681520" y="57340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bf5f9"/>
                </a:solidFill>
                <a:latin typeface="Calibri"/>
              </a:rPr>
              <a:t>Форматы звуковых файлов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6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MIDI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-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запись музыкальных произведений в виде команд синтезатору, компактны, голос человека не воспроизводят,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(соответствуют векторному представлению в графике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WAV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ниверсальный звуковой формат,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нем хранится полная информация об оцифрованном звуке (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соответствует формату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mp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в график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). Занимает очень большой объем памяти (15 Мбайт на 1 минуту звучания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MP3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ат сжатия аудиоинформации с регулируемой потерей информации, позволяет сжимать файлы в несколько раз в зависимости от заданного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битрейта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(в среднем в 11 раз)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аже при самом высоком битрейте – 320 кбит/сек – обеспечивает 4-кратное сжатие по сравнению с компакт-дискам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AP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ат сжатия аудиоинформации без потери информации (а следовательно – качества) , коэффициент сжатия около 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льтимеди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Мультимедиа (multimedia, от англ. multi - много и media - носитель, среда) - совокупность компьютерных технологий, одновременно использующих несколько информационных сред: текст, графику, видео, фотографию, анимацию, звуковые эффекты, высококачественное звуковое сопровожден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од словом «мультимедиа» понимают воздействие на пользователя по нескольким информационным каналам одновременно. </a:t>
            </a:r>
            <a:r>
              <a:rPr b="0" lang="ru-RU" sz="2100" spc="-1" strike="noStrike">
                <a:solidFill>
                  <a:srgbClr val="993300"/>
                </a:solidFill>
                <a:latin typeface="Constantia"/>
              </a:rPr>
              <a:t>Мультимедиа – это объединение изображения на экране компьютера (в том числе и графической анимации и видеокадров) с текстом и звуковым сопровождение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Наибольшее распространение системы мультимедиа получили в области обучения, рекламы, развлечений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Двоичное кодирование текстовой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чиная с 60-х годов, компьютеры все больше стали использовать для обработки текстовой информации и в настоящее время большая часть ПК в мире занято обработкой именно текстовой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адиционно для кодирования одного символа используется количество информации = 1 байту (1 байт = 8 битов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1 символ – 1 байт (8 бит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код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ного символ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ребу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ин бай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ывая, что каждый бит принимает значение 1 или 0, получаем, что с помощью 1 байта можно закодировать 256 различных симво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6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Двоичное кодирование текстовой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Кодирование заключается в том, что каждому символу ставиться в соответствие уникальный двоичный код от 00000000 до 11111111 (или десятичный код от 0 до 25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жно, что присвоение символу конкретного кода – это вопрос соглашения, которое фиксируется кодовой таблиц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лица кодиров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Таблица, в которой всем символам компьютерного алфавита поставлены в соответствие порядковые номера (коды), называется </a:t>
            </a:r>
            <a:r>
              <a:rPr b="0" lang="ru-RU" sz="2600" spc="-1" strike="noStrike" u="sng">
                <a:solidFill>
                  <a:srgbClr val="000099"/>
                </a:solidFill>
                <a:uFillTx/>
                <a:latin typeface="Constantia"/>
              </a:rPr>
              <a:t>таблицей кодиров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разных типов ЭВМ используются различные кодировки. С распространением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BM P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международным стандартом стала таблица кодировк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SC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ican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ndart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de fo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formation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terchang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мериканский стандартный код для информационного обм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лица кодировки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C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тандартной в этой таблице является только первая половина, т.е. символы с номерами от 0 (00000000) до 127 (0111111). Сюда входят буква латинского алфавита, цифры, знаки препинания, скобки и некоторые другие символы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Остальные 128 кодов используются в разных вариантах. В русских кодировках размещаются символы русского алфавит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настоящее время существует 5 разных кодовых таблиц для русских букв (КОИ8,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Р1251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СР866,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c, ISO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настоящее время получил широкое распространение новый международный стандарт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Unicode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который отводит на каждый символ два байта. С его помощью можно закодировать 65536 (2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onstantia"/>
              </a:rPr>
              <a:t>16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= 65536 ) различных символов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</a:rPr>
              <a:t>К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довая таблица ASC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7" name="Picture 3" descr="ascii"/>
          <p:cNvPicPr/>
          <p:nvPr/>
        </p:nvPicPr>
        <p:blipFill>
          <a:blip r:embed="rId1"/>
          <a:stretch/>
        </p:blipFill>
        <p:spPr>
          <a:xfrm>
            <a:off x="2362320" y="3249720"/>
            <a:ext cx="441936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КОИ8 («Код обмена информацией, 8-битный»)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9" name="Picture 3" descr="koi8-r"/>
          <p:cNvPicPr/>
          <p:nvPr/>
        </p:nvPicPr>
        <p:blipFill>
          <a:blip r:embed="rId1"/>
          <a:stretch/>
        </p:blipFill>
        <p:spPr>
          <a:xfrm>
            <a:off x="468360" y="1600200"/>
            <a:ext cx="813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Наиболее распространенной в настоящее время является кодировка Microsoft Windows, обозначаемая сокращением CP1251 ("CP" означает "Code Page", "кодовая страница")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1" name="Picture 3" descr="cp1251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чему двоичное кодиро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добно кодировать информацию в виде последовательности нулей и единиц, если представить эти значения как два возможных устойчивых состояния электронного элемента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0 – отсутствие электрического сигнала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1 – наличие электрического сигнал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едостаток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двоичного кодирования –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длинные коды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о в техник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легч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иметь дело с большим количеством простых элементов, чем с небольшим числом сложны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9dd9"/>
                </a:solidFill>
                <a:latin typeface="Constantia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4617b"/>
                </a:solidFill>
                <a:latin typeface="Calibri"/>
              </a:rPr>
              <a:t>От начала 90-ых годов, времени господства операционной системы MS DOS, остается кодировка CP866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3" name="Picture 3" descr="cp866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Компьютеры фирмы Apple, работающие под управлением операционной системы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Mac OS</a:t>
            </a: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, используют свою собственную кодировку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Mac</a:t>
            </a: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5" name="Picture 3" descr="mac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Международная организация по стандартизации (International Standards Organization, ISO) утвердила в качестве стандарта для русского языка еще одну кодировку под названием ISO 8859-5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7" name="Picture 3" descr="iso88595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28036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04000" y="1599840"/>
            <a:ext cx="188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Таблица расширенного кода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ASCII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Кодировка Windows-1251 (CP1251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468360" y="293760"/>
            <a:ext cx="6697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нформационный объем текс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егодня очень многие люди для подготовки писем, документов, статей, книг и пр. используют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компьютерные текстовые редакторы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. Компьютерные редакторы, в основном, работают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 алфавитом размером 256 символов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этом случае легко подсчитать объем информации в тексте. Если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1 символ алфавита несет 1 байт информации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то надо просто сосчитать количество символов; полученное число даст информационный объем текста в байтах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усть небольшая книжка, сделанная с помощью компьютера, содержит 150 страниц; на каждой странице — 40 строк, в каждой строке — 60 символов. Значит страница содержит 40x60=2400 байт информации. Объем всей информации в книге: 2400 х 150 = 360 000 байт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тите внимание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Цифры кодируются по стандарту ASCII в двух случаях – при вводе-выводе и когда они встречаются в тексте. Если цифры участвуют в вычислениях, то осуществляется их преобразование в другой двоичных код (см. урок «представление чисел в компьютере»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Возьмем число </a:t>
            </a:r>
            <a:r>
              <a:rPr b="1" lang="ru-RU" sz="2100" spc="-1" strike="noStrike">
                <a:solidFill>
                  <a:srgbClr val="660033"/>
                </a:solidFill>
                <a:latin typeface="Constantia"/>
              </a:rPr>
              <a:t>57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При использовании </a:t>
            </a: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в тексте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 каждая цифра будет представлена своим кодом в соответствии с таблицей ASCII. В двоичной системе это – </a:t>
            </a: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0011010100110111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При использовании </a:t>
            </a: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в вычислениях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, код этого числа будет получен по правилам перевода в двоичную систему и получим – </a:t>
            </a: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00111001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8" name="Picture 4" descr="messagebox_warning"/>
          <p:cNvPicPr/>
          <p:nvPr/>
        </p:nvPicPr>
        <p:blipFill>
          <a:blip r:embed="rId1"/>
          <a:stretch/>
        </p:blipFill>
        <p:spPr>
          <a:xfrm>
            <a:off x="7667640" y="476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чем заключается кодирование текстовой информации в компьютер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Закодируйте с помощью </a:t>
            </a: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ASCII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-кода свою фамилию, имя, номер класс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кое сообщение закодировано в кодировке Windows-1251: 0011010100100000111000011110000011101011111010111110111011100010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читая, что каждый символ кодируется одним байтом, оцените информационный объем следующего предложения из пушкинского четверостишия: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Певец-Давид был ростом мал, Но повалил же Голиафа!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считайте необходимый объем видеопамяти для графического режима: разрешение экрана 800х600, качество цветопередачи 16 би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хранения растрового изображения размером 64*64 пикселя отвели 1,5 Кб памяти. Каково максимально возможное число цветов в палитре изображения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ажите минимальный объем памяти (в Кб), достаточный для хранения любого растрового изображения размером 64*64 пикселя, если известно, что в изображении используется палитра из 256 цветов. Саму палитру хранить не нуж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олько секунд потребуется модему, передающему сообщения со скоростью 28800бит/с, чтобы передать цветное растровое изображение размером 800*600 пикселей, при условии, что в палитре 16 миллионов цвето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анируется цветное изображение размером 10*10 см. Разрешающая способность сканера – 1200*1200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pi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глубина цвета – 24 бита. Какой информационный объем будет иметь полученный графический файл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Аналоговая и дискретная форма представления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Человек способен воспринимать и хранить информацию в форме образов (зрительных, звуковых, осязательных, вкусовых и обонятельных). Зрительные образы могут быть сохранены в виде изображений (рисунков, фотографий и так далее), а звуковые — зафиксированы на пластинках, магнитных лентах, лазерных дисках и так дале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нформация, в том числе графическая и звуковая, может быть представлена в </a:t>
            </a:r>
            <a:r>
              <a:rPr b="0" i="1" lang="ru-RU" sz="2100" spc="-1" strike="noStrike">
                <a:solidFill>
                  <a:srgbClr val="009dd9"/>
                </a:solidFill>
                <a:latin typeface="Constantia"/>
              </a:rPr>
              <a:t>аналоговой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i="1" lang="ru-RU" sz="2100" spc="-1" strike="noStrike">
                <a:solidFill>
                  <a:srgbClr val="009dd9"/>
                </a:solidFill>
                <a:latin typeface="Constantia"/>
              </a:rPr>
              <a:t>дискретной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форм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33"/>
                </a:solidFill>
                <a:latin typeface="Constantia"/>
              </a:rPr>
              <a:t>При аналоговом представлении физическая величина принимает бесконечное множество значений, причем ее значения изменяются непрерывно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При дискретном представлении физическая величина принимает конечное множество значений, причем ее величина изменяется скачкообразно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Аналоговая и дискретная форма представления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ер аналогового и дискретного представления информации: положение тела на наклонной плоскости и на лестнице задается значениями координат X и 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движении тела по наклонной плоскости его координаты могут принимать </a:t>
            </a: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бесконечное множество непрерывно изменяющихся значени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з определенного диапазона, а при движении по лестнице — только </a:t>
            </a:r>
            <a:r>
              <a:rPr b="0" lang="ru-RU" sz="2000" spc="-1" strike="noStrike">
                <a:solidFill>
                  <a:srgbClr val="000099"/>
                </a:solidFill>
                <a:latin typeface="Constantia"/>
              </a:rPr>
              <a:t>определенный набор значени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причем меняющихся скачкообраз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5456160" y="1700280"/>
            <a:ext cx="36878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искретиз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мером </a:t>
            </a:r>
            <a:r>
              <a:rPr b="0" lang="ru-RU" sz="1900" spc="-1" strike="noStrike">
                <a:solidFill>
                  <a:srgbClr val="009dd9"/>
                </a:solidFill>
                <a:latin typeface="Constantia"/>
              </a:rPr>
              <a:t>аналогового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представления графической информации  живописное полотно, цвет которого изменяется непрерывно, а </a:t>
            </a:r>
            <a:r>
              <a:rPr b="0" lang="ru-RU" sz="1900" spc="-1" strike="noStrike">
                <a:solidFill>
                  <a:srgbClr val="009dd9"/>
                </a:solidFill>
                <a:latin typeface="Constantia"/>
              </a:rPr>
              <a:t>дискретного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изображение, напечатанное с помощью струйного принтера и состоящее из отдельных точек разного цвет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мером аналогового хранения звуковой информации является виниловая пластинка (звуковая дорожка изменяет свою форму непрерывно), а дискретного — аудиокомпакт-диск (звуковая дорожка которого содержит участки с различной отражающей способностью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еобразование графической и звуковой информации из аналоговой формы в дискретную производится путем </a:t>
            </a:r>
            <a:r>
              <a:rPr b="1" i="1" lang="ru-RU" sz="1900" spc="-1" strike="noStrike">
                <a:solidFill>
                  <a:srgbClr val="009dd9"/>
                </a:solidFill>
                <a:latin typeface="Constantia"/>
              </a:rPr>
              <a:t>дискретизации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то есть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разбиения непрерывного графического изображения и непрерывного (аналогового) звукового сигнала на отдельные элементы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В процессе дискретизации производится кодирование, то есть присвоение каждому элементу конкретного значения в форме код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4617b"/>
                </a:solidFill>
                <a:uFillTx/>
                <a:latin typeface="Constantia"/>
              </a:rPr>
              <a:t>Дискретизация</a:t>
            </a: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 – это преобразование непрерывных изображений и звука в набор дискретных значений в форме код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кодирования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95280" y="957240"/>
            <a:ext cx="85136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Arial"/>
              </a:rPr>
              <a:t>растровое кодирование</a:t>
            </a:r>
            <a:r>
              <a:rPr b="0" lang="ru-RU" sz="2800" spc="-1" strike="noStrike">
                <a:solidFill>
                  <a:srgbClr val="009d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ечный рисунок, состоит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кселей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графии, размытые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Arial"/>
              </a:rPr>
              <a:t>векторное кодирование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состоит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ьных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тежи, схемы,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155520" y="46080"/>
            <a:ext cx="14288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1"/>
          <a:stretch/>
        </p:blipFill>
        <p:spPr>
          <a:xfrm>
            <a:off x="1193760" y="1830240"/>
            <a:ext cx="2032200" cy="1354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2"/>
          <a:stretch/>
        </p:blipFill>
        <p:spPr>
          <a:xfrm>
            <a:off x="4130640" y="2114640"/>
            <a:ext cx="1000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57"/>
          <p:cNvGrpSpPr/>
          <p:nvPr/>
        </p:nvGrpSpPr>
        <p:grpSpPr>
          <a:xfrm>
            <a:off x="4479840" y="1785960"/>
            <a:ext cx="2931840" cy="1441440"/>
            <a:chOff x="4479840" y="1785960"/>
            <a:chExt cx="2931840" cy="1441440"/>
          </a:xfrm>
        </p:grpSpPr>
        <p:sp>
          <p:nvSpPr>
            <p:cNvPr id="292" name="Rectangle 16"/>
            <p:cNvSpPr/>
            <p:nvPr/>
          </p:nvSpPr>
          <p:spPr>
            <a:xfrm>
              <a:off x="4479840" y="2479680"/>
              <a:ext cx="142560" cy="142920"/>
            </a:xfrm>
            <a:prstGeom prst="rect">
              <a:avLst/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18"/>
            <p:cNvGrpSpPr/>
            <p:nvPr/>
          </p:nvGrpSpPr>
          <p:grpSpPr>
            <a:xfrm>
              <a:off x="4484520" y="1785960"/>
              <a:ext cx="2927160" cy="1441440"/>
              <a:chOff x="4484520" y="1785960"/>
              <a:chExt cx="2927160" cy="1441440"/>
            </a:xfrm>
          </p:grpSpPr>
          <p:graphicFrame>
            <p:nvGraphicFramePr>
              <p:cNvPr id="294" name="Object 15"/>
              <p:cNvGraphicFramePr/>
              <p:nvPr/>
            </p:nvGraphicFramePr>
            <p:xfrm>
              <a:off x="5992560" y="1795680"/>
              <a:ext cx="1419120" cy="1413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5" name="Object 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992560" y="1795680"/>
                        <a:ext cx="1419120" cy="1413000"/>
                      </a:xfrm>
                      <a:prstGeom prst="rect">
                        <a:avLst/>
                      </a:prstGeom>
                      <a:ln w="1584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96" name="Freeform 17"/>
              <p:cNvSpPr/>
              <p:nvPr/>
            </p:nvSpPr>
            <p:spPr>
              <a:xfrm>
                <a:off x="4484520" y="1785960"/>
                <a:ext cx="1512720" cy="1441440"/>
              </a:xfrm>
              <a:prstGeom prst="pie">
                <a:avLst/>
              </a:prstGeom>
              <a:solidFill>
                <a:srgbClr val="cc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7" name="Picture 19" descr="J0195384"/>
          <p:cNvPicPr/>
          <p:nvPr/>
        </p:nvPicPr>
        <p:blipFill>
          <a:blip r:embed="rId5"/>
          <a:stretch/>
        </p:blipFill>
        <p:spPr>
          <a:xfrm>
            <a:off x="1428840" y="4568760"/>
            <a:ext cx="1233360" cy="12524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20"/>
          <p:cNvGrpSpPr/>
          <p:nvPr/>
        </p:nvGrpSpPr>
        <p:grpSpPr>
          <a:xfrm>
            <a:off x="4202280" y="4564080"/>
            <a:ext cx="4441680" cy="1606680"/>
            <a:chOff x="4202280" y="4564080"/>
            <a:chExt cx="4441680" cy="1606680"/>
          </a:xfrm>
        </p:grpSpPr>
        <p:sp>
          <p:nvSpPr>
            <p:cNvPr id="299" name="AutoShape 21"/>
            <p:cNvSpPr/>
            <p:nvPr/>
          </p:nvSpPr>
          <p:spPr>
            <a:xfrm>
              <a:off x="4202280" y="4564080"/>
              <a:ext cx="4441680" cy="16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950440" y="4631760"/>
              <a:ext cx="954360" cy="551880"/>
            </a:xfrm>
            <a:prstGeom prst="pie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7623000" y="4749120"/>
              <a:ext cx="401040" cy="518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7711560" y="4629960"/>
              <a:ext cx="583560" cy="4708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4497840" y="5643720"/>
              <a:ext cx="801000" cy="2725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6524280" y="5285880"/>
              <a:ext cx="816120" cy="802800"/>
            </a:xfrm>
            <a:prstGeom prst="pie">
              <a:avLst/>
            </a:pr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4270680" y="4898160"/>
              <a:ext cx="642240" cy="7833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8"/>
            <p:cNvSpPr/>
            <p:nvPr/>
          </p:nvSpPr>
          <p:spPr>
            <a:xfrm>
              <a:off x="6110640" y="5169600"/>
              <a:ext cx="565560" cy="223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9"/>
            <p:cNvSpPr/>
            <p:nvPr/>
          </p:nvSpPr>
          <p:spPr>
            <a:xfrm>
              <a:off x="6588000" y="5092920"/>
              <a:ext cx="109440" cy="1472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0"/>
            <p:cNvSpPr/>
            <p:nvPr/>
          </p:nvSpPr>
          <p:spPr>
            <a:xfrm>
              <a:off x="6309720" y="5160960"/>
              <a:ext cx="171000" cy="1893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7896960" y="5320440"/>
              <a:ext cx="467280" cy="4482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7979400" y="5603760"/>
              <a:ext cx="199800" cy="433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3"/>
            <p:cNvSpPr/>
            <p:nvPr/>
          </p:nvSpPr>
          <p:spPr>
            <a:xfrm>
              <a:off x="6091560" y="5154840"/>
              <a:ext cx="1173960" cy="59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4"/>
            <p:cNvSpPr/>
            <p:nvPr/>
          </p:nvSpPr>
          <p:spPr>
            <a:xfrm>
              <a:off x="7052400" y="4709520"/>
              <a:ext cx="303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5"/>
            <p:cNvSpPr/>
            <p:nvPr/>
          </p:nvSpPr>
          <p:spPr>
            <a:xfrm>
              <a:off x="4584960" y="4752000"/>
              <a:ext cx="590400" cy="59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6"/>
            <p:cNvSpPr/>
            <p:nvPr/>
          </p:nvSpPr>
          <p:spPr>
            <a:xfrm>
              <a:off x="7053480" y="4906080"/>
              <a:ext cx="401040" cy="4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7"/>
            <p:cNvSpPr/>
            <p:nvPr/>
          </p:nvSpPr>
          <p:spPr>
            <a:xfrm>
              <a:off x="7495200" y="4994280"/>
              <a:ext cx="1548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8"/>
            <p:cNvSpPr/>
            <p:nvPr/>
          </p:nvSpPr>
          <p:spPr>
            <a:xfrm>
              <a:off x="5137920" y="4624200"/>
              <a:ext cx="38088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9"/>
            <p:cNvSpPr/>
            <p:nvPr/>
          </p:nvSpPr>
          <p:spPr>
            <a:xfrm>
              <a:off x="7402680" y="4633920"/>
              <a:ext cx="13752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0"/>
            <p:cNvSpPr/>
            <p:nvPr/>
          </p:nvSpPr>
          <p:spPr>
            <a:xfrm>
              <a:off x="5550120" y="4628880"/>
              <a:ext cx="342720" cy="38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1"/>
            <p:cNvSpPr/>
            <p:nvPr/>
          </p:nvSpPr>
          <p:spPr>
            <a:xfrm>
              <a:off x="4433760" y="5145840"/>
              <a:ext cx="44856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2"/>
            <p:cNvSpPr/>
            <p:nvPr/>
          </p:nvSpPr>
          <p:spPr>
            <a:xfrm>
              <a:off x="4286520" y="5215680"/>
              <a:ext cx="58824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3"/>
            <p:cNvSpPr/>
            <p:nvPr/>
          </p:nvSpPr>
          <p:spPr>
            <a:xfrm>
              <a:off x="4710600" y="5347440"/>
              <a:ext cx="2952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4"/>
            <p:cNvSpPr/>
            <p:nvPr/>
          </p:nvSpPr>
          <p:spPr>
            <a:xfrm>
              <a:off x="6347520" y="5221080"/>
              <a:ext cx="331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5"/>
            <p:cNvSpPr/>
            <p:nvPr/>
          </p:nvSpPr>
          <p:spPr>
            <a:xfrm>
              <a:off x="4656960" y="5355000"/>
              <a:ext cx="3888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6"/>
            <p:cNvSpPr/>
            <p:nvPr/>
          </p:nvSpPr>
          <p:spPr>
            <a:xfrm>
              <a:off x="4391640" y="5368680"/>
              <a:ext cx="30096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7"/>
            <p:cNvSpPr/>
            <p:nvPr/>
          </p:nvSpPr>
          <p:spPr>
            <a:xfrm>
              <a:off x="5547240" y="5586480"/>
              <a:ext cx="1033200" cy="49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8"/>
            <p:cNvSpPr/>
            <p:nvPr/>
          </p:nvSpPr>
          <p:spPr>
            <a:xfrm>
              <a:off x="7348320" y="5489640"/>
              <a:ext cx="42840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9"/>
            <p:cNvSpPr/>
            <p:nvPr/>
          </p:nvSpPr>
          <p:spPr>
            <a:xfrm>
              <a:off x="7698960" y="5486040"/>
              <a:ext cx="254160" cy="31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0"/>
            <p:cNvSpPr/>
            <p:nvPr/>
          </p:nvSpPr>
          <p:spPr>
            <a:xfrm>
              <a:off x="5303160" y="5525280"/>
              <a:ext cx="7560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1"/>
            <p:cNvSpPr/>
            <p:nvPr/>
          </p:nvSpPr>
          <p:spPr>
            <a:xfrm>
              <a:off x="5085360" y="5268600"/>
              <a:ext cx="52200" cy="2336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2"/>
            <p:cNvSpPr/>
            <p:nvPr/>
          </p:nvSpPr>
          <p:spPr>
            <a:xfrm>
              <a:off x="5272560" y="5234040"/>
              <a:ext cx="52920" cy="322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3"/>
            <p:cNvSpPr/>
            <p:nvPr/>
          </p:nvSpPr>
          <p:spPr>
            <a:xfrm>
              <a:off x="5495040" y="5287320"/>
              <a:ext cx="52920" cy="265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56"/>
          <p:cNvSpPr/>
          <p:nvPr/>
        </p:nvSpPr>
        <p:spPr>
          <a:xfrm>
            <a:off x="3108240" y="5068800"/>
            <a:ext cx="647640" cy="468360"/>
          </a:xfrm>
          <a:prstGeom prst="pie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01680" y="3317760"/>
            <a:ext cx="413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1. Дискретизац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бивка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икс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1927080" y="1006560"/>
          <a:ext cx="196056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7080" y="1006560"/>
                    <a:ext cx="19605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5"/>
          <p:cNvGraphicFramePr/>
          <p:nvPr/>
        </p:nvGraphicFramePr>
        <p:xfrm>
          <a:off x="5799240" y="1022400"/>
          <a:ext cx="1960560" cy="21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9240" y="1022400"/>
                    <a:ext cx="19605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Rectangle 7"/>
          <p:cNvSpPr/>
          <p:nvPr/>
        </p:nvSpPr>
        <p:spPr>
          <a:xfrm>
            <a:off x="4791240" y="3317760"/>
            <a:ext cx="42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пикселя определяется </a:t>
            </a:r>
            <a:br>
              <a:rPr sz="2400"/>
            </a:b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единый ц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28680" y="4206960"/>
            <a:ext cx="3740040" cy="125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кс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именьший элемент рисунка, для которого можно независимо установить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468360" y="5516640"/>
            <a:ext cx="83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Раз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число пикселей на дюй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er inch (d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ран 9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ать 300-6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ография 12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371-PC</cp:lastModifiedBy>
  <dcterms:modified xsi:type="dcterms:W3CDTF">2024-01-04T19:02:52Z</dcterms:modified>
  <cp:revision>57</cp:revision>
  <dc:subject/>
  <dc:title>Слайд 1</dc:title>
</cp:coreProperties>
</file>