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7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BEF9-E0DB-4E48-B61A-10F2F905D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27E9-6B1B-4F8A-9D71-32BFF3EE63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EEEE-72A0-419F-B3E6-ABB196F8B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29B7-C733-4B24-BDAA-06146D7514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A23E-C769-404F-9CEE-9E49306DEC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C433-D695-4351-B19B-F69CFB311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A3EE-5003-4861-909A-DDE4FC9741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3A03-3DBD-40FA-B865-4D1BBAE968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37EC-0514-4E3B-BC25-1B3162CC0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3A4D-AD37-48B3-8868-7E81156D3B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C78A-F6EB-430B-AFA8-06996F165E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EF39-4E38-4D05-9903-DC650AD05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D83E-4DF3-44CC-9FC6-BB8BC410CA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C782-D67F-4791-9E55-B98E32CC92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AB76-108A-47A2-92DD-B252A064E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CC4-B3D7-4565-8DDC-0BA296EF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CDD6-2798-4EBB-9427-2336CFFD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3AF4-E709-4C3C-9AC6-F0000FAB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221-A0E6-41CE-8CAB-C78C7553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8A2D-D0A2-40B2-8D7E-C7E4E1CA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9C02-FC77-4E96-9384-BF94036C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A220-9C59-4086-859F-1AA5C8B7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5BE7-AB5C-4F5F-99B5-6BB0746F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9012-79BD-431C-86D7-D80C1FA7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C46D-2890-4D77-A523-FF811934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B5BD-5D1C-493F-AB5B-318E712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707A-C49E-423B-9959-52F0F339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C415-0224-4C84-905E-1CA132F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8739-89CE-4B3C-A9AB-463D08A2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93DD-A996-40A1-8280-E7A9652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6EC5-5466-4706-B277-7FF15A1BD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516A-EAF1-49FB-B9DF-6902509F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AF39-41CF-4981-B8D6-DF519C25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51B6-2936-47D9-8556-5E7CDDDC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76E08-F073-4647-B1C3-145880C6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A068-D1C2-46B4-A960-23AB69EE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3A60B-D266-46A0-9753-695761B8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1DB-545D-41BE-A96E-1017F91A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87FF2-6913-409B-9046-814AED4F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0566C-F81C-45D4-A32B-C89822E6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27044-0C2D-4F93-A26A-B09CB039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C1E7-F7BD-45FD-8A5D-10449AA7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A00D4-284E-40D8-B26D-498D3EF1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A673F-9227-4E08-B464-2E89E4CF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4B44-D75C-47E4-BF47-D830BD8C7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EBD3E-B1E8-4A78-AF1B-7EBD3EA0E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842AE-6820-4B9B-A3D1-71F904CF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A229C-47E9-4CB0-BD24-5C6DEC5C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402-E9E6-46ED-B756-D4246F29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755D-A75F-4F6C-8168-58DBB722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F6C7-818F-4F78-903C-5DA5F90C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963CA-4343-4E26-888A-DA0081F4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CDF30-87B0-490A-A15D-FC623DBA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D5CF-836D-4F2E-9E5D-2B441971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46C5-5670-47D9-A416-61A3C9C9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4EB2-97A4-41CE-8913-B3D8DB13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71D55-252C-42F2-8040-D64979A8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1F5E1-2674-4C72-BD7C-3C921C9D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314A-89B2-46CF-96B3-488EF4C5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E161-64DF-472D-B6C9-778AB2BC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86402-232E-45DD-8D6F-253E0678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3909-35AC-4BB3-8A34-A94044CA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C360-39BD-4633-B81E-9F6909FA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C63F4-2E5B-43FC-9092-DACA69E3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01B70-003E-41F1-9350-A6FE2359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98C5-7616-4AD6-B2E3-80B5BFC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16F9-DDED-46E7-AFEF-76ED286A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4EA74-6543-4E99-B018-93C60F80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3ED88-B3C2-4F29-AF67-AA190B6C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BCA34-D7E2-4DAC-B15E-E9695C11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5557-AD2D-42B2-BD2E-14EFE145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637DB-9065-4BED-BC1A-05F20BB1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C32E-817E-487A-A48F-CA12842B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B0B-63CB-4672-BE5E-7F13906F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974-F489-426D-8F4B-BCD1702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5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5D2E-5D59-45D7-962C-4A8C60B6C318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7CA3-E391-48CF-8466-7B4D016A5806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9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WordArt 10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1D7C-39BD-4DCB-B3B1-0265E5980EE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0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11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14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1FE5-8953-4618-BF3F-FC2C9CC2E928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8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11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WordArt 10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B33E-B07D-4BC4-9FBB-E7F6F310ADB3}" type="slidenum">
              <a:rPr b="0" lang="ru-RU" sz="1400" spc="-1" strike="noStrike">
                <a:solidFill>
                  <a:srgbClr val="0f6fc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4617b"/>
                </a:solidFill>
                <a:latin typeface="Calibri"/>
              </a:rPr>
              <a:t>Двоичное кодирование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4617b"/>
                </a:solidFill>
                <a:latin typeface="Calibri"/>
              </a:rPr>
              <a:t>10 класс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одготовил: учитель информатики МКОУ «Карланюртовская СОШ имени А.Д. Шихалиева»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Беалиев Р.В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(True Col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376200" y="947880"/>
            <a:ext cx="62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3. От цвета – к числам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5"/>
          <p:cNvGraphicFramePr/>
          <p:nvPr/>
        </p:nvGraphicFramePr>
        <p:xfrm>
          <a:off x="6829560" y="1217520"/>
          <a:ext cx="189360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9560" y="1217520"/>
                    <a:ext cx="189360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7"/>
          <p:cNvSpPr/>
          <p:nvPr/>
        </p:nvSpPr>
        <p:spPr>
          <a:xfrm>
            <a:off x="1397160" y="1380960"/>
            <a:ext cx="487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цвет =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 +  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   +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8"/>
          <p:cNvSpPr/>
          <p:nvPr/>
        </p:nvSpPr>
        <p:spPr>
          <a:xfrm>
            <a:off x="2370240" y="1790640"/>
            <a:ext cx="10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9"/>
          <p:cNvSpPr/>
          <p:nvPr/>
        </p:nvSpPr>
        <p:spPr>
          <a:xfrm>
            <a:off x="4707360" y="1817640"/>
            <a:ext cx="8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3457440" y="1808280"/>
            <a:ext cx="109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е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.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2275920" y="2678040"/>
            <a:ext cx="10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218</a:t>
            </a:r>
            <a:br>
              <a:rPr sz="1800"/>
            </a:br>
            <a:r>
              <a:rPr b="1" lang="en-US" sz="1800" spc="-1" strike="noStrike">
                <a:solidFill>
                  <a:srgbClr val="00dd15"/>
                </a:solidFill>
                <a:latin typeface="Arial"/>
              </a:rPr>
              <a:t>G = 164</a:t>
            </a:r>
            <a:br>
              <a:rPr sz="1800"/>
            </a:b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 = 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4749120" y="2714760"/>
            <a:ext cx="10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135</a:t>
            </a:r>
            <a:br>
              <a:rPr sz="1800"/>
            </a:br>
            <a:r>
              <a:rPr b="1" lang="en-US" sz="1800" spc="-1" strike="noStrike">
                <a:solidFill>
                  <a:srgbClr val="00dd15"/>
                </a:solidFill>
                <a:latin typeface="Arial"/>
              </a:rPr>
              <a:t>G = 206</a:t>
            </a:r>
            <a:br>
              <a:rPr sz="1800"/>
            </a:b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 = 2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906480" y="2770200"/>
            <a:ext cx="1171440" cy="727200"/>
          </a:xfrm>
          <a:prstGeom prst="rect">
            <a:avLst/>
          </a:prstGeom>
          <a:solidFill>
            <a:srgbClr val="daa4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7"/>
          <p:cNvSpPr/>
          <p:nvPr/>
        </p:nvSpPr>
        <p:spPr>
          <a:xfrm>
            <a:off x="3537000" y="2770200"/>
            <a:ext cx="1171440" cy="727200"/>
          </a:xfrm>
          <a:prstGeom prst="rect">
            <a:avLst/>
          </a:prstGeom>
          <a:solidFill>
            <a:srgbClr val="87ce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"/>
          <p:cNvSpPr/>
          <p:nvPr/>
        </p:nvSpPr>
        <p:spPr>
          <a:xfrm>
            <a:off x="469800" y="3616200"/>
            <a:ext cx="62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. Числа – в двоичную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628560" y="5167440"/>
            <a:ext cx="7959960" cy="663480"/>
            <a:chOff x="628560" y="5167440"/>
            <a:chExt cx="7959960" cy="663480"/>
          </a:xfrm>
        </p:grpSpPr>
        <p:sp>
          <p:nvSpPr>
            <p:cNvPr id="358" name="Text Box 20"/>
            <p:cNvSpPr/>
            <p:nvPr/>
          </p:nvSpPr>
          <p:spPr>
            <a:xfrm>
              <a:off x="1095480" y="5274000"/>
              <a:ext cx="7493040" cy="3988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колько памяти нужно для хранения цвета 1 пикселя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"/>
            <p:cNvSpPr/>
            <p:nvPr/>
          </p:nvSpPr>
          <p:spPr>
            <a:xfrm>
              <a:off x="628560" y="51674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24"/>
          <p:cNvGrpSpPr/>
          <p:nvPr/>
        </p:nvGrpSpPr>
        <p:grpSpPr>
          <a:xfrm>
            <a:off x="628560" y="4103640"/>
            <a:ext cx="6429600" cy="663480"/>
            <a:chOff x="628560" y="4103640"/>
            <a:chExt cx="6429600" cy="663480"/>
          </a:xfrm>
        </p:grpSpPr>
        <p:sp>
          <p:nvSpPr>
            <p:cNvPr id="361" name="Text Box 22"/>
            <p:cNvSpPr/>
            <p:nvPr/>
          </p:nvSpPr>
          <p:spPr>
            <a:xfrm>
              <a:off x="1095480" y="4209840"/>
              <a:ext cx="5962680" cy="3988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колько разных цветов можно кодировать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3"/>
            <p:cNvSpPr/>
            <p:nvPr/>
          </p:nvSpPr>
          <p:spPr>
            <a:xfrm>
              <a:off x="628560" y="410364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27"/>
          <p:cNvSpPr/>
          <p:nvPr/>
        </p:nvSpPr>
        <p:spPr>
          <a:xfrm>
            <a:off x="1306080" y="4721400"/>
            <a:ext cx="56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5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56 =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  <a:ea typeface="Arial"/>
              </a:rPr>
              <a:t> 16 777 216  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True</a:t>
            </a:r>
            <a:r>
              <a:rPr b="1" i="1" lang="ru-RU" sz="2400" spc="-1" strike="noStrike">
                <a:solidFill>
                  <a:srgbClr val="009dd9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Colo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1406520" y="5784840"/>
            <a:ext cx="650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256=2</a:t>
            </a:r>
            <a:r>
              <a:rPr b="1" lang="ru-RU" sz="2400" spc="-1" strike="noStrike" baseline="30000">
                <a:solidFill>
                  <a:srgbClr val="009dd9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вариантов, нужно 8 бит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= 1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байт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1" lang="en-US" sz="24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: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 всего 3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75"/>
          <p:cNvSpPr/>
          <p:nvPr/>
        </p:nvSpPr>
        <p:spPr>
          <a:xfrm>
            <a:off x="7315200" y="4098960"/>
            <a:ext cx="1603440" cy="777960"/>
          </a:xfrm>
          <a:prstGeom prst="wedgeRoundRectCallout">
            <a:avLst>
              <a:gd name="adj1" fmla="val -61384"/>
              <a:gd name="adj2" fmla="val 10644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4617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убина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Цветовая модель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G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4436640"/>
            <a:ext cx="822960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Цветные изображения могут иметь различную глубину цвета, которая задается количеством битов, используемых для кодирования цвета точк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4617b"/>
                </a:solidFill>
                <a:latin typeface="Constantia"/>
              </a:rPr>
              <a:t>Если кодировать цвет одной точки изображения тремя битами (по одному биту на каждый цвет RGB), то мы получим все восемь различных цветов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8" name="Picture 23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2072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True Col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360" y="11970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На практике же, для сохранения информации о цвете каждой точки цветного изображения в модели RGB обычно отводится 3 байта (т.е. 24 бита) - по 1 байту (т.е. по 8 бит) под значение цвета каждой составляюще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аким образом, каждая RGB-составляющая может принимать значение в диапазоне от 0 до 255 (всего 2</a:t>
            </a:r>
            <a:r>
              <a:rPr b="0" lang="ru-RU" sz="25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=256 значений), а каждая точка изображения, при такой системе кодирования может быть окрашена в один из 16 777 216 цветов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Такой набор цветов принято называть True Color (правдивые цвета), потому что человеческий глаз все равно не в состоянии различить большего разнообразия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ычислим объем видеопамят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46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ля того чтобы на экране монитора формировалось изображение, информация о каждой точке (код цвета точки) должна храниться в видеопамяти компьютер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Рассчитаем необходимый объем видеопамяти для одного из графических режимов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современных компьютерах разрешение экрана обычно составляет 1280х1024 точек. Т.е. всего 1280 * 1024 = 1310720 точек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 глубине цвета 32 бита на точку необходимый объем видеопамяти: 32 *1310720 = 41943040 бит = 5242880 байт = 5120 Кб = 5 Мб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Picture 7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78936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(True Colo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79280" y="888840"/>
            <a:ext cx="504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CMYK-мод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бтрактивная (вычитательная)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при подготовк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ображ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печати на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фессиональном принтере 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ужит основой для технологи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четырехкрасочной печа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4932360" y="782640"/>
            <a:ext cx="3781440" cy="26082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79280" y="3573360"/>
            <a:ext cx="8893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ветовыми компонентами данной модели служат цвета,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е вычитанием первичных из белог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олубой (Су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красный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зеленый - си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урпурный (М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ta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зеленый = красный + синий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желтый (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 = белый - синий = красный + зеле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50920" y="5478480"/>
            <a:ext cx="864072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цветовой модели СМУ: на практике ни одна краска не является абсолютно чистой и обязательно содержит примеси, наложение друг на друга дополнительных цветов на практике не дает чистого черного цвета. Поэтому в эту цветовую модель и был включен компонент чистого черного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482760" y="990720"/>
            <a:ext cx="396720" cy="396720"/>
            <a:chOff x="482760" y="990720"/>
            <a:chExt cx="396720" cy="396720"/>
          </a:xfrm>
        </p:grpSpPr>
        <p:sp>
          <p:nvSpPr>
            <p:cNvPr id="383" name="Oval 5"/>
            <p:cNvSpPr/>
            <p:nvPr/>
          </p:nvSpPr>
          <p:spPr>
            <a:xfrm>
              <a:off x="482760" y="99072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6"/>
            <p:cNvGrpSpPr/>
            <p:nvPr/>
          </p:nvGrpSpPr>
          <p:grpSpPr>
            <a:xfrm>
              <a:off x="536400" y="1038240"/>
              <a:ext cx="298440" cy="298440"/>
              <a:chOff x="536400" y="1038240"/>
              <a:chExt cx="298440" cy="298440"/>
            </a:xfrm>
          </p:grpSpPr>
          <p:sp>
            <p:nvSpPr>
              <p:cNvPr id="385" name="Rectangle 7"/>
              <p:cNvSpPr/>
              <p:nvPr/>
            </p:nvSpPr>
            <p:spPr>
              <a:xfrm>
                <a:off x="536400" y="113904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8"/>
              <p:cNvSpPr/>
              <p:nvPr/>
            </p:nvSpPr>
            <p:spPr>
              <a:xfrm rot="16200000">
                <a:off x="537480" y="113868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Freeform 9"/>
            <p:cNvSpPr/>
            <p:nvPr/>
          </p:nvSpPr>
          <p:spPr>
            <a:xfrm>
              <a:off x="536040" y="1037880"/>
              <a:ext cx="29880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0"/>
          <p:cNvGrpSpPr/>
          <p:nvPr/>
        </p:nvGrpSpPr>
        <p:grpSpPr>
          <a:xfrm>
            <a:off x="546120" y="3228840"/>
            <a:ext cx="395280" cy="395280"/>
            <a:chOff x="546120" y="3228840"/>
            <a:chExt cx="395280" cy="395280"/>
          </a:xfrm>
        </p:grpSpPr>
        <p:sp>
          <p:nvSpPr>
            <p:cNvPr id="389" name="Oval 11"/>
            <p:cNvSpPr/>
            <p:nvPr/>
          </p:nvSpPr>
          <p:spPr>
            <a:xfrm>
              <a:off x="546120" y="32288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2"/>
            <p:cNvSpPr/>
            <p:nvPr/>
          </p:nvSpPr>
          <p:spPr>
            <a:xfrm>
              <a:off x="596880" y="33796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13"/>
          <p:cNvSpPr/>
          <p:nvPr/>
        </p:nvSpPr>
        <p:spPr>
          <a:xfrm>
            <a:off x="985680" y="954000"/>
            <a:ext cx="73454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способ для хран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граф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изображений без четких гран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цэфф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тени, ореолы,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4"/>
          <p:cNvSpPr/>
          <p:nvPr/>
        </p:nvSpPr>
        <p:spPr>
          <a:xfrm>
            <a:off x="1014480" y="319392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информ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изменении размеров рисунка он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аж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 фай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зависит от сложности рису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Кодирование векторных изображений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0872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Векторное 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зображение представляет собой совокупность графических примитивов (точка, отрезок, эллипс…). Каждый примитив описывается математическими формулами. Кодирование зависти от прикладной среды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Достоинством векторной графики является то, что файлы, хранящие векторные графические изображения, имеют сравнительно небольшой объе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ажно также, что векторные графические изображения могут быть увеличены или уменьшены без потери качества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95" name="Picture 6" descr=""/>
          <p:cNvPicPr/>
          <p:nvPr/>
        </p:nvPicPr>
        <p:blipFill>
          <a:blip r:embed="rId1"/>
          <a:stretch/>
        </p:blipFill>
        <p:spPr>
          <a:xfrm>
            <a:off x="2484360" y="3716280"/>
            <a:ext cx="4176720" cy="26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кторн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405360" y="973080"/>
            <a:ext cx="5797080" cy="54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Строятся из геометрических фигу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езки, ломаные, прямоуголь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ности, эллипсы, ду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глаженные линии (кривые Безь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Для каждой фигуры в памяти храня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ы и координаты на рисун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и стиль гра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т и стиль заливки (для замкнутых фигу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Форматы файл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M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Windows Meta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388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CorelDra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5" descr="J0195384"/>
          <p:cNvPicPr/>
          <p:nvPr/>
        </p:nvPicPr>
        <p:blipFill>
          <a:blip r:embed="rId1"/>
          <a:stretch/>
        </p:blipFill>
        <p:spPr>
          <a:xfrm>
            <a:off x="1101600" y="3851280"/>
            <a:ext cx="1233720" cy="1252440"/>
          </a:xfrm>
          <a:prstGeom prst="rect">
            <a:avLst/>
          </a:prstGeom>
          <a:ln w="0">
            <a:noFill/>
          </a:ln>
        </p:spPr>
      </p:pic>
      <p:grpSp>
        <p:nvGrpSpPr>
          <p:cNvPr id="400" name="Group 6"/>
          <p:cNvGrpSpPr/>
          <p:nvPr/>
        </p:nvGrpSpPr>
        <p:grpSpPr>
          <a:xfrm>
            <a:off x="3875040" y="3846600"/>
            <a:ext cx="4442040" cy="1606320"/>
            <a:chOff x="3875040" y="3846600"/>
            <a:chExt cx="4442040" cy="1606320"/>
          </a:xfrm>
        </p:grpSpPr>
        <p:sp>
          <p:nvSpPr>
            <p:cNvPr id="401" name="AutoShape 7"/>
            <p:cNvSpPr/>
            <p:nvPr/>
          </p:nvSpPr>
          <p:spPr>
            <a:xfrm>
              <a:off x="3875040" y="3846600"/>
              <a:ext cx="4442040" cy="16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"/>
            <p:cNvSpPr/>
            <p:nvPr/>
          </p:nvSpPr>
          <p:spPr>
            <a:xfrm>
              <a:off x="5623200" y="3914280"/>
              <a:ext cx="954720" cy="551880"/>
            </a:xfrm>
            <a:prstGeom prst="pie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"/>
            <p:cNvSpPr/>
            <p:nvPr/>
          </p:nvSpPr>
          <p:spPr>
            <a:xfrm>
              <a:off x="7296120" y="4031640"/>
              <a:ext cx="401040" cy="5176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"/>
            <p:cNvSpPr/>
            <p:nvPr/>
          </p:nvSpPr>
          <p:spPr>
            <a:xfrm>
              <a:off x="7384680" y="3912120"/>
              <a:ext cx="583560" cy="4708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1"/>
            <p:cNvSpPr/>
            <p:nvPr/>
          </p:nvSpPr>
          <p:spPr>
            <a:xfrm>
              <a:off x="4170600" y="4925880"/>
              <a:ext cx="801000" cy="2725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"/>
            <p:cNvSpPr/>
            <p:nvPr/>
          </p:nvSpPr>
          <p:spPr>
            <a:xfrm>
              <a:off x="6197040" y="4568040"/>
              <a:ext cx="816120" cy="802800"/>
            </a:xfrm>
            <a:prstGeom prst="pie">
              <a:avLst/>
            </a:pr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3"/>
            <p:cNvSpPr/>
            <p:nvPr/>
          </p:nvSpPr>
          <p:spPr>
            <a:xfrm>
              <a:off x="3943440" y="4180680"/>
              <a:ext cx="642240" cy="78300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4"/>
            <p:cNvSpPr/>
            <p:nvPr/>
          </p:nvSpPr>
          <p:spPr>
            <a:xfrm>
              <a:off x="5783400" y="4452120"/>
              <a:ext cx="565560" cy="223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5"/>
            <p:cNvSpPr/>
            <p:nvPr/>
          </p:nvSpPr>
          <p:spPr>
            <a:xfrm>
              <a:off x="6261120" y="4375440"/>
              <a:ext cx="109440" cy="1472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6"/>
            <p:cNvSpPr/>
            <p:nvPr/>
          </p:nvSpPr>
          <p:spPr>
            <a:xfrm>
              <a:off x="5982480" y="4443480"/>
              <a:ext cx="171000" cy="1893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7"/>
            <p:cNvSpPr/>
            <p:nvPr/>
          </p:nvSpPr>
          <p:spPr>
            <a:xfrm>
              <a:off x="7570080" y="4602960"/>
              <a:ext cx="467640" cy="4482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8"/>
            <p:cNvSpPr/>
            <p:nvPr/>
          </p:nvSpPr>
          <p:spPr>
            <a:xfrm>
              <a:off x="7652160" y="4886280"/>
              <a:ext cx="199800" cy="433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9"/>
            <p:cNvSpPr/>
            <p:nvPr/>
          </p:nvSpPr>
          <p:spPr>
            <a:xfrm>
              <a:off x="5764680" y="4437360"/>
              <a:ext cx="1173960" cy="589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20"/>
            <p:cNvSpPr/>
            <p:nvPr/>
          </p:nvSpPr>
          <p:spPr>
            <a:xfrm>
              <a:off x="6725520" y="3992040"/>
              <a:ext cx="303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21"/>
            <p:cNvSpPr/>
            <p:nvPr/>
          </p:nvSpPr>
          <p:spPr>
            <a:xfrm>
              <a:off x="4257720" y="4034520"/>
              <a:ext cx="590400" cy="59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6726600" y="4188600"/>
              <a:ext cx="401040" cy="4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23"/>
            <p:cNvSpPr/>
            <p:nvPr/>
          </p:nvSpPr>
          <p:spPr>
            <a:xfrm>
              <a:off x="7167960" y="4276800"/>
              <a:ext cx="1548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24"/>
            <p:cNvSpPr/>
            <p:nvPr/>
          </p:nvSpPr>
          <p:spPr>
            <a:xfrm>
              <a:off x="4810680" y="3906720"/>
              <a:ext cx="380880" cy="41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25"/>
            <p:cNvSpPr/>
            <p:nvPr/>
          </p:nvSpPr>
          <p:spPr>
            <a:xfrm>
              <a:off x="7075800" y="3916440"/>
              <a:ext cx="137520" cy="255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6"/>
            <p:cNvSpPr/>
            <p:nvPr/>
          </p:nvSpPr>
          <p:spPr>
            <a:xfrm>
              <a:off x="5222880" y="3911400"/>
              <a:ext cx="342720" cy="38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27"/>
            <p:cNvSpPr/>
            <p:nvPr/>
          </p:nvSpPr>
          <p:spPr>
            <a:xfrm>
              <a:off x="4106520" y="4428360"/>
              <a:ext cx="44856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28"/>
            <p:cNvSpPr/>
            <p:nvPr/>
          </p:nvSpPr>
          <p:spPr>
            <a:xfrm>
              <a:off x="3959280" y="4497840"/>
              <a:ext cx="58824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9"/>
            <p:cNvSpPr/>
            <p:nvPr/>
          </p:nvSpPr>
          <p:spPr>
            <a:xfrm>
              <a:off x="4383360" y="4629600"/>
              <a:ext cx="2952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30"/>
            <p:cNvSpPr/>
            <p:nvPr/>
          </p:nvSpPr>
          <p:spPr>
            <a:xfrm>
              <a:off x="6020280" y="4503240"/>
              <a:ext cx="331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31"/>
            <p:cNvSpPr/>
            <p:nvPr/>
          </p:nvSpPr>
          <p:spPr>
            <a:xfrm>
              <a:off x="4329720" y="4637520"/>
              <a:ext cx="3888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32"/>
            <p:cNvSpPr/>
            <p:nvPr/>
          </p:nvSpPr>
          <p:spPr>
            <a:xfrm>
              <a:off x="4064400" y="4651200"/>
              <a:ext cx="30096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3"/>
            <p:cNvSpPr/>
            <p:nvPr/>
          </p:nvSpPr>
          <p:spPr>
            <a:xfrm>
              <a:off x="5220000" y="4868640"/>
              <a:ext cx="1033200" cy="49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34"/>
            <p:cNvSpPr/>
            <p:nvPr/>
          </p:nvSpPr>
          <p:spPr>
            <a:xfrm>
              <a:off x="7021080" y="4771800"/>
              <a:ext cx="42840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35"/>
            <p:cNvSpPr/>
            <p:nvPr/>
          </p:nvSpPr>
          <p:spPr>
            <a:xfrm>
              <a:off x="7371720" y="4768200"/>
              <a:ext cx="254160" cy="31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6"/>
            <p:cNvSpPr/>
            <p:nvPr/>
          </p:nvSpPr>
          <p:spPr>
            <a:xfrm>
              <a:off x="4975920" y="4807440"/>
              <a:ext cx="75600" cy="39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7"/>
            <p:cNvSpPr/>
            <p:nvPr/>
          </p:nvSpPr>
          <p:spPr>
            <a:xfrm>
              <a:off x="4758120" y="4551120"/>
              <a:ext cx="52200" cy="2336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8"/>
            <p:cNvSpPr/>
            <p:nvPr/>
          </p:nvSpPr>
          <p:spPr>
            <a:xfrm>
              <a:off x="4945320" y="4516560"/>
              <a:ext cx="52920" cy="322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9"/>
            <p:cNvSpPr/>
            <p:nvPr/>
          </p:nvSpPr>
          <p:spPr>
            <a:xfrm>
              <a:off x="5167800" y="4569480"/>
              <a:ext cx="52920" cy="265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AutoShape 40"/>
          <p:cNvSpPr/>
          <p:nvPr/>
        </p:nvSpPr>
        <p:spPr>
          <a:xfrm>
            <a:off x="2781360" y="4351320"/>
            <a:ext cx="647640" cy="468360"/>
          </a:xfrm>
          <a:prstGeom prst="pie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4"/>
          <p:cNvSpPr/>
          <p:nvPr/>
        </p:nvSpPr>
        <p:spPr>
          <a:xfrm>
            <a:off x="4160880" y="5673600"/>
            <a:ext cx="276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dobe Illustr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FreeH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екторные рисун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520560" y="1160640"/>
            <a:ext cx="397080" cy="396720"/>
            <a:chOff x="520560" y="1160640"/>
            <a:chExt cx="397080" cy="396720"/>
          </a:xfrm>
        </p:grpSpPr>
        <p:sp>
          <p:nvSpPr>
            <p:cNvPr id="439" name="Oval 5"/>
            <p:cNvSpPr/>
            <p:nvPr/>
          </p:nvSpPr>
          <p:spPr>
            <a:xfrm>
              <a:off x="520560" y="116064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Group 6"/>
            <p:cNvGrpSpPr/>
            <p:nvPr/>
          </p:nvGrpSpPr>
          <p:grpSpPr>
            <a:xfrm>
              <a:off x="574560" y="1208160"/>
              <a:ext cx="298440" cy="298440"/>
              <a:chOff x="574560" y="1208160"/>
              <a:chExt cx="298440" cy="298440"/>
            </a:xfrm>
          </p:grpSpPr>
          <p:sp>
            <p:nvSpPr>
              <p:cNvPr id="441" name="Rectangle 7"/>
              <p:cNvSpPr/>
              <p:nvPr/>
            </p:nvSpPr>
            <p:spPr>
              <a:xfrm>
                <a:off x="574560" y="13089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8"/>
              <p:cNvSpPr/>
              <p:nvPr/>
            </p:nvSpPr>
            <p:spPr>
              <a:xfrm rot="16200000">
                <a:off x="575640" y="13086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Freeform 9"/>
            <p:cNvSpPr/>
            <p:nvPr/>
          </p:nvSpPr>
          <p:spPr>
            <a:xfrm>
              <a:off x="573840" y="1207800"/>
              <a:ext cx="299160" cy="298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10"/>
          <p:cNvGrpSpPr/>
          <p:nvPr/>
        </p:nvGrpSpPr>
        <p:grpSpPr>
          <a:xfrm>
            <a:off x="584280" y="4200480"/>
            <a:ext cx="395280" cy="395280"/>
            <a:chOff x="584280" y="4200480"/>
            <a:chExt cx="395280" cy="395280"/>
          </a:xfrm>
        </p:grpSpPr>
        <p:sp>
          <p:nvSpPr>
            <p:cNvPr id="445" name="Oval 11"/>
            <p:cNvSpPr/>
            <p:nvPr/>
          </p:nvSpPr>
          <p:spPr>
            <a:xfrm>
              <a:off x="584280" y="420048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2"/>
            <p:cNvSpPr/>
            <p:nvPr/>
          </p:nvSpPr>
          <p:spPr>
            <a:xfrm>
              <a:off x="635040" y="435132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13"/>
          <p:cNvSpPr/>
          <p:nvPr/>
        </p:nvSpPr>
        <p:spPr>
          <a:xfrm>
            <a:off x="1023840" y="1123920"/>
            <a:ext cx="780264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учший способ для хран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ртежей, схем, кар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одировани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потери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изменении размер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 искажен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р файл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висит от сложности рисун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4"/>
          <p:cNvSpPr/>
          <p:nvPr/>
        </p:nvSpPr>
        <p:spPr>
          <a:xfrm>
            <a:off x="1052640" y="4165560"/>
            <a:ext cx="73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эффективно использовать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тограф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размытых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орматы графических файлов определяют способ хранения информации в файле (растровый или векторный), а также форму хранения информации (используемый алгоритм сжатия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иболее популярные растровые форматы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BM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GI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JPE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TIF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P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Оглав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в компьютер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налоговая и дискретная форма представления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графических изображени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зву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видео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воичное кодирование текстовой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Bit MaP image (BMP)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— универсальный формат растровых графических файлов, используется в операционной системе Windows. Поддерживается многими графическими редакторами, в том числе редактором Paint. Рекомендуется для хранения и обмена данными с другими приложениям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Tagged Image File Format (TIFF)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поддерживается всеми основными графическими редакторами и компьютерными платформами. Включает в себя алгоритм сжатия без потерь информации. Используется для обмена документами между различными программами. Рекомендуется для использования при работе с издательскими системам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Графические форматы файл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Graphics Interchange Format (GIF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поддерживается приложениями для различных операционных систем. Включает алгоритм сжатия без потерь информации, позволяющий уменьшить объем файла в несколько раз. Рекомендуется для хранения изображений, создаваемых программным путем (диаграмм, графиков и так далее) и рисунков (типа аппликации) с ограниченным количеством цветов (до 256). Использ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Portable Network Graphic (PNG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аналогичный формату GIF. Рекоменд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7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Joint Photographic Expert Group (JPEG)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формат растровых графических файлов, который реализует эффективный алгоритм сжатия (метод JPEG) для отсканированных фотографий и иллюстраций. Алгоритм сжатия позволяет уменьшить объем файла в десятки раз, однако приводит к необратимой потере части информации. Поддерживается приложениями для различных операционных систем. Используется для размещения графических изображений на Web-страницах в Интернете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ие виды компьютерных изображений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е максимальное количество цветов может быть использовано в изображении, если на каждую точку отводится 3 бит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Что вы знаете о цветовой модели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GB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считайте необходимый объем видеопамяти для графического режима: разрешение экрана 800х600, качество цветопередачи 16 би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одирование зву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6836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Звук – волна с непрерывно изменяющейся амплитудой и частотой: чем больше амплитуда, тем он громче для человека, чем больше частота, тем выше тон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ложные непрерывные звуковые сигналы можно с достаточной точностью представлять в виде суммы некоторого числа простейших синусоидальных колебани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аждая синусоида, может быть точно задана некоторым набором числовых параметров – </a:t>
            </a:r>
            <a:r>
              <a:rPr b="0" lang="ru-RU" sz="2500" spc="-1" strike="noStrike">
                <a:solidFill>
                  <a:srgbClr val="04617b"/>
                </a:solidFill>
                <a:latin typeface="Constantia"/>
              </a:rPr>
              <a:t>амплитуды, фазы и частоты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, которые можно рассматривать как код звука в некоторый момент времени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ременная дискретизация звук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41716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В процессе кодирования звукового сигнала производится его временная дискретизация – непрерывная волна разбивается на отдельные маленькие временные участки и для каждого такого участка устанавливается определенная величина амплитуд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аким образом непрерывная зависимость амплитуды сигнала от времени заменяется на дискретную последовательность уровней громкост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32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Качество двоичного кодирования звука определяется глубиной кодирования и частотой дискретизац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4617b"/>
                </a:solidFill>
                <a:uFillTx/>
                <a:latin typeface="Constantia"/>
              </a:rPr>
              <a:t>Частота дискретизаци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количество измерений уровня сигнала в единицу врем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личество уровней громкости определяет </a:t>
            </a: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глубину кодирования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Современные звуковые карты обеспечивают 16-битную глубину кодирования звука. При этом количество уровней громкости равно N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2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onstantia"/>
              </a:rPr>
              <a:t>16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= 6553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895320" y="1547640"/>
            <a:ext cx="8077320" cy="18241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дставление видеоинформ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Обработка видеоинформации требует очень высокого быстродействия компьютерной системы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Что представляет собой </a:t>
            </a:r>
            <a:r>
              <a:rPr b="0" i="1" lang="ru-RU" sz="2500" spc="-1" strike="noStrike">
                <a:solidFill>
                  <a:srgbClr val="000000"/>
                </a:solidFill>
                <a:latin typeface="Constantia"/>
              </a:rPr>
              <a:t>фильм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с точки зрения информатики? Прежде всего, это </a:t>
            </a:r>
            <a:r>
              <a:rPr b="0" i="1" lang="ru-RU" sz="2500" spc="-1" strike="noStrike">
                <a:solidFill>
                  <a:srgbClr val="000000"/>
                </a:solidFill>
                <a:latin typeface="Constantia"/>
              </a:rPr>
              <a:t>сочетание звуковой и графической информации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. Кроме того, для создания на экране эффекта движения используется дискретная по своей сути технология быстрой смены статических картинок. Исследования показали, что если за одну секунду сменяется более 10-12 кадров, то человеческий глаз воспринимает изменения на них как непрерывные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редставление видеоинформации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и использовании традиционных методов сохранения информации электронная версия фильма получится слишком большой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Достаточно очевидное усовершенствование состоит в том, чтобы первый кадр запомнить целиком (в литературе его принято называть ключевым), а в следующих сохранять лишь отличия от начального кадра (разностные кадры)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Некоторые форматы видеофайлов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6840" y="1052640"/>
            <a:ext cx="843588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Существует множество различных форматов представления видеоданных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Video for Windows, базирующийся на универсальных файлах с расширением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AVI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Audio Video Interleave – чередование аудио и видео)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се большее распространение в последнее время получают системы сжатия видеоизображений, допускающие некоторые незаметные для глаза искажения изображения с целью повышения степени сжатия. Наиболее известным стандартом подобного класса служит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MPEG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Motion Picture Expert Group). Методы, применяемые в MPEG, непросты для понимания и опираются на достаточно сложную математику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Большее распространение получила технология под названием </a:t>
            </a:r>
            <a:r>
              <a:rPr b="0" lang="ru-RU" sz="2100" spc="-1" strike="noStrike">
                <a:solidFill>
                  <a:srgbClr val="ff3300"/>
                </a:solidFill>
                <a:latin typeface="Constantia"/>
              </a:rPr>
              <a:t>DivX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(Digital Video Express). Благодаря DivX удалось достигнуть степени сжатия, позволившей вмесить качественную запись полнометражного фильма на один компакт-диск – сжать 4,7 Гб DVD-фильма до 650 Мб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Двоичное кодирование в компьютере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ся информация, которую обрабатывает компьютер должна быть представлена двоичным кодом с помощью двух цифр: </a:t>
            </a:r>
            <a:r>
              <a:rPr b="1" lang="ru-RU" sz="2500" spc="-1" strike="noStrike">
                <a:solidFill>
                  <a:srgbClr val="000099"/>
                </a:solidFill>
                <a:latin typeface="Constantia"/>
              </a:rPr>
              <a:t>0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и </a:t>
            </a:r>
            <a:r>
              <a:rPr b="1" lang="ru-RU" sz="2500" spc="-1" strike="noStrike">
                <a:solidFill>
                  <a:srgbClr val="000099"/>
                </a:solidFill>
                <a:latin typeface="Constantia"/>
              </a:rPr>
              <a:t>1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i="1" lang="ru-RU" sz="2500" spc="-1" strike="noStrike">
                <a:solidFill>
                  <a:srgbClr val="000099"/>
                </a:solidFill>
                <a:latin typeface="Constantia"/>
              </a:rPr>
              <a:t>Эти два символа принято называть двоичными цифрами или битами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компьютере обязательно должно быть организованно : кодирование и декодирование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e2d700"/>
                </a:solidFill>
                <a:uFillTx/>
                <a:latin typeface="Constantia"/>
              </a:rPr>
              <a:t>Кодирование</a:t>
            </a: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 – преобразование входной информации в форму, воспринимаемую компьютером, т.е. двоичный код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e2d700"/>
                </a:solidFill>
                <a:uFillTx/>
                <a:latin typeface="Constantia"/>
              </a:rPr>
              <a:t>Декодирование</a:t>
            </a: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 – преобразование данных из двоичного кода в форму, понятную человеку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9" name="Group 8"/>
          <p:cNvGrpSpPr/>
          <p:nvPr/>
        </p:nvGrpSpPr>
        <p:grpSpPr>
          <a:xfrm>
            <a:off x="5681520" y="5373720"/>
            <a:ext cx="2965680" cy="1122480"/>
            <a:chOff x="5681520" y="5373720"/>
            <a:chExt cx="2965680" cy="1122480"/>
          </a:xfrm>
        </p:grpSpPr>
        <p:pic>
          <p:nvPicPr>
            <p:cNvPr id="270" name="Picture 4" descr="mycomputer"/>
            <p:cNvPicPr/>
            <p:nvPr/>
          </p:nvPicPr>
          <p:blipFill>
            <a:blip r:embed="rId1"/>
            <a:stretch/>
          </p:blipFill>
          <p:spPr>
            <a:xfrm>
              <a:off x="7885080" y="5373720"/>
              <a:ext cx="76212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5"/>
            <p:cNvSpPr/>
            <p:nvPr/>
          </p:nvSpPr>
          <p:spPr>
            <a:xfrm>
              <a:off x="5940360" y="5445000"/>
              <a:ext cx="230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99ccff"/>
                  </a:solidFill>
                  <a:latin typeface="Arial"/>
                </a:rPr>
                <a:t>Привет!        1001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6"/>
            <p:cNvSpPr/>
            <p:nvPr/>
          </p:nvSpPr>
          <p:spPr>
            <a:xfrm>
              <a:off x="6588000" y="5734080"/>
              <a:ext cx="863640" cy="216000"/>
            </a:xfrm>
            <a:prstGeom prst="leftRightArrow">
              <a:avLst>
                <a:gd name="adj1" fmla="val 50000"/>
                <a:gd name="adj2" fmla="val 79596"/>
              </a:avLst>
            </a:prstGeom>
            <a:solidFill>
              <a:srgbClr val="fff6dd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3" name="Picture 7" descr="gaim"/>
            <p:cNvPicPr/>
            <p:nvPr/>
          </p:nvPicPr>
          <p:blipFill>
            <a:blip r:embed="rId2"/>
            <a:stretch/>
          </p:blipFill>
          <p:spPr>
            <a:xfrm>
              <a:off x="5681520" y="5734080"/>
              <a:ext cx="76212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4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bf5f9"/>
                </a:solidFill>
                <a:latin typeface="Calibri"/>
              </a:rPr>
              <a:t>Форматы звуковых файлов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79280" y="1196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MIDI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-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запись музыкальных произведений в виде команд синтезатору, компактны, голос человека не воспроизводят, 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(соответствуют векторному представлению в графике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WAV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ниверсальный звуковой формат,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в нем хранится полная информация об оцифрованном звуке (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соответствует формату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mp</a:t>
            </a:r>
            <a:r>
              <a:rPr b="0" lang="ru-RU" sz="1700" spc="-1" strike="noStrike">
                <a:solidFill>
                  <a:srgbClr val="000000"/>
                </a:solidFill>
                <a:latin typeface="Constantia"/>
              </a:rPr>
              <a:t> в график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). Занимает очень большой объем памяти (15 Мбайт на 1 минуту звучания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MP3</a:t>
            </a:r>
            <a:r>
              <a:rPr b="0" lang="ru-RU" sz="2600" spc="-1" strike="noStrike">
                <a:solidFill>
                  <a:srgbClr val="ff0066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ат сжатия аудиоинформации с регулируемой потерей информации, позволяет сжимать файлы в несколько раз в зависимости от заданного </a:t>
            </a:r>
            <a:r>
              <a:rPr b="1" lang="ru-RU" sz="1900" spc="-1" strike="noStrike">
                <a:solidFill>
                  <a:srgbClr val="000000"/>
                </a:solidFill>
                <a:latin typeface="Constantia"/>
              </a:rPr>
              <a:t>битрейта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(в среднем в 11 раз)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Даже при самом высоком битрейте – 320 кбит/сек – обеспечивает 4-кратное сжатие по сравнению с компакт-дисками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66"/>
                </a:solidFill>
                <a:latin typeface="Constantia"/>
              </a:rPr>
              <a:t>AP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ат сжатия аудиоинформации без потери информации (а следовательно – качества) , коэффициент сжатия около 2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 fill="hold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ультимеди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Мультимедиа (multimedia, от англ. multi - много и media - носитель, среда) - совокупность компьютерных технологий, одновременно использующих несколько информационных сред: текст, графику, видео, фотографию, анимацию, звуковые эффекты, высококачественное звуковое сопровождени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од словом «мультимедиа» понимают воздействие на пользователя по нескольким информационным каналам одновременно. </a:t>
            </a:r>
            <a:r>
              <a:rPr b="0" lang="ru-RU" sz="2100" spc="-1" strike="noStrike">
                <a:solidFill>
                  <a:srgbClr val="993300"/>
                </a:solidFill>
                <a:latin typeface="Constantia"/>
              </a:rPr>
              <a:t>Мультимедиа – это объединение изображения на экране компьютера (в том числе и графической анимации и видеокадров) с текстом и звуковым сопровождением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Наибольшее распространение системы мультимедиа получили в области обучения, рекламы, развлечений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Двоичное кодирование текстовой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чиная с 60-х годов, компьютеры все больше стали использовать для обработки текстовой информации и в настоящее время большая часть ПК в мире занято обработкой именно текстовой информ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Традиционно для кодирования одного символа используется количество информации = 1 байту (1 байт = 8 битов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4617b"/>
                </a:solidFill>
                <a:latin typeface="Calibri"/>
              </a:rPr>
              <a:t>1 символ – 1 байт (8 бит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кодировани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ного символа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требуетс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дин байт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нформаци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ывая, что каждый бит принимает значение 1 или 0, получаем, что с помощью 1 байта можно закодировать 256 различных символ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1" lang="ru-RU" sz="2600" spc="-1" strike="noStrike" baseline="30000">
                <a:solidFill>
                  <a:srgbClr val="000000"/>
                </a:solidFill>
                <a:latin typeface="Constantia"/>
              </a:rPr>
              <a:t>8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=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Двоичное кодирование текстовой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Кодирование заключается в том, что каждому символу ставиться в соответствие уникальный двоичный код от 00000000 до 11111111 (или десятичный код от 0 до 255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ажно, что присвоение символу конкретного кода – это вопрос соглашения, которое фиксируется кодовой таблиц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лица кодировк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onstantia"/>
              </a:rPr>
              <a:t>Таблица, в которой всем символам компьютерного алфавита поставлены в соответствие порядковые номера (коды), называется </a:t>
            </a:r>
            <a:r>
              <a:rPr b="0" lang="ru-RU" sz="2600" spc="-1" strike="noStrike" u="sng">
                <a:solidFill>
                  <a:srgbClr val="000099"/>
                </a:solidFill>
                <a:uFillTx/>
                <a:latin typeface="Constantia"/>
              </a:rPr>
              <a:t>таблицей кодиров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ля разных типов ЭВМ используются различные кодировки. С распространением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BM PC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международным стандартом стала таблица кодировки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SCII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rican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ndart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de for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formation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terchange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мериканский стандартный код для информационного обм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Таблица кодировки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SC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тандартной в этой таблице является только первая половина, т.е. символы с номерами от 0 (00000000) до 127 (0111111). Сюда входят буква латинского алфавита, цифры, знаки препинания, скобки и некоторые другие символы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Остальные 128 кодов используются в разных вариантах. В русских кодировках размещаются символы русского алфавита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настоящее время существует 5 разных кодовых таблиц для русских букв (КОИ8,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СР1251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СР866,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ac, ISO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настоящее время получил широкое распространение новый международный стандарт </a:t>
            </a:r>
            <a:r>
              <a:rPr b="1" lang="en-US" sz="2100" spc="-1" strike="noStrike">
                <a:solidFill>
                  <a:srgbClr val="000000"/>
                </a:solidFill>
                <a:latin typeface="Constantia"/>
              </a:rPr>
              <a:t>Unicode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который отводит на каждый символ два байта. С его помощью можно закодировать 65536 (2</a:t>
            </a:r>
            <a:r>
              <a:rPr b="0" lang="ru-RU" sz="2100" spc="-1" strike="noStrike" baseline="30000">
                <a:solidFill>
                  <a:srgbClr val="000000"/>
                </a:solidFill>
                <a:latin typeface="Constantia"/>
              </a:rPr>
              <a:t>16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= 65536 ) различных символов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 u="sng">
                <a:solidFill>
                  <a:srgbClr val="e2d700"/>
                </a:solidFill>
                <a:uFillTx/>
                <a:latin typeface="Calibri"/>
              </a:rPr>
              <a:t>К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довая таблица ASCI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7" name="Picture 3" descr="ascii"/>
          <p:cNvPicPr/>
          <p:nvPr/>
        </p:nvPicPr>
        <p:blipFill>
          <a:blip r:embed="rId1"/>
          <a:stretch/>
        </p:blipFill>
        <p:spPr>
          <a:xfrm>
            <a:off x="2362320" y="3249720"/>
            <a:ext cx="441936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КОИ8 («Код обмена информацией, 8-битный»)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89" name="Picture 3" descr="koi8-r"/>
          <p:cNvPicPr/>
          <p:nvPr/>
        </p:nvPicPr>
        <p:blipFill>
          <a:blip r:embed="rId1"/>
          <a:stretch/>
        </p:blipFill>
        <p:spPr>
          <a:xfrm>
            <a:off x="468360" y="1600200"/>
            <a:ext cx="8136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Наиболее распространенной в настоящее время является кодировка Microsoft Windows, обозначаемая сокращением CP1251 ("CP" означает "Code Page", "кодовая страница")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1" name="Picture 3" descr="cp1251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чему двоичное кодиров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Удобно кодировать информацию в виде последовательности нулей и единиц, если представить эти значения как два возможных устойчивых состояния электронного элемента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0 – отсутствие электрического сигнала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2d700"/>
                </a:solidFill>
                <a:latin typeface="Constantia"/>
              </a:rPr>
              <a:t>1 – наличие электрического сигнал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Недостаток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двоичного кодирования –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длинные коды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Но в техник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легче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иметь дело с большим количеством простых элементов, чем с небольшим числом сложных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9dd9"/>
                </a:solidFill>
                <a:latin typeface="Constantia"/>
              </a:rPr>
              <a:t>Способы кодирования и декодирования информации в компьютере, в первую очередь, зависит от вида информации, а именно, что должно кодироваться: числа, текст, графические изображения или звук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4617b"/>
                </a:solidFill>
                <a:latin typeface="Calibri"/>
              </a:rPr>
              <a:t>От начала 90-ых годов, времени господства операционной системы MS DOS, остается кодировка CP866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3" name="Picture 3" descr="cp866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Компьютеры фирмы Apple, работающие под управлением операционной системы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Mac OS</a:t>
            </a: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, используют свою собственную кодировку </a:t>
            </a:r>
            <a:r>
              <a:rPr b="1" lang="en-US" sz="2300" spc="-1" strike="noStrike">
                <a:solidFill>
                  <a:srgbClr val="04617b"/>
                </a:solidFill>
                <a:latin typeface="Calibri"/>
              </a:rPr>
              <a:t>Mac</a:t>
            </a: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5" name="Picture 3" descr="mac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4617b"/>
                </a:solidFill>
                <a:latin typeface="Calibri"/>
              </a:rPr>
              <a:t>Международная организация по стандартизации (International Standards Organization, ISO) утвердила в качестве стандарта для русского языка еще одну кодировку под названием ISO 8859-5.</a:t>
            </a: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7" name="Picture 3" descr="iso88595"/>
          <p:cNvPicPr/>
          <p:nvPr/>
        </p:nvPicPr>
        <p:blipFill>
          <a:blip r:embed="rId1"/>
          <a:stretch/>
        </p:blipFill>
        <p:spPr>
          <a:xfrm>
            <a:off x="2362320" y="2963880"/>
            <a:ext cx="4419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8280360" cy="642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804000" y="1599840"/>
            <a:ext cx="188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Таблица расширенного кода </a:t>
            </a:r>
            <a:r>
              <a:rPr b="0" lang="en-US" sz="1500" spc="-1" strike="noStrike">
                <a:solidFill>
                  <a:srgbClr val="000000"/>
                </a:solidFill>
                <a:latin typeface="Constantia"/>
              </a:rPr>
              <a:t>ASCII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onstantia"/>
              </a:rPr>
              <a:t>Кодировка Windows-1251 (CP1251)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468360" y="293760"/>
            <a:ext cx="6697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нформационный объем текст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Сегодня очень многие люди для подготовки писем, документов, статей, книг и пр. используют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компьютерные текстовые редакторы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. Компьютерные редакторы, в основном, работают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с алфавитом размером 256 символов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В этом случае легко подсчитать объем информации в тексте. Если </a:t>
            </a:r>
            <a:r>
              <a:rPr b="1" lang="ru-RU" sz="2100" spc="-1" strike="noStrike">
                <a:solidFill>
                  <a:srgbClr val="000000"/>
                </a:solidFill>
                <a:latin typeface="Constantia"/>
              </a:rPr>
              <a:t>1 символ алфавита несет 1 байт информации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, то надо просто сосчитать количество символов; полученное число даст информационный объем текста в байтах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Пусть небольшая книжка, сделанная с помощью компьютера, содержит 150 страниц; на каждой странице — 40 строк, в каждой строке — 60 символов. Значит страница содержит 40x60=2400 байт информации. Объем всей информации в книге: 2400 х 150 = 360 000 байт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тите внимание!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Цифры кодируются по стандарту ASCII в двух случаях – при вводе-выводе и когда они встречаются в тексте. Если цифры участвуют в вычислениях, то осуществляется их преобразование в другой двоичных код (см. урок «представление чисел в компьютере»)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Возьмем число </a:t>
            </a:r>
            <a:r>
              <a:rPr b="1" lang="ru-RU" sz="2100" spc="-1" strike="noStrike">
                <a:solidFill>
                  <a:srgbClr val="660033"/>
                </a:solidFill>
                <a:latin typeface="Constantia"/>
              </a:rPr>
              <a:t>57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При использовании </a:t>
            </a: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в тексте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 каждая цифра будет представлена своим кодом в соответствии с таблицей ASCII. В двоичной системе это – </a:t>
            </a:r>
            <a:r>
              <a:rPr b="0" lang="ru-RU" sz="2100" spc="-1" strike="noStrike">
                <a:solidFill>
                  <a:srgbClr val="04617b"/>
                </a:solidFill>
                <a:latin typeface="Constantia"/>
              </a:rPr>
              <a:t>0011010100110111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При использовании </a:t>
            </a: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в вычислениях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, код этого числа будет получен по правилам перевода в двоичную систему и получим – </a:t>
            </a: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00111001</a:t>
            </a:r>
            <a:r>
              <a:rPr b="0" lang="ru-RU" sz="2100" spc="-1" strike="noStrike">
                <a:solidFill>
                  <a:srgbClr val="e2d700"/>
                </a:solidFill>
                <a:latin typeface="Constant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8" name="Picture 4" descr="messagebox_warning"/>
          <p:cNvPicPr/>
          <p:nvPr/>
        </p:nvPicPr>
        <p:blipFill>
          <a:blip r:embed="rId1"/>
          <a:stretch/>
        </p:blipFill>
        <p:spPr>
          <a:xfrm>
            <a:off x="7667640" y="4762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В чем заключается кодирование текстовой информации в компьютере?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Закодируйте с помощью </a:t>
            </a: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ASCII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-кода свою фамилию, имя, номер класс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Какое сообщение закодировано в кодировке Windows-1251: 0011010100100000111000011110000011101011111010111110111011100010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Считая, что каждый символ кодируется одним байтом, оцените информационный объем следующего предложения из пушкинского четверостишия: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Певец-Давид был ростом мал, Но повалил же Голиафа!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просы и задани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Рассчитайте необходимый объем видеопамяти для графического режима: разрешение экрана 800х600, качество цветопередачи 16 бит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ля хранения растрового изображения размером 64*64 пикселя отвели 1,5 Кб памяти. Каково максимально возможное число цветов в палитре изображения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Укажите минимальный объем памяти (в Кб), достаточный для хранения любого растрового изображения размером 64*64 пикселя, если известно, что в изображении используется палитра из 256 цветов. Саму палитру хранить не нужн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олько секунд потребуется модему, передающему сообщения со скоростью 28800бит/с, чтобы передать цветное растровое изображение размером 800*600 пикселей, при условии, что в палитре 16 миллионов цветов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7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канируется цветное изображение размером 10*10 см. Разрешающая способность сканера – 1200*1200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pi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глубина цвета – 24 бита. Какой информационный объем будет иметь полученный графический файл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Аналоговая и дискретная форма представления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Человек способен воспринимать и хранить информацию в форме образов (зрительных, звуковых, осязательных, вкусовых и обонятельных). Зрительные образы могут быть сохранены в виде изображений (рисунков, фотографий и так далее), а звуковые — зафиксированы на пластинках, магнитных лентах, лазерных дисках и так далее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Информация, в том числе графическая и звуковая, может быть представлена в </a:t>
            </a:r>
            <a:r>
              <a:rPr b="0" i="1" lang="ru-RU" sz="2100" spc="-1" strike="noStrike">
                <a:solidFill>
                  <a:srgbClr val="009dd9"/>
                </a:solidFill>
                <a:latin typeface="Constantia"/>
              </a:rPr>
              <a:t>аналоговой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или </a:t>
            </a:r>
            <a:r>
              <a:rPr b="0" i="1" lang="ru-RU" sz="2100" spc="-1" strike="noStrike">
                <a:solidFill>
                  <a:srgbClr val="009dd9"/>
                </a:solidFill>
                <a:latin typeface="Constantia"/>
              </a:rPr>
              <a:t>дискретной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форме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60033"/>
                </a:solidFill>
                <a:latin typeface="Constantia"/>
              </a:rPr>
              <a:t>При аналоговом представлении физическая величина принимает бесконечное множество значений, причем ее значения изменяются непрерывно</a:t>
            </a: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Constantia"/>
              </a:rPr>
              <a:t>При дискретном представлении физическая величина принимает конечное множество значений, причем ее величина изменяется скачкообразно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4617b"/>
                </a:solidFill>
                <a:latin typeface="Calibri"/>
              </a:rPr>
              <a:t>Аналоговая и дискретная форма представления информации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76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мер аналогового и дискретного представления информации: положение тела на наклонной плоскости и на лестнице задается значениями координат X и У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 движении тела по наклонной плоскости его координаты могут принимать </a:t>
            </a:r>
            <a:r>
              <a:rPr b="0" lang="ru-RU" sz="2000" spc="-1" strike="noStrike">
                <a:solidFill>
                  <a:srgbClr val="660033"/>
                </a:solidFill>
                <a:latin typeface="Constantia"/>
              </a:rPr>
              <a:t>бесконечное множество непрерывно изменяющихся значени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из определенного диапазона, а при движении по лестнице — только </a:t>
            </a:r>
            <a:r>
              <a:rPr b="0" lang="ru-RU" sz="2000" spc="-1" strike="noStrike">
                <a:solidFill>
                  <a:srgbClr val="000099"/>
                </a:solidFill>
                <a:latin typeface="Constantia"/>
              </a:rPr>
              <a:t>определенный набор значени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, причем меняющихся скачкообраз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0" name="Picture 5" descr=""/>
          <p:cNvPicPr/>
          <p:nvPr/>
        </p:nvPicPr>
        <p:blipFill>
          <a:blip r:embed="rId1"/>
          <a:stretch/>
        </p:blipFill>
        <p:spPr>
          <a:xfrm>
            <a:off x="5456160" y="1700280"/>
            <a:ext cx="368784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искретиза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мером </a:t>
            </a:r>
            <a:r>
              <a:rPr b="0" lang="ru-RU" sz="1900" spc="-1" strike="noStrike">
                <a:solidFill>
                  <a:srgbClr val="009dd9"/>
                </a:solidFill>
                <a:latin typeface="Constantia"/>
              </a:rPr>
              <a:t>аналогового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представления графической информации  живописное полотно, цвет которого изменяется непрерывно, а </a:t>
            </a:r>
            <a:r>
              <a:rPr b="0" lang="ru-RU" sz="1900" spc="-1" strike="noStrike">
                <a:solidFill>
                  <a:srgbClr val="009dd9"/>
                </a:solidFill>
                <a:latin typeface="Constantia"/>
              </a:rPr>
              <a:t>дискретного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 — изображение, напечатанное с помощью струйного принтера и состоящее из отдельных точек разного цвета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имером аналогового хранения звуковой информации является виниловая пластинка (звуковая дорожка изменяет свою форму непрерывно), а дискретного — аудиокомпакт-диск (звуковая дорожка которого содержит участки с различной отражающей способностью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Преобразование графической и звуковой информации из аналоговой формы в дискретную производится путем </a:t>
            </a:r>
            <a:r>
              <a:rPr b="1" i="1" lang="ru-RU" sz="1900" spc="-1" strike="noStrike">
                <a:solidFill>
                  <a:srgbClr val="009dd9"/>
                </a:solidFill>
                <a:latin typeface="Constantia"/>
              </a:rPr>
              <a:t>дискретизации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, то есть </a:t>
            </a:r>
            <a:r>
              <a:rPr b="0" i="1" lang="ru-RU" sz="1900" spc="-1" strike="noStrike">
                <a:solidFill>
                  <a:srgbClr val="000000"/>
                </a:solidFill>
                <a:latin typeface="Constantia"/>
              </a:rPr>
              <a:t>разбиения непрерывного графического изображения и непрерывного (аналогового) звукового сигнала на отдельные элементы</a:t>
            </a: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. В процессе дискретизации производится кодирование, то есть присвоение каждому элементу конкретного значения в форме кода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4617b"/>
                </a:solidFill>
                <a:uFillTx/>
                <a:latin typeface="Constantia"/>
              </a:rPr>
              <a:t>Дискретизация</a:t>
            </a:r>
            <a:r>
              <a:rPr b="0" lang="ru-RU" sz="1900" spc="-1" strike="noStrike">
                <a:solidFill>
                  <a:srgbClr val="04617b"/>
                </a:solidFill>
                <a:latin typeface="Constantia"/>
              </a:rPr>
              <a:t> – это преобразование непрерывных изображений и звука в набор дискретных значений в форме кодов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ва типа кодирования рисун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395280" y="957240"/>
            <a:ext cx="851364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Arial"/>
              </a:rPr>
              <a:t>растровое кодирование</a:t>
            </a:r>
            <a:r>
              <a:rPr b="0" lang="ru-RU" sz="2800" spc="-1" strike="noStrike">
                <a:solidFill>
                  <a:srgbClr val="009dd9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чечный рисунок, состоит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кселей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графии, размытые изоб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9dd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Arial"/>
              </a:rPr>
              <a:t>векторное кодирование</a:t>
            </a:r>
            <a:br>
              <a:rPr sz="2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сунок, состоит из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дельных геометрических фиг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172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тежи, схемы, к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155520" y="46080"/>
            <a:ext cx="142884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0"/>
          <p:cNvSpPr/>
          <p:nvPr/>
        </p:nvSpPr>
        <p:spPr>
          <a:xfrm>
            <a:off x="3857760" y="2633760"/>
            <a:ext cx="14284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1"/>
          <a:stretch/>
        </p:blipFill>
        <p:spPr>
          <a:xfrm>
            <a:off x="1193760" y="1830240"/>
            <a:ext cx="2032200" cy="1354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3" descr=""/>
          <p:cNvPicPr/>
          <p:nvPr/>
        </p:nvPicPr>
        <p:blipFill>
          <a:blip r:embed="rId2"/>
          <a:stretch/>
        </p:blipFill>
        <p:spPr>
          <a:xfrm>
            <a:off x="4130640" y="2114640"/>
            <a:ext cx="1000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291" name="Group 57"/>
          <p:cNvGrpSpPr/>
          <p:nvPr/>
        </p:nvGrpSpPr>
        <p:grpSpPr>
          <a:xfrm>
            <a:off x="4479840" y="1785960"/>
            <a:ext cx="2931840" cy="1441440"/>
            <a:chOff x="4479840" y="1785960"/>
            <a:chExt cx="2931840" cy="1441440"/>
          </a:xfrm>
        </p:grpSpPr>
        <p:sp>
          <p:nvSpPr>
            <p:cNvPr id="292" name="Rectangle 16"/>
            <p:cNvSpPr/>
            <p:nvPr/>
          </p:nvSpPr>
          <p:spPr>
            <a:xfrm>
              <a:off x="4479840" y="2479680"/>
              <a:ext cx="142560" cy="142920"/>
            </a:xfrm>
            <a:prstGeom prst="rect">
              <a:avLst/>
            </a:prstGeom>
            <a:noFill/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Group 18"/>
            <p:cNvGrpSpPr/>
            <p:nvPr/>
          </p:nvGrpSpPr>
          <p:grpSpPr>
            <a:xfrm>
              <a:off x="4484520" y="1785960"/>
              <a:ext cx="2927160" cy="1441440"/>
              <a:chOff x="4484520" y="1785960"/>
              <a:chExt cx="2927160" cy="1441440"/>
            </a:xfrm>
          </p:grpSpPr>
          <p:graphicFrame>
            <p:nvGraphicFramePr>
              <p:cNvPr id="294" name="Object 15"/>
              <p:cNvGraphicFramePr/>
              <p:nvPr/>
            </p:nvGraphicFramePr>
            <p:xfrm>
              <a:off x="5992560" y="1795680"/>
              <a:ext cx="1419120" cy="1413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95" name="Object 1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992560" y="1795680"/>
                        <a:ext cx="1419120" cy="1413000"/>
                      </a:xfrm>
                      <a:prstGeom prst="rect">
                        <a:avLst/>
                      </a:prstGeom>
                      <a:ln w="15840">
                        <a:solidFill>
                          <a:srgbClr val="ff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296" name="Freeform 17"/>
              <p:cNvSpPr/>
              <p:nvPr/>
            </p:nvSpPr>
            <p:spPr>
              <a:xfrm>
                <a:off x="4484520" y="1785960"/>
                <a:ext cx="1512720" cy="1441440"/>
              </a:xfrm>
              <a:prstGeom prst="pie">
                <a:avLst/>
              </a:prstGeom>
              <a:solidFill>
                <a:srgbClr val="cc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97" name="Picture 19" descr="J0195384"/>
          <p:cNvPicPr/>
          <p:nvPr/>
        </p:nvPicPr>
        <p:blipFill>
          <a:blip r:embed="rId5"/>
          <a:stretch/>
        </p:blipFill>
        <p:spPr>
          <a:xfrm>
            <a:off x="1428840" y="4568760"/>
            <a:ext cx="1233360" cy="125244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20"/>
          <p:cNvGrpSpPr/>
          <p:nvPr/>
        </p:nvGrpSpPr>
        <p:grpSpPr>
          <a:xfrm>
            <a:off x="4202280" y="4564080"/>
            <a:ext cx="4441680" cy="1606680"/>
            <a:chOff x="4202280" y="4564080"/>
            <a:chExt cx="4441680" cy="1606680"/>
          </a:xfrm>
        </p:grpSpPr>
        <p:sp>
          <p:nvSpPr>
            <p:cNvPr id="299" name="AutoShape 21"/>
            <p:cNvSpPr/>
            <p:nvPr/>
          </p:nvSpPr>
          <p:spPr>
            <a:xfrm>
              <a:off x="4202280" y="4564080"/>
              <a:ext cx="4441680" cy="16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5950440" y="4631760"/>
              <a:ext cx="954360" cy="551880"/>
            </a:xfrm>
            <a:prstGeom prst="pie">
              <a:avLst/>
            </a:prstGeom>
            <a:solidFill>
              <a:srgbClr val="a5ce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7623000" y="4749120"/>
              <a:ext cx="401040" cy="5180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7711560" y="4629960"/>
              <a:ext cx="583560" cy="4708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4497840" y="5643720"/>
              <a:ext cx="801000" cy="2725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6524280" y="5285880"/>
              <a:ext cx="816120" cy="802800"/>
            </a:xfrm>
            <a:prstGeom prst="pie">
              <a:avLst/>
            </a:prstGeom>
            <a:solidFill>
              <a:srgbClr val="d8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4270680" y="4898160"/>
              <a:ext cx="642240" cy="7833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8"/>
            <p:cNvSpPr/>
            <p:nvPr/>
          </p:nvSpPr>
          <p:spPr>
            <a:xfrm>
              <a:off x="6110640" y="5169600"/>
              <a:ext cx="565560" cy="2232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9"/>
            <p:cNvSpPr/>
            <p:nvPr/>
          </p:nvSpPr>
          <p:spPr>
            <a:xfrm>
              <a:off x="6588000" y="5092920"/>
              <a:ext cx="109440" cy="1472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0"/>
            <p:cNvSpPr/>
            <p:nvPr/>
          </p:nvSpPr>
          <p:spPr>
            <a:xfrm>
              <a:off x="6309720" y="5160960"/>
              <a:ext cx="171000" cy="1893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7896960" y="5320440"/>
              <a:ext cx="467280" cy="4482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7979400" y="5603760"/>
              <a:ext cx="199800" cy="4330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3"/>
            <p:cNvSpPr/>
            <p:nvPr/>
          </p:nvSpPr>
          <p:spPr>
            <a:xfrm>
              <a:off x="6091560" y="5154840"/>
              <a:ext cx="1173960" cy="59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4"/>
            <p:cNvSpPr/>
            <p:nvPr/>
          </p:nvSpPr>
          <p:spPr>
            <a:xfrm>
              <a:off x="7052400" y="4709520"/>
              <a:ext cx="30312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5"/>
            <p:cNvSpPr/>
            <p:nvPr/>
          </p:nvSpPr>
          <p:spPr>
            <a:xfrm>
              <a:off x="4584960" y="4752000"/>
              <a:ext cx="590400" cy="590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6"/>
            <p:cNvSpPr/>
            <p:nvPr/>
          </p:nvSpPr>
          <p:spPr>
            <a:xfrm>
              <a:off x="7053480" y="4906080"/>
              <a:ext cx="401040" cy="49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7"/>
            <p:cNvSpPr/>
            <p:nvPr/>
          </p:nvSpPr>
          <p:spPr>
            <a:xfrm>
              <a:off x="7495200" y="4994280"/>
              <a:ext cx="154800" cy="295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8"/>
            <p:cNvSpPr/>
            <p:nvPr/>
          </p:nvSpPr>
          <p:spPr>
            <a:xfrm>
              <a:off x="5137920" y="4624200"/>
              <a:ext cx="380880" cy="41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9"/>
            <p:cNvSpPr/>
            <p:nvPr/>
          </p:nvSpPr>
          <p:spPr>
            <a:xfrm>
              <a:off x="7402680" y="4633920"/>
              <a:ext cx="137520" cy="25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0"/>
            <p:cNvSpPr/>
            <p:nvPr/>
          </p:nvSpPr>
          <p:spPr>
            <a:xfrm>
              <a:off x="5550120" y="4628880"/>
              <a:ext cx="342720" cy="38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41"/>
            <p:cNvSpPr/>
            <p:nvPr/>
          </p:nvSpPr>
          <p:spPr>
            <a:xfrm>
              <a:off x="4433760" y="5145840"/>
              <a:ext cx="448560" cy="133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42"/>
            <p:cNvSpPr/>
            <p:nvPr/>
          </p:nvSpPr>
          <p:spPr>
            <a:xfrm>
              <a:off x="4286520" y="5215680"/>
              <a:ext cx="588240" cy="133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43"/>
            <p:cNvSpPr/>
            <p:nvPr/>
          </p:nvSpPr>
          <p:spPr>
            <a:xfrm>
              <a:off x="4710600" y="5347440"/>
              <a:ext cx="29520" cy="74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44"/>
            <p:cNvSpPr/>
            <p:nvPr/>
          </p:nvSpPr>
          <p:spPr>
            <a:xfrm>
              <a:off x="6347520" y="5221080"/>
              <a:ext cx="331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5"/>
            <p:cNvSpPr/>
            <p:nvPr/>
          </p:nvSpPr>
          <p:spPr>
            <a:xfrm>
              <a:off x="4656960" y="5355000"/>
              <a:ext cx="38880" cy="6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46"/>
            <p:cNvSpPr/>
            <p:nvPr/>
          </p:nvSpPr>
          <p:spPr>
            <a:xfrm>
              <a:off x="4391640" y="5368680"/>
              <a:ext cx="300960" cy="14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7"/>
            <p:cNvSpPr/>
            <p:nvPr/>
          </p:nvSpPr>
          <p:spPr>
            <a:xfrm>
              <a:off x="5547240" y="5586480"/>
              <a:ext cx="1033200" cy="496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48"/>
            <p:cNvSpPr/>
            <p:nvPr/>
          </p:nvSpPr>
          <p:spPr>
            <a:xfrm>
              <a:off x="7348320" y="5489640"/>
              <a:ext cx="428400" cy="53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49"/>
            <p:cNvSpPr/>
            <p:nvPr/>
          </p:nvSpPr>
          <p:spPr>
            <a:xfrm>
              <a:off x="7698960" y="5486040"/>
              <a:ext cx="254160" cy="31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50"/>
            <p:cNvSpPr/>
            <p:nvPr/>
          </p:nvSpPr>
          <p:spPr>
            <a:xfrm>
              <a:off x="5303160" y="5525280"/>
              <a:ext cx="75600" cy="390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51"/>
            <p:cNvSpPr/>
            <p:nvPr/>
          </p:nvSpPr>
          <p:spPr>
            <a:xfrm>
              <a:off x="5085360" y="5268600"/>
              <a:ext cx="52200" cy="2336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52"/>
            <p:cNvSpPr/>
            <p:nvPr/>
          </p:nvSpPr>
          <p:spPr>
            <a:xfrm>
              <a:off x="5272560" y="5234040"/>
              <a:ext cx="52920" cy="322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3"/>
            <p:cNvSpPr/>
            <p:nvPr/>
          </p:nvSpPr>
          <p:spPr>
            <a:xfrm>
              <a:off x="5495040" y="5287320"/>
              <a:ext cx="52920" cy="265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AutoShape 56"/>
          <p:cNvSpPr/>
          <p:nvPr/>
        </p:nvSpPr>
        <p:spPr>
          <a:xfrm>
            <a:off x="3108240" y="5068800"/>
            <a:ext cx="647640" cy="468360"/>
          </a:xfrm>
          <a:prstGeom prst="pie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301680" y="3317760"/>
            <a:ext cx="413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1. Дискретизация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бивка н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икс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стровое кодиров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1927080" y="1006560"/>
          <a:ext cx="196056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7080" y="1006560"/>
                    <a:ext cx="19605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5"/>
          <p:cNvGraphicFramePr/>
          <p:nvPr/>
        </p:nvGraphicFramePr>
        <p:xfrm>
          <a:off x="5799240" y="1022400"/>
          <a:ext cx="1960560" cy="21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9240" y="1022400"/>
                    <a:ext cx="19605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Rectangle 7"/>
          <p:cNvSpPr/>
          <p:nvPr/>
        </p:nvSpPr>
        <p:spPr>
          <a:xfrm>
            <a:off x="4791240" y="3317760"/>
            <a:ext cx="42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Шаг 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пикселя определяется </a:t>
            </a:r>
            <a:br>
              <a:rPr sz="2400"/>
            </a:b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единый цв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328680" y="4206960"/>
            <a:ext cx="3740040" cy="12589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икс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именьший элемент рисунка, для которого можно независимо установить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6"/>
          <p:cNvSpPr/>
          <p:nvPr/>
        </p:nvSpPr>
        <p:spPr>
          <a:xfrm>
            <a:off x="468360" y="5516640"/>
            <a:ext cx="833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dd9"/>
                </a:solidFill>
                <a:latin typeface="Arial"/>
              </a:rPr>
              <a:t>Раз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число пикселей на дюй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t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er inch (d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ран 9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чать 300-6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ография 12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371-PC</cp:lastModifiedBy>
  <dcterms:modified xsi:type="dcterms:W3CDTF">2024-01-04T19:02:52Z</dcterms:modified>
  <cp:revision>57</cp:revision>
  <dc:subject/>
  <dc:title>Слайд 1</dc:title>
</cp:coreProperties>
</file>