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9B5C-CB56-43A9-9F1A-20F33BD34F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92BD-617E-4CA7-B188-AE27FF9267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9AAA-760C-4D75-9BAB-869658FE66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187E-C26D-440E-92AC-612E5958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538-7C28-448D-824A-B8ADB139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C9A-2E77-402E-985D-848DA863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08D-948F-44A9-B581-3CDA761A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C654-1854-4174-B9C8-A8050913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C1BD-8EC4-42D6-A91F-E4BEB499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CCB5-1B8A-4B5B-A39D-ACCE58EF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6CFD-16B2-4269-A72E-562596FF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C02F-87CF-461D-8A4A-034FEE8D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B90D-F15B-4DD1-85C5-AFC483D4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3861-393B-4253-B3CA-03FFA844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986-A20D-4ED1-9B82-F67042CB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565B-B32C-4B1F-82D4-ED0C9567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AAC3-BEEF-4A7B-9D71-EF00A6AE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1E59-93CF-44B8-841B-FDBFF1BE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13B7-3D72-4516-B495-4C8B088B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BE1A-0728-4D94-BB51-53FB3089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F2B05-85B9-4BF3-84E6-F10257C1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C3E02-CD6B-460C-B05B-3CCE4D30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E6AF-64C3-46AB-827C-93B85936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573A-8849-49E5-AE5D-A0850F6B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0DE99-7202-4A67-9A86-995005F9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309-3C78-4BC2-8579-2DCAE7EE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E5CC-033B-4DA8-9A16-6CC1732C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8B29F-690E-48EA-9270-BEB7F560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1F581-70E7-41A7-9F51-215D90DA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8572F-EE5B-4F3A-9C3C-0A904D8D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1683-F2CC-4003-9466-D7D6AFC0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ECA83-6EDC-495F-BC1D-0A5DC117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66D8E-DD87-4358-B36F-C245E985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10C7B-C0EB-4E9A-9270-C103B6AF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49487-5291-49B7-B3CB-1E0AD93B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CF403-9F48-4BFF-BFFF-52ADE0B8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002-C804-4DC7-80D4-2C5C9C39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CDCD4-88DC-46ED-8B00-AAE67931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EE10C-5A1F-4498-A1F6-8A63FAC4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E2287-923C-4082-9BC1-B7E2CF7E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BCB8F-0F18-4DA3-A38F-2B427178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907FF-293A-49F8-A399-E2E2CA12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CD04B-E12C-4276-89BC-0BEE1F9A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91305-A403-4638-8FE0-864F7CEC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6B24-BAD8-403B-8567-39DE2F95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2BC71-B30D-432E-A2D4-4ED80C9A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6A30F-A698-4C75-88FA-5B62F526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A7E-9CF1-4E5E-B201-0565C4B1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67B2B-2C7D-4CB0-936C-EF92B64E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EAF1F-BDCD-42C7-BF97-3902B5CF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A0FF3-DE8A-445A-BFAC-44DF5E6A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1639C-A870-4664-9323-F53D00A7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3F210-F2AC-49F1-8CF4-CA4A922F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521D6-EFC0-4A01-BF85-C028FD3D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82EED-0751-49A9-9E89-2C1D581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D7EFA-DF05-441C-9129-32CB341A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32BBE-7A77-4D38-A643-6D82DEE6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75470-001B-44F0-8FDB-D2F3AC2E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2F3-83D7-4164-89EB-486DAC69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E902F-7CA6-4B4C-ADCF-270763D3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01815-7433-442E-BCC8-4513AA84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DD5B8-09A4-44BC-92A9-A31EFB46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C3D96-4225-490E-AB1F-420A5E38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B8AC5-5226-408C-9EFC-82A49179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EB5D0-ED36-49EE-B8DD-F5C3D438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4E6C5-14BA-439A-8627-36BA2543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573E7-7633-4F61-85A7-1652C0D3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E6A5C-5A8E-410F-B862-3817184A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A2E19-E7CC-4D3D-A2B7-3D2A4085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AD3-09EC-4C45-9E00-86910F8F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DF008-6322-4EBA-A45F-FBE472AC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0C450-9D7D-4A37-8EC6-10C6740A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7D3D6-21BE-4524-B351-E38DE62C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65073-82FF-442D-B334-10ED12AE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5916A-FAD3-4F9C-B04C-0A6BDDD3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5A228-C2A0-4B5D-BA51-BBEE2E25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00E21-5AE4-4C79-A67E-5FB34779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6E88A-9EE9-42D7-80CB-96534894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14CCC-10BD-48C2-8904-5CA23080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C3624-D570-4267-B4AA-9DCC5597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7CF-AF54-40E0-8679-14DC63E4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D2897-E67B-4C63-B5F5-E8FC25D5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7DA4E-36EF-47FF-9ED4-023AE1AA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27C26-A2A4-44C6-B907-021E7756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5D347-6645-4F79-89FB-B44947FE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1A0B4-AE7E-4CD5-BDC6-83858D2D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007FA-DA6F-4C1E-87AE-DD9A98D3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4ED6E-A894-44D5-95D2-69FD44DF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CDF40-57A1-47A4-A6D5-585E3AE6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1D745-0CD5-4606-AF5C-49276E63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B5DC9-5703-408F-9C59-5A911991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68E-BB99-4D6A-93A7-D095F1B4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10E78-1158-4334-9A85-F2AF1483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A130E-C38A-4B46-A882-F437C472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AA592-24E9-4C5C-B78C-C836EA01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A0691-0BE8-4459-A353-730ECFFC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D016B-2816-4A97-A993-246BC4E6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68DCD-BD64-4E21-82AA-3836133D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4D2F5-84A4-439D-ACB4-9D9BE6B7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5049-0DAA-4BEE-A957-62B2F951CE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1FED-8E93-43A3-8A1A-E8B44B7CAA4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4EF2-37D9-4A7E-9F4A-7242CF4A49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D718-7303-49D3-AC47-CFBAABF5123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EDD1-3196-4ABF-9C74-355C59D368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C5FD-15F1-4B6F-A35B-6E7C8B532F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DB19-6B33-4B35-A697-07DE5A9371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2AE7-1E4D-4A34-8CE8-FF32CD207B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822240" y="2266920"/>
            <a:ext cx="7572600" cy="148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71680" y="1071360"/>
            <a:ext cx="757224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f1e25"/>
                </a:solidFill>
                <a:latin typeface="Lucida Sans Unicode"/>
              </a:rPr>
              <a:t>«Язык программирования </a:t>
            </a:r>
            <a:r>
              <a:rPr b="0" lang="en-US" sz="3100" spc="-1" strike="noStrike">
                <a:solidFill>
                  <a:srgbClr val="3f1e25"/>
                </a:solidFill>
                <a:latin typeface="Lucida Sans Unicode"/>
              </a:rPr>
              <a:t>Pascal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f1e25"/>
                </a:solidFill>
                <a:latin typeface="Lucida Sans Unicode"/>
              </a:rPr>
              <a:t>Знакомство с языком Паскаль»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785880" y="521496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1e25"/>
                </a:solidFill>
                <a:latin typeface="Times New Roman"/>
                <a:ea typeface="Times New Roman"/>
              </a:rPr>
              <a:t>Подготовил: учитель информатики  МКОУ «Карланюртовская СОШ имени А.Д. Шихалиев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1e25"/>
                </a:solidFill>
                <a:latin typeface="Times New Roman"/>
                <a:ea typeface="Times New Roman"/>
              </a:rPr>
              <a:t>Беалиев Р.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1"/>
          <p:cNvSpPr/>
          <p:nvPr/>
        </p:nvSpPr>
        <p:spPr>
          <a:xfrm>
            <a:off x="93600" y="4551480"/>
            <a:ext cx="8928000" cy="24400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8119"/>
                </a:solidFill>
                <a:latin typeface="Lucida Sans Unicode"/>
              </a:rPr>
              <a:t>Раздел  операторов – основная  часть  программы.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Начало  и  ко-нец  раздела  отмечаются  служебными словами  </a:t>
            </a:r>
            <a:r>
              <a:rPr b="0" lang="en-US" sz="2200" spc="-1" strike="noStrike">
                <a:solidFill>
                  <a:srgbClr val="ff8119"/>
                </a:solidFill>
                <a:latin typeface="Lucida Sans Unicode"/>
              </a:rPr>
              <a:t>BEGIN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 и  </a:t>
            </a:r>
            <a:r>
              <a:rPr b="0" lang="en-US" sz="2200" spc="-1" strike="noStrike">
                <a:solidFill>
                  <a:srgbClr val="ff8119"/>
                </a:solidFill>
                <a:latin typeface="Lucida Sans Unicode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, которые  являются  операторными  скобками.  Между  этими сло-вами  помещаются  все    команды   алгоритма,   записанные     на   языке   Паскаль (операторы). Разделителем   операторов   являет-ся   точка  с  запятой.  В  самом конце программы ставится  точ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2"/>
          <p:cNvSpPr/>
          <p:nvPr/>
        </p:nvSpPr>
        <p:spPr>
          <a:xfrm>
            <a:off x="108000" y="681120"/>
            <a:ext cx="8785080" cy="375156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R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108000" y="1832040"/>
            <a:ext cx="8785080" cy="26337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еременная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=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рифметическое 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1"/>
          <p:cNvSpPr/>
          <p:nvPr/>
        </p:nvSpPr>
        <p:spPr>
          <a:xfrm>
            <a:off x="114480" y="5013360"/>
            <a:ext cx="8928000" cy="19227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вод  исходных  данных  с  клавиатуры  происходит  по  опе-ратору  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ли 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READLN </a:t>
            </a:r>
            <a:r>
              <a:rPr b="0" lang="ru-RU" sz="2400" spc="-1" strike="noStrike">
                <a:solidFill>
                  <a:srgbClr val="ff811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читать ). Оператор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отличается  от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AD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только  тем,  что  после  ввода  данных   курсор  перемещается в  начало  новой  стро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2"/>
          <p:cNvSpPr/>
          <p:nvPr/>
        </p:nvSpPr>
        <p:spPr>
          <a:xfrm>
            <a:off x="95400" y="671400"/>
            <a:ext cx="8785080" cy="411732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R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114480" y="2975040"/>
            <a:ext cx="866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еременная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=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рифметическое 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96840" y="2220840"/>
            <a:ext cx="878508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0" y="4630680"/>
            <a:ext cx="9036000" cy="22885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ывод   результатов происходит по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WRITE</a:t>
            </a:r>
            <a:r>
              <a:rPr b="0" lang="ru-RU" sz="2400" spc="-1" strike="noStrike">
                <a:solidFill>
                  <a:srgbClr val="ff8119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ли 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исать). Результаты  выводятся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  порядке  их  перечисле-ния  в  списке. Разница  в  выполнении  операторов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RITE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состоит  в  том, что после выполнения  операции  вывода  по  оператору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курсор  перемещается  в  начало  новой  стро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108000" y="660240"/>
            <a:ext cx="8928000" cy="393444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R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еременная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=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рифметическое 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34" name="Прямоугольник 4"/>
          <p:cNvSpPr/>
          <p:nvPr/>
        </p:nvSpPr>
        <p:spPr>
          <a:xfrm>
            <a:off x="106200" y="3284640"/>
            <a:ext cx="892980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1"/>
          <p:cNvSpPr/>
          <p:nvPr/>
        </p:nvSpPr>
        <p:spPr>
          <a:xfrm>
            <a:off x="179280" y="692280"/>
            <a:ext cx="8785440" cy="375156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R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WordArt 482"/>
          <p:cNvSpPr txBox="1"/>
          <p:nvPr/>
        </p:nvSpPr>
        <p:spPr>
          <a:xfrm>
            <a:off x="826920" y="189000"/>
            <a:ext cx="792180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Оператор присваивания    </a:t>
            </a:r>
            <a:endParaRPr b="0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37" name="TextBox 3"/>
          <p:cNvSpPr/>
          <p:nvPr/>
        </p:nvSpPr>
        <p:spPr>
          <a:xfrm>
            <a:off x="179280" y="2905200"/>
            <a:ext cx="8785440" cy="4597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переменная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=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арифметическое выражение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9"/>
          <p:cNvSpPr/>
          <p:nvPr/>
        </p:nvSpPr>
        <p:spPr>
          <a:xfrm>
            <a:off x="108000" y="4653000"/>
            <a:ext cx="8928000" cy="23972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Арифметический оператор  присваивания: слева- переменная, справа - арифметическое выражение, которое  должно  быть  вычислено. Составной  символ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 :=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  читается как «присвоить».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Сначала  вычисляется  арифметическое  выражение,  затем  полученное  значение  присваивается  переменной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.</a:t>
            </a:r>
            <a:r>
              <a:rPr b="0" i="1" lang="ru-RU" sz="2400" spc="-1" strike="noStrike">
                <a:solidFill>
                  <a:srgbClr val="ff8119"/>
                </a:solidFill>
                <a:latin typeface="Lucida Sans Unicode"/>
              </a:rPr>
              <a:t>Пример:</a:t>
            </a:r>
            <a:r>
              <a:rPr b="0" lang="ru-RU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Lucida Sans Unicode"/>
              </a:rPr>
              <a:t>:=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sqr (x) + sin (y) / (12*z + 5)</a:t>
            </a:r>
            <a:r>
              <a:rPr b="0" i="1" lang="ru-RU" sz="2400" spc="-1" strike="noStrike">
                <a:solidFill>
                  <a:srgbClr val="464646"/>
                </a:solidFill>
                <a:latin typeface="Lucida Sans Unicode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409"/>
          <p:cNvSpPr/>
          <p:nvPr/>
        </p:nvSpPr>
        <p:spPr>
          <a:xfrm>
            <a:off x="250920" y="4964040"/>
            <a:ext cx="865080" cy="77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410"/>
          <p:cNvSpPr/>
          <p:nvPr/>
        </p:nvSpPr>
        <p:spPr>
          <a:xfrm>
            <a:off x="250920" y="4059360"/>
            <a:ext cx="865080" cy="7729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411"/>
          <p:cNvSpPr/>
          <p:nvPr/>
        </p:nvSpPr>
        <p:spPr>
          <a:xfrm>
            <a:off x="250920" y="3276720"/>
            <a:ext cx="865080" cy="5047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412"/>
          <p:cNvSpPr/>
          <p:nvPr/>
        </p:nvSpPr>
        <p:spPr>
          <a:xfrm>
            <a:off x="250920" y="2637000"/>
            <a:ext cx="865080" cy="4395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413"/>
          <p:cNvSpPr/>
          <p:nvPr/>
        </p:nvSpPr>
        <p:spPr>
          <a:xfrm>
            <a:off x="250920" y="2060640"/>
            <a:ext cx="865080" cy="4316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414"/>
          <p:cNvSpPr/>
          <p:nvPr/>
        </p:nvSpPr>
        <p:spPr>
          <a:xfrm>
            <a:off x="250920" y="1525680"/>
            <a:ext cx="865080" cy="4237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415"/>
          <p:cNvSpPr/>
          <p:nvPr/>
        </p:nvSpPr>
        <p:spPr>
          <a:xfrm>
            <a:off x="3395520" y="4264200"/>
            <a:ext cx="2382840" cy="5569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SIN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416"/>
          <p:cNvSpPr/>
          <p:nvPr/>
        </p:nvSpPr>
        <p:spPr>
          <a:xfrm>
            <a:off x="3433680" y="5208480"/>
            <a:ext cx="2362320" cy="5209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COS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418"/>
          <p:cNvSpPr/>
          <p:nvPr/>
        </p:nvSpPr>
        <p:spPr>
          <a:xfrm>
            <a:off x="3395520" y="2492280"/>
            <a:ext cx="2357640" cy="4809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SQR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419"/>
          <p:cNvSpPr/>
          <p:nvPr/>
        </p:nvSpPr>
        <p:spPr>
          <a:xfrm>
            <a:off x="3395520" y="3371760"/>
            <a:ext cx="2357640" cy="522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SQRT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420"/>
          <p:cNvSpPr/>
          <p:nvPr/>
        </p:nvSpPr>
        <p:spPr>
          <a:xfrm>
            <a:off x="3395520" y="1563840"/>
            <a:ext cx="2357640" cy="4968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ABS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422"/>
          <p:cNvSpPr/>
          <p:nvPr/>
        </p:nvSpPr>
        <p:spPr>
          <a:xfrm>
            <a:off x="5940360" y="4264200"/>
            <a:ext cx="1276560" cy="5680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in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423"/>
          <p:cNvSpPr/>
          <p:nvPr/>
        </p:nvSpPr>
        <p:spPr>
          <a:xfrm>
            <a:off x="5940360" y="5208480"/>
            <a:ext cx="1276560" cy="5256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os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425"/>
          <p:cNvSpPr/>
          <p:nvPr/>
        </p:nvSpPr>
        <p:spPr>
          <a:xfrm>
            <a:off x="5940360" y="2487600"/>
            <a:ext cx="1276560" cy="4906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x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26"/>
          <p:cNvSpPr/>
          <p:nvPr/>
        </p:nvSpPr>
        <p:spPr>
          <a:xfrm>
            <a:off x="5940360" y="1554120"/>
            <a:ext cx="1276560" cy="5065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|x|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428"/>
          <p:cNvSpPr/>
          <p:nvPr/>
        </p:nvSpPr>
        <p:spPr>
          <a:xfrm>
            <a:off x="5940360" y="3371760"/>
            <a:ext cx="1276560" cy="522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430"/>
          <p:cNvSpPr/>
          <p:nvPr/>
        </p:nvSpPr>
        <p:spPr>
          <a:xfrm>
            <a:off x="1258920" y="1554120"/>
            <a:ext cx="1873080" cy="3952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431"/>
          <p:cNvSpPr/>
          <p:nvPr/>
        </p:nvSpPr>
        <p:spPr>
          <a:xfrm>
            <a:off x="1258920" y="2060640"/>
            <a:ext cx="1873080" cy="360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432"/>
          <p:cNvSpPr/>
          <p:nvPr/>
        </p:nvSpPr>
        <p:spPr>
          <a:xfrm>
            <a:off x="1258920" y="2637000"/>
            <a:ext cx="1873080" cy="4395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433"/>
          <p:cNvSpPr/>
          <p:nvPr/>
        </p:nvSpPr>
        <p:spPr>
          <a:xfrm>
            <a:off x="1258920" y="3276720"/>
            <a:ext cx="1873080" cy="5047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де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434"/>
          <p:cNvSpPr/>
          <p:nvPr/>
        </p:nvSpPr>
        <p:spPr>
          <a:xfrm>
            <a:off x="1254240" y="4051440"/>
            <a:ext cx="1876320" cy="7696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делени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наце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435"/>
          <p:cNvSpPr/>
          <p:nvPr/>
        </p:nvSpPr>
        <p:spPr>
          <a:xfrm>
            <a:off x="1257480" y="4964040"/>
            <a:ext cx="1874520" cy="765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Остаток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от  д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28"/>
          <p:cNvSpPr/>
          <p:nvPr/>
        </p:nvSpPr>
        <p:spPr>
          <a:xfrm>
            <a:off x="250920" y="333360"/>
            <a:ext cx="2879640" cy="82548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Арифметические оп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29"/>
          <p:cNvSpPr/>
          <p:nvPr/>
        </p:nvSpPr>
        <p:spPr>
          <a:xfrm>
            <a:off x="3306600" y="317520"/>
            <a:ext cx="2471760" cy="82548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30"/>
          <p:cNvSpPr/>
          <p:nvPr/>
        </p:nvSpPr>
        <p:spPr>
          <a:xfrm>
            <a:off x="5940360" y="317520"/>
            <a:ext cx="1359000" cy="82548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F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Line 429"/>
          <p:cNvSpPr/>
          <p:nvPr/>
        </p:nvSpPr>
        <p:spPr>
          <a:xfrm>
            <a:off x="6568920" y="344664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WordArt 482"/>
          <p:cNvSpPr txBox="1"/>
          <p:nvPr/>
        </p:nvSpPr>
        <p:spPr>
          <a:xfrm>
            <a:off x="826920" y="189000"/>
            <a:ext cx="792180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Правила записи арифметических выражений</a:t>
            </a:r>
            <a:endParaRPr b="0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66" name="Text Box 149"/>
          <p:cNvSpPr/>
          <p:nvPr/>
        </p:nvSpPr>
        <p:spPr>
          <a:xfrm>
            <a:off x="114480" y="3068640"/>
            <a:ext cx="8928000" cy="33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авила  записи  арифметических  выраж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74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рифметическое  выражение  записывается  в  стро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74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льзя  ставить  подряд  два  знака  арифметических  опер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74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льзя  опускать  знак  умножения  между  сомножител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74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спользуются  только  круглые  скоб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74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ледовательность  выполнения  операций  определяется  по  их  приорите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395">
            <a:hlinkClick r:id="rId1" action="ppaction://hlinksldjump"/>
          </p:cNvPr>
          <p:cNvSpPr/>
          <p:nvPr/>
        </p:nvSpPr>
        <p:spPr>
          <a:xfrm>
            <a:off x="1690560" y="836640"/>
            <a:ext cx="4030920" cy="169236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Приоритеты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выполнения  опер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66"/>
          <p:cNvSpPr/>
          <p:nvPr/>
        </p:nvSpPr>
        <p:spPr>
          <a:xfrm>
            <a:off x="2209680" y="1682640"/>
            <a:ext cx="397080" cy="719280"/>
          </a:xfrm>
          <a:prstGeom prst="rect">
            <a:avLst/>
          </a:prstGeom>
          <a:solidFill>
            <a:srgbClr val="2da2bf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467"/>
          <p:cNvSpPr/>
          <p:nvPr/>
        </p:nvSpPr>
        <p:spPr>
          <a:xfrm>
            <a:off x="2606760" y="2030400"/>
            <a:ext cx="35856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468"/>
          <p:cNvSpPr/>
          <p:nvPr/>
        </p:nvSpPr>
        <p:spPr>
          <a:xfrm>
            <a:off x="2965320" y="1682640"/>
            <a:ext cx="613080" cy="719280"/>
          </a:xfrm>
          <a:prstGeom prst="rect">
            <a:avLst/>
          </a:prstGeom>
          <a:solidFill>
            <a:srgbClr val="2da2bf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Line 469"/>
          <p:cNvSpPr/>
          <p:nvPr/>
        </p:nvSpPr>
        <p:spPr>
          <a:xfrm>
            <a:off x="3614760" y="2041560"/>
            <a:ext cx="3589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470"/>
          <p:cNvSpPr/>
          <p:nvPr/>
        </p:nvSpPr>
        <p:spPr>
          <a:xfrm>
            <a:off x="3938760" y="1682640"/>
            <a:ext cx="934920" cy="719280"/>
          </a:xfrm>
          <a:prstGeom prst="rect">
            <a:avLst/>
          </a:prstGeom>
          <a:solidFill>
            <a:srgbClr val="c0c0c0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Line 471"/>
          <p:cNvSpPr/>
          <p:nvPr/>
        </p:nvSpPr>
        <p:spPr>
          <a:xfrm>
            <a:off x="4873680" y="2043000"/>
            <a:ext cx="35856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472"/>
          <p:cNvSpPr/>
          <p:nvPr/>
        </p:nvSpPr>
        <p:spPr>
          <a:xfrm>
            <a:off x="5234040" y="1682640"/>
            <a:ext cx="325440" cy="719280"/>
          </a:xfrm>
          <a:prstGeom prst="rect">
            <a:avLst/>
          </a:prstGeom>
          <a:solidFill>
            <a:srgbClr val="c0c0c0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473"/>
          <p:cNvSpPr/>
          <p:nvPr/>
        </p:nvSpPr>
        <p:spPr>
          <a:xfrm>
            <a:off x="3973680" y="1717560"/>
            <a:ext cx="25236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474"/>
          <p:cNvSpPr/>
          <p:nvPr/>
        </p:nvSpPr>
        <p:spPr>
          <a:xfrm>
            <a:off x="3973680" y="2077920"/>
            <a:ext cx="25236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475"/>
          <p:cNvSpPr/>
          <p:nvPr/>
        </p:nvSpPr>
        <p:spPr>
          <a:xfrm>
            <a:off x="5270400" y="1717560"/>
            <a:ext cx="25416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476"/>
          <p:cNvSpPr/>
          <p:nvPr/>
        </p:nvSpPr>
        <p:spPr>
          <a:xfrm>
            <a:off x="5270400" y="2077920"/>
            <a:ext cx="25416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477"/>
          <p:cNvSpPr/>
          <p:nvPr/>
        </p:nvSpPr>
        <p:spPr>
          <a:xfrm>
            <a:off x="4299120" y="1717560"/>
            <a:ext cx="53964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478"/>
          <p:cNvSpPr/>
          <p:nvPr/>
        </p:nvSpPr>
        <p:spPr>
          <a:xfrm>
            <a:off x="4299120" y="2077920"/>
            <a:ext cx="53964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ик 6"/>
          <p:cNvSpPr/>
          <p:nvPr/>
        </p:nvSpPr>
        <p:spPr>
          <a:xfrm>
            <a:off x="382680" y="4292640"/>
            <a:ext cx="8358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1e25"/>
                </a:solidFill>
                <a:latin typeface="Lucida Sans Unicode"/>
                <a:ea typeface="Arial"/>
              </a:rPr>
              <a:t>x:=</a:t>
            </a:r>
            <a:r>
              <a:rPr b="0" lang="ru-RU" sz="3200" spc="-1" strike="noStrike">
                <a:solidFill>
                  <a:srgbClr val="3f1e25"/>
                </a:solidFill>
                <a:latin typeface="Lucida Sans Unicode"/>
                <a:ea typeface="Arial"/>
              </a:rPr>
              <a:t>(</a:t>
            </a:r>
            <a:r>
              <a:rPr b="0" lang="en-US" sz="3200" spc="-1" strike="noStrike">
                <a:solidFill>
                  <a:srgbClr val="3f1e25"/>
                </a:solidFill>
                <a:latin typeface="Lucida Sans Unicode"/>
                <a:ea typeface="Arial"/>
              </a:rPr>
              <a:t>a*a+5*c*c-d*(a+b))/((c+d)*(d-2*a)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2"/>
              <p:cNvSpPr txBox="1"/>
              <p:nvPr/>
            </p:nvSpPr>
            <p:spPr>
              <a:xfrm>
                <a:off x="2741760" y="2133720"/>
                <a:ext cx="35715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83" name="Заголовок 4" descr=""/>
          <p:cNvPicPr/>
          <p:nvPr/>
        </p:nvPicPr>
        <p:blipFill>
          <a:blip r:embed="rId1"/>
          <a:stretch/>
        </p:blipFill>
        <p:spPr>
          <a:xfrm>
            <a:off x="92160" y="950760"/>
            <a:ext cx="9058320" cy="1079640"/>
          </a:xfrm>
          <a:prstGeom prst="rect">
            <a:avLst/>
          </a:prstGeom>
          <a:ln w="0">
            <a:noFill/>
          </a:ln>
        </p:spPr>
      </p:pic>
      <p:sp>
        <p:nvSpPr>
          <p:cNvPr id="484" name="Прямоугольник 5"/>
          <p:cNvSpPr/>
          <p:nvPr/>
        </p:nvSpPr>
        <p:spPr>
          <a:xfrm>
            <a:off x="324000" y="18900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Задание </a:t>
            </a:r>
            <a:r>
              <a:rPr b="0" lang="en-US" sz="4000" spc="-1" strike="noStrike">
                <a:solidFill>
                  <a:srgbClr val="227a8f"/>
                </a:solidFill>
                <a:latin typeface="Lucida Sans Unicode"/>
              </a:rPr>
              <a:t>3</a:t>
            </a: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Заголовок 8" descr=""/>
          <p:cNvPicPr/>
          <p:nvPr/>
        </p:nvPicPr>
        <p:blipFill>
          <a:blip r:embed="rId1"/>
          <a:stretch/>
        </p:blipFill>
        <p:spPr>
          <a:xfrm>
            <a:off x="66600" y="133200"/>
            <a:ext cx="3597480" cy="8416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-360" y="1628640"/>
            <a:ext cx="80722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program zadacha1;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var a, b: integer;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x, y: real;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begin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a := 5;  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10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:= x;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y := 7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,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8;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b := 2.5;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x := 2*(a + b); 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a := b + x;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end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7" name="Прямоугольная выноска 4"/>
          <p:cNvSpPr/>
          <p:nvPr/>
        </p:nvSpPr>
        <p:spPr>
          <a:xfrm>
            <a:off x="3564000" y="2060640"/>
            <a:ext cx="4643280" cy="1144440"/>
          </a:xfrm>
          <a:prstGeom prst="wedgeRectCallout">
            <a:avLst>
              <a:gd name="adj1" fmla="val -86393"/>
              <a:gd name="adj2" fmla="val 118504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имя переменной должно быть слева от знака </a:t>
            </a:r>
            <a:r>
              <a:rPr b="1" lang="en-US" sz="2400" spc="-1" strike="noStrike">
                <a:solidFill>
                  <a:srgbClr val="3f1e25"/>
                </a:solidFill>
                <a:latin typeface="Lucida Sans Unicode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Прямоугольная выноска 5"/>
          <p:cNvSpPr/>
          <p:nvPr/>
        </p:nvSpPr>
        <p:spPr>
          <a:xfrm>
            <a:off x="4932360" y="3429000"/>
            <a:ext cx="3997440" cy="1279440"/>
          </a:xfrm>
          <a:prstGeom prst="wedgeRectCallout">
            <a:avLst>
              <a:gd name="adj1" fmla="val -114925"/>
              <a:gd name="adj2" fmla="val 51523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целая и дробная часть отделяются запятой и несоответствие тип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Прямоугольная выноска 6"/>
          <p:cNvSpPr/>
          <p:nvPr/>
        </p:nvSpPr>
        <p:spPr>
          <a:xfrm>
            <a:off x="4421160" y="5157720"/>
            <a:ext cx="2928960" cy="714600"/>
          </a:xfrm>
          <a:prstGeom prst="wedgeRectCallout">
            <a:avLst>
              <a:gd name="adj1" fmla="val -114490"/>
              <a:gd name="adj2" fmla="val 28157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Несоответствие тип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9"/>
          <p:cNvSpPr/>
          <p:nvPr/>
        </p:nvSpPr>
        <p:spPr>
          <a:xfrm>
            <a:off x="324000" y="98100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1e25"/>
                </a:solidFill>
                <a:latin typeface="Lucida Sans Unicode"/>
              </a:rPr>
              <a:t>Найдите ошибки в записи програм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1" descr=""/>
          <p:cNvPicPr/>
          <p:nvPr/>
        </p:nvPicPr>
        <p:blipFill>
          <a:blip r:embed="rId1"/>
          <a:stretch/>
        </p:blipFill>
        <p:spPr>
          <a:xfrm>
            <a:off x="506520" y="762120"/>
            <a:ext cx="8272440" cy="104760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оугольник 5"/>
          <p:cNvSpPr/>
          <p:nvPr/>
        </p:nvSpPr>
        <p:spPr>
          <a:xfrm>
            <a:off x="338040" y="1773360"/>
            <a:ext cx="75726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6"/>
          <p:cNvSpPr/>
          <p:nvPr/>
        </p:nvSpPr>
        <p:spPr>
          <a:xfrm>
            <a:off x="338040" y="105480"/>
            <a:ext cx="72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Задание </a:t>
            </a:r>
            <a:r>
              <a:rPr b="0" lang="en-US" sz="4000" spc="-1" strike="noStrike">
                <a:solidFill>
                  <a:srgbClr val="227a8f"/>
                </a:solidFill>
                <a:latin typeface="Lucida Sans Unicode"/>
              </a:rPr>
              <a:t>4</a:t>
            </a: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оугольник 6"/>
          <p:cNvSpPr/>
          <p:nvPr/>
        </p:nvSpPr>
        <p:spPr>
          <a:xfrm>
            <a:off x="290520" y="692280"/>
            <a:ext cx="855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Напишите программу вычисления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y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 по формуле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1e25"/>
                </a:solidFill>
                <a:latin typeface="Lucida Sans Unicode"/>
              </a:rPr>
              <a:t>y</a:t>
            </a: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 = ( 1- </a:t>
            </a:r>
            <a:r>
              <a:rPr b="1" lang="en-US" sz="2400" spc="-1" strike="noStrike">
                <a:solidFill>
                  <a:srgbClr val="3f1e25"/>
                </a:solidFill>
                <a:latin typeface="Lucida Sans Unicode"/>
              </a:rPr>
              <a:t>x</a:t>
            </a:r>
            <a:r>
              <a:rPr b="1" lang="ru-RU" sz="2400" spc="-1" strike="noStrike" baseline="30000">
                <a:solidFill>
                  <a:srgbClr val="3f1e25"/>
                </a:solidFill>
                <a:latin typeface="Lucida Sans Unicode"/>
              </a:rPr>
              <a:t>2 </a:t>
            </a: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+ 5</a:t>
            </a:r>
            <a:r>
              <a:rPr b="1" lang="en-US" sz="2400" spc="-1" strike="noStrike">
                <a:solidFill>
                  <a:srgbClr val="3f1e25"/>
                </a:solidFill>
                <a:latin typeface="Lucida Sans Unicode"/>
              </a:rPr>
              <a:t>x</a:t>
            </a:r>
            <a:r>
              <a:rPr b="1" lang="ru-RU" sz="2400" spc="-1" strike="noStrike" baseline="30000">
                <a:solidFill>
                  <a:srgbClr val="3f1e25"/>
                </a:solidFill>
                <a:latin typeface="Lucida Sans Unicode"/>
              </a:rPr>
              <a:t>4 </a:t>
            </a: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)</a:t>
            </a:r>
            <a:r>
              <a:rPr b="1" lang="ru-RU" sz="2400" spc="-1" strike="noStrike" baseline="30000">
                <a:solidFill>
                  <a:srgbClr val="3f1e25"/>
                </a:solidFill>
                <a:latin typeface="Lucida Sans Unicode"/>
              </a:rPr>
              <a:t>2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, где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x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 - данное </a:t>
            </a: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целое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Прямоугольник 2"/>
          <p:cNvSpPr/>
          <p:nvPr/>
        </p:nvSpPr>
        <p:spPr>
          <a:xfrm>
            <a:off x="290520" y="1774800"/>
            <a:ext cx="6010200" cy="34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Program zadacha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Var 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х, у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В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e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Write(‘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Введите целое число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’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Read(x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y:=sqr(1-sqr(x)+5*sqr(sqr(x))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Write(‘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Значение у равно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’,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04" name="Прямоугольник 2" descr=""/>
          <p:cNvPicPr/>
          <p:nvPr/>
        </p:nvPicPr>
        <p:blipFill>
          <a:blip r:embed="rId2"/>
          <a:stretch/>
        </p:blipFill>
        <p:spPr>
          <a:xfrm>
            <a:off x="2212920" y="2298600"/>
            <a:ext cx="3816360" cy="2827440"/>
          </a:xfrm>
          <a:prstGeom prst="rect">
            <a:avLst/>
          </a:prstGeom>
          <a:ln w="0">
            <a:noFill/>
          </a:ln>
        </p:spPr>
      </p:pic>
      <p:sp>
        <p:nvSpPr>
          <p:cNvPr id="505" name="Прямая соединительная линия 4"/>
          <p:cNvSpPr/>
          <p:nvPr/>
        </p:nvSpPr>
        <p:spPr>
          <a:xfrm>
            <a:off x="2916360" y="3730680"/>
            <a:ext cx="576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Прямая соединительная линия 6"/>
          <p:cNvSpPr/>
          <p:nvPr/>
        </p:nvSpPr>
        <p:spPr>
          <a:xfrm>
            <a:off x="4716360" y="3730680"/>
            <a:ext cx="576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Деление 7"/>
          <p:cNvSpPr/>
          <p:nvPr/>
        </p:nvSpPr>
        <p:spPr>
          <a:xfrm>
            <a:off x="3851280" y="3481560"/>
            <a:ext cx="649440" cy="720720"/>
          </a:xfrm>
          <a:prstGeom prst="pie">
            <a:avLst/>
          </a:prstGeom>
          <a:solidFill>
            <a:srgbClr val="7d3c4a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Равно 8"/>
          <p:cNvSpPr/>
          <p:nvPr/>
        </p:nvSpPr>
        <p:spPr>
          <a:xfrm>
            <a:off x="5724360" y="3524400"/>
            <a:ext cx="863640" cy="647640"/>
          </a:xfrm>
          <a:prstGeom prst="pie">
            <a:avLst/>
          </a:prstGeom>
          <a:solidFill>
            <a:srgbClr val="7d3c4a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752120"/>
            <a:ext cx="85075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263c"/>
                </a:solidFill>
                <a:latin typeface="Lucida Sans Unicode"/>
              </a:rPr>
              <a:t>выяснить структуру программы, операторы, правила оформления и пунктуацию языка </a:t>
            </a:r>
            <a:r>
              <a:rPr b="0" lang="en-US" sz="3200" spc="-1" strike="noStrike">
                <a:solidFill>
                  <a:srgbClr val="23263c"/>
                </a:solidFill>
                <a:latin typeface="Lucida Sans Unicode"/>
              </a:rPr>
              <a:t>Turbo Pascal</a:t>
            </a:r>
            <a:r>
              <a:rPr b="0" lang="ru-RU" sz="3200" spc="-1" strike="noStrike">
                <a:solidFill>
                  <a:srgbClr val="23263c"/>
                </a:solidFill>
                <a:latin typeface="Lucida Sans Unico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0" name="Овал 2"/>
          <p:cNvSpPr/>
          <p:nvPr/>
        </p:nvSpPr>
        <p:spPr>
          <a:xfrm>
            <a:off x="684360" y="1557360"/>
            <a:ext cx="1699920" cy="431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Параллелограмм 3"/>
          <p:cNvSpPr/>
          <p:nvPr/>
        </p:nvSpPr>
        <p:spPr>
          <a:xfrm>
            <a:off x="922320" y="2268360"/>
            <a:ext cx="1152720" cy="505080"/>
          </a:xfrm>
          <a:prstGeom prst="parallelogram">
            <a:avLst>
              <a:gd name="adj" fmla="val 2498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,b,c,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Прямоугольник 4"/>
          <p:cNvSpPr/>
          <p:nvPr/>
        </p:nvSpPr>
        <p:spPr>
          <a:xfrm>
            <a:off x="822240" y="2997360"/>
            <a:ext cx="1562040" cy="7189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:=A*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Прямоугольник 5"/>
          <p:cNvSpPr/>
          <p:nvPr/>
        </p:nvSpPr>
        <p:spPr>
          <a:xfrm>
            <a:off x="822240" y="3933720"/>
            <a:ext cx="1562040" cy="7905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N:=B*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Параллелограмм 6"/>
          <p:cNvSpPr/>
          <p:nvPr/>
        </p:nvSpPr>
        <p:spPr>
          <a:xfrm>
            <a:off x="816120" y="5003640"/>
            <a:ext cx="1461960" cy="648000"/>
          </a:xfrm>
          <a:prstGeom prst="parallelogram">
            <a:avLst>
              <a:gd name="adj" fmla="val 2498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Овал 7"/>
          <p:cNvSpPr/>
          <p:nvPr/>
        </p:nvSpPr>
        <p:spPr>
          <a:xfrm>
            <a:off x="684360" y="5950080"/>
            <a:ext cx="1726920" cy="718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Прямая соединительная линия 9"/>
          <p:cNvSpPr/>
          <p:nvPr/>
        </p:nvSpPr>
        <p:spPr>
          <a:xfrm>
            <a:off x="2916360" y="1557360"/>
            <a:ext cx="71280" cy="530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7" name="Прямая со стрелкой 12"/>
          <p:cNvCxnSpPr>
            <a:stCxn id="510" idx="4"/>
            <a:endCxn id="511" idx="1"/>
          </p:cNvCxnSpPr>
          <p:nvPr/>
        </p:nvCxnSpPr>
        <p:spPr>
          <a:xfrm>
            <a:off x="1534680" y="1989000"/>
            <a:ext cx="277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8" name="Прямая со стрелкой 17"/>
          <p:cNvCxnSpPr/>
          <p:nvPr/>
        </p:nvCxnSpPr>
        <p:spPr>
          <a:xfrm>
            <a:off x="1541160" y="277344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9" name="Прямая со стрелкой 18"/>
          <p:cNvCxnSpPr/>
          <p:nvPr/>
        </p:nvCxnSpPr>
        <p:spPr>
          <a:xfrm>
            <a:off x="1550880" y="3720600"/>
            <a:ext cx="15120" cy="28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0" name="Прямая со стрелкой 19"/>
          <p:cNvCxnSpPr/>
          <p:nvPr/>
        </p:nvCxnSpPr>
        <p:spPr>
          <a:xfrm>
            <a:off x="1564920" y="474984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1" name="Прямая со стрелкой 20"/>
          <p:cNvCxnSpPr/>
          <p:nvPr/>
        </p:nvCxnSpPr>
        <p:spPr>
          <a:xfrm>
            <a:off x="1525320" y="565956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2" name="TextBox 15"/>
          <p:cNvSpPr/>
          <p:nvPr/>
        </p:nvSpPr>
        <p:spPr>
          <a:xfrm>
            <a:off x="3132000" y="1959120"/>
            <a:ext cx="32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Delenie_d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 a,b,c,d,m,n: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ln(a,b,c,d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:=a*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:=b*c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ln (m,n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3" name="Прямая со стрелкой 10"/>
          <p:cNvCxnSpPr>
            <a:stCxn id="510" idx="6"/>
          </p:cNvCxnSpPr>
          <p:nvPr/>
        </p:nvCxnSpPr>
        <p:spPr>
          <a:xfrm>
            <a:off x="2383920" y="1773000"/>
            <a:ext cx="748440" cy="136908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524" name="Прямая со стрелкой 21"/>
          <p:cNvCxnSpPr>
            <a:stCxn id="511" idx="2"/>
          </p:cNvCxnSpPr>
          <p:nvPr/>
        </p:nvCxnSpPr>
        <p:spPr>
          <a:xfrm>
            <a:off x="2011320" y="2521080"/>
            <a:ext cx="977040" cy="104040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525" name="Прямая со стрелкой 22"/>
          <p:cNvCxnSpPr>
            <a:stCxn id="513" idx="3"/>
          </p:cNvCxnSpPr>
          <p:nvPr/>
        </p:nvCxnSpPr>
        <p:spPr>
          <a:xfrm flipV="1">
            <a:off x="2383920" y="4328280"/>
            <a:ext cx="748440" cy="108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526" name="Прямая со стрелкой 23"/>
          <p:cNvCxnSpPr>
            <a:stCxn id="512" idx="3"/>
          </p:cNvCxnSpPr>
          <p:nvPr/>
        </p:nvCxnSpPr>
        <p:spPr>
          <a:xfrm>
            <a:off x="2384280" y="3357360"/>
            <a:ext cx="791280" cy="61956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527" name="Прямая со стрелкой 24"/>
          <p:cNvCxnSpPr>
            <a:stCxn id="514" idx="2"/>
          </p:cNvCxnSpPr>
          <p:nvPr/>
        </p:nvCxnSpPr>
        <p:spPr>
          <a:xfrm flipV="1">
            <a:off x="2197080" y="4684680"/>
            <a:ext cx="962640" cy="64332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528" name="Прямая со стрелкой 25"/>
          <p:cNvCxnSpPr>
            <a:stCxn id="515" idx="6"/>
          </p:cNvCxnSpPr>
          <p:nvPr/>
        </p:nvCxnSpPr>
        <p:spPr>
          <a:xfrm flipV="1">
            <a:off x="2411280" y="5028840"/>
            <a:ext cx="721440" cy="128160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4"/>
          <p:cNvSpPr/>
          <p:nvPr/>
        </p:nvSpPr>
        <p:spPr>
          <a:xfrm>
            <a:off x="1835280" y="1855800"/>
            <a:ext cx="655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enie_drob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 a,b,c,d,m,n: intege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ln(a,b,c,d);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{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Ввод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:=a*d;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{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Числитель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:=b*c; 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{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Знаменатель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ln(m, ’/’ , n)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{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Вывод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7488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-66600" y="1316160"/>
            <a:ext cx="6765840" cy="3159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-360" y="14292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664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Lucida Sans Unicode"/>
              </a:rPr>
              <a:t>  </a:t>
            </a: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Система программирования </a:t>
            </a:r>
            <a:r>
              <a:rPr b="0" lang="en-US" sz="4000" spc="-1" strike="noStrike">
                <a:solidFill>
                  <a:srgbClr val="227a8f"/>
                </a:solidFill>
                <a:latin typeface="Lucida Sans Unicode"/>
              </a:rPr>
              <a:t>TURBO PASCAL.</a:t>
            </a: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2"/>
          <a:stretch/>
        </p:blipFill>
        <p:spPr>
          <a:xfrm>
            <a:off x="6732720" y="907920"/>
            <a:ext cx="2209680" cy="310536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250920" y="443700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Lucida Sans Unicode"/>
              </a:rPr>
              <a:t>Паскаль</a:t>
            </a:r>
            <a:r>
              <a:rPr b="0" lang="ru-RU" sz="28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– это универсальный язык программирования, позволяющий решать самые разнообразные задачи обработки информ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108000" y="1773360"/>
            <a:ext cx="89280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1)язык программирования Т</a:t>
            </a:r>
            <a:r>
              <a:rPr b="0" lang="en-US" sz="2800" spc="-1" strike="noStrike">
                <a:solidFill>
                  <a:srgbClr val="23263c"/>
                </a:solidFill>
                <a:latin typeface="Lucida Sans Unicode"/>
              </a:rPr>
              <a:t>urbo Pascal</a:t>
            </a: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2)интегрированная среда программирования(</a:t>
            </a:r>
            <a:r>
              <a:rPr b="0" lang="ru-RU" sz="2800" spc="-1" strike="noStrike" u="sng">
                <a:solidFill>
                  <a:srgbClr val="23263c"/>
                </a:solidFill>
                <a:uFillTx/>
                <a:latin typeface="Lucida Sans Unicode"/>
              </a:rPr>
              <a:t>компилятор</a:t>
            </a: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: переводит программу в машинный код и </a:t>
            </a:r>
            <a:r>
              <a:rPr b="0" lang="ru-RU" sz="2800" spc="-1" strike="noStrike" u="sng">
                <a:solidFill>
                  <a:srgbClr val="23263c"/>
                </a:solidFill>
                <a:uFillTx/>
                <a:latin typeface="Lucida Sans Unicode"/>
              </a:rPr>
              <a:t>интерпретатор</a:t>
            </a: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: исполняет команды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-176040" y="450720"/>
            <a:ext cx="921672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Овал 2"/>
          <p:cNvSpPr/>
          <p:nvPr/>
        </p:nvSpPr>
        <p:spPr>
          <a:xfrm>
            <a:off x="684360" y="1557360"/>
            <a:ext cx="1699920" cy="431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Параллелограмм 3"/>
          <p:cNvSpPr/>
          <p:nvPr/>
        </p:nvSpPr>
        <p:spPr>
          <a:xfrm>
            <a:off x="922320" y="2268360"/>
            <a:ext cx="1152720" cy="505080"/>
          </a:xfrm>
          <a:prstGeom prst="parallelogram">
            <a:avLst>
              <a:gd name="adj" fmla="val 2498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,b,c,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Прямоугольник 4"/>
          <p:cNvSpPr/>
          <p:nvPr/>
        </p:nvSpPr>
        <p:spPr>
          <a:xfrm>
            <a:off x="822240" y="2997360"/>
            <a:ext cx="1562040" cy="7189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*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Прямоугольник 5"/>
          <p:cNvSpPr/>
          <p:nvPr/>
        </p:nvSpPr>
        <p:spPr>
          <a:xfrm>
            <a:off x="822240" y="3933720"/>
            <a:ext cx="1562040" cy="7905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B*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Параллелограмм 6"/>
          <p:cNvSpPr/>
          <p:nvPr/>
        </p:nvSpPr>
        <p:spPr>
          <a:xfrm>
            <a:off x="816120" y="5003640"/>
            <a:ext cx="1461960" cy="648000"/>
          </a:xfrm>
          <a:prstGeom prst="parallelogram">
            <a:avLst>
              <a:gd name="adj" fmla="val 2498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Овал 7"/>
          <p:cNvSpPr/>
          <p:nvPr/>
        </p:nvSpPr>
        <p:spPr>
          <a:xfrm>
            <a:off x="684360" y="5950080"/>
            <a:ext cx="1726920" cy="718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Прямая соединительная линия 9"/>
          <p:cNvSpPr/>
          <p:nvPr/>
        </p:nvSpPr>
        <p:spPr>
          <a:xfrm>
            <a:off x="2916360" y="1557360"/>
            <a:ext cx="71280" cy="530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96" name="Прямая со стрелкой 12"/>
          <p:cNvCxnSpPr>
            <a:stCxn id="389" idx="4"/>
            <a:endCxn id="390" idx="1"/>
          </p:cNvCxnSpPr>
          <p:nvPr/>
        </p:nvCxnSpPr>
        <p:spPr>
          <a:xfrm>
            <a:off x="1534680" y="1989000"/>
            <a:ext cx="277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7" name="Прямая со стрелкой 17"/>
          <p:cNvCxnSpPr/>
          <p:nvPr/>
        </p:nvCxnSpPr>
        <p:spPr>
          <a:xfrm>
            <a:off x="1541160" y="277344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8" name="Прямая со стрелкой 18"/>
          <p:cNvCxnSpPr/>
          <p:nvPr/>
        </p:nvCxnSpPr>
        <p:spPr>
          <a:xfrm>
            <a:off x="1550880" y="3720600"/>
            <a:ext cx="15120" cy="28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9" name="Прямая со стрелкой 19"/>
          <p:cNvCxnSpPr/>
          <p:nvPr/>
        </p:nvCxnSpPr>
        <p:spPr>
          <a:xfrm>
            <a:off x="1564920" y="474984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Прямая со стрелкой 20"/>
          <p:cNvCxnSpPr/>
          <p:nvPr/>
        </p:nvCxnSpPr>
        <p:spPr>
          <a:xfrm>
            <a:off x="1525320" y="565956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1" name="TextBox 15"/>
          <p:cNvSpPr/>
          <p:nvPr/>
        </p:nvSpPr>
        <p:spPr>
          <a:xfrm>
            <a:off x="3187800" y="2013120"/>
            <a:ext cx="324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Delenie_d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 a,b,c,d,m,n: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ln(a,b,c,d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:=a*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:=b*c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ln (m,n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2" name="Прямая со стрелкой 10"/>
          <p:cNvCxnSpPr>
            <a:stCxn id="389" idx="6"/>
          </p:cNvCxnSpPr>
          <p:nvPr/>
        </p:nvCxnSpPr>
        <p:spPr>
          <a:xfrm>
            <a:off x="2383920" y="1773000"/>
            <a:ext cx="748440" cy="136908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403" name="Прямая со стрелкой 21"/>
          <p:cNvCxnSpPr>
            <a:stCxn id="390" idx="2"/>
          </p:cNvCxnSpPr>
          <p:nvPr/>
        </p:nvCxnSpPr>
        <p:spPr>
          <a:xfrm>
            <a:off x="2011320" y="2521080"/>
            <a:ext cx="977040" cy="104040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404" name="Прямая со стрелкой 22"/>
          <p:cNvCxnSpPr>
            <a:stCxn id="392" idx="3"/>
          </p:cNvCxnSpPr>
          <p:nvPr/>
        </p:nvCxnSpPr>
        <p:spPr>
          <a:xfrm flipV="1">
            <a:off x="2383920" y="4328280"/>
            <a:ext cx="748440" cy="108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405" name="Прямая со стрелкой 23"/>
          <p:cNvCxnSpPr>
            <a:stCxn id="391" idx="3"/>
          </p:cNvCxnSpPr>
          <p:nvPr/>
        </p:nvCxnSpPr>
        <p:spPr>
          <a:xfrm>
            <a:off x="2384280" y="3357360"/>
            <a:ext cx="791280" cy="61956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406" name="Прямая со стрелкой 24"/>
          <p:cNvCxnSpPr>
            <a:stCxn id="393" idx="2"/>
          </p:cNvCxnSpPr>
          <p:nvPr/>
        </p:nvCxnSpPr>
        <p:spPr>
          <a:xfrm flipV="1">
            <a:off x="2197080" y="4684680"/>
            <a:ext cx="962640" cy="64332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407" name="Прямая со стрелкой 25"/>
          <p:cNvCxnSpPr>
            <a:stCxn id="394" idx="6"/>
          </p:cNvCxnSpPr>
          <p:nvPr/>
        </p:nvCxnSpPr>
        <p:spPr>
          <a:xfrm flipV="1">
            <a:off x="2411280" y="5028840"/>
            <a:ext cx="721440" cy="128160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133200" y="2048040"/>
            <a:ext cx="8589960" cy="40906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424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Lucida Sans Unicode"/>
              </a:rPr>
              <a:t>Алфавит языка программирования </a:t>
            </a:r>
            <a:r>
              <a:rPr b="0" lang="en-US" sz="3200" spc="-1" strike="noStrike">
                <a:solidFill>
                  <a:srgbClr val="227a8f"/>
                </a:solidFill>
                <a:latin typeface="Lucida Sans Unicode"/>
              </a:rPr>
              <a:t>TURBO PASCAL</a:t>
            </a:r>
            <a:r>
              <a:rPr b="0" lang="ru-RU" sz="3200" spc="-1" strike="noStrike">
                <a:solidFill>
                  <a:srgbClr val="227a8f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8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49"/>
          <p:cNvSpPr/>
          <p:nvPr/>
        </p:nvSpPr>
        <p:spPr>
          <a:xfrm>
            <a:off x="181080" y="2852640"/>
            <a:ext cx="4336920" cy="3112200"/>
          </a:xfrm>
          <a:prstGeom prst="rect">
            <a:avLst/>
          </a:prstGeom>
          <a:solidFill>
            <a:srgbClr val="ffff00"/>
          </a:soli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8119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IME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;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x, y, z, F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</a:t>
            </a:r>
            <a:r>
              <a:rPr b="0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INTEGE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</a:t>
            </a:r>
            <a:r>
              <a:rPr b="0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BEGIN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READ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x, y, z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;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1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:=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(x + y + z)*2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;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WRITELN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176040" y="765000"/>
            <a:ext cx="64454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тип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пер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4573440" y="2852640"/>
            <a:ext cx="4462560" cy="4597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Заголовок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6"/>
          <p:cNvSpPr/>
          <p:nvPr/>
        </p:nvSpPr>
        <p:spPr>
          <a:xfrm>
            <a:off x="4572000" y="3314880"/>
            <a:ext cx="446400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дел описания перемен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4597560" y="3890880"/>
            <a:ext cx="4438440" cy="17398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дел операторов                                                    (основная част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2"/>
          <p:cNvSpPr/>
          <p:nvPr/>
        </p:nvSpPr>
        <p:spPr>
          <a:xfrm>
            <a:off x="250920" y="981000"/>
            <a:ext cx="2520720" cy="375156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     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Переме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115920" y="4516560"/>
            <a:ext cx="8786880" cy="26542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дел описания переменных начинается со слова 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Var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, за  которым  идет список  имен  однотипных переменных через  запятую. В  языке  Паскаль  существует   два  числовых   типа  величин: вещественный (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и целый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Имена переменных составляются  из  латинских  букв  и цифр, причем первым символом - бук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108000" y="657360"/>
            <a:ext cx="8785080" cy="375156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переменная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=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арифметическое выражение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Прямоугольник 4"/>
          <p:cNvSpPr/>
          <p:nvPr/>
        </p:nvSpPr>
        <p:spPr>
          <a:xfrm>
            <a:off x="108000" y="1090440"/>
            <a:ext cx="8785080" cy="7192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R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371-PC</cp:lastModifiedBy>
  <dcterms:modified xsi:type="dcterms:W3CDTF">2024-01-04T19:08:22Z</dcterms:modified>
  <cp:revision>72</cp:revision>
  <dc:subject/>
  <dc:title>Шаблон презентации</dc:title>
</cp:coreProperties>
</file>