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7BFF-7555-4F44-9717-9AFE92409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040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665B-326D-4461-8EAA-D1F7C8ED7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6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72BC-5DD6-4DCA-8532-1F62E7F03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24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192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24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192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F9B1-0FCF-42B9-8DDB-A3D748878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9643-90B1-46FF-99C2-590801F8A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0D0A-E5F4-49BB-B57A-26E90D038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95C7-A32B-4C86-906F-13FB82737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7925-3E88-40BF-93CE-54DC57DDB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300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D95A-4FC0-40E1-B7BD-438D823CD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409F-46E8-452E-B395-06C560B5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6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356D-2E6B-483C-91E6-2B615E5D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D89E-8199-4B5B-9AE4-A07651FD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78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0BF50C-DF63-4AD0-BAE9-85743656B4DC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6000" y="2448000"/>
            <a:ext cx="907092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7826"/>
                </a:solidFill>
                <a:latin typeface="Arial"/>
              </a:rPr>
              <a:t>Урок 15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7826"/>
                </a:solidFill>
                <a:latin typeface="Arial"/>
                <a:ea typeface="Times New Roman"/>
              </a:rPr>
              <a:t>Микроэволюция и макроэволю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519280" y="2303640"/>
            <a:ext cx="3713400" cy="30636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008000" y="503280"/>
            <a:ext cx="8213760" cy="61516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63640" y="831960"/>
            <a:ext cx="8213760" cy="615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7826"/>
                </a:solidFill>
                <a:latin typeface="Arial"/>
                <a:ea typeface="TimesNewRomanPSMT"/>
              </a:rPr>
              <a:t>Конверген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76360" y="1562040"/>
            <a:ext cx="8856720" cy="1101960"/>
          </a:xfrm>
          <a:prstGeom prst="roundRect">
            <a:avLst>
              <a:gd name="adj" fmla="val 144"/>
            </a:avLst>
          </a:prstGeom>
          <a:solidFill>
            <a:srgbClr val="99cc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MT"/>
                <a:ea typeface="ArialMT"/>
              </a:rPr>
              <a:t>Конвергенция</a:t>
            </a:r>
            <a:r>
              <a:rPr b="0" lang="ru-RU" sz="1800" spc="-1" strike="noStrike">
                <a:solidFill>
                  <a:srgbClr val="000000"/>
                </a:solidFill>
                <a:latin typeface="ArialMT"/>
                <a:ea typeface="ArialMT"/>
              </a:rPr>
              <a:t> — эволюционный процесс, при котором возникает сходство между организмами различных систематических групп из-за того, что они обитают в схожих условиях окружающей сре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6560" y="3024360"/>
            <a:ext cx="365616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абота с учебником: стр.11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28760" y="3600360"/>
            <a:ext cx="2235240" cy="3359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488360" y="3719520"/>
            <a:ext cx="2406600" cy="32637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224000" y="6999120"/>
            <a:ext cx="9666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акт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848720" y="6983280"/>
            <a:ext cx="11109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олоч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08360" y="4248000"/>
            <a:ext cx="506880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oизрaстaя в oчeнь пoхoжих yслoвия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aрких пyстынь (oднo — в Aмeрикe, a дрyг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Aфрикe), oбa рaстeния нeзaвисимo дрy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oт дрyгa приoбрeли тoлстый стeбeл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oбы нaкaпливaть влaгy, и шипы д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aщиты oт пoeдaния живoт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7826"/>
                </a:solidFill>
                <a:latin typeface="Arial"/>
                <a:ea typeface="TimesNewRomanPSMT"/>
              </a:rPr>
              <a:t>Понятие о макроэволю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кроэволюция органического мира — это процесс формирования крупных систематических единиц: из видов — новых родов, из родов — новых семейств и т. 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цессы образования новых видов и процессы формирования более крупных систематических групп не имеют значительных различий. В основе макроэволюции лежат микроэволюционные факторы: изменчивость, борьба за существование и естественный отб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тличие от микроэволюции макроэволюция недоступна непосредственному наблюдению и экспериментальному подтверждению, так как происходит медленно и занимает миллионы лет. Доказательствами макроэволюции являются данные палеонтологии, сравнительной анатомии, эмбриологии, биохимии и биогеограф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7826"/>
                </a:solidFill>
                <a:latin typeface="Arial"/>
              </a:rPr>
              <a:t>Закреплени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) В процессе микроэволюции образу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ас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мей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2) Вследствие разрыва ареала происходит видообразова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ологиче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нетиче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ографиче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76000" y="1496880"/>
            <a:ext cx="9064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3) Установите соответствие  между примером и способом  видообразования, который этот пример​иллюстриру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24160" y="668160"/>
            <a:ext cx="21384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7826"/>
                </a:solidFill>
                <a:latin typeface="Arial"/>
              </a:rPr>
              <a:t>Закреп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91280" y="2879640"/>
            <a:ext cx="3024000" cy="534960"/>
          </a:xfrm>
          <a:prstGeom prst="roundRect">
            <a:avLst>
              <a:gd name="adj" fmla="val 16667"/>
            </a:avLst>
          </a:prstGeom>
          <a:solidFill>
            <a:srgbClr val="99cc66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ографическ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35640" y="4145040"/>
            <a:ext cx="3024360" cy="534960"/>
          </a:xfrm>
          <a:prstGeom prst="roundRect">
            <a:avLst>
              <a:gd name="adj" fmla="val 16667"/>
            </a:avLst>
          </a:prstGeom>
          <a:solidFill>
            <a:srgbClr val="99cc66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кологическ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60360" y="2519280"/>
          <a:ext cx="9505440" cy="3072960"/>
        </p:xfrm>
        <a:graphic>
          <a:graphicData uri="http://schemas.openxmlformats.org/drawingml/2006/table">
            <a:tbl>
              <a:tblPr/>
              <a:tblGrid>
                <a:gridCol w="5218920"/>
                <a:gridCol w="4286520"/>
              </a:tblGrid>
              <a:tr h="3646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ИДО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</a:tr>
              <a:tr h="921600">
                <a:tc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 Обита​ние раз​ных по​пу​ля​ций чёрного​ дрозда в глухих лесах и вб​ли​зи жиль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​ло​ве​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4bd5e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. Географическо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. Экологическ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4bd5e"/>
                    </a:solidFill>
                  </a:tcPr>
                </a:tc>
              </a:tr>
              <a:tr h="653400"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личные виды белоголовых чаек, обитающих в разных частях све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56640">
                <a:tc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) Люцерна серповидная произрастает у подножия гор, а клейкая – в горах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4bd5e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4bd5e"/>
                    </a:solidFill>
                  </a:tcPr>
                </a:tc>
              </a:tr>
              <a:tr h="1395000"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)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пад аре​а​ла лан​ды​ша май​ско​го на изо​ли​ро​ван​ные​участки в связи с оледенением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9215280" y="4103640"/>
            <a:ext cx="34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272520" y="4784760"/>
            <a:ext cx="34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215280" y="3273480"/>
            <a:ext cx="34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298080" y="5505480"/>
            <a:ext cx="349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7826"/>
                </a:solidFill>
                <a:latin typeface="Arial"/>
              </a:rPr>
              <a:t>Понятие о микроэволю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2920" y="2663640"/>
            <a:ext cx="9070920" cy="498924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MT"/>
              </a:rPr>
              <a:t>Итогом проявления таких изменений является видообразование, которое происходит в тех случаях, когда две или более популяции одного вида настолько расходятся (отклоняются) по своим признакам, что это приводит к появлению новых видов, особи которых утрачивают способность свободно скрещиваться между собой  Это явление в биологии получило названи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NewRomanPSMT"/>
              </a:rPr>
              <a:t>дивергенци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MT"/>
              </a:rPr>
              <a:t>(от лат.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MT"/>
              </a:rPr>
              <a:t>diverge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MT"/>
              </a:rPr>
              <a:t>— отклоняюсь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MT"/>
              </a:rPr>
              <a:t>Работа с учебник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MT"/>
              </a:rPr>
              <a:t> стр.116 - 1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03280" y="1563840"/>
            <a:ext cx="9070920" cy="936360"/>
          </a:xfrm>
          <a:prstGeom prst="roundRect">
            <a:avLst>
              <a:gd name="adj" fmla="val 167"/>
            </a:avLst>
          </a:prstGeom>
          <a:solidFill>
            <a:srgbClr val="99cc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кроэволю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эволюционные изменения, протекающие на популяционн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утривидовом уров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7826"/>
                </a:solidFill>
                <a:latin typeface="Arial"/>
              </a:rPr>
              <a:t>Способы видо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63640" y="1440000"/>
            <a:ext cx="8423280" cy="792000"/>
          </a:xfrm>
          <a:prstGeom prst="roundRect">
            <a:avLst>
              <a:gd name="adj" fmla="val 199"/>
            </a:avLst>
          </a:prstGeom>
          <a:solidFill>
            <a:srgbClr val="99cc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дообразов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процесс возникновения новых биологических ви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счет процессов диверген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22280" y="2928960"/>
            <a:ext cx="3392640" cy="2903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427040" y="2519280"/>
            <a:ext cx="1522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рнст Май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73080" y="5975280"/>
            <a:ext cx="19796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904 — 2005 г.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440" y="3030480"/>
            <a:ext cx="591804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MT"/>
                <a:ea typeface="ArialMT"/>
              </a:rPr>
              <a:t>Известный американский зоолог и эволюциони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MT"/>
                <a:ea typeface="ArialMT"/>
              </a:rPr>
              <a:t>Эрнст Майр </a:t>
            </a:r>
            <a:r>
              <a:rPr b="0" lang="ru-RU" sz="1800" spc="-1" strike="noStrike">
                <a:solidFill>
                  <a:srgbClr val="000000"/>
                </a:solidFill>
                <a:latin typeface="ArialMT"/>
                <a:ea typeface="ArialMT"/>
              </a:rPr>
              <a:t>разработал теорию, согласно которои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MT"/>
                <a:ea typeface="ArialMT"/>
              </a:rPr>
              <a:t>в природе существуют три способа видообра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464000" y="4176720"/>
            <a:ext cx="4824360" cy="720720"/>
          </a:xfrm>
          <a:prstGeom prst="roundRect">
            <a:avLst>
              <a:gd name="adj" fmla="val 16667"/>
            </a:avLst>
          </a:prstGeom>
          <a:solidFill>
            <a:srgbClr val="99cc66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MT"/>
                <a:ea typeface="ArialMT"/>
              </a:rPr>
              <a:t>1. Преобразование одного вида в другои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35640" y="5111640"/>
            <a:ext cx="4824360" cy="720720"/>
          </a:xfrm>
          <a:prstGeom prst="roundRect">
            <a:avLst>
              <a:gd name="adj" fmla="val 16667"/>
            </a:avLst>
          </a:prstGeom>
          <a:solidFill>
            <a:srgbClr val="669933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MT"/>
                <a:ea typeface="ArialMT"/>
              </a:rPr>
              <a:t>2. Основан на гибридизации двух вид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MT"/>
                <a:ea typeface="ArialM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MT"/>
                <a:ea typeface="ArialMT"/>
              </a:rPr>
              <a:t>в результате чего образуется третии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64000" y="6191280"/>
            <a:ext cx="4824360" cy="720720"/>
          </a:xfrm>
          <a:prstGeom prst="roundRect">
            <a:avLst>
              <a:gd name="adj" fmla="val 16667"/>
            </a:avLst>
          </a:prstGeom>
          <a:solidFill>
            <a:srgbClr val="669966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MT"/>
                <a:ea typeface="ArialMT"/>
              </a:rPr>
              <a:t>3. Основан на расхождении (дивергенц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MT"/>
                <a:ea typeface="ArialM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MT"/>
                <a:ea typeface="ArialMT"/>
              </a:rPr>
              <a:t>призна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782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7826"/>
                </a:solidFill>
                <a:latin typeface="Arial"/>
              </a:rPr>
              <a:t>Видообра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287000"/>
            <a:ext cx="9070920" cy="5018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8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дии видообразов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28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28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возникновение репродуктивной изоля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28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28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закрепление репродуктивной изоляции естественным отбор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28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28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мен генами между популяциями должен быть прекращ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28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28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28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Каковы причины прекращения обмена генами между популяциям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28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28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Географические разделения: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 возникновение горной цепи, ледника, водной  преграды и п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0" y="5327640"/>
            <a:ext cx="3959280" cy="576360"/>
          </a:xfrm>
          <a:prstGeom prst="roundRect">
            <a:avLst>
              <a:gd name="adj" fmla="val 273"/>
            </a:avLst>
          </a:prstGeom>
          <a:solidFill>
            <a:srgbClr val="99cc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ИПЫ ВИДО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11280" y="6305400"/>
            <a:ext cx="3024360" cy="534960"/>
          </a:xfrm>
          <a:prstGeom prst="roundRect">
            <a:avLst>
              <a:gd name="adj" fmla="val 16667"/>
            </a:avLst>
          </a:prstGeom>
          <a:solidFill>
            <a:srgbClr val="99cc66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ографическ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91280" y="6305400"/>
            <a:ext cx="3024000" cy="534960"/>
          </a:xfrm>
          <a:prstGeom prst="roundRect">
            <a:avLst>
              <a:gd name="adj" fmla="val 16667"/>
            </a:avLst>
          </a:prstGeom>
          <a:solidFill>
            <a:srgbClr val="99cc66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кологическ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7826"/>
                </a:solidFill>
                <a:latin typeface="Arial"/>
              </a:rPr>
              <a:t>Географическое видообра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54040" indent="-554040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1"/>
              </a:buBlip>
              <a:tabLst>
                <a:tab algn="l" pos="554040"/>
                <a:tab algn="l" pos="658800"/>
                <a:tab algn="l" pos="110808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ографическое образование видов занимает большое количество времени и происходит благодаря изменению климата, рельефа, возникновению естественных прегра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040" indent="-554040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2"/>
              </a:buBlip>
              <a:tabLst>
                <a:tab algn="l" pos="554040"/>
                <a:tab algn="l" pos="658800"/>
                <a:tab algn="l" pos="110808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успешного видообразования необходима территориальная изоляция – особи одной популя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040" indent="-554040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3"/>
              </a:buBlip>
              <a:tabLst>
                <a:tab algn="l" pos="554040"/>
                <a:tab algn="l" pos="658800"/>
                <a:tab algn="l" pos="110808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павшие в разные условия, накапливают полезные адаптации и со временем начинают отличаться друг от друга фенотипом и генотип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040" indent="-554040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4"/>
              </a:buBlip>
              <a:tabLst>
                <a:tab algn="l" pos="554040"/>
                <a:tab algn="l" pos="658800"/>
                <a:tab algn="l" pos="110808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ование видов завершается при полной репродуктивной изоля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554040"/>
                <a:tab algn="l" pos="658800"/>
                <a:tab algn="l" pos="110808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554040"/>
                <a:tab algn="l" pos="658800"/>
                <a:tab algn="l" pos="110808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68360" y="4896000"/>
            <a:ext cx="7848720" cy="1008000"/>
          </a:xfrm>
          <a:prstGeom prst="roundRect">
            <a:avLst>
              <a:gd name="adj" fmla="val 157"/>
            </a:avLst>
          </a:prstGeom>
          <a:solidFill>
            <a:srgbClr val="99cc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ографическое видообразовани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это эволюционный пу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ования видов, при котором решающее значение име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странственная или территориальная изоляц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7826"/>
                </a:solidFill>
                <a:latin typeface="Arial"/>
              </a:rPr>
              <a:t>Примеры географического видо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303640" y="2376360"/>
            <a:ext cx="5616360" cy="35276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936720" y="1557360"/>
            <a:ext cx="83404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личные виды белоголовых чаек, обитающих в разных частях св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06520" y="626760"/>
            <a:ext cx="906912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никальное видовое разнообразие Байкала объясняется изоляцией от других водных бассейнов горным хреб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850160" y="8140680"/>
            <a:ext cx="2517840" cy="12906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47640" y="1584360"/>
            <a:ext cx="2879640" cy="49338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952720" y="2462040"/>
            <a:ext cx="16257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Желтокрыл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52720" y="4751280"/>
            <a:ext cx="13114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Голомя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0" y="3384720"/>
            <a:ext cx="119088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окопла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79640" y="6423120"/>
            <a:ext cx="22320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айкальская нер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6048360" y="1376280"/>
            <a:ext cx="3313080" cy="20066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480000" y="3384720"/>
            <a:ext cx="251784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айкальская эпишу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95640" y="6983280"/>
            <a:ext cx="45957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5% обитателей Байкала — эндемик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6264360" y="3976560"/>
            <a:ext cx="3011400" cy="20718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624720" y="6048360"/>
            <a:ext cx="21589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айкальские губ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01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ологическое видообразование происходит на одной территории  и связано с появлением в популяции нескольких групп, особи которых не могут скрещиваться между соб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т путь относительно быстрый и, как правило, даёт виды, близкие к исходно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ще всего причинами расхождения видов становятся разные способы питания или сезонность воспроизводства потом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32000" y="668160"/>
            <a:ext cx="58262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7826"/>
                </a:solidFill>
                <a:latin typeface="Arial"/>
              </a:rPr>
              <a:t>Экологическое видообра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3280" y="2808360"/>
            <a:ext cx="8926560" cy="936720"/>
          </a:xfrm>
          <a:prstGeom prst="roundRect">
            <a:avLst>
              <a:gd name="adj" fmla="val 167"/>
            </a:avLst>
          </a:prstGeom>
          <a:solidFill>
            <a:srgbClr val="99cc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ние нового вида путём освоения особями нового места обита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выходя за пределы ареала, называется экологическим видообразова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7826"/>
                </a:solidFill>
                <a:latin typeface="Arial"/>
              </a:rPr>
              <a:t>Примеры экологического видо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ркий пример экологического видообразования – виды люцерны. Люцерна серповидная произрастает у подножия гор, а клейкая – в горах. Скорее всего, оба вида «вышли» из одной популяции, но заняли разные экологические ниши, не меняя аре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519280" y="3154320"/>
            <a:ext cx="5133960" cy="23907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384720" y="5688000"/>
            <a:ext cx="42480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Люцерна серповидная и клей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03280" y="6551640"/>
            <a:ext cx="9267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ругой приме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разновидности чёрного дроз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а группа особей живёт в лесу, вторая обитает рядом с человеком, но в предел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ого аре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1-07T16:20:09Z</dcterms:created>
  <dc:creator/>
  <dc:description/>
  <dc:language>en-US</dc:language>
  <cp:lastModifiedBy/>
  <cp:revision>1</cp:revision>
  <dc:subject/>
  <dc:title/>
</cp:coreProperties>
</file>