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49F-7580-4E7E-89DA-AA1E39B4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5D6-683A-43EF-A170-30458D77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50D-D8C4-4D2F-9065-AC3C0DF3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04A-1027-4D10-A631-13067502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BF0-7659-4B53-AE15-F6D96CB7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670-418C-41B1-B001-EDDDA84C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7A5-1DDE-4425-A544-D75EDB5B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EBC7-2542-4A1D-B8B1-A7E7ACA8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FC7-C56E-47AE-8329-3F3A9333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07A-1590-4FF9-A3BC-CD6E3E29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7ED-CBAB-414A-82F2-DA6E396B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89F-13ED-4C9C-A2AA-B6F24836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89B68-736C-4A84-B21E-CD5D2756F3A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2448000"/>
            <a:ext cx="907092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826"/>
                </a:solidFill>
                <a:latin typeface="Arial"/>
              </a:rPr>
              <a:t>Урок 1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7826"/>
                </a:solidFill>
                <a:latin typeface="Arial"/>
                <a:ea typeface="Times New Roman"/>
              </a:rPr>
              <a:t>Микроэволюция и макроэ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19280" y="2303640"/>
            <a:ext cx="3713400" cy="3063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08000" y="503280"/>
            <a:ext cx="8213760" cy="6151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63640" y="831960"/>
            <a:ext cx="8213760" cy="61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  <a:ea typeface="TimesNewRomanPSMT"/>
              </a:rPr>
              <a:t>Конверг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6360" y="1562040"/>
            <a:ext cx="8856720" cy="1101960"/>
          </a:xfrm>
          <a:prstGeom prst="roundRect">
            <a:avLst>
              <a:gd name="adj" fmla="val 144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Конвергенция</a:t>
            </a: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 — эволюционный процесс, при котором возникает сходство между организмами различных систематических групп из-за того, что они обитают в схожих условиях окружающей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6560" y="3024360"/>
            <a:ext cx="36561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бота с учебником: стр.1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8760" y="3600360"/>
            <a:ext cx="2235240" cy="3359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488360" y="3719520"/>
            <a:ext cx="2406600" cy="326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24000" y="6999120"/>
            <a:ext cx="966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т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6983280"/>
            <a:ext cx="1110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ло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08360" y="4248000"/>
            <a:ext cx="50688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oизрaстaя в oчeнь пoхoжих yслoв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aрких пyстынь (oднo — в Aмeрикe, a дрyг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Aфрикe), oбa рaстeния нeзaвисимo дрy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т дрyгa приoбрeли тoлстый стeбeл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oбы нaкaпливaть влaгy, и шипы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aщиты oт пoeдaния живo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  <a:ea typeface="TimesNewRomanPSMT"/>
              </a:rPr>
              <a:t>Понятие о макроэ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эволюция органического мира — это процесс формирования крупных систематических единиц: из видов — новых родов, из родов — новых семейств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ы образования новых видов и процессы формирования более крупных систематических групп не имеют значительных различий. В основе макроэволюции лежат микроэволюционные факторы: изменчивость, борьба за существование и естественный от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личие от микроэволюции макроэволюция недоступна непосредственному наблюдению и экспериментальному подтверждению, так как происходит медленно и занимает миллионы лет. Доказательствами макроэволюции являются данные палеонтологии, сравнительной анатомии, эмбриологии, биохимии и био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Закрепл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) В процессе микроэволюции образу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) Вследствие разрыва ареала происходит видообразов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лог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т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граф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6000" y="1496880"/>
            <a:ext cx="9064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) Установите соответствие  между примером и способом  видообразования, который этот пример​иллюстрир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24160" y="668160"/>
            <a:ext cx="21384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Закр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91280" y="2879640"/>
            <a:ext cx="3024000" cy="53496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35640" y="4145040"/>
            <a:ext cx="3024360" cy="53496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60360" y="2519280"/>
          <a:ext cx="9505440" cy="3072960"/>
        </p:xfrm>
        <a:graphic>
          <a:graphicData uri="http://schemas.openxmlformats.org/drawingml/2006/table">
            <a:tbl>
              <a:tblPr/>
              <a:tblGrid>
                <a:gridCol w="5218920"/>
                <a:gridCol w="4286520"/>
              </a:tblGrid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ИДО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92160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Обита​ние раз​ных по​пу​ля​ций чёрного​ дрозда в глухих лесах и вб​ли​зи жиль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​ло​ве​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Географичес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Экологи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4bd5e"/>
                    </a:solidFill>
                  </a:tcPr>
                </a:tc>
              </a:tr>
              <a:tr h="653400"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виды белоголовых чаек, обитающих в разных частях св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5664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Люцерна серповидная произрастает у подножия гор, а клейкая – в гора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4bd5e"/>
                    </a:solidFill>
                  </a:tcPr>
                </a:tc>
              </a:tr>
              <a:tr h="1395000"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ад аре​а​ла лан​ды​ша май​ско​го на изо​ли​ро​ван​ные​участки в связи с оледенением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9215280" y="4103640"/>
            <a:ext cx="34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272520" y="4784760"/>
            <a:ext cx="34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215280" y="3273480"/>
            <a:ext cx="34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98080" y="5505480"/>
            <a:ext cx="34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Понятие о микроэ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266364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Итогом проявления таких изменений является видообразование, которое происходит в тех случаях, когда две или более популяции одного вида настолько расходятся (отклоняются) по своим признакам, что это приводит к появлению новых видов, особи которых утрачивают способность свободно скрещиваться между собой  Это явление в биологии получило назва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NewRomanPSMT"/>
              </a:rPr>
              <a:t>диверген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(от лат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diverg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— отклоняюс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Работа с учебни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 стр.116 - 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1563840"/>
            <a:ext cx="9070920" cy="936360"/>
          </a:xfrm>
          <a:prstGeom prst="roundRect">
            <a:avLst>
              <a:gd name="adj" fmla="val 167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роэволю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волюционные изменения, протекающие на популяционн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видов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Способы вид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63640" y="1440000"/>
            <a:ext cx="8423280" cy="792000"/>
          </a:xfrm>
          <a:prstGeom prst="roundRect">
            <a:avLst>
              <a:gd name="adj" fmla="val 199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о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оцесс возникновения новых биологических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счет процессов диверг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2280" y="2928960"/>
            <a:ext cx="3392640" cy="2903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27040" y="2519280"/>
            <a:ext cx="1522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рнст Май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3080" y="5975280"/>
            <a:ext cx="197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904 — 2005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440" y="3030480"/>
            <a:ext cx="59180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Известный американский зоолог и эволюцион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Эрнст Майр </a:t>
            </a: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разработал теорию, согласно которои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в природе существуют три способа видо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64000" y="4176720"/>
            <a:ext cx="4824360" cy="72072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1. Преобразование одного вида в другои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35640" y="5111640"/>
            <a:ext cx="4824360" cy="720720"/>
          </a:xfrm>
          <a:prstGeom prst="roundRect">
            <a:avLst>
              <a:gd name="adj" fmla="val 16667"/>
            </a:avLst>
          </a:prstGeom>
          <a:solidFill>
            <a:srgbClr val="66993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2. Основан на гибридизации двух вид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в результате чего образуется третии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64000" y="6191280"/>
            <a:ext cx="4824360" cy="720720"/>
          </a:xfrm>
          <a:prstGeom prst="roundRect">
            <a:avLst>
              <a:gd name="adj" fmla="val 16667"/>
            </a:avLst>
          </a:prstGeom>
          <a:solidFill>
            <a:srgbClr val="6699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3. Основан на расхождении (диверген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приз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Видо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87000"/>
            <a:ext cx="90709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дии видообраз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возникновение репродуктивной изоля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закрепление репродуктивной изоляции естественным отб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мен генами между популяциями должен быть прекращ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аковы причины прекращения обмена генами между популяция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еографические разделения: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возникновение горной цепи, ледника, водной  преграды и 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0" y="5327640"/>
            <a:ext cx="3959280" cy="576360"/>
          </a:xfrm>
          <a:prstGeom prst="roundRect">
            <a:avLst>
              <a:gd name="adj" fmla="val 273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Ы ВИДО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11280" y="6305400"/>
            <a:ext cx="3024360" cy="53496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91280" y="6305400"/>
            <a:ext cx="3024000" cy="53496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Географическое видо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4040" indent="-55404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ческое образование видов занимает большое количество времени и происходит благодаря изменению климата, рельефа, возникновению естественных прегр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5404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успешного видообразования необходима территориальная изоляция – особи одной попу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5404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авшие в разные условия, накапливают полезные адаптации и со временем начинают отличаться друг от друга фенотипом и генотип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5404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видов завершается при полной репродуктивной изо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68360" y="4896000"/>
            <a:ext cx="7848720" cy="1008000"/>
          </a:xfrm>
          <a:prstGeom prst="roundRect">
            <a:avLst>
              <a:gd name="adj" fmla="val 157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ческое видообразов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эволюционный 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я видов, при котором решающее значение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ранственная или территориальная изоля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Примеры географического вид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03640" y="2376360"/>
            <a:ext cx="5616360" cy="352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36720" y="1557360"/>
            <a:ext cx="8340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ичные виды белоголовых чаек, обитающих в разных частях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06520" y="626760"/>
            <a:ext cx="90691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кальное видовое разнообразие Байкала объясняется изоляцией от других водных бассейнов горным хреб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50160" y="8140680"/>
            <a:ext cx="2517840" cy="1290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47640" y="1584360"/>
            <a:ext cx="2879640" cy="4933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952720" y="2462040"/>
            <a:ext cx="1625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Желтокры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52720" y="4751280"/>
            <a:ext cx="1311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оломя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0" y="3384720"/>
            <a:ext cx="11908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окопл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9640" y="6423120"/>
            <a:ext cx="2232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айкальская нер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048360" y="1376280"/>
            <a:ext cx="3313080" cy="2006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480000" y="3384720"/>
            <a:ext cx="251784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айкальская эпиш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95640" y="6983280"/>
            <a:ext cx="4595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5% обитателей Байкала — эндем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264360" y="3976560"/>
            <a:ext cx="3011400" cy="2071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624720" y="6048360"/>
            <a:ext cx="21589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айкальские губ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логическое видообразование происходит на одной территории  и связано с появлением в популяции нескольких групп, особи которых не могут скрещиваться 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уть относительно быстрый и, как правило, даёт виды, близкие к исход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ще всего причинами расхождения видов становятся разные способы питания или сезонность воспроизводства потом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32000" y="668160"/>
            <a:ext cx="5826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Экологическое видо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3280" y="2808360"/>
            <a:ext cx="8926560" cy="936720"/>
          </a:xfrm>
          <a:prstGeom prst="roundRect">
            <a:avLst>
              <a:gd name="adj" fmla="val 167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е нового вида путём освоения особями нового места обит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ыходя за пределы ареала, называется экологическим видообраз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Примеры экологического вид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й пример экологического видообразования – виды люцерны. Люцерна серповидная произрастает у подножия гор, а клейкая – в горах. Скорее всего, оба вида «вышли» из одной популяции, но заняли разные экологические ниши, не меняя аре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19280" y="3154320"/>
            <a:ext cx="5133960" cy="2390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384720" y="5688000"/>
            <a:ext cx="4248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юцерна серповидная и клей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280" y="6551640"/>
            <a:ext cx="9267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ругой при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зновидности чёрного дроз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группа особей живёт в лесу, вторая обитает рядом с человеком, но в предел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го аре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07T16:20:09Z</dcterms:created>
  <dc:creator/>
  <dc:description/>
  <dc:language>en-US</dc:language>
  <cp:lastModifiedBy/>
  <cp:revision>1</cp:revision>
  <dc:subject/>
  <dc:title/>
</cp:coreProperties>
</file>