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9.jpeg" ContentType="image/jpeg"/>
  <Override PartName="/ppt/media/image1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chportal.ru/load/26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hyperlink" Target="http://www.uchportal.ru/load/26" TargetMode="External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4785840"/>
            <a:ext cx="213372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462456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560" y="1339920"/>
            <a:ext cx="5658120" cy="13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Основы воспитания финансовой грамотности детей дошкольного возраста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93" name="Picture 27" descr="http://skazylesa.ru/wp-content/uploads/2018/01/hvfh-photo1.jpg"/>
          <p:cNvPicPr/>
          <p:nvPr/>
        </p:nvPicPr>
        <p:blipFill>
          <a:blip r:embed="rId1"/>
          <a:stretch/>
        </p:blipFill>
        <p:spPr>
          <a:xfrm>
            <a:off x="0" y="0"/>
            <a:ext cx="1785960" cy="11383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788000" y="3435480"/>
            <a:ext cx="3529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ЯНСКАЯ НАТАЛЬЯ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4"/>
          <p:cNvSpPr/>
          <p:nvPr/>
        </p:nvSpPr>
        <p:spPr>
          <a:xfrm>
            <a:off x="2286000" y="339840"/>
            <a:ext cx="444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ы и приемы работы с детьми по финансовой грамо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973800" y="16351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блако 11"/>
          <p:cNvSpPr/>
          <p:nvPr/>
        </p:nvSpPr>
        <p:spPr>
          <a:xfrm>
            <a:off x="5904000" y="3940200"/>
            <a:ext cx="316872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1771560" y="398628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4" descr=""/>
          <p:cNvPicPr/>
          <p:nvPr/>
        </p:nvPicPr>
        <p:blipFill>
          <a:blip r:embed="rId1"/>
          <a:stretch/>
        </p:blipFill>
        <p:spPr>
          <a:xfrm>
            <a:off x="5904000" y="595440"/>
            <a:ext cx="3206520" cy="12254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6" descr=""/>
          <p:cNvPicPr/>
          <p:nvPr/>
        </p:nvPicPr>
        <p:blipFill>
          <a:blip r:embed="rId2"/>
          <a:stretch/>
        </p:blipFill>
        <p:spPr>
          <a:xfrm>
            <a:off x="5932440" y="2374920"/>
            <a:ext cx="3206880" cy="12254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8" descr=""/>
          <p:cNvPicPr/>
          <p:nvPr/>
        </p:nvPicPr>
        <p:blipFill>
          <a:blip r:embed="rId3"/>
          <a:stretch/>
        </p:blipFill>
        <p:spPr>
          <a:xfrm>
            <a:off x="3122640" y="1486080"/>
            <a:ext cx="3689280" cy="1304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9" descr=""/>
          <p:cNvPicPr/>
          <p:nvPr/>
        </p:nvPicPr>
        <p:blipFill>
          <a:blip r:embed="rId4"/>
          <a:stretch/>
        </p:blipFill>
        <p:spPr>
          <a:xfrm>
            <a:off x="3165480" y="3371760"/>
            <a:ext cx="3395520" cy="10479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20" descr=""/>
          <p:cNvPicPr/>
          <p:nvPr/>
        </p:nvPicPr>
        <p:blipFill>
          <a:blip r:embed="rId5"/>
          <a:stretch/>
        </p:blipFill>
        <p:spPr>
          <a:xfrm>
            <a:off x="31680" y="1419120"/>
            <a:ext cx="3090960" cy="33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3840" y="856800"/>
            <a:ext cx="892980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Деньги не появляются сами собой, а зарабатываются!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 Объясняем, как люди зарабатывают деньги и каким образом заработок зависит от вида деятельности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Сначала зарабатываем – потом тратим.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  Рассказываем, что «из тумбочки можно взять только то, что в нее положили», – соответственно, чем больше зарабатываешь и разумнее тратишь, тем больше можешь купить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Стоимость товара зависит от его качества, нужности и от того, насколько сложно его произвести. 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Объясняем, что цена – это количество денег, которые надо отдать, а товар в магазине – это результат труда других людей, поэтому он стоит денег; люди как бы меняют свой труд на труд других людей, и в этой цепочке деньги – это посредник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Деньги любят счет.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  Приучаем считать сдачу и вообще быстро и внимательно считать деньги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Финансы нужно планировать.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 Приучаем вести учет доходов и расходов в краткосрочном периоде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Твои деньги бывают объектом чужого интереса.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 Договариваемся о ключевых правилах финансовой безопасности и о том, к кому нужно обращаться в экстренных случаях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Не все покупается. 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Прививаем понимание того, что </a:t>
            </a: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главные ценности – жизнь, отношения, радость близких людей – за деньги не купишь</a:t>
            </a:r>
            <a:r>
              <a:rPr b="0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Финансы – это интересно и увлекательно!</a:t>
            </a:r>
            <a:endParaRPr b="0" lang="en-US" sz="14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еобходимо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 помощью игр и практических занятий детям донести:</a:t>
            </a:r>
            <a:endParaRPr b="0" lang="en-US" sz="20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Tahoma"/>
              </a:rPr>
              <a:t> 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гра «Размен»</a:t>
            </a:r>
            <a:br>
              <a:rPr sz="3600"/>
            </a:b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785520"/>
            <a:ext cx="8572680" cy="24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Цель: </a:t>
            </a:r>
            <a:r>
              <a:rPr b="0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научить считать деньги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Необходимые материалы: </a:t>
            </a:r>
            <a:r>
              <a:rPr b="0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монеты и купюры разных номиналов. </a:t>
            </a:r>
            <a:r>
              <a:rPr b="1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Количество участников: </a:t>
            </a:r>
            <a:r>
              <a:rPr b="0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1-5.  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257040" indent="-25704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Суть игры:</a:t>
            </a:r>
            <a:r>
              <a:rPr b="0" lang="ru-RU" sz="20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Выдайте детям мелкие монеты, по 2-3 десятка каждому. А себе оставьте несколько банкнот разного номинала. Это игра-соревнование. Кто из игроков быстрее разменяет выложенную вами банкноту мелочью, тому банкнота и достается. В конце игры считаем суммы выигрышей. 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3" name="Рисунок 3" descr="https://arhivurokov.ru/intolimp/html/2017/03/15/i_58c97dadee905/phpd9xOiH_Kartoteka-igr-po-finansam_3.png"/>
          <p:cNvPicPr/>
          <p:nvPr/>
        </p:nvPicPr>
        <p:blipFill>
          <a:blip r:embed="rId1"/>
          <a:stretch/>
        </p:blipFill>
        <p:spPr>
          <a:xfrm>
            <a:off x="4000680" y="3071880"/>
            <a:ext cx="289692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372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 « Кто кем работает?»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143280" y="856800"/>
            <a:ext cx="9286920" cy="37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91320" indent="-33912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примере сказочных героев закрепить и расширить представление о профессии. Воспитывать желание познавать многообразный мир профессий, уважение к человеку-труженику.</a:t>
            </a: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  <a:p>
            <a:pPr marL="391320" indent="-33912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.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Кукла-Загадка, рисунки с изображениями людей разных профессий и сказочных героев.</a:t>
            </a: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  <a:p>
            <a:pPr marL="391320" indent="-33912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ть игры: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жите детям картинки, на которых изображены люди разных профессий. Дети, ориентируясь по рисункам, называют профессии родителей, своих близких, всех тех, с кем они встречаются. Получив из кассы картинки с изображениями сказочных героев, просит отгадать их профессии.</a:t>
            </a: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  <a:p>
            <a:pPr marL="391320" indent="-33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дайте девочкам рисунки с изображением сказочных персонажей, а мальчикам - с изображениями людей разных профессий. По сигналу колокольчика девочки и мальчики начинают искать свою пару и по двое садятся за столы, а затем по очереди доказывают правильность своего выбора. Можно предложить детям, чтобы с помощью движений, имитаций и других образных действий они показали профессию своего героя.</a:t>
            </a: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  <a:p>
            <a:pPr marL="391320" indent="-339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уйте постепенный переход к сюжетно – ролевым игр на эту тему. Можно провести и беседы о том, как относится к своему труду герой, кто производит товары, а кто предоставляет услуги (если дети знакомы с этими понятиями).</a:t>
            </a: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  <a:p>
            <a:pPr marL="391320" indent="-339120"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1867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Три поросенка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57280" y="3857400"/>
            <a:ext cx="6329520" cy="8571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Narrow"/>
              </a:rPr>
              <a:t>Почему поросята построили разные домики?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 Narrow"/>
              </a:rPr>
              <a:t>Кто из них оказался прав и почему?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8" name="Picture 7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1"/>
          <a:stretch/>
        </p:blipFill>
        <p:spPr>
          <a:xfrm>
            <a:off x="571680" y="571680"/>
            <a:ext cx="1942920" cy="160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2"/>
          <a:stretch/>
        </p:blipFill>
        <p:spPr>
          <a:xfrm>
            <a:off x="3429000" y="714240"/>
            <a:ext cx="1857240" cy="1486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3"/>
          <a:stretch/>
        </p:blipFill>
        <p:spPr>
          <a:xfrm>
            <a:off x="5857920" y="642960"/>
            <a:ext cx="297180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4"/>
          <a:stretch/>
        </p:blipFill>
        <p:spPr>
          <a:xfrm>
            <a:off x="714240" y="2629080"/>
            <a:ext cx="1876680" cy="857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5" descr="&amp;tcy;&amp;rcy;&amp;icy; &amp;pcy;&amp;ocy;&amp;rcy;&amp;ocy;&amp;scy;&amp;iecy;&amp;ncy;&amp;kcy;&amp;acy;, &amp;icy;&amp;lcy;&amp;lcy;&amp;yucy;&amp;scy;&amp;tcy;&amp;rcy;&amp;acy;&amp;tscy;&amp;icy;&amp;icy; &amp;Tcy;&amp;ocy;&amp;ncy;&amp;icy; &amp;Vcy;&amp;ucy;&amp;lcy;&amp;fcy;"/>
          <p:cNvPicPr/>
          <p:nvPr/>
        </p:nvPicPr>
        <p:blipFill>
          <a:blip r:embed="rId5"/>
          <a:stretch/>
        </p:blipFill>
        <p:spPr>
          <a:xfrm>
            <a:off x="3200400" y="2629080"/>
            <a:ext cx="2428920" cy="906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&amp;tcy;&amp;rcy;&amp;icy; &amp;pcy;&amp;ocy;&amp;rcy;&amp;ocy;&amp;scy;&amp;iecy;&amp;ncy;&amp;kcy;&amp;acy;"/>
          <p:cNvPicPr/>
          <p:nvPr/>
        </p:nvPicPr>
        <p:blipFill>
          <a:blip r:embed="rId6"/>
          <a:stretch/>
        </p:blipFill>
        <p:spPr>
          <a:xfrm>
            <a:off x="6286680" y="2400480"/>
            <a:ext cx="2357280" cy="12729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9"/>
          <p:cNvSpPr/>
          <p:nvPr/>
        </p:nvSpPr>
        <p:spPr>
          <a:xfrm rot="5400000">
            <a:off x="1242360" y="2128680"/>
            <a:ext cx="285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 rot="5400000">
            <a:off x="4138560" y="2071440"/>
            <a:ext cx="28548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1"/>
          <p:cNvSpPr/>
          <p:nvPr/>
        </p:nvSpPr>
        <p:spPr>
          <a:xfrm rot="5400000">
            <a:off x="7414560" y="1957320"/>
            <a:ext cx="285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743200" y="291456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5715000" y="285768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4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457200" y="394344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123480"/>
            <a:ext cx="768672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А.Н. Толстой «Золотой ключик»</a:t>
            </a: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3886200"/>
            <a:ext cx="7543800" cy="10857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Narrow"/>
              </a:rPr>
              <a:t>Буратино хотел получить много денег сразу для добрых дел, но что он сделал не так? 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 Narrow"/>
              </a:rPr>
              <a:t>Добился ли Буратино желаемого? Почему?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42" name="Picture 7" descr="ANd9GcS9AwIoirbjr6NqSmN7brSYYwAezhlcE4ExLgAHMbl7baLv-uHJ"/>
          <p:cNvPicPr/>
          <p:nvPr/>
        </p:nvPicPr>
        <p:blipFill>
          <a:blip r:embed="rId1"/>
          <a:stretch/>
        </p:blipFill>
        <p:spPr>
          <a:xfrm>
            <a:off x="3657600" y="571680"/>
            <a:ext cx="1749600" cy="1485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ANd9GcR261rSoQcnaWgDeBH522ZgkKPvZDnZHYWtSZzurPqorJ_nJemx"/>
          <p:cNvPicPr/>
          <p:nvPr/>
        </p:nvPicPr>
        <p:blipFill>
          <a:blip r:embed="rId2"/>
          <a:stretch/>
        </p:blipFill>
        <p:spPr>
          <a:xfrm>
            <a:off x="228600" y="628560"/>
            <a:ext cx="2543040" cy="1351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ANd9GcQdS5GzMlXeJ_575eXi571gBuqi3FhIMKaiclsjsv6UtZIEak8m"/>
          <p:cNvPicPr/>
          <p:nvPr/>
        </p:nvPicPr>
        <p:blipFill>
          <a:blip r:embed="rId3"/>
          <a:stretch/>
        </p:blipFill>
        <p:spPr>
          <a:xfrm>
            <a:off x="304920" y="2171880"/>
            <a:ext cx="2133360" cy="1563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ANd9GcRFg1qmU8derAFSq6kZqWOOuxA77ynkC5v-RVvIOiEQN5OI66QK9Q"/>
          <p:cNvPicPr/>
          <p:nvPr/>
        </p:nvPicPr>
        <p:blipFill>
          <a:blip r:embed="rId4"/>
          <a:stretch/>
        </p:blipFill>
        <p:spPr>
          <a:xfrm>
            <a:off x="6553080" y="514440"/>
            <a:ext cx="2057400" cy="1469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ANd9GcQhycLKJJJwqVgxR0gqS6-QuPttoXyMunY8HONqXDEEPMo_vWDa"/>
          <p:cNvPicPr/>
          <p:nvPr/>
        </p:nvPicPr>
        <p:blipFill>
          <a:blip r:embed="rId5"/>
          <a:stretch/>
        </p:blipFill>
        <p:spPr>
          <a:xfrm>
            <a:off x="6629400" y="2343240"/>
            <a:ext cx="1981080" cy="139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1" descr="ANd9GcS4RDYy5dGcv0TSn0O3kOLU9-hv4zbzYJH_pESIYsT8GwJQFV0Xmw"/>
          <p:cNvPicPr/>
          <p:nvPr/>
        </p:nvPicPr>
        <p:blipFill>
          <a:blip r:embed="rId6"/>
          <a:stretch/>
        </p:blipFill>
        <p:spPr>
          <a:xfrm>
            <a:off x="3352680" y="2286000"/>
            <a:ext cx="2590920" cy="1498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22"/>
          <p:cNvSpPr/>
          <p:nvPr/>
        </p:nvSpPr>
        <p:spPr>
          <a:xfrm>
            <a:off x="2895480" y="1085760"/>
            <a:ext cx="381240" cy="365040"/>
          </a:xfrm>
          <a:prstGeom prst="rightArrow">
            <a:avLst>
              <a:gd name="adj1" fmla="val 50000"/>
              <a:gd name="adj2" fmla="val 2496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3"/>
          <p:cNvSpPr/>
          <p:nvPr/>
        </p:nvSpPr>
        <p:spPr>
          <a:xfrm>
            <a:off x="5867280" y="1143000"/>
            <a:ext cx="381240" cy="365040"/>
          </a:xfrm>
          <a:prstGeom prst="rightArrow">
            <a:avLst>
              <a:gd name="adj1" fmla="val 50000"/>
              <a:gd name="adj2" fmla="val 2496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4"/>
          <p:cNvSpPr/>
          <p:nvPr/>
        </p:nvSpPr>
        <p:spPr>
          <a:xfrm rot="5400000">
            <a:off x="7490880" y="1900080"/>
            <a:ext cx="2858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5"/>
          <p:cNvSpPr/>
          <p:nvPr/>
        </p:nvSpPr>
        <p:spPr>
          <a:xfrm flipH="1">
            <a:off x="5943600" y="291456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2895480" y="2857680"/>
            <a:ext cx="381240" cy="365040"/>
          </a:xfrm>
          <a:prstGeom prst="rightArrow">
            <a:avLst>
              <a:gd name="adj1" fmla="val 50000"/>
              <a:gd name="adj2" fmla="val 24968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7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0" y="4057560"/>
            <a:ext cx="9907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56800" y="213840"/>
            <a:ext cx="82868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А.С. Пушкин «Сказка о рыбаке и рыбке»</a:t>
            </a: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99760" y="3714840"/>
            <a:ext cx="7263000" cy="1071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чему поступки старухи нельзя назвать правильным экономическим поведением?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значит «остаться у разбитого корыта»?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56" name="Picture 13" descr="ANd9GcSMESJLgdS4kkeCyCWET7Es_8x98hnxO7SMih6uTf6sPE1Ky11f"/>
          <p:cNvPicPr/>
          <p:nvPr/>
        </p:nvPicPr>
        <p:blipFill>
          <a:blip r:embed="rId1"/>
          <a:stretch/>
        </p:blipFill>
        <p:spPr>
          <a:xfrm>
            <a:off x="228600" y="571680"/>
            <a:ext cx="2438280" cy="1271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ANd9GcTm5ZAy2F9UvdSY7edfHsjqgSMjmr5wjwp2RCQyJgKvO7_CuD3F9A"/>
          <p:cNvPicPr/>
          <p:nvPr/>
        </p:nvPicPr>
        <p:blipFill>
          <a:blip r:embed="rId2"/>
          <a:stretch/>
        </p:blipFill>
        <p:spPr>
          <a:xfrm>
            <a:off x="3200400" y="571680"/>
            <a:ext cx="2514600" cy="1284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ANd9GcQV_I-XQeFYmQZIBet8GQnxQ5V0fyx6LOMf0y-OWuVXemwHbNw"/>
          <p:cNvPicPr/>
          <p:nvPr/>
        </p:nvPicPr>
        <p:blipFill>
          <a:blip r:embed="rId3"/>
          <a:stretch/>
        </p:blipFill>
        <p:spPr>
          <a:xfrm>
            <a:off x="6248520" y="571680"/>
            <a:ext cx="2514600" cy="1295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ANd9GcS_T8WsugyAPUm_EWRNbp7Is80Sf6-5GFXkx4FU6Lnfs8cMtepW8A"/>
          <p:cNvPicPr/>
          <p:nvPr/>
        </p:nvPicPr>
        <p:blipFill>
          <a:blip r:embed="rId4"/>
          <a:stretch/>
        </p:blipFill>
        <p:spPr>
          <a:xfrm>
            <a:off x="3276720" y="2228760"/>
            <a:ext cx="2438280" cy="1314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ANd9GcQbVOLq09XGeCaviOSsgHuxBe4-Bws6LI_oIbXEAJMwk_oVDfIr"/>
          <p:cNvPicPr/>
          <p:nvPr/>
        </p:nvPicPr>
        <p:blipFill>
          <a:blip r:embed="rId5"/>
          <a:stretch/>
        </p:blipFill>
        <p:spPr>
          <a:xfrm>
            <a:off x="228600" y="2228760"/>
            <a:ext cx="2438280" cy="1319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ANd9GcS6Mbco_b6ojWNg5WywL6_6NCAOuGcy-YCWbqHHCChadMfyrsgH"/>
          <p:cNvPicPr/>
          <p:nvPr/>
        </p:nvPicPr>
        <p:blipFill>
          <a:blip r:embed="rId6"/>
          <a:stretch/>
        </p:blipFill>
        <p:spPr>
          <a:xfrm>
            <a:off x="6248520" y="2228760"/>
            <a:ext cx="2514600" cy="131472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24"/>
          <p:cNvSpPr/>
          <p:nvPr/>
        </p:nvSpPr>
        <p:spPr>
          <a:xfrm>
            <a:off x="2743200" y="108576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5791320" y="108576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6"/>
          <p:cNvSpPr/>
          <p:nvPr/>
        </p:nvSpPr>
        <p:spPr>
          <a:xfrm rot="5400000">
            <a:off x="7338960" y="1785960"/>
            <a:ext cx="285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8"/>
          <p:cNvSpPr/>
          <p:nvPr/>
        </p:nvSpPr>
        <p:spPr>
          <a:xfrm flipH="1">
            <a:off x="5791320" y="257184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 flipH="1">
            <a:off x="2743200" y="2571840"/>
            <a:ext cx="380880" cy="365040"/>
          </a:xfrm>
          <a:prstGeom prst="rightArrow">
            <a:avLst>
              <a:gd name="adj1" fmla="val 50000"/>
              <a:gd name="adj2" fmla="val 24945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 flipV="1" rot="16200000">
            <a:off x="1166760" y="1785960"/>
            <a:ext cx="28584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1" descr="ANd9GcSWH7ppXfeWQ8nsYP61n7674oe4_fRxGyl2eTMMF9l7_F1skl6rgg"/>
          <p:cNvPicPr/>
          <p:nvPr/>
        </p:nvPicPr>
        <p:blipFill>
          <a:blip r:embed="rId7"/>
          <a:stretch/>
        </p:blipFill>
        <p:spPr>
          <a:xfrm>
            <a:off x="304920" y="3886200"/>
            <a:ext cx="990360" cy="743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1569600" y="1717560"/>
            <a:ext cx="602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сюжетно-ролевой игре участники учатся действовать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личных профессиональных компетенциях, то е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яют роли специалис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2063160" y="70020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южетно-ролевые иг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1630440" y="27874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 закрепить знания детей о том, для 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ужны деньги, дать новое понятие «товар», «цен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купка»; воспитывать культуру взаимоотнош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жду продавцом и покуп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7"/>
          <p:cNvSpPr/>
          <p:nvPr/>
        </p:nvSpPr>
        <p:spPr>
          <a:xfrm>
            <a:off x="1547640" y="1368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Магазин, супермаркет, автосалон, аптека, банк и д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740088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33c00"/>
                </a:solidFill>
                <a:uFillTx/>
                <a:latin typeface="Times New Roman"/>
                <a:ea typeface="Times New Roman"/>
              </a:rPr>
              <a:t>Пословицы и поговорки об экономическом поведении: как ты понимаешь ?</a:t>
            </a: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71280"/>
            <a:ext cx="8229600" cy="36003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з труда не вытащить рыбку из пруда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мь раз отмерь, один раз отрежь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мастерством люди не родятся, а добытым ремеслом гордятся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 всякое дело берись умело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мелец да рукодельник и себе и людям радость приносит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коро сказка сказывается, да не скоро дело делается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15640" y="215640"/>
            <a:ext cx="7877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Простые правила экономического поведения</a:t>
            </a: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76" name="Picture 5" descr="80-2"/>
          <p:cNvPicPr/>
          <p:nvPr/>
        </p:nvPicPr>
        <p:blipFill>
          <a:blip r:embed="rId1"/>
          <a:stretch/>
        </p:blipFill>
        <p:spPr>
          <a:xfrm>
            <a:off x="380880" y="73008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80-2"/>
          <p:cNvPicPr/>
          <p:nvPr/>
        </p:nvPicPr>
        <p:blipFill>
          <a:blip r:embed="rId2"/>
          <a:stretch/>
        </p:blipFill>
        <p:spPr>
          <a:xfrm>
            <a:off x="380880" y="1771560"/>
            <a:ext cx="857520" cy="857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80-2"/>
          <p:cNvPicPr/>
          <p:nvPr/>
        </p:nvPicPr>
        <p:blipFill>
          <a:blip r:embed="rId3"/>
          <a:stretch/>
        </p:blipFill>
        <p:spPr>
          <a:xfrm>
            <a:off x="457200" y="28004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80-2"/>
          <p:cNvPicPr/>
          <p:nvPr/>
        </p:nvPicPr>
        <p:blipFill>
          <a:blip r:embed="rId4"/>
          <a:stretch/>
        </p:blipFill>
        <p:spPr>
          <a:xfrm>
            <a:off x="457200" y="3886200"/>
            <a:ext cx="857160" cy="8571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9"/>
          <p:cNvSpPr/>
          <p:nvPr/>
        </p:nvSpPr>
        <p:spPr>
          <a:xfrm>
            <a:off x="1676520" y="80028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Всегда соразмеряй свои желания и возможности, делай выбор в пользу главного и необходим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1676520" y="1886040"/>
            <a:ext cx="694980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олько честным трудом, своими знаниями можно добиться настоящего успе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676520" y="2887560"/>
            <a:ext cx="6933960" cy="6426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ежде, чем что-то сделать, узнай все о том, как, зачем и почему это нужно делать, какие могут быть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676520" y="3943440"/>
            <a:ext cx="6933960" cy="916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омни, что ты живешь среди людей и сотрудничество с ними, уважение их стремлений – важная часть успеха на пути к твои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31640" y="339840"/>
            <a:ext cx="52578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«Деньги, которыми обладаешь </a:t>
            </a:r>
            <a:br>
              <a:rPr sz="1800"/>
            </a:br>
            <a:r>
              <a:rPr b="0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– орудие свободы; </a:t>
            </a:r>
            <a:br>
              <a:rPr sz="1800"/>
            </a:br>
            <a:r>
              <a:rPr b="0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те, за которыми гонишься </a:t>
            </a:r>
            <a:br>
              <a:rPr sz="1800"/>
            </a:br>
            <a:r>
              <a:rPr b="0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— орудие рабства»</a:t>
            </a:r>
            <a:br>
              <a:rPr sz="1800"/>
            </a:br>
            <a:r>
              <a:rPr b="0" i="1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Жан-Жак Руссо</a:t>
            </a:r>
            <a:endParaRPr b="0" lang="en-US" sz="18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96" name="Picture 7" descr="http://edukovrov.ru/sites/default/files/finansovaja-gramotnost-s-chego-nachat.jpg"/>
          <p:cNvPicPr/>
          <p:nvPr/>
        </p:nvPicPr>
        <p:blipFill>
          <a:blip r:embed="rId1"/>
          <a:stretch/>
        </p:blipFill>
        <p:spPr>
          <a:xfrm>
            <a:off x="2286000" y="1643040"/>
            <a:ext cx="5715000" cy="3171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214560" y="123840"/>
            <a:ext cx="93582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!!!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85" name="Рисунок 3" descr="https://arhivurokov.ru/intolimp/html/2017/03/15/i_58c97dadee905/phpd9xOiH_Kartoteka-igr-po-finansam_2.png"/>
          <p:cNvPicPr/>
          <p:nvPr/>
        </p:nvPicPr>
        <p:blipFill>
          <a:blip r:embed="rId1"/>
          <a:stretch/>
        </p:blipFill>
        <p:spPr>
          <a:xfrm>
            <a:off x="5500800" y="1174680"/>
            <a:ext cx="5715000" cy="396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042920" y="771480"/>
            <a:ext cx="741060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редко родители жалуются, что дети не знают цену деньг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ценят и не берегут вещи, игрушки, требуют дорогих подар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ение в образовательную деятельность ДОО ос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номического воспитания может помочь родителям в реш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й воспитательной за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6960" y="714240"/>
            <a:ext cx="7186680" cy="4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1a396c"/>
                </a:solidFill>
                <a:latin typeface="Times New Roman"/>
                <a:ea typeface="Times New Roman"/>
              </a:rPr>
              <a:t>Современная жизнь диктует свои стандарты: в условиях рыночной экономики человеку в любом возрасте, чтобы быть успешным, необходимо быть финансово грамотным. Поэтому обучение основам экономических знаний необходимо начинать уже в детском саду, ведь представления о деньгах и их применении начинают формироваться в дошкольном возрасте.</a:t>
            </a:r>
            <a:endParaRPr b="0" lang="en-US" sz="18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99" name="Picture 2" descr="https://ds04.infourok.ru/uploads/ex/0495/000d7214-9f04302d/img0.jpg"/>
          <p:cNvPicPr/>
          <p:nvPr/>
        </p:nvPicPr>
        <p:blipFill>
          <a:blip r:embed="rId1"/>
          <a:srcRect l="6375" t="48488" r="3694" b="3029"/>
          <a:stretch/>
        </p:blipFill>
        <p:spPr>
          <a:xfrm>
            <a:off x="214200" y="2000160"/>
            <a:ext cx="8717040" cy="2459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915840"/>
            <a:ext cx="718668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ошкольного образования ставит задачу формирования общей культуры личности дете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1285920"/>
            <a:ext cx="89298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кономическая культура личности дошкольника характеризуется наличием первичных представлений об экономических категориях, интеллектуальных и нравственных качествах (бережливость, рачительность, смекалка, трудолюбие, умение планировать дела, осуждение жадности и расточительности). Без сформированных первичных экономических представлений невозможно формирование финансовой грамотности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179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2" name="Picture 3" descr="http://dou1korablik.ucoz.ru/Pologenie/fgos.png"/>
          <p:cNvPicPr/>
          <p:nvPr/>
        </p:nvPicPr>
        <p:blipFill>
          <a:blip r:embed="rId1"/>
          <a:stretch/>
        </p:blipFill>
        <p:spPr>
          <a:xfrm>
            <a:off x="4857840" y="3357720"/>
            <a:ext cx="4078080" cy="13222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7120" y="285480"/>
            <a:ext cx="878688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5d0d"/>
                </a:solidFill>
                <a:latin typeface="Times New Roman"/>
                <a:ea typeface="Times New Roman"/>
              </a:rPr>
              <a:t>Финансовая грамот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— это умение использовать знания и навыки для принятия правильных решений, связанных с деньгами и тратами.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ds04.infourok.ru/uploads/ex/0495/000d7214-9f04302d/img3.jpg"/>
          <p:cNvPicPr/>
          <p:nvPr/>
        </p:nvPicPr>
        <p:blipFill>
          <a:blip r:embed="rId1"/>
          <a:srcRect l="3809" t="6772" r="5719" b="0"/>
          <a:stretch/>
        </p:blipFill>
        <p:spPr>
          <a:xfrm>
            <a:off x="571680" y="857160"/>
            <a:ext cx="818820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85920" y="321840"/>
            <a:ext cx="740088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так, самое первое, необходимо заинтересовать ребенка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ая ступень - возраст с 5 до 7 лет.</a:t>
            </a:r>
            <a:endParaRPr b="0" lang="en-US" sz="2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4200" y="1071720"/>
            <a:ext cx="878688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В это время главные детские черты - </a:t>
            </a:r>
            <a:r>
              <a:rPr b="0" lang="ru-RU" sz="2400" spc="-1" strike="noStrike" u="sng">
                <a:solidFill>
                  <a:srgbClr val="244e93"/>
                </a:solidFill>
                <a:uFillTx/>
                <a:latin typeface="Times New Roman"/>
                <a:ea typeface="Times New Roman"/>
              </a:rPr>
              <a:t>любопытство и любознательность, неусидчивость, неумение сконцентрировать внимание, но при этом - огромные запасы энергии. </a:t>
            </a:r>
            <a:r>
              <a:rPr b="0" lang="ru-RU" sz="2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Как раз в этом возрасте пора учить, как вести счет деньгам, пониманию ценности и назначению денег. Формировать умение отличать желания от потребностей</a:t>
            </a:r>
            <a:br>
              <a:rPr sz="2400"/>
            </a:b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ая форма обучения -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а.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56760" y="1285920"/>
            <a:ext cx="5286600" cy="33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через игру ребенок осваивает и познает мир. Обучение, осуществляемое с помощью игры, естественно для дошкольник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е в дидактической игре - появляется уже в дошкольном возрасте.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.Д. Ушинский подчеркивал, что </a:t>
            </a: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бучение в форме игры может и должно быть интересным, занимательным, но никогда не развлекающим.</a:t>
            </a:r>
            <a:br>
              <a:rPr sz="1800"/>
            </a:b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9" name="Picture 2" descr="https://ds02.infourok.ru/uploads/ex/036b/00008c22-01b7be14/hello_html_33bbf44f.jpg"/>
          <p:cNvPicPr/>
          <p:nvPr/>
        </p:nvPicPr>
        <p:blipFill>
          <a:blip r:embed="rId1"/>
          <a:stretch/>
        </p:blipFill>
        <p:spPr>
          <a:xfrm>
            <a:off x="5857920" y="1214280"/>
            <a:ext cx="2987640" cy="3500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USER</cp:lastModifiedBy>
  <dcterms:modified xsi:type="dcterms:W3CDTF">2024-01-04T15:36:29Z</dcterms:modified>
  <cp:revision>87</cp:revision>
  <dc:subject/>
  <dc:title>шаблон для презентаций</dc:title>
</cp:coreProperties>
</file>