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A25-4072-440B-9996-E2FAEC7B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ADF-8877-4602-82B8-DB77D03A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FB6-071F-4FF4-A984-FAA3B590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F20-A633-4BAD-A823-E94185C9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BF6-B264-48A1-80B8-3809504E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25C-23CB-4C41-8743-554B8B1C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BE1-8D64-4895-921E-E3DDF8A8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B02-E13C-4D6A-88CB-6CB41C51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FCB-626F-47CB-8274-E647249A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8F0-9312-4051-B63F-2DC4D59E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58D-F58D-4D87-9F8C-5E00F905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26B-1A16-4F6D-83BC-359C196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8F2-6320-4524-8034-928EF3E14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349360"/>
            <a:ext cx="634032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УББОТА - «золовкины посидел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808520" cy="3600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сжигают чучело Масленицы и окончательно прощаются с зи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Заканчивается гулянье, на ледяных горках разводят костры, чтобы лед растопить, холод уничтожить. Прощения пр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33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КРЕСЕНЬЕ - «прощеный д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1054080"/>
            <a:ext cx="4578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Русская масл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 anchorCtr="1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аслениц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- один из праздников проводов зимы. Она приходится на неделю предшествующему Великому посту. Масленица - это праздник обильной и сытной пищи (кроме мяса), а молочные продукты ещё можно  употреблять - вот и пекут блины масленые. По этой же причине Масленицу называют Сырной нед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Масленица - самый весёлый, шумный народный праздник. Каждый день недели имеет своё название и говорит о том, что  в этот день полагается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648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3457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ряжают куклу-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12598" r="21044" b="0"/>
          <a:stretch/>
        </p:blipFill>
        <p:spPr>
          <a:xfrm>
            <a:off x="900000" y="1268280"/>
            <a:ext cx="2919600" cy="431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1280" y="404640"/>
            <a:ext cx="791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ЕДЕЛЬНИК - «встреча» маслен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221000"/>
            <a:ext cx="395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чинают печь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начинаются весёлые игры, а за потеху и веселье угощают бл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79640" y="404640"/>
            <a:ext cx="539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ТОРНИК - «заигрыш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994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 первом месте в ряду угощений, конечно,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6560" y="476280"/>
            <a:ext cx="539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ЕДА - «лакомка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Это время называется Широкой Масл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8000" y="477720"/>
            <a:ext cx="539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ЕТВЕРГ - «разгуляй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16360" y="1125360"/>
            <a:ext cx="3267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32000" y="260280"/>
            <a:ext cx="647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ТНИЦА - «тёщины вечер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960480"/>
            <a:ext cx="8790120" cy="568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89440" y="3152880"/>
            <a:ext cx="1385640" cy="220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33800" y="20001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781440" y="3944880"/>
            <a:ext cx="2438280" cy="154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65440" y="1208160"/>
            <a:ext cx="1150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4:41Z</dcterms:created>
  <dc:creator>Customer</dc:creator>
  <dc:description/>
  <dc:language>en-US</dc:language>
  <cp:lastModifiedBy>Customer</cp:lastModifiedBy>
  <dcterms:modified xsi:type="dcterms:W3CDTF">2010-06-29T21:01:32Z</dcterms:modified>
  <cp:revision>12</cp:revision>
  <dc:subject/>
  <dc:title>Слайд 1</dc:title>
</cp:coreProperties>
</file>