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9311-B558-44D4-B55D-7847F8EED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22-FCE0-4D18-99BD-F5DBCD92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FBF-0D2B-477D-8E3D-9F3DBF8E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0BB-6E65-44C5-A925-D25F7487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A36-AF95-4A7B-A5B5-C5541661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D146-03B6-468D-9235-40BDF2DE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F6B-0E2C-4AA0-B619-D9F3A225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28E0-70B9-4FCF-9C8A-BB2194F8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EE5-FE53-435C-AD4D-102168A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734-885F-44EE-A2FD-35289DC4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A15B-38D0-4812-9B9C-ABF9932C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B644-7CBE-433F-BDB4-A73E342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AE96-EF09-4D64-8604-AB73733FD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349360"/>
            <a:ext cx="63403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слени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один из праздников проводов зимы. Она приходится на неделю предшествующему Великому посту. Масленица - это праздник обильной и сытной пищи (кроме мяса), а молочные продукты ещё можно  употреблять - вот и пекут блины масленые. По этой же причине Масленицу называют Сырной нед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Масленица - самый весёлый, шумный народный праздник. Каждый день недели имеет своё название и говорит о том, что  в этот день полагается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648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Customer</cp:lastModifiedBy>
  <dcterms:modified xsi:type="dcterms:W3CDTF">2010-06-29T21:01:32Z</dcterms:modified>
  <cp:revision>12</cp:revision>
  <dc:subject/>
  <dc:title>Слайд 1</dc:title>
</cp:coreProperties>
</file>