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3529-AF0A-44C2-B017-E492E0EF0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FA3E-70AF-41DA-BF73-7C9E5E020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EB2F-C9EC-4104-9EB3-80C2161EB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6D0C-5167-4831-BE44-35262043F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1765-DBE1-44BB-9C9B-1289DB551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FE0B-620E-4D6C-8482-AA82DF219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6E1C-01EC-466A-85DA-52842B673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D985-1732-4B84-A880-E383A6D38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3D6E-14D1-45C6-9CE0-A68B154BF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3163-1A82-4E80-A312-903BE0C5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A96E-D370-4218-BA1E-5739105B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78B9-73F8-45D0-A2E6-5054ED49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74C88-D151-4968-A824-2B63C0441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76360" y="2349360"/>
            <a:ext cx="6340320" cy="179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езентация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11280" y="549360"/>
            <a:ext cx="7916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УББОТА - «золовкины посиделки»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124000" y="1268280"/>
            <a:ext cx="4808520" cy="36007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250920" y="508464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В этот день сжигают чучело Масленицы и окончательно прощаются с зи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000"/>
                            </p:stCondLst>
                            <p:childTnLst>
                              <p:par>
                                <p:cTn id="1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40672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Заканчивается гулянье, на ледяных горках разводят костры, чтобы лед растопить, холод уничтожить. Прощения прос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11280" y="333360"/>
            <a:ext cx="7916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ОСКРЕСЕНЬЕ - «прощеный день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211640" y="1054080"/>
            <a:ext cx="457848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500"/>
                            </p:stCondLst>
                            <p:childTnLst>
                              <p:par>
                                <p:cTn id="19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Русская маслениц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56000" y="1484280"/>
            <a:ext cx="39528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10105 L 0 4.62428E-006 E">
                                      <p:cBhvr>
                                        <p:cTn id="15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5092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ctr" anchorCtr="1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Масленица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- один из праздников проводов зимы. Она приходится на неделю предшествующему Великому посту. Масленица - это праздник обильной и сытной пищи (кроме мяса), а молочные продукты ещё можно  употреблять - вот и пекут блины масленые. По этой же причине Масленицу называют Сырной недел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11280" y="5516640"/>
            <a:ext cx="82296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Масленица - самый весёлый, шумный народный праздник. Каждый день недели имеет своё название и говорит о том, что  в этот день полагается дел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24000" y="476280"/>
            <a:ext cx="648000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24000" y="5734080"/>
            <a:ext cx="3457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Наряжают куклу-чуче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12598" r="21044" b="0"/>
          <a:stretch/>
        </p:blipFill>
        <p:spPr>
          <a:xfrm>
            <a:off x="900000" y="1268280"/>
            <a:ext cx="2919600" cy="4318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500720" y="126828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611280" y="404640"/>
            <a:ext cx="79167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ОНЕДЕЛЬНИК - «встреча» масленицы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11640" y="4221000"/>
            <a:ext cx="3959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Начинают печь бл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94920" y="2349000"/>
            <a:ext cx="403236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В этот день начинаются весёлые игры, а за потеху и веселье угощают блин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979640" y="404640"/>
            <a:ext cx="53989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ТОРНИК - «заигрыш»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427640" y="1413000"/>
            <a:ext cx="39942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4000"/>
                            </p:stCondLst>
                            <p:childTnLst>
                              <p:par>
                                <p:cTn id="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24000" y="5300640"/>
            <a:ext cx="8229600" cy="8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На первом месте в ряду угощений, конечно, бл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906560" y="476280"/>
            <a:ext cx="5399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РЕДА - «лакомка»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835280" y="1341360"/>
            <a:ext cx="54338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50920" y="55162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Это время называется Широкой Маслениц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908000" y="477720"/>
            <a:ext cx="53992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ЧЕТВЕРГ - «разгуляй»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916360" y="1125360"/>
            <a:ext cx="32670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332000" y="260280"/>
            <a:ext cx="6478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ЯТНИЦА - «тёщины вечерки»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79280" y="960480"/>
            <a:ext cx="8790120" cy="56815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2989440" y="3152880"/>
            <a:ext cx="1385640" cy="2201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3133800" y="2000160"/>
            <a:ext cx="2808360" cy="2106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3781440" y="3944880"/>
            <a:ext cx="2438280" cy="15447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3565440" y="1208160"/>
            <a:ext cx="115092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500"/>
                            </p:stCondLst>
                            <p:childTnLst>
                              <p:par>
                                <p:cTn id="1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500"/>
                            </p:stCondLst>
                            <p:childTnLst>
                              <p:par>
                                <p:cTn id="1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9T17:34:41Z</dcterms:created>
  <dc:creator>Customer</dc:creator>
  <dc:description/>
  <dc:language>en-US</dc:language>
  <cp:lastModifiedBy>Customer</cp:lastModifiedBy>
  <dcterms:modified xsi:type="dcterms:W3CDTF">2010-06-29T21:01:32Z</dcterms:modified>
  <cp:revision>12</cp:revision>
  <dc:subject/>
  <dc:title>Слайд 1</dc:title>
</cp:coreProperties>
</file>