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CA0-03C9-4EB8-AA21-452345B0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D7D-4D71-42F2-91B4-93E059D4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7DE-9826-4835-BDAA-EF6058A6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1DE-2A7F-4929-B8FD-E08F4A4D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6A62-5649-43C7-A527-A5BBE78A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9187-7386-4617-89FB-87214C15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5D9C-9E9C-4B6C-BD27-37D033DE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E1A2-1604-4DA6-86AC-2AE43B08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E984-D335-4772-AEB5-61902EFA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CECF-3D92-4754-8CB2-F5794554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5083-4315-415C-A323-0713306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1B2-598A-4719-9580-192ADC0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6141-733A-4D26-9E0E-A1160332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2F3F-E2D4-4F9C-8B13-62C2C127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D273-B393-487F-BC34-96FEE916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FEA9-ACB0-4236-B1B2-E4ADE96E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D264-78BC-4404-B9BA-6592FE93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C80-FDF7-41A6-98B1-BA959943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027-C826-4CC8-A292-8870152F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162-2835-410A-A741-55A46949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8D1-07A0-47E2-AAEC-620B6855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831-7585-4876-B09E-813CE0B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911-811D-48AF-99E6-F431213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A79-5CB4-4355-AA26-82467AD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3ED5-7B3D-47B8-89F5-B80267AB8BE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996A-2C7F-44C1-8EE7-45A6015F45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0" y="0"/>
            <a:ext cx="914400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ревнерусское государст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роисхождение славян и образование древнерусского государства. Норманнская теория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инятие христианства. Влияние Византии на Ру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Киевская Русь в 9 -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олет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Феодальная раздробленность и нашествие монголов. Монгольское «иг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Русские земли в 13-15 столетиях. Становление московского государ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5560" y="189000"/>
            <a:ext cx="912168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Русская Правда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стоит из следующих правовых текст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авда Ярослава», от 1016 или 1036 г.  (гражданское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головное прав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авда Ярославичей» (Изяслава, Святослава, Всеволод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1072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он вирный — определение порядка кормления вир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княжеских слуг, сборщиков вир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к мостникам (регулировал оплату труда строителей мос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мост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орная правда - Устав князя Ярослава Мудрого и Уст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а Моном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481px-Larets_kovcheg"/>
          <p:cNvPicPr/>
          <p:nvPr/>
        </p:nvPicPr>
        <p:blipFill>
          <a:blip r:embed="rId1"/>
          <a:stretch/>
        </p:blipFill>
        <p:spPr>
          <a:xfrm>
            <a:off x="1042920" y="1052640"/>
            <a:ext cx="6697800" cy="561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88320" y="260280"/>
            <a:ext cx="81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ОЛОТОЙ КОВЧЕГ ДЛЯ ХРАНЕНИЯ РУССКОЙ ПРАВ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189000"/>
            <a:ext cx="874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ИЕВСКАЯ РУ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новья Ярослава: Изяслав, Святослав, Всеволод – усобицы (вторая половина 11 в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 Всеволодович Мономах (1113-1125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овесть Временных л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мономах"/>
          <p:cNvPicPr/>
          <p:nvPr/>
        </p:nvPicPr>
        <p:blipFill>
          <a:blip r:embed="rId1"/>
          <a:stretch/>
        </p:blipFill>
        <p:spPr>
          <a:xfrm>
            <a:off x="2557440" y="2781360"/>
            <a:ext cx="40291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0" y="319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5" descr="mongolyskie_"/>
          <p:cNvPicPr/>
          <p:nvPr/>
        </p:nvPicPr>
        <p:blipFill>
          <a:blip r:embed="rId1"/>
          <a:stretch/>
        </p:blipFill>
        <p:spPr>
          <a:xfrm>
            <a:off x="1403280" y="2492280"/>
            <a:ext cx="6124680" cy="43657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0" y="-87480"/>
            <a:ext cx="99266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НГОЛО-ТАТАРСКОЕ «ИГ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06 Темучин провозглашен Чингисхан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23 – битва при Кал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0"/>
          <p:cNvSpPr/>
          <p:nvPr/>
        </p:nvSpPr>
        <p:spPr>
          <a:xfrm>
            <a:off x="1116000" y="-254160"/>
            <a:ext cx="772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нголо - татарское «иг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-120600" y="558720"/>
            <a:ext cx="9352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23 – битва при Кал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38 – битва при Сити, разгром, нашеств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43 – зап. улус Батыя - Золотая орда (юрду – ханский ша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о – воловье ярмо, надеваемое на шею побежденн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ь: выход (серебром), торговая пошлина (тамга), ко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тарским послам(почестье).  Баскаки(сборщики) 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ермены-откупщики (купц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рлыки на кня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712800"/>
            <a:ext cx="9101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вразийцы:  Русь защитила Запад от наше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аничено западное влияние на Ру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сылки централизации под эгидой Моск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биоз с перспективной и боле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изкой  нам по духу  степной куль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дники: добровольность принятия и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ушены вечевые традиции и заложены основы «азиатчины»: несвобода, тирания верхов,покор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ыв на века от Запа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астрофические посл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1285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ДСТВИЯ МОНГОЛО-ТАТАРСКОГО «И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231_emblem"/>
          <p:cNvPicPr/>
          <p:nvPr/>
        </p:nvPicPr>
        <p:blipFill>
          <a:blip r:embed="rId1"/>
          <a:stretch/>
        </p:blipFill>
        <p:spPr>
          <a:xfrm>
            <a:off x="1332000" y="1125360"/>
            <a:ext cx="5802120" cy="5472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95480" y="-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31112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311120" y="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27120" y="41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92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743120" y="63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34000" y="-87480"/>
            <a:ext cx="71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ОЕ КНЯЖЕСТВО ЛИТОВСКОЕ И РУС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-152280" y="488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53 князь Миндовг провозглашен коро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-189720" y="-52560"/>
            <a:ext cx="968580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ликое княжество Литовское и Рус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 век – при князьях Гедимине, Ольгерд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трети территорий – русские. Конфедер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бодное крестьянство, самоуправление город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вилегии русск. знати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385 -Князь Ягайло женится на польской королев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виге - Кревская уния.  1410- Грюнвальдская би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565 г. Люблинская уния -воссоединение Вели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жества Литовского и Польши в Речь Посполит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овогород"/>
          <p:cNvPicPr/>
          <p:nvPr/>
        </p:nvPicPr>
        <p:blipFill>
          <a:blip r:embed="rId1"/>
          <a:stretch/>
        </p:blipFill>
        <p:spPr>
          <a:xfrm>
            <a:off x="468360" y="1844640"/>
            <a:ext cx="7775640" cy="4608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0" y="0"/>
            <a:ext cx="967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а народного представительства. Вече: приглаш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я, война, мир, нало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578320" y="-1440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ГОРОД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-297360" y="0"/>
            <a:ext cx="98535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жина  князя за пределами города. Численность огранич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ярская д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нительная власть выборная: степенный посадник (к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арнизоном), тысяцкий (надзор за торговл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зитная торговля с Европой. Центр ремес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щивание торгового и земельного капиталов. Усил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ярства расшатывает вечевые усто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ь элиты ориент. на Запад, часть на Моск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478 войска моск. князя Ивана 3 подчиняют Новгор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257640" y="-15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814840" y="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ГОРОД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1023840" y="692280"/>
            <a:ext cx="779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0" y="476280"/>
            <a:ext cx="91440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-6 вв. первые археологические данные о словян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62 г.–призвание варягов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юрик,Синеус(?),Трувор(?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 родом своим и верной дружиной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82 Олег захватил Киев (убив Аскольда и Дир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9" descr="варяги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816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1187280" y="260280"/>
            <a:ext cx="2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187280" y="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ВАНИЕ ВАРЯГ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29520" y="57240"/>
            <a:ext cx="86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147 ростовский и суздальский князь Юрий Долгору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л в селе Кучково гор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5" descr="yuriy_dolgorukiy"/>
          <p:cNvPicPr/>
          <p:nvPr/>
        </p:nvPicPr>
        <p:blipFill>
          <a:blip r:embed="rId1"/>
          <a:stretch/>
        </p:blipFill>
        <p:spPr>
          <a:xfrm>
            <a:off x="2050920" y="1628640"/>
            <a:ext cx="5096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-247320" y="0"/>
            <a:ext cx="959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4 век – возвышение при Иване Кал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27  помог татарам разгромить Тверь. Получил ярлык на В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кое княжение Владими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943720" y="-8748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калита"/>
          <p:cNvPicPr/>
          <p:nvPr/>
        </p:nvPicPr>
        <p:blipFill>
          <a:blip r:embed="rId1"/>
          <a:stretch/>
        </p:blipFill>
        <p:spPr>
          <a:xfrm>
            <a:off x="1979640" y="2076480"/>
            <a:ext cx="51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26028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митрий Донской (1350-138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80 – куликовская битва (конфликт в Орде между Мамаем и Тохтамыше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82 – поход Тохтамыша на Моск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431-1453 – феодальные войны между наследниками Донс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5" descr="донской"/>
          <p:cNvPicPr/>
          <p:nvPr/>
        </p:nvPicPr>
        <p:blipFill>
          <a:blip r:embed="rId1"/>
          <a:stretch/>
        </p:blipFill>
        <p:spPr>
          <a:xfrm>
            <a:off x="2347920" y="1916280"/>
            <a:ext cx="4448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-294120" y="-203040"/>
            <a:ext cx="9838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5 ве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адший сын Донского Юрий (его сыновья Василий Косой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митрий Шемяка)борятся за власть с племянником Василием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концу княжения Василия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емного (1425-146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слеплен Шемякой)московские владения увелич. в 30 р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мяка отравл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5" descr="василий 2"/>
          <p:cNvPicPr/>
          <p:nvPr/>
        </p:nvPicPr>
        <p:blipFill>
          <a:blip r:embed="rId1"/>
          <a:stretch/>
        </p:blipFill>
        <p:spPr>
          <a:xfrm>
            <a:off x="2185920" y="3141720"/>
            <a:ext cx="47721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-181080" y="0"/>
            <a:ext cx="102110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ын Василия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ва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462-1505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ул госуд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я  Руси. При не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роен красный кирпичный Кремл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78 присоединен Новгород  и отказ платить да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80 – стояние хана Ахмата на реке Уг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ился на Софье Палеолог – Москва- третий Ри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б двуглавый орел, скипетр и шапка Монома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85 – присоединена Тверь, 1489 - Вя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97 Судеб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шапка мономаха"/>
          <p:cNvPicPr/>
          <p:nvPr/>
        </p:nvPicPr>
        <p:blipFill>
          <a:blip r:embed="rId1"/>
          <a:stretch/>
        </p:blipFill>
        <p:spPr>
          <a:xfrm>
            <a:off x="6068880" y="0"/>
            <a:ext cx="3075120" cy="3151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-235080" y="0"/>
            <a:ext cx="8894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пка Моном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офиц. легенде - этот дар визан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ператора Константина 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маха своему внуку, киевск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ю Владимиру Всеволодович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маху, должен был символизиро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емственность власти русс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ей от византийских императ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: Константин умер в 1055, когда Владимиру было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года и вероятность того, что он получит Киев, бы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вольно скром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ожно дар хана Узбека московским князья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Юрию Даниловичу или Ивану Калите) либо изготовле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их заказу восточными масте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евалась только  в день венч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054520" y="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ебник 1497. 68 ста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-250560" y="549360"/>
            <a:ext cx="9740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ья в присоединенных землях становились боярами мос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я – «обояривание князе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княжества стали называться уездами, управлялись намес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ми из Москвы (их называли кормленщикам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 57 ограничивала право крестьян переходить от веодала 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ому – неделя до и после Юрьева дня (26.11). Шаг к креп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ному пра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осударе боярская Дума как совещат. Орг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ые князья теряют самостоятель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ской собор по инициативе Государ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олостях – царские дъяки, губные старос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"/>
          <p:cNvSpPr/>
          <p:nvPr/>
        </p:nvSpPr>
        <p:spPr>
          <a:xfrm>
            <a:off x="-325440" y="0"/>
            <a:ext cx="98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ласно духовной грамоте Ивана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тол его старше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ну Василию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стальные – удельные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ий князь теперь владел столицей единолично, выда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тьям из своего дохода по 100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 суда в Москве и Подмосковье принадлежало тепер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великому князю (раньше каждый из князей име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е право в своей части подмосковных сё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 чеканить монету, издавать законы теперь имел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ий князь. Владения умершего бездетным удельного княз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ходили к великому княз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вращение вотчинного (наследств) землевл. в поместное (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ж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-687960" y="260280"/>
            <a:ext cx="105458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 страна делилась: уезды (наместник)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ости(волостель) –станы(губные старост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ы управле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орец и казна в нем: из дворцовой канцелярии постепен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лись приказы: поместный, разрядный,челобит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ольский, разбой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Боярская Дума – совещат. орган (не более 24 челов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1549 – Земской собо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чины возвышения Москвы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годное 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ьновидная политика московских княз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вращение Москвы в религиозный цен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ность страны в объединении (сер 13- конец 15 вв – 90 внутренних усобиц, 160 внешних вой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971640" y="260280"/>
            <a:ext cx="4572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овесть временных лет» – начало 12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повесть временных лет"/>
          <p:cNvPicPr/>
          <p:nvPr/>
        </p:nvPicPr>
        <p:blipFill>
          <a:blip r:embed="rId1"/>
          <a:stretch/>
        </p:blipFill>
        <p:spPr>
          <a:xfrm>
            <a:off x="5796000" y="0"/>
            <a:ext cx="31687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-252360" y="148428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библейских вре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 1117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ах Киево-Печерско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астыря Нес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0" y="4376880"/>
            <a:ext cx="56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нисты: Г. Миллер, А Шлецер, Н. Карамз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тинорманисты: М.Ломоносов, Н. Иловай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90000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0" y="0"/>
            <a:ext cx="9144000" cy="89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тоги сп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роцесс складывания государства начался до призвания. Призваны править «по ряду» или «по праву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Рюрик реальная историческая лич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Этноним Русь скандинавского происхождения (возможно – гребц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И после призвания государственность окончательно не сложилас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0" y="174600"/>
            <a:ext cx="937404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ость с городом в центре, которому подчиняется сельская округа и приго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ев – старейший город. Лестничная система. Старший князь сажает своих сыновей в городах по старшин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че – война, мир, приглашение князя, договор с ним и изгнание если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население волости разбито на десятки и сотни – поставляли воинов во главе с воевод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ь – организатор обороны и судья (открыто и глас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гост – место сбора дани. В форме полюдья.  Урок – размер да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556000" y="1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0" y="201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евская Русь. Административно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79280" y="98100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жина князя – бояре и отр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т старейшин друж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щики податей – дан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ебные чиновники – меч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правляющий княжеской вотчиной - тиу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евская Русь. Административно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32000" y="333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79280" y="281160"/>
            <a:ext cx="775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имир  Святославович (960-1015) – 988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ещение Руси  (картина В. Васнецо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крещение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волхвы"/>
          <p:cNvPicPr/>
          <p:nvPr/>
        </p:nvPicPr>
        <p:blipFill>
          <a:blip r:embed="rId1"/>
          <a:stretch/>
        </p:blipFill>
        <p:spPr>
          <a:xfrm>
            <a:off x="1042920" y="1628640"/>
            <a:ext cx="6667560" cy="4732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324000" y="476280"/>
            <a:ext cx="95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бива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лх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Новгородском веч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ИЕВСКАЯ РУСЬ. Основные этап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ятополк Владимирович (1015-1019) – убий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иса и Гле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рослав Мудрый (1019 – 1054) -  «Русская прав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ярослав"/>
          <p:cNvPicPr/>
          <p:nvPr/>
        </p:nvPicPr>
        <p:blipFill>
          <a:blip r:embed="rId1"/>
          <a:stretch/>
        </p:blipFill>
        <p:spPr>
          <a:xfrm>
            <a:off x="1332000" y="3141720"/>
            <a:ext cx="5616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47:33Z</dcterms:created>
  <dc:creator>Дина</dc:creator>
  <dc:description/>
  <dc:language>en-US</dc:language>
  <cp:lastModifiedBy>общий</cp:lastModifiedBy>
  <dcterms:modified xsi:type="dcterms:W3CDTF">2018-02-21T08:39:42Z</dcterms:modified>
  <cp:revision>29</cp:revision>
  <dc:subject/>
  <dc:title>Слайд 1</dc:title>
</cp:coreProperties>
</file>