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274-B966-4D42-B39C-2255BED3A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57A-991A-4DB6-BC0E-7D5663C1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684-E370-485E-916C-EEAEF98A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05B-9B49-49FC-976F-BBCB16FA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51C9-2DD7-429D-8C55-142F323C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1FFA-88CE-443E-BA5C-B96E1BE4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277A-8461-4A50-BFBB-8602D7D0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18F6-2CC9-418A-B5B3-59BB8624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FE943-7F2C-45B8-AB77-B54E87A9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4275-8EB0-431B-B5D1-E4FFE559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2562-E2F7-40D9-94E4-6C80E10B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134-4A2A-427D-926A-EC7FBE09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484F-9BFE-46A1-9FDB-95AEE13B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BFF5-03AC-463C-B736-154F6AE2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5B68-31D4-4E3C-9075-32106C65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89B9-5689-412B-9006-C6F00672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448F-81B8-47B5-9948-80C0330C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012-DAC0-472E-96A7-499384EC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586-6BE9-4301-8CBD-97045718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4BF-99E9-43CA-ADA3-9022ECFC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D49-594E-4DF8-995F-CF670954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23B9-F186-4563-B8C1-C1CCC103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3E2C-927D-4AAD-AE15-1DA9583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B06E-C965-4F3D-AC69-0267A3E1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4AB3-D4B6-4330-90C4-783CF32F592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447B-14C6-4DA4-BAAE-23BA16967A9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0" y="0"/>
            <a:ext cx="9144000" cy="71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ревнерусское государст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роисхождение славян и образование древнерусского государства. Норманнская теория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ринятие христианства. Влияние Византии на Ру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Киевская Русь в 9 - 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олет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Феодальная раздробленность и нашествие монголов. Монгольское «иго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Русские земли в 13-15 столетиях. Становление московского государ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5560" y="189000"/>
            <a:ext cx="912168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«Русская Правда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остоит из следующих правовых тексто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авда Ярослава», от 1016 или 1036 г.  (гражданское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головное прав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равда Ярославичей» (Изяслава, Святослава, Всеволода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1072 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он вирный — определение порядка кормления вирник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княжеских слуг, сборщиков вир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рок мостникам (регулировал оплату труда строителей мост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мостовы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сторная правда - Устав князя Ярослава Мудрого и Уста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а Моном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481px-Larets_kovcheg"/>
          <p:cNvPicPr/>
          <p:nvPr/>
        </p:nvPicPr>
        <p:blipFill>
          <a:blip r:embed="rId1"/>
          <a:stretch/>
        </p:blipFill>
        <p:spPr>
          <a:xfrm>
            <a:off x="1042920" y="1052640"/>
            <a:ext cx="6697800" cy="5616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688320" y="260280"/>
            <a:ext cx="818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ОЛОТОЙ КОВЧЕГ ДЛЯ ХРАНЕНИЯ РУССКОЙ ПРАВД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0" y="189000"/>
            <a:ext cx="874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ИЕВСКАЯ РУС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новья Ярослава: Изяслав, Святослав, Всеволод – усобицы (вторая половина 11 ве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 Всеволодович Мономах (1113-1125)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Повесть Временных лет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Picture 5" descr="мономах"/>
          <p:cNvPicPr/>
          <p:nvPr/>
        </p:nvPicPr>
        <p:blipFill>
          <a:blip r:embed="rId1"/>
          <a:stretch/>
        </p:blipFill>
        <p:spPr>
          <a:xfrm>
            <a:off x="2557440" y="2781360"/>
            <a:ext cx="40291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0" y="3199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5" descr="mongolyskie_"/>
          <p:cNvPicPr/>
          <p:nvPr/>
        </p:nvPicPr>
        <p:blipFill>
          <a:blip r:embed="rId1"/>
          <a:stretch/>
        </p:blipFill>
        <p:spPr>
          <a:xfrm>
            <a:off x="1403280" y="2492280"/>
            <a:ext cx="6124680" cy="43657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0" y="-87480"/>
            <a:ext cx="99266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НГОЛО-ТАТАРСКОЕ «ИГО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06 Темучин провозглашен Чингисхан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223 – битва при Калк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10"/>
          <p:cNvSpPr/>
          <p:nvPr/>
        </p:nvSpPr>
        <p:spPr>
          <a:xfrm>
            <a:off x="1116000" y="-254160"/>
            <a:ext cx="772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нголо - татарское «иго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-120600" y="558720"/>
            <a:ext cx="9352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23 – битва при Кал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38 – битва при Сити, разгром, нашеств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43 – зап. улус Батыя - Золотая орда (юрду – ханский шате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го – воловье ярмо, надеваемое на шею побежденн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нь: выход (серебром), торговая пошлина (тамга), кор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тарским послам(почестье).  Баскаки(сборщики)  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сермены-откупщики (купц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рлыки на княже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0" y="712800"/>
            <a:ext cx="91011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вразийцы:  Русь защитила Запад от нашест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граничено западное влияние на Ру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посылки централизации под эгидой Моск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мбиоз с перспективной и боле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изкой  нам по духу  степной культур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адники: добровольность принятия и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ушены вечевые традиции и заложены основы «азиатчины»: несвобода, тирания верхов,покор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ыв на века от Запа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тастрофические послед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50920" y="12852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ЛЕДСТВИЯ МОНГОЛО-ТАТАРСКОГО «ИГ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231_emblem"/>
          <p:cNvPicPr/>
          <p:nvPr/>
        </p:nvPicPr>
        <p:blipFill>
          <a:blip r:embed="rId1"/>
          <a:stretch/>
        </p:blipFill>
        <p:spPr>
          <a:xfrm>
            <a:off x="1332000" y="1125360"/>
            <a:ext cx="5802120" cy="5472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095480" y="-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31112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311120" y="5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527120" y="41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92200" y="20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1743120" y="63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34000" y="-87480"/>
            <a:ext cx="71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ОЕ КНЯЖЕСТВО ЛИТОВСКОЕ И РУС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-152280" y="488880"/>
            <a:ext cx="69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253 князь Миндовг провозглашен коро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4"/>
          <p:cNvSpPr/>
          <p:nvPr/>
        </p:nvSpPr>
        <p:spPr>
          <a:xfrm>
            <a:off x="-189720" y="-52560"/>
            <a:ext cx="968580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ликое княжество Литовское и Русск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 век – при князьях Гедимине, Ольгерд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трети территорий – русские. Конфедер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ободное крестьянство, самоуправление городо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вилегии русск. знати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385 -Князь Ягайло женится на польской королев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двиге - Кревская уния.  1410- Грюнвальдская би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565 г. Люблинская уния -воссоединение Велико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няжества Литовского и Польши в Речь Посполиту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новогород"/>
          <p:cNvPicPr/>
          <p:nvPr/>
        </p:nvPicPr>
        <p:blipFill>
          <a:blip r:embed="rId1"/>
          <a:stretch/>
        </p:blipFill>
        <p:spPr>
          <a:xfrm>
            <a:off x="468360" y="1844640"/>
            <a:ext cx="7775640" cy="46087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0" y="0"/>
            <a:ext cx="967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стема народного представительства. Вече: приглаш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я, война, мир, нало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578320" y="-1440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ГОРОД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-297360" y="0"/>
            <a:ext cx="985356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жина  князя за пределами города. Численность ограниче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ярская д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нительная власть выборная: степенный посадник (к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арнизоном), тысяцкий (надзор за торговлей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нзитная торговля с Европой. Центр ремес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ащивание торгового и земельного капиталов. Усилени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ярства расшатывает вечевые усто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ь элиты ориент. на Запад, часть на Моск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478 войска моск. князя Ивана 3 подчиняют Новгор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257640" y="-15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2814840" y="0"/>
            <a:ext cx="34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ВГОРОД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1023840" y="692280"/>
            <a:ext cx="7796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47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0" y="476280"/>
            <a:ext cx="914400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-6 вв. первые археологические данные о словян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62 г.–призвание варягов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юрик,Синеус(?),Трувор(?) –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 родом своим и верной дружиной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882 Олег захватил Киев (убив Аскольда и Дир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9" descr="варяги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3816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0"/>
          <p:cNvSpPr/>
          <p:nvPr/>
        </p:nvSpPr>
        <p:spPr>
          <a:xfrm>
            <a:off x="1187280" y="260280"/>
            <a:ext cx="2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1187280" y="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ЗВАНИЕ ВАРЯГ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29520" y="57240"/>
            <a:ext cx="86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147 ростовский и суздальский князь Юрий Долгору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новал в селе Кучково горо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7" name="Picture 5" descr="yuriy_dolgorukiy"/>
          <p:cNvPicPr/>
          <p:nvPr/>
        </p:nvPicPr>
        <p:blipFill>
          <a:blip r:embed="rId1"/>
          <a:stretch/>
        </p:blipFill>
        <p:spPr>
          <a:xfrm>
            <a:off x="2050920" y="1628640"/>
            <a:ext cx="50961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-247320" y="0"/>
            <a:ext cx="959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4 век – возвышение при Иване Кали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27  помог татарам разгромить Тверь. Получил ярлык на Ве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икое княжение Владимирск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943720" y="-87480"/>
            <a:ext cx="31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ОВСКАЯ РУС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Picture 6" descr="калита"/>
          <p:cNvPicPr/>
          <p:nvPr/>
        </p:nvPicPr>
        <p:blipFill>
          <a:blip r:embed="rId1"/>
          <a:stretch/>
        </p:blipFill>
        <p:spPr>
          <a:xfrm>
            <a:off x="1979640" y="2076480"/>
            <a:ext cx="51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0" y="260280"/>
            <a:ext cx="88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митрий Донской (1350-138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80 – куликовская битва (конфликт в Орде между Мамаем и Тохтамышем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382 – поход Тохтамыша на Моск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431-1453 – феодальные войны между наследниками Донско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2" name="Picture 5" descr="донской"/>
          <p:cNvPicPr/>
          <p:nvPr/>
        </p:nvPicPr>
        <p:blipFill>
          <a:blip r:embed="rId1"/>
          <a:stretch/>
        </p:blipFill>
        <p:spPr>
          <a:xfrm>
            <a:off x="2347920" y="1916280"/>
            <a:ext cx="4448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-294120" y="-203040"/>
            <a:ext cx="983844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5 век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ладший сын Донского Юрий (его сыновья Василий Косой 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митрий Шемяка)борятся за власть с племянником Василием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концу княжения Василия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Темного (1425-146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ослеплен Шемякой)московские владения увелич. в 30 раз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мяка отравл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5" descr="василий 2"/>
          <p:cNvPicPr/>
          <p:nvPr/>
        </p:nvPicPr>
        <p:blipFill>
          <a:blip r:embed="rId1"/>
          <a:stretch/>
        </p:blipFill>
        <p:spPr>
          <a:xfrm>
            <a:off x="2185920" y="3141720"/>
            <a:ext cx="47721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-181080" y="0"/>
            <a:ext cx="1021104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ын Василия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ва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462-1505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итул госуд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я  Руси. При нем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троен красный кирпичный Кремл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78 присоединен Новгород  и отказ платить дан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80 – стояние хана Ахмата на реке Угр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нился на Софье Палеолог – Москва- третий Ри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рб двуглавый орел, скипетр и шапка Мономах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85 – присоединена Тверь, 1489 - Вя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497 Судебн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шапка мономаха"/>
          <p:cNvPicPr/>
          <p:nvPr/>
        </p:nvPicPr>
        <p:blipFill>
          <a:blip r:embed="rId1"/>
          <a:stretch/>
        </p:blipFill>
        <p:spPr>
          <a:xfrm>
            <a:off x="6068880" y="0"/>
            <a:ext cx="3075120" cy="315108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-235080" y="0"/>
            <a:ext cx="889488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апка Мономах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офиц. легенде - этот дар визан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мператора Константина I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маха своему внуку, киевск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ю Владимиру Всеволодович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номаху, должен был символизирова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емственность власти русских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ей от византийских императо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о: Константин умер в 1055, когда Владимиру было всег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 года и вероятность того, что он получит Киев, был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вольно скромн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можно дар хана Узбека московским князья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Юрию Даниловичу или Ивану Калите) либо изготовлен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 их заказу восточными мастер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евалась только  в день венч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2054520" y="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дебник 1497. 68 ста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-250560" y="549360"/>
            <a:ext cx="9740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ья в присоединенных землях становились боярами мос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я – «обояривание князе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 княжества стали называться уездами, управлялись намест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икми из Москвы (их называли кормленщикам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 57 ограничивала право крестьян переходить от веодала 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ому – неделя до и после Юрьева дня (26.11). Шаг к креп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ному пра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государе боярская Дума как совещат. Орг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ельные князья теряют самостоятель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емской собор по инициативе Государ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волостях – царские дъяки, губные старос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5"/>
          <p:cNvSpPr/>
          <p:nvPr/>
        </p:nvSpPr>
        <p:spPr>
          <a:xfrm>
            <a:off x="-325440" y="0"/>
            <a:ext cx="9891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гласно духовной грамоте Ивана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стол его старшем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ыну Василию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стальные – удельные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ий князь теперь владел столицей единолично, выдав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атьям из своего дохода по 100 рубл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 суда в Москве и Подмосковье принадлежало тепер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олько великому князю (раньше каждый из князей име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е право в своей части подмосковных сё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 чеканить монету, издавать законы теперь имел тольк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ий князь. Владения умершего бездетным удельного княз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ходили к великому княз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вращение вотчинного (наследств) землевл. в поместное (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ужб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5"/>
          <p:cNvSpPr/>
          <p:nvPr/>
        </p:nvSpPr>
        <p:spPr>
          <a:xfrm>
            <a:off x="-687960" y="260280"/>
            <a:ext cx="1054584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министративно страна делилась: уезды (наместник)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ости(волостель) –станы(губные старосты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ганы управлен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осудар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ворец и казна в нем: из дворцовой канцелярии постепен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ировались приказы: поместный, разрядный,челобит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ольский, разбойн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Боярская Дума – совещат. орган (не более 24 человек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1549 – Земской собо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bbd71"/>
                </a:solidFill>
                <a:latin typeface="Arial"/>
              </a:rPr>
              <a:t>Причины возвышения Москвы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годное географическое по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льновидная политика московских княз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вращение Москвы в религиозный цен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требность страны в объединении (сер 13- конец 15 вв – 90 внутренних усобиц, 160 внешних войн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971640" y="260280"/>
            <a:ext cx="457200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овесть временных лет» – начало 12 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7" descr="повесть временных лет"/>
          <p:cNvPicPr/>
          <p:nvPr/>
        </p:nvPicPr>
        <p:blipFill>
          <a:blip r:embed="rId1"/>
          <a:stretch/>
        </p:blipFill>
        <p:spPr>
          <a:xfrm>
            <a:off x="5796000" y="0"/>
            <a:ext cx="316872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-252360" y="1484280"/>
            <a:ext cx="8280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библейских време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  1117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ах Киево-Печерског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астыря Нес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0" y="4376880"/>
            <a:ext cx="56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нисты: Г. Миллер, А Шлецер, Н. Карамз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тинорманисты: М.Ломоносов, Н. Иловайск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900000" y="47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0" y="0"/>
            <a:ext cx="9144000" cy="89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Итоги сп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Процесс складывания государства начался до призвания. Призваны править «по ряду» или «по праву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Рюрик реальная историческая личн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Этноним Русь скандинавского происхождения (возможно – гребцы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И после призвания государственность окончательно не сложилас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0" y="174600"/>
            <a:ext cx="937404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лость с городом в центре, которому подчиняется сельская округа и пригород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иев – старейший город. Лестничная система. Старший князь сажает своих сыновей в городах по старшинств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че – война, мир, приглашение князя, договор с ним и изгнание если чт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население волости разбито на десятки и сотни – поставляли воинов во главе с воевод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нязь – организатор обороны и судья (открыто и глас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гост – место сбора дани. В форме полюдья.  Урок – размер да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556000" y="18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0" y="201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евская Русь. Административное устро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179280" y="98100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ужина князя – бояре и отро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ет старейшин друж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щики податей – дан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дебные чиновники – мечн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правляющий княжеской вотчиной - тиу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18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евская Русь. Административное устрой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132000" y="333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79280" y="281160"/>
            <a:ext cx="775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ладимир  Святославович (960-1015) – 988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ещение Руси  (картина В. Васнецов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8" descr="крещение"/>
          <p:cNvPicPr/>
          <p:nvPr/>
        </p:nvPicPr>
        <p:blipFill>
          <a:blip r:embed="rId1"/>
          <a:stretch/>
        </p:blipFill>
        <p:spPr>
          <a:xfrm>
            <a:off x="1042920" y="1341360"/>
            <a:ext cx="6842160" cy="50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волхвы"/>
          <p:cNvPicPr/>
          <p:nvPr/>
        </p:nvPicPr>
        <p:blipFill>
          <a:blip r:embed="rId1"/>
          <a:stretch/>
        </p:blipFill>
        <p:spPr>
          <a:xfrm>
            <a:off x="1042920" y="1628640"/>
            <a:ext cx="6667560" cy="4732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324000" y="476280"/>
            <a:ext cx="95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ладимир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бивает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лх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а Новгородском веч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ИЕВСКАЯ РУСЬ. Основные этап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вятополк Владимирович (1015-1019) – убий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ориса и Гле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рослав Мудрый (1019 – 1054) -  «Русская правд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ярослав"/>
          <p:cNvPicPr/>
          <p:nvPr/>
        </p:nvPicPr>
        <p:blipFill>
          <a:blip r:embed="rId1"/>
          <a:stretch/>
        </p:blipFill>
        <p:spPr>
          <a:xfrm>
            <a:off x="1332000" y="3141720"/>
            <a:ext cx="56163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9:47:33Z</dcterms:created>
  <dc:creator>Дина</dc:creator>
  <dc:description/>
  <dc:language>en-US</dc:language>
  <cp:lastModifiedBy>общий</cp:lastModifiedBy>
  <dcterms:modified xsi:type="dcterms:W3CDTF">2018-02-21T08:39:42Z</dcterms:modified>
  <cp:revision>29</cp:revision>
  <dc:subject/>
  <dc:title>Слайд 1</dc:title>
</cp:coreProperties>
</file>