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408-E117-4933-8FBE-B54BF093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78A-B33D-4117-AF2F-5E5DCEB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584-E994-4723-8627-F34A65DF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5D8-0ACB-4C15-861F-31061B5D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A48-5571-4E5D-ACB3-E7D7CD3A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1CE0-D0AA-43ED-B47B-D32A80F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9D8-B7C5-4070-8C2C-4713D97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8746-5FAB-47AB-8729-B75C1BB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D7AA-D60B-4C94-9E65-5DE577C4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F969-6EC6-40C3-899B-7002F7C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9733-1FD6-407E-9E53-76D6738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71B-A893-474B-8A6E-75EB45D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131B-8D3E-4A9F-ACB3-23BA32D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688-8BFC-4516-A6D0-EC98DC0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2F9-4E9B-4447-8093-9A30985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A063-36F9-4381-95E7-A0F4064B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6657-C1A7-431F-B706-C4EEED36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F6F-45B6-4306-B2FD-605EB719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5FC-9AFA-4B4A-BF85-2C1B868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12-5ECA-44F0-8401-957E792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EE6-7DC4-4852-9161-10DB9E0D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207-C536-49A8-AB29-1C884BE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B84-65BA-46E9-8AA5-361B99A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BE4-297A-437F-86D0-2C44D35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8A0-8D17-475F-86B3-2DD081C0E3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BA4-ADEC-4BC2-8FB6-C6562FA8C6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0" y="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ревнерусское 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исхождение славян и образование древнерусского государства. Норманнская теор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нятие христианства. Влияние Византии на Ру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иевская Русь в 9 -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олет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Феодальная раздробленность и нашествие монголов. Монгольское «и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Русские земли в 13-15 столетиях. Становление московского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560" y="189000"/>
            <a:ext cx="91216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Русская Правда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стоит из следующих правовых текс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а», от 1016 или 1036 г.  (гражданско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оловное прав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ичей» (Изяслава, Святослава, Всеволод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107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он вирный — определение порядка кормления вир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княжеских слуг, сборщиков ви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мостникам (регулировал оплату труда строителей мос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мост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рная правда - Устав князя Ярослава Мудрого и Уст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481px-Larets_kovcheg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561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8320" y="260280"/>
            <a:ext cx="81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ЛОТОЙ КОВЧЕГ ДЛЯ ХРАНЕНИЯ РУССКОЙ ПРАВ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189000"/>
            <a:ext cx="874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ИЕВСКАЯ РУ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овья Ярослава: Изяслав, Святослав, Всеволод – усобицы (вторая половина 11 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Всеволодович Мономах (1113-1125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весть Временных л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мономах"/>
          <p:cNvPicPr/>
          <p:nvPr/>
        </p:nvPicPr>
        <p:blipFill>
          <a:blip r:embed="rId1"/>
          <a:stretch/>
        </p:blipFill>
        <p:spPr>
          <a:xfrm>
            <a:off x="2557440" y="2781360"/>
            <a:ext cx="4029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319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mongolyskie_"/>
          <p:cNvPicPr/>
          <p:nvPr/>
        </p:nvPicPr>
        <p:blipFill>
          <a:blip r:embed="rId1"/>
          <a:stretch/>
        </p:blipFill>
        <p:spPr>
          <a:xfrm>
            <a:off x="1403280" y="2492280"/>
            <a:ext cx="6124680" cy="4365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0" y="-87480"/>
            <a:ext cx="9926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-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06 Темучин провозглашен Чингисха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0"/>
          <p:cNvSpPr/>
          <p:nvPr/>
        </p:nvSpPr>
        <p:spPr>
          <a:xfrm>
            <a:off x="1116000" y="-254160"/>
            <a:ext cx="77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 - 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-120600" y="558720"/>
            <a:ext cx="935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38 – битва при Сити, разгром, наше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3 – зап. улус Батыя - Золотая орда (юрду – ханский ша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 – воловье ярмо, надеваемое на шею побежден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ь: выход (серебром), торговая пошлина (тамга), ко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тарским послам(почестье).  Баскаки(сборщики)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ермены-откупщики (купц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лыки на кня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712800"/>
            <a:ext cx="910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вразийцы:  Русь защитила Запад от наше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аничено западное влияние на Р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сылки централизации под эгидой Моск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биоз с перспективной и бол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изкой  нам по духу  степной куль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дники: добровольность принятия и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ены вечевые традиции и заложены основы «азиатчины»: несвобода, тирания верхов,покор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ыв на века от Зап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строфические посл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1285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СТВИЯ МОНГОЛО-ТАТАРСКОГО «И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31_emblem"/>
          <p:cNvPicPr/>
          <p:nvPr/>
        </p:nvPicPr>
        <p:blipFill>
          <a:blip r:embed="rId1"/>
          <a:stretch/>
        </p:blipFill>
        <p:spPr>
          <a:xfrm>
            <a:off x="1332000" y="1125360"/>
            <a:ext cx="5802120" cy="5472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95480" y="-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31112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311120" y="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7120" y="41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2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743120" y="63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34000" y="-87480"/>
            <a:ext cx="71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-152280" y="488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53 князь Миндовг провозглашен коро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-189720" y="-52560"/>
            <a:ext cx="96858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 век – при князьях Гедимине, Ольгерд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трети территорий – русские. Конфедер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бодное крестьянство, самоуправление гор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илегии русск. знат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85 -Князь Ягайло женится на польской королев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виге - Кревская уния.  1410- Грюнвальдская би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65 г. Люблинская уния -воссоединение Вели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жества Литовского и Польши в Речь Посполит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овогород"/>
          <p:cNvPicPr/>
          <p:nvPr/>
        </p:nvPicPr>
        <p:blipFill>
          <a:blip r:embed="rId1"/>
          <a:stretch/>
        </p:blipFill>
        <p:spPr>
          <a:xfrm>
            <a:off x="468360" y="1844640"/>
            <a:ext cx="7775640" cy="4608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0" y="0"/>
            <a:ext cx="96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 народного представительства. Вече: приглаш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я, война, мир, нало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78320" y="-1440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-297360" y="0"/>
            <a:ext cx="9853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жина  князя за пределами города. Численность огранич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кая д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ьная власть выборная: степенный посадник (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арнизоном), тысяцкий (надзор за торговл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зитная торговля с Европой. Центр ремес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щивание торгового и земельного капиталов. Уси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тва расшатывает вечевые усто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ь элиты ориент. на Запад, часть на Моск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78 войска моск. князя Ивана 3 подчиняют Новго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57640" y="-15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814840" y="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1023840" y="692280"/>
            <a:ext cx="779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0" y="47628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-6 вв. первые археологические данные о словян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62 г.–призвание варяг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юрик,Синеус(?),Трувор(?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 родом своим и верной дружиной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82 Олег захватил Киев (убив Аскольда и Дир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9" descr="варяги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187280" y="260280"/>
            <a:ext cx="2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187280" y="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ВАНИЕ ВАРЯ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9520" y="57240"/>
            <a:ext cx="86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47 ростовский и суздальский князь Юрий Долгору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л в селе Кучково го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yuriy_dolgorukiy"/>
          <p:cNvPicPr/>
          <p:nvPr/>
        </p:nvPicPr>
        <p:blipFill>
          <a:blip r:embed="rId1"/>
          <a:stretch/>
        </p:blipFill>
        <p:spPr>
          <a:xfrm>
            <a:off x="2050920" y="1628640"/>
            <a:ext cx="5096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-247320" y="0"/>
            <a:ext cx="959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 век – возвышение при Иване Кал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27  помог татарам разгромить Тверь. Получил ярлык на В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ое княжение Владими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43720" y="-8748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калита"/>
          <p:cNvPicPr/>
          <p:nvPr/>
        </p:nvPicPr>
        <p:blipFill>
          <a:blip r:embed="rId1"/>
          <a:stretch/>
        </p:blipFill>
        <p:spPr>
          <a:xfrm>
            <a:off x="1979640" y="2076480"/>
            <a:ext cx="51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26028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Донской (1350-13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0 – куликовская битва (конфликт в Орде между Мамаем и Тохтамыше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2 – поход Тохтамыша на Моск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31-1453 – феодальные войны между наследниками До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5" descr="донской"/>
          <p:cNvPicPr/>
          <p:nvPr/>
        </p:nvPicPr>
        <p:blipFill>
          <a:blip r:embed="rId1"/>
          <a:stretch/>
        </p:blipFill>
        <p:spPr>
          <a:xfrm>
            <a:off x="2347920" y="1916280"/>
            <a:ext cx="4448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-294120" y="-203040"/>
            <a:ext cx="9838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 в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сын Донского Юрий (его сыновья Василий Косой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Шемяка)борятся за власть с племянником Василием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княжения Василия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емного (1425-146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слеплен Шемякой)московские владения увелич. в 30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мяка отравл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василий 2"/>
          <p:cNvPicPr/>
          <p:nvPr/>
        </p:nvPicPr>
        <p:blipFill>
          <a:blip r:embed="rId1"/>
          <a:stretch/>
        </p:blipFill>
        <p:spPr>
          <a:xfrm>
            <a:off x="2185920" y="3141720"/>
            <a:ext cx="4772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181080" y="0"/>
            <a:ext cx="102110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ын Василия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ва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462-1505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ул госуд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я  Руси. При н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роен красный кирпичный Кремл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78 присоединен Новгород  и отказ платить да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0 – стояние хана Ахмата на реке Уг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ился на Софье Палеолог – Москва- третий Р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б двуглавый орел, скипетр и шапка Моном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5 – присоединена Тверь, 1489 - В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97 Судеб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шапка мономаха"/>
          <p:cNvPicPr/>
          <p:nvPr/>
        </p:nvPicPr>
        <p:blipFill>
          <a:blip r:embed="rId1"/>
          <a:stretch/>
        </p:blipFill>
        <p:spPr>
          <a:xfrm>
            <a:off x="6068880" y="0"/>
            <a:ext cx="3075120" cy="315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-235080" y="0"/>
            <a:ext cx="8894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пк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офиц. легенде - этот дар визан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ператора Константина 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а своему внуку, киевск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ю Владимиру Всеволодович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у, должен был символизиро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емственность власти русс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ей от византийских императ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: Константин умер в 1055, когда Владимиру было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года и вероятность того, что он получит Киев, бы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вольно скром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дар хана Узбека московским князь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Юрию Даниловичу или Ивану Калите) либо изготовле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их заказу восточными масте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евалась только  в день венч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054520" y="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ебник 1497. 68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-250560" y="549360"/>
            <a:ext cx="9740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я в присоединенных землях становились боярами мо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я – «обояривание княз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княжества стали называться уездами, управлялись наме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ми из Москвы (их называли кормленщик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 57 ограничивала право крестьян переходить от веодала 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ому – неделя до и после Юрьева дня (26.11). Шаг к креп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ному пра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осударе боярская Дума как совещат. Орг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е князья теряют самостоя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ской собор по инициативе Государ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олостях – царские дъяки, губные старос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-325440" y="0"/>
            <a:ext cx="98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духовной грамоте Ивана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ол его старше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у Васили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стальные – удельные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 теперь владел столицей единолично, выд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тьям из своего дохода по 10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суда в Москве и Подмосковье принадлежало тепе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великому князю (раньше каждый из князей име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е право в своей части подмосковных сё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чеканить монету, издавать законы теперь имел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. Владения умершего бездетным удельного княз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или к великому княз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вращение вотчинного (наследств) землевл. в поместное (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ж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-687960" y="260280"/>
            <a:ext cx="105458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 страна делилась: уезды (наместник)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и(волостель) –станы(губные старос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ы управл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рец и казна в нем: из дворцовой канцелярии постеп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лись приказы: поместный, разрядный,челоби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ольский, разб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Боярская Дума – совещат. орган (не более 24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1549 – Земской собо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чины возвышения Москв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годное 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овидная политика московских кня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Москвы в религиозный цен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ь страны в объединении (сер 13- конец 15 вв – 90 внутренних усобиц, 160 внешних вой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260280"/>
            <a:ext cx="4572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весть временных лет» – начало 12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повесть временных лет"/>
          <p:cNvPicPr/>
          <p:nvPr/>
        </p:nvPicPr>
        <p:blipFill>
          <a:blip r:embed="rId1"/>
          <a:stretch/>
        </p:blipFill>
        <p:spPr>
          <a:xfrm>
            <a:off x="5796000" y="0"/>
            <a:ext cx="3168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-252360" y="1484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библейских вре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 1117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х Киево-Печер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стыря Нес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0" y="4376880"/>
            <a:ext cx="56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нисты: Г. Миллер, А Шлецер, Н. Карамз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тинорманисты: М.Ломоносов, Н. Иловай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0" y="0"/>
            <a:ext cx="9144000" cy="89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тоги сп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цесс складывания государства начался до призвания. Призваны править «по ряду» или «по прав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Рюрик реальная историческая 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Этноним Русь скандинавского происхождения (возможно – гребц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 после призвания государственность окончательно не сложила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174600"/>
            <a:ext cx="937404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ь с городом в центре, которому подчиняется сельская округа и приго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ев – старейший город. Лестничная система. Старший князь сажает своих сыновей в городах по старшин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е – война, мир, приглашение князя, договор с ним и изгнание если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население волости разбито на десятки и сотни – поставляли воинов во главе с воевод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 – организатор обороны и судья (открыто и глас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ост – место сбора дани. В форме полюдья.  Урок – размер д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556000" y="1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201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79280" y="981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жина князя – бояре и отр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 старейшин друж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щики податей – дан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ебные чиновники – меч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равляющий княжеской вотчиной - ти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32000" y="33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9280" y="281160"/>
            <a:ext cx="775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  Святославович (960-1015) – 988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щение Руси  (картина В. Васнецо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крещение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волхвы"/>
          <p:cNvPicPr/>
          <p:nvPr/>
        </p:nvPicPr>
        <p:blipFill>
          <a:blip r:embed="rId1"/>
          <a:stretch/>
        </p:blipFill>
        <p:spPr>
          <a:xfrm>
            <a:off x="1042920" y="1628640"/>
            <a:ext cx="6667560" cy="4732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24000" y="476280"/>
            <a:ext cx="9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бива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х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Новгородском веч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ИЕВСКАЯ РУСЬ. Основные эта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полк Владимирович (1015-1019) – убий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а и Гле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ослав Мудрый (1019 – 1054) -  «Русская прав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ярослав"/>
          <p:cNvPicPr/>
          <p:nvPr/>
        </p:nvPicPr>
        <p:blipFill>
          <a:blip r:embed="rId1"/>
          <a:stretch/>
        </p:blipFill>
        <p:spPr>
          <a:xfrm>
            <a:off x="1332000" y="3141720"/>
            <a:ext cx="561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47:33Z</dcterms:created>
  <dc:creator>Дина</dc:creator>
  <dc:description/>
  <dc:language>en-US</dc:language>
  <cp:lastModifiedBy>общий</cp:lastModifiedBy>
  <dcterms:modified xsi:type="dcterms:W3CDTF">2018-02-21T08:39:42Z</dcterms:modified>
  <cp:revision>29</cp:revision>
  <dc:subject/>
  <dc:title>Слайд 1</dc:title>
</cp:coreProperties>
</file>