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7A7-6B59-4348-92BD-C0DAC32B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D63-BC4B-45FC-8172-F767A464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0C6-5F4F-4C2B-96D2-9F05623C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9AD-52B1-446A-A0E6-BBD04DD2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489-58DC-4515-8C4B-E320BD3D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5DF-8371-40D1-8A02-718DA7D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B6F-407F-4A36-9E11-D675B5CE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9A3-1B67-40AE-AEB6-4EDE8236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2D4-91BE-425F-B07A-ABA38644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A5B-F4DD-4369-A075-63A4FB5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60B-EA96-4EE5-BED0-D6454BD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5FB-4BDE-43A7-96AD-96346213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C4B-4C66-4611-AD52-B1CC6B7904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4BD8-1CC2-40A4-B4BD-E56A500E3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24.xml"/><Relationship Id="rId6" Type="http://schemas.openxmlformats.org/officeDocument/2006/relationships/slide" Target="slide23.xml"/><Relationship Id="rId7" Type="http://schemas.openxmlformats.org/officeDocument/2006/relationships/slide" Target="slide22.xml"/><Relationship Id="rId8" Type="http://schemas.openxmlformats.org/officeDocument/2006/relationships/slide" Target="slide21.xml"/><Relationship Id="rId9" Type="http://schemas.openxmlformats.org/officeDocument/2006/relationships/slide" Target="slide20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slide" Target="slide27.xml"/><Relationship Id="rId13" Type="http://schemas.openxmlformats.org/officeDocument/2006/relationships/slide" Target="slide26.xml"/><Relationship Id="rId14" Type="http://schemas.openxmlformats.org/officeDocument/2006/relationships/slide" Target="slide25.xml"/><Relationship Id="rId15" Type="http://schemas.openxmlformats.org/officeDocument/2006/relationships/slide" Target="slide19.xml"/><Relationship Id="rId16" Type="http://schemas.openxmlformats.org/officeDocument/2006/relationships/slide" Target="slide9.xml"/><Relationship Id="rId17" Type="http://schemas.openxmlformats.org/officeDocument/2006/relationships/slide" Target="slide8.xml"/><Relationship Id="rId18" Type="http://schemas.openxmlformats.org/officeDocument/2006/relationships/slide" Target="slide7.xml"/><Relationship Id="rId19" Type="http://schemas.openxmlformats.org/officeDocument/2006/relationships/slide" Target="slide6.xml"/><Relationship Id="rId20" Type="http://schemas.openxmlformats.org/officeDocument/2006/relationships/slide" Target="slide5.xml"/><Relationship Id="rId21" Type="http://schemas.openxmlformats.org/officeDocument/2006/relationships/slide" Target="slide11.xml"/><Relationship Id="rId22" Type="http://schemas.openxmlformats.org/officeDocument/2006/relationships/slide" Target="slide12.xml"/><Relationship Id="rId23" Type="http://schemas.openxmlformats.org/officeDocument/2006/relationships/slide" Target="slide10.xml"/><Relationship Id="rId24" Type="http://schemas.openxmlformats.org/officeDocument/2006/relationships/slide" Target="slide13.xml"/><Relationship Id="rId25" Type="http://schemas.openxmlformats.org/officeDocument/2006/relationships/slide" Target="slide14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6408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Arial"/>
                <a:ea typeface="Arial"/>
              </a:rPr>
              <a:t>Своя игр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5229000"/>
            <a:ext cx="49165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3376800" cy="3960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3205800" y="342900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: лю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710160" y="278136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cover13d"/>
          <p:cNvPicPr/>
          <p:nvPr/>
        </p:nvPicPr>
        <p:blipFill>
          <a:blip r:embed="rId3"/>
          <a:stretch/>
        </p:blipFill>
        <p:spPr>
          <a:xfrm rot="20285400">
            <a:off x="784080" y="2360520"/>
            <a:ext cx="2038320" cy="2305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2843280" y="213372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Глава 1. «Натуральные чис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Сравнение чис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авнит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09 032 и 709 30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09 03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709 302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8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93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с помощью двойного неравенства: число 25 больше, чем 7, но меньше, чем 56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56 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8">
            <a:hlinkClick r:id="rId1" action="ppaction://hlinksldjump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ишите число, котор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11 меньше наименьшего трёхзначного чис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  89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8">
            <a:hlinkClick r:id="rId1" action="ppaction://hlinksldjump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ишите все натуральные числа больше 4 028 и меньш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045, содержащие цифру 4 в разряде десят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твет:  4040; 4041; 4042; 4043;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4044.</a:t>
            </a: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20364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оложите числа, в которых некоторые цифры заменены звездочками, в порядке убы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* *4* *5*; * **5 *4*; ** *5* *4*; * **4 *5*.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* *5* *4*; ** *4* *5*; * **5 *4*;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* **4 *5*.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8">
            <a:hlinkClick r:id="rId1" action="ppaction://hlinksldjump"/>
          </p:cNvPr>
          <p:cNvSpPr/>
          <p:nvPr/>
        </p:nvSpPr>
        <p:spPr>
          <a:xfrm>
            <a:off x="8172360" y="587700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236000" y="69228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27bc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изменяются числа на координатном луче, если двигаться по нему впра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числа увеличив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27bc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координату точки 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(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116000" y="429264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111600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169236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226836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2"/>
          <p:cNvSpPr/>
          <p:nvPr/>
        </p:nvSpPr>
        <p:spPr>
          <a:xfrm>
            <a:off x="284328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341964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4"/>
          <p:cNvSpPr/>
          <p:nvPr/>
        </p:nvSpPr>
        <p:spPr>
          <a:xfrm>
            <a:off x="399564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5"/>
          <p:cNvSpPr/>
          <p:nvPr/>
        </p:nvSpPr>
        <p:spPr>
          <a:xfrm>
            <a:off x="457200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6"/>
          <p:cNvSpPr/>
          <p:nvPr/>
        </p:nvSpPr>
        <p:spPr>
          <a:xfrm>
            <a:off x="514836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7"/>
          <p:cNvSpPr/>
          <p:nvPr/>
        </p:nvSpPr>
        <p:spPr>
          <a:xfrm>
            <a:off x="572436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>
            <a:off x="630072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2053080" y="35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3205800" y="35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3782160" y="35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510520" y="3500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902160" y="4365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1478520" y="4365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"/>
          <p:cNvPicPr/>
          <p:nvPr/>
        </p:nvPicPr>
        <p:blipFill>
          <a:blip r:embed="rId2"/>
          <a:stretch/>
        </p:blipFill>
        <p:spPr>
          <a:xfrm>
            <a:off x="7164360" y="83664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27bc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координату точки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5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1187280" y="3716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187280" y="364500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9236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68360" y="364500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364500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27672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78000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28472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478800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29272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579600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147852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507888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6144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406944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973440" y="378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2413800" y="3789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2" descr=""/>
          <p:cNvPicPr/>
          <p:nvPr/>
        </p:nvPicPr>
        <p:blipFill>
          <a:blip r:embed="rId2"/>
          <a:stretch/>
        </p:blipFill>
        <p:spPr>
          <a:xfrm>
            <a:off x="7093080" y="83664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27bc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натуральные числа лежат на координатном луче между числами   1998 и 2002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e527bc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999; 2000; 2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>
            <a:hlinkClick r:id="rId1" action="ppaction://hlinksldjump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7236000" y="1125360"/>
            <a:ext cx="159372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27bc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знечик за один прыжок перемещается вдоль координатного луча вправо на 5 ед. отрезков или влево на 3 ед. отрезка. Первый прыжок кузнечик делает из точки О(0) вправ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Сможет ли он за несколько прыжков попасть в точку А(7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да (после 3-его прыжка)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еся  играют каждый за себя.  Каждый  получает  таблицу для подсчета очков (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учащиеся выбирают по очер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основном туре игры кажд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набирает столько очков, сколько даст правильных ответов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финальном тур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кажды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бъявляет свою ставку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не выше набранных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ч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ответ на вопрос будет правильным, то ученик зарабатывает столько очков, какова была ставка. Если же ответ окажется неправильным, то ученик теряет столько очков, какова была став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одятся итоги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Calibri"/>
              </a:rPr>
              <a:t>100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разите  в метра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500км 5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Ответ: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8 500 005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6">
            <a:hlinkClick r:id="rId1" action="ppaction://hlinksldjump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отрезке АВ= 9см5мм отмечены точки С и К так, что АС = 4см 5мм, КВ = 2см. Чему равна длина отрезка С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Ответ: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К=3см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прямой отмечены 6 точек так, что расстояние между соседними точками равно 7см. Чему равно расстояние между крайними точк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35с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чертите пятиугольник АВ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. Проведите отрезок АС.  Запишите все образовавшиеся многоугольн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4000" spc="-1" strike="noStrike">
                <a:solidFill>
                  <a:srgbClr val="00cc00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АВС; А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отрезке выбраны 28 точек так, что расстояние между соседними точками равно 7мм. Чему равно расстояние между 8-й и 27-й точк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33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59372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колько миллионов в 15 миллиард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5 000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аллее растут сосны и берёзы так, что между соседними соснами растёт одна берёза. Расстояние между любыми двумя деревьями равно 3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дите расстояние между соседними берёз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6м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7308720" y="1052640"/>
            <a:ext cx="1594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чисел натурального ряда заключено между числами 2892 и7521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628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расставить 10 стульев у стен в комнате так, чтобы около каждой стены было одинаковое количество стулье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4360" y="4941720"/>
            <a:ext cx="2519280" cy="107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8"/>
          <p:cNvSpPr/>
          <p:nvPr/>
        </p:nvSpPr>
        <p:spPr>
          <a:xfrm>
            <a:off x="3995640" y="5013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9"/>
          <p:cNvSpPr/>
          <p:nvPr/>
        </p:nvSpPr>
        <p:spPr>
          <a:xfrm>
            <a:off x="3995640" y="530064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995640" y="558972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356000" y="5013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4716360" y="5013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6227640" y="551664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6227640" y="5229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>
            <a:off x="5796000" y="5805360"/>
            <a:ext cx="14436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7"/>
          <p:cNvSpPr/>
          <p:nvPr/>
        </p:nvSpPr>
        <p:spPr>
          <a:xfrm>
            <a:off x="5364000" y="5805360"/>
            <a:ext cx="1447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8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аллее растут сосны и берёзы так, что между соседними соснами растёт одна берёза. Расстояние между любыми двумя деревьями равно 3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дите расстояние между 1-й сосной и 5-й берёз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7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7308720" y="1125360"/>
            <a:ext cx="159408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8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Основной ту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Финальный ту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Финальный ту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ма тура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«Натуральные числа</a:t>
            </a:r>
            <a:r>
              <a:rPr b="1" i="1" lang="ru-RU" sz="5400" spc="-1" strike="noStrike">
                <a:solidFill>
                  <a:srgbClr val="990000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лаем ставки.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24195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Arial"/>
              </a:rPr>
              <a:t>Натуральные чис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какому трёхзначному числу надо прибавить наибольшее двузначное число, чтобы получилось наибольшее трёхзначное числ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Правильный ответ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+ 99 = 999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х = 9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ff"/>
                </a:solidFill>
                <a:latin typeface="Calibri"/>
              </a:rPr>
              <a:t>ИГРА</a:t>
            </a:r>
            <a:r>
              <a:rPr b="1" i="1" lang="ru-RU" sz="4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i="1" lang="ru-RU" sz="6600" spc="-1" strike="noStrike">
                <a:solidFill>
                  <a:srgbClr val="0000ff"/>
                </a:solidFill>
                <a:latin typeface="Calibri"/>
              </a:rPr>
              <a:t>ЗАВЕРШЕНА</a:t>
            </a: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!</a:t>
            </a: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ДВЕДЕМ 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7690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Г. Мерзляк, В.Б. Полонский, М.С. Якир. Математика: 5 класс: учебник для учащихся общеобразовательных организаций, - 2-е изд., перераб. – М.:Вентана-Граф,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П. Ершов, В.В. Голобородько. Самостоятельные и контрольные работы по математике для 5 класса.- М.:ИЛЕКСА,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9212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cover13d"/>
          <p:cNvPicPr/>
          <p:nvPr/>
        </p:nvPicPr>
        <p:blipFill>
          <a:blip r:embed="rId2"/>
          <a:stretch/>
        </p:blipFill>
        <p:spPr>
          <a:xfrm rot="21440400">
            <a:off x="468360" y="2133720"/>
            <a:ext cx="406440" cy="460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2"/>
          <p:cNvSpPr/>
          <p:nvPr/>
        </p:nvSpPr>
        <p:spPr>
          <a:xfrm>
            <a:off x="971640" y="2205000"/>
            <a:ext cx="67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cdn.eksmo.ru/v2/VEN000000000009285/COVER/cover13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1471320" y="6021360"/>
            <a:ext cx="25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шаблона неизвес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1042920" y="2707200"/>
            <a:ext cx="746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yschoolclipart.com/1024/clip-art-of-a-cute-school-boy-riding-down-a-red-line-on-arrows-tossing-books-and-pens-by-alex-bannykh-4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1116000" y="3492360"/>
            <a:ext cx="755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8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841320" cy="5191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9"/>
          <p:cNvSpPr/>
          <p:nvPr/>
        </p:nvSpPr>
        <p:spPr>
          <a:xfrm>
            <a:off x="1116000" y="349920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yoursourceisopen.com/wp-content/uploads/2011/08/38994ba2podium-ic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0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585720" cy="4222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1"/>
          <p:cNvSpPr/>
          <p:nvPr/>
        </p:nvSpPr>
        <p:spPr>
          <a:xfrm>
            <a:off x="1116000" y="4148640"/>
            <a:ext cx="66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tlttimes.ru/uploads/images/c/9/8/4/1822/3e2f2147d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24000" y="404640"/>
            <a:ext cx="3743280" cy="1043280"/>
          </a:xfrm>
          <a:custGeom>
            <a:avLst/>
            <a:gdLst>
              <a:gd name="textAreaLeft" fmla="*/ 67320 w 3743280"/>
              <a:gd name="textAreaRight" fmla="*/ 3675960 w 37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77481" h="21600">
                <a:moveTo>
                  <a:pt x="0" y="0"/>
                </a:moveTo>
                <a:lnTo>
                  <a:pt x="77481" y="0"/>
                </a:lnTo>
                <a:lnTo>
                  <a:pt x="77481" y="21600"/>
                </a:lnTo>
                <a:lnTo>
                  <a:pt x="0" y="21600"/>
                </a:lnTo>
                <a:close/>
              </a:path>
              <a:path fill="lightenLess" w="77481" h="21600">
                <a:moveTo>
                  <a:pt x="0" y="0"/>
                </a:moveTo>
                <a:lnTo>
                  <a:pt x="77481" y="0"/>
                </a:lnTo>
                <a:lnTo>
                  <a:pt x="76081" y="1400"/>
                </a:lnTo>
                <a:lnTo>
                  <a:pt x="1400" y="1400"/>
                </a:lnTo>
                <a:close/>
              </a:path>
              <a:path fill="darken" w="77481" h="21600">
                <a:moveTo>
                  <a:pt x="77481" y="0"/>
                </a:moveTo>
                <a:lnTo>
                  <a:pt x="77481" y="21600"/>
                </a:lnTo>
                <a:lnTo>
                  <a:pt x="76081" y="20200"/>
                </a:lnTo>
                <a:lnTo>
                  <a:pt x="76081" y="1400"/>
                </a:lnTo>
                <a:close/>
              </a:path>
              <a:path fill="darkenLess" w="77481" h="21600">
                <a:moveTo>
                  <a:pt x="774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081" y="20200"/>
                </a:lnTo>
                <a:close/>
              </a:path>
              <a:path fill="lighten" w="774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2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тур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324000" y="1628640"/>
            <a:ext cx="2735280" cy="1043280"/>
          </a:xfrm>
          <a:custGeom>
            <a:avLst/>
            <a:gdLst>
              <a:gd name="textAreaLeft" fmla="*/ 67320 w 2735280"/>
              <a:gd name="textAreaRight" fmla="*/ 2667960 w 2735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56619" h="21600">
                <a:moveTo>
                  <a:pt x="0" y="0"/>
                </a:moveTo>
                <a:lnTo>
                  <a:pt x="56619" y="0"/>
                </a:lnTo>
                <a:lnTo>
                  <a:pt x="56619" y="21600"/>
                </a:lnTo>
                <a:lnTo>
                  <a:pt x="0" y="21600"/>
                </a:lnTo>
                <a:close/>
              </a:path>
              <a:path fill="lightenLess" w="56619" h="21600">
                <a:moveTo>
                  <a:pt x="0" y="0"/>
                </a:moveTo>
                <a:lnTo>
                  <a:pt x="56619" y="0"/>
                </a:lnTo>
                <a:lnTo>
                  <a:pt x="55219" y="1400"/>
                </a:lnTo>
                <a:lnTo>
                  <a:pt x="1400" y="1400"/>
                </a:lnTo>
                <a:close/>
              </a:path>
              <a:path fill="darken" w="56619" h="21600">
                <a:moveTo>
                  <a:pt x="56619" y="0"/>
                </a:moveTo>
                <a:lnTo>
                  <a:pt x="56619" y="21600"/>
                </a:lnTo>
                <a:lnTo>
                  <a:pt x="55219" y="20200"/>
                </a:lnTo>
                <a:lnTo>
                  <a:pt x="55219" y="1400"/>
                </a:lnTo>
                <a:close/>
              </a:path>
              <a:path fill="darkenLess" w="56619" h="21600">
                <a:moveTo>
                  <a:pt x="56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9" y="20200"/>
                </a:lnTo>
                <a:close/>
              </a:path>
              <a:path fill="lighten" w="56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324000" y="4076640"/>
            <a:ext cx="2735280" cy="1042920"/>
          </a:xfrm>
          <a:custGeom>
            <a:avLst/>
            <a:gdLst>
              <a:gd name="textAreaLeft" fmla="*/ 67320 w 2735280"/>
              <a:gd name="textAreaRight" fmla="*/ 2667960 w 2735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6639" h="21600">
                <a:moveTo>
                  <a:pt x="0" y="0"/>
                </a:moveTo>
                <a:lnTo>
                  <a:pt x="56639" y="0"/>
                </a:lnTo>
                <a:lnTo>
                  <a:pt x="56639" y="21600"/>
                </a:lnTo>
                <a:lnTo>
                  <a:pt x="0" y="21600"/>
                </a:lnTo>
                <a:close/>
              </a:path>
              <a:path fill="lightenLess" w="56639" h="21600">
                <a:moveTo>
                  <a:pt x="0" y="0"/>
                </a:moveTo>
                <a:lnTo>
                  <a:pt x="56639" y="0"/>
                </a:lnTo>
                <a:lnTo>
                  <a:pt x="55239" y="1400"/>
                </a:lnTo>
                <a:lnTo>
                  <a:pt x="1400" y="1400"/>
                </a:lnTo>
                <a:close/>
              </a:path>
              <a:path fill="darken" w="56639" h="21600">
                <a:moveTo>
                  <a:pt x="56639" y="0"/>
                </a:moveTo>
                <a:lnTo>
                  <a:pt x="56639" y="21600"/>
                </a:lnTo>
                <a:lnTo>
                  <a:pt x="55239" y="20200"/>
                </a:lnTo>
                <a:lnTo>
                  <a:pt x="55239" y="1400"/>
                </a:lnTo>
                <a:close/>
              </a:path>
              <a:path fill="darkenLess" w="56639" h="21600">
                <a:moveTo>
                  <a:pt x="5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9" y="20200"/>
                </a:lnTo>
                <a:close/>
              </a:path>
              <a:path fill="lighten" w="5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324000" y="5300640"/>
            <a:ext cx="2735280" cy="1042920"/>
          </a:xfrm>
          <a:custGeom>
            <a:avLst/>
            <a:gdLst>
              <a:gd name="textAreaLeft" fmla="*/ 67320 w 2735280"/>
              <a:gd name="textAreaRight" fmla="*/ 2667960 w 2735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6639" h="21600">
                <a:moveTo>
                  <a:pt x="0" y="0"/>
                </a:moveTo>
                <a:lnTo>
                  <a:pt x="56639" y="0"/>
                </a:lnTo>
                <a:lnTo>
                  <a:pt x="56639" y="21600"/>
                </a:lnTo>
                <a:lnTo>
                  <a:pt x="0" y="21600"/>
                </a:lnTo>
                <a:close/>
              </a:path>
              <a:path fill="lightenLess" w="56639" h="21600">
                <a:moveTo>
                  <a:pt x="0" y="0"/>
                </a:moveTo>
                <a:lnTo>
                  <a:pt x="56639" y="0"/>
                </a:lnTo>
                <a:lnTo>
                  <a:pt x="55239" y="1400"/>
                </a:lnTo>
                <a:lnTo>
                  <a:pt x="1400" y="1400"/>
                </a:lnTo>
                <a:close/>
              </a:path>
              <a:path fill="darken" w="56639" h="21600">
                <a:moveTo>
                  <a:pt x="56639" y="0"/>
                </a:moveTo>
                <a:lnTo>
                  <a:pt x="56639" y="21600"/>
                </a:lnTo>
                <a:lnTo>
                  <a:pt x="55239" y="20200"/>
                </a:lnTo>
                <a:lnTo>
                  <a:pt x="55239" y="1400"/>
                </a:lnTo>
                <a:close/>
              </a:path>
              <a:path fill="darkenLess" w="56639" h="21600">
                <a:moveTo>
                  <a:pt x="5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9" y="20200"/>
                </a:lnTo>
                <a:close/>
              </a:path>
              <a:path fill="lighten" w="5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2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ми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7164360" y="2852640"/>
            <a:ext cx="754200" cy="104292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1042920"/>
              <a:gd name="textAreaBottom" fmla="*/ 994320 h 1042920"/>
            </a:gdLst>
            <a:ahLst/>
            <a:rect l="textAreaLeft" t="textAreaTop" r="textAreaRight" b="textAreaBottom"/>
            <a:pathLst>
              <a:path w="21600" h="29865">
                <a:moveTo>
                  <a:pt x="0" y="0"/>
                </a:moveTo>
                <a:lnTo>
                  <a:pt x="21600" y="0"/>
                </a:lnTo>
                <a:lnTo>
                  <a:pt x="21600" y="29865"/>
                </a:lnTo>
                <a:lnTo>
                  <a:pt x="0" y="29865"/>
                </a:lnTo>
                <a:close/>
              </a:path>
              <a:path fill="lightenLess" w="21600" h="2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65">
                <a:moveTo>
                  <a:pt x="21600" y="0"/>
                </a:moveTo>
                <a:lnTo>
                  <a:pt x="21600" y="29865"/>
                </a:lnTo>
                <a:lnTo>
                  <a:pt x="20200" y="28465"/>
                </a:lnTo>
                <a:lnTo>
                  <a:pt x="20200" y="1400"/>
                </a:lnTo>
                <a:close/>
              </a:path>
              <a:path fill="darkenLess" w="21600" h="29865">
                <a:moveTo>
                  <a:pt x="21600" y="29865"/>
                </a:moveTo>
                <a:lnTo>
                  <a:pt x="0" y="29865"/>
                </a:lnTo>
                <a:lnTo>
                  <a:pt x="1400" y="28465"/>
                </a:lnTo>
                <a:lnTo>
                  <a:pt x="20200" y="28465"/>
                </a:lnTo>
                <a:close/>
              </a:path>
              <a:path fill="lighten" w="21600" h="29865">
                <a:moveTo>
                  <a:pt x="0" y="2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65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227640" y="2852640"/>
            <a:ext cx="755640" cy="104292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1042920"/>
              <a:gd name="textAreaBottom" fmla="*/ 993960 h 1042920"/>
            </a:gdLst>
            <a:ahLst/>
            <a:rect l="textAreaLeft" t="textAreaTop" r="textAreaRight" b="textAreaBottom"/>
            <a:pathLst>
              <a:path w="21600" h="29808">
                <a:moveTo>
                  <a:pt x="0" y="0"/>
                </a:moveTo>
                <a:lnTo>
                  <a:pt x="21600" y="0"/>
                </a:lnTo>
                <a:lnTo>
                  <a:pt x="21600" y="29808"/>
                </a:lnTo>
                <a:lnTo>
                  <a:pt x="0" y="29808"/>
                </a:lnTo>
                <a:close/>
              </a:path>
              <a:path fill="lightenLess" w="21600" h="298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08">
                <a:moveTo>
                  <a:pt x="21600" y="0"/>
                </a:moveTo>
                <a:lnTo>
                  <a:pt x="21600" y="29808"/>
                </a:lnTo>
                <a:lnTo>
                  <a:pt x="20200" y="28408"/>
                </a:lnTo>
                <a:lnTo>
                  <a:pt x="20200" y="1400"/>
                </a:lnTo>
                <a:close/>
              </a:path>
              <a:path fill="darkenLess" w="21600" h="29808">
                <a:moveTo>
                  <a:pt x="21600" y="29808"/>
                </a:moveTo>
                <a:lnTo>
                  <a:pt x="0" y="29808"/>
                </a:lnTo>
                <a:lnTo>
                  <a:pt x="1400" y="28408"/>
                </a:lnTo>
                <a:lnTo>
                  <a:pt x="20200" y="28408"/>
                </a:lnTo>
                <a:close/>
              </a:path>
              <a:path fill="lighten" w="21600" h="29808">
                <a:moveTo>
                  <a:pt x="0" y="298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292720" y="2852640"/>
            <a:ext cx="754200" cy="104292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1042920"/>
              <a:gd name="textAreaBottom" fmla="*/ 994320 h 1042920"/>
            </a:gdLst>
            <a:ahLst/>
            <a:rect l="textAreaLeft" t="textAreaTop" r="textAreaRight" b="textAreaBottom"/>
            <a:pathLst>
              <a:path w="21600" h="29865">
                <a:moveTo>
                  <a:pt x="0" y="0"/>
                </a:moveTo>
                <a:lnTo>
                  <a:pt x="21600" y="0"/>
                </a:lnTo>
                <a:lnTo>
                  <a:pt x="21600" y="29865"/>
                </a:lnTo>
                <a:lnTo>
                  <a:pt x="0" y="29865"/>
                </a:lnTo>
                <a:close/>
              </a:path>
              <a:path fill="lightenLess" w="21600" h="2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65">
                <a:moveTo>
                  <a:pt x="21600" y="0"/>
                </a:moveTo>
                <a:lnTo>
                  <a:pt x="21600" y="29865"/>
                </a:lnTo>
                <a:lnTo>
                  <a:pt x="20200" y="28465"/>
                </a:lnTo>
                <a:lnTo>
                  <a:pt x="20200" y="1400"/>
                </a:lnTo>
                <a:close/>
              </a:path>
              <a:path fill="darkenLess" w="21600" h="29865">
                <a:moveTo>
                  <a:pt x="21600" y="29865"/>
                </a:moveTo>
                <a:lnTo>
                  <a:pt x="0" y="29865"/>
                </a:lnTo>
                <a:lnTo>
                  <a:pt x="1400" y="28465"/>
                </a:lnTo>
                <a:lnTo>
                  <a:pt x="20200" y="28465"/>
                </a:lnTo>
                <a:close/>
              </a:path>
              <a:path fill="lighten" w="21600" h="29865">
                <a:moveTo>
                  <a:pt x="0" y="2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65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4427640" y="2852640"/>
            <a:ext cx="682560" cy="10429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1042920"/>
              <a:gd name="textAreaBottom" fmla="*/ 999000 h 1042920"/>
            </a:gdLst>
            <a:ahLst/>
            <a:rect l="textAreaLeft" t="textAreaTop" r="textAreaRight" b="textAreaBottom"/>
            <a:pathLst>
              <a:path w="21600" h="32998">
                <a:moveTo>
                  <a:pt x="0" y="0"/>
                </a:moveTo>
                <a:lnTo>
                  <a:pt x="21600" y="0"/>
                </a:lnTo>
                <a:lnTo>
                  <a:pt x="21600" y="32998"/>
                </a:lnTo>
                <a:lnTo>
                  <a:pt x="0" y="32998"/>
                </a:lnTo>
                <a:close/>
              </a:path>
              <a:path fill="lightenLess" w="21600" h="32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98">
                <a:moveTo>
                  <a:pt x="21600" y="0"/>
                </a:moveTo>
                <a:lnTo>
                  <a:pt x="21600" y="32998"/>
                </a:lnTo>
                <a:lnTo>
                  <a:pt x="20200" y="31598"/>
                </a:lnTo>
                <a:lnTo>
                  <a:pt x="20200" y="1400"/>
                </a:lnTo>
                <a:close/>
              </a:path>
              <a:path fill="darkenLess" w="21600" h="32998">
                <a:moveTo>
                  <a:pt x="21600" y="32998"/>
                </a:moveTo>
                <a:lnTo>
                  <a:pt x="0" y="32998"/>
                </a:lnTo>
                <a:lnTo>
                  <a:pt x="1400" y="31598"/>
                </a:lnTo>
                <a:lnTo>
                  <a:pt x="20200" y="31598"/>
                </a:lnTo>
                <a:close/>
              </a:path>
              <a:path fill="lighten" w="21600" h="32998">
                <a:moveTo>
                  <a:pt x="0" y="32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9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781200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665964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550872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435600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320364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6659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5508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"/>
          <p:cNvSpPr/>
          <p:nvPr/>
        </p:nvSpPr>
        <p:spPr>
          <a:xfrm>
            <a:off x="4356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3203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8028000" y="2852640"/>
            <a:ext cx="826920" cy="1042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1042920"/>
              <a:gd name="textAreaBottom" fmla="*/ 989640 h 1042920"/>
            </a:gdLst>
            <a:ahLst/>
            <a:rect l="textAreaLeft" t="textAreaTop" r="textAreaRight" b="textAreaBottom"/>
            <a:pathLst>
              <a:path w="21600" h="27240">
                <a:moveTo>
                  <a:pt x="0" y="0"/>
                </a:moveTo>
                <a:lnTo>
                  <a:pt x="21600" y="0"/>
                </a:lnTo>
                <a:lnTo>
                  <a:pt x="21600" y="27240"/>
                </a:lnTo>
                <a:lnTo>
                  <a:pt x="0" y="27240"/>
                </a:lnTo>
                <a:close/>
              </a:path>
              <a:path fill="lightenLess" w="21600" h="272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40">
                <a:moveTo>
                  <a:pt x="21600" y="0"/>
                </a:moveTo>
                <a:lnTo>
                  <a:pt x="21600" y="27240"/>
                </a:lnTo>
                <a:lnTo>
                  <a:pt x="20200" y="25840"/>
                </a:lnTo>
                <a:lnTo>
                  <a:pt x="20200" y="1400"/>
                </a:lnTo>
                <a:close/>
              </a:path>
              <a:path fill="darkenLess" w="21600" h="27240">
                <a:moveTo>
                  <a:pt x="21600" y="27240"/>
                </a:moveTo>
                <a:lnTo>
                  <a:pt x="0" y="27240"/>
                </a:lnTo>
                <a:lnTo>
                  <a:pt x="1400" y="25840"/>
                </a:lnTo>
                <a:lnTo>
                  <a:pt x="20200" y="25840"/>
                </a:lnTo>
                <a:close/>
              </a:path>
              <a:path fill="lighten" w="21600" h="27240">
                <a:moveTo>
                  <a:pt x="0" y="272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4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4"/>
          <p:cNvSpPr/>
          <p:nvPr/>
        </p:nvSpPr>
        <p:spPr>
          <a:xfrm>
            <a:off x="7956720" y="404640"/>
            <a:ext cx="826920" cy="104328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1043280"/>
              <a:gd name="textAreaBottom" fmla="*/ 990000 h 1043280"/>
            </a:gdLst>
            <a:ahLst/>
            <a:rect l="textAreaLeft" t="textAreaTop" r="textAreaRight" b="textAreaBottom"/>
            <a:pathLst>
              <a:path w="21600" h="27249">
                <a:moveTo>
                  <a:pt x="0" y="0"/>
                </a:moveTo>
                <a:lnTo>
                  <a:pt x="21600" y="0"/>
                </a:lnTo>
                <a:lnTo>
                  <a:pt x="21600" y="27249"/>
                </a:lnTo>
                <a:lnTo>
                  <a:pt x="0" y="27249"/>
                </a:lnTo>
                <a:close/>
              </a:path>
              <a:path fill="lightenLess" w="21600" h="272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49">
                <a:moveTo>
                  <a:pt x="21600" y="0"/>
                </a:moveTo>
                <a:lnTo>
                  <a:pt x="21600" y="27249"/>
                </a:lnTo>
                <a:lnTo>
                  <a:pt x="20200" y="25849"/>
                </a:lnTo>
                <a:lnTo>
                  <a:pt x="20200" y="1400"/>
                </a:lnTo>
                <a:close/>
              </a:path>
              <a:path fill="darkenLess" w="21600" h="27249">
                <a:moveTo>
                  <a:pt x="21600" y="27249"/>
                </a:moveTo>
                <a:lnTo>
                  <a:pt x="0" y="27249"/>
                </a:lnTo>
                <a:lnTo>
                  <a:pt x="1400" y="25849"/>
                </a:lnTo>
                <a:lnTo>
                  <a:pt x="20200" y="25849"/>
                </a:lnTo>
                <a:close/>
              </a:path>
              <a:path fill="lighten" w="21600" h="27249">
                <a:moveTo>
                  <a:pt x="0" y="272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4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7020000" y="404640"/>
            <a:ext cx="753840" cy="104328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1043280"/>
              <a:gd name="textAreaBottom" fmla="*/ 994680 h 1043280"/>
            </a:gdLst>
            <a:ahLst/>
            <a:rect l="textAreaLeft" t="textAreaTop" r="textAreaRight" b="textAreaBottom"/>
            <a:pathLst>
              <a:path w="21600" h="29889">
                <a:moveTo>
                  <a:pt x="0" y="0"/>
                </a:moveTo>
                <a:lnTo>
                  <a:pt x="21600" y="0"/>
                </a:lnTo>
                <a:lnTo>
                  <a:pt x="21600" y="29889"/>
                </a:lnTo>
                <a:lnTo>
                  <a:pt x="0" y="29889"/>
                </a:lnTo>
                <a:close/>
              </a:path>
              <a:path fill="lightenLess" w="21600" h="298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89">
                <a:moveTo>
                  <a:pt x="21600" y="0"/>
                </a:moveTo>
                <a:lnTo>
                  <a:pt x="21600" y="29889"/>
                </a:lnTo>
                <a:lnTo>
                  <a:pt x="20200" y="28490"/>
                </a:lnTo>
                <a:lnTo>
                  <a:pt x="20200" y="1400"/>
                </a:lnTo>
                <a:close/>
              </a:path>
              <a:path fill="darkenLess" w="21600" h="29889">
                <a:moveTo>
                  <a:pt x="21600" y="29889"/>
                </a:moveTo>
                <a:lnTo>
                  <a:pt x="0" y="29889"/>
                </a:lnTo>
                <a:lnTo>
                  <a:pt x="1400" y="28490"/>
                </a:lnTo>
                <a:lnTo>
                  <a:pt x="20200" y="28490"/>
                </a:lnTo>
                <a:close/>
              </a:path>
              <a:path fill="lighten" w="21600" h="29889">
                <a:moveTo>
                  <a:pt x="0" y="298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9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6084720" y="404640"/>
            <a:ext cx="754200" cy="10432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1043280"/>
              <a:gd name="textAreaBottom" fmla="*/ 994680 h 1043280"/>
            </a:gdLst>
            <a:ahLst/>
            <a:rect l="textAreaLeft" t="textAreaTop" r="textAreaRight" b="textAreaBottom"/>
            <a:pathLst>
              <a:path w="21600" h="29875">
                <a:moveTo>
                  <a:pt x="0" y="0"/>
                </a:moveTo>
                <a:lnTo>
                  <a:pt x="21600" y="0"/>
                </a:lnTo>
                <a:lnTo>
                  <a:pt x="21600" y="29875"/>
                </a:lnTo>
                <a:lnTo>
                  <a:pt x="0" y="29875"/>
                </a:lnTo>
                <a:close/>
              </a:path>
              <a:path fill="lightenLess" w="21600" h="298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75">
                <a:moveTo>
                  <a:pt x="21600" y="0"/>
                </a:moveTo>
                <a:lnTo>
                  <a:pt x="21600" y="29875"/>
                </a:lnTo>
                <a:lnTo>
                  <a:pt x="20200" y="28475"/>
                </a:lnTo>
                <a:lnTo>
                  <a:pt x="20200" y="1400"/>
                </a:lnTo>
                <a:close/>
              </a:path>
              <a:path fill="darkenLess" w="21600" h="29875">
                <a:moveTo>
                  <a:pt x="21600" y="29875"/>
                </a:moveTo>
                <a:lnTo>
                  <a:pt x="0" y="29875"/>
                </a:lnTo>
                <a:lnTo>
                  <a:pt x="1400" y="28475"/>
                </a:lnTo>
                <a:lnTo>
                  <a:pt x="20200" y="28475"/>
                </a:lnTo>
                <a:close/>
              </a:path>
              <a:path fill="lighten" w="21600" h="29875">
                <a:moveTo>
                  <a:pt x="0" y="298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75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7"/>
          <p:cNvSpPr/>
          <p:nvPr/>
        </p:nvSpPr>
        <p:spPr>
          <a:xfrm>
            <a:off x="5148360" y="404640"/>
            <a:ext cx="755640" cy="104328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1043280"/>
              <a:gd name="textAreaBottom" fmla="*/ 994320 h 1043280"/>
            </a:gdLst>
            <a:ahLst/>
            <a:rect l="textAreaLeft" t="textAreaTop" r="textAreaRight" b="textAreaBottom"/>
            <a:pathLst>
              <a:path w="21600" h="29818">
                <a:moveTo>
                  <a:pt x="0" y="0"/>
                </a:moveTo>
                <a:lnTo>
                  <a:pt x="21600" y="0"/>
                </a:lnTo>
                <a:lnTo>
                  <a:pt x="21600" y="29818"/>
                </a:lnTo>
                <a:lnTo>
                  <a:pt x="0" y="29818"/>
                </a:lnTo>
                <a:close/>
              </a:path>
              <a:path fill="lightenLess" w="21600" h="29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18">
                <a:moveTo>
                  <a:pt x="21600" y="0"/>
                </a:moveTo>
                <a:lnTo>
                  <a:pt x="21600" y="29818"/>
                </a:lnTo>
                <a:lnTo>
                  <a:pt x="20200" y="28418"/>
                </a:lnTo>
                <a:lnTo>
                  <a:pt x="20200" y="1400"/>
                </a:lnTo>
                <a:close/>
              </a:path>
              <a:path fill="darkenLess" w="21600" h="29818">
                <a:moveTo>
                  <a:pt x="21600" y="29818"/>
                </a:moveTo>
                <a:lnTo>
                  <a:pt x="0" y="29818"/>
                </a:lnTo>
                <a:lnTo>
                  <a:pt x="1400" y="28418"/>
                </a:lnTo>
                <a:lnTo>
                  <a:pt x="20200" y="28418"/>
                </a:lnTo>
                <a:close/>
              </a:path>
              <a:path fill="lighten" w="21600" h="29818">
                <a:moveTo>
                  <a:pt x="0" y="29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1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8"/>
          <p:cNvSpPr/>
          <p:nvPr/>
        </p:nvSpPr>
        <p:spPr>
          <a:xfrm>
            <a:off x="4284720" y="404640"/>
            <a:ext cx="753840" cy="104328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1043280"/>
              <a:gd name="textAreaBottom" fmla="*/ 994680 h 1043280"/>
            </a:gdLst>
            <a:ahLst/>
            <a:rect l="textAreaLeft" t="textAreaTop" r="textAreaRight" b="textAreaBottom"/>
            <a:pathLst>
              <a:path w="21600" h="29889">
                <a:moveTo>
                  <a:pt x="0" y="0"/>
                </a:moveTo>
                <a:lnTo>
                  <a:pt x="21600" y="0"/>
                </a:lnTo>
                <a:lnTo>
                  <a:pt x="21600" y="29889"/>
                </a:lnTo>
                <a:lnTo>
                  <a:pt x="0" y="29889"/>
                </a:lnTo>
                <a:close/>
              </a:path>
              <a:path fill="lightenLess" w="21600" h="298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89">
                <a:moveTo>
                  <a:pt x="21600" y="0"/>
                </a:moveTo>
                <a:lnTo>
                  <a:pt x="21600" y="29889"/>
                </a:lnTo>
                <a:lnTo>
                  <a:pt x="20200" y="28490"/>
                </a:lnTo>
                <a:lnTo>
                  <a:pt x="20200" y="1400"/>
                </a:lnTo>
                <a:close/>
              </a:path>
              <a:path fill="darkenLess" w="21600" h="29889">
                <a:moveTo>
                  <a:pt x="21600" y="29889"/>
                </a:moveTo>
                <a:lnTo>
                  <a:pt x="0" y="29889"/>
                </a:lnTo>
                <a:lnTo>
                  <a:pt x="1400" y="28490"/>
                </a:lnTo>
                <a:lnTo>
                  <a:pt x="20200" y="28490"/>
                </a:lnTo>
                <a:close/>
              </a:path>
              <a:path fill="lighten" w="21600" h="29889">
                <a:moveTo>
                  <a:pt x="0" y="298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9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/>
          <p:cNvSpPr/>
          <p:nvPr/>
        </p:nvSpPr>
        <p:spPr>
          <a:xfrm>
            <a:off x="428472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0"/>
          <p:cNvSpPr/>
          <p:nvPr/>
        </p:nvSpPr>
        <p:spPr>
          <a:xfrm>
            <a:off x="543564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3132000" y="1628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2"/>
          <p:cNvSpPr/>
          <p:nvPr/>
        </p:nvSpPr>
        <p:spPr>
          <a:xfrm>
            <a:off x="6588000" y="1628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3"/>
          <p:cNvSpPr/>
          <p:nvPr/>
        </p:nvSpPr>
        <p:spPr>
          <a:xfrm>
            <a:off x="774072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5">
            <a:hlinkClick r:id="rId26" action="ppaction://hlinksldjump"/>
          </p:cNvPr>
          <p:cNvSpPr/>
          <p:nvPr/>
        </p:nvSpPr>
        <p:spPr>
          <a:xfrm>
            <a:off x="17928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324000" y="2852640"/>
            <a:ext cx="3887640" cy="1042920"/>
          </a:xfrm>
          <a:custGeom>
            <a:avLst/>
            <a:gdLst>
              <a:gd name="textAreaLeft" fmla="*/ 67320 w 3887640"/>
              <a:gd name="textAreaRight" fmla="*/ 3820320 w 3887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80497" h="21600">
                <a:moveTo>
                  <a:pt x="0" y="0"/>
                </a:moveTo>
                <a:lnTo>
                  <a:pt x="80497" y="0"/>
                </a:lnTo>
                <a:lnTo>
                  <a:pt x="80497" y="21600"/>
                </a:lnTo>
                <a:lnTo>
                  <a:pt x="0" y="21600"/>
                </a:lnTo>
                <a:close/>
              </a:path>
              <a:path fill="lightenLess" w="80497" h="21600">
                <a:moveTo>
                  <a:pt x="0" y="0"/>
                </a:moveTo>
                <a:lnTo>
                  <a:pt x="80497" y="0"/>
                </a:lnTo>
                <a:lnTo>
                  <a:pt x="79097" y="1400"/>
                </a:lnTo>
                <a:lnTo>
                  <a:pt x="1400" y="1400"/>
                </a:lnTo>
                <a:close/>
              </a:path>
              <a:path fill="darken" w="80497" h="21600">
                <a:moveTo>
                  <a:pt x="80497" y="0"/>
                </a:moveTo>
                <a:lnTo>
                  <a:pt x="80497" y="21600"/>
                </a:lnTo>
                <a:lnTo>
                  <a:pt x="79097" y="20200"/>
                </a:lnTo>
                <a:lnTo>
                  <a:pt x="79097" y="1400"/>
                </a:lnTo>
                <a:close/>
              </a:path>
              <a:path fill="darkenLess" w="80497" h="21600">
                <a:moveTo>
                  <a:pt x="8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7" y="20200"/>
                </a:lnTo>
                <a:close/>
              </a:path>
              <a:path fill="lighten" w="8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2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394920" y="2924280"/>
            <a:ext cx="35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ординат.  лу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ишите цифрами число: пять миллионов сорок две тысячи девяносто оди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5 042 09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6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число, которое на 21 больше наибольшего трёхзначного чис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 0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>
            <a:hlinkClick r:id="rId1" action="ppaction://hlinksldjump"/>
          </p:cNvPr>
          <p:cNvSpPr/>
          <p:nvPr/>
        </p:nvSpPr>
        <p:spPr>
          <a:xfrm>
            <a:off x="7812000" y="5734080"/>
            <a:ext cx="936720" cy="907920"/>
          </a:xfrm>
          <a:custGeom>
            <a:avLst/>
            <a:gdLst>
              <a:gd name="textAreaLeft" fmla="*/ 58680 w 936720"/>
              <a:gd name="textAreaRight" fmla="*/ 878040 w 9367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2285" h="21600">
                <a:moveTo>
                  <a:pt x="0" y="0"/>
                </a:moveTo>
                <a:lnTo>
                  <a:pt x="22285" y="0"/>
                </a:lnTo>
                <a:lnTo>
                  <a:pt x="22285" y="21600"/>
                </a:lnTo>
                <a:lnTo>
                  <a:pt x="0" y="21600"/>
                </a:lnTo>
                <a:close/>
              </a:path>
              <a:path fill="lightenLess" w="22285" h="21600">
                <a:moveTo>
                  <a:pt x="0" y="0"/>
                </a:moveTo>
                <a:lnTo>
                  <a:pt x="22285" y="0"/>
                </a:lnTo>
                <a:lnTo>
                  <a:pt x="20885" y="1400"/>
                </a:lnTo>
                <a:lnTo>
                  <a:pt x="1400" y="1400"/>
                </a:lnTo>
                <a:close/>
              </a:path>
              <a:path fill="darken" w="22285" h="21600">
                <a:moveTo>
                  <a:pt x="22285" y="0"/>
                </a:moveTo>
                <a:lnTo>
                  <a:pt x="22285" y="21600"/>
                </a:lnTo>
                <a:lnTo>
                  <a:pt x="20885" y="20200"/>
                </a:lnTo>
                <a:lnTo>
                  <a:pt x="20885" y="1400"/>
                </a:lnTo>
                <a:close/>
              </a:path>
              <a:path fill="darkenLess" w="22285" h="21600">
                <a:moveTo>
                  <a:pt x="22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5" y="20200"/>
                </a:lnTo>
                <a:close/>
              </a:path>
              <a:path fill="lighten" w="22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85" h="21600">
                <a:moveTo>
                  <a:pt x="11142" y="3837"/>
                </a:moveTo>
                <a:lnTo>
                  <a:pt x="13719" y="6448"/>
                </a:ln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lnTo>
                  <a:pt x="18105" y="10800"/>
                </a:lnTo>
                <a:lnTo>
                  <a:pt x="16452" y="10800"/>
                </a:lnTo>
                <a:lnTo>
                  <a:pt x="16452" y="17989"/>
                </a:lnTo>
                <a:lnTo>
                  <a:pt x="5833" y="17989"/>
                </a:lnTo>
                <a:lnTo>
                  <a:pt x="5833" y="10800"/>
                </a:lnTo>
                <a:lnTo>
                  <a:pt x="4179" y="10800"/>
                </a:lnTo>
                <a:close/>
              </a:path>
              <a:path fill="darkenLess" w="22285" h="21600">
                <a:moveTo>
                  <a:pt x="13719" y="6448"/>
                </a:move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close/>
              </a:path>
              <a:path fill="darkenLess" w="22285" h="21600">
                <a:moveTo>
                  <a:pt x="10220" y="14299"/>
                </a:moveTo>
                <a:lnTo>
                  <a:pt x="12065" y="14299"/>
                </a:lnTo>
                <a:lnTo>
                  <a:pt x="12065" y="17989"/>
                </a:lnTo>
                <a:lnTo>
                  <a:pt x="16452" y="17989"/>
                </a:lnTo>
                <a:lnTo>
                  <a:pt x="16452" y="10800"/>
                </a:lnTo>
                <a:lnTo>
                  <a:pt x="5833" y="10800"/>
                </a:lnTo>
                <a:lnTo>
                  <a:pt x="5833" y="17989"/>
                </a:lnTo>
                <a:lnTo>
                  <a:pt x="10220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наименьшее семизначное число, все цифры которого различ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 023 45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11">
            <a:hlinkClick r:id="rId1" action="ppaction://hlinksldjump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йдите сумму наименьшего пятизначного числа и наибольшего шестизначного чис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009 99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500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ишите число, котор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 6806 больше, чем сум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004 и 19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твет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10 0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10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34:35Z</dcterms:created>
  <dc:creator>ELF</dc:creator>
  <dc:description>http://aida.ucoz.ru</dc:description>
  <dc:language>en-US</dc:language>
  <cp:lastModifiedBy>Admin</cp:lastModifiedBy>
  <dcterms:modified xsi:type="dcterms:W3CDTF">2024-01-04T14:51:13Z</dcterms:modified>
  <cp:revision>35</cp:revision>
  <dc:subject/>
  <dc:title>Формулы сокращенного умножения</dc:title>
</cp:coreProperties>
</file>