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2F6-C0B3-4A75-AAB6-11159169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CEB-5890-4F9D-BA36-9CFC20E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8F0-1329-4780-8BF1-FA80F95D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00B-6346-43E1-91A8-0F0FE302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96-1BD3-46A7-AC8B-AB5F4CC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696-17DD-432F-B8E3-8C9BAEE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EC1-7C24-4627-BF65-B363841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CD8-FEF2-4CB0-8C69-F09BF20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87E-9C8D-4386-9194-EA66B7E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9F5-3DE0-43BB-B61C-012EF82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D7A-5F21-4D69-89E6-147C6C4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5D8-619B-451F-ACB0-4DC15D5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719-D0BA-43DE-A71D-AE7AB0618A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6CE-C81C-4E91-9DC5-95D3532F6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slide" Target="slide27.xml"/><Relationship Id="rId13" Type="http://schemas.openxmlformats.org/officeDocument/2006/relationships/slide" Target="slide26.xml"/><Relationship Id="rId14" Type="http://schemas.openxmlformats.org/officeDocument/2006/relationships/slide" Target="slide25.xml"/><Relationship Id="rId15" Type="http://schemas.openxmlformats.org/officeDocument/2006/relationships/slide" Target="slide19.xml"/><Relationship Id="rId16" Type="http://schemas.openxmlformats.org/officeDocument/2006/relationships/slide" Target="slide9.xml"/><Relationship Id="rId17" Type="http://schemas.openxmlformats.org/officeDocument/2006/relationships/slide" Target="slide8.xml"/><Relationship Id="rId18" Type="http://schemas.openxmlformats.org/officeDocument/2006/relationships/slide" Target="slide7.xml"/><Relationship Id="rId19" Type="http://schemas.openxmlformats.org/officeDocument/2006/relationships/slide" Target="slide6.xml"/><Relationship Id="rId20" Type="http://schemas.openxmlformats.org/officeDocument/2006/relationships/slide" Target="slide5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0.xml"/><Relationship Id="rId24" Type="http://schemas.openxmlformats.org/officeDocument/2006/relationships/slide" Target="slide13.xml"/><Relationship Id="rId25" Type="http://schemas.openxmlformats.org/officeDocument/2006/relationships/slide" Target="slide14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6408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Arial"/>
                <a:ea typeface="Arial"/>
              </a:rPr>
              <a:t>Своя иг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229000"/>
            <a:ext cx="4916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37680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3205800" y="342900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: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710160" y="278136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cover13d"/>
          <p:cNvPicPr/>
          <p:nvPr/>
        </p:nvPicPr>
        <p:blipFill>
          <a:blip r:embed="rId3"/>
          <a:stretch/>
        </p:blipFill>
        <p:spPr>
          <a:xfrm rot="20285400">
            <a:off x="784080" y="2360520"/>
            <a:ext cx="2038320" cy="2305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2843280" y="2133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Глава 1. «Натуральные чис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авнит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и 709 30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09 302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с помощью двойного неравенства: число 25 больше, чем 7, но меньше, чем 5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56 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11 меньше наименьшего трёхзначного чис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 89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шите все натуральные числа больше 4 028 и меньш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045, содержащие цифру 4 в разряде десят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 4040; 4041; 4042; 4043;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4044.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036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ите числа, в которых некоторые цифры заменены звездочками, в порядке убы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* *4* *5*; * **5 *4*; ** *5* *4*;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* *5* *4*; ** *4* *5*; * **5 *4*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8">
            <a:hlinkClick r:id="rId1" action="ppaction://hlinksldjump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изменяются числа на координатном луче, если двигаться по нему впра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числа увелич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27bc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(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116000" y="429264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116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692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268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2"/>
          <p:cNvSpPr/>
          <p:nvPr/>
        </p:nvSpPr>
        <p:spPr>
          <a:xfrm>
            <a:off x="284328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341964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4"/>
          <p:cNvSpPr/>
          <p:nvPr/>
        </p:nvSpPr>
        <p:spPr>
          <a:xfrm>
            <a:off x="399564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4572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6"/>
          <p:cNvSpPr/>
          <p:nvPr/>
        </p:nvSpPr>
        <p:spPr>
          <a:xfrm>
            <a:off x="5148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5724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630072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205308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320580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378216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510520" y="3500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0216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47852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2"/>
          <a:stretch/>
        </p:blipFill>
        <p:spPr>
          <a:xfrm>
            <a:off x="716436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5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1187280" y="3716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18728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9236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6836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276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780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284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4788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292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5796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47852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507888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61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4069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973440" y="378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2413800" y="3789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"/>
          <p:cNvPicPr/>
          <p:nvPr/>
        </p:nvPicPr>
        <p:blipFill>
          <a:blip r:embed="rId2"/>
          <a:stretch/>
        </p:blipFill>
        <p:spPr>
          <a:xfrm>
            <a:off x="709308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натуральные числа лежат на координатном луче между числами   1998 и 2002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e527bc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999; 2000; 2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27bc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знечик за один прыжок перемещается вдоль координатного луча вправо на 5 ед. отрезков или влево на 3 ед. отрезка. Первый прыжок кузнечик делает из точки О(0) впра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Сможет ли он за несколько прыжков попасть в точку А(7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а (после 3-его прыжка)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  играют каждый за себя.  Каждый  получает  таблицу для подсчета очков (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учащиеся выбирают по оче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сновном туре игры кажд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набирает столько очков, сколько даст правильных ответов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финальном ту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ажды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бъявляет свою ставку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не выше набранных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ч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твет на вопрос будет правильным, то ученик зарабатывает столько очков, какова была ставка. Если же ответ окажется неправильным, то ученик теряет столько очков, какова была став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одятся итоги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Calibri"/>
              </a:rPr>
              <a:t>100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азите  в метр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500км 5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8 500 00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АВ= 9см5мм отмечены точки С и К так, что АС = 4см 5мм, КВ = 2см. Чему равна длина отрезка С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=3см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рямой отмечены 6 точек так, что расстояние между соседними точками равно 7см. Чему равно расстояние между крайними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35с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чертите пятиугольник АВ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. Проведите отрезок АС.  Запишите все образовавшиеся многоугольн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АВС; А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выбраны 28 точек так, что расстояние между соседними точками равно 7мм. Чему равно расстояние между 8-й и 27-й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33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миллионов в 15 миллиард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5 000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соседними берёз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6м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1594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чисел натурального ряда заключено между числами 2892 и75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628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расставить 10 стульев у стен в комнате так, чтобы около каждой стены было одинаковое количество стулье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4360" y="4941720"/>
            <a:ext cx="251928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399564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3995640" y="5300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35600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471636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6227640" y="5516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6227640" y="5229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5796000" y="5805360"/>
            <a:ext cx="14436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7"/>
          <p:cNvSpPr/>
          <p:nvPr/>
        </p:nvSpPr>
        <p:spPr>
          <a:xfrm>
            <a:off x="536400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1-й сосной и 5-й берёз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59408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Основно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Финальны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Финальный ту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тур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«Натуральные числа</a:t>
            </a:r>
            <a:r>
              <a:rPr b="1" i="1" lang="ru-RU" sz="5400" spc="-1" strike="noStrike">
                <a:solidFill>
                  <a:srgbClr val="99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лаем ставки.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419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Arial"/>
              </a:rPr>
              <a:t>Натуральные чис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какому трёхзначному числу надо прибавить наибольшее двузначное число, чтобы получилось наибольшее трёхзначное числ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равильный 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+ 99 = 999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х = 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ИГРА</a:t>
            </a: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ЗАВЕРШЕНА</a:t>
            </a: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!</a:t>
            </a: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ЕМ 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769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Г. Мерзляк, В.Б. Полонский, М.С. Якир. Математика: 5 класс: учебник для учащихся общеобразовательных организаций, - 2-е изд., перераб. – М.:Вентана-Граф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П. Ершов, В.В. Голобородько. Самостоятельные и контрольные работы по математике для 5 класса.- М.:ИЛЕКСА,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9212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cover13d"/>
          <p:cNvPicPr/>
          <p:nvPr/>
        </p:nvPicPr>
        <p:blipFill>
          <a:blip r:embed="rId2"/>
          <a:stretch/>
        </p:blipFill>
        <p:spPr>
          <a:xfrm rot="21440400">
            <a:off x="468360" y="2133720"/>
            <a:ext cx="406440" cy="460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971640" y="2205000"/>
            <a:ext cx="67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cdn.eksmo.ru/v2/VEN000000000009285/COVER/cover13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1471320" y="6021360"/>
            <a:ext cx="25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шаблона неизвес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1042920" y="2707200"/>
            <a:ext cx="74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schoolclipart.com/1024/clip-art-of-a-cute-school-boy-riding-down-a-red-line-on-arrows-tossing-books-and-pens-by-alex-bannykh-4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1116000" y="3492360"/>
            <a:ext cx="755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8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84132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9"/>
          <p:cNvSpPr/>
          <p:nvPr/>
        </p:nvSpPr>
        <p:spPr>
          <a:xfrm>
            <a:off x="1116000" y="349920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yoursourceisopen.com/wp-content/uploads/2011/08/38994ba2podium-ic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585720" cy="4222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1"/>
          <p:cNvSpPr/>
          <p:nvPr/>
        </p:nvSpPr>
        <p:spPr>
          <a:xfrm>
            <a:off x="1116000" y="4148640"/>
            <a:ext cx="66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tlttimes.ru/uploads/images/c/9/8/4/1822/3e2f2147d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24000" y="404640"/>
            <a:ext cx="3743280" cy="1043280"/>
          </a:xfrm>
          <a:custGeom>
            <a:avLst/>
            <a:gdLst>
              <a:gd name="textAreaLeft" fmla="*/ 67320 w 3743280"/>
              <a:gd name="textAreaRight" fmla="*/ 3675960 w 37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77481" h="21600">
                <a:moveTo>
                  <a:pt x="0" y="0"/>
                </a:moveTo>
                <a:lnTo>
                  <a:pt x="77481" y="0"/>
                </a:lnTo>
                <a:lnTo>
                  <a:pt x="77481" y="21600"/>
                </a:lnTo>
                <a:lnTo>
                  <a:pt x="0" y="21600"/>
                </a:lnTo>
                <a:close/>
              </a:path>
              <a:path fill="lightenLess" w="77481" h="21600">
                <a:moveTo>
                  <a:pt x="0" y="0"/>
                </a:moveTo>
                <a:lnTo>
                  <a:pt x="77481" y="0"/>
                </a:lnTo>
                <a:lnTo>
                  <a:pt x="76081" y="1400"/>
                </a:lnTo>
                <a:lnTo>
                  <a:pt x="1400" y="1400"/>
                </a:lnTo>
                <a:close/>
              </a:path>
              <a:path fill="darken" w="77481" h="21600">
                <a:moveTo>
                  <a:pt x="77481" y="0"/>
                </a:moveTo>
                <a:lnTo>
                  <a:pt x="77481" y="21600"/>
                </a:lnTo>
                <a:lnTo>
                  <a:pt x="76081" y="20200"/>
                </a:lnTo>
                <a:lnTo>
                  <a:pt x="76081" y="1400"/>
                </a:lnTo>
                <a:close/>
              </a:path>
              <a:path fill="darkenLess" w="77481" h="21600">
                <a:moveTo>
                  <a:pt x="77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081" y="20200"/>
                </a:lnTo>
                <a:close/>
              </a:path>
              <a:path fill="lighten" w="77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24000" y="1628640"/>
            <a:ext cx="2735280" cy="104328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56619" h="21600">
                <a:moveTo>
                  <a:pt x="0" y="0"/>
                </a:moveTo>
                <a:lnTo>
                  <a:pt x="56619" y="0"/>
                </a:lnTo>
                <a:lnTo>
                  <a:pt x="56619" y="21600"/>
                </a:lnTo>
                <a:lnTo>
                  <a:pt x="0" y="21600"/>
                </a:lnTo>
                <a:close/>
              </a:path>
              <a:path fill="lightenLess" w="56619" h="21600">
                <a:moveTo>
                  <a:pt x="0" y="0"/>
                </a:moveTo>
                <a:lnTo>
                  <a:pt x="56619" y="0"/>
                </a:lnTo>
                <a:lnTo>
                  <a:pt x="55219" y="1400"/>
                </a:lnTo>
                <a:lnTo>
                  <a:pt x="1400" y="1400"/>
                </a:lnTo>
                <a:close/>
              </a:path>
              <a:path fill="darken" w="56619" h="21600">
                <a:moveTo>
                  <a:pt x="56619" y="0"/>
                </a:moveTo>
                <a:lnTo>
                  <a:pt x="56619" y="21600"/>
                </a:lnTo>
                <a:lnTo>
                  <a:pt x="55219" y="20200"/>
                </a:lnTo>
                <a:lnTo>
                  <a:pt x="55219" y="1400"/>
                </a:lnTo>
                <a:close/>
              </a:path>
              <a:path fill="darkenLess" w="56619" h="21600">
                <a:moveTo>
                  <a:pt x="56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9" y="20200"/>
                </a:lnTo>
                <a:close/>
              </a:path>
              <a:path fill="lighten" w="56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24000" y="4076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24000" y="5300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716436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227640" y="2852640"/>
            <a:ext cx="755640" cy="104292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2920"/>
              <a:gd name="textAreaBottom" fmla="*/ 993960 h 1042920"/>
            </a:gdLst>
            <a:ahLst/>
            <a:rect l="textAreaLeft" t="textAreaTop" r="textAreaRight" b="textAreaBottom"/>
            <a:pathLst>
              <a:path w="21600" h="29808">
                <a:moveTo>
                  <a:pt x="0" y="0"/>
                </a:moveTo>
                <a:lnTo>
                  <a:pt x="21600" y="0"/>
                </a:lnTo>
                <a:lnTo>
                  <a:pt x="21600" y="29808"/>
                </a:lnTo>
                <a:lnTo>
                  <a:pt x="0" y="29808"/>
                </a:lnTo>
                <a:close/>
              </a:path>
              <a:path fill="lightenLess" w="21600" h="29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8">
                <a:moveTo>
                  <a:pt x="21600" y="0"/>
                </a:moveTo>
                <a:lnTo>
                  <a:pt x="21600" y="29808"/>
                </a:lnTo>
                <a:lnTo>
                  <a:pt x="20200" y="28408"/>
                </a:lnTo>
                <a:lnTo>
                  <a:pt x="20200" y="1400"/>
                </a:lnTo>
                <a:close/>
              </a:path>
              <a:path fill="darkenLess" w="21600" h="29808">
                <a:moveTo>
                  <a:pt x="21600" y="29808"/>
                </a:moveTo>
                <a:lnTo>
                  <a:pt x="0" y="29808"/>
                </a:lnTo>
                <a:lnTo>
                  <a:pt x="1400" y="28408"/>
                </a:lnTo>
                <a:lnTo>
                  <a:pt x="20200" y="28408"/>
                </a:lnTo>
                <a:close/>
              </a:path>
              <a:path fill="lighten" w="21600" h="29808">
                <a:moveTo>
                  <a:pt x="0" y="29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29272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4427640" y="2852640"/>
            <a:ext cx="682560" cy="1042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1042920"/>
              <a:gd name="textAreaBottom" fmla="*/ 999000 h 1042920"/>
            </a:gdLst>
            <a:ahLst/>
            <a:rect l="textAreaLeft" t="textAreaTop" r="textAreaRight" b="textAreaBottom"/>
            <a:pathLst>
              <a:path w="21600" h="32998">
                <a:moveTo>
                  <a:pt x="0" y="0"/>
                </a:moveTo>
                <a:lnTo>
                  <a:pt x="21600" y="0"/>
                </a:lnTo>
                <a:lnTo>
                  <a:pt x="21600" y="32998"/>
                </a:lnTo>
                <a:lnTo>
                  <a:pt x="0" y="32998"/>
                </a:lnTo>
                <a:close/>
              </a:path>
              <a:path fill="lightenLess" w="21600" h="32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98">
                <a:moveTo>
                  <a:pt x="21600" y="0"/>
                </a:moveTo>
                <a:lnTo>
                  <a:pt x="21600" y="32998"/>
                </a:lnTo>
                <a:lnTo>
                  <a:pt x="20200" y="31598"/>
                </a:lnTo>
                <a:lnTo>
                  <a:pt x="20200" y="1400"/>
                </a:lnTo>
                <a:close/>
              </a:path>
              <a:path fill="darkenLess" w="21600" h="32998">
                <a:moveTo>
                  <a:pt x="21600" y="32998"/>
                </a:moveTo>
                <a:lnTo>
                  <a:pt x="0" y="32998"/>
                </a:lnTo>
                <a:lnTo>
                  <a:pt x="1400" y="31598"/>
                </a:lnTo>
                <a:lnTo>
                  <a:pt x="20200" y="31598"/>
                </a:lnTo>
                <a:close/>
              </a:path>
              <a:path fill="lighten" w="21600" h="32998">
                <a:moveTo>
                  <a:pt x="0" y="32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812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6659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550872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4356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3203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6659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5508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4356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3203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8028000" y="2852640"/>
            <a:ext cx="826920" cy="1042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2920"/>
              <a:gd name="textAreaBottom" fmla="*/ 989640 h 1042920"/>
            </a:gdLst>
            <a:ahLst/>
            <a:rect l="textAreaLeft" t="textAreaTop" r="textAreaRight" b="textAreaBottom"/>
            <a:pathLst>
              <a:path w="21600" h="27240">
                <a:moveTo>
                  <a:pt x="0" y="0"/>
                </a:moveTo>
                <a:lnTo>
                  <a:pt x="21600" y="0"/>
                </a:lnTo>
                <a:lnTo>
                  <a:pt x="21600" y="27240"/>
                </a:lnTo>
                <a:lnTo>
                  <a:pt x="0" y="27240"/>
                </a:lnTo>
                <a:close/>
              </a:path>
              <a:path fill="lightenLess" w="21600" h="272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0">
                <a:moveTo>
                  <a:pt x="21600" y="0"/>
                </a:moveTo>
                <a:lnTo>
                  <a:pt x="21600" y="27240"/>
                </a:lnTo>
                <a:lnTo>
                  <a:pt x="20200" y="25840"/>
                </a:lnTo>
                <a:lnTo>
                  <a:pt x="20200" y="1400"/>
                </a:lnTo>
                <a:close/>
              </a:path>
              <a:path fill="darkenLess" w="21600" h="27240">
                <a:moveTo>
                  <a:pt x="21600" y="27240"/>
                </a:moveTo>
                <a:lnTo>
                  <a:pt x="0" y="27240"/>
                </a:lnTo>
                <a:lnTo>
                  <a:pt x="1400" y="25840"/>
                </a:lnTo>
                <a:lnTo>
                  <a:pt x="20200" y="25840"/>
                </a:lnTo>
                <a:close/>
              </a:path>
              <a:path fill="lighten" w="21600" h="27240">
                <a:moveTo>
                  <a:pt x="0" y="272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7956720" y="404640"/>
            <a:ext cx="826920" cy="104328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3280"/>
              <a:gd name="textAreaBottom" fmla="*/ 990000 h 1043280"/>
            </a:gdLst>
            <a:ahLst/>
            <a:rect l="textAreaLeft" t="textAreaTop" r="textAreaRight" b="textAreaBottom"/>
            <a:pathLst>
              <a:path w="21600" h="27249">
                <a:moveTo>
                  <a:pt x="0" y="0"/>
                </a:moveTo>
                <a:lnTo>
                  <a:pt x="21600" y="0"/>
                </a:lnTo>
                <a:lnTo>
                  <a:pt x="21600" y="27249"/>
                </a:lnTo>
                <a:lnTo>
                  <a:pt x="0" y="27249"/>
                </a:lnTo>
                <a:close/>
              </a:path>
              <a:path fill="lightenLess" w="21600" h="272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9">
                <a:moveTo>
                  <a:pt x="21600" y="0"/>
                </a:moveTo>
                <a:lnTo>
                  <a:pt x="21600" y="27249"/>
                </a:lnTo>
                <a:lnTo>
                  <a:pt x="20200" y="25849"/>
                </a:lnTo>
                <a:lnTo>
                  <a:pt x="20200" y="1400"/>
                </a:lnTo>
                <a:close/>
              </a:path>
              <a:path fill="darkenLess" w="21600" h="27249">
                <a:moveTo>
                  <a:pt x="21600" y="27249"/>
                </a:moveTo>
                <a:lnTo>
                  <a:pt x="0" y="27249"/>
                </a:lnTo>
                <a:lnTo>
                  <a:pt x="1400" y="25849"/>
                </a:lnTo>
                <a:lnTo>
                  <a:pt x="20200" y="25849"/>
                </a:lnTo>
                <a:close/>
              </a:path>
              <a:path fill="lighten" w="21600" h="27249">
                <a:moveTo>
                  <a:pt x="0" y="272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702000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6084720" y="404640"/>
            <a:ext cx="754200" cy="10432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75">
                <a:moveTo>
                  <a:pt x="0" y="0"/>
                </a:moveTo>
                <a:lnTo>
                  <a:pt x="21600" y="0"/>
                </a:lnTo>
                <a:lnTo>
                  <a:pt x="21600" y="29875"/>
                </a:lnTo>
                <a:lnTo>
                  <a:pt x="0" y="29875"/>
                </a:lnTo>
                <a:close/>
              </a:path>
              <a:path fill="lightenLess" w="21600" h="298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75">
                <a:moveTo>
                  <a:pt x="21600" y="0"/>
                </a:moveTo>
                <a:lnTo>
                  <a:pt x="21600" y="29875"/>
                </a:lnTo>
                <a:lnTo>
                  <a:pt x="20200" y="28475"/>
                </a:lnTo>
                <a:lnTo>
                  <a:pt x="20200" y="1400"/>
                </a:lnTo>
                <a:close/>
              </a:path>
              <a:path fill="darkenLess" w="21600" h="29875">
                <a:moveTo>
                  <a:pt x="21600" y="29875"/>
                </a:moveTo>
                <a:lnTo>
                  <a:pt x="0" y="29875"/>
                </a:lnTo>
                <a:lnTo>
                  <a:pt x="1400" y="28475"/>
                </a:lnTo>
                <a:lnTo>
                  <a:pt x="20200" y="28475"/>
                </a:lnTo>
                <a:close/>
              </a:path>
              <a:path fill="lighten" w="21600" h="29875">
                <a:moveTo>
                  <a:pt x="0" y="298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7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5148360" y="404640"/>
            <a:ext cx="755640" cy="104328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3280"/>
              <a:gd name="textAreaBottom" fmla="*/ 994320 h 1043280"/>
            </a:gdLst>
            <a:ahLst/>
            <a:rect l="textAreaLeft" t="textAreaTop" r="textAreaRight" b="textAreaBottom"/>
            <a:pathLst>
              <a:path w="21600" h="29818">
                <a:moveTo>
                  <a:pt x="0" y="0"/>
                </a:moveTo>
                <a:lnTo>
                  <a:pt x="21600" y="0"/>
                </a:lnTo>
                <a:lnTo>
                  <a:pt x="21600" y="29818"/>
                </a:lnTo>
                <a:lnTo>
                  <a:pt x="0" y="29818"/>
                </a:lnTo>
                <a:close/>
              </a:path>
              <a:path fill="lightenLess" w="21600" h="29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18">
                <a:moveTo>
                  <a:pt x="21600" y="0"/>
                </a:moveTo>
                <a:lnTo>
                  <a:pt x="21600" y="29818"/>
                </a:lnTo>
                <a:lnTo>
                  <a:pt x="20200" y="28418"/>
                </a:lnTo>
                <a:lnTo>
                  <a:pt x="20200" y="1400"/>
                </a:lnTo>
                <a:close/>
              </a:path>
              <a:path fill="darkenLess" w="21600" h="29818">
                <a:moveTo>
                  <a:pt x="21600" y="29818"/>
                </a:moveTo>
                <a:lnTo>
                  <a:pt x="0" y="29818"/>
                </a:lnTo>
                <a:lnTo>
                  <a:pt x="1400" y="28418"/>
                </a:lnTo>
                <a:lnTo>
                  <a:pt x="20200" y="28418"/>
                </a:lnTo>
                <a:close/>
              </a:path>
              <a:path fill="lighten" w="21600" h="29818">
                <a:moveTo>
                  <a:pt x="0" y="29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1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428472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4284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0"/>
          <p:cNvSpPr/>
          <p:nvPr/>
        </p:nvSpPr>
        <p:spPr>
          <a:xfrm>
            <a:off x="543564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3132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2"/>
          <p:cNvSpPr/>
          <p:nvPr/>
        </p:nvSpPr>
        <p:spPr>
          <a:xfrm>
            <a:off x="6588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7740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5">
            <a:hlinkClick r:id="rId26" action="ppaction://hlinksldjump"/>
          </p:cNvPr>
          <p:cNvSpPr/>
          <p:nvPr/>
        </p:nvSpPr>
        <p:spPr>
          <a:xfrm>
            <a:off x="17928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24000" y="2852640"/>
            <a:ext cx="3887640" cy="1042920"/>
          </a:xfrm>
          <a:custGeom>
            <a:avLst/>
            <a:gdLst>
              <a:gd name="textAreaLeft" fmla="*/ 67320 w 3887640"/>
              <a:gd name="textAreaRight" fmla="*/ 3820320 w 3887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0497" h="21600">
                <a:moveTo>
                  <a:pt x="0" y="0"/>
                </a:moveTo>
                <a:lnTo>
                  <a:pt x="80497" y="0"/>
                </a:lnTo>
                <a:lnTo>
                  <a:pt x="80497" y="21600"/>
                </a:lnTo>
                <a:lnTo>
                  <a:pt x="0" y="21600"/>
                </a:lnTo>
                <a:close/>
              </a:path>
              <a:path fill="lightenLess" w="80497" h="21600">
                <a:moveTo>
                  <a:pt x="0" y="0"/>
                </a:moveTo>
                <a:lnTo>
                  <a:pt x="80497" y="0"/>
                </a:lnTo>
                <a:lnTo>
                  <a:pt x="79097" y="1400"/>
                </a:lnTo>
                <a:lnTo>
                  <a:pt x="1400" y="1400"/>
                </a:lnTo>
                <a:close/>
              </a:path>
              <a:path fill="darken" w="80497" h="21600">
                <a:moveTo>
                  <a:pt x="80497" y="0"/>
                </a:moveTo>
                <a:lnTo>
                  <a:pt x="80497" y="21600"/>
                </a:lnTo>
                <a:lnTo>
                  <a:pt x="79097" y="20200"/>
                </a:lnTo>
                <a:lnTo>
                  <a:pt x="79097" y="1400"/>
                </a:lnTo>
                <a:close/>
              </a:path>
              <a:path fill="darkenLess" w="80497" h="21600">
                <a:moveTo>
                  <a:pt x="8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7" y="20200"/>
                </a:lnTo>
                <a:close/>
              </a:path>
              <a:path fill="lighten" w="8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394920" y="2924280"/>
            <a:ext cx="35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.  лу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цифрами число: пять миллионов сорок две тысячи девяносто оди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5 042 0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6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число, которое на 21 больше наибольшего трёх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1" action="ppaction://hlinksldjump"/>
          </p:cNvPr>
          <p:cNvSpPr/>
          <p:nvPr/>
        </p:nvSpPr>
        <p:spPr>
          <a:xfrm>
            <a:off x="7812000" y="5734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11142" y="3837"/>
                </a:moveTo>
                <a:lnTo>
                  <a:pt x="13719" y="6448"/>
                </a:ln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lnTo>
                  <a:pt x="18105" y="10800"/>
                </a:lnTo>
                <a:lnTo>
                  <a:pt x="16452" y="10800"/>
                </a:lnTo>
                <a:lnTo>
                  <a:pt x="16452" y="17989"/>
                </a:lnTo>
                <a:lnTo>
                  <a:pt x="5833" y="17989"/>
                </a:lnTo>
                <a:lnTo>
                  <a:pt x="5833" y="10800"/>
                </a:lnTo>
                <a:lnTo>
                  <a:pt x="4179" y="10800"/>
                </a:lnTo>
                <a:close/>
              </a:path>
              <a:path fill="darkenLess" w="22285" h="21600">
                <a:moveTo>
                  <a:pt x="13719" y="6448"/>
                </a:move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close/>
              </a:path>
              <a:path fill="darkenLess" w="22285" h="21600">
                <a:moveTo>
                  <a:pt x="10220" y="14299"/>
                </a:moveTo>
                <a:lnTo>
                  <a:pt x="12065" y="14299"/>
                </a:lnTo>
                <a:lnTo>
                  <a:pt x="12065" y="17989"/>
                </a:lnTo>
                <a:lnTo>
                  <a:pt x="16452" y="17989"/>
                </a:lnTo>
                <a:lnTo>
                  <a:pt x="16452" y="10800"/>
                </a:lnTo>
                <a:lnTo>
                  <a:pt x="5833" y="10800"/>
                </a:lnTo>
                <a:lnTo>
                  <a:pt x="5833" y="17989"/>
                </a:lnTo>
                <a:lnTo>
                  <a:pt x="10220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наименьшее семизначное число, все цифры которого различ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3 45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1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те сумму наименьшего пятизначного числа и наибольшего шести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009 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500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6806 больше, чем сум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004 и 19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10 0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34:35Z</dcterms:created>
  <dc:creator>ELF</dc:creator>
  <dc:description>http://aida.ucoz.ru</dc:description>
  <dc:language>en-US</dc:language>
  <cp:lastModifiedBy>Admin</cp:lastModifiedBy>
  <dcterms:modified xsi:type="dcterms:W3CDTF">2024-01-04T14:51:13Z</dcterms:modified>
  <cp:revision>35</cp:revision>
  <dc:subject/>
  <dc:title>Формулы сокращенного умножения</dc:title>
</cp:coreProperties>
</file>