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EC1C-D903-4867-A748-10D071AD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6B2-6CBA-48FB-A359-21283149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F0E-295E-4361-A133-4C5EA943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1B1A-8E34-48B6-9E76-011EEC93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6C98-BBD7-4214-988B-B1CC9B58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054-0E9E-4791-B3D5-12226071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63A-9E3C-4A4A-B889-DA800A2C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E4B9-7558-499D-AE8F-F3A7F181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0A7-7531-4E01-AF51-07F6161A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951-FEF3-482A-AF82-C41BD97B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4A63-6A6E-4D5C-9F0C-55D341A0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969-74BF-4671-9236-8AC0C44C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FB18-ACFF-4CA7-95A8-38811CB2E6E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2FEC-CCF7-4268-9912-B6D07FC8D7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7.xml"/><Relationship Id="rId3" Type="http://schemas.openxmlformats.org/officeDocument/2006/relationships/slide" Target="slide16.xml"/><Relationship Id="rId4" Type="http://schemas.openxmlformats.org/officeDocument/2006/relationships/slide" Target="slide15.xml"/><Relationship Id="rId5" Type="http://schemas.openxmlformats.org/officeDocument/2006/relationships/slide" Target="slide24.xml"/><Relationship Id="rId6" Type="http://schemas.openxmlformats.org/officeDocument/2006/relationships/slide" Target="slide23.xml"/><Relationship Id="rId7" Type="http://schemas.openxmlformats.org/officeDocument/2006/relationships/slide" Target="slide22.xml"/><Relationship Id="rId8" Type="http://schemas.openxmlformats.org/officeDocument/2006/relationships/slide" Target="slide21.xml"/><Relationship Id="rId9" Type="http://schemas.openxmlformats.org/officeDocument/2006/relationships/slide" Target="slide20.xml"/><Relationship Id="rId10" Type="http://schemas.openxmlformats.org/officeDocument/2006/relationships/slide" Target="slide29.xml"/><Relationship Id="rId11" Type="http://schemas.openxmlformats.org/officeDocument/2006/relationships/slide" Target="slide28.xml"/><Relationship Id="rId12" Type="http://schemas.openxmlformats.org/officeDocument/2006/relationships/slide" Target="slide27.xml"/><Relationship Id="rId13" Type="http://schemas.openxmlformats.org/officeDocument/2006/relationships/slide" Target="slide26.xml"/><Relationship Id="rId14" Type="http://schemas.openxmlformats.org/officeDocument/2006/relationships/slide" Target="slide25.xml"/><Relationship Id="rId15" Type="http://schemas.openxmlformats.org/officeDocument/2006/relationships/slide" Target="slide19.xml"/><Relationship Id="rId16" Type="http://schemas.openxmlformats.org/officeDocument/2006/relationships/slide" Target="slide9.xml"/><Relationship Id="rId17" Type="http://schemas.openxmlformats.org/officeDocument/2006/relationships/slide" Target="slide8.xml"/><Relationship Id="rId18" Type="http://schemas.openxmlformats.org/officeDocument/2006/relationships/slide" Target="slide7.xml"/><Relationship Id="rId19" Type="http://schemas.openxmlformats.org/officeDocument/2006/relationships/slide" Target="slide6.xml"/><Relationship Id="rId20" Type="http://schemas.openxmlformats.org/officeDocument/2006/relationships/slide" Target="slide5.xml"/><Relationship Id="rId21" Type="http://schemas.openxmlformats.org/officeDocument/2006/relationships/slide" Target="slide11.xml"/><Relationship Id="rId22" Type="http://schemas.openxmlformats.org/officeDocument/2006/relationships/slide" Target="slide12.xml"/><Relationship Id="rId23" Type="http://schemas.openxmlformats.org/officeDocument/2006/relationships/slide" Target="slide10.xml"/><Relationship Id="rId24" Type="http://schemas.openxmlformats.org/officeDocument/2006/relationships/slide" Target="slide13.xml"/><Relationship Id="rId25" Type="http://schemas.openxmlformats.org/officeDocument/2006/relationships/slide" Target="slide14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64087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cc"/>
                </a:solidFill>
                <a:latin typeface="Arial"/>
                <a:ea typeface="Arial"/>
              </a:rPr>
              <a:t>Своя игр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5229000"/>
            <a:ext cx="491652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5364000" y="2637000"/>
            <a:ext cx="3376800" cy="3960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3205800" y="3429000"/>
            <a:ext cx="21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К: люб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710160" y="2781360"/>
            <a:ext cx="14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3" descr="cover13d"/>
          <p:cNvPicPr/>
          <p:nvPr/>
        </p:nvPicPr>
        <p:blipFill>
          <a:blip r:embed="rId3"/>
          <a:stretch/>
        </p:blipFill>
        <p:spPr>
          <a:xfrm rot="20285400">
            <a:off x="784080" y="2360520"/>
            <a:ext cx="2038320" cy="2305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2843280" y="213372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Глава 1. «Натуральные чис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«Сравнение чисе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равните чи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09 032 и 709 302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709 032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709 302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utoShape 8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равнение чисел»</a:t>
            </a:r>
            <a:r>
              <a:rPr b="1" lang="ru-RU" sz="4000" spc="-1" strike="noStrike">
                <a:solidFill>
                  <a:srgbClr val="e9e923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7931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ишите с помощью двойного неравенства: число 25 больше, чем 7, но меньше, чем 56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7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56  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utoShape 8">
            <a:hlinkClick r:id="rId1" action="ppaction://hlinksldjump"/>
          </p:cNvPr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e9e92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равнение чисе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ишите число, которо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11 меньше наименьшего трёхзначного чис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  89</a:t>
            </a: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AutoShape 8">
            <a:hlinkClick r:id="rId1" action="ppaction://hlinksldjump"/>
          </p:cNvPr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e9e92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равнение чисел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пишите все натуральные числа больше 4 028 и меньш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 045, содержащие цифру 4 в разряде десятк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твет:  4040; 4041; 4042; 4043;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             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4044.</a:t>
            </a: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203640" y="472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e9e92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Сравнение чисел»</a:t>
            </a:r>
            <a:r>
              <a:rPr b="1" lang="ru-RU" sz="4000" spc="-1" strike="noStrike">
                <a:solidFill>
                  <a:srgbClr val="e9e923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280" y="112536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сположите числа, в которых некоторые цифры заменены звездочками, в порядке убыва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* *4* *5*; * **5 *4*; ** *5* *4*; * **4 *5*.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Ответ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** *5* *4*; ** *4* *5*; * **5 *4*;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* **4 *5*.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8">
            <a:hlinkClick r:id="rId1" action="ppaction://hlinksldjump"/>
          </p:cNvPr>
          <p:cNvSpPr/>
          <p:nvPr/>
        </p:nvSpPr>
        <p:spPr>
          <a:xfrm>
            <a:off x="8172360" y="5877000"/>
            <a:ext cx="755640" cy="755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"/>
          <p:cNvPicPr/>
          <p:nvPr/>
        </p:nvPicPr>
        <p:blipFill>
          <a:blip r:embed="rId2"/>
          <a:stretch/>
        </p:blipFill>
        <p:spPr>
          <a:xfrm>
            <a:off x="7236000" y="69228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«Координатный луч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27bc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 изменяются числа на координатном луче, если двигаться по нему вправо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числа увеличиваю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4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«Координатный луч»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27bc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координату точки 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                      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Ответ: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(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>
            <a:hlinkClick r:id="rId1" action="ppaction://hlinksldjump"/>
          </p:cNvPr>
          <p:cNvSpPr/>
          <p:nvPr/>
        </p:nvSpPr>
        <p:spPr>
          <a:xfrm>
            <a:off x="774072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116000" y="429264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111600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169236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2268360" y="4221000"/>
            <a:ext cx="7164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2"/>
          <p:cNvSpPr/>
          <p:nvPr/>
        </p:nvSpPr>
        <p:spPr>
          <a:xfrm>
            <a:off x="284328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341964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4"/>
          <p:cNvSpPr/>
          <p:nvPr/>
        </p:nvSpPr>
        <p:spPr>
          <a:xfrm>
            <a:off x="3995640" y="4221000"/>
            <a:ext cx="7164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5"/>
          <p:cNvSpPr/>
          <p:nvPr/>
        </p:nvSpPr>
        <p:spPr>
          <a:xfrm>
            <a:off x="457200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6"/>
          <p:cNvSpPr/>
          <p:nvPr/>
        </p:nvSpPr>
        <p:spPr>
          <a:xfrm>
            <a:off x="5148360" y="4221000"/>
            <a:ext cx="7128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7"/>
          <p:cNvSpPr/>
          <p:nvPr/>
        </p:nvSpPr>
        <p:spPr>
          <a:xfrm>
            <a:off x="5724360" y="4221000"/>
            <a:ext cx="7164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8"/>
          <p:cNvSpPr/>
          <p:nvPr/>
        </p:nvSpPr>
        <p:spPr>
          <a:xfrm>
            <a:off x="6300720" y="4221000"/>
            <a:ext cx="71640" cy="7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2053080" y="3500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3205800" y="3500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3782160" y="3500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5510520" y="3500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902160" y="4365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1478520" y="43657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5" descr=""/>
          <p:cNvPicPr/>
          <p:nvPr/>
        </p:nvPicPr>
        <p:blipFill>
          <a:blip r:embed="rId2"/>
          <a:stretch/>
        </p:blipFill>
        <p:spPr>
          <a:xfrm>
            <a:off x="7164360" y="83664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«Координатный луч»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27bc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координату точки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5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AutoShape 4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1187280" y="3716280"/>
            <a:ext cx="6985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1187280" y="364500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169236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268360" y="364500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2771640" y="3645000"/>
            <a:ext cx="7164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0"/>
          <p:cNvSpPr/>
          <p:nvPr/>
        </p:nvSpPr>
        <p:spPr>
          <a:xfrm>
            <a:off x="327672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378000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428472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478800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529272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5"/>
          <p:cNvSpPr/>
          <p:nvPr/>
        </p:nvSpPr>
        <p:spPr>
          <a:xfrm>
            <a:off x="5796000" y="3645000"/>
            <a:ext cx="71280" cy="7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1478520" y="2924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5078880" y="2924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61440" y="2924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4069440" y="2924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973440" y="3789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2413800" y="3789360"/>
            <a:ext cx="74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2" descr=""/>
          <p:cNvPicPr/>
          <p:nvPr/>
        </p:nvPicPr>
        <p:blipFill>
          <a:blip r:embed="rId2"/>
          <a:stretch/>
        </p:blipFill>
        <p:spPr>
          <a:xfrm>
            <a:off x="7093080" y="83664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«Координатный луч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27bc"/>
                </a:solidFill>
                <a:latin typeface="Arial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ие натуральные числа лежат на координатном луче между числами   1998 и 2002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e527bc"/>
                </a:solidFill>
                <a:latin typeface="Arial"/>
              </a:rPr>
              <a:t>Ответ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1999; 2000; 20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7">
            <a:hlinkClick r:id="rId1" action="ppaction://hlinksldjump"/>
          </p:cNvPr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2"/>
          <a:stretch/>
        </p:blipFill>
        <p:spPr>
          <a:xfrm>
            <a:off x="7236000" y="1125360"/>
            <a:ext cx="159372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e527bc"/>
                </a:solidFill>
                <a:latin typeface="Calibri"/>
              </a:rPr>
              <a:t>«Координатный луч»</a:t>
            </a:r>
            <a:r>
              <a:rPr b="1" lang="ru-RU" sz="4000" spc="-1" strike="noStrike">
                <a:solidFill>
                  <a:srgbClr val="66ff33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27bc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узнечик за один прыжок перемещается вдоль координатного луча вправо на 5 ед. отрезков или влево на 3 ед. отрезка. Первый прыжок кузнечик делает из точки О(0) вправ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Сможет ли он за несколько прыжков попасть в точку А(7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Ответ: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да (после 3-его прыжка)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еся  играют каждый за себя.  Каждый  получает  таблицу для подсчета очков (балл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 учащиеся выбирают по очер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основном туре игры кажды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 набирает столько очков, сколько даст правильных ответов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финальном тур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каждый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бъявляет свою ставку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 не выше набранных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чк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ответ на вопрос будет правильным, то ученик зарабатывает столько очков, какова была ставка. Если же ответ окажется неправильным, то ученик теряет столько очков, какова была став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водятся итоги иг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e527bc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«Геометр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Calibri"/>
              </a:rPr>
              <a:t>100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разите  в метрах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8500км 5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Ответ: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8 500 005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6">
            <a:hlinkClick r:id="rId1" action="ppaction://hlinksldjump"/>
          </p:cNvPr>
          <p:cNvSpPr/>
          <p:nvPr/>
        </p:nvSpPr>
        <p:spPr>
          <a:xfrm>
            <a:off x="7812000" y="544500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e527bc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«Геометр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2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отрезке АВ= 9см5мм отмечены точки С и К так, что АС = 4см 5мм, КВ = 2см. Чему равна длина отрезка С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               </a:t>
            </a: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Ответ: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К=3см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e527bc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«Геометр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Arial"/>
              </a:rPr>
              <a:t>3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прямой отмечены 6 точек так, что расстояние между соседними точками равно 7см. Чему равно расстояние между крайними точк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35с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5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2"/>
          <a:stretch/>
        </p:blipFill>
        <p:spPr>
          <a:xfrm>
            <a:off x="6877080" y="90792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e527bc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«Геометр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чертите пятиугольник АВ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Е. Проведите отрезок АС.  Запишите все образовавшиеся многоугольни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4000" spc="-1" strike="noStrike">
                <a:solidFill>
                  <a:srgbClr val="00cc00"/>
                </a:solidFill>
                <a:latin typeface="Calibri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АВС; А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Е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>
            <a:hlinkClick r:id="rId1" action="ppaction://hlinksldjump"/>
          </p:cNvPr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e527bc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cc00"/>
                </a:solidFill>
                <a:latin typeface="Calibri"/>
              </a:rPr>
              <a:t>«Геометр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cc00"/>
                </a:solidFill>
                <a:latin typeface="Arial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 отрезке выбраны 28 точек так, что расстояние между соседними точками равно 7мм. Чему равно расстояние между 8-й и 27-й точк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00cc00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33м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781200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59372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Разминка для ум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колько миллионов в 15 миллиардах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         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Ответ: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5 000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Разминка для ум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аллее растут сосны и берёзы так, что между соседними соснами растёт одна берёза. Расстояние между любыми двумя деревьями равно 3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дите расстояние между соседними берёз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4000" spc="-1" strike="noStrike">
                <a:solidFill>
                  <a:srgbClr val="990000"/>
                </a:solidFill>
                <a:latin typeface="Calibri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6м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7308720" y="1052640"/>
            <a:ext cx="15940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Разминка для ума»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олько чисел натурального ряда заключено между числами 2892 и7521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4628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Разминка для ума»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расставить 10 стульев у стен в комнате так, чтобы около каждой стены было одинаковое количество стулье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Ответ: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924360" y="4941720"/>
            <a:ext cx="2519280" cy="107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8"/>
          <p:cNvSpPr/>
          <p:nvPr/>
        </p:nvSpPr>
        <p:spPr>
          <a:xfrm>
            <a:off x="3995640" y="501336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9"/>
          <p:cNvSpPr/>
          <p:nvPr/>
        </p:nvSpPr>
        <p:spPr>
          <a:xfrm>
            <a:off x="3995640" y="530064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995640" y="558972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1"/>
          <p:cNvSpPr/>
          <p:nvPr/>
        </p:nvSpPr>
        <p:spPr>
          <a:xfrm>
            <a:off x="4356000" y="501336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4716360" y="501336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4"/>
          <p:cNvSpPr/>
          <p:nvPr/>
        </p:nvSpPr>
        <p:spPr>
          <a:xfrm>
            <a:off x="6227640" y="551664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5"/>
          <p:cNvSpPr/>
          <p:nvPr/>
        </p:nvSpPr>
        <p:spPr>
          <a:xfrm>
            <a:off x="6227640" y="5229360"/>
            <a:ext cx="144720" cy="144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6"/>
          <p:cNvSpPr/>
          <p:nvPr/>
        </p:nvSpPr>
        <p:spPr>
          <a:xfrm>
            <a:off x="5796000" y="5805360"/>
            <a:ext cx="144360" cy="1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7"/>
          <p:cNvSpPr/>
          <p:nvPr/>
        </p:nvSpPr>
        <p:spPr>
          <a:xfrm>
            <a:off x="5364000" y="5805360"/>
            <a:ext cx="144720" cy="1447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8" descr=""/>
          <p:cNvPicPr/>
          <p:nvPr/>
        </p:nvPicPr>
        <p:blipFill>
          <a:blip r:embed="rId1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</a:t>
            </a:r>
            <a:r>
              <a:rPr b="1" lang="ru-RU" sz="4400" spc="-1" strike="noStrike">
                <a:solidFill>
                  <a:srgbClr val="990000"/>
                </a:solidFill>
                <a:latin typeface="Calibri"/>
              </a:rPr>
              <a:t>«Разминка для ума»</a:t>
            </a: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аллее растут сосны и берёзы так, что между соседними соснами растёт одна берёза. Расстояние между любыми двумя деревьями равно 3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дите расстояние между 1-й сосной и 5-й берёзой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7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7308720" y="1125360"/>
            <a:ext cx="159408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Ход игр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33cc"/>
                </a:solidFill>
                <a:latin typeface="Calibri"/>
              </a:rPr>
              <a:t> </a:t>
            </a:r>
            <a:r>
              <a:rPr b="0" lang="ru-RU" sz="8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Основной ту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Финальный тур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Calibri"/>
              </a:rPr>
              <a:t>Финальный ту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ма тура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«Натуральные числа</a:t>
            </a:r>
            <a:r>
              <a:rPr b="1" i="1" lang="ru-RU" sz="5400" spc="-1" strike="noStrike">
                <a:solidFill>
                  <a:srgbClr val="990000"/>
                </a:solidFill>
                <a:latin typeface="Arial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елаем ставки.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"/>
          <p:cNvPicPr/>
          <p:nvPr/>
        </p:nvPicPr>
        <p:blipFill>
          <a:blip r:embed="rId1"/>
          <a:stretch/>
        </p:blipFill>
        <p:spPr>
          <a:xfrm>
            <a:off x="6084720" y="3213000"/>
            <a:ext cx="24195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00"/>
                </a:solidFill>
                <a:latin typeface="Arial"/>
              </a:rPr>
              <a:t>Натуральные числ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 какому трёхзначному числу надо прибавить наибольшее двузначное число, чтобы получилось наибольшее трёхзначное число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         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Правильный ответ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 + 99 = 999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=&gt;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х = 9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ff"/>
                </a:solidFill>
                <a:latin typeface="Calibri"/>
              </a:rPr>
              <a:t>ИГРА</a:t>
            </a:r>
            <a:r>
              <a:rPr b="1" i="1" lang="ru-RU" sz="48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i="1" lang="ru-RU" sz="6600" spc="-1" strike="noStrike">
                <a:solidFill>
                  <a:srgbClr val="0000ff"/>
                </a:solidFill>
                <a:latin typeface="Calibri"/>
              </a:rPr>
              <a:t>ЗАВЕРШЕНА</a:t>
            </a:r>
            <a:r>
              <a:rPr b="1" lang="ru-RU" sz="6600" spc="-1" strike="noStrike">
                <a:solidFill>
                  <a:srgbClr val="0000ff"/>
                </a:solidFill>
                <a:latin typeface="Calibri"/>
              </a:rPr>
              <a:t>!</a:t>
            </a:r>
            <a:r>
              <a:rPr b="1" lang="ru-RU" sz="4400" spc="-1" strike="noStrike">
                <a:solidFill>
                  <a:srgbClr val="c0504d"/>
                </a:solidFill>
                <a:latin typeface="Calibri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ДВЕДЕМ  ИТОГ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8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76908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Г. Мерзляк, В.Б. Полонский, М.С. Якир. Математика: 5 класс: учебник для учащихся общеобразовательных организаций, - 2-е изд., перераб. – М.:Вентана-Граф,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.П. Ершов, В.В. Голобородько. Самостоятельные и контрольные работы по математике для 5 класса.- М.:ИЛЕКСА,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9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92120" cy="5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1" descr="cover13d"/>
          <p:cNvPicPr/>
          <p:nvPr/>
        </p:nvPicPr>
        <p:blipFill>
          <a:blip r:embed="rId2"/>
          <a:stretch/>
        </p:blipFill>
        <p:spPr>
          <a:xfrm rot="21440400">
            <a:off x="468360" y="2133720"/>
            <a:ext cx="406440" cy="460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2"/>
          <p:cNvSpPr/>
          <p:nvPr/>
        </p:nvSpPr>
        <p:spPr>
          <a:xfrm>
            <a:off x="971640" y="2205000"/>
            <a:ext cx="671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s://cdn.eksmo.ru/v2/VEN000000000009285/COVER/cover13d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1471320" y="6021360"/>
            <a:ext cx="252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р шаблона неизвест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1042920" y="2707200"/>
            <a:ext cx="746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myschoolclipart.com/1024/clip-art-of-a-cute-school-boy-riding-down-a-red-line-on-arrows-tossing-books-and-pens-by-alex-bannykh-4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1116000" y="3492360"/>
            <a:ext cx="7559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8" descr=""/>
          <p:cNvPicPr/>
          <p:nvPr/>
        </p:nvPicPr>
        <p:blipFill>
          <a:blip r:embed="rId3"/>
          <a:stretch/>
        </p:blipFill>
        <p:spPr>
          <a:xfrm>
            <a:off x="250920" y="3500280"/>
            <a:ext cx="841320" cy="5191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9"/>
          <p:cNvSpPr/>
          <p:nvPr/>
        </p:nvSpPr>
        <p:spPr>
          <a:xfrm>
            <a:off x="1116000" y="3499200"/>
            <a:ext cx="684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yoursourceisopen.com/wp-content/uploads/2011/08/38994ba2podium-icon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30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585720" cy="4222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31"/>
          <p:cNvSpPr/>
          <p:nvPr/>
        </p:nvSpPr>
        <p:spPr>
          <a:xfrm>
            <a:off x="1116000" y="4148640"/>
            <a:ext cx="667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tlttimes.ru/uploads/images/c/9/8/4/1822/3e2f2147df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324000" y="404640"/>
            <a:ext cx="3743280" cy="1043280"/>
          </a:xfrm>
          <a:custGeom>
            <a:avLst/>
            <a:gdLst>
              <a:gd name="textAreaLeft" fmla="*/ 67320 w 3743280"/>
              <a:gd name="textAreaRight" fmla="*/ 3675960 w 37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77481" h="21600">
                <a:moveTo>
                  <a:pt x="0" y="0"/>
                </a:moveTo>
                <a:lnTo>
                  <a:pt x="77481" y="0"/>
                </a:lnTo>
                <a:lnTo>
                  <a:pt x="77481" y="21600"/>
                </a:lnTo>
                <a:lnTo>
                  <a:pt x="0" y="21600"/>
                </a:lnTo>
                <a:close/>
              </a:path>
              <a:path fill="lightenLess" w="77481" h="21600">
                <a:moveTo>
                  <a:pt x="0" y="0"/>
                </a:moveTo>
                <a:lnTo>
                  <a:pt x="77481" y="0"/>
                </a:lnTo>
                <a:lnTo>
                  <a:pt x="76081" y="1400"/>
                </a:lnTo>
                <a:lnTo>
                  <a:pt x="1400" y="1400"/>
                </a:lnTo>
                <a:close/>
              </a:path>
              <a:path fill="darken" w="77481" h="21600">
                <a:moveTo>
                  <a:pt x="77481" y="0"/>
                </a:moveTo>
                <a:lnTo>
                  <a:pt x="77481" y="21600"/>
                </a:lnTo>
                <a:lnTo>
                  <a:pt x="76081" y="20200"/>
                </a:lnTo>
                <a:lnTo>
                  <a:pt x="76081" y="1400"/>
                </a:lnTo>
                <a:close/>
              </a:path>
              <a:path fill="darkenLess" w="77481" h="21600">
                <a:moveTo>
                  <a:pt x="774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081" y="20200"/>
                </a:lnTo>
                <a:close/>
              </a:path>
              <a:path fill="lighten" w="774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27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тура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324000" y="1628640"/>
            <a:ext cx="2735280" cy="1043280"/>
          </a:xfrm>
          <a:custGeom>
            <a:avLst/>
            <a:gdLst>
              <a:gd name="textAreaLeft" fmla="*/ 67320 w 2735280"/>
              <a:gd name="textAreaRight" fmla="*/ 2667960 w 2735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56619" h="21600">
                <a:moveTo>
                  <a:pt x="0" y="0"/>
                </a:moveTo>
                <a:lnTo>
                  <a:pt x="56619" y="0"/>
                </a:lnTo>
                <a:lnTo>
                  <a:pt x="56619" y="21600"/>
                </a:lnTo>
                <a:lnTo>
                  <a:pt x="0" y="21600"/>
                </a:lnTo>
                <a:close/>
              </a:path>
              <a:path fill="lightenLess" w="56619" h="21600">
                <a:moveTo>
                  <a:pt x="0" y="0"/>
                </a:moveTo>
                <a:lnTo>
                  <a:pt x="56619" y="0"/>
                </a:lnTo>
                <a:lnTo>
                  <a:pt x="55219" y="1400"/>
                </a:lnTo>
                <a:lnTo>
                  <a:pt x="1400" y="1400"/>
                </a:lnTo>
                <a:close/>
              </a:path>
              <a:path fill="darken" w="56619" h="21600">
                <a:moveTo>
                  <a:pt x="56619" y="0"/>
                </a:moveTo>
                <a:lnTo>
                  <a:pt x="56619" y="21600"/>
                </a:lnTo>
                <a:lnTo>
                  <a:pt x="55219" y="20200"/>
                </a:lnTo>
                <a:lnTo>
                  <a:pt x="55219" y="1400"/>
                </a:lnTo>
                <a:close/>
              </a:path>
              <a:path fill="darkenLess" w="56619" h="21600">
                <a:moveTo>
                  <a:pt x="566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19" y="20200"/>
                </a:lnTo>
                <a:close/>
              </a:path>
              <a:path fill="lighten" w="566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авн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и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324000" y="4076640"/>
            <a:ext cx="2735280" cy="1042920"/>
          </a:xfrm>
          <a:custGeom>
            <a:avLst/>
            <a:gdLst>
              <a:gd name="textAreaLeft" fmla="*/ 67320 w 2735280"/>
              <a:gd name="textAreaRight" fmla="*/ 2667960 w 2735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6639" h="21600">
                <a:moveTo>
                  <a:pt x="0" y="0"/>
                </a:moveTo>
                <a:lnTo>
                  <a:pt x="56639" y="0"/>
                </a:lnTo>
                <a:lnTo>
                  <a:pt x="56639" y="21600"/>
                </a:lnTo>
                <a:lnTo>
                  <a:pt x="0" y="21600"/>
                </a:lnTo>
                <a:close/>
              </a:path>
              <a:path fill="lightenLess" w="56639" h="21600">
                <a:moveTo>
                  <a:pt x="0" y="0"/>
                </a:moveTo>
                <a:lnTo>
                  <a:pt x="56639" y="0"/>
                </a:lnTo>
                <a:lnTo>
                  <a:pt x="55239" y="1400"/>
                </a:lnTo>
                <a:lnTo>
                  <a:pt x="1400" y="1400"/>
                </a:lnTo>
                <a:close/>
              </a:path>
              <a:path fill="darken" w="56639" h="21600">
                <a:moveTo>
                  <a:pt x="56639" y="0"/>
                </a:moveTo>
                <a:lnTo>
                  <a:pt x="56639" y="21600"/>
                </a:lnTo>
                <a:lnTo>
                  <a:pt x="55239" y="20200"/>
                </a:lnTo>
                <a:lnTo>
                  <a:pt x="55239" y="1400"/>
                </a:lnTo>
                <a:close/>
              </a:path>
              <a:path fill="darkenLess" w="56639" h="21600">
                <a:moveTo>
                  <a:pt x="56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39" y="20200"/>
                </a:lnTo>
                <a:close/>
              </a:path>
              <a:path fill="lighten" w="56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9e9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еомет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324000" y="5300640"/>
            <a:ext cx="2735280" cy="1042920"/>
          </a:xfrm>
          <a:custGeom>
            <a:avLst/>
            <a:gdLst>
              <a:gd name="textAreaLeft" fmla="*/ 67320 w 2735280"/>
              <a:gd name="textAreaRight" fmla="*/ 2667960 w 2735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6639" h="21600">
                <a:moveTo>
                  <a:pt x="0" y="0"/>
                </a:moveTo>
                <a:lnTo>
                  <a:pt x="56639" y="0"/>
                </a:lnTo>
                <a:lnTo>
                  <a:pt x="56639" y="21600"/>
                </a:lnTo>
                <a:lnTo>
                  <a:pt x="0" y="21600"/>
                </a:lnTo>
                <a:close/>
              </a:path>
              <a:path fill="lightenLess" w="56639" h="21600">
                <a:moveTo>
                  <a:pt x="0" y="0"/>
                </a:moveTo>
                <a:lnTo>
                  <a:pt x="56639" y="0"/>
                </a:lnTo>
                <a:lnTo>
                  <a:pt x="55239" y="1400"/>
                </a:lnTo>
                <a:lnTo>
                  <a:pt x="1400" y="1400"/>
                </a:lnTo>
                <a:close/>
              </a:path>
              <a:path fill="darken" w="56639" h="21600">
                <a:moveTo>
                  <a:pt x="56639" y="0"/>
                </a:moveTo>
                <a:lnTo>
                  <a:pt x="56639" y="21600"/>
                </a:lnTo>
                <a:lnTo>
                  <a:pt x="55239" y="20200"/>
                </a:lnTo>
                <a:lnTo>
                  <a:pt x="55239" y="1400"/>
                </a:lnTo>
                <a:close/>
              </a:path>
              <a:path fill="darkenLess" w="56639" h="21600">
                <a:moveTo>
                  <a:pt x="56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39" y="20200"/>
                </a:lnTo>
                <a:close/>
              </a:path>
              <a:path fill="lighten" w="56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27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зми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7164360" y="2852640"/>
            <a:ext cx="754200" cy="104292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1042920"/>
              <a:gd name="textAreaBottom" fmla="*/ 994320 h 1042920"/>
            </a:gdLst>
            <a:ahLst/>
            <a:rect l="textAreaLeft" t="textAreaTop" r="textAreaRight" b="textAreaBottom"/>
            <a:pathLst>
              <a:path w="21600" h="29865">
                <a:moveTo>
                  <a:pt x="0" y="0"/>
                </a:moveTo>
                <a:lnTo>
                  <a:pt x="21600" y="0"/>
                </a:lnTo>
                <a:lnTo>
                  <a:pt x="21600" y="29865"/>
                </a:lnTo>
                <a:lnTo>
                  <a:pt x="0" y="29865"/>
                </a:lnTo>
                <a:close/>
              </a:path>
              <a:path fill="lightenLess" w="21600" h="29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65">
                <a:moveTo>
                  <a:pt x="21600" y="0"/>
                </a:moveTo>
                <a:lnTo>
                  <a:pt x="21600" y="29865"/>
                </a:lnTo>
                <a:lnTo>
                  <a:pt x="20200" y="28465"/>
                </a:lnTo>
                <a:lnTo>
                  <a:pt x="20200" y="1400"/>
                </a:lnTo>
                <a:close/>
              </a:path>
              <a:path fill="darkenLess" w="21600" h="29865">
                <a:moveTo>
                  <a:pt x="21600" y="29865"/>
                </a:moveTo>
                <a:lnTo>
                  <a:pt x="0" y="29865"/>
                </a:lnTo>
                <a:lnTo>
                  <a:pt x="1400" y="28465"/>
                </a:lnTo>
                <a:lnTo>
                  <a:pt x="20200" y="28465"/>
                </a:lnTo>
                <a:close/>
              </a:path>
              <a:path fill="lighten" w="21600" h="29865">
                <a:moveTo>
                  <a:pt x="0" y="29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65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6227640" y="2852640"/>
            <a:ext cx="755640" cy="104292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1042920"/>
              <a:gd name="textAreaBottom" fmla="*/ 993960 h 1042920"/>
            </a:gdLst>
            <a:ahLst/>
            <a:rect l="textAreaLeft" t="textAreaTop" r="textAreaRight" b="textAreaBottom"/>
            <a:pathLst>
              <a:path w="21600" h="29808">
                <a:moveTo>
                  <a:pt x="0" y="0"/>
                </a:moveTo>
                <a:lnTo>
                  <a:pt x="21600" y="0"/>
                </a:lnTo>
                <a:lnTo>
                  <a:pt x="21600" y="29808"/>
                </a:lnTo>
                <a:lnTo>
                  <a:pt x="0" y="29808"/>
                </a:lnTo>
                <a:close/>
              </a:path>
              <a:path fill="lightenLess" w="21600" h="298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08">
                <a:moveTo>
                  <a:pt x="21600" y="0"/>
                </a:moveTo>
                <a:lnTo>
                  <a:pt x="21600" y="29808"/>
                </a:lnTo>
                <a:lnTo>
                  <a:pt x="20200" y="28408"/>
                </a:lnTo>
                <a:lnTo>
                  <a:pt x="20200" y="1400"/>
                </a:lnTo>
                <a:close/>
              </a:path>
              <a:path fill="darkenLess" w="21600" h="29808">
                <a:moveTo>
                  <a:pt x="21600" y="29808"/>
                </a:moveTo>
                <a:lnTo>
                  <a:pt x="0" y="29808"/>
                </a:lnTo>
                <a:lnTo>
                  <a:pt x="1400" y="28408"/>
                </a:lnTo>
                <a:lnTo>
                  <a:pt x="20200" y="28408"/>
                </a:lnTo>
                <a:close/>
              </a:path>
              <a:path fill="lighten" w="21600" h="29808">
                <a:moveTo>
                  <a:pt x="0" y="298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0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5292720" y="2852640"/>
            <a:ext cx="754200" cy="104292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1042920"/>
              <a:gd name="textAreaBottom" fmla="*/ 994320 h 1042920"/>
            </a:gdLst>
            <a:ahLst/>
            <a:rect l="textAreaLeft" t="textAreaTop" r="textAreaRight" b="textAreaBottom"/>
            <a:pathLst>
              <a:path w="21600" h="29865">
                <a:moveTo>
                  <a:pt x="0" y="0"/>
                </a:moveTo>
                <a:lnTo>
                  <a:pt x="21600" y="0"/>
                </a:lnTo>
                <a:lnTo>
                  <a:pt x="21600" y="29865"/>
                </a:lnTo>
                <a:lnTo>
                  <a:pt x="0" y="29865"/>
                </a:lnTo>
                <a:close/>
              </a:path>
              <a:path fill="lightenLess" w="21600" h="298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65">
                <a:moveTo>
                  <a:pt x="21600" y="0"/>
                </a:moveTo>
                <a:lnTo>
                  <a:pt x="21600" y="29865"/>
                </a:lnTo>
                <a:lnTo>
                  <a:pt x="20200" y="28465"/>
                </a:lnTo>
                <a:lnTo>
                  <a:pt x="20200" y="1400"/>
                </a:lnTo>
                <a:close/>
              </a:path>
              <a:path fill="darkenLess" w="21600" h="29865">
                <a:moveTo>
                  <a:pt x="21600" y="29865"/>
                </a:moveTo>
                <a:lnTo>
                  <a:pt x="0" y="29865"/>
                </a:lnTo>
                <a:lnTo>
                  <a:pt x="1400" y="28465"/>
                </a:lnTo>
                <a:lnTo>
                  <a:pt x="20200" y="28465"/>
                </a:lnTo>
                <a:close/>
              </a:path>
              <a:path fill="lighten" w="21600" h="29865">
                <a:moveTo>
                  <a:pt x="0" y="298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65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2"/>
          <p:cNvSpPr/>
          <p:nvPr/>
        </p:nvSpPr>
        <p:spPr>
          <a:xfrm>
            <a:off x="4427640" y="2852640"/>
            <a:ext cx="682560" cy="1042920"/>
          </a:xfrm>
          <a:custGeom>
            <a:avLst/>
            <a:gdLst>
              <a:gd name="textAreaLeft" fmla="*/ 43920 w 682560"/>
              <a:gd name="textAreaRight" fmla="*/ 638640 w 682560"/>
              <a:gd name="textAreaTop" fmla="*/ 43920 h 1042920"/>
              <a:gd name="textAreaBottom" fmla="*/ 999000 h 1042920"/>
            </a:gdLst>
            <a:ahLst/>
            <a:rect l="textAreaLeft" t="textAreaTop" r="textAreaRight" b="textAreaBottom"/>
            <a:pathLst>
              <a:path w="21600" h="32998">
                <a:moveTo>
                  <a:pt x="0" y="0"/>
                </a:moveTo>
                <a:lnTo>
                  <a:pt x="21600" y="0"/>
                </a:lnTo>
                <a:lnTo>
                  <a:pt x="21600" y="32998"/>
                </a:lnTo>
                <a:lnTo>
                  <a:pt x="0" y="32998"/>
                </a:lnTo>
                <a:close/>
              </a:path>
              <a:path fill="lightenLess" w="21600" h="329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998">
                <a:moveTo>
                  <a:pt x="21600" y="0"/>
                </a:moveTo>
                <a:lnTo>
                  <a:pt x="21600" y="32998"/>
                </a:lnTo>
                <a:lnTo>
                  <a:pt x="20200" y="31598"/>
                </a:lnTo>
                <a:lnTo>
                  <a:pt x="20200" y="1400"/>
                </a:lnTo>
                <a:close/>
              </a:path>
              <a:path fill="darkenLess" w="21600" h="32998">
                <a:moveTo>
                  <a:pt x="21600" y="32998"/>
                </a:moveTo>
                <a:lnTo>
                  <a:pt x="0" y="32998"/>
                </a:lnTo>
                <a:lnTo>
                  <a:pt x="1400" y="31598"/>
                </a:lnTo>
                <a:lnTo>
                  <a:pt x="20200" y="31598"/>
                </a:lnTo>
                <a:close/>
              </a:path>
              <a:path fill="lighten" w="21600" h="32998">
                <a:moveTo>
                  <a:pt x="0" y="32998"/>
                </a:moveTo>
                <a:lnTo>
                  <a:pt x="0" y="0"/>
                </a:lnTo>
                <a:lnTo>
                  <a:pt x="1400" y="1400"/>
                </a:lnTo>
                <a:lnTo>
                  <a:pt x="1400" y="3159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3"/>
          <p:cNvSpPr/>
          <p:nvPr/>
        </p:nvSpPr>
        <p:spPr>
          <a:xfrm>
            <a:off x="7812000" y="407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6659640" y="407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5508720" y="407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6"/>
          <p:cNvSpPr/>
          <p:nvPr/>
        </p:nvSpPr>
        <p:spPr>
          <a:xfrm>
            <a:off x="4356000" y="407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/>
          <p:cNvSpPr/>
          <p:nvPr/>
        </p:nvSpPr>
        <p:spPr>
          <a:xfrm>
            <a:off x="3203640" y="407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8"/>
          <p:cNvSpPr/>
          <p:nvPr/>
        </p:nvSpPr>
        <p:spPr>
          <a:xfrm>
            <a:off x="781200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9"/>
          <p:cNvSpPr/>
          <p:nvPr/>
        </p:nvSpPr>
        <p:spPr>
          <a:xfrm>
            <a:off x="665964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0"/>
          <p:cNvSpPr/>
          <p:nvPr/>
        </p:nvSpPr>
        <p:spPr>
          <a:xfrm>
            <a:off x="550872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1"/>
          <p:cNvSpPr/>
          <p:nvPr/>
        </p:nvSpPr>
        <p:spPr>
          <a:xfrm>
            <a:off x="435600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2"/>
          <p:cNvSpPr/>
          <p:nvPr/>
        </p:nvSpPr>
        <p:spPr>
          <a:xfrm>
            <a:off x="3203640" y="530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3"/>
          <p:cNvSpPr/>
          <p:nvPr/>
        </p:nvSpPr>
        <p:spPr>
          <a:xfrm>
            <a:off x="8028000" y="2852640"/>
            <a:ext cx="826920" cy="104292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1042920"/>
              <a:gd name="textAreaBottom" fmla="*/ 989640 h 1042920"/>
            </a:gdLst>
            <a:ahLst/>
            <a:rect l="textAreaLeft" t="textAreaTop" r="textAreaRight" b="textAreaBottom"/>
            <a:pathLst>
              <a:path w="21600" h="27240">
                <a:moveTo>
                  <a:pt x="0" y="0"/>
                </a:moveTo>
                <a:lnTo>
                  <a:pt x="21600" y="0"/>
                </a:lnTo>
                <a:lnTo>
                  <a:pt x="21600" y="27240"/>
                </a:lnTo>
                <a:lnTo>
                  <a:pt x="0" y="27240"/>
                </a:lnTo>
                <a:close/>
              </a:path>
              <a:path fill="lightenLess" w="21600" h="272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40">
                <a:moveTo>
                  <a:pt x="21600" y="0"/>
                </a:moveTo>
                <a:lnTo>
                  <a:pt x="21600" y="27240"/>
                </a:lnTo>
                <a:lnTo>
                  <a:pt x="20200" y="25840"/>
                </a:lnTo>
                <a:lnTo>
                  <a:pt x="20200" y="1400"/>
                </a:lnTo>
                <a:close/>
              </a:path>
              <a:path fill="darkenLess" w="21600" h="27240">
                <a:moveTo>
                  <a:pt x="21600" y="27240"/>
                </a:moveTo>
                <a:lnTo>
                  <a:pt x="0" y="27240"/>
                </a:lnTo>
                <a:lnTo>
                  <a:pt x="1400" y="25840"/>
                </a:lnTo>
                <a:lnTo>
                  <a:pt x="20200" y="25840"/>
                </a:lnTo>
                <a:close/>
              </a:path>
              <a:path fill="lighten" w="21600" h="27240">
                <a:moveTo>
                  <a:pt x="0" y="272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4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4"/>
          <p:cNvSpPr/>
          <p:nvPr/>
        </p:nvSpPr>
        <p:spPr>
          <a:xfrm>
            <a:off x="7956720" y="404640"/>
            <a:ext cx="826920" cy="104328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1043280"/>
              <a:gd name="textAreaBottom" fmla="*/ 990000 h 1043280"/>
            </a:gdLst>
            <a:ahLst/>
            <a:rect l="textAreaLeft" t="textAreaTop" r="textAreaRight" b="textAreaBottom"/>
            <a:pathLst>
              <a:path w="21600" h="27249">
                <a:moveTo>
                  <a:pt x="0" y="0"/>
                </a:moveTo>
                <a:lnTo>
                  <a:pt x="21600" y="0"/>
                </a:lnTo>
                <a:lnTo>
                  <a:pt x="21600" y="27249"/>
                </a:lnTo>
                <a:lnTo>
                  <a:pt x="0" y="27249"/>
                </a:lnTo>
                <a:close/>
              </a:path>
              <a:path fill="lightenLess" w="21600" h="2724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249">
                <a:moveTo>
                  <a:pt x="21600" y="0"/>
                </a:moveTo>
                <a:lnTo>
                  <a:pt x="21600" y="27249"/>
                </a:lnTo>
                <a:lnTo>
                  <a:pt x="20200" y="25849"/>
                </a:lnTo>
                <a:lnTo>
                  <a:pt x="20200" y="1400"/>
                </a:lnTo>
                <a:close/>
              </a:path>
              <a:path fill="darkenLess" w="21600" h="27249">
                <a:moveTo>
                  <a:pt x="21600" y="27249"/>
                </a:moveTo>
                <a:lnTo>
                  <a:pt x="0" y="27249"/>
                </a:lnTo>
                <a:lnTo>
                  <a:pt x="1400" y="25849"/>
                </a:lnTo>
                <a:lnTo>
                  <a:pt x="20200" y="25849"/>
                </a:lnTo>
                <a:close/>
              </a:path>
              <a:path fill="lighten" w="21600" h="27249">
                <a:moveTo>
                  <a:pt x="0" y="2724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84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5"/>
          <p:cNvSpPr/>
          <p:nvPr/>
        </p:nvSpPr>
        <p:spPr>
          <a:xfrm>
            <a:off x="7020000" y="404640"/>
            <a:ext cx="753840" cy="104328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1043280"/>
              <a:gd name="textAreaBottom" fmla="*/ 994680 h 1043280"/>
            </a:gdLst>
            <a:ahLst/>
            <a:rect l="textAreaLeft" t="textAreaTop" r="textAreaRight" b="textAreaBottom"/>
            <a:pathLst>
              <a:path w="21600" h="29889">
                <a:moveTo>
                  <a:pt x="0" y="0"/>
                </a:moveTo>
                <a:lnTo>
                  <a:pt x="21600" y="0"/>
                </a:lnTo>
                <a:lnTo>
                  <a:pt x="21600" y="29889"/>
                </a:lnTo>
                <a:lnTo>
                  <a:pt x="0" y="29889"/>
                </a:lnTo>
                <a:close/>
              </a:path>
              <a:path fill="lightenLess" w="21600" h="298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89">
                <a:moveTo>
                  <a:pt x="21600" y="0"/>
                </a:moveTo>
                <a:lnTo>
                  <a:pt x="21600" y="29889"/>
                </a:lnTo>
                <a:lnTo>
                  <a:pt x="20200" y="28490"/>
                </a:lnTo>
                <a:lnTo>
                  <a:pt x="20200" y="1400"/>
                </a:lnTo>
                <a:close/>
              </a:path>
              <a:path fill="darkenLess" w="21600" h="29889">
                <a:moveTo>
                  <a:pt x="21600" y="29889"/>
                </a:moveTo>
                <a:lnTo>
                  <a:pt x="0" y="29889"/>
                </a:lnTo>
                <a:lnTo>
                  <a:pt x="1400" y="28490"/>
                </a:lnTo>
                <a:lnTo>
                  <a:pt x="20200" y="28490"/>
                </a:lnTo>
                <a:close/>
              </a:path>
              <a:path fill="lighten" w="21600" h="29889">
                <a:moveTo>
                  <a:pt x="0" y="298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9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6"/>
          <p:cNvSpPr/>
          <p:nvPr/>
        </p:nvSpPr>
        <p:spPr>
          <a:xfrm>
            <a:off x="6084720" y="404640"/>
            <a:ext cx="754200" cy="104328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1043280"/>
              <a:gd name="textAreaBottom" fmla="*/ 994680 h 1043280"/>
            </a:gdLst>
            <a:ahLst/>
            <a:rect l="textAreaLeft" t="textAreaTop" r="textAreaRight" b="textAreaBottom"/>
            <a:pathLst>
              <a:path w="21600" h="29875">
                <a:moveTo>
                  <a:pt x="0" y="0"/>
                </a:moveTo>
                <a:lnTo>
                  <a:pt x="21600" y="0"/>
                </a:lnTo>
                <a:lnTo>
                  <a:pt x="21600" y="29875"/>
                </a:lnTo>
                <a:lnTo>
                  <a:pt x="0" y="29875"/>
                </a:lnTo>
                <a:close/>
              </a:path>
              <a:path fill="lightenLess" w="21600" h="298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75">
                <a:moveTo>
                  <a:pt x="21600" y="0"/>
                </a:moveTo>
                <a:lnTo>
                  <a:pt x="21600" y="29875"/>
                </a:lnTo>
                <a:lnTo>
                  <a:pt x="20200" y="28475"/>
                </a:lnTo>
                <a:lnTo>
                  <a:pt x="20200" y="1400"/>
                </a:lnTo>
                <a:close/>
              </a:path>
              <a:path fill="darkenLess" w="21600" h="29875">
                <a:moveTo>
                  <a:pt x="21600" y="29875"/>
                </a:moveTo>
                <a:lnTo>
                  <a:pt x="0" y="29875"/>
                </a:lnTo>
                <a:lnTo>
                  <a:pt x="1400" y="28475"/>
                </a:lnTo>
                <a:lnTo>
                  <a:pt x="20200" y="28475"/>
                </a:lnTo>
                <a:close/>
              </a:path>
              <a:path fill="lighten" w="21600" h="29875">
                <a:moveTo>
                  <a:pt x="0" y="298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75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7"/>
          <p:cNvSpPr/>
          <p:nvPr/>
        </p:nvSpPr>
        <p:spPr>
          <a:xfrm>
            <a:off x="5148360" y="404640"/>
            <a:ext cx="755640" cy="104328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1043280"/>
              <a:gd name="textAreaBottom" fmla="*/ 994320 h 1043280"/>
            </a:gdLst>
            <a:ahLst/>
            <a:rect l="textAreaLeft" t="textAreaTop" r="textAreaRight" b="textAreaBottom"/>
            <a:pathLst>
              <a:path w="21600" h="29818">
                <a:moveTo>
                  <a:pt x="0" y="0"/>
                </a:moveTo>
                <a:lnTo>
                  <a:pt x="21600" y="0"/>
                </a:lnTo>
                <a:lnTo>
                  <a:pt x="21600" y="29818"/>
                </a:lnTo>
                <a:lnTo>
                  <a:pt x="0" y="29818"/>
                </a:lnTo>
                <a:close/>
              </a:path>
              <a:path fill="lightenLess" w="21600" h="298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18">
                <a:moveTo>
                  <a:pt x="21600" y="0"/>
                </a:moveTo>
                <a:lnTo>
                  <a:pt x="21600" y="29818"/>
                </a:lnTo>
                <a:lnTo>
                  <a:pt x="20200" y="28418"/>
                </a:lnTo>
                <a:lnTo>
                  <a:pt x="20200" y="1400"/>
                </a:lnTo>
                <a:close/>
              </a:path>
              <a:path fill="darkenLess" w="21600" h="29818">
                <a:moveTo>
                  <a:pt x="21600" y="29818"/>
                </a:moveTo>
                <a:lnTo>
                  <a:pt x="0" y="29818"/>
                </a:lnTo>
                <a:lnTo>
                  <a:pt x="1400" y="28418"/>
                </a:lnTo>
                <a:lnTo>
                  <a:pt x="20200" y="28418"/>
                </a:lnTo>
                <a:close/>
              </a:path>
              <a:path fill="lighten" w="21600" h="29818">
                <a:moveTo>
                  <a:pt x="0" y="298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1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9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8"/>
          <p:cNvSpPr/>
          <p:nvPr/>
        </p:nvSpPr>
        <p:spPr>
          <a:xfrm>
            <a:off x="4284720" y="404640"/>
            <a:ext cx="753840" cy="1043280"/>
          </a:xfrm>
          <a:custGeom>
            <a:avLst/>
            <a:gdLst>
              <a:gd name="textAreaLeft" fmla="*/ 48600 w 753840"/>
              <a:gd name="textAreaRight" fmla="*/ 705240 w 753840"/>
              <a:gd name="textAreaTop" fmla="*/ 48600 h 1043280"/>
              <a:gd name="textAreaBottom" fmla="*/ 994680 h 1043280"/>
            </a:gdLst>
            <a:ahLst/>
            <a:rect l="textAreaLeft" t="textAreaTop" r="textAreaRight" b="textAreaBottom"/>
            <a:pathLst>
              <a:path w="21600" h="29889">
                <a:moveTo>
                  <a:pt x="0" y="0"/>
                </a:moveTo>
                <a:lnTo>
                  <a:pt x="21600" y="0"/>
                </a:lnTo>
                <a:lnTo>
                  <a:pt x="21600" y="29889"/>
                </a:lnTo>
                <a:lnTo>
                  <a:pt x="0" y="29889"/>
                </a:lnTo>
                <a:close/>
              </a:path>
              <a:path fill="lightenLess" w="21600" h="298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889">
                <a:moveTo>
                  <a:pt x="21600" y="0"/>
                </a:moveTo>
                <a:lnTo>
                  <a:pt x="21600" y="29889"/>
                </a:lnTo>
                <a:lnTo>
                  <a:pt x="20200" y="28490"/>
                </a:lnTo>
                <a:lnTo>
                  <a:pt x="20200" y="1400"/>
                </a:lnTo>
                <a:close/>
              </a:path>
              <a:path fill="darkenLess" w="21600" h="29889">
                <a:moveTo>
                  <a:pt x="21600" y="29889"/>
                </a:moveTo>
                <a:lnTo>
                  <a:pt x="0" y="29889"/>
                </a:lnTo>
                <a:lnTo>
                  <a:pt x="1400" y="28490"/>
                </a:lnTo>
                <a:lnTo>
                  <a:pt x="20200" y="28490"/>
                </a:lnTo>
                <a:close/>
              </a:path>
              <a:path fill="lighten" w="21600" h="29889">
                <a:moveTo>
                  <a:pt x="0" y="298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49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9"/>
          <p:cNvSpPr/>
          <p:nvPr/>
        </p:nvSpPr>
        <p:spPr>
          <a:xfrm>
            <a:off x="4284720" y="1628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0"/>
          <p:cNvSpPr/>
          <p:nvPr/>
        </p:nvSpPr>
        <p:spPr>
          <a:xfrm>
            <a:off x="5435640" y="1628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1"/>
          <p:cNvSpPr/>
          <p:nvPr/>
        </p:nvSpPr>
        <p:spPr>
          <a:xfrm>
            <a:off x="3132000" y="1628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2"/>
          <p:cNvSpPr/>
          <p:nvPr/>
        </p:nvSpPr>
        <p:spPr>
          <a:xfrm>
            <a:off x="6588000" y="1628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3"/>
          <p:cNvSpPr/>
          <p:nvPr/>
        </p:nvSpPr>
        <p:spPr>
          <a:xfrm>
            <a:off x="7740720" y="1628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5">
            <a:hlinkClick r:id="rId26" action="ppaction://hlinksldjump"/>
          </p:cNvPr>
          <p:cNvSpPr/>
          <p:nvPr/>
        </p:nvSpPr>
        <p:spPr>
          <a:xfrm>
            <a:off x="17928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324000" y="2852640"/>
            <a:ext cx="3887640" cy="1042920"/>
          </a:xfrm>
          <a:custGeom>
            <a:avLst/>
            <a:gdLst>
              <a:gd name="textAreaLeft" fmla="*/ 67320 w 3887640"/>
              <a:gd name="textAreaRight" fmla="*/ 3820320 w 388764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80497" h="21600">
                <a:moveTo>
                  <a:pt x="0" y="0"/>
                </a:moveTo>
                <a:lnTo>
                  <a:pt x="80497" y="0"/>
                </a:lnTo>
                <a:lnTo>
                  <a:pt x="80497" y="21600"/>
                </a:lnTo>
                <a:lnTo>
                  <a:pt x="0" y="21600"/>
                </a:lnTo>
                <a:close/>
              </a:path>
              <a:path fill="lightenLess" w="80497" h="21600">
                <a:moveTo>
                  <a:pt x="0" y="0"/>
                </a:moveTo>
                <a:lnTo>
                  <a:pt x="80497" y="0"/>
                </a:lnTo>
                <a:lnTo>
                  <a:pt x="79097" y="1400"/>
                </a:lnTo>
                <a:lnTo>
                  <a:pt x="1400" y="1400"/>
                </a:lnTo>
                <a:close/>
              </a:path>
              <a:path fill="darken" w="80497" h="21600">
                <a:moveTo>
                  <a:pt x="80497" y="0"/>
                </a:moveTo>
                <a:lnTo>
                  <a:pt x="80497" y="21600"/>
                </a:lnTo>
                <a:lnTo>
                  <a:pt x="79097" y="20200"/>
                </a:lnTo>
                <a:lnTo>
                  <a:pt x="79097" y="1400"/>
                </a:lnTo>
                <a:close/>
              </a:path>
              <a:path fill="darkenLess" w="80497" h="21600">
                <a:moveTo>
                  <a:pt x="80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97" y="20200"/>
                </a:lnTo>
                <a:close/>
              </a:path>
              <a:path fill="lighten" w="80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527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6"/>
          <p:cNvSpPr/>
          <p:nvPr/>
        </p:nvSpPr>
        <p:spPr>
          <a:xfrm>
            <a:off x="394920" y="2924280"/>
            <a:ext cx="355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ординат.  луч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«Натуральные чис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пишите цифрами число: пять миллионов сорок две тысячи девяносто один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Ответ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5 042 09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6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«Натуральные чис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ишите число, которое на 21 больше наибольшего трёхзначного чис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 0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>
            <a:hlinkClick r:id="rId1" action="ppaction://hlinksldjump"/>
          </p:cNvPr>
          <p:cNvSpPr/>
          <p:nvPr/>
        </p:nvSpPr>
        <p:spPr>
          <a:xfrm>
            <a:off x="7812000" y="5734080"/>
            <a:ext cx="936720" cy="907920"/>
          </a:xfrm>
          <a:custGeom>
            <a:avLst/>
            <a:gdLst>
              <a:gd name="textAreaLeft" fmla="*/ 58680 w 936720"/>
              <a:gd name="textAreaRight" fmla="*/ 878040 w 9367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2285" h="21600">
                <a:moveTo>
                  <a:pt x="0" y="0"/>
                </a:moveTo>
                <a:lnTo>
                  <a:pt x="22285" y="0"/>
                </a:lnTo>
                <a:lnTo>
                  <a:pt x="22285" y="21600"/>
                </a:lnTo>
                <a:lnTo>
                  <a:pt x="0" y="21600"/>
                </a:lnTo>
                <a:close/>
              </a:path>
              <a:path fill="lightenLess" w="22285" h="21600">
                <a:moveTo>
                  <a:pt x="0" y="0"/>
                </a:moveTo>
                <a:lnTo>
                  <a:pt x="22285" y="0"/>
                </a:lnTo>
                <a:lnTo>
                  <a:pt x="20885" y="1400"/>
                </a:lnTo>
                <a:lnTo>
                  <a:pt x="1400" y="1400"/>
                </a:lnTo>
                <a:close/>
              </a:path>
              <a:path fill="darken" w="22285" h="21600">
                <a:moveTo>
                  <a:pt x="22285" y="0"/>
                </a:moveTo>
                <a:lnTo>
                  <a:pt x="22285" y="21600"/>
                </a:lnTo>
                <a:lnTo>
                  <a:pt x="20885" y="20200"/>
                </a:lnTo>
                <a:lnTo>
                  <a:pt x="20885" y="1400"/>
                </a:lnTo>
                <a:close/>
              </a:path>
              <a:path fill="darkenLess" w="22285" h="21600">
                <a:moveTo>
                  <a:pt x="222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85" y="20200"/>
                </a:lnTo>
                <a:close/>
              </a:path>
              <a:path fill="lighten" w="222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85" h="21600">
                <a:moveTo>
                  <a:pt x="11142" y="3837"/>
                </a:moveTo>
                <a:lnTo>
                  <a:pt x="13719" y="6448"/>
                </a:lnTo>
                <a:lnTo>
                  <a:pt x="13719" y="4707"/>
                </a:lnTo>
                <a:lnTo>
                  <a:pt x="15494" y="4707"/>
                </a:lnTo>
                <a:lnTo>
                  <a:pt x="15494" y="8224"/>
                </a:lnTo>
                <a:lnTo>
                  <a:pt x="18105" y="10800"/>
                </a:lnTo>
                <a:lnTo>
                  <a:pt x="16452" y="10800"/>
                </a:lnTo>
                <a:lnTo>
                  <a:pt x="16452" y="17989"/>
                </a:lnTo>
                <a:lnTo>
                  <a:pt x="5833" y="17989"/>
                </a:lnTo>
                <a:lnTo>
                  <a:pt x="5833" y="10800"/>
                </a:lnTo>
                <a:lnTo>
                  <a:pt x="4179" y="10800"/>
                </a:lnTo>
                <a:close/>
              </a:path>
              <a:path fill="darkenLess" w="22285" h="21600">
                <a:moveTo>
                  <a:pt x="13719" y="6448"/>
                </a:moveTo>
                <a:lnTo>
                  <a:pt x="13719" y="4707"/>
                </a:lnTo>
                <a:lnTo>
                  <a:pt x="15494" y="4707"/>
                </a:lnTo>
                <a:lnTo>
                  <a:pt x="15494" y="8224"/>
                </a:lnTo>
                <a:close/>
              </a:path>
              <a:path fill="darkenLess" w="22285" h="21600">
                <a:moveTo>
                  <a:pt x="10220" y="14299"/>
                </a:moveTo>
                <a:lnTo>
                  <a:pt x="12065" y="14299"/>
                </a:lnTo>
                <a:lnTo>
                  <a:pt x="12065" y="17989"/>
                </a:lnTo>
                <a:lnTo>
                  <a:pt x="16452" y="17989"/>
                </a:lnTo>
                <a:lnTo>
                  <a:pt x="16452" y="10800"/>
                </a:lnTo>
                <a:lnTo>
                  <a:pt x="5833" y="10800"/>
                </a:lnTo>
                <a:lnTo>
                  <a:pt x="5833" y="17989"/>
                </a:lnTo>
                <a:lnTo>
                  <a:pt x="10220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Категория «Натуральные числа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пишите наименьшее семизначное число, все цифры которого различ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1 023 45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11">
            <a:hlinkClick r:id="rId1" action="ppaction://hlinksldjump"/>
          </p:cNvPr>
          <p:cNvSpPr/>
          <p:nvPr/>
        </p:nvSpPr>
        <p:spPr>
          <a:xfrm>
            <a:off x="788508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«Натуральные чис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айдите сумму наименьшего пятизначного числа и наибольшего шестизначного чис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Ответ: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 009 99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4">
            <a:hlinkClick r:id="rId1" action="ppaction://hlinksldjump"/>
          </p:cNvPr>
          <p:cNvSpPr/>
          <p:nvPr/>
        </p:nvSpPr>
        <p:spPr>
          <a:xfrm>
            <a:off x="781200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Calibri"/>
              </a:rPr>
              <a:t>Категория «Натуральные числ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</a:rPr>
              <a:t>500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пишите число, которо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 6806 больше, чем сум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004 и 194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Ответ: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10 00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AutoShape 10">
            <a:hlinkClick r:id="rId1" action="ppaction://hlinksldjump"/>
          </p:cNvPr>
          <p:cNvSpPr/>
          <p:nvPr/>
        </p:nvSpPr>
        <p:spPr>
          <a:xfrm>
            <a:off x="788508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2"/>
          <a:stretch/>
        </p:blipFill>
        <p:spPr>
          <a:xfrm>
            <a:off x="6659640" y="1341360"/>
            <a:ext cx="1593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2:34:35Z</dcterms:created>
  <dc:creator>ELF</dc:creator>
  <dc:description>http://aida.ucoz.ru</dc:description>
  <dc:language>en-US</dc:language>
  <cp:lastModifiedBy>Admin</cp:lastModifiedBy>
  <dcterms:modified xsi:type="dcterms:W3CDTF">2024-01-04T14:51:13Z</dcterms:modified>
  <cp:revision>35</cp:revision>
  <dc:subject/>
  <dc:title>Формулы сокращенного умножения</dc:title>
</cp:coreProperties>
</file>