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6AEB-3AEC-46F9-80A9-A1B303C996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BA5C-A76D-4650-A38E-07428FCD9B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E0C8-6BDA-41E4-A9DF-631D21CC62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4D00-2618-4E04-BF2D-46F7E6AB66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7AE8-29E3-462F-A27E-C0FBE0214C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EFE2-82C9-487B-8B32-78F65C1507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E1CE-2A66-4696-964C-F2141754AD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8697-3CAD-4FAF-84D8-14D4A67952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62FD-B07A-48E1-96A4-744E61780F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F5E0-D798-4CEB-ABE8-E6B4D25496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1DF-456A-49A8-9375-A1557310E8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00C8-00CD-4F47-A360-8619E1C7193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456C-B863-4412-95C3-030915584F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717-B881-4761-9F45-D1608AE4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78FF-3BFD-40D2-9332-633CDA6F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5125-8C24-4BB4-AF07-B0E5E688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FC0-4727-4427-A2D0-2D5F6DEC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183-BA03-40CE-81F0-C4FD33A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C72-C331-43BF-A9F6-1F5F70CE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678-1261-4308-A0BD-E036F973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D6A9-AA7B-49A9-8B4E-C91517FB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D1A-6F16-4912-A73C-4A5F1806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D796-5EB7-4AA0-9F32-EC7C672D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D30E-960D-426F-80E8-975D0696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DCC-6AD5-4374-ADC6-1066ED6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D3B0-5AC6-4372-B024-DA76D2CDC0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Заголовок 1"/>
          <p:cNvSpPr/>
          <p:nvPr/>
        </p:nvSpPr>
        <p:spPr>
          <a:xfrm>
            <a:off x="2171880" y="620640"/>
            <a:ext cx="669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ЗАПИСЬ  ВСПОМОГАТЕЛЬНЫХ  АЛГОРИТМОВ  НА ЯЗЫКЕ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дзаголовок 2"/>
          <p:cNvSpPr/>
          <p:nvPr/>
        </p:nvSpPr>
        <p:spPr>
          <a:xfrm>
            <a:off x="2050920" y="407664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ГОРИТМИЗАЦИЯ  И ПРОГРАММ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одзаголовок 2"/>
          <p:cNvSpPr/>
          <p:nvPr/>
        </p:nvSpPr>
        <p:spPr>
          <a:xfrm>
            <a:off x="2098800" y="5157720"/>
            <a:ext cx="68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учитель: Сойникова Екатерина Дмитриев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МКОУ «Новоспасская СОШ» Золотухин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2276640" y="2428920"/>
            <a:ext cx="6696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екурсия. Решение практически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"/>
          <p:cNvSpPr/>
          <p:nvPr/>
        </p:nvSpPr>
        <p:spPr>
          <a:xfrm>
            <a:off x="900000" y="981000"/>
            <a:ext cx="7786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, c = map(int,input().split(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(a,b,c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b = b,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,c = c,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b = b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(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867200" y="3716280"/>
            <a:ext cx="4248360" cy="2938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0"/>
          <p:cNvSpPr/>
          <p:nvPr/>
        </p:nvSpPr>
        <p:spPr>
          <a:xfrm>
            <a:off x="517680" y="83664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0. Видоизмените программу сортировки массива  выбором так, чтобы в ней использовалась  процедура выбора наибольшего элемента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971640" y="2055960"/>
            <a:ext cx="78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=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0]*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nt(input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A [ ',i,'] = ',A[i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ort(arra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len(arr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j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0,n-i-1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j] &gt; array[j+1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[j],array[j+1]=array[j+1],array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or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064200" y="2421000"/>
            <a:ext cx="275580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Box 51" descr=""/>
          <p:cNvPicPr/>
          <p:nvPr/>
        </p:nvPicPr>
        <p:blipFill>
          <a:blip r:embed="rId2"/>
          <a:stretch/>
        </p:blipFill>
        <p:spPr>
          <a:xfrm>
            <a:off x="542880" y="907920"/>
            <a:ext cx="8425080" cy="12020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971640" y="210996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input(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,n+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&lt;=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*=c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+=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f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https://www.vinaysahni.com/images/posts/best-practices-for-a-pragmatic-restful-api/_header.png"/>
          <p:cNvPicPr/>
          <p:nvPr/>
        </p:nvPicPr>
        <p:blipFill>
          <a:blip r:embed="rId3"/>
          <a:stretch/>
        </p:blipFill>
        <p:spPr>
          <a:xfrm>
            <a:off x="5713560" y="4437000"/>
            <a:ext cx="275724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2"/>
          <p:cNvSpPr/>
          <p:nvPr/>
        </p:nvSpPr>
        <p:spPr>
          <a:xfrm>
            <a:off x="770040" y="15876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  <a:ea typeface="Arial"/>
              </a:rPr>
              <a:t>Последовательность Фибонач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68360" y="69228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январе Саше подарили пару новорождённых кроликов. Через два месяца они дали первый приплод - новую пару кроликов, а затем давали приплод по паре кроликов каждый меся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68360" y="1628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аждая новая пара также даёт первый приплод (пару кроликов) через два месяца, а затем - по паре кроликов каждый месяц. Сколько пар кроликов будет у Саши в декаб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4" descr="http://www.goldenmuseum.com/0206002.gif"/>
          <p:cNvPicPr/>
          <p:nvPr/>
        </p:nvPicPr>
        <p:blipFill>
          <a:blip r:embed="rId2"/>
          <a:stretch/>
        </p:blipFill>
        <p:spPr>
          <a:xfrm>
            <a:off x="2411280" y="2708280"/>
            <a:ext cx="4210200" cy="2500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8"/>
          <p:cNvSpPr/>
          <p:nvPr/>
        </p:nvSpPr>
        <p:spPr>
          <a:xfrm>
            <a:off x="468360" y="5300640"/>
            <a:ext cx="835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исла 1, 1, 2, 3, 5, 8, … образуют так называему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ледовательность Фибонач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названную в честь итальянского математика, впервые решившего соответствующую задачу ещё в начале XIII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Заголовок 2"/>
          <p:cNvSpPr/>
          <p:nvPr/>
        </p:nvSpPr>
        <p:spPr>
          <a:xfrm>
            <a:off x="600120" y="5724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Математическая мод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95280" y="692280"/>
            <a:ext cx="835200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n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о пар кроликов в месяце с номером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условию 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)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2) =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3) =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ext Box 7" descr=""/>
          <p:cNvPicPr/>
          <p:nvPr/>
        </p:nvPicPr>
        <p:blipFill>
          <a:blip r:embed="rId2"/>
          <a:stretch/>
        </p:blipFill>
        <p:spPr>
          <a:xfrm>
            <a:off x="396720" y="2567160"/>
            <a:ext cx="5400720" cy="30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3998880" y="3745080"/>
            <a:ext cx="5148360" cy="311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http://www.disney-clipart.com/bambi/jpg/Thumper-1-lg.jpg"/>
          <p:cNvPicPr/>
          <p:nvPr/>
        </p:nvPicPr>
        <p:blipFill>
          <a:blip r:embed="rId4"/>
          <a:stretch/>
        </p:blipFill>
        <p:spPr>
          <a:xfrm>
            <a:off x="7667640" y="3270240"/>
            <a:ext cx="677880" cy="80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http://www.disney-clipart.com/bambi/jpg/Thumper-1-lg.jpg"/>
          <p:cNvPicPr/>
          <p:nvPr/>
        </p:nvPicPr>
        <p:blipFill>
          <a:blip r:embed="rId5"/>
          <a:stretch/>
        </p:blipFill>
        <p:spPr>
          <a:xfrm>
            <a:off x="7140600" y="3213000"/>
            <a:ext cx="677880" cy="8064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"/>
          <p:cNvSpPr/>
          <p:nvPr/>
        </p:nvSpPr>
        <p:spPr>
          <a:xfrm>
            <a:off x="539640" y="836640"/>
            <a:ext cx="8488440" cy="109692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Рекурс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9640" y="836640"/>
            <a:ext cx="842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лученная функция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ней реализован способ вычисления очередного значения функции через вычисление её предшествующих знач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539640" y="206064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формим в виде функции вычисление члена последовательности Фибонач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871640" y="3141720"/>
            <a:ext cx="5761080" cy="192348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z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z = f(n – 1) + f(n –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r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11200" y="5229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, вычисляющую и выводящую 12 первых членов последовательности Фибоначч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539640" y="907920"/>
            <a:ext cx="669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==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n==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-1)+f(n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3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f(i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2"/>
          <p:cNvSpPr/>
          <p:nvPr/>
        </p:nvSpPr>
        <p:spPr>
          <a:xfrm>
            <a:off x="539640" y="25560"/>
            <a:ext cx="82803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на языке </a:t>
            </a:r>
            <a:r>
              <a:rPr b="1" lang="en-US" sz="3200" spc="-1" strike="noStrike">
                <a:solidFill>
                  <a:srgbClr val="1f497d"/>
                </a:solidFill>
                <a:latin typeface="Calibri"/>
                <a:ea typeface="Arial"/>
              </a:rPr>
              <a:t>Python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  <a:ea typeface="Arial"/>
              </a:rPr>
              <a:t> для задачи «Ханойские баш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2"/>
          <p:cNvSpPr/>
          <p:nvPr/>
        </p:nvSpPr>
        <p:spPr>
          <a:xfrm>
            <a:off x="684360" y="1322280"/>
            <a:ext cx="680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 ==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n&gt;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2*S(n-1)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S(7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Домашняя работ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652320" y="981000"/>
            <a:ext cx="792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. главы к учебнику §2.2 вопросы и задания № 12-14 к параграф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2"/>
          <p:cNvSpPr/>
          <p:nvPr/>
        </p:nvSpPr>
        <p:spPr>
          <a:xfrm>
            <a:off x="539640" y="2297160"/>
            <a:ext cx="8142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(x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*=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'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int(input('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func(x,3)+func(x,5)+func(x,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2"/>
          <p:cNvSpPr/>
          <p:nvPr/>
        </p:nvSpPr>
        <p:spPr>
          <a:xfrm>
            <a:off x="399960" y="620640"/>
            <a:ext cx="8282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 вычисления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s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x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водятся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йте функцию вычисления степ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3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  <a:ea typeface="Arial"/>
              </a:rPr>
              <a:t>Ключевые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бъект 4"/>
          <p:cNvSpPr/>
          <p:nvPr/>
        </p:nvSpPr>
        <p:spPr>
          <a:xfrm>
            <a:off x="468360" y="1413000"/>
            <a:ext cx="8362800" cy="25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3510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курсивная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3"/>
          <p:cNvSpPr/>
          <p:nvPr/>
        </p:nvSpPr>
        <p:spPr>
          <a:xfrm>
            <a:off x="525600" y="765000"/>
            <a:ext cx="81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, вычисляющую длину отрезка по  координатам его концов. С помощью этой функции  напишите программу, вычисляющую периметр  треугольника по координатам его верш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900000" y="2478240"/>
            <a:ext cx="66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(xa,ya,xb,y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abs(sqrt((xb-xa)**2 + (yb-ya)**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a=int(input('x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=int(input('y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b=int(input('x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b=int(input('y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=int(input('x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c=int(input('y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=p(xa,ya,xb,yb)+p(xa,ya,xc,yc)+p(xc,yc,xb,y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P = ',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835680" y="5229360"/>
            <a:ext cx="2241720" cy="15508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4"/>
          <p:cNvSpPr/>
          <p:nvPr/>
        </p:nvSpPr>
        <p:spPr>
          <a:xfrm>
            <a:off x="695160" y="907920"/>
            <a:ext cx="799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, вычисляющую площадь  треугольника по целочисленным координатам его  верш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этой функции вычислите площадь  четырёхугольника по координатам его верш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585720" y="2232000"/>
            <a:ext cx="8379000" cy="1989000"/>
          </a:xfrm>
          <a:prstGeom prst="rect">
            <a:avLst/>
          </a:prstGeom>
          <a:solidFill>
            <a:srgbClr val="d1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Text Box 54" descr=""/>
          <p:cNvPicPr/>
          <p:nvPr/>
        </p:nvPicPr>
        <p:blipFill>
          <a:blip r:embed="rId3"/>
          <a:stretch/>
        </p:blipFill>
        <p:spPr>
          <a:xfrm>
            <a:off x="665280" y="2335320"/>
            <a:ext cx="7991280" cy="1011240"/>
          </a:xfrm>
          <a:prstGeom prst="rect">
            <a:avLst/>
          </a:prstGeom>
          <a:ln w="0">
            <a:noFill/>
          </a:ln>
        </p:spPr>
      </p:pic>
      <p:pic>
        <p:nvPicPr>
          <p:cNvPr id="138" name="TextBox 4" descr=""/>
          <p:cNvPicPr/>
          <p:nvPr/>
        </p:nvPicPr>
        <p:blipFill>
          <a:blip r:embed="rId4"/>
          <a:stretch/>
        </p:blipFill>
        <p:spPr>
          <a:xfrm>
            <a:off x="2481120" y="3548160"/>
            <a:ext cx="4907160" cy="5173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5294160" y="4149720"/>
            <a:ext cx="3805560" cy="263052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1"/>
          <p:cNvSpPr/>
          <p:nvPr/>
        </p:nvSpPr>
        <p:spPr>
          <a:xfrm>
            <a:off x="755640" y="1268280"/>
            <a:ext cx="696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th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s(xa,ya,xb,yb,xc,yc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=abs(xa*(yb-yc)+xb*(yb-ya)+xc*(ya-yb))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a=int(input('x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=int(input('ya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b=int(input('x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b=int(input('yb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c=int(input('x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c=int(input('yc =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S = ',s(xa,ya,xb,yb,xc,yc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2"/>
          <p:cNvSpPr/>
          <p:nvPr/>
        </p:nvSpPr>
        <p:spPr>
          <a:xfrm>
            <a:off x="1547640" y="189000"/>
            <a:ext cx="7210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Arial"/>
              </a:rPr>
              <a:t>Самое глав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5"/>
          <p:cNvSpPr/>
          <p:nvPr/>
        </p:nvSpPr>
        <p:spPr>
          <a:xfrm>
            <a:off x="539640" y="981000"/>
            <a:ext cx="82803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 Паскале различают два вида подпрограмм: процедуры 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подпрограмма, имеющая произвольное количество входных и выходных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Функ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- 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Заголовок 2"/>
          <p:cNvSpPr/>
          <p:nvPr/>
        </p:nvSpPr>
        <p:spPr>
          <a:xfrm>
            <a:off x="1042920" y="189000"/>
            <a:ext cx="7643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  <a:ea typeface="Arial"/>
              </a:rPr>
              <a:t>Опорный консп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39640" y="836640"/>
            <a:ext cx="8280360" cy="109944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апись вспомогательных алгоритмов в языках программирования осуществляется с помощью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611280" y="4292640"/>
            <a:ext cx="3673440" cy="143460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произвольное количество входных и выходных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643280" y="4221000"/>
            <a:ext cx="4249800" cy="1769760"/>
          </a:xfrm>
          <a:prstGeom prst="rect">
            <a:avLst/>
          </a:prstGeom>
          <a:solidFill>
            <a:srgbClr val="e8fafc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дпрограмма, имеющая единственный результат, записываемый в ячейку памяти, имя которой совпадает с именем фун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2340000" y="3860640"/>
            <a:ext cx="0" cy="43200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V="1">
            <a:off x="6732720" y="3789000"/>
            <a:ext cx="0" cy="43164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971640" y="3213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цеду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5292720" y="314172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8"/>
          <p:cNvSpPr/>
          <p:nvPr/>
        </p:nvSpPr>
        <p:spPr>
          <a:xfrm flipH="1" flipV="1">
            <a:off x="5651280" y="2852280"/>
            <a:ext cx="215640" cy="28908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 flipV="1">
            <a:off x="3276720" y="2852280"/>
            <a:ext cx="215640" cy="360360"/>
          </a:xfrm>
          <a:prstGeom prst="line">
            <a:avLst/>
          </a:prstGeom>
          <a:ln w="38160">
            <a:solidFill>
              <a:srgbClr val="4f81b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060720" y="2205000"/>
            <a:ext cx="2806560" cy="6476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2"/>
          <p:cNvSpPr/>
          <p:nvPr/>
        </p:nvSpPr>
        <p:spPr>
          <a:xfrm>
            <a:off x="702720" y="8636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Для чего используют под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711720" y="155088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Дан текст процедуры на язы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yth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6"/>
          <p:cNvSpPr/>
          <p:nvPr/>
        </p:nvSpPr>
        <p:spPr>
          <a:xfrm>
            <a:off x="755640" y="2077920"/>
            <a:ext cx="3019320" cy="1313640"/>
          </a:xfrm>
          <a:prstGeom prst="rect">
            <a:avLst/>
          </a:prstGeom>
          <a:solidFill>
            <a:srgbClr val="e8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 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&gt;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(n //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‘**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539640" y="34718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сколько звездочек будет выделено в результате вызов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(7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Вычисления фиксируйте в табл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763640" y="4910040"/>
          <a:ext cx="5904000" cy="741600"/>
        </p:xfrm>
        <a:graphic>
          <a:graphicData uri="http://schemas.openxmlformats.org/drawingml/2006/table">
            <a:tbl>
              <a:tblPr/>
              <a:tblGrid>
                <a:gridCol w="750960"/>
                <a:gridCol w="719280"/>
                <a:gridCol w="792000"/>
                <a:gridCol w="792360"/>
                <a:gridCol w="720720"/>
                <a:gridCol w="718920"/>
                <a:gridCol w="720720"/>
                <a:gridCol w="689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f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424800" y="981000"/>
            <a:ext cx="837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пишите процедуру с параметрам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целое число)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имвол), которая выводит на экран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ок, каждая 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торых содержит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волов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684360" y="242100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n,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*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12,'А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084720" y="4546440"/>
            <a:ext cx="305136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684360" y="2638440"/>
            <a:ext cx="60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f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,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a*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(12,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6,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'А'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546120" y="851040"/>
            <a:ext cx="8354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 Напишите процедуру с параметрами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ширина)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сота),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имвол), которая выводит на экран «прямоугольник» из символов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ширина которого равна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выс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4995720" y="3957480"/>
            <a:ext cx="4148280" cy="28688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401760" y="765000"/>
            <a:ext cx="842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чем основное различие процедур и функци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01760" y="1339920"/>
            <a:ext cx="842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DN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вычисляет количество цифр вводимого цел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"/>
          <p:cNvSpPr/>
          <p:nvPr/>
        </p:nvSpPr>
        <p:spPr>
          <a:xfrm>
            <a:off x="539640" y="2752560"/>
            <a:ext cx="744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DN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a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 = int(input('Введите число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Количество цифр в числе ',KDN(n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2"/>
          <p:cNvSpPr/>
          <p:nvPr/>
        </p:nvSpPr>
        <p:spPr>
          <a:xfrm>
            <a:off x="700200" y="2109960"/>
            <a:ext cx="8146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102360" y="4751280"/>
            <a:ext cx="27576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Проверка домашнего задан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9960" y="83196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функцию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KBDN(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вычисляет количество в двоичной записи вводимого десятичного чис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706320" y="2340000"/>
            <a:ext cx="7445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KBDN(a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'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&gt;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str(a%2)+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a/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int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Двоичная система счисления: '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b &gt;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=b/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nt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int(inpu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Введите число '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'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личество цифр в числе '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KBDN(a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2"/>
          <p:cNvSpPr/>
          <p:nvPr/>
        </p:nvSpPr>
        <p:spPr>
          <a:xfrm>
            <a:off x="706320" y="175428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381720" y="4932360"/>
            <a:ext cx="2755800" cy="1906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Заголовок 2"/>
          <p:cNvSpPr/>
          <p:nvPr/>
        </p:nvSpPr>
        <p:spPr>
          <a:xfrm>
            <a:off x="539640" y="7776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69800" y="54288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ишите программу вычисления наименьшего общего кратного следующих четырех чисел: 36, 54, 18 и 15. Используйте процедуру вычисления наибольшего общего дел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Заголовок 2"/>
          <p:cNvSpPr/>
          <p:nvPr/>
        </p:nvSpPr>
        <p:spPr>
          <a:xfrm>
            <a:off x="763560" y="1500120"/>
            <a:ext cx="8147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Напишем программ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s://www.vinaysahni.com/images/posts/best-practices-for-a-pragmatic-restful-api/_header.png"/>
          <p:cNvPicPr/>
          <p:nvPr/>
        </p:nvPicPr>
        <p:blipFill>
          <a:blip r:embed="rId2"/>
          <a:stretch/>
        </p:blipFill>
        <p:spPr>
          <a:xfrm>
            <a:off x="6381720" y="4932360"/>
            <a:ext cx="2755800" cy="19065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2"/>
          <p:cNvSpPr/>
          <p:nvPr/>
        </p:nvSpPr>
        <p:spPr>
          <a:xfrm>
            <a:off x="763560" y="1932120"/>
            <a:ext cx="5321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K (x,y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&gt;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=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=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(g%x==0)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g%y==0)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=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+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=[36,54,2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=A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i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nge(1,4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=A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K(c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Заголовок 2"/>
          <p:cNvSpPr/>
          <p:nvPr/>
        </p:nvSpPr>
        <p:spPr>
          <a:xfrm>
            <a:off x="539640" y="189000"/>
            <a:ext cx="8147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  <a:ea typeface="Arial"/>
              </a:rPr>
              <a:t>Функция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635040" y="1036800"/>
            <a:ext cx="835164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. Напишите программу перестановки знач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х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a, b,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порядке возрастания, т. е. так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тобы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a &lt; b &lt;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Используйте процедуру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wa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swap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, c</a:t>
            </a:r>
            <a:r>
              <a:rPr b="0" lang="ru-RU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&gt;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, b = b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ходные данные вводятся с клави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35040" y="4221000"/>
          <a:ext cx="8174160" cy="1895760"/>
        </p:xfrm>
        <a:graphic>
          <a:graphicData uri="http://schemas.openxmlformats.org/drawingml/2006/table">
            <a:tbl>
              <a:tblPr/>
              <a:tblGrid>
                <a:gridCol w="4213080"/>
                <a:gridCol w="396108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ход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ыходных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280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solidFill>
                      <a:srgbClr val="e8fafc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1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1 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13680">
                      <a:solidFill>
                        <a:srgbClr val="2592ff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2592ff"/>
                      </a:solidFill>
                    </a:lnL>
                    <a:lnR w="136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2 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592ff"/>
                      </a:solidFill>
                    </a:lnL>
                    <a:lnR w="28080">
                      <a:solidFill>
                        <a:srgbClr val="2592ff"/>
                      </a:solidFill>
                    </a:lnR>
                    <a:lnT w="13680">
                      <a:solidFill>
                        <a:srgbClr val="2592ff"/>
                      </a:solidFill>
                    </a:lnT>
                    <a:lnB w="28080">
                      <a:solidFill>
                        <a:srgbClr val="2592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Екатерина Сойникова</cp:lastModifiedBy>
  <dcterms:modified xsi:type="dcterms:W3CDTF">2023-12-28T11:03:49Z</dcterms:modified>
  <cp:revision>188</cp:revision>
  <dc:subject/>
  <dc:title>Презентация PowerPoint</dc:title>
</cp:coreProperties>
</file>