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91D3-AB0B-49C6-876F-ACBB5FFA6A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D36E-5D49-4307-BBA9-B0B8570E33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6945-44E7-49A9-B2D2-00400C61AF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400A-0BD3-4F79-9249-DB0BCE0B53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3195-68B0-4565-838D-706DD2FBE5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BD96-382E-4B95-B997-2A00A590DB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7ED6-F670-4B85-805F-4B88989548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BC14-76AC-415B-9273-93931E2A98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1498-F319-4DB8-B689-1A0A1A9ECB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E765-7E2E-40B5-A072-F1A11F1407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4F47-1147-449D-86FC-AB83454FA8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62EE-5C23-46E1-9848-95AE8B3E1C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DFC3-2F20-4539-B036-AE54346E33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148-7930-4D70-B9E0-7DEC3EB0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F62-C9BA-48AA-8ED0-79586609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F67-7089-42C8-9FBC-795A5C8D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C8D-C84D-4F17-8AD7-917BDAE5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CF7-A7AD-4CC1-BF09-AB5B53DA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D58-2265-4C69-9DC3-D3A3BBCB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ADF-E532-4C62-BD03-2FD5CD51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3E8-2505-4AA9-89C8-321A12B3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8C3-D2DB-4D31-B18F-6DBA61FF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158-D213-4AC3-A352-D07A2564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BCF-177D-4B23-93F4-A6FDA498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45C-726B-446F-A819-1395C272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9248-1637-4580-A684-E0BC9146A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2171880" y="620640"/>
            <a:ext cx="6696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ПИСЬ  ВСПОМОГАТЕЛЬНЫХ  АЛГОРИТМОВ  НА ЯЗЫКЕ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ИЗАЦИЯ  И ПРОГРАМ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2098800" y="515772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читель: Сойникова Екатерина Дмитрие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МКОУ «Новоспасская СОШ» Золотухинского района Ку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276640" y="2428920"/>
            <a:ext cx="6696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екурсия. Решение практически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"/>
          <p:cNvSpPr/>
          <p:nvPr/>
        </p:nvSpPr>
        <p:spPr>
          <a:xfrm>
            <a:off x="900000" y="981000"/>
            <a:ext cx="77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 = map(int,input().split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wap(a,b,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,b = b,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 &gt;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,c = c,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,b = b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867200" y="3716280"/>
            <a:ext cx="4248360" cy="2938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0"/>
          <p:cNvSpPr/>
          <p:nvPr/>
        </p:nvSpPr>
        <p:spPr>
          <a:xfrm>
            <a:off x="517680" y="836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. Видоизмените программу сортировки массива  выбором так, чтобы в ней использовалась  процедура выбора наибольшего элемента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971640" y="2055960"/>
            <a:ext cx="78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=[0]*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int(input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A [ ',i,'] = ',A[i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sort(arra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len(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0,n-i-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j] &gt; array[j+1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[j],array[j+1]=array[j+1],array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064200" y="2421000"/>
            <a:ext cx="2755800" cy="1906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 Box 51" descr=""/>
          <p:cNvPicPr/>
          <p:nvPr/>
        </p:nvPicPr>
        <p:blipFill>
          <a:blip r:embed="rId2"/>
          <a:stretch/>
        </p:blipFill>
        <p:spPr>
          <a:xfrm>
            <a:off x="542880" y="907920"/>
            <a:ext cx="8425080" cy="12020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971640" y="2109960"/>
            <a:ext cx="56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input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f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1,n+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nt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nt&lt;=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*=c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nt+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+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s = ',f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s://www.vinaysahni.com/images/posts/best-practices-for-a-pragmatic-restful-api/_header.png"/>
          <p:cNvPicPr/>
          <p:nvPr/>
        </p:nvPicPr>
        <p:blipFill>
          <a:blip r:embed="rId3"/>
          <a:stretch/>
        </p:blipFill>
        <p:spPr>
          <a:xfrm>
            <a:off x="5713560" y="4437000"/>
            <a:ext cx="2757240" cy="1906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2"/>
          <p:cNvSpPr/>
          <p:nvPr/>
        </p:nvSpPr>
        <p:spPr>
          <a:xfrm>
            <a:off x="770040" y="158760"/>
            <a:ext cx="8146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  <a:ea typeface="Arial"/>
              </a:rPr>
              <a:t>Последовательность Фибонач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68360" y="69228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январе Саше подарили пару новорождённых кроликов. Через два месяца они дали первый приплод - новую пару кроликов, а затем давали приплод по паре кроликов каждый меся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68360" y="16286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ждая новая пара также даёт первый приплод (пару кроликов) через два месяца, а затем - по паре кроликов каждый месяц. Сколько пар кроликов будет у Саши в декаб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4" descr="http://www.goldenmuseum.com/0206002.gif"/>
          <p:cNvPicPr/>
          <p:nvPr/>
        </p:nvPicPr>
        <p:blipFill>
          <a:blip r:embed="rId2"/>
          <a:stretch/>
        </p:blipFill>
        <p:spPr>
          <a:xfrm>
            <a:off x="2411280" y="2708280"/>
            <a:ext cx="4210200" cy="2500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468360" y="5300640"/>
            <a:ext cx="83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ла 1, 1, 2, 3, 5, 8, … образуют так называему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довательность Фибонач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названную в честь итальянского математика, впервые решившего соответствующую задачу ещё в начале XIII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2"/>
          <p:cNvSpPr/>
          <p:nvPr/>
        </p:nvSpPr>
        <p:spPr>
          <a:xfrm>
            <a:off x="600120" y="5724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Математическ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95280" y="692280"/>
            <a:ext cx="835200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усть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n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о пар кроликов в месяце с номером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условию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1) =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2) =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3) =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ext Box 7" descr=""/>
          <p:cNvPicPr/>
          <p:nvPr/>
        </p:nvPicPr>
        <p:blipFill>
          <a:blip r:embed="rId2"/>
          <a:stretch/>
        </p:blipFill>
        <p:spPr>
          <a:xfrm>
            <a:off x="396720" y="2567160"/>
            <a:ext cx="5400720" cy="30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3998880" y="3745080"/>
            <a:ext cx="5148360" cy="311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http://www.disney-clipart.com/bambi/jpg/Thumper-1-lg.jpg"/>
          <p:cNvPicPr/>
          <p:nvPr/>
        </p:nvPicPr>
        <p:blipFill>
          <a:blip r:embed="rId4"/>
          <a:stretch/>
        </p:blipFill>
        <p:spPr>
          <a:xfrm>
            <a:off x="7667640" y="3270240"/>
            <a:ext cx="677880" cy="80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http://www.disney-clipart.com/bambi/jpg/Thumper-1-lg.jpg"/>
          <p:cNvPicPr/>
          <p:nvPr/>
        </p:nvPicPr>
        <p:blipFill>
          <a:blip r:embed="rId5"/>
          <a:stretch/>
        </p:blipFill>
        <p:spPr>
          <a:xfrm>
            <a:off x="7140600" y="3213000"/>
            <a:ext cx="677880" cy="806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"/>
          <p:cNvSpPr/>
          <p:nvPr/>
        </p:nvSpPr>
        <p:spPr>
          <a:xfrm>
            <a:off x="539640" y="836640"/>
            <a:ext cx="8488440" cy="10969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екурс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39640" y="836640"/>
            <a:ext cx="842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ученная функци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курсивна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ней реализован способ вычисления очередного значения функции через вычисление её предшествующих знач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39640" y="206064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формим в виде функции вычисление члена последовательности Фибонач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1871640" y="3141720"/>
            <a:ext cx="5761080" cy="192348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= 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=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z 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z = f(n – 1) + f(n –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r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11200" y="5229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программу, вычисляющую и выводящую 12 первых членов последовательности Фибонач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539640" y="907920"/>
            <a:ext cx="669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f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n==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n==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f(n-1)+f(n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13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f(i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5294160" y="4149720"/>
            <a:ext cx="3805560" cy="2630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Заголовок 2"/>
          <p:cNvSpPr/>
          <p:nvPr/>
        </p:nvSpPr>
        <p:spPr>
          <a:xfrm>
            <a:off x="539640" y="25560"/>
            <a:ext cx="8280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на языке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Arial"/>
              </a:rPr>
              <a:t>Python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Arial"/>
              </a:rPr>
              <a:t> для задачи «Ханойские баш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5294160" y="4149720"/>
            <a:ext cx="3805560" cy="26305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2"/>
          <p:cNvSpPr/>
          <p:nvPr/>
        </p:nvSpPr>
        <p:spPr>
          <a:xfrm>
            <a:off x="684360" y="1322280"/>
            <a:ext cx="680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=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&gt;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2*S(n-1)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S(7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Домашняя работ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"/>
          <p:cNvSpPr/>
          <p:nvPr/>
        </p:nvSpPr>
        <p:spPr>
          <a:xfrm>
            <a:off x="652320" y="9810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. главы к учебнику §2.2 вопросы и задания № 12-14 к параграф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539640" y="2297160"/>
            <a:ext cx="8142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(x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*=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'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int(input('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s = ',func(x,3)+func(x,5)+func(x,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835680" y="5229360"/>
            <a:ext cx="2241720" cy="1550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2"/>
          <p:cNvSpPr/>
          <p:nvPr/>
        </p:nvSpPr>
        <p:spPr>
          <a:xfrm>
            <a:off x="399960" y="620640"/>
            <a:ext cx="8282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программу вычисления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s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водятся с клави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йте функцию вычисления степ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курсивная фу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835680" y="5229360"/>
            <a:ext cx="2241720" cy="1550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3"/>
          <p:cNvSpPr/>
          <p:nvPr/>
        </p:nvSpPr>
        <p:spPr>
          <a:xfrm>
            <a:off x="525600" y="76500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функцию, вычисляющую длину отрезка по  координатам его концов. С помощью этой функции  напишите программу, вычисляющую периметр  треугольника по координатам его верш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900000" y="247824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(xa,ya,xb,y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=abs(sqrt((xb-xa)**2 + (yb-ya)**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a=int(input('xa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=int(input('ya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b=int(input('xb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b=int(input('yb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c=int(input('xc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c=int(input('yc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=p(xa,ya,xb,yb)+p(xa,ya,xc,yc)+p(xc,yc,xb,y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P = ',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835680" y="5229360"/>
            <a:ext cx="2241720" cy="1550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4"/>
          <p:cNvSpPr/>
          <p:nvPr/>
        </p:nvSpPr>
        <p:spPr>
          <a:xfrm>
            <a:off x="695160" y="907920"/>
            <a:ext cx="799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функцию, вычисляющую площадь  треугольника по целочисленным координатам его  верш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этой функции вычислите площадь  четырёхугольника по координатам его верш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585720" y="2232000"/>
            <a:ext cx="8379000" cy="198900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Text Box 54" descr=""/>
          <p:cNvPicPr/>
          <p:nvPr/>
        </p:nvPicPr>
        <p:blipFill>
          <a:blip r:embed="rId3"/>
          <a:stretch/>
        </p:blipFill>
        <p:spPr>
          <a:xfrm>
            <a:off x="665280" y="2335320"/>
            <a:ext cx="7991280" cy="1011240"/>
          </a:xfrm>
          <a:prstGeom prst="rect">
            <a:avLst/>
          </a:prstGeom>
          <a:ln w="0">
            <a:noFill/>
          </a:ln>
        </p:spPr>
      </p:pic>
      <p:pic>
        <p:nvPicPr>
          <p:cNvPr id="138" name="TextBox 4" descr=""/>
          <p:cNvPicPr/>
          <p:nvPr/>
        </p:nvPicPr>
        <p:blipFill>
          <a:blip r:embed="rId4"/>
          <a:stretch/>
        </p:blipFill>
        <p:spPr>
          <a:xfrm>
            <a:off x="2481120" y="3548160"/>
            <a:ext cx="4907160" cy="517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5294160" y="4149720"/>
            <a:ext cx="3805560" cy="26305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1"/>
          <p:cNvSpPr/>
          <p:nvPr/>
        </p:nvSpPr>
        <p:spPr>
          <a:xfrm>
            <a:off x="755640" y="1268280"/>
            <a:ext cx="696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s(xa,ya,xb,yb,xc,yc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=abs(xa*(yb-yc)+xb*(yb-ya)+xc*(ya-yb)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a=int(input('xa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=int(input('ya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b=int(input('xb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b=int(input('yb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c=int(input('xc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c=int(input('yc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S = ',s(xa,ya,xb,yb,xc,yc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5"/>
          <p:cNvSpPr/>
          <p:nvPr/>
        </p:nvSpPr>
        <p:spPr>
          <a:xfrm>
            <a:off x="539640" y="981000"/>
            <a:ext cx="82803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пись вспомогательных алгоритмов в языках программирования осуществляется с помощью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В Паскале различают два вида подпрограмм: процедуры и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подпрограмма, имеющая произвольное количество входных и выход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подпрограмма, имеющая единственный результат, записываемый в ячейку памяти, имя которой совпадает с именем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39640" y="836640"/>
            <a:ext cx="8280360" cy="109944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пись вспомогательных алгоритмов в языках программирования осуществляется с помощью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11280" y="4292640"/>
            <a:ext cx="3673440" cy="1434600"/>
          </a:xfrm>
          <a:prstGeom prst="rect">
            <a:avLst/>
          </a:prstGeom>
          <a:solidFill>
            <a:srgbClr val="e8fafc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, имеющая произвольное количество входных и выходных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643280" y="4221000"/>
            <a:ext cx="4249800" cy="1769760"/>
          </a:xfrm>
          <a:prstGeom prst="rect">
            <a:avLst/>
          </a:prstGeom>
          <a:solidFill>
            <a:srgbClr val="e8fafc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, имеющая единственный результат, записываемый в ячейку памяти, имя которой совпадает с именем функ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 flipV="1">
            <a:off x="2340000" y="3860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V="1">
            <a:off x="6732720" y="3789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71640" y="321300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цеду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5292720" y="314172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H="1" flipV="1">
            <a:off x="5651280" y="2852280"/>
            <a:ext cx="215640" cy="289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V="1">
            <a:off x="3276720" y="2852280"/>
            <a:ext cx="215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060720" y="220500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702720" y="863640"/>
            <a:ext cx="58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Для чего используют подпрограм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711720" y="155088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Дан текст процедуры на язы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yth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6"/>
          <p:cNvSpPr/>
          <p:nvPr/>
        </p:nvSpPr>
        <p:spPr>
          <a:xfrm>
            <a:off x="755640" y="2077920"/>
            <a:ext cx="3019320" cy="131364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 (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 &gt;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(n //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**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539640" y="34718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сколько звездочек будет выделено в результате вызов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7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Вычисления фиксируйте в таблиц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63640" y="4910040"/>
          <a:ext cx="5904000" cy="741600"/>
        </p:xfrm>
        <a:graphic>
          <a:graphicData uri="http://schemas.openxmlformats.org/drawingml/2006/table">
            <a:tbl>
              <a:tblPr/>
              <a:tblGrid>
                <a:gridCol w="750960"/>
                <a:gridCol w="719280"/>
                <a:gridCol w="792000"/>
                <a:gridCol w="792360"/>
                <a:gridCol w="720720"/>
                <a:gridCol w="718920"/>
                <a:gridCol w="720720"/>
                <a:gridCol w="689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424800" y="981000"/>
            <a:ext cx="83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Напишите процедуру с параметрами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целое число)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символ), которая выводит на экран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ок, каждая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торых содержит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мволов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684360" y="242100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f(n,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a*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(12,'А'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084720" y="4546440"/>
            <a:ext cx="3051360" cy="2109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684360" y="263844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f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,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a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(12,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,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'А'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546120" y="851040"/>
            <a:ext cx="835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Напишите процедуру с параметрами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ширина)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сота),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символ), которая выводит на экран «прямоугольник» из символов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ширина которого равн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высо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995720" y="3957480"/>
            <a:ext cx="4148280" cy="2868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верка домашнего задан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01760" y="76500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чем основное различие процедур и функци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01760" y="1339920"/>
            <a:ext cx="842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функцию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KDN(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вычисляет количество цифр вводимого целого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539640" y="2752560"/>
            <a:ext cx="744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DN(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n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=a/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nt+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int(input('Введите число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Количество цифр в числе ',KDN(n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2"/>
          <p:cNvSpPr/>
          <p:nvPr/>
        </p:nvSpPr>
        <p:spPr>
          <a:xfrm>
            <a:off x="700200" y="2109960"/>
            <a:ext cx="8146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102360" y="4751280"/>
            <a:ext cx="27576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верка домашнего задан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9960" y="83196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функцию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KBDN(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вычисляет количество в двоичной записи вводимого десятичного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706320" y="2340000"/>
            <a:ext cx="744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BDN(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='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&gt;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=str(a%2)+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=a/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=int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оичная система счисления: '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n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 &gt; 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=b/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nt+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int(input('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цифр в числе '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BDN(a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2"/>
          <p:cNvSpPr/>
          <p:nvPr/>
        </p:nvSpPr>
        <p:spPr>
          <a:xfrm>
            <a:off x="706320" y="175428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381720" y="4932360"/>
            <a:ext cx="2755800" cy="1906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2"/>
          <p:cNvSpPr/>
          <p:nvPr/>
        </p:nvSpPr>
        <p:spPr>
          <a:xfrm>
            <a:off x="539640" y="77760"/>
            <a:ext cx="814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69800" y="542880"/>
            <a:ext cx="842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программу вычисления наименьшего общего кратного следующих четырех чисел: 36, 54, 18 и 15. Используйте процедуру вычисления наибольшего общего дел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Заголовок 2"/>
          <p:cNvSpPr/>
          <p:nvPr/>
        </p:nvSpPr>
        <p:spPr>
          <a:xfrm>
            <a:off x="763560" y="1500120"/>
            <a:ext cx="814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381720" y="4932360"/>
            <a:ext cx="2755800" cy="19065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763560" y="1932120"/>
            <a:ext cx="5321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K (x,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&gt;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=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Tru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(g%x==0)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g%y==0)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=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+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=[36,54,2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=A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1,4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=A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K(c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635040" y="1036800"/>
            <a:ext cx="835164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. Напишите программу перестановки знач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ременных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a, b,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порядке возрастания, т. е. так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a &lt; b &lt;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Используйте процедуру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wap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, c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 = b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ходные данные вводятся с клавиа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35040" y="4221000"/>
          <a:ext cx="8174160" cy="1895760"/>
        </p:xfrm>
        <a:graphic>
          <a:graphicData uri="http://schemas.openxmlformats.org/drawingml/2006/table">
            <a:tbl>
              <a:tblPr/>
              <a:tblGrid>
                <a:gridCol w="4213080"/>
                <a:gridCol w="396108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2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2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1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2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1 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2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3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2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Екатерина Сойникова</cp:lastModifiedBy>
  <dcterms:modified xsi:type="dcterms:W3CDTF">2023-12-28T11:03:49Z</dcterms:modified>
  <cp:revision>188</cp:revision>
  <dc:subject/>
  <dc:title>Презентация PowerPoint</dc:title>
</cp:coreProperties>
</file>