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5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0C18-DF8D-4246-A662-7FBAAD63E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E776-C4E7-4DD5-9AC7-79AEE6C89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6EC-AF11-468C-B45B-D30B0213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F66-0B8E-477C-A0DB-0480FD52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F12E-7084-4607-9D3F-9309ADA5C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FD01-2926-4054-92BE-A919E764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56C7-AFB0-40CA-9F41-6B8F4D6B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941B-B446-4ECD-ADBB-7CE5E19E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D6D6-C16B-4BB6-87FA-0F82C199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8977-DDA3-49E8-B338-01A1CB79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7389-5007-48CD-BF08-63803B6A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7232-4449-40CE-9311-CA0C19D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19C0-CA15-414A-B8B7-1F2A033C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BC1-25B0-44C9-8816-FC7726B8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D1B2-E0D0-4207-B034-71C53D62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6E6-68CF-4AE3-A691-5E66FC40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BC53-E487-44A9-8BF1-16EF904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B795-19FB-4C44-89DF-35DEF75F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3DEA-1B51-48B5-8D2B-0BB23C49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747-F237-46F8-9246-EE625CE5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C16-3A93-423E-AEDD-C4FAECC7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CEAA-6226-4343-834C-AF2528F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F9C-C68E-4C48-AD7C-CF2C5D7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3F7-569A-41A4-9BF6-805C587E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FF5-8A3C-492D-A9B9-D1BC1B08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5240-1BF5-4CAC-B027-2A8CF001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92C4-7DBF-43CE-9F2E-B3E6FE6B1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клипарты\школа\27c29d078660.png"/>
          <p:cNvPicPr/>
          <p:nvPr/>
        </p:nvPicPr>
        <p:blipFill>
          <a:blip r:embed="rId3"/>
          <a:srcRect l="0" t="0" r="0" b="24081"/>
          <a:stretch/>
        </p:blipFill>
        <p:spPr>
          <a:xfrm>
            <a:off x="285840" y="0"/>
            <a:ext cx="842940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D:\клипарты\школа\b756a7739ab6.png"/>
          <p:cNvPicPr/>
          <p:nvPr/>
        </p:nvPicPr>
        <p:blipFill>
          <a:blip r:embed="rId4"/>
          <a:stretch/>
        </p:blipFill>
        <p:spPr>
          <a:xfrm>
            <a:off x="214200" y="4214880"/>
            <a:ext cx="1714680" cy="2357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D:\клипарты\школа\Безимени-3.png"/>
          <p:cNvPicPr/>
          <p:nvPr/>
        </p:nvPicPr>
        <p:blipFill>
          <a:blip r:embed="rId5"/>
          <a:stretch/>
        </p:blipFill>
        <p:spPr>
          <a:xfrm>
            <a:off x="7143840" y="5214960"/>
            <a:ext cx="1571400" cy="141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C:\Users\Helen\Desktop\схемы\шаблоны мои\русский язык\2012-02-07_165936.jpg"/>
          <p:cNvPicPr/>
          <p:nvPr/>
        </p:nvPicPr>
        <p:blipFill>
          <a:blip r:embed="rId6"/>
          <a:stretch/>
        </p:blipFill>
        <p:spPr>
          <a:xfrm>
            <a:off x="3071880" y="5429160"/>
            <a:ext cx="2876400" cy="1255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45D1-AB4B-4809-93EC-A5EC9E0AC6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1" descr=""/>
          <p:cNvPicPr/>
          <p:nvPr/>
        </p:nvPicPr>
        <p:blipFill>
          <a:blip r:embed="rId2"/>
          <a:stretch/>
        </p:blipFill>
        <p:spPr>
          <a:xfrm>
            <a:off x="566640" y="371520"/>
            <a:ext cx="8126640" cy="19749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2" descr=""/>
          <p:cNvPicPr/>
          <p:nvPr/>
        </p:nvPicPr>
        <p:blipFill>
          <a:blip r:embed="rId3"/>
          <a:stretch/>
        </p:blipFill>
        <p:spPr>
          <a:xfrm>
            <a:off x="4664160" y="3303720"/>
            <a:ext cx="190188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2" descr=""/>
          <p:cNvPicPr/>
          <p:nvPr/>
        </p:nvPicPr>
        <p:blipFill>
          <a:blip r:embed="rId1"/>
          <a:stretch/>
        </p:blipFill>
        <p:spPr>
          <a:xfrm>
            <a:off x="1170000" y="60480"/>
            <a:ext cx="6462720" cy="11523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539640" y="2924280"/>
            <a:ext cx="617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лет летит по неб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ылья подставляя ветр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как птица он пари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 по воздуху кружи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еперь пора спускаться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посадку приземлятьс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устились мы легоньк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садимся потихонь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http://razom.znaimo.com.ua/tw_files2/urls_2/50/d-49574/49574_html_m4a2c1f46.png"/>
          <p:cNvPicPr/>
          <p:nvPr/>
        </p:nvPicPr>
        <p:blipFill>
          <a:blip r:embed="rId2"/>
          <a:stretch/>
        </p:blipFill>
        <p:spPr>
          <a:xfrm>
            <a:off x="4950000" y="189000"/>
            <a:ext cx="4194000" cy="31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2"/>
          <p:cNvSpPr/>
          <p:nvPr/>
        </p:nvSpPr>
        <p:spPr>
          <a:xfrm>
            <a:off x="357120" y="357120"/>
            <a:ext cx="7786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сположить предложения так, чтобы получился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085760"/>
            <a:ext cx="6108840" cy="86544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4" descr=""/>
          <p:cNvPicPr/>
          <p:nvPr/>
        </p:nvPicPr>
        <p:blipFill>
          <a:blip r:embed="rId2"/>
          <a:stretch/>
        </p:blipFill>
        <p:spPr>
          <a:xfrm>
            <a:off x="480960" y="2011320"/>
            <a:ext cx="7615440" cy="865080"/>
          </a:xfrm>
          <a:prstGeom prst="rect">
            <a:avLst/>
          </a:prstGeom>
          <a:ln w="0">
            <a:noFill/>
          </a:ln>
        </p:spPr>
      </p:pic>
      <p:pic>
        <p:nvPicPr>
          <p:cNvPr id="121" name="Прямоугольник 5" descr=""/>
          <p:cNvPicPr/>
          <p:nvPr/>
        </p:nvPicPr>
        <p:blipFill>
          <a:blip r:embed="rId3"/>
          <a:stretch/>
        </p:blipFill>
        <p:spPr>
          <a:xfrm>
            <a:off x="480960" y="3084480"/>
            <a:ext cx="5310360" cy="865080"/>
          </a:xfrm>
          <a:prstGeom prst="rect">
            <a:avLst/>
          </a:prstGeom>
          <a:ln w="0">
            <a:noFill/>
          </a:ln>
        </p:spPr>
      </p:pic>
      <p:pic>
        <p:nvPicPr>
          <p:cNvPr id="122" name="Прямоугольник 6" descr=""/>
          <p:cNvPicPr/>
          <p:nvPr/>
        </p:nvPicPr>
        <p:blipFill>
          <a:blip r:embed="rId4"/>
          <a:stretch/>
        </p:blipFill>
        <p:spPr>
          <a:xfrm>
            <a:off x="480960" y="4511520"/>
            <a:ext cx="7755120" cy="1474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D:\клипарты\насекомые\0_7e28a_bff39c42_S.png"/>
          <p:cNvPicPr/>
          <p:nvPr/>
        </p:nvPicPr>
        <p:blipFill>
          <a:blip r:embed="rId5"/>
          <a:stretch/>
        </p:blipFill>
        <p:spPr>
          <a:xfrm>
            <a:off x="6143760" y="2428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357120" y="357120"/>
            <a:ext cx="20718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3" descr=""/>
          <p:cNvPicPr/>
          <p:nvPr/>
        </p:nvPicPr>
        <p:blipFill>
          <a:blip r:embed="rId1"/>
          <a:stretch/>
        </p:blipFill>
        <p:spPr>
          <a:xfrm>
            <a:off x="30240" y="1773360"/>
            <a:ext cx="8632800" cy="3219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D:\клипарты\насекомые\0_7e28a_bff39c42_S.png"/>
          <p:cNvPicPr/>
          <p:nvPr/>
        </p:nvPicPr>
        <p:blipFill>
          <a:blip r:embed="rId2"/>
          <a:stretch/>
        </p:blipFill>
        <p:spPr>
          <a:xfrm>
            <a:off x="6715080" y="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714240" y="357120"/>
            <a:ext cx="5214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помни написание слов из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"/>
          <p:cNvSpPr/>
          <p:nvPr/>
        </p:nvSpPr>
        <p:spPr>
          <a:xfrm>
            <a:off x="95400" y="1484280"/>
            <a:ext cx="886932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Вет_ р,   быстр_ ,  скор_ 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род_на, пр_ щай, с_нтябрь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здра_ ству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D:\клипарты\школа\0dc28081d593t.jpg"/>
          <p:cNvPicPr/>
          <p:nvPr/>
        </p:nvPicPr>
        <p:blipFill>
          <a:blip r:embed="rId1"/>
          <a:srcRect l="12503" t="0" r="12503" b="10204"/>
          <a:stretch/>
        </p:blipFill>
        <p:spPr>
          <a:xfrm>
            <a:off x="6357960" y="4092480"/>
            <a:ext cx="2357280" cy="2765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8872" t="0" r="56533" b="76198"/>
          <a:stretch/>
        </p:blipFill>
        <p:spPr>
          <a:xfrm>
            <a:off x="2268360" y="476280"/>
            <a:ext cx="4535640" cy="418788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1" name="Прямоугольник 2" descr=""/>
          <p:cNvPicPr/>
          <p:nvPr/>
        </p:nvPicPr>
        <p:blipFill>
          <a:blip r:embed="rId2"/>
          <a:stretch/>
        </p:blipFill>
        <p:spPr>
          <a:xfrm>
            <a:off x="2639880" y="4767120"/>
            <a:ext cx="406584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www.liveinternet.ru/journal_proc.php?action=redirect&amp;url=http://img0.liveinternet.ru/images/attach/c/5/86/839/86839726_large_Risunok__9_.jpg"/>
          <p:cNvPicPr/>
          <p:nvPr/>
        </p:nvPicPr>
        <p:blipFill>
          <a:blip r:embed="rId1"/>
          <a:srcRect l="56782" t="0" r="7738" b="76198"/>
          <a:stretch/>
        </p:blipFill>
        <p:spPr>
          <a:xfrm>
            <a:off x="2050920" y="549360"/>
            <a:ext cx="4824720" cy="4341600"/>
          </a:xfrm>
          <a:prstGeom prst="rect">
            <a:avLst/>
          </a:prstGeom>
          <a:ln cap="sq" w="38160">
            <a:solidFill>
              <a:srgbClr val="7030a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33" name="Прямоугольник 2" descr=""/>
          <p:cNvPicPr/>
          <p:nvPr/>
        </p:nvPicPr>
        <p:blipFill>
          <a:blip r:embed="rId2"/>
          <a:stretch/>
        </p:blipFill>
        <p:spPr>
          <a:xfrm>
            <a:off x="2505240" y="4767120"/>
            <a:ext cx="4329000" cy="1816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752040" y="2060640"/>
            <a:ext cx="492192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нового узнали о предлож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такое осн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79280" y="3141720"/>
            <a:ext cx="5113440" cy="3506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ценит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Зелё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ё понял, могу идти даль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Жёлт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щё ошибаю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расный цвет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п! Мне нужна помощ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3"/>
          <p:cNvSpPr/>
          <p:nvPr/>
        </p:nvSpPr>
        <p:spPr>
          <a:xfrm>
            <a:off x="7740720" y="260280"/>
            <a:ext cx="1152360" cy="1081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4"/>
          <p:cNvSpPr/>
          <p:nvPr/>
        </p:nvSpPr>
        <p:spPr>
          <a:xfrm>
            <a:off x="7740720" y="1484280"/>
            <a:ext cx="1152360" cy="1081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5"/>
          <p:cNvSpPr/>
          <p:nvPr/>
        </p:nvSpPr>
        <p:spPr>
          <a:xfrm>
            <a:off x="7740720" y="2708280"/>
            <a:ext cx="1152360" cy="1081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547640" y="2565360"/>
            <a:ext cx="6031080" cy="37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285840" y="214200"/>
            <a:ext cx="7143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тавь знаки препинания в конц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57120" y="1071720"/>
            <a:ext cx="635796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ро птицы улетят на юг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357120" y="2286000"/>
            <a:ext cx="514368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А воробей улетает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ёплые края 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357120" y="4714920"/>
            <a:ext cx="47149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ра _ Прилете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виристели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D:\анимашки\сказки\свиристели.gif"/>
          <p:cNvPicPr/>
          <p:nvPr/>
        </p:nvPicPr>
        <p:blipFill>
          <a:blip r:embed="rId1"/>
          <a:stretch/>
        </p:blipFill>
        <p:spPr>
          <a:xfrm>
            <a:off x="5602320" y="2114640"/>
            <a:ext cx="3444840" cy="451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4656240" y="2724480"/>
            <a:ext cx="42742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ь всегда без промед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ужный слог под ударени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бирать учись слов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ля проверки ты всегд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не сделаешь ошибо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данном слове никог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1612440" y="1143000"/>
            <a:ext cx="527256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_мовать – зимы, зим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_ка – речка, реки , речеч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307800" y="2732040"/>
            <a:ext cx="4128120" cy="3751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б проверить </a:t>
            </a: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езударны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о слово изменить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дарение поставить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чно звук звучать застав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удут близкими слов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 ударением в слогах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вать – проверим - 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ий тоже подойдёт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чка,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 и реч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бегут вслед за р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714240" y="357120"/>
            <a:ext cx="72867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проверить безударный гласный в корн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357120" y="214200"/>
            <a:ext cx="4500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тавь пропущенные глас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377640" y="1214280"/>
            <a:ext cx="405756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нё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л_дяной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ов_ ря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нивая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_ черний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154480" y="1214280"/>
            <a:ext cx="3702600" cy="46659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Д_ сяток,</a:t>
            </a:r>
            <a:br>
              <a:rPr sz="6000"/>
            </a:b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в_ ршина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_ щат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л_дник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вр_ ч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335880" y="189000"/>
            <a:ext cx="81072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ставьте предложение по картинке? Сколько  в нём сл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272520" y="5661000"/>
            <a:ext cx="762084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пробуйте   убрать по одному слову из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 ли понят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:\клипарты\цифры буквы\цифры запятые точки\0_4bc3a_c392e0c9_L.png"/>
          <p:cNvPicPr/>
          <p:nvPr/>
        </p:nvPicPr>
        <p:blipFill>
          <a:blip r:embed="rId1"/>
          <a:stretch/>
        </p:blipFill>
        <p:spPr>
          <a:xfrm>
            <a:off x="7488360" y="98100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D:\клипарты\Дети\11.png"/>
          <p:cNvPicPr/>
          <p:nvPr/>
        </p:nvPicPr>
        <p:blipFill>
          <a:blip r:embed="rId2"/>
          <a:stretch/>
        </p:blipFill>
        <p:spPr>
          <a:xfrm>
            <a:off x="395280" y="620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2"/>
          <a:stretch/>
        </p:blipFill>
        <p:spPr>
          <a:xfrm>
            <a:off x="1901880" y="5516640"/>
            <a:ext cx="271296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2" descr=""/>
          <p:cNvPicPr/>
          <p:nvPr/>
        </p:nvPicPr>
        <p:blipFill>
          <a:blip r:embed="rId3"/>
          <a:stretch/>
        </p:blipFill>
        <p:spPr>
          <a:xfrm>
            <a:off x="5688000" y="5589720"/>
            <a:ext cx="27129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2214720"/>
            <a:ext cx="835812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 предложении всегда есть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глав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члены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. Они составляют </a:t>
            </a: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Calibri"/>
              </a:rPr>
              <a:t>основу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едложения. В ней заклю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лавный смысл предлож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D:\2 класс рабочая папка\русский язык\скриншоны\2012-09-15_081617.jpg"/>
          <p:cNvPicPr/>
          <p:nvPr/>
        </p:nvPicPr>
        <p:blipFill>
          <a:blip r:embed="rId2"/>
          <a:stretch/>
        </p:blipFill>
        <p:spPr>
          <a:xfrm>
            <a:off x="884160" y="4761000"/>
            <a:ext cx="6948720" cy="1914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0:35:28Z</dcterms:created>
  <dc:creator>Helen</dc:creator>
  <dc:description/>
  <dc:language>en-US</dc:language>
  <cp:lastModifiedBy>ДоМиК</cp:lastModifiedBy>
  <dcterms:modified xsi:type="dcterms:W3CDTF">2024-01-04T12:11:41Z</dcterms:modified>
  <cp:revision>28</cp:revision>
  <dc:subject/>
  <dc:title>Слайд 1</dc:title>
</cp:coreProperties>
</file>