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5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6.png" ContentType="image/pn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D7BF-D4AB-47ED-8969-9C41625496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013B-6CF8-4336-B19E-9AF7F72ABF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478-199D-4B08-A1DB-719218B6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126-DD1F-442B-A39E-DCE12FB4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C7E-B025-47F4-94C1-FF87C60B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5E9-9BEC-4E09-9A4D-93C6C2C5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9680-534E-43E7-93EB-CA5396B2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D168-CB26-44D3-B6EE-A70AA035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645C-5534-44CC-B4DB-E4B022AB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5BD8-FFF7-49F9-B2AA-6D9FAAD3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333D-3952-4FE7-8821-DE8F3110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A942-0477-424B-BDED-95AB71D0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90F1-2AC0-459B-8F11-73596297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E1A-261A-4C7F-875B-08194865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30B0-3878-4A17-B5BC-AEA0276E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43BC-BBCB-4E73-A435-00CFA173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BCCC-0D79-45FA-BF75-8F912DED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9913-C383-4D98-8731-034605C1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C8FE-FDCD-464B-A4A4-32B3D01A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C1A-DF82-4EF8-B95E-3181FE06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2B3-0C14-42FF-85A2-C71A352E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5B4-53FA-4B57-B2AA-E7F743B7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431-3BE7-4FA9-A480-0B2E87C7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768-885B-499D-8193-07D2D619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D66-B656-4196-BA5B-B3D38A9A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6D1-67DC-4F0E-90BB-94FC0E08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2ACB-3262-4216-BED1-D84A5BB6CD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rcRect l="0" t="0" r="0" b="24081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1FE4-47A4-4D6E-BF69-8362B43971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2"/>
          <a:stretch/>
        </p:blipFill>
        <p:spPr>
          <a:xfrm>
            <a:off x="566640" y="371520"/>
            <a:ext cx="8126640" cy="197496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2" descr=""/>
          <p:cNvPicPr/>
          <p:nvPr/>
        </p:nvPicPr>
        <p:blipFill>
          <a:blip r:embed="rId3"/>
          <a:stretch/>
        </p:blipFill>
        <p:spPr>
          <a:xfrm>
            <a:off x="4664160" y="3303720"/>
            <a:ext cx="190188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2" descr=""/>
          <p:cNvPicPr/>
          <p:nvPr/>
        </p:nvPicPr>
        <p:blipFill>
          <a:blip r:embed="rId1"/>
          <a:stretch/>
        </p:blipFill>
        <p:spPr>
          <a:xfrm>
            <a:off x="1170000" y="60480"/>
            <a:ext cx="6462720" cy="11523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539640" y="2924280"/>
            <a:ext cx="617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лет летит по небу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ылья подставляя ветру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 как птица он пари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 по воздуху кружи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теперь пора спускаться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посадку приземлятьс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устились мы легоньк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адимся потихонь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razom.znaimo.com.ua/tw_files2/urls_2/50/d-49574/49574_html_m4a2c1f46.png"/>
          <p:cNvPicPr/>
          <p:nvPr/>
        </p:nvPicPr>
        <p:blipFill>
          <a:blip r:embed="rId2"/>
          <a:stretch/>
        </p:blipFill>
        <p:spPr>
          <a:xfrm>
            <a:off x="4950000" y="189000"/>
            <a:ext cx="4194000" cy="31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2"/>
          <p:cNvSpPr/>
          <p:nvPr/>
        </p:nvSpPr>
        <p:spPr>
          <a:xfrm>
            <a:off x="357120" y="357120"/>
            <a:ext cx="77868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положить предложения так, чтобы получился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085760"/>
            <a:ext cx="6108840" cy="86544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4" descr=""/>
          <p:cNvPicPr/>
          <p:nvPr/>
        </p:nvPicPr>
        <p:blipFill>
          <a:blip r:embed="rId2"/>
          <a:stretch/>
        </p:blipFill>
        <p:spPr>
          <a:xfrm>
            <a:off x="480960" y="2011320"/>
            <a:ext cx="7615440" cy="86508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5" descr=""/>
          <p:cNvPicPr/>
          <p:nvPr/>
        </p:nvPicPr>
        <p:blipFill>
          <a:blip r:embed="rId3"/>
          <a:stretch/>
        </p:blipFill>
        <p:spPr>
          <a:xfrm>
            <a:off x="480960" y="3084480"/>
            <a:ext cx="5310360" cy="86508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6" descr=""/>
          <p:cNvPicPr/>
          <p:nvPr/>
        </p:nvPicPr>
        <p:blipFill>
          <a:blip r:embed="rId4"/>
          <a:stretch/>
        </p:blipFill>
        <p:spPr>
          <a:xfrm>
            <a:off x="480960" y="4511520"/>
            <a:ext cx="7755120" cy="147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D:\клипарты\насекомые\0_7e28a_bff39c42_S.png"/>
          <p:cNvPicPr/>
          <p:nvPr/>
        </p:nvPicPr>
        <p:blipFill>
          <a:blip r:embed="rId5"/>
          <a:stretch/>
        </p:blipFill>
        <p:spPr>
          <a:xfrm>
            <a:off x="6143760" y="2428920"/>
            <a:ext cx="2442960" cy="244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357120" y="357120"/>
            <a:ext cx="20718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рь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Прямоугольник 3" descr=""/>
          <p:cNvPicPr/>
          <p:nvPr/>
        </p:nvPicPr>
        <p:blipFill>
          <a:blip r:embed="rId1"/>
          <a:stretch/>
        </p:blipFill>
        <p:spPr>
          <a:xfrm>
            <a:off x="30240" y="1773360"/>
            <a:ext cx="8632800" cy="3219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D:\клипарты\насекомые\0_7e28a_bff39c42_S.png"/>
          <p:cNvPicPr/>
          <p:nvPr/>
        </p:nvPicPr>
        <p:blipFill>
          <a:blip r:embed="rId2"/>
          <a:stretch/>
        </p:blipFill>
        <p:spPr>
          <a:xfrm>
            <a:off x="6715080" y="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714240" y="357120"/>
            <a:ext cx="5214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помни написание слов из слов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95400" y="1484280"/>
            <a:ext cx="886932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Вет_ р,   быстр_ ,  скор_ 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род_на, пр_ щай, с_нтябрь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здра_ ству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" descr="D:\клипарты\школа\0dc28081d593t.jpg"/>
          <p:cNvPicPr/>
          <p:nvPr/>
        </p:nvPicPr>
        <p:blipFill>
          <a:blip r:embed="rId1"/>
          <a:srcRect l="12503" t="0" r="12503" b="10204"/>
          <a:stretch/>
        </p:blipFill>
        <p:spPr>
          <a:xfrm>
            <a:off x="6357960" y="4092480"/>
            <a:ext cx="2357280" cy="276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www.liveinternet.ru/journal_proc.php?action=redirect&amp;url=http://img0.liveinternet.ru/images/attach/c/5/86/839/86839726_large_Risunok__9_.jpg"/>
          <p:cNvPicPr/>
          <p:nvPr/>
        </p:nvPicPr>
        <p:blipFill>
          <a:blip r:embed="rId1"/>
          <a:srcRect l="8872" t="0" r="56533" b="76198"/>
          <a:stretch/>
        </p:blipFill>
        <p:spPr>
          <a:xfrm>
            <a:off x="2268360" y="476280"/>
            <a:ext cx="4535640" cy="418788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1" name="Прямоугольник 2" descr=""/>
          <p:cNvPicPr/>
          <p:nvPr/>
        </p:nvPicPr>
        <p:blipFill>
          <a:blip r:embed="rId2"/>
          <a:stretch/>
        </p:blipFill>
        <p:spPr>
          <a:xfrm>
            <a:off x="2639880" y="4767120"/>
            <a:ext cx="4065840" cy="181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www.liveinternet.ru/journal_proc.php?action=redirect&amp;url=http://img0.liveinternet.ru/images/attach/c/5/86/839/86839726_large_Risunok__9_.jpg"/>
          <p:cNvPicPr/>
          <p:nvPr/>
        </p:nvPicPr>
        <p:blipFill>
          <a:blip r:embed="rId1"/>
          <a:srcRect l="56782" t="0" r="7738" b="76198"/>
          <a:stretch/>
        </p:blipFill>
        <p:spPr>
          <a:xfrm>
            <a:off x="2050920" y="549360"/>
            <a:ext cx="4824720" cy="434160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3" name="Прямоугольник 2" descr=""/>
          <p:cNvPicPr/>
          <p:nvPr/>
        </p:nvPicPr>
        <p:blipFill>
          <a:blip r:embed="rId2"/>
          <a:stretch/>
        </p:blipFill>
        <p:spPr>
          <a:xfrm>
            <a:off x="2505240" y="4767120"/>
            <a:ext cx="4329000" cy="181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752040" y="2060640"/>
            <a:ext cx="49219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нового узнали о предло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такое осн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179280" y="3141720"/>
            <a:ext cx="5113440" cy="350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цените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Зелёный цвет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сё понял, могу идти да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ёлтый цвет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щё ошиб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расный цвет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п! Мне нужна помощ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3"/>
          <p:cNvSpPr/>
          <p:nvPr/>
        </p:nvSpPr>
        <p:spPr>
          <a:xfrm>
            <a:off x="7740720" y="260280"/>
            <a:ext cx="1152360" cy="1081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4"/>
          <p:cNvSpPr/>
          <p:nvPr/>
        </p:nvSpPr>
        <p:spPr>
          <a:xfrm>
            <a:off x="7740720" y="1484280"/>
            <a:ext cx="1152360" cy="1081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5"/>
          <p:cNvSpPr/>
          <p:nvPr/>
        </p:nvSpPr>
        <p:spPr>
          <a:xfrm>
            <a:off x="7740720" y="2708280"/>
            <a:ext cx="1152360" cy="1081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1547640" y="2565360"/>
            <a:ext cx="603108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85840" y="214200"/>
            <a:ext cx="71438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авь знаки препинания в конце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357120" y="1071720"/>
            <a:ext cx="635796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оро птицы улетят на юг 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357120" y="2286000"/>
            <a:ext cx="514368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 воробей улетает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ёплые края 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357120" y="4714920"/>
            <a:ext cx="471492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ра _ Прилете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иристели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D:\анимашки\сказки\свиристели.gif"/>
          <p:cNvPicPr/>
          <p:nvPr/>
        </p:nvPicPr>
        <p:blipFill>
          <a:blip r:embed="rId1"/>
          <a:stretch/>
        </p:blipFill>
        <p:spPr>
          <a:xfrm>
            <a:off x="5602320" y="2114640"/>
            <a:ext cx="3444840" cy="451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4656240" y="2724480"/>
            <a:ext cx="42742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вь всегда без промед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ужный слог под ударени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бирать учись слов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проверки ты всегд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не сделаешь ошибо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данном слове нико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612440" y="1143000"/>
            <a:ext cx="527256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_мовать – зимы, зим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_ка – речка, реки , речеч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307800" y="2732040"/>
            <a:ext cx="412812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б проверить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безударны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 слово изменить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дарение постави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чно звук звучать застав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удут близкими слов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 ударением в слогах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вать – проверим - з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ий тоже подойдё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ка, 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и и речно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бегут вслед за 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714240" y="357120"/>
            <a:ext cx="72867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проверить безударный гласный в корн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357120" y="214200"/>
            <a:ext cx="4500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тавь пропущенные глас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377640" y="1214280"/>
            <a:ext cx="4057560" cy="466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Д_ нёк,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л_дяной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дов_ ря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л_нивая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в_ черний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154480" y="1214280"/>
            <a:ext cx="3702600" cy="466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Д_ сяток,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в_ ршин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п_ щат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л_дник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вр_ ч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335880" y="189000"/>
            <a:ext cx="81072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ьте предложение по картинке? Сколько  в нём с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72520" y="5661000"/>
            <a:ext cx="76208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пробуйте   убрать по одному слову из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ё  ли понят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D:\клипарты\цифры буквы\цифры запятые точки\0_4bc3a_c392e0c9_L.png"/>
          <p:cNvPicPr/>
          <p:nvPr/>
        </p:nvPicPr>
        <p:blipFill>
          <a:blip r:embed="rId1"/>
          <a:stretch/>
        </p:blipFill>
        <p:spPr>
          <a:xfrm>
            <a:off x="7488360" y="98100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D:\клипарты\Дети\11.png"/>
          <p:cNvPicPr/>
          <p:nvPr/>
        </p:nvPicPr>
        <p:blipFill>
          <a:blip r:embed="rId2"/>
          <a:stretch/>
        </p:blipFill>
        <p:spPr>
          <a:xfrm>
            <a:off x="395280" y="620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1" descr=""/>
          <p:cNvPicPr/>
          <p:nvPr/>
        </p:nvPicPr>
        <p:blipFill>
          <a:blip r:embed="rId2"/>
          <a:stretch/>
        </p:blipFill>
        <p:spPr>
          <a:xfrm>
            <a:off x="1901880" y="5516640"/>
            <a:ext cx="2712960" cy="115236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2" descr=""/>
          <p:cNvPicPr/>
          <p:nvPr/>
        </p:nvPicPr>
        <p:blipFill>
          <a:blip r:embed="rId3"/>
          <a:stretch/>
        </p:blipFill>
        <p:spPr>
          <a:xfrm>
            <a:off x="5688000" y="5589720"/>
            <a:ext cx="27129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428760" y="2214720"/>
            <a:ext cx="835812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предложении всегда есть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глав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члены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 Они составляют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основу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дложения. В ней заключа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лавный смысл предлож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D:\2 класс рабочая папка\русский язык\скриншоны\2012-09-15_081617.jpg"/>
          <p:cNvPicPr/>
          <p:nvPr/>
        </p:nvPicPr>
        <p:blipFill>
          <a:blip r:embed="rId2"/>
          <a:stretch/>
        </p:blipFill>
        <p:spPr>
          <a:xfrm>
            <a:off x="884160" y="4761000"/>
            <a:ext cx="6948720" cy="191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ДоМиК</cp:lastModifiedBy>
  <dcterms:modified xsi:type="dcterms:W3CDTF">2024-01-04T12:11:41Z</dcterms:modified>
  <cp:revision>28</cp:revision>
  <dc:subject/>
  <dc:title>Слайд 1</dc:title>
</cp:coreProperties>
</file>