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30AF-8D23-464B-A427-9B6A6B8DC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9982-5498-483A-AAF3-BE2505F88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175-A753-4825-B4C8-FD4A85B9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FD7-2267-4029-9916-71320E64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9F5-5DC8-43E6-93F9-18B270FB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5C6-0B71-4500-A641-D9A4BE2A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4F7C-C120-46E4-BBAD-C6E8DAF5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A689-DCCF-48A6-AE02-0ED32832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0971-BFD6-40C4-BD1D-BF6F1D1A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876E-A0BB-494D-9F81-03B8F064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8527-6AC7-498F-988B-1840322E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C3D6-395D-4AB9-8F98-99C71D48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C0B3-4DD6-4682-AAFD-D8935ED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D5A-A8FE-4DD4-A341-28B69723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DAC5-F6F6-47F4-BD57-7BF69118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039F-0130-4E43-8A27-45FCD292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9565-BC87-497D-A9E7-8BDBD0B2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35F0-EA36-4DFB-B6CC-E5F3AE28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2A5E-720D-4ED8-88BF-92E9EB1B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BB2-C604-41B2-BF4C-FF475A1A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6B2-8F90-4AAB-9893-76422444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21E-3BAC-41BA-B5E3-01151A0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A43-E746-4A1F-ACD8-B7E3C395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C85-5630-462A-B7FD-C2ECC33B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058-ECE2-4AAA-9A27-A089ED5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82F-04E9-4538-A7D8-6DAFF291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59BA-5BB9-416D-9105-9AF1555D2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3615-0214-4F90-ADB3-45933FB2A8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566640" y="371520"/>
            <a:ext cx="8126640" cy="19749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2" descr=""/>
          <p:cNvPicPr/>
          <p:nvPr/>
        </p:nvPicPr>
        <p:blipFill>
          <a:blip r:embed="rId3"/>
          <a:stretch/>
        </p:blipFill>
        <p:spPr>
          <a:xfrm>
            <a:off x="4664160" y="3303720"/>
            <a:ext cx="190188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2" descr=""/>
          <p:cNvPicPr/>
          <p:nvPr/>
        </p:nvPicPr>
        <p:blipFill>
          <a:blip r:embed="rId1"/>
          <a:stretch/>
        </p:blipFill>
        <p:spPr>
          <a:xfrm>
            <a:off x="1170000" y="60480"/>
            <a:ext cx="6462720" cy="11523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539640" y="2924280"/>
            <a:ext cx="617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лет летит по небу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ылья подставляя ветру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как птица он пари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по воздуху кружи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еперь пора спускатьс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посадку приземля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устились мы легоньк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адимся потихонь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razom.znaimo.com.ua/tw_files2/urls_2/50/d-49574/49574_html_m4a2c1f46.png"/>
          <p:cNvPicPr/>
          <p:nvPr/>
        </p:nvPicPr>
        <p:blipFill>
          <a:blip r:embed="rId2"/>
          <a:stretch/>
        </p:blipFill>
        <p:spPr>
          <a:xfrm>
            <a:off x="4950000" y="189000"/>
            <a:ext cx="419400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2"/>
          <p:cNvSpPr/>
          <p:nvPr/>
        </p:nvSpPr>
        <p:spPr>
          <a:xfrm>
            <a:off x="357120" y="357120"/>
            <a:ext cx="7786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положить предложения так, чтобы получился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085760"/>
            <a:ext cx="6108840" cy="8654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" descr=""/>
          <p:cNvPicPr/>
          <p:nvPr/>
        </p:nvPicPr>
        <p:blipFill>
          <a:blip r:embed="rId2"/>
          <a:stretch/>
        </p:blipFill>
        <p:spPr>
          <a:xfrm>
            <a:off x="480960" y="2011320"/>
            <a:ext cx="7615440" cy="86508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5" descr=""/>
          <p:cNvPicPr/>
          <p:nvPr/>
        </p:nvPicPr>
        <p:blipFill>
          <a:blip r:embed="rId3"/>
          <a:stretch/>
        </p:blipFill>
        <p:spPr>
          <a:xfrm>
            <a:off x="480960" y="3084480"/>
            <a:ext cx="5310360" cy="8650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6" descr=""/>
          <p:cNvPicPr/>
          <p:nvPr/>
        </p:nvPicPr>
        <p:blipFill>
          <a:blip r:embed="rId4"/>
          <a:stretch/>
        </p:blipFill>
        <p:spPr>
          <a:xfrm>
            <a:off x="480960" y="4511520"/>
            <a:ext cx="7755120" cy="147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D:\клипарты\насекомые\0_7e28a_bff39c42_S.png"/>
          <p:cNvPicPr/>
          <p:nvPr/>
        </p:nvPicPr>
        <p:blipFill>
          <a:blip r:embed="rId5"/>
          <a:stretch/>
        </p:blipFill>
        <p:spPr>
          <a:xfrm>
            <a:off x="6143760" y="2428920"/>
            <a:ext cx="2442960" cy="244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357120" y="357120"/>
            <a:ext cx="2071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р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30240" y="1773360"/>
            <a:ext cx="8632800" cy="3219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D:\клипарты\насекомые\0_7e28a_bff39c42_S.png"/>
          <p:cNvPicPr/>
          <p:nvPr/>
        </p:nvPicPr>
        <p:blipFill>
          <a:blip r:embed="rId2"/>
          <a:stretch/>
        </p:blipFill>
        <p:spPr>
          <a:xfrm>
            <a:off x="6715080" y="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714240" y="357120"/>
            <a:ext cx="5214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помни написание слов из слов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95400" y="1484280"/>
            <a:ext cx="88693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Вет_ р,   быстр_ ,  скор_ 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род_на, пр_ щай, с_нтябрь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здра_ ству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D:\клипарты\школа\0dc28081d593t.jpg"/>
          <p:cNvPicPr/>
          <p:nvPr/>
        </p:nvPicPr>
        <p:blipFill>
          <a:blip r:embed="rId1"/>
          <a:srcRect l="12503" t="0" r="12503" b="10204"/>
          <a:stretch/>
        </p:blipFill>
        <p:spPr>
          <a:xfrm>
            <a:off x="6357960" y="4092480"/>
            <a:ext cx="2357280" cy="276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liveinternet.ru/journal_proc.php?action=redirect&amp;url=http://img0.liveinternet.ru/images/attach/c/5/86/839/86839726_large_Risunok__9_.jpg"/>
          <p:cNvPicPr/>
          <p:nvPr/>
        </p:nvPicPr>
        <p:blipFill>
          <a:blip r:embed="rId1"/>
          <a:srcRect l="8872" t="0" r="56533" b="76198"/>
          <a:stretch/>
        </p:blipFill>
        <p:spPr>
          <a:xfrm>
            <a:off x="2268360" y="476280"/>
            <a:ext cx="4535640" cy="41878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1" name="Прямоугольник 2" descr=""/>
          <p:cNvPicPr/>
          <p:nvPr/>
        </p:nvPicPr>
        <p:blipFill>
          <a:blip r:embed="rId2"/>
          <a:stretch/>
        </p:blipFill>
        <p:spPr>
          <a:xfrm>
            <a:off x="2639880" y="4767120"/>
            <a:ext cx="4065840" cy="18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www.liveinternet.ru/journal_proc.php?action=redirect&amp;url=http://img0.liveinternet.ru/images/attach/c/5/86/839/86839726_large_Risunok__9_.jpg"/>
          <p:cNvPicPr/>
          <p:nvPr/>
        </p:nvPicPr>
        <p:blipFill>
          <a:blip r:embed="rId1"/>
          <a:srcRect l="56782" t="0" r="7738" b="76198"/>
          <a:stretch/>
        </p:blipFill>
        <p:spPr>
          <a:xfrm>
            <a:off x="2050920" y="549360"/>
            <a:ext cx="4824720" cy="43416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Прямоугольник 2" descr=""/>
          <p:cNvPicPr/>
          <p:nvPr/>
        </p:nvPicPr>
        <p:blipFill>
          <a:blip r:embed="rId2"/>
          <a:stretch/>
        </p:blipFill>
        <p:spPr>
          <a:xfrm>
            <a:off x="2505240" y="4767120"/>
            <a:ext cx="4329000" cy="18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752040" y="2060640"/>
            <a:ext cx="49219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нового узнали о пред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осн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79280" y="3141720"/>
            <a:ext cx="5113440" cy="350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цените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Зелёный цвет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ё понял, могу идти да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ёлтый цвет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щё ошиб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расный цвет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п! Мне нужна помощ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3"/>
          <p:cNvSpPr/>
          <p:nvPr/>
        </p:nvSpPr>
        <p:spPr>
          <a:xfrm>
            <a:off x="7740720" y="260280"/>
            <a:ext cx="1152360" cy="1081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4"/>
          <p:cNvSpPr/>
          <p:nvPr/>
        </p:nvSpPr>
        <p:spPr>
          <a:xfrm>
            <a:off x="7740720" y="1484280"/>
            <a:ext cx="1152360" cy="1081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7740720" y="2708280"/>
            <a:ext cx="1152360" cy="1081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547640" y="2565360"/>
            <a:ext cx="603108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85840" y="214200"/>
            <a:ext cx="71438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авь знаки препинания в конце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57120" y="1071720"/>
            <a:ext cx="635796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оро птицы улетят на юг 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57120" y="2286000"/>
            <a:ext cx="514368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 воробей улетает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ёплые края 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57120" y="4714920"/>
            <a:ext cx="471492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а _ Прилете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иристели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D:\анимашки\сказки\свиристели.gif"/>
          <p:cNvPicPr/>
          <p:nvPr/>
        </p:nvPicPr>
        <p:blipFill>
          <a:blip r:embed="rId1"/>
          <a:stretch/>
        </p:blipFill>
        <p:spPr>
          <a:xfrm>
            <a:off x="5602320" y="2114640"/>
            <a:ext cx="3444840" cy="451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4656240" y="2724480"/>
            <a:ext cx="42742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вь всегда без промед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жный слог под ударени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бирать учись сло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роверки ты всегд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не сделаешь ошибо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данном слове нико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612440" y="1143000"/>
            <a:ext cx="527256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_мовать – зимы, зи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_ка – речка, реки , речеч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307800" y="2732040"/>
            <a:ext cx="412812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 проверить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безудар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 слово изменить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дарение постави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но звук звучать заст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дут близкими сло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 ударением в слогах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вать – проверим - з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ий тоже подойдё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ка, 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 и речн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бегут вслед за 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14240" y="357120"/>
            <a:ext cx="72867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проверить безударный гласный в корн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357120" y="214200"/>
            <a:ext cx="4500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тавь пропущенные 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377640" y="1214280"/>
            <a:ext cx="4057560" cy="466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Д_ нёк,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л_дяной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дов_ ря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л_нивая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в_ черний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154480" y="1214280"/>
            <a:ext cx="3702600" cy="466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Д_ сяток,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в_ ршин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п_ щат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л_дник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вр_ ч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335880" y="189000"/>
            <a:ext cx="8107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ьте предложение по картинке? Сколько  в нём с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72520" y="5661000"/>
            <a:ext cx="76208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пробуйте   убрать по одному слову из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 ли понят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D:\клипарты\цифры буквы\цифры запятые точки\0_4bc3a_c392e0c9_L.png"/>
          <p:cNvPicPr/>
          <p:nvPr/>
        </p:nvPicPr>
        <p:blipFill>
          <a:blip r:embed="rId1"/>
          <a:stretch/>
        </p:blipFill>
        <p:spPr>
          <a:xfrm>
            <a:off x="7488360" y="98100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D:\клипарты\Дети\11.png"/>
          <p:cNvPicPr/>
          <p:nvPr/>
        </p:nvPicPr>
        <p:blipFill>
          <a:blip r:embed="rId2"/>
          <a:stretch/>
        </p:blipFill>
        <p:spPr>
          <a:xfrm>
            <a:off x="395280" y="620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2"/>
          <a:stretch/>
        </p:blipFill>
        <p:spPr>
          <a:xfrm>
            <a:off x="1901880" y="5516640"/>
            <a:ext cx="2712960" cy="115236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2" descr=""/>
          <p:cNvPicPr/>
          <p:nvPr/>
        </p:nvPicPr>
        <p:blipFill>
          <a:blip r:embed="rId3"/>
          <a:stretch/>
        </p:blipFill>
        <p:spPr>
          <a:xfrm>
            <a:off x="5688000" y="5589720"/>
            <a:ext cx="27129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28760" y="2214720"/>
            <a:ext cx="83581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предложении всегда есть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глав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члены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Они составляют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основу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ложения. В ней заключ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авный смысл пред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2 класс рабочая папка\русский язык\скриншоны\2012-09-15_081617.jpg"/>
          <p:cNvPicPr/>
          <p:nvPr/>
        </p:nvPicPr>
        <p:blipFill>
          <a:blip r:embed="rId2"/>
          <a:stretch/>
        </p:blipFill>
        <p:spPr>
          <a:xfrm>
            <a:off x="884160" y="4761000"/>
            <a:ext cx="6948720" cy="191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ДоМиК</cp:lastModifiedBy>
  <dcterms:modified xsi:type="dcterms:W3CDTF">2024-01-04T12:11:41Z</dcterms:modified>
  <cp:revision>28</cp:revision>
  <dc:subject/>
  <dc:title>Слайд 1</dc:title>
</cp:coreProperties>
</file>