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B956-863B-4C82-BE7B-57BC7BAB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89D-0F48-4601-A0C6-4D494BAE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540C-FFA2-41C2-8D93-16C44A06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DCA-763C-4C18-8454-F5C78CC8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E891-2902-4C3E-ABE2-7D79CB7A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EE7-628F-4F1F-8BF7-A3082797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048-EC5E-4212-A031-9E4B5EF2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6623-C3AA-4B96-B870-D9B9BE82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548-6AFF-4E53-8680-CDA043D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1BF-D313-4FA7-901A-19E414E1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23F9-8D9D-4510-B2E3-BC2BF96F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0972-217E-479F-9618-A610951C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70E5C3-AF81-40E4-B029-78214B41B42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876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ff99ff"/>
                </a:solidFill>
                <a:latin typeface="Arial"/>
              </a:rPr>
              <a:t>Антоним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568600" y="623700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</a:rPr>
              <a:t>Суханова Ин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917800" y="4869000"/>
            <a:ext cx="276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по русскому язы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627280" y="4653000"/>
            <a:ext cx="4835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рыба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476280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43280" y="4724280"/>
            <a:ext cx="374472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ее яйцо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835280" y="692280"/>
            <a:ext cx="4895640" cy="36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324000" y="23004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слову «сырой»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914920" y="5516640"/>
            <a:ext cx="38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Сырая морков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1967040" y="1523880"/>
            <a:ext cx="52099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42920" y="4868640"/>
            <a:ext cx="3970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ырое бельё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4538520" cy="32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484360" y="5084640"/>
            <a:ext cx="3898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ырой день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264360" cy="41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73080"/>
            <a:ext cx="82296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значениям многозначного слова «зелёный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339640" y="5994000"/>
            <a:ext cx="504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Ещё зелёная смородина -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784836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58560" y="4797000"/>
            <a:ext cx="7561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есной листья зелёные, а осенью -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80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Это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Arial"/>
              </a:rPr>
              <a:t>контекстуальные антонимы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т. е. слова, противопоставленные в определенном контексте: Зеленая - красная (смороди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еленые – желтые (листь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Антонимы используются в образной речи для того, чтобы она звучала ярче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58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 u="sng">
                <a:solidFill>
                  <a:srgbClr val="ff99ff"/>
                </a:solidFill>
                <a:uFillTx/>
                <a:latin typeface="Arial"/>
              </a:rPr>
              <a:t>Антоним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 греч.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anti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- против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  греч.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«</a:t>
            </a: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onyma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»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- и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99ff"/>
                </a:solidFill>
                <a:uFillTx/>
                <a:latin typeface="Arial"/>
              </a:rPr>
              <a:t>Антонимы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– слова одной и той же части речи с противоположным значение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800" spc="-1" strike="noStrike" u="sng">
                <a:solidFill>
                  <a:srgbClr val="ff99ff"/>
                </a:solidFill>
                <a:uFillTx/>
                <a:latin typeface="Arial"/>
              </a:rPr>
              <a:t>Виды антони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зличают разнокоренные и однокоренные антонимы. Пара разнокоренных антонимов включает слова с разными корнями, например: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день - ночь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короткий - длинный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ара однокоренных антонимов включает слова с одним корнем, различающиеся лишь противоположными по значению приставками, например: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до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лет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ере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лет</a:t>
            </a: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оз -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ы</a:t>
            </a:r>
            <a:r>
              <a:rPr b="1" lang="ru-RU" sz="2800" spc="-1" strike="noStrike">
                <a:solidFill>
                  <a:srgbClr val="ff99ff"/>
                </a:solidFill>
                <a:latin typeface="Arial"/>
              </a:rPr>
              <a:t>воз</a:t>
            </a:r>
            <a:r>
              <a:rPr b="0" lang="ru-RU" sz="2800" spc="-1" strike="noStrike">
                <a:solidFill>
                  <a:srgbClr val="ff99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01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99ff"/>
                </a:solidFill>
                <a:uFillTx/>
                <a:latin typeface="Arial"/>
              </a:rPr>
              <a:t>Закончите пословицу, подобрав антоним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Ученье свет, а неученье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Кто хочет много знать, тому надо … сп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олный колос к земле клонится -  … к небу тян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говори - больше дел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лава лежит, а худая беж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840"/>
            <a:ext cx="82296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99ff"/>
                </a:solidFill>
                <a:latin typeface="Arial"/>
              </a:rPr>
              <a:t>Подберите антонимы к значениям многозначного слова «свежий»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43280" y="5877000"/>
            <a:ext cx="374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ий хлеб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43088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71640" y="4941720"/>
            <a:ext cx="38880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газета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448632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2195640" y="4941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рубашк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3771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339640" y="508464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ий ветер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305080" y="571680"/>
            <a:ext cx="3352680" cy="42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56000" y="5084280"/>
            <a:ext cx="44654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вежая новость -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40000" y="11253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16:29:57Z</dcterms:created>
  <dc:creator>Admin</dc:creator>
  <dc:description/>
  <dc:language>en-US</dc:language>
  <cp:lastModifiedBy>Пользователь</cp:lastModifiedBy>
  <dcterms:modified xsi:type="dcterms:W3CDTF">2024-01-04T12:33:59Z</dcterms:modified>
  <cp:revision>6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080000000000010251300207f7000400038000</vt:lpwstr>
  </property>
</Properties>
</file>