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961-DD33-4F78-ADAC-DF73E9DF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A62-F397-442A-9138-EF9FE0E9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F33-1F79-47DB-BC6A-31A9752D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402-326C-453A-9DCB-FC98FE23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7D0-FAAB-4DAB-AC41-2DE8B8C1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F9A-FE05-4AF5-86B6-76641F6C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C9C5-90BE-4E06-BEA4-93617309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399-9B04-48F9-BB71-576E05B5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460-8DD9-44E9-B7BD-D318F6AC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D2D-BBF5-40F5-9C83-C3882A81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96C-D0FA-491D-8534-6CA8E86B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304-01D5-4A32-8A35-54ACCA8E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6F3268-E7BF-4C3A-9E8A-25E6B1D3259B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87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f99ff"/>
                </a:solidFill>
                <a:latin typeface="Arial"/>
              </a:rPr>
              <a:t>Антоним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568600" y="623700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Arial"/>
              </a:rPr>
              <a:t>Суханова Инна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917800" y="4869000"/>
            <a:ext cx="27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по русскому язы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627280" y="4653000"/>
            <a:ext cx="483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ая рыба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4762800" cy="34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843280" y="4724280"/>
            <a:ext cx="37447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ее яйцо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4895640" cy="36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324000" y="23004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Arial"/>
              </a:rPr>
              <a:t>Подберите антонимы к слову «сырой»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914920" y="5516640"/>
            <a:ext cx="38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Сырая морковь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967040" y="1523880"/>
            <a:ext cx="52099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842920" y="4868640"/>
            <a:ext cx="3970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ырое бельё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538520" cy="32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484360" y="5084640"/>
            <a:ext cx="38988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ырой день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264360" cy="41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73080"/>
            <a:ext cx="822960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Arial"/>
              </a:rPr>
              <a:t>Подберите антонимы к значениям многозначного слова «зелёный»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39640" y="5994000"/>
            <a:ext cx="504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щё зелёная смородина -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784836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58560" y="4797000"/>
            <a:ext cx="75610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есной листья зелёные, а осенью - 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80360" cy="29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Это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контекстуальные антонимы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. е. слова, противопоставленные в определенном контексте: Зеленая - красная (смородин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еленые – желтые (листь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нтонимы используются в образной речи для того, чтобы она звучала ярч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5876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ff99ff"/>
                </a:solidFill>
                <a:uFillTx/>
                <a:latin typeface="Arial"/>
              </a:rPr>
              <a:t>Антоним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-  греч.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anti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- против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-  греч.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onyma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- 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99ff"/>
                </a:solidFill>
                <a:uFillTx/>
                <a:latin typeface="Arial"/>
              </a:rPr>
              <a:t>Антонимы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– слова одной и той же части речи с противоположным значени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 u="sng">
                <a:solidFill>
                  <a:srgbClr val="ff99ff"/>
                </a:solidFill>
                <a:uFillTx/>
                <a:latin typeface="Arial"/>
              </a:rPr>
              <a:t>Виды антоним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азличают разнокоренные и однокоренные антонимы. Пара разнокоренных антонимов включает слова с разными корнями, например: 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день - ночь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короткий - длинный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ара однокоренных антонимов включает слова с одним корнем, различающиеся лишь противоположными по значению приставками, например: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до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лет -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ере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лет</a:t>
            </a:r>
            <a:r>
              <a:rPr b="0" lang="ru-RU" sz="2800" spc="-1" strike="noStrike">
                <a:solidFill>
                  <a:srgbClr val="ff99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воз -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ы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воз</a:t>
            </a:r>
            <a:r>
              <a:rPr b="0" lang="ru-RU" sz="2800" spc="-1" strike="noStrike">
                <a:solidFill>
                  <a:srgbClr val="ff99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0168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99ff"/>
                </a:solidFill>
                <a:uFillTx/>
                <a:latin typeface="Arial"/>
              </a:rPr>
              <a:t>Закончите пословицу, подобрав антоним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ченье свет, а неученье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то хочет много знать, тому надо … сп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лный колос к земле клонится -  … к небу тян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…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говори - больше дел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лава лежит, а худая б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840"/>
            <a:ext cx="822960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Arial"/>
              </a:rPr>
              <a:t>Подберите антонимы к значениям многозначного слова «свежий»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43280" y="5877000"/>
            <a:ext cx="3743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ий хлеб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443088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771640" y="4941720"/>
            <a:ext cx="38880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ая газета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48632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195640" y="49417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ая рубашка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3771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339640" y="5084640"/>
            <a:ext cx="5111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ий ветер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305080" y="571680"/>
            <a:ext cx="3352680" cy="42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56000" y="5084280"/>
            <a:ext cx="44654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ая новость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340000" y="1125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16:29:57Z</dcterms:created>
  <dc:creator>Admin</dc:creator>
  <dc:description/>
  <dc:language>en-US</dc:language>
  <cp:lastModifiedBy>Пользователь</cp:lastModifiedBy>
  <dcterms:modified xsi:type="dcterms:W3CDTF">2024-01-04T12:33:59Z</dcterms:modified>
  <cp:revision>6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080000000000010251300207f7000400038000</vt:lpwstr>
  </property>
</Properties>
</file>