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998-3C5A-4C26-AAD5-F06F43C0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340-74EC-4259-9E98-AFCD2BCA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BB0-DA7B-4BC6-A396-F59C2DB5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2EE-EAB6-484D-99C6-A0C5359D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C1B-0210-4EE8-BD4F-BC05B7A7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DB2-18F6-4222-AAD5-32776029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6E3-553C-4ABB-A7A4-B5310DE1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464-2DB9-436B-8D36-FC3C8693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8F6-8B55-4A31-9F73-A8BE3859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D77-DDDE-4315-9835-D2B2A61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F3A-5D64-4BEF-BD66-F8CB178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B12-CD70-4204-A13C-E799091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1CE3E-D539-43A7-8429-F5FA869FDCB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7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ff"/>
                </a:solidFill>
                <a:latin typeface="Arial"/>
              </a:rPr>
              <a:t>Антоним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568600" y="623700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</a:rPr>
              <a:t>Суханова Ин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17800" y="486900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по рус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27280" y="4653000"/>
            <a:ext cx="483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рыб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476280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43280" y="4724280"/>
            <a:ext cx="3744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ее яйцо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4895640" cy="36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324000" y="2300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слову «сырой»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914920" y="551664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ырая морков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967040" y="1523880"/>
            <a:ext cx="52099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42920" y="4868640"/>
            <a:ext cx="3970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ырое бельё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538520" cy="32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484360" y="5084640"/>
            <a:ext cx="3898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ырой день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2643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73080"/>
            <a:ext cx="82296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значениям многозначного слова «зелёны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9640" y="5994000"/>
            <a:ext cx="50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щё зелёная смородина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560" y="4797000"/>
            <a:ext cx="7561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сной листья зелёные, а осенью -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80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то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контекстуальные антонимы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. е. слова, противопоставленные в определенном контексте: Зеленая - красная (смород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еленые – желтые (листь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нтонимы используются в образной речи для того, чтобы она звучала ярч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8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ff99ff"/>
                </a:solidFill>
                <a:uFillTx/>
                <a:latin typeface="Arial"/>
              </a:rPr>
              <a:t>Антони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 греч.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anti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- проти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 греч.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onyma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-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99ff"/>
                </a:solidFill>
                <a:uFillTx/>
                <a:latin typeface="Arial"/>
              </a:rPr>
              <a:t>Антонимы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– слова одной и той же части речи с противоположным знач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ff99ff"/>
                </a:solidFill>
                <a:uFillTx/>
                <a:latin typeface="Arial"/>
              </a:rPr>
              <a:t>Виды антон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зличают разнокоренные и однокоренные антонимы. Пара разнокоренных антонимов включает слова с разными корнями, например: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день - ночь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короткий - длинный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ара однокоренных антонимов включает слова с одним корнем, различающиеся лишь противоположными по значению приставками, например: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лет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лет</a:t>
            </a: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оз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оз</a:t>
            </a: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01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99ff"/>
                </a:solidFill>
                <a:uFillTx/>
                <a:latin typeface="Arial"/>
              </a:rPr>
              <a:t>Закончите пословицу, подобрав антони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ченье свет, а неученье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хочет много знать, тому надо …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лный колос к земле клонится -  … к небу тян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овори - больш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лава лежит, а худая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840"/>
            <a:ext cx="82296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значениям многозначного слова «свежи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43280" y="5877000"/>
            <a:ext cx="374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ий хлеб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43088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71640" y="4941720"/>
            <a:ext cx="38880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газет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48632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95640" y="4941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рубашк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3771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339640" y="5084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ий ветер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05080" y="571680"/>
            <a:ext cx="335268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56000" y="5084280"/>
            <a:ext cx="4465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новость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6:29:57Z</dcterms:created>
  <dc:creator>Admin</dc:creator>
  <dc:description/>
  <dc:language>en-US</dc:language>
  <cp:lastModifiedBy>Пользователь</cp:lastModifiedBy>
  <dcterms:modified xsi:type="dcterms:W3CDTF">2024-01-04T12:33:59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80000000000010251300207f7000400038000</vt:lpwstr>
  </property>
</Properties>
</file>