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4731-8E27-4E7E-BEBF-2F3A403B52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9CC07-A922-43CA-A37A-798E1322C5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5166-CC9A-45FB-86E4-BBC58C96C0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7CBA-68A4-4E61-8A25-C3769722E3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A300-16C5-4A1A-A551-7EA988EAE0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466A-6182-45D9-A6EF-4C9F30EF18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DDDF-5121-479B-9060-75F036E541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42FED-886D-4EFD-BA9E-136186DFC7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FA09-C110-40E8-9ED5-D17607282A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FDCE-0904-47EE-87B7-817E138D59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7FA2-64B4-4635-91D9-96541E9189A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B15D-79B8-4907-8111-EFA712DCFAE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010F-B41B-4A9C-8D99-9D06A5126D8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1F6A-3544-4E3F-B55E-5B70BC8F208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FA43-508B-4393-A540-3A452B7504F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FE81-F229-441A-A729-798DC1317CC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AAD5-5041-424F-A396-B9AA44A5956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DE7-91CA-4906-B8A2-7BDC8AFE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3C2-E8F8-420D-8396-0F08EF24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215-51BC-4565-88BC-2996842E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EA7-3F21-47DB-8E3E-D288904F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CC6-038C-466E-884A-07F10979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F8B-40EB-4647-A21B-80003F3B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581-D939-44D7-91FC-E532EA72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E7CE-3A08-4619-AA79-661C5489F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3B06-7B70-4511-89E3-65EF5CE2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5F4-352F-4B9D-9859-C946CA30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1ED-D7D7-42D2-B9C1-F7787603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CE7-95AA-4813-9FDA-EDE54760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A53F-B582-4E47-92E0-52485C7D0E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2124000" y="2276640"/>
            <a:ext cx="669600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ПИСЬ  ВСПОМОГАТЕЛЬНЫХ  АЛГОРИТМОВ  НА ЯЗЫКЕ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ИЗАЦИЯ  И ПРОГРАМ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2098800" y="515772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читель: Сойникова Екатерина Дмитрие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МКОУ «Новоспасская СОШ» Золотухинского района Ку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811080" y="2781360"/>
            <a:ext cx="7921800" cy="192276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igit(d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d *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input(‘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цифру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(input(‘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длину строки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x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611280" y="1125360"/>
            <a:ext cx="832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означим переменных, значения которых мы вводим с клавиатуры, не обязательно должно совпадать с обозначением параметров процедуры. Мы могли назвать их любыми другими именами, например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611280" y="1125360"/>
            <a:ext cx="83217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ременные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 эт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локальные переменны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; они определены и используются только внутри процедур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igit()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бращаться к ним все этой процедуры нельзя. Как только работа процедуры будет закончена, все ее локальные переменные удалятся из памя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тех случаях, когда значение переменной, полученное в подпрограмме, должно быть использовано в основной программе, эту переменную следует объявить как глобальну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11280" y="1125360"/>
            <a:ext cx="832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мер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Хорошо известный алгоритм Евклида для нахождения наибольшего общего делителя (НОД) двух чисел в виде процедуры можно описать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525600" y="4800600"/>
            <a:ext cx="8321400" cy="131364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Модифицированный алгоритм Евклида для натуральных чисел: заменять бóльшее из двух заданных чисел на остаток от деления бóльшего на меньшее, пока этот остаток не станет равен нулю. Тогда второе число и есть их Н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6"/>
          <p:cNvSpPr/>
          <p:nvPr/>
        </p:nvSpPr>
        <p:spPr>
          <a:xfrm>
            <a:off x="900000" y="2492280"/>
            <a:ext cx="56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 (a,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!=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 –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b -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320760" y="6005520"/>
            <a:ext cx="88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естируйте программу на последовательности из шести чисел: 16, 32, 40, 64, 80 и 12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574560" y="749160"/>
            <a:ext cx="832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дача поиска НОД для последовательности натуральных чисел, количества членов которой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водится с клавиатуры, может быть решена с помощью следующей програм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Группа 2"/>
          <p:cNvGrpSpPr/>
          <p:nvPr/>
        </p:nvGrpSpPr>
        <p:grpSpPr>
          <a:xfrm>
            <a:off x="633240" y="1857240"/>
            <a:ext cx="8263080" cy="4167360"/>
            <a:chOff x="633240" y="1857240"/>
            <a:chExt cx="8263080" cy="4167360"/>
          </a:xfrm>
        </p:grpSpPr>
        <p:grpSp>
          <p:nvGrpSpPr>
            <p:cNvPr id="95" name="Группа 3"/>
            <p:cNvGrpSpPr/>
            <p:nvPr/>
          </p:nvGrpSpPr>
          <p:grpSpPr>
            <a:xfrm>
              <a:off x="633240" y="1872720"/>
              <a:ext cx="8263080" cy="4151880"/>
              <a:chOff x="633240" y="1872720"/>
              <a:chExt cx="8263080" cy="4151880"/>
            </a:xfrm>
          </p:grpSpPr>
          <p:grpSp>
            <p:nvGrpSpPr>
              <p:cNvPr id="96" name="Группа 4"/>
              <p:cNvGrpSpPr/>
              <p:nvPr/>
            </p:nvGrpSpPr>
            <p:grpSpPr>
              <a:xfrm>
                <a:off x="718920" y="1872720"/>
                <a:ext cx="8177400" cy="3889440"/>
                <a:chOff x="718920" y="1872720"/>
                <a:chExt cx="8177400" cy="3889440"/>
              </a:xfrm>
            </p:grpSpPr>
            <p:grpSp>
              <p:nvGrpSpPr>
                <p:cNvPr id="97" name="Группа 35"/>
                <p:cNvGrpSpPr/>
                <p:nvPr/>
              </p:nvGrpSpPr>
              <p:grpSpPr>
                <a:xfrm>
                  <a:off x="5063760" y="1872720"/>
                  <a:ext cx="3832560" cy="3889440"/>
                  <a:chOff x="5063760" y="1872720"/>
                  <a:chExt cx="3832560" cy="3889440"/>
                </a:xfrm>
              </p:grpSpPr>
              <p:sp>
                <p:nvSpPr>
                  <p:cNvPr id="98" name="TextBox 39"/>
                  <p:cNvSpPr/>
                  <p:nvPr/>
                </p:nvSpPr>
                <p:spPr>
                  <a:xfrm>
                    <a:off x="5220720" y="1879560"/>
                    <a:ext cx="3675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Подпрограмм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Прямая соединительная линия 29"/>
                  <p:cNvSpPr/>
                  <p:nvPr/>
                </p:nvSpPr>
                <p:spPr>
                  <a:xfrm flipH="1" flipV="1">
                    <a:off x="5063760" y="1872720"/>
                    <a:ext cx="36360" cy="38894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" name="Прямая соединительная линия 16"/>
                <p:cNvSpPr/>
                <p:nvPr/>
              </p:nvSpPr>
              <p:spPr>
                <a:xfrm>
                  <a:off x="718920" y="4283280"/>
                  <a:ext cx="8077680" cy="1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Прямоугольник 1"/>
              <p:cNvSpPr/>
              <p:nvPr/>
            </p:nvSpPr>
            <p:spPr>
              <a:xfrm>
                <a:off x="633240" y="4284720"/>
                <a:ext cx="446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k = int(input(‘k=’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x = int(input(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for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range (1,k)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y = int(input(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nod(x,y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rint(‘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НОД=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’,x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Box 48"/>
              <p:cNvSpPr/>
              <p:nvPr/>
            </p:nvSpPr>
            <p:spPr>
              <a:xfrm>
                <a:off x="5236560" y="4466520"/>
                <a:ext cx="244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Основная програм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Box 36"/>
            <p:cNvSpPr/>
            <p:nvPr/>
          </p:nvSpPr>
          <p:spPr>
            <a:xfrm>
              <a:off x="633240" y="1857240"/>
              <a:ext cx="56199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f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nod (a,b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lobal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whi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a!=b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f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a &gt; b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 = a –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s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b = b -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 =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имеры основной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"/>
          <p:cNvSpPr/>
          <p:nvPr/>
        </p:nvSpPr>
        <p:spPr>
          <a:xfrm>
            <a:off x="826920" y="1432080"/>
            <a:ext cx="446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[16, 32, 40, 64, 80, 128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m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 (1, 6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m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d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‘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НОД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‘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695160" y="3284640"/>
            <a:ext cx="7988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мените программу так, чтобы с ее помощью можно было най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) наибольший общий делитель для следующих пяти чисел: 12, 24, 30, 48 и 5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) наибольший общий делитель произвольных десяти целых двузначн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5300640" y="1989000"/>
            <a:ext cx="31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масс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619200" y="907920"/>
            <a:ext cx="798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) наибольший общий делитель для следующих пяти чисел: 12, 24, 30, 48 и 5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"/>
          <p:cNvSpPr/>
          <p:nvPr/>
        </p:nvSpPr>
        <p:spPr>
          <a:xfrm>
            <a:off x="1403280" y="170028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 (a,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!=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b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[12, 24, 30, 48, 5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m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 (1, 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m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d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'НОД='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987800" y="3789360"/>
            <a:ext cx="414828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987800" y="3789360"/>
            <a:ext cx="4148280" cy="28670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611280" y="6922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) наибольший общий делитель произвольных десяти целых двузначны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1403280" y="122544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 (a,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!=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a-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b-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=[0]*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om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d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 (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randint(0,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A = [',i,'] = ',A[i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A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 (1, 10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A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d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'НОД=',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2"/>
          <p:cNvSpPr/>
          <p:nvPr/>
        </p:nvSpPr>
        <p:spPr>
          <a:xfrm>
            <a:off x="555120" y="920880"/>
            <a:ext cx="804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им программу, которая выводит все про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ножители произвольного натурального числа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&gt;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число простое, то выводится оно сам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Группа 7"/>
          <p:cNvGrpSpPr/>
          <p:nvPr/>
        </p:nvGrpSpPr>
        <p:grpSpPr>
          <a:xfrm>
            <a:off x="611280" y="2181240"/>
            <a:ext cx="8262720" cy="3122280"/>
            <a:chOff x="611280" y="2181240"/>
            <a:chExt cx="8262720" cy="3122280"/>
          </a:xfrm>
        </p:grpSpPr>
        <p:grpSp>
          <p:nvGrpSpPr>
            <p:cNvPr id="119" name="Группа 8"/>
            <p:cNvGrpSpPr/>
            <p:nvPr/>
          </p:nvGrpSpPr>
          <p:grpSpPr>
            <a:xfrm>
              <a:off x="783720" y="2203920"/>
              <a:ext cx="8090280" cy="3099600"/>
              <a:chOff x="783720" y="2203920"/>
              <a:chExt cx="8090280" cy="3099600"/>
            </a:xfrm>
          </p:grpSpPr>
          <p:grpSp>
            <p:nvGrpSpPr>
              <p:cNvPr id="120" name="Группа 4"/>
              <p:cNvGrpSpPr/>
              <p:nvPr/>
            </p:nvGrpSpPr>
            <p:grpSpPr>
              <a:xfrm>
                <a:off x="783720" y="2203920"/>
                <a:ext cx="8090280" cy="3099600"/>
                <a:chOff x="783720" y="2203920"/>
                <a:chExt cx="8090280" cy="3099600"/>
              </a:xfrm>
            </p:grpSpPr>
            <p:grpSp>
              <p:nvGrpSpPr>
                <p:cNvPr id="121" name="Группа 35"/>
                <p:cNvGrpSpPr/>
                <p:nvPr/>
              </p:nvGrpSpPr>
              <p:grpSpPr>
                <a:xfrm>
                  <a:off x="5067720" y="2203920"/>
                  <a:ext cx="3806280" cy="3099600"/>
                  <a:chOff x="5067720" y="2203920"/>
                  <a:chExt cx="3806280" cy="3099600"/>
                </a:xfrm>
              </p:grpSpPr>
              <p:sp>
                <p:nvSpPr>
                  <p:cNvPr id="122" name="TextBox 39"/>
                  <p:cNvSpPr/>
                  <p:nvPr/>
                </p:nvSpPr>
                <p:spPr>
                  <a:xfrm>
                    <a:off x="5194440" y="2203920"/>
                    <a:ext cx="3679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8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Подпрограмма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Прямая соединительная линия 16"/>
                  <p:cNvSpPr/>
                  <p:nvPr/>
                </p:nvSpPr>
                <p:spPr>
                  <a:xfrm flipV="1">
                    <a:off x="5067720" y="2204280"/>
                    <a:ext cx="12600" cy="3099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Прямая соединительная линия 14"/>
                <p:cNvSpPr/>
                <p:nvPr/>
              </p:nvSpPr>
              <p:spPr>
                <a:xfrm>
                  <a:off x="783720" y="3983040"/>
                  <a:ext cx="8077680" cy="14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" name="Прямоугольник 1"/>
              <p:cNvSpPr/>
              <p:nvPr/>
            </p:nvSpPr>
            <p:spPr>
              <a:xfrm>
                <a:off x="783720" y="4103280"/>
                <a:ext cx="446724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 = int(input(‘a = ‘)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whi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 &gt; 1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ppd(a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a = a / 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Box 48"/>
              <p:cNvSpPr/>
              <p:nvPr/>
            </p:nvSpPr>
            <p:spPr>
              <a:xfrm>
                <a:off x="5185440" y="4062600"/>
                <a:ext cx="2442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Основная програм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Box 36"/>
            <p:cNvSpPr/>
            <p:nvPr/>
          </p:nvSpPr>
          <p:spPr>
            <a:xfrm>
              <a:off x="611280" y="2181240"/>
              <a:ext cx="5619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f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ppd (n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lobal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while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n % d &gt; 0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 = d +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rint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20"/>
          <p:cNvSpPr/>
          <p:nvPr/>
        </p:nvSpPr>
        <p:spPr>
          <a:xfrm>
            <a:off x="619200" y="5278320"/>
            <a:ext cx="798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тестируйте программу на числах 121, 135 и 847. В результате ее выполнения вы должны получить соответствующие наборы чисел, записанных в столбик: 11, 11; 3, 3, 3, 7, 11, 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443880" y="750960"/>
            <a:ext cx="83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анная блок-схема на основе данного алгорит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2"/>
          <p:cNvGrpSpPr/>
          <p:nvPr/>
        </p:nvGrpSpPr>
        <p:grpSpPr>
          <a:xfrm>
            <a:off x="5219280" y="1341360"/>
            <a:ext cx="3213360" cy="5442120"/>
            <a:chOff x="5219280" y="1341360"/>
            <a:chExt cx="3213360" cy="5442120"/>
          </a:xfrm>
        </p:grpSpPr>
        <p:sp>
          <p:nvSpPr>
            <p:cNvPr id="132" name="Line 489"/>
            <p:cNvSpPr/>
            <p:nvPr/>
          </p:nvSpPr>
          <p:spPr>
            <a:xfrm flipH="1">
              <a:off x="5219280" y="3283560"/>
              <a:ext cx="360" cy="1977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490"/>
            <p:cNvSpPr/>
            <p:nvPr/>
          </p:nvSpPr>
          <p:spPr>
            <a:xfrm>
              <a:off x="6868440" y="1701720"/>
              <a:ext cx="0" cy="93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491"/>
            <p:cNvSpPr/>
            <p:nvPr/>
          </p:nvSpPr>
          <p:spPr>
            <a:xfrm>
              <a:off x="6220440" y="1341360"/>
              <a:ext cx="1368720" cy="3650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496"/>
            <p:cNvSpPr/>
            <p:nvPr/>
          </p:nvSpPr>
          <p:spPr>
            <a:xfrm>
              <a:off x="6148800" y="1917360"/>
              <a:ext cx="143712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98"/>
            <p:cNvSpPr/>
            <p:nvPr/>
          </p:nvSpPr>
          <p:spPr>
            <a:xfrm>
              <a:off x="6177600" y="2624400"/>
              <a:ext cx="1441800" cy="433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: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499"/>
            <p:cNvSpPr/>
            <p:nvPr/>
          </p:nvSpPr>
          <p:spPr>
            <a:xfrm>
              <a:off x="6307560" y="6418440"/>
              <a:ext cx="1368720" cy="3650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оне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511"/>
            <p:cNvSpPr/>
            <p:nvPr/>
          </p:nvSpPr>
          <p:spPr>
            <a:xfrm>
              <a:off x="5220000" y="3285360"/>
              <a:ext cx="164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Группа 1"/>
            <p:cNvGrpSpPr/>
            <p:nvPr/>
          </p:nvGrpSpPr>
          <p:grpSpPr>
            <a:xfrm>
              <a:off x="5219640" y="3057480"/>
              <a:ext cx="3213000" cy="3095640"/>
              <a:chOff x="5219640" y="3057480"/>
              <a:chExt cx="3213000" cy="3095640"/>
            </a:xfrm>
          </p:grpSpPr>
          <p:sp>
            <p:nvSpPr>
              <p:cNvPr id="140" name="Line 488"/>
              <p:cNvSpPr/>
              <p:nvPr/>
            </p:nvSpPr>
            <p:spPr>
              <a:xfrm>
                <a:off x="5219640" y="5260320"/>
                <a:ext cx="167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492"/>
              <p:cNvSpPr/>
              <p:nvPr/>
            </p:nvSpPr>
            <p:spPr>
              <a:xfrm>
                <a:off x="6239160" y="5721480"/>
                <a:ext cx="1437120" cy="431640"/>
              </a:xfrm>
              <a:prstGeom prst="flowChartInputOutput">
                <a:avLst/>
              </a:prstGeom>
              <a:solidFill>
                <a:srgbClr val="ffffff"/>
              </a:solidFill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 Box 493"/>
              <p:cNvSpPr/>
              <p:nvPr/>
            </p:nvSpPr>
            <p:spPr>
              <a:xfrm>
                <a:off x="6941520" y="4195800"/>
                <a:ext cx="5032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500"/>
              <p:cNvSpPr/>
              <p:nvPr/>
            </p:nvSpPr>
            <p:spPr>
              <a:xfrm>
                <a:off x="5901840" y="3459960"/>
                <a:ext cx="1937160" cy="718920"/>
              </a:xfrm>
              <a:prstGeom prst="flowChartDecision">
                <a:avLst/>
              </a:prstGeom>
              <a:solidFill>
                <a:srgbClr val="ffffff"/>
              </a:solidFill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n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od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d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gt; 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502"/>
              <p:cNvSpPr/>
              <p:nvPr/>
            </p:nvSpPr>
            <p:spPr>
              <a:xfrm>
                <a:off x="6876360" y="3057480"/>
                <a:ext cx="0" cy="402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03"/>
              <p:cNvSpPr/>
              <p:nvPr/>
            </p:nvSpPr>
            <p:spPr>
              <a:xfrm>
                <a:off x="6876360" y="4179240"/>
                <a:ext cx="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505"/>
              <p:cNvSpPr/>
              <p:nvPr/>
            </p:nvSpPr>
            <p:spPr>
              <a:xfrm>
                <a:off x="8431920" y="3819600"/>
                <a:ext cx="720" cy="161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06"/>
              <p:cNvSpPr/>
              <p:nvPr/>
            </p:nvSpPr>
            <p:spPr>
              <a:xfrm>
                <a:off x="7856280" y="3819600"/>
                <a:ext cx="5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07"/>
              <p:cNvSpPr/>
              <p:nvPr/>
            </p:nvSpPr>
            <p:spPr>
              <a:xfrm>
                <a:off x="6899400" y="4899960"/>
                <a:ext cx="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08"/>
              <p:cNvSpPr/>
              <p:nvPr/>
            </p:nvSpPr>
            <p:spPr>
              <a:xfrm>
                <a:off x="6921000" y="5434200"/>
                <a:ext cx="151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12"/>
              <p:cNvSpPr/>
              <p:nvPr/>
            </p:nvSpPr>
            <p:spPr>
              <a:xfrm>
                <a:off x="6941520" y="543420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514"/>
              <p:cNvSpPr/>
              <p:nvPr/>
            </p:nvSpPr>
            <p:spPr>
              <a:xfrm>
                <a:off x="7856280" y="3489120"/>
                <a:ext cx="5032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не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Line 515"/>
            <p:cNvSpPr/>
            <p:nvPr/>
          </p:nvSpPr>
          <p:spPr>
            <a:xfrm>
              <a:off x="6941520" y="615348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98"/>
            <p:cNvSpPr/>
            <p:nvPr/>
          </p:nvSpPr>
          <p:spPr>
            <a:xfrm>
              <a:off x="6144120" y="4466880"/>
              <a:ext cx="1441800" cy="433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2"/>
          <p:cNvSpPr/>
          <p:nvPr/>
        </p:nvSpPr>
        <p:spPr>
          <a:xfrm>
            <a:off x="731880" y="2336760"/>
            <a:ext cx="4371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десь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туральное число, большее 1. Его первый прост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елитель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ится перебором всех возможных делителей, начиная с 2 – наименьшего простого числа. Если сам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кажется простым числом, то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удет присвоено значение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3"/>
          <p:cNvSpPr/>
          <p:nvPr/>
        </p:nvSpPr>
        <p:spPr>
          <a:xfrm>
            <a:off x="539640" y="1487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Алгоритм нахождения первого простого дел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541440" y="1098720"/>
            <a:ext cx="533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Вспомогательный алгоритм при решении задачи разложения натурального числа на простые множ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Группа 1"/>
          <p:cNvGrpSpPr/>
          <p:nvPr/>
        </p:nvGrpSpPr>
        <p:grpSpPr>
          <a:xfrm>
            <a:off x="5301720" y="1339920"/>
            <a:ext cx="3213720" cy="4743360"/>
            <a:chOff x="5301720" y="1339920"/>
            <a:chExt cx="3213720" cy="4743360"/>
          </a:xfrm>
        </p:grpSpPr>
        <p:sp>
          <p:nvSpPr>
            <p:cNvPr id="159" name="Line 512"/>
            <p:cNvSpPr/>
            <p:nvPr/>
          </p:nvSpPr>
          <p:spPr>
            <a:xfrm>
              <a:off x="6943680" y="170640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491"/>
            <p:cNvSpPr/>
            <p:nvPr/>
          </p:nvSpPr>
          <p:spPr>
            <a:xfrm>
              <a:off x="6234120" y="1339920"/>
              <a:ext cx="1368360" cy="365040"/>
            </a:xfrm>
            <a:prstGeom prst="flowChartTerminator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чал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496"/>
            <p:cNvSpPr/>
            <p:nvPr/>
          </p:nvSpPr>
          <p:spPr>
            <a:xfrm>
              <a:off x="6190920" y="1925640"/>
              <a:ext cx="1436760" cy="431640"/>
            </a:xfrm>
            <a:prstGeom prst="flowChartInputOutput">
              <a:avLst/>
            </a:prstGeom>
            <a:solidFill>
              <a:srgbClr val="ffffff"/>
            </a:solidFill>
            <a:ln w="38160">
              <a:solidFill>
                <a:srgbClr val="018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Группа 3"/>
            <p:cNvGrpSpPr/>
            <p:nvPr/>
          </p:nvGrpSpPr>
          <p:grpSpPr>
            <a:xfrm>
              <a:off x="5301720" y="2357280"/>
              <a:ext cx="3213720" cy="3726000"/>
              <a:chOff x="5301720" y="2357280"/>
              <a:chExt cx="3213720" cy="3726000"/>
            </a:xfrm>
          </p:grpSpPr>
          <p:sp>
            <p:nvSpPr>
              <p:cNvPr id="163" name="Line 489"/>
              <p:cNvSpPr/>
              <p:nvPr/>
            </p:nvSpPr>
            <p:spPr>
              <a:xfrm flipH="1">
                <a:off x="5301720" y="2582280"/>
                <a:ext cx="360" cy="220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499"/>
              <p:cNvSpPr/>
              <p:nvPr/>
            </p:nvSpPr>
            <p:spPr>
              <a:xfrm>
                <a:off x="6390000" y="5718240"/>
                <a:ext cx="1369080" cy="365040"/>
              </a:xfrm>
              <a:prstGeom prst="flowChartTerminator">
                <a:avLst/>
              </a:prstGeom>
              <a:solidFill>
                <a:srgbClr val="ffffff"/>
              </a:solidFill>
              <a:ln w="38160">
                <a:solidFill>
                  <a:srgbClr val="018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онец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511"/>
              <p:cNvSpPr/>
              <p:nvPr/>
            </p:nvSpPr>
            <p:spPr>
              <a:xfrm>
                <a:off x="5302440" y="2584800"/>
                <a:ext cx="164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Группа 51"/>
              <p:cNvGrpSpPr/>
              <p:nvPr/>
            </p:nvGrpSpPr>
            <p:grpSpPr>
              <a:xfrm>
                <a:off x="5302080" y="2357280"/>
                <a:ext cx="3213360" cy="3066840"/>
                <a:chOff x="5302080" y="2357280"/>
                <a:chExt cx="3213360" cy="3066840"/>
              </a:xfrm>
            </p:grpSpPr>
            <p:sp>
              <p:nvSpPr>
                <p:cNvPr id="167" name="Line 488"/>
                <p:cNvSpPr/>
                <p:nvPr/>
              </p:nvSpPr>
              <p:spPr>
                <a:xfrm>
                  <a:off x="5302080" y="4788360"/>
                  <a:ext cx="917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Text Box 493"/>
                <p:cNvSpPr/>
                <p:nvPr/>
              </p:nvSpPr>
              <p:spPr>
                <a:xfrm>
                  <a:off x="7023960" y="3495960"/>
                  <a:ext cx="503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д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500"/>
                <p:cNvSpPr/>
                <p:nvPr/>
              </p:nvSpPr>
              <p:spPr>
                <a:xfrm>
                  <a:off x="5984280" y="2760120"/>
                  <a:ext cx="1937520" cy="719280"/>
                </a:xfrm>
                <a:prstGeom prst="flowChartDecision">
                  <a:avLst/>
                </a:prstGeom>
                <a:solidFill>
                  <a:srgbClr val="ffffff"/>
                </a:solidFill>
                <a:ln w="38160">
                  <a:solidFill>
                    <a:srgbClr val="018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</a:t>
                  </a:r>
                  <a:r>
                    <a:rPr b="0" i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d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&gt; 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502"/>
                <p:cNvSpPr/>
                <p:nvPr/>
              </p:nvSpPr>
              <p:spPr>
                <a:xfrm>
                  <a:off x="6959160" y="2357280"/>
                  <a:ext cx="0" cy="402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503"/>
                <p:cNvSpPr/>
                <p:nvPr/>
              </p:nvSpPr>
              <p:spPr>
                <a:xfrm>
                  <a:off x="6959160" y="3479400"/>
                  <a:ext cx="0" cy="64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505"/>
                <p:cNvSpPr/>
                <p:nvPr/>
              </p:nvSpPr>
              <p:spPr>
                <a:xfrm>
                  <a:off x="8514720" y="3119760"/>
                  <a:ext cx="720" cy="2304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506"/>
                <p:cNvSpPr/>
                <p:nvPr/>
              </p:nvSpPr>
              <p:spPr>
                <a:xfrm>
                  <a:off x="7939080" y="3119760"/>
                  <a:ext cx="576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507"/>
                <p:cNvSpPr/>
                <p:nvPr/>
              </p:nvSpPr>
              <p:spPr>
                <a:xfrm>
                  <a:off x="6981840" y="4200120"/>
                  <a:ext cx="0" cy="360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508"/>
                <p:cNvSpPr/>
                <p:nvPr/>
              </p:nvSpPr>
              <p:spPr>
                <a:xfrm>
                  <a:off x="7003440" y="5424120"/>
                  <a:ext cx="1511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514"/>
                <p:cNvSpPr/>
                <p:nvPr/>
              </p:nvSpPr>
              <p:spPr>
                <a:xfrm>
                  <a:off x="7939080" y="2788920"/>
                  <a:ext cx="5032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нет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Line 515"/>
              <p:cNvSpPr/>
              <p:nvPr/>
            </p:nvSpPr>
            <p:spPr>
              <a:xfrm>
                <a:off x="7023960" y="5453280"/>
                <a:ext cx="0" cy="28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AutoShape 495"/>
            <p:cNvSpPr/>
            <p:nvPr/>
          </p:nvSpPr>
          <p:spPr>
            <a:xfrm>
              <a:off x="6099120" y="3781440"/>
              <a:ext cx="1765440" cy="573120"/>
            </a:xfrm>
            <a:prstGeom prst="flowChartPredefinedProcess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pd (a, p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498"/>
            <p:cNvSpPr/>
            <p:nvPr/>
          </p:nvSpPr>
          <p:spPr>
            <a:xfrm>
              <a:off x="6238800" y="4554720"/>
              <a:ext cx="1441440" cy="433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:=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/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2"/>
          <p:cNvSpPr/>
          <p:nvPr/>
        </p:nvSpPr>
        <p:spPr>
          <a:xfrm>
            <a:off x="731880" y="2336760"/>
            <a:ext cx="4371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спомогательный алгоритм нахождения первого простого делителя для некоторого числа мы назвали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p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Его формальными параметрами являются переменные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 фактическими 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курсивная фу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357120" y="260280"/>
            <a:ext cx="8786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Схема вызова вспомогательного алгорит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2"/>
          <p:cNvGrpSpPr/>
          <p:nvPr/>
        </p:nvGrpSpPr>
        <p:grpSpPr>
          <a:xfrm>
            <a:off x="2195640" y="1389240"/>
            <a:ext cx="5616360" cy="4897440"/>
            <a:chOff x="2195640" y="1389240"/>
            <a:chExt cx="5616360" cy="4897440"/>
          </a:xfrm>
        </p:grpSpPr>
        <p:sp>
          <p:nvSpPr>
            <p:cNvPr id="183" name="Rectangle 23"/>
            <p:cNvSpPr/>
            <p:nvPr/>
          </p:nvSpPr>
          <p:spPr>
            <a:xfrm>
              <a:off x="2482560" y="1389240"/>
              <a:ext cx="4536720" cy="230364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сновно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24"/>
            <p:cNvSpPr/>
            <p:nvPr/>
          </p:nvSpPr>
          <p:spPr>
            <a:xfrm>
              <a:off x="2771640" y="2109960"/>
              <a:ext cx="3816000" cy="1225440"/>
            </a:xfrm>
            <a:prstGeom prst="flowChartPredefined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мя вспомогательног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лгоритма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спис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актических параметров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25"/>
            <p:cNvSpPr/>
            <p:nvPr/>
          </p:nvSpPr>
          <p:spPr>
            <a:xfrm>
              <a:off x="2500200" y="4480200"/>
              <a:ext cx="4608000" cy="1584360"/>
            </a:xfrm>
            <a:prstGeom prst="rect">
              <a:avLst/>
            </a:prstGeom>
            <a:solidFill>
              <a:srgbClr val="d1e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спомогательный алгорит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ормальные аргумен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6"/>
            <p:cNvSpPr/>
            <p:nvPr/>
          </p:nvSpPr>
          <p:spPr>
            <a:xfrm>
              <a:off x="4714560" y="18939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>
              <a:off x="4714560" y="297504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8"/>
            <p:cNvSpPr/>
            <p:nvPr/>
          </p:nvSpPr>
          <p:spPr>
            <a:xfrm>
              <a:off x="4714560" y="326268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9"/>
            <p:cNvSpPr/>
            <p:nvPr/>
          </p:nvSpPr>
          <p:spPr>
            <a:xfrm>
              <a:off x="4714560" y="311796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0"/>
            <p:cNvSpPr/>
            <p:nvPr/>
          </p:nvSpPr>
          <p:spPr>
            <a:xfrm>
              <a:off x="4714560" y="3262680"/>
              <a:ext cx="25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1"/>
            <p:cNvSpPr/>
            <p:nvPr/>
          </p:nvSpPr>
          <p:spPr>
            <a:xfrm>
              <a:off x="2195640" y="3910320"/>
              <a:ext cx="511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32"/>
            <p:cNvSpPr/>
            <p:nvPr/>
          </p:nvSpPr>
          <p:spPr>
            <a:xfrm>
              <a:off x="4714560" y="4197600"/>
              <a:ext cx="309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33"/>
            <p:cNvSpPr/>
            <p:nvPr/>
          </p:nvSpPr>
          <p:spPr>
            <a:xfrm>
              <a:off x="4714560" y="41976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34"/>
            <p:cNvSpPr/>
            <p:nvPr/>
          </p:nvSpPr>
          <p:spPr>
            <a:xfrm>
              <a:off x="7307280" y="326268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35"/>
            <p:cNvSpPr/>
            <p:nvPr/>
          </p:nvSpPr>
          <p:spPr>
            <a:xfrm>
              <a:off x="7812000" y="311796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6"/>
            <p:cNvSpPr/>
            <p:nvPr/>
          </p:nvSpPr>
          <p:spPr>
            <a:xfrm>
              <a:off x="2195640" y="391032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7"/>
            <p:cNvSpPr/>
            <p:nvPr/>
          </p:nvSpPr>
          <p:spPr>
            <a:xfrm>
              <a:off x="2195640" y="6286680"/>
              <a:ext cx="25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38"/>
            <p:cNvSpPr/>
            <p:nvPr/>
          </p:nvSpPr>
          <p:spPr>
            <a:xfrm>
              <a:off x="4787640" y="60706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"/>
          <p:cNvSpPr/>
          <p:nvPr/>
        </p:nvSpPr>
        <p:spPr>
          <a:xfrm>
            <a:off x="611280" y="692280"/>
            <a:ext cx="8208720" cy="86508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642960" y="714240"/>
            <a:ext cx="817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ункц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– подпрограмма, имеющая единственный результат, записываемый в ячейку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380880" y="3965400"/>
            <a:ext cx="842508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начинается со служебного слова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 После этого записывается имя функции, скобки и двоеточие. Операторы, которые входят в тело функции, записывается с отступом. После оператор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tur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записывается результат, который возвращает функ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язык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ytho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сть встроенная функция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вычисляющая максимальное знач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576360" y="16844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отличие от процедуры, функция не только выполняет какие-то команды, но возвращает результат в виде числа, символьной строки ил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2"/>
          <p:cNvSpPr/>
          <p:nvPr/>
        </p:nvSpPr>
        <p:spPr>
          <a:xfrm>
            <a:off x="592200" y="240516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функции имеет ви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3"/>
          <p:cNvSpPr/>
          <p:nvPr/>
        </p:nvSpPr>
        <p:spPr>
          <a:xfrm>
            <a:off x="2538360" y="2908440"/>
            <a:ext cx="4572000" cy="91692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имя функции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ператоры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результа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401760" y="765000"/>
            <a:ext cx="84232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язык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ytho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сть встроенная функция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вычисляющая максимальное значен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8"/>
          <p:cNvSpPr/>
          <p:nvPr/>
        </p:nvSpPr>
        <p:spPr>
          <a:xfrm>
            <a:off x="3348000" y="1609560"/>
            <a:ext cx="3384720" cy="192348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401760" y="3681360"/>
            <a:ext cx="842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функции можно сразу вывести на экран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1"/>
          <p:cNvSpPr/>
          <p:nvPr/>
        </p:nvSpPr>
        <p:spPr>
          <a:xfrm>
            <a:off x="3351240" y="4197240"/>
            <a:ext cx="3384360" cy="39888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(max(6,8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401760" y="4610160"/>
            <a:ext cx="84232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акже мы можем присвоить результат работы функции любой глобальной переменн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5"/>
          <p:cNvSpPr/>
          <p:nvPr/>
        </p:nvSpPr>
        <p:spPr>
          <a:xfrm>
            <a:off x="3348000" y="5305320"/>
            <a:ext cx="3384720" cy="39888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max(6,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401760" y="5773680"/>
            <a:ext cx="84232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дна функция может вызвать другу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401760" y="765000"/>
            <a:ext cx="842328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пишем программу нахождения максимального из четырех целых чисел, использующую функцию поиска максимального из двух чисе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8"/>
          <p:cNvSpPr/>
          <p:nvPr/>
        </p:nvSpPr>
        <p:spPr>
          <a:xfrm>
            <a:off x="1908000" y="1779480"/>
            <a:ext cx="6372360" cy="283824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, d = map(int,input().split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 = max(max(a, b),max(c, d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f = ’,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"/>
          <p:cNvSpPr/>
          <p:nvPr/>
        </p:nvSpPr>
        <p:spPr>
          <a:xfrm>
            <a:off x="576360" y="5342040"/>
            <a:ext cx="85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мените программу так, чтобы с ее помощью можно было най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) максимальное из чисе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,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) максимальное из чисе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, c,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) минимальное из четырех чисе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) разность максимального и минимального из четыре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3"/>
          <p:cNvSpPr/>
          <p:nvPr/>
        </p:nvSpPr>
        <p:spPr>
          <a:xfrm>
            <a:off x="611280" y="46958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, d = map(int,input().split())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вод строковых величин, разделенных проб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"/>
          <p:cNvSpPr/>
          <p:nvPr/>
        </p:nvSpPr>
        <p:spPr>
          <a:xfrm>
            <a:off x="611280" y="76500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мените программу так, чтобы с ее помощью можно было най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) максимальное из чисе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826920" y="1411200"/>
            <a:ext cx="60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(a, 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 = map(int,input().split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 = max(max(a, b),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f = ',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"/>
          <p:cNvSpPr/>
          <p:nvPr/>
        </p:nvSpPr>
        <p:spPr>
          <a:xfrm>
            <a:off x="696240" y="3962520"/>
            <a:ext cx="37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) максимальное из чисе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, c, 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826920" y="4272120"/>
            <a:ext cx="608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(a, 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, c, d = map(int,input().split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 = max(max(b,c)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f = ',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5595840" y="4272120"/>
            <a:ext cx="3548160" cy="2454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5"/>
          <p:cNvSpPr/>
          <p:nvPr/>
        </p:nvSpPr>
        <p:spPr>
          <a:xfrm>
            <a:off x="693360" y="646200"/>
            <a:ext cx="39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) минимальное из четырех чисе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6"/>
          <p:cNvSpPr/>
          <p:nvPr/>
        </p:nvSpPr>
        <p:spPr>
          <a:xfrm>
            <a:off x="836640" y="998640"/>
            <a:ext cx="6399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(a, 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l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, d = map(int,input().split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 = min(min(a,b),min(c,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f = ',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211640" y="3529080"/>
            <a:ext cx="448776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441680" y="1197000"/>
            <a:ext cx="4486320" cy="310212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539640" y="609480"/>
            <a:ext cx="718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) разность максимального и минимального из четыре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1023840" y="1176480"/>
            <a:ext cx="7871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(a, 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(a, 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lt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, d = map(int,input().split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 = max(max(a, b),max(c, d))- min(min(a,b),min(c,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f = ',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1"/>
          <p:cNvSpPr/>
          <p:nvPr/>
        </p:nvSpPr>
        <p:spPr>
          <a:xfrm>
            <a:off x="574560" y="981000"/>
            <a:ext cx="83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п. главы к учебнику, параграф 2.1, вопросы и задания № 1 – 7 к параграфу, № 87 РТ (часть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539640" y="836640"/>
            <a:ext cx="8280360" cy="109944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пись вспомогательных алгоритмов в языках программирования осуществляется с помощью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11280" y="4292640"/>
            <a:ext cx="3673440" cy="1434600"/>
          </a:xfrm>
          <a:prstGeom prst="rect">
            <a:avLst/>
          </a:prstGeom>
          <a:solidFill>
            <a:srgbClr val="e8fafc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, имеющая произвольное количество входных и выходных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4643280" y="4221000"/>
            <a:ext cx="4249800" cy="1769760"/>
          </a:xfrm>
          <a:prstGeom prst="rect">
            <a:avLst/>
          </a:prstGeom>
          <a:solidFill>
            <a:srgbClr val="e8fafc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, имеющая единственный результат, записываемый в ячейку памяти, имя которой совпадает с именем функ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"/>
          <p:cNvSpPr/>
          <p:nvPr/>
        </p:nvSpPr>
        <p:spPr>
          <a:xfrm flipV="1">
            <a:off x="2340000" y="3860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 flipV="1">
            <a:off x="6732720" y="3789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971640" y="321300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цеду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292720" y="314172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 flipH="1" flipV="1">
            <a:off x="5651280" y="2852280"/>
            <a:ext cx="215640" cy="289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"/>
          <p:cNvSpPr/>
          <p:nvPr/>
        </p:nvSpPr>
        <p:spPr>
          <a:xfrm flipV="1">
            <a:off x="3276720" y="2852280"/>
            <a:ext cx="215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060720" y="220500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Заголовок 2"/>
          <p:cNvSpPr/>
          <p:nvPr/>
        </p:nvSpPr>
        <p:spPr>
          <a:xfrm>
            <a:off x="539640" y="189000"/>
            <a:ext cx="8147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одпрограмм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61960" y="1539720"/>
            <a:ext cx="8424720" cy="1434600"/>
          </a:xfrm>
          <a:prstGeom prst="rect">
            <a:avLst/>
          </a:prstGeom>
          <a:noFill/>
          <a:ln w="38160">
            <a:solidFill>
              <a:srgbClr val="005a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пись вспомогательных алгоритмов в языках программирования осуществляется с помощью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ytho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личают два вида подпрограм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Группа 5"/>
          <p:cNvGrpSpPr/>
          <p:nvPr/>
        </p:nvGrpSpPr>
        <p:grpSpPr>
          <a:xfrm>
            <a:off x="1908000" y="3500280"/>
            <a:ext cx="6050160" cy="1797120"/>
            <a:chOff x="1908000" y="3500280"/>
            <a:chExt cx="6050160" cy="1797120"/>
          </a:xfrm>
        </p:grpSpPr>
        <p:sp>
          <p:nvSpPr>
            <p:cNvPr id="56" name="Rectangle 5"/>
            <p:cNvSpPr/>
            <p:nvPr/>
          </p:nvSpPr>
          <p:spPr>
            <a:xfrm>
              <a:off x="1908000" y="4649760"/>
              <a:ext cx="2809800" cy="647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Процедур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"/>
            <p:cNvSpPr/>
            <p:nvPr/>
          </p:nvSpPr>
          <p:spPr>
            <a:xfrm flipV="1">
              <a:off x="4643280" y="4147920"/>
              <a:ext cx="215640" cy="504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5"/>
            <p:cNvSpPr/>
            <p:nvPr/>
          </p:nvSpPr>
          <p:spPr>
            <a:xfrm>
              <a:off x="5148360" y="4649760"/>
              <a:ext cx="2809800" cy="6476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Функци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8"/>
            <p:cNvSpPr/>
            <p:nvPr/>
          </p:nvSpPr>
          <p:spPr>
            <a:xfrm flipH="1" flipV="1">
              <a:off x="5003280" y="4147920"/>
              <a:ext cx="215640" cy="504720"/>
            </a:xfrm>
            <a:prstGeom prst="line">
              <a:avLst/>
            </a:prstGeom>
            <a:ln w="38160">
              <a:solidFill>
                <a:srgbClr val="4f81b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5"/>
            <p:cNvSpPr/>
            <p:nvPr/>
          </p:nvSpPr>
          <p:spPr>
            <a:xfrm>
              <a:off x="3274920" y="3500280"/>
              <a:ext cx="3299040" cy="635040"/>
            </a:xfrm>
            <a:prstGeom prst="rect">
              <a:avLst/>
            </a:prstGeom>
            <a:solidFill>
              <a:srgbClr val="4f81b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одпрограм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558720" y="1386000"/>
            <a:ext cx="8209080" cy="1181160"/>
          </a:xfrm>
          <a:prstGeom prst="rect">
            <a:avLst/>
          </a:prstGeom>
          <a:solidFill>
            <a:srgbClr val="c9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581040" y="1386000"/>
            <a:ext cx="8105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– это подпрограмма, выполняющая некоторые действия; она может иметь произвольное количество заданных парамет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1868400" y="2917800"/>
            <a:ext cx="575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процедуры имеет ви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973160" y="3860640"/>
            <a:ext cx="5545080" cy="1373760"/>
          </a:xfrm>
          <a:prstGeom prst="rect">
            <a:avLst/>
          </a:prstGeom>
          <a:solidFill>
            <a:srgbClr val="c9c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имя процедуры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(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операторы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39640" y="1268280"/>
            <a:ext cx="85838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 начинается со служебного слов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от англ.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i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ль). После этого записывается имя процедуры, скобки и двоеточи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ператоры, которые входят в тело процедуры записываются отступом. Так мы показываем, какие команды входят в процедур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я того, чтобы процедура заработала, ее необходимо вызвать по имени; причем таких вызовов может быть сколько угод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 должна быть определена к моменту ее вызова, т.е., должна быть выполнена команд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def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торая создает объект-процедуру в памяти. Если процедура вызывается из основной программы, то нужно поместить определение процедуры раньше точки ее вызо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84280" y="2781360"/>
            <a:ext cx="8208720" cy="26542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11111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Четыре строки из семи единиц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527040" y="993600"/>
            <a:ext cx="832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мер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едположим, что требуется вывести четыре строки, каждая из которых состоит из семи единиц. Для этого создадим процедуру, которая выполнит вывод одной строки из семи единиц, и вызовем ее четыре раз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2884320" y="2863800"/>
            <a:ext cx="3457800" cy="45972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1’ *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452520" y="711360"/>
            <a:ext cx="8321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едположим, что требуется вывести четыре строки, состоящие из семи, восьми, девяти и десяти единиц соответствен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я этого создадим процедуру с параметром, определяющим длину стро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Чтобы вывести единицу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, воспользуемся командо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539640" y="3357720"/>
            <a:ext cx="832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Чтобы использовать эту команду в процедуре, укажем в скобках переменную (параметр), значение которой и будет определять длину стро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2489040" y="4570560"/>
            <a:ext cx="4422960" cy="8254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igit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1’ *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52520" y="711360"/>
            <a:ext cx="8321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Чтобы вывести строку требуемой длины, нужно вызвать процедуру, указав в скобках значение параметра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т.е., количество символов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‘1’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571680" y="2205000"/>
            <a:ext cx="8243640" cy="228852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igit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1’ *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7) #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ит 7 единиц: 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#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ит 8 единиц: 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#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ит 9 единиц: 1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#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водит 10 единиц: 11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цедуры</a:t>
            </a:r>
            <a:r>
              <a:rPr b="1" lang="en-US" sz="4000" spc="-1" strike="noStrike">
                <a:solidFill>
                  <a:srgbClr val="1f497d"/>
                </a:solidFill>
                <a:latin typeface="Calibri"/>
                <a:ea typeface="Arial"/>
              </a:rPr>
              <a:t> Python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539640" y="1341360"/>
            <a:ext cx="83217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 может зависеть от нескольких параметров. Давайте немного улучшим процедуру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(d,n)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делаем так, чтобы можно было изменять не только длину строки, но и цифры, из которых она строится. Для этого введем процедуру еще один параметр, который назовем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2627280" y="3573360"/>
            <a:ext cx="3720960" cy="82548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digit(d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d *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Екатерина Сойникова</cp:lastModifiedBy>
  <dcterms:modified xsi:type="dcterms:W3CDTF">2024-01-03T17:29:55Z</dcterms:modified>
  <cp:revision>190</cp:revision>
  <dc:subject/>
  <dc:title>Презентация PowerPoint</dc:title>
</cp:coreProperties>
</file>