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363C-5253-48F5-A273-16C94050A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5A2-DDEB-4D80-8A27-F5C7D3A2F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DE12-443C-4474-BF8A-36AEAA9E87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3D5-50E2-471E-8036-48E253B86A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CCDD-1523-45EC-97EE-084533E1F5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E12-33AE-4DDE-AFA2-33B3D1F61B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3BAF-4F28-48BD-B362-9C166DA07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C385-0936-43DE-92EE-C3786B7590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48D-3367-429F-86A9-5E6C9EB32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DC2-E5CB-442D-9CB6-61B59F76F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7F3E-65CD-4181-B177-B19DE72F3F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624-B924-4935-BF6B-9A04C70AFD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82B-A06C-498D-A983-A85D0AE64E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2A1-CD3A-48B3-B81D-706985535C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886-FFB2-4689-871C-BCAC859B8D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215-8D0F-45B9-81FC-B6A17833D8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6515-498C-4CE0-92F6-FA47E2A134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951-4BAC-4B6D-A8A4-F3EF15D3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84B-CA6A-4B0A-9BAC-FDF9531D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95A-70A9-482C-B248-4B4D0829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340-558C-483C-A544-502BF48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AFF-01FA-4E0F-B5CA-7042C3D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12F-8D8E-4062-B63F-1A6AC22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968-19B1-406B-9350-2857A82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779-5316-481A-B2B1-CCA21AB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C4B-5DE2-421F-9400-2B24973A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B77-3BE2-4FA7-9168-AE3C0C0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A81-1D7F-41C9-9AFE-C0ABB60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60F-208C-4D42-B69C-6226F08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FBF-1716-471F-8654-90745CD49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24000" y="2276640"/>
            <a:ext cx="66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811080" y="2781360"/>
            <a:ext cx="792180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цифру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лину строки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11280" y="11253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им переменных, значения которых мы вводим с клавиатуры, не обязательно должно совпадать с обозначением параметров процедуры. Мы могли назвать их любыми другими именами, 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611280" y="1125360"/>
            <a:ext cx="8321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э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кальные перемен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 они определены и используются только внутри процеду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git(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щаться к ним все этой процедуры нельзя. Как только работа процедуры будет закончена, все ее локальные переменные удалятся из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тех случаях, когда значение переменной, полученное в подпрограмме, должно быть использовано в основной программе, эту переменную следует объявить как глобальн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11280" y="1125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Хорошо известный алгоритм Евклида для нахождения наибольшего общего делителя (НОД) двух чисел в виде процедуры можно опис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25600" y="4800600"/>
            <a:ext cx="832140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дифицированный алгоритм Евклида для натуральных чисел: заменять бóльшее из двух заданных чисел на остаток от деления бóльшего на меньшее, пока этот остаток не станет равен нулю. Тогда второе число и есть их Н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900000" y="2492280"/>
            <a:ext cx="56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–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 -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20760" y="6005520"/>
            <a:ext cx="88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последовательности из шести чисел: 16, 32, 40, 64, 80 и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74560" y="7491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дача поиска НОД для последовательности натуральных чисел, количества членов которой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ится с клавиатуры, может быть решена с помощью следующей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2"/>
          <p:cNvGrpSpPr/>
          <p:nvPr/>
        </p:nvGrpSpPr>
        <p:grpSpPr>
          <a:xfrm>
            <a:off x="633240" y="1857240"/>
            <a:ext cx="8263080" cy="4167360"/>
            <a:chOff x="633240" y="1857240"/>
            <a:chExt cx="8263080" cy="4167360"/>
          </a:xfrm>
        </p:grpSpPr>
        <p:grpSp>
          <p:nvGrpSpPr>
            <p:cNvPr id="95" name="Группа 3"/>
            <p:cNvGrpSpPr/>
            <p:nvPr/>
          </p:nvGrpSpPr>
          <p:grpSpPr>
            <a:xfrm>
              <a:off x="633240" y="1872720"/>
              <a:ext cx="8263080" cy="4151880"/>
              <a:chOff x="633240" y="1872720"/>
              <a:chExt cx="8263080" cy="4151880"/>
            </a:xfrm>
          </p:grpSpPr>
          <p:grpSp>
            <p:nvGrpSpPr>
              <p:cNvPr id="96" name="Группа 4"/>
              <p:cNvGrpSpPr/>
              <p:nvPr/>
            </p:nvGrpSpPr>
            <p:grpSpPr>
              <a:xfrm>
                <a:off x="718920" y="1872720"/>
                <a:ext cx="8177400" cy="3889440"/>
                <a:chOff x="718920" y="1872720"/>
                <a:chExt cx="8177400" cy="3889440"/>
              </a:xfrm>
            </p:grpSpPr>
            <p:grpSp>
              <p:nvGrpSpPr>
                <p:cNvPr id="97" name="Группа 35"/>
                <p:cNvGrpSpPr/>
                <p:nvPr/>
              </p:nvGrpSpPr>
              <p:grpSpPr>
                <a:xfrm>
                  <a:off x="5063760" y="1872720"/>
                  <a:ext cx="3832560" cy="3889440"/>
                  <a:chOff x="5063760" y="1872720"/>
                  <a:chExt cx="3832560" cy="3889440"/>
                </a:xfrm>
              </p:grpSpPr>
              <p:sp>
                <p:nvSpPr>
                  <p:cNvPr id="98" name="TextBox 39"/>
                  <p:cNvSpPr/>
                  <p:nvPr/>
                </p:nvSpPr>
                <p:spPr>
                  <a:xfrm>
                    <a:off x="5220720" y="1879560"/>
                    <a:ext cx="3675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Прямая соединительная линия 29"/>
                  <p:cNvSpPr/>
                  <p:nvPr/>
                </p:nvSpPr>
                <p:spPr>
                  <a:xfrm flipH="1" flipV="1">
                    <a:off x="5063760" y="1872720"/>
                    <a:ext cx="36360" cy="3889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Прямая соединительная линия 16"/>
                <p:cNvSpPr/>
                <p:nvPr/>
              </p:nvSpPr>
              <p:spPr>
                <a:xfrm>
                  <a:off x="718920" y="428328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Прямоугольник 1"/>
              <p:cNvSpPr/>
              <p:nvPr/>
            </p:nvSpPr>
            <p:spPr>
              <a:xfrm>
                <a:off x="633240" y="4284720"/>
                <a:ext cx="446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k = int(input(‘k=’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fo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ange (1,k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od(x,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rint(‘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НОД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,x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48"/>
              <p:cNvSpPr/>
              <p:nvPr/>
            </p:nvSpPr>
            <p:spPr>
              <a:xfrm>
                <a:off x="5236560" y="446652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36"/>
            <p:cNvSpPr/>
            <p:nvPr/>
          </p:nvSpPr>
          <p:spPr>
            <a:xfrm>
              <a:off x="633240" y="1857240"/>
              <a:ext cx="5619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od (a,b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!=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 &gt;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 = a –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 = b -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=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имеры основн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826920" y="1432080"/>
            <a:ext cx="44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6, 32, 40, 64, 80, 1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6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‘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695160" y="328464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300640" y="19890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19200" y="90792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1403280" y="1700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2, 24, 30, 48, 5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611280" y="692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40328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randint(0,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= [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555120" y="920880"/>
            <a:ext cx="804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программу, которая выводит все 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жители произвольного натура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число простое, то выводится оно са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Группа 7"/>
          <p:cNvGrpSpPr/>
          <p:nvPr/>
        </p:nvGrpSpPr>
        <p:grpSpPr>
          <a:xfrm>
            <a:off x="611280" y="2181240"/>
            <a:ext cx="8262720" cy="3122280"/>
            <a:chOff x="611280" y="2181240"/>
            <a:chExt cx="8262720" cy="3122280"/>
          </a:xfrm>
        </p:grpSpPr>
        <p:grpSp>
          <p:nvGrpSpPr>
            <p:cNvPr id="119" name="Группа 8"/>
            <p:cNvGrpSpPr/>
            <p:nvPr/>
          </p:nvGrpSpPr>
          <p:grpSpPr>
            <a:xfrm>
              <a:off x="783720" y="2203920"/>
              <a:ext cx="8090280" cy="3099600"/>
              <a:chOff x="783720" y="2203920"/>
              <a:chExt cx="8090280" cy="3099600"/>
            </a:xfrm>
          </p:grpSpPr>
          <p:grpSp>
            <p:nvGrpSpPr>
              <p:cNvPr id="120" name="Группа 4"/>
              <p:cNvGrpSpPr/>
              <p:nvPr/>
            </p:nvGrpSpPr>
            <p:grpSpPr>
              <a:xfrm>
                <a:off x="783720" y="2203920"/>
                <a:ext cx="8090280" cy="3099600"/>
                <a:chOff x="783720" y="2203920"/>
                <a:chExt cx="8090280" cy="3099600"/>
              </a:xfrm>
            </p:grpSpPr>
            <p:grpSp>
              <p:nvGrpSpPr>
                <p:cNvPr id="121" name="Группа 35"/>
                <p:cNvGrpSpPr/>
                <p:nvPr/>
              </p:nvGrpSpPr>
              <p:grpSpPr>
                <a:xfrm>
                  <a:off x="5067720" y="2203920"/>
                  <a:ext cx="3806280" cy="3099600"/>
                  <a:chOff x="5067720" y="2203920"/>
                  <a:chExt cx="3806280" cy="3099600"/>
                </a:xfrm>
              </p:grpSpPr>
              <p:sp>
                <p:nvSpPr>
                  <p:cNvPr id="122" name="TextBox 39"/>
                  <p:cNvSpPr/>
                  <p:nvPr/>
                </p:nvSpPr>
                <p:spPr>
                  <a:xfrm>
                    <a:off x="5194440" y="2203920"/>
                    <a:ext cx="3679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Прямая соединительная линия 16"/>
                  <p:cNvSpPr/>
                  <p:nvPr/>
                </p:nvSpPr>
                <p:spPr>
                  <a:xfrm flipV="1">
                    <a:off x="5067720" y="2204280"/>
                    <a:ext cx="12600" cy="3099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Прямая соединительная линия 14"/>
                <p:cNvSpPr/>
                <p:nvPr/>
              </p:nvSpPr>
              <p:spPr>
                <a:xfrm>
                  <a:off x="783720" y="398304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Прямоугольник 1"/>
              <p:cNvSpPr/>
              <p:nvPr/>
            </p:nvSpPr>
            <p:spPr>
              <a:xfrm>
                <a:off x="783720" y="4103280"/>
                <a:ext cx="446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int(input(‘a = ‘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whi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 &gt; 1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pd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a / 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48"/>
              <p:cNvSpPr/>
              <p:nvPr/>
            </p:nvSpPr>
            <p:spPr>
              <a:xfrm>
                <a:off x="5185440" y="406260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36"/>
            <p:cNvSpPr/>
            <p:nvPr/>
          </p:nvSpPr>
          <p:spPr>
            <a:xfrm>
              <a:off x="611280" y="2181240"/>
              <a:ext cx="561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pd (n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 % d &gt; 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d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rint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20"/>
          <p:cNvSpPr/>
          <p:nvPr/>
        </p:nvSpPr>
        <p:spPr>
          <a:xfrm>
            <a:off x="619200" y="5278320"/>
            <a:ext cx="798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числах 121, 135 и 847. В результате ее выполнения вы должны получить соответствующие наборы чисел, записанных в столбик: 11, 11; 3, 3, 3, 7, 11,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443880" y="75096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ная блок-схема на основе данн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2"/>
          <p:cNvGrpSpPr/>
          <p:nvPr/>
        </p:nvGrpSpPr>
        <p:grpSpPr>
          <a:xfrm>
            <a:off x="5219280" y="1341360"/>
            <a:ext cx="3213360" cy="5442120"/>
            <a:chOff x="5219280" y="1341360"/>
            <a:chExt cx="3213360" cy="5442120"/>
          </a:xfrm>
        </p:grpSpPr>
        <p:sp>
          <p:nvSpPr>
            <p:cNvPr id="132" name="Line 489"/>
            <p:cNvSpPr/>
            <p:nvPr/>
          </p:nvSpPr>
          <p:spPr>
            <a:xfrm flipH="1">
              <a:off x="5219280" y="3283560"/>
              <a:ext cx="360" cy="197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90"/>
            <p:cNvSpPr/>
            <p:nvPr/>
          </p:nvSpPr>
          <p:spPr>
            <a:xfrm>
              <a:off x="6868440" y="170172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91"/>
            <p:cNvSpPr/>
            <p:nvPr/>
          </p:nvSpPr>
          <p:spPr>
            <a:xfrm>
              <a:off x="6220440" y="134136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6"/>
            <p:cNvSpPr/>
            <p:nvPr/>
          </p:nvSpPr>
          <p:spPr>
            <a:xfrm>
              <a:off x="6148800" y="1917360"/>
              <a:ext cx="143712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98"/>
            <p:cNvSpPr/>
            <p:nvPr/>
          </p:nvSpPr>
          <p:spPr>
            <a:xfrm>
              <a:off x="6177600" y="262440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99"/>
            <p:cNvSpPr/>
            <p:nvPr/>
          </p:nvSpPr>
          <p:spPr>
            <a:xfrm>
              <a:off x="6307560" y="641844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1"/>
            <p:cNvSpPr/>
            <p:nvPr/>
          </p:nvSpPr>
          <p:spPr>
            <a:xfrm>
              <a:off x="5220000" y="3285360"/>
              <a:ext cx="164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Группа 1"/>
            <p:cNvGrpSpPr/>
            <p:nvPr/>
          </p:nvGrpSpPr>
          <p:grpSpPr>
            <a:xfrm>
              <a:off x="5219640" y="3057480"/>
              <a:ext cx="3213000" cy="3095640"/>
              <a:chOff x="5219640" y="3057480"/>
              <a:chExt cx="3213000" cy="3095640"/>
            </a:xfrm>
          </p:grpSpPr>
          <p:sp>
            <p:nvSpPr>
              <p:cNvPr id="140" name="Line 488"/>
              <p:cNvSpPr/>
              <p:nvPr/>
            </p:nvSpPr>
            <p:spPr>
              <a:xfrm>
                <a:off x="5219640" y="5260320"/>
                <a:ext cx="167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492"/>
              <p:cNvSpPr/>
              <p:nvPr/>
            </p:nvSpPr>
            <p:spPr>
              <a:xfrm>
                <a:off x="6239160" y="5721480"/>
                <a:ext cx="1437120" cy="431640"/>
              </a:xfrm>
              <a:prstGeom prst="flowChartInputOutput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493"/>
              <p:cNvSpPr/>
              <p:nvPr/>
            </p:nvSpPr>
            <p:spPr>
              <a:xfrm>
                <a:off x="6941520" y="419580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500"/>
              <p:cNvSpPr/>
              <p:nvPr/>
            </p:nvSpPr>
            <p:spPr>
              <a:xfrm>
                <a:off x="5901840" y="3459960"/>
                <a:ext cx="1937160" cy="718920"/>
              </a:xfrm>
              <a:prstGeom prst="flowChartDecision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d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2"/>
              <p:cNvSpPr/>
              <p:nvPr/>
            </p:nvSpPr>
            <p:spPr>
              <a:xfrm>
                <a:off x="6876360" y="3057480"/>
                <a:ext cx="0" cy="40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03"/>
              <p:cNvSpPr/>
              <p:nvPr/>
            </p:nvSpPr>
            <p:spPr>
              <a:xfrm>
                <a:off x="6876360" y="417924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05"/>
              <p:cNvSpPr/>
              <p:nvPr/>
            </p:nvSpPr>
            <p:spPr>
              <a:xfrm>
                <a:off x="8431920" y="3819600"/>
                <a:ext cx="720" cy="161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06"/>
              <p:cNvSpPr/>
              <p:nvPr/>
            </p:nvSpPr>
            <p:spPr>
              <a:xfrm>
                <a:off x="7856280" y="381960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07"/>
              <p:cNvSpPr/>
              <p:nvPr/>
            </p:nvSpPr>
            <p:spPr>
              <a:xfrm>
                <a:off x="6899400" y="48999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08"/>
              <p:cNvSpPr/>
              <p:nvPr/>
            </p:nvSpPr>
            <p:spPr>
              <a:xfrm>
                <a:off x="6921000" y="5434200"/>
                <a:ext cx="151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12"/>
              <p:cNvSpPr/>
              <p:nvPr/>
            </p:nvSpPr>
            <p:spPr>
              <a:xfrm>
                <a:off x="6941520" y="54342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514"/>
              <p:cNvSpPr/>
              <p:nvPr/>
            </p:nvSpPr>
            <p:spPr>
              <a:xfrm>
                <a:off x="7856280" y="348912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515"/>
            <p:cNvSpPr/>
            <p:nvPr/>
          </p:nvSpPr>
          <p:spPr>
            <a:xfrm>
              <a:off x="6941520" y="61534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6144120" y="446688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2"/>
          <p:cNvSpPr/>
          <p:nvPr/>
        </p:nvSpPr>
        <p:spPr>
          <a:xfrm>
            <a:off x="731880" y="2336760"/>
            <a:ext cx="4371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дес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ое число, большее 1. Его первый прос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ится перебором всех возможных делителей, начиная с 2 – наименьшего простого числа. Если сам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ажется простым числом, 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дет присвоено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539640" y="1487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лгоритм нахождения первого простого де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541440" y="1098720"/>
            <a:ext cx="53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спомогательный алгоритм при решении задачи разложения натурального числа на простые мно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5301720" y="1339920"/>
            <a:ext cx="3213720" cy="4743360"/>
            <a:chOff x="5301720" y="1339920"/>
            <a:chExt cx="3213720" cy="4743360"/>
          </a:xfrm>
        </p:grpSpPr>
        <p:sp>
          <p:nvSpPr>
            <p:cNvPr id="159" name="Line 512"/>
            <p:cNvSpPr/>
            <p:nvPr/>
          </p:nvSpPr>
          <p:spPr>
            <a:xfrm>
              <a:off x="6943680" y="17064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91"/>
            <p:cNvSpPr/>
            <p:nvPr/>
          </p:nvSpPr>
          <p:spPr>
            <a:xfrm>
              <a:off x="6234120" y="133992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6"/>
            <p:cNvSpPr/>
            <p:nvPr/>
          </p:nvSpPr>
          <p:spPr>
            <a:xfrm>
              <a:off x="6190920" y="192564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3"/>
            <p:cNvGrpSpPr/>
            <p:nvPr/>
          </p:nvGrpSpPr>
          <p:grpSpPr>
            <a:xfrm>
              <a:off x="5301720" y="2357280"/>
              <a:ext cx="3213720" cy="3726000"/>
              <a:chOff x="5301720" y="2357280"/>
              <a:chExt cx="3213720" cy="3726000"/>
            </a:xfrm>
          </p:grpSpPr>
          <p:sp>
            <p:nvSpPr>
              <p:cNvPr id="163" name="Line 489"/>
              <p:cNvSpPr/>
              <p:nvPr/>
            </p:nvSpPr>
            <p:spPr>
              <a:xfrm flipH="1">
                <a:off x="5301720" y="2582280"/>
                <a:ext cx="360" cy="22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499"/>
              <p:cNvSpPr/>
              <p:nvPr/>
            </p:nvSpPr>
            <p:spPr>
              <a:xfrm>
                <a:off x="6390000" y="5718240"/>
                <a:ext cx="1369080" cy="36504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нец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511"/>
              <p:cNvSpPr/>
              <p:nvPr/>
            </p:nvSpPr>
            <p:spPr>
              <a:xfrm>
                <a:off x="5302440" y="2584800"/>
                <a:ext cx="164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Группа 51"/>
              <p:cNvGrpSpPr/>
              <p:nvPr/>
            </p:nvGrpSpPr>
            <p:grpSpPr>
              <a:xfrm>
                <a:off x="5302080" y="2357280"/>
                <a:ext cx="3213360" cy="3066840"/>
                <a:chOff x="5302080" y="2357280"/>
                <a:chExt cx="3213360" cy="3066840"/>
              </a:xfrm>
            </p:grpSpPr>
            <p:sp>
              <p:nvSpPr>
                <p:cNvPr id="167" name="Line 488"/>
                <p:cNvSpPr/>
                <p:nvPr/>
              </p:nvSpPr>
              <p:spPr>
                <a:xfrm>
                  <a:off x="5302080" y="4788360"/>
                  <a:ext cx="91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493"/>
                <p:cNvSpPr/>
                <p:nvPr/>
              </p:nvSpPr>
              <p:spPr>
                <a:xfrm>
                  <a:off x="7023960" y="349596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500"/>
                <p:cNvSpPr/>
                <p:nvPr/>
              </p:nvSpPr>
              <p:spPr>
                <a:xfrm>
                  <a:off x="5984280" y="2760120"/>
                  <a:ext cx="1937520" cy="719280"/>
                </a:xfrm>
                <a:prstGeom prst="flowChartDecision">
                  <a:avLst/>
                </a:prstGeom>
                <a:solidFill>
                  <a:srgbClr val="ffffff"/>
                </a:solidFill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d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gt; 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502"/>
                <p:cNvSpPr/>
                <p:nvPr/>
              </p:nvSpPr>
              <p:spPr>
                <a:xfrm>
                  <a:off x="6959160" y="2357280"/>
                  <a:ext cx="0" cy="40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503"/>
                <p:cNvSpPr/>
                <p:nvPr/>
              </p:nvSpPr>
              <p:spPr>
                <a:xfrm>
                  <a:off x="6959160" y="3479400"/>
                  <a:ext cx="0" cy="64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505"/>
                <p:cNvSpPr/>
                <p:nvPr/>
              </p:nvSpPr>
              <p:spPr>
                <a:xfrm>
                  <a:off x="8514720" y="3119760"/>
                  <a:ext cx="720" cy="230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506"/>
                <p:cNvSpPr/>
                <p:nvPr/>
              </p:nvSpPr>
              <p:spPr>
                <a:xfrm>
                  <a:off x="7939080" y="3119760"/>
                  <a:ext cx="576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507"/>
                <p:cNvSpPr/>
                <p:nvPr/>
              </p:nvSpPr>
              <p:spPr>
                <a:xfrm>
                  <a:off x="6981840" y="420012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508"/>
                <p:cNvSpPr/>
                <p:nvPr/>
              </p:nvSpPr>
              <p:spPr>
                <a:xfrm>
                  <a:off x="7003440" y="5424120"/>
                  <a:ext cx="151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514"/>
                <p:cNvSpPr/>
                <p:nvPr/>
              </p:nvSpPr>
              <p:spPr>
                <a:xfrm>
                  <a:off x="7939080" y="278892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Line 515"/>
              <p:cNvSpPr/>
              <p:nvPr/>
            </p:nvSpPr>
            <p:spPr>
              <a:xfrm>
                <a:off x="7023960" y="545328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495"/>
            <p:cNvSpPr/>
            <p:nvPr/>
          </p:nvSpPr>
          <p:spPr>
            <a:xfrm>
              <a:off x="6099120" y="3781440"/>
              <a:ext cx="1765440" cy="57312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d (a, 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98"/>
            <p:cNvSpPr/>
            <p:nvPr/>
          </p:nvSpPr>
          <p:spPr>
            <a:xfrm>
              <a:off x="6238800" y="4554720"/>
              <a:ext cx="144144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/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"/>
          <p:cNvSpPr/>
          <p:nvPr/>
        </p:nvSpPr>
        <p:spPr>
          <a:xfrm>
            <a:off x="731880" y="2336760"/>
            <a:ext cx="437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помогательный алгоритм нахождения первого простого делителя для некоторого числа мы назвал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p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Его формальными параметрами являются переменны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фактическими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83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горитм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611280" y="692280"/>
            <a:ext cx="8208720" cy="86508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2960" y="714240"/>
            <a:ext cx="81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подпрограмма, имеющая единственный результат, записываемый в ячейку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3965400"/>
            <a:ext cx="84250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начинается со служебного слова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После этого записывается имя функции, скобки и двоеточие. Операторы, которые входят в тело функции, записывается с отступом. После операт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tur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записывается результат, который возвращает функ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76360" y="16844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е от процедуры, функция не только выполняет какие-то команды, но возвращает результат в виде числа, символьной строки ил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592200" y="24051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функции име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2538360" y="2908440"/>
            <a:ext cx="4572000" cy="91692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функци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01760" y="76500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348000" y="1609560"/>
            <a:ext cx="338472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1760" y="368136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функции можно сразу вывести на экра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1"/>
          <p:cNvSpPr/>
          <p:nvPr/>
        </p:nvSpPr>
        <p:spPr>
          <a:xfrm>
            <a:off x="3351240" y="4197240"/>
            <a:ext cx="338436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max(6,8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01760" y="461016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же мы можем присвоить результат работы функции любой глобальной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5"/>
          <p:cNvSpPr/>
          <p:nvPr/>
        </p:nvSpPr>
        <p:spPr>
          <a:xfrm>
            <a:off x="3348000" y="5305320"/>
            <a:ext cx="338472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ax(6,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01760" y="577368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 функция может вызвать друг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01760" y="765000"/>
            <a:ext cx="84232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шем программу нахождения максимального из четырех целых чисел, использующую функцию поиска максимального из дву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1908000" y="1779480"/>
            <a:ext cx="6372360" cy="28382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f = ’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576360" y="534204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611280" y="46958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од строковых величин, разделенных проб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611280" y="765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26920" y="1411200"/>
            <a:ext cx="60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696240" y="396252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826920" y="4272120"/>
            <a:ext cx="60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b,c)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595840" y="4272120"/>
            <a:ext cx="354816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93360" y="646200"/>
            <a:ext cx="39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836640" y="998640"/>
            <a:ext cx="639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211640" y="3529080"/>
            <a:ext cx="448776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441680" y="1197000"/>
            <a:ext cx="4486320" cy="3102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539640" y="609480"/>
            <a:ext cx="71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23840" y="1176480"/>
            <a:ext cx="787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-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574560" y="981000"/>
            <a:ext cx="83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. главы к учебнику, параграф 2.1, вопросы и задания № 1 – 7 к параграфу, № 87 РТ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дпр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61960" y="1539720"/>
            <a:ext cx="8424720" cy="1434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два вида подпрограм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1908000" y="3500280"/>
            <a:ext cx="6050160" cy="1797120"/>
            <a:chOff x="1908000" y="3500280"/>
            <a:chExt cx="6050160" cy="1797120"/>
          </a:xfrm>
        </p:grpSpPr>
        <p:sp>
          <p:nvSpPr>
            <p:cNvPr id="56" name="Rectangle 5"/>
            <p:cNvSpPr/>
            <p:nvPr/>
          </p:nvSpPr>
          <p:spPr>
            <a:xfrm>
              <a:off x="190800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оцед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 flipV="1">
              <a:off x="464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514836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Функц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 flipV="1">
              <a:off x="500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3274920" y="3500280"/>
              <a:ext cx="3299040" cy="635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дпрограм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558720" y="1386000"/>
            <a:ext cx="8209080" cy="11811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81040" y="1386000"/>
            <a:ext cx="810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это подпрограмма, выполняющая некоторые действия; она может иметь произвольное количество заданных пара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868400" y="2917800"/>
            <a:ext cx="57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процедур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973160" y="3860640"/>
            <a:ext cx="5545080" cy="13737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процеду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9640" y="1268280"/>
            <a:ext cx="8583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начинается со служебного слов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от англ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). После этого записывается имя процедуры, скобки и двоеточ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, которые входят в тело процедуры записываются отступом. Так мы показываем, какие команды входят в процед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процедура заработала, ее необходимо вызвать по имени; причем таких вызовов может быть сколько у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должна быть определена к моменту ее вызова, т.е., должна быть выполнена коман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ая создает объект-процедуру в памяти. Если процедура вызывается из основной программы, то нужно поместить определение процедуры раньше точки ее выз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84280" y="2781360"/>
            <a:ext cx="8208720" cy="26542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1111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етыре строки из семи единиц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527040" y="99360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каждая из которых состоит из семи единиц. Для этого создадим процедуру, которая выполнит вывод одной строки из семи единиц, и вызовем ее четыре ра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884320" y="2863800"/>
            <a:ext cx="3457800" cy="459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52520" y="711360"/>
            <a:ext cx="832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состоящие из семи, восьми, девяти и десяти единиц соответствен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создадим процедуру с параметром, определяющим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единиц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, воспользуемся команд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39640" y="335772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использовать эту команду в процедуре, укажем в скобках переменную (параметр), значение которой и будет определять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489040" y="4570560"/>
            <a:ext cx="4422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2520" y="711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строку требуемой длины, нужно вызвать процедуру, указав в скобках значение параметр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.е., количество символо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‘1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71680" y="2205000"/>
            <a:ext cx="8243640" cy="22885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7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7 единиц: 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8 единиц: 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9 единиц: 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10 единиц: 1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39640" y="1341360"/>
            <a:ext cx="8321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может зависеть от нескольких параметров. Давайте немного улучшим процедур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d,n)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делаем так, чтобы можно было изменять не только длину строки, но и цифры, из которых она строится. Для этого введем процедуру еще один параметр, который назовем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627280" y="3573360"/>
            <a:ext cx="3720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4-01-03T17:29:55Z</dcterms:modified>
  <cp:revision>190</cp:revision>
  <dc:subject/>
  <dc:title>Презентация PowerPoint</dc:title>
</cp:coreProperties>
</file>