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9CFB6-09BB-4FCA-ACD8-B9333A7F96B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06165-CF36-4D61-B062-BEDA5F8BAE8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32D66-C033-4118-9F48-77CDAD816CA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CE632-9C9E-4587-8C60-A0491690162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74E7D-D09A-4F88-B49A-48852F045B4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23874-411F-44C9-A8B9-7C8AFD0DEC3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7AB39-E032-4EAC-83F4-FB53363C60F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54D1F-9F7E-46DC-93A3-E97054F7D65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827C6-D6E4-440E-9D43-8780B60BB62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4B146-E8AB-445C-84EF-F507D9E0703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68CAD-29C6-43BF-B201-B87697C49EE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90CBD-4D71-4B57-8163-C844BF6C05F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951CF-9DB4-4536-AEAE-B92D727BD51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6D805-0573-4EC3-8A65-636CAC0E804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183AC-8632-4054-9DDD-5DA193D88D6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3995E-5A2C-44CD-B85C-C6C7DCBB44A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CE976-CDF3-4DE7-864F-A35B0AC9E56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E8BD-207D-45A8-BF93-7046CF673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5D0C-A5F7-4148-BEAA-8FD4A00BF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8CFF-A856-4136-9749-B0AB49AE0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A2BA-A26B-456C-BB5C-D4BFEF89C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9327-7482-4FAF-8CE9-194B66B39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888D-3267-4CC5-8960-99734F663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B3FF-DB4D-4A6C-AD44-4083C2ECF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F09E-C29A-4362-A1E4-EA479F66F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9F7C-D490-4425-ABEF-F7112902D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6A0E-F90C-43EB-80E5-E5821E33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AF2A-0A9B-458B-A63D-2F6ACFEC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4253-FD98-4F20-A950-C6E4B68A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9A650-3624-415C-B97F-06E8356E5A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Заголовок 1"/>
          <p:cNvSpPr/>
          <p:nvPr/>
        </p:nvSpPr>
        <p:spPr>
          <a:xfrm>
            <a:off x="2124000" y="2276640"/>
            <a:ext cx="669600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ЗАПИСЬ  ВСПОМОГАТЕЛЬНЫХ  АЛГОРИТМОВ  НА ЯЗЫКЕ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YTH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одзаголовок 2"/>
          <p:cNvSpPr/>
          <p:nvPr/>
        </p:nvSpPr>
        <p:spPr>
          <a:xfrm>
            <a:off x="2050920" y="4076640"/>
            <a:ext cx="64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АЛГОРИТМИЗАЦИЯ  И ПРОГРАММ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одзаголовок 2"/>
          <p:cNvSpPr/>
          <p:nvPr/>
        </p:nvSpPr>
        <p:spPr>
          <a:xfrm>
            <a:off x="2098800" y="5157720"/>
            <a:ext cx="6842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учитель: Сойникова Екатерина Дмитриев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МКОУ «Новоспасская СОШ» Золотухинского района Кур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Процедуры</a:t>
            </a:r>
            <a:r>
              <a:rPr b="1" lang="en-US" sz="4000" spc="-1" strike="noStrike">
                <a:solidFill>
                  <a:srgbClr val="1f497d"/>
                </a:solidFill>
                <a:latin typeface="Calibri"/>
                <a:ea typeface="Arial"/>
              </a:rPr>
              <a:t> Python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811080" y="2781360"/>
            <a:ext cx="7921800" cy="1922760"/>
          </a:xfrm>
          <a:prstGeom prst="rect">
            <a:avLst/>
          </a:prstGeom>
          <a:solidFill>
            <a:srgbClr val="e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digit(d,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d * 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input(‘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цифру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’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 = (input(‘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длину строки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’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git(x, 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6"/>
          <p:cNvSpPr/>
          <p:nvPr/>
        </p:nvSpPr>
        <p:spPr>
          <a:xfrm>
            <a:off x="611280" y="1125360"/>
            <a:ext cx="8321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бозначим переменных, значения которых мы вводим с клавиатуры, не обязательно должно совпадать с обозначением параметров процедуры. Мы могли назвать их любыми другими именами, например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1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1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Процедуры</a:t>
            </a:r>
            <a:r>
              <a:rPr b="1" lang="en-US" sz="4000" spc="-1" strike="noStrike">
                <a:solidFill>
                  <a:srgbClr val="1f497d"/>
                </a:solidFill>
                <a:latin typeface="Calibri"/>
                <a:ea typeface="Arial"/>
              </a:rPr>
              <a:t> Python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6"/>
          <p:cNvSpPr/>
          <p:nvPr/>
        </p:nvSpPr>
        <p:spPr>
          <a:xfrm>
            <a:off x="611280" y="1125360"/>
            <a:ext cx="83217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еременные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– это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локальные переменны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; они определены и используются только внутри процедуры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igit()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бращаться к ним все этой процедуры нельзя. Как только работа процедуры будет закончена, все ее локальные переменные удалятся из памя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 тех случаях, когда значение переменной, полученное в подпрограмме, должно быть использовано в основной программе, эту переменную следует объявить как глобальну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Процедуры</a:t>
            </a:r>
            <a:r>
              <a:rPr b="1" lang="en-US" sz="4000" spc="-1" strike="noStrike">
                <a:solidFill>
                  <a:srgbClr val="1f497d"/>
                </a:solidFill>
                <a:latin typeface="Calibri"/>
                <a:ea typeface="Arial"/>
              </a:rPr>
              <a:t> Python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611280" y="1125360"/>
            <a:ext cx="8321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имер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Хорошо известный алгоритм Евклида для нахождения наибольшего общего делителя (НОД) двух чисел в виде процедуры можно описать так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6"/>
          <p:cNvSpPr/>
          <p:nvPr/>
        </p:nvSpPr>
        <p:spPr>
          <a:xfrm>
            <a:off x="525600" y="4800600"/>
            <a:ext cx="8321400" cy="1313640"/>
          </a:xfrm>
          <a:prstGeom prst="rect">
            <a:avLst/>
          </a:prstGeom>
          <a:solidFill>
            <a:srgbClr val="e8fa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Модифицированный алгоритм Евклида для натуральных чисел: заменять бóльшее из двух заданных чисел на остаток от деления бóльшего на меньшее, пока этот остаток не станет равен нулю. Тогда второе число и есть их Н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6"/>
          <p:cNvSpPr/>
          <p:nvPr/>
        </p:nvSpPr>
        <p:spPr>
          <a:xfrm>
            <a:off x="900000" y="2492280"/>
            <a:ext cx="561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 (a,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glob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a!=b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a &gt; b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 = a –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 = b -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Процедуры</a:t>
            </a:r>
            <a:r>
              <a:rPr b="1" lang="en-US" sz="4000" spc="-1" strike="noStrike">
                <a:solidFill>
                  <a:srgbClr val="1f497d"/>
                </a:solidFill>
                <a:latin typeface="Calibri"/>
                <a:ea typeface="Arial"/>
              </a:rPr>
              <a:t> Python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"/>
          <p:cNvSpPr/>
          <p:nvPr/>
        </p:nvSpPr>
        <p:spPr>
          <a:xfrm>
            <a:off x="320760" y="6005520"/>
            <a:ext cx="882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отестируйте программу на последовательности из шести чисел: 16, 32, 40, 64, 80 и 12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6"/>
          <p:cNvSpPr/>
          <p:nvPr/>
        </p:nvSpPr>
        <p:spPr>
          <a:xfrm>
            <a:off x="574560" y="749160"/>
            <a:ext cx="8321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Задача поиска НОД для последовательности натуральных чисел, количества членов которой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водится с клавиатуры, может быть решена с помощью следующей программы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Группа 2"/>
          <p:cNvGrpSpPr/>
          <p:nvPr/>
        </p:nvGrpSpPr>
        <p:grpSpPr>
          <a:xfrm>
            <a:off x="633240" y="1857240"/>
            <a:ext cx="8263080" cy="4167360"/>
            <a:chOff x="633240" y="1857240"/>
            <a:chExt cx="8263080" cy="4167360"/>
          </a:xfrm>
        </p:grpSpPr>
        <p:grpSp>
          <p:nvGrpSpPr>
            <p:cNvPr id="95" name="Группа 3"/>
            <p:cNvGrpSpPr/>
            <p:nvPr/>
          </p:nvGrpSpPr>
          <p:grpSpPr>
            <a:xfrm>
              <a:off x="633240" y="1872720"/>
              <a:ext cx="8263080" cy="4151880"/>
              <a:chOff x="633240" y="1872720"/>
              <a:chExt cx="8263080" cy="4151880"/>
            </a:xfrm>
          </p:grpSpPr>
          <p:grpSp>
            <p:nvGrpSpPr>
              <p:cNvPr id="96" name="Группа 4"/>
              <p:cNvGrpSpPr/>
              <p:nvPr/>
            </p:nvGrpSpPr>
            <p:grpSpPr>
              <a:xfrm>
                <a:off x="718920" y="1872720"/>
                <a:ext cx="8177400" cy="3889440"/>
                <a:chOff x="718920" y="1872720"/>
                <a:chExt cx="8177400" cy="3889440"/>
              </a:xfrm>
            </p:grpSpPr>
            <p:grpSp>
              <p:nvGrpSpPr>
                <p:cNvPr id="97" name="Группа 35"/>
                <p:cNvGrpSpPr/>
                <p:nvPr/>
              </p:nvGrpSpPr>
              <p:grpSpPr>
                <a:xfrm>
                  <a:off x="5063760" y="1872720"/>
                  <a:ext cx="3832560" cy="3889440"/>
                  <a:chOff x="5063760" y="1872720"/>
                  <a:chExt cx="3832560" cy="3889440"/>
                </a:xfrm>
              </p:grpSpPr>
              <p:sp>
                <p:nvSpPr>
                  <p:cNvPr id="98" name="TextBox 39"/>
                  <p:cNvSpPr/>
                  <p:nvPr/>
                </p:nvSpPr>
                <p:spPr>
                  <a:xfrm>
                    <a:off x="5220720" y="1879560"/>
                    <a:ext cx="36756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Подпрограмма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Прямая соединительная линия 29"/>
                  <p:cNvSpPr/>
                  <p:nvPr/>
                </p:nvSpPr>
                <p:spPr>
                  <a:xfrm flipH="1" flipV="1">
                    <a:off x="5063760" y="1872720"/>
                    <a:ext cx="36360" cy="38894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0" name="Прямая соединительная линия 16"/>
                <p:cNvSpPr/>
                <p:nvPr/>
              </p:nvSpPr>
              <p:spPr>
                <a:xfrm>
                  <a:off x="718920" y="4283280"/>
                  <a:ext cx="8077680" cy="14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Прямоугольник 1"/>
              <p:cNvSpPr/>
              <p:nvPr/>
            </p:nvSpPr>
            <p:spPr>
              <a:xfrm>
                <a:off x="633240" y="4284720"/>
                <a:ext cx="446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k = int(input(‘k=’)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x = int(input()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for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i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i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range (1,k)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y = int(input()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nod(x,y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print(‘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НОД=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,x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TextBox 48"/>
              <p:cNvSpPr/>
              <p:nvPr/>
            </p:nvSpPr>
            <p:spPr>
              <a:xfrm>
                <a:off x="5236560" y="4466520"/>
                <a:ext cx="244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Основная программ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TextBox 36"/>
            <p:cNvSpPr/>
            <p:nvPr/>
          </p:nvSpPr>
          <p:spPr>
            <a:xfrm>
              <a:off x="633240" y="1857240"/>
              <a:ext cx="56199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ef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nod (a,b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global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while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a!=b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ru-RU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f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a &gt; b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 = a –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ru-RU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lse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b = b -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 =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edge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Примеры основной програм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1"/>
          <p:cNvSpPr/>
          <p:nvPr/>
        </p:nvSpPr>
        <p:spPr>
          <a:xfrm>
            <a:off x="826920" y="1432080"/>
            <a:ext cx="4467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 = [16, 32, 40, 64, 80, 128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m[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i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range (1, 6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 = m[i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od(x,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(‘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НОД=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‘,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"/>
          <p:cNvSpPr/>
          <p:nvPr/>
        </p:nvSpPr>
        <p:spPr>
          <a:xfrm>
            <a:off x="695160" y="3284640"/>
            <a:ext cx="7988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змените программу так, чтобы с ее помощью можно было най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) наибольший общий делитель для следующих пяти чисел: 12, 24, 30, 48 и 5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) наибольший общий делитель произвольных десяти целых двузначных чис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"/>
          <p:cNvSpPr/>
          <p:nvPr/>
        </p:nvSpPr>
        <p:spPr>
          <a:xfrm>
            <a:off x="5300640" y="1989000"/>
            <a:ext cx="31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 помощью масс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Напишем программ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"/>
          <p:cNvSpPr/>
          <p:nvPr/>
        </p:nvSpPr>
        <p:spPr>
          <a:xfrm>
            <a:off x="619200" y="907920"/>
            <a:ext cx="798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) наибольший общий делитель для следующих пяти чисел: 12, 24, 30, 48 и 5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"/>
          <p:cNvSpPr/>
          <p:nvPr/>
        </p:nvSpPr>
        <p:spPr>
          <a:xfrm>
            <a:off x="1403280" y="170028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 (a,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global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a!=b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a&gt; b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 = a-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 = b-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 = [12, 24, 30, 48, 5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m[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i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range (1, 5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 = m[i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od(x,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('НОД=',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https://www.vinaysahni.com/images/posts/best-practices-for-a-pragmatic-restful-api/_header.png"/>
          <p:cNvPicPr/>
          <p:nvPr/>
        </p:nvPicPr>
        <p:blipFill>
          <a:blip r:embed="rId2"/>
          <a:stretch/>
        </p:blipFill>
        <p:spPr>
          <a:xfrm>
            <a:off x="4987800" y="3789360"/>
            <a:ext cx="4148280" cy="28670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Напишем программ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https://www.vinaysahni.com/images/posts/best-practices-for-a-pragmatic-restful-api/_header.png"/>
          <p:cNvPicPr/>
          <p:nvPr/>
        </p:nvPicPr>
        <p:blipFill>
          <a:blip r:embed="rId2"/>
          <a:stretch/>
        </p:blipFill>
        <p:spPr>
          <a:xfrm>
            <a:off x="4987800" y="3789360"/>
            <a:ext cx="4148280" cy="286704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2"/>
          <p:cNvSpPr/>
          <p:nvPr/>
        </p:nvSpPr>
        <p:spPr>
          <a:xfrm>
            <a:off x="611280" y="69228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) наибольший общий делитель произвольных десяти целых двузначных чис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"/>
          <p:cNvSpPr/>
          <p:nvPr/>
        </p:nvSpPr>
        <p:spPr>
          <a:xfrm>
            <a:off x="1403280" y="1225440"/>
            <a:ext cx="457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 (a,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global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a!=b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a&gt; b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 = a-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 = b-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=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=[0]*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random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rand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i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range (N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[i]=randint(0,9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i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range(N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'A = [',i,'] = ',A[i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A[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i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range (1, 10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 = A[i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od(x,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('НОД=',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2"/>
          <p:cNvSpPr/>
          <p:nvPr/>
        </p:nvSpPr>
        <p:spPr>
          <a:xfrm>
            <a:off x="555120" y="920880"/>
            <a:ext cx="804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ссмотрим программу, которая выводит все прост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ножители произвольного натурального числа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 &gt;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если число простое, то выводится оно сам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Процедуры</a:t>
            </a:r>
            <a:r>
              <a:rPr b="1" lang="en-US" sz="4000" spc="-1" strike="noStrike">
                <a:solidFill>
                  <a:srgbClr val="1f497d"/>
                </a:solidFill>
                <a:latin typeface="Calibri"/>
                <a:ea typeface="Arial"/>
              </a:rPr>
              <a:t> Python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Группа 7"/>
          <p:cNvGrpSpPr/>
          <p:nvPr/>
        </p:nvGrpSpPr>
        <p:grpSpPr>
          <a:xfrm>
            <a:off x="611280" y="2181240"/>
            <a:ext cx="8262720" cy="3122280"/>
            <a:chOff x="611280" y="2181240"/>
            <a:chExt cx="8262720" cy="3122280"/>
          </a:xfrm>
        </p:grpSpPr>
        <p:grpSp>
          <p:nvGrpSpPr>
            <p:cNvPr id="119" name="Группа 8"/>
            <p:cNvGrpSpPr/>
            <p:nvPr/>
          </p:nvGrpSpPr>
          <p:grpSpPr>
            <a:xfrm>
              <a:off x="783720" y="2203920"/>
              <a:ext cx="8090280" cy="3099600"/>
              <a:chOff x="783720" y="2203920"/>
              <a:chExt cx="8090280" cy="3099600"/>
            </a:xfrm>
          </p:grpSpPr>
          <p:grpSp>
            <p:nvGrpSpPr>
              <p:cNvPr id="120" name="Группа 4"/>
              <p:cNvGrpSpPr/>
              <p:nvPr/>
            </p:nvGrpSpPr>
            <p:grpSpPr>
              <a:xfrm>
                <a:off x="783720" y="2203920"/>
                <a:ext cx="8090280" cy="3099600"/>
                <a:chOff x="783720" y="2203920"/>
                <a:chExt cx="8090280" cy="3099600"/>
              </a:xfrm>
            </p:grpSpPr>
            <p:grpSp>
              <p:nvGrpSpPr>
                <p:cNvPr id="121" name="Группа 35"/>
                <p:cNvGrpSpPr/>
                <p:nvPr/>
              </p:nvGrpSpPr>
              <p:grpSpPr>
                <a:xfrm>
                  <a:off x="5067720" y="2203920"/>
                  <a:ext cx="3806280" cy="3099600"/>
                  <a:chOff x="5067720" y="2203920"/>
                  <a:chExt cx="3806280" cy="3099600"/>
                </a:xfrm>
              </p:grpSpPr>
              <p:sp>
                <p:nvSpPr>
                  <p:cNvPr id="122" name="TextBox 39"/>
                  <p:cNvSpPr/>
                  <p:nvPr/>
                </p:nvSpPr>
                <p:spPr>
                  <a:xfrm>
                    <a:off x="5194440" y="2203920"/>
                    <a:ext cx="36795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Подпрограмма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Прямая соединительная линия 16"/>
                  <p:cNvSpPr/>
                  <p:nvPr/>
                </p:nvSpPr>
                <p:spPr>
                  <a:xfrm flipV="1">
                    <a:off x="5067720" y="2204280"/>
                    <a:ext cx="12600" cy="3099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Прямая соединительная линия 14"/>
                <p:cNvSpPr/>
                <p:nvPr/>
              </p:nvSpPr>
              <p:spPr>
                <a:xfrm>
                  <a:off x="783720" y="3983040"/>
                  <a:ext cx="8077680" cy="14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" name="Прямоугольник 1"/>
              <p:cNvSpPr/>
              <p:nvPr/>
            </p:nvSpPr>
            <p:spPr>
              <a:xfrm>
                <a:off x="783720" y="4103280"/>
                <a:ext cx="446724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a = int(input(‘a = ‘)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whil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 &gt; 1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ppd(a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a = a / 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TextBox 48"/>
              <p:cNvSpPr/>
              <p:nvPr/>
            </p:nvSpPr>
            <p:spPr>
              <a:xfrm>
                <a:off x="5185440" y="4062600"/>
                <a:ext cx="244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Основная программ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TextBox 36"/>
            <p:cNvSpPr/>
            <p:nvPr/>
          </p:nvSpPr>
          <p:spPr>
            <a:xfrm>
              <a:off x="611280" y="2181240"/>
              <a:ext cx="5619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ef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ppd (n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global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 =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while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n % d &gt; 0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 = d +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rint(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extBox 20"/>
          <p:cNvSpPr/>
          <p:nvPr/>
        </p:nvSpPr>
        <p:spPr>
          <a:xfrm>
            <a:off x="619200" y="5278320"/>
            <a:ext cx="798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отестируйте программу на числах 121, 135 и 847. В результате ее выполнения вы должны получить соответствующие наборы чисел, записанных в столбик: 11, 11; 3, 3, 3, 7, 11, 1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2"/>
          <p:cNvSpPr/>
          <p:nvPr/>
        </p:nvSpPr>
        <p:spPr>
          <a:xfrm>
            <a:off x="443880" y="750960"/>
            <a:ext cx="83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зработанная блок-схема на основе данного алгорит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Процедуры</a:t>
            </a:r>
            <a:r>
              <a:rPr b="1" lang="en-US" sz="4000" spc="-1" strike="noStrike">
                <a:solidFill>
                  <a:srgbClr val="1f497d"/>
                </a:solidFill>
                <a:latin typeface="Calibri"/>
                <a:ea typeface="Arial"/>
              </a:rPr>
              <a:t> Python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Группа 2"/>
          <p:cNvGrpSpPr/>
          <p:nvPr/>
        </p:nvGrpSpPr>
        <p:grpSpPr>
          <a:xfrm>
            <a:off x="5219280" y="1341360"/>
            <a:ext cx="3213360" cy="5442120"/>
            <a:chOff x="5219280" y="1341360"/>
            <a:chExt cx="3213360" cy="5442120"/>
          </a:xfrm>
        </p:grpSpPr>
        <p:sp>
          <p:nvSpPr>
            <p:cNvPr id="132" name="Line 489"/>
            <p:cNvSpPr/>
            <p:nvPr/>
          </p:nvSpPr>
          <p:spPr>
            <a:xfrm flipH="1">
              <a:off x="5219280" y="3283560"/>
              <a:ext cx="360" cy="1977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490"/>
            <p:cNvSpPr/>
            <p:nvPr/>
          </p:nvSpPr>
          <p:spPr>
            <a:xfrm>
              <a:off x="6868440" y="1701720"/>
              <a:ext cx="0" cy="93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491"/>
            <p:cNvSpPr/>
            <p:nvPr/>
          </p:nvSpPr>
          <p:spPr>
            <a:xfrm>
              <a:off x="6220440" y="1341360"/>
              <a:ext cx="1368720" cy="365040"/>
            </a:xfrm>
            <a:prstGeom prst="flowChartTerminator">
              <a:avLst/>
            </a:prstGeom>
            <a:solidFill>
              <a:srgbClr val="ffffff"/>
            </a:solidFill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ачал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496"/>
            <p:cNvSpPr/>
            <p:nvPr/>
          </p:nvSpPr>
          <p:spPr>
            <a:xfrm>
              <a:off x="6148800" y="1917360"/>
              <a:ext cx="1437120" cy="431640"/>
            </a:xfrm>
            <a:prstGeom prst="flowChartInputOutput">
              <a:avLst/>
            </a:prstGeom>
            <a:solidFill>
              <a:srgbClr val="ffffff"/>
            </a:solidFill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498"/>
            <p:cNvSpPr/>
            <p:nvPr/>
          </p:nvSpPr>
          <p:spPr>
            <a:xfrm>
              <a:off x="6177600" y="2624400"/>
              <a:ext cx="1441800" cy="433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:=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utoShape 499"/>
            <p:cNvSpPr/>
            <p:nvPr/>
          </p:nvSpPr>
          <p:spPr>
            <a:xfrm>
              <a:off x="6307560" y="6418440"/>
              <a:ext cx="1368720" cy="365040"/>
            </a:xfrm>
            <a:prstGeom prst="flowChartTerminator">
              <a:avLst/>
            </a:prstGeom>
            <a:solidFill>
              <a:srgbClr val="ffffff"/>
            </a:solidFill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онец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511"/>
            <p:cNvSpPr/>
            <p:nvPr/>
          </p:nvSpPr>
          <p:spPr>
            <a:xfrm>
              <a:off x="5220000" y="3285360"/>
              <a:ext cx="164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Группа 1"/>
            <p:cNvGrpSpPr/>
            <p:nvPr/>
          </p:nvGrpSpPr>
          <p:grpSpPr>
            <a:xfrm>
              <a:off x="5219640" y="3057480"/>
              <a:ext cx="3213000" cy="3095640"/>
              <a:chOff x="5219640" y="3057480"/>
              <a:chExt cx="3213000" cy="3095640"/>
            </a:xfrm>
          </p:grpSpPr>
          <p:sp>
            <p:nvSpPr>
              <p:cNvPr id="140" name="Line 488"/>
              <p:cNvSpPr/>
              <p:nvPr/>
            </p:nvSpPr>
            <p:spPr>
              <a:xfrm>
                <a:off x="5219640" y="5260320"/>
                <a:ext cx="1679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AutoShape 492"/>
              <p:cNvSpPr/>
              <p:nvPr/>
            </p:nvSpPr>
            <p:spPr>
              <a:xfrm>
                <a:off x="6239160" y="5721480"/>
                <a:ext cx="1437120" cy="431640"/>
              </a:xfrm>
              <a:prstGeom prst="flowChartInputOutput">
                <a:avLst/>
              </a:prstGeom>
              <a:solidFill>
                <a:srgbClr val="ffffff"/>
              </a:solidFill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d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Text Box 493"/>
              <p:cNvSpPr/>
              <p:nvPr/>
            </p:nvSpPr>
            <p:spPr>
              <a:xfrm>
                <a:off x="6941520" y="4195800"/>
                <a:ext cx="50328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д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AutoShape 500"/>
              <p:cNvSpPr/>
              <p:nvPr/>
            </p:nvSpPr>
            <p:spPr>
              <a:xfrm>
                <a:off x="5901840" y="3459960"/>
                <a:ext cx="1937160" cy="718920"/>
              </a:xfrm>
              <a:prstGeom prst="flowChartDecision">
                <a:avLst/>
              </a:prstGeom>
              <a:solidFill>
                <a:srgbClr val="ffffff"/>
              </a:solidFill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mod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d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&gt; 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502"/>
              <p:cNvSpPr/>
              <p:nvPr/>
            </p:nvSpPr>
            <p:spPr>
              <a:xfrm>
                <a:off x="6876360" y="3057480"/>
                <a:ext cx="0" cy="402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503"/>
              <p:cNvSpPr/>
              <p:nvPr/>
            </p:nvSpPr>
            <p:spPr>
              <a:xfrm>
                <a:off x="6876360" y="4179240"/>
                <a:ext cx="0" cy="64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505"/>
              <p:cNvSpPr/>
              <p:nvPr/>
            </p:nvSpPr>
            <p:spPr>
              <a:xfrm>
                <a:off x="8431920" y="3819600"/>
                <a:ext cx="720" cy="1614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506"/>
              <p:cNvSpPr/>
              <p:nvPr/>
            </p:nvSpPr>
            <p:spPr>
              <a:xfrm>
                <a:off x="7856280" y="3819600"/>
                <a:ext cx="57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507"/>
              <p:cNvSpPr/>
              <p:nvPr/>
            </p:nvSpPr>
            <p:spPr>
              <a:xfrm>
                <a:off x="6899400" y="4899960"/>
                <a:ext cx="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508"/>
              <p:cNvSpPr/>
              <p:nvPr/>
            </p:nvSpPr>
            <p:spPr>
              <a:xfrm>
                <a:off x="6921000" y="5434200"/>
                <a:ext cx="1510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512"/>
              <p:cNvSpPr/>
              <p:nvPr/>
            </p:nvSpPr>
            <p:spPr>
              <a:xfrm>
                <a:off x="6941520" y="5434200"/>
                <a:ext cx="0" cy="287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 Box 514"/>
              <p:cNvSpPr/>
              <p:nvPr/>
            </p:nvSpPr>
            <p:spPr>
              <a:xfrm>
                <a:off x="7856280" y="3489120"/>
                <a:ext cx="50328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нет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Line 515"/>
            <p:cNvSpPr/>
            <p:nvPr/>
          </p:nvSpPr>
          <p:spPr>
            <a:xfrm>
              <a:off x="6941520" y="615348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498"/>
            <p:cNvSpPr/>
            <p:nvPr/>
          </p:nvSpPr>
          <p:spPr>
            <a:xfrm>
              <a:off x="6144120" y="4466880"/>
              <a:ext cx="1441800" cy="433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:=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+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TextBox 2"/>
          <p:cNvSpPr/>
          <p:nvPr/>
        </p:nvSpPr>
        <p:spPr>
          <a:xfrm>
            <a:off x="731880" y="2336760"/>
            <a:ext cx="43718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десь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туральное число, большее 1. Его первый прост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елитель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ходится перебором всех возможных делителей, начиная с 2 – наименьшего простого числа. Если сам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кажется простым числом, то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будет присвоено значение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3"/>
          <p:cNvSpPr/>
          <p:nvPr/>
        </p:nvSpPr>
        <p:spPr>
          <a:xfrm>
            <a:off x="539640" y="14875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Алгоритм нахождения первого простого дел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Процедуры</a:t>
            </a:r>
            <a:r>
              <a:rPr b="1" lang="en-US" sz="4000" spc="-1" strike="noStrike">
                <a:solidFill>
                  <a:srgbClr val="1f497d"/>
                </a:solidFill>
                <a:latin typeface="Calibri"/>
                <a:ea typeface="Arial"/>
              </a:rPr>
              <a:t> Python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541440" y="1098720"/>
            <a:ext cx="533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Вспомогательный алгоритм при решении задачи разложения натурального числа на простые множи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Группа 1"/>
          <p:cNvGrpSpPr/>
          <p:nvPr/>
        </p:nvGrpSpPr>
        <p:grpSpPr>
          <a:xfrm>
            <a:off x="5301720" y="1339920"/>
            <a:ext cx="3213720" cy="4743360"/>
            <a:chOff x="5301720" y="1339920"/>
            <a:chExt cx="3213720" cy="4743360"/>
          </a:xfrm>
        </p:grpSpPr>
        <p:sp>
          <p:nvSpPr>
            <p:cNvPr id="159" name="Line 512"/>
            <p:cNvSpPr/>
            <p:nvPr/>
          </p:nvSpPr>
          <p:spPr>
            <a:xfrm>
              <a:off x="6943680" y="170640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491"/>
            <p:cNvSpPr/>
            <p:nvPr/>
          </p:nvSpPr>
          <p:spPr>
            <a:xfrm>
              <a:off x="6234120" y="1339920"/>
              <a:ext cx="1368360" cy="365040"/>
            </a:xfrm>
            <a:prstGeom prst="flowChartTerminator">
              <a:avLst/>
            </a:prstGeom>
            <a:solidFill>
              <a:srgbClr val="ffffff"/>
            </a:solidFill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ачал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496"/>
            <p:cNvSpPr/>
            <p:nvPr/>
          </p:nvSpPr>
          <p:spPr>
            <a:xfrm>
              <a:off x="6190920" y="1925640"/>
              <a:ext cx="1436760" cy="431640"/>
            </a:xfrm>
            <a:prstGeom prst="flowChartInputOutput">
              <a:avLst/>
            </a:prstGeom>
            <a:solidFill>
              <a:srgbClr val="ffffff"/>
            </a:solidFill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Группа 3"/>
            <p:cNvGrpSpPr/>
            <p:nvPr/>
          </p:nvGrpSpPr>
          <p:grpSpPr>
            <a:xfrm>
              <a:off x="5301720" y="2357280"/>
              <a:ext cx="3213720" cy="3726000"/>
              <a:chOff x="5301720" y="2357280"/>
              <a:chExt cx="3213720" cy="3726000"/>
            </a:xfrm>
          </p:grpSpPr>
          <p:sp>
            <p:nvSpPr>
              <p:cNvPr id="163" name="Line 489"/>
              <p:cNvSpPr/>
              <p:nvPr/>
            </p:nvSpPr>
            <p:spPr>
              <a:xfrm flipH="1">
                <a:off x="5301720" y="2582280"/>
                <a:ext cx="360" cy="2205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AutoShape 499"/>
              <p:cNvSpPr/>
              <p:nvPr/>
            </p:nvSpPr>
            <p:spPr>
              <a:xfrm>
                <a:off x="6390000" y="5718240"/>
                <a:ext cx="1369080" cy="365040"/>
              </a:xfrm>
              <a:prstGeom prst="flowChartTerminator">
                <a:avLst/>
              </a:prstGeom>
              <a:solidFill>
                <a:srgbClr val="ffffff"/>
              </a:solidFill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Конец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511"/>
              <p:cNvSpPr/>
              <p:nvPr/>
            </p:nvSpPr>
            <p:spPr>
              <a:xfrm>
                <a:off x="5302440" y="2584800"/>
                <a:ext cx="1648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6" name="Группа 51"/>
              <p:cNvGrpSpPr/>
              <p:nvPr/>
            </p:nvGrpSpPr>
            <p:grpSpPr>
              <a:xfrm>
                <a:off x="5302080" y="2357280"/>
                <a:ext cx="3213360" cy="3066840"/>
                <a:chOff x="5302080" y="2357280"/>
                <a:chExt cx="3213360" cy="3066840"/>
              </a:xfrm>
            </p:grpSpPr>
            <p:sp>
              <p:nvSpPr>
                <p:cNvPr id="167" name="Line 488"/>
                <p:cNvSpPr/>
                <p:nvPr/>
              </p:nvSpPr>
              <p:spPr>
                <a:xfrm>
                  <a:off x="5302080" y="4788360"/>
                  <a:ext cx="917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Text Box 493"/>
                <p:cNvSpPr/>
                <p:nvPr/>
              </p:nvSpPr>
              <p:spPr>
                <a:xfrm>
                  <a:off x="7023960" y="3495960"/>
                  <a:ext cx="50328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да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AutoShape 500"/>
                <p:cNvSpPr/>
                <p:nvPr/>
              </p:nvSpPr>
              <p:spPr>
                <a:xfrm>
                  <a:off x="5984280" y="2760120"/>
                  <a:ext cx="1937520" cy="719280"/>
                </a:xfrm>
                <a:prstGeom prst="flowChartDecision">
                  <a:avLst/>
                </a:prstGeom>
                <a:solidFill>
                  <a:srgbClr val="ffffff"/>
                </a:solidFill>
                <a:ln w="38160">
                  <a:solidFill>
                    <a:srgbClr val="01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 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</a:t>
                  </a: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d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&gt; 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Line 502"/>
                <p:cNvSpPr/>
                <p:nvPr/>
              </p:nvSpPr>
              <p:spPr>
                <a:xfrm>
                  <a:off x="6959160" y="2357280"/>
                  <a:ext cx="0" cy="402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Line 503"/>
                <p:cNvSpPr/>
                <p:nvPr/>
              </p:nvSpPr>
              <p:spPr>
                <a:xfrm>
                  <a:off x="6959160" y="3479400"/>
                  <a:ext cx="0" cy="647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Line 505"/>
                <p:cNvSpPr/>
                <p:nvPr/>
              </p:nvSpPr>
              <p:spPr>
                <a:xfrm>
                  <a:off x="8514720" y="3119760"/>
                  <a:ext cx="720" cy="2304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Line 506"/>
                <p:cNvSpPr/>
                <p:nvPr/>
              </p:nvSpPr>
              <p:spPr>
                <a:xfrm>
                  <a:off x="7939080" y="3119760"/>
                  <a:ext cx="576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Line 507"/>
                <p:cNvSpPr/>
                <p:nvPr/>
              </p:nvSpPr>
              <p:spPr>
                <a:xfrm>
                  <a:off x="6981840" y="4200120"/>
                  <a:ext cx="0" cy="360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Line 508"/>
                <p:cNvSpPr/>
                <p:nvPr/>
              </p:nvSpPr>
              <p:spPr>
                <a:xfrm>
                  <a:off x="7003440" y="5424120"/>
                  <a:ext cx="1511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Text Box 514"/>
                <p:cNvSpPr/>
                <p:nvPr/>
              </p:nvSpPr>
              <p:spPr>
                <a:xfrm>
                  <a:off x="7939080" y="2788920"/>
                  <a:ext cx="50328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" name="Line 515"/>
              <p:cNvSpPr/>
              <p:nvPr/>
            </p:nvSpPr>
            <p:spPr>
              <a:xfrm>
                <a:off x="7023960" y="5453280"/>
                <a:ext cx="0" cy="287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AutoShape 495"/>
            <p:cNvSpPr/>
            <p:nvPr/>
          </p:nvSpPr>
          <p:spPr>
            <a:xfrm>
              <a:off x="6099120" y="3781440"/>
              <a:ext cx="1765440" cy="573120"/>
            </a:xfrm>
            <a:prstGeom prst="flowChartPredefinedProcess">
              <a:avLst/>
            </a:prstGeom>
            <a:solidFill>
              <a:srgbClr val="ffffff"/>
            </a:solidFill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d (a, p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498"/>
            <p:cNvSpPr/>
            <p:nvPr/>
          </p:nvSpPr>
          <p:spPr>
            <a:xfrm>
              <a:off x="6238800" y="4554720"/>
              <a:ext cx="1441440" cy="433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:=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/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Box 2"/>
          <p:cNvSpPr/>
          <p:nvPr/>
        </p:nvSpPr>
        <p:spPr>
          <a:xfrm>
            <a:off x="731880" y="2336760"/>
            <a:ext cx="4371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спомогательный алгоритм нахождения первого простого делителя для некоторого числа мы назвали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p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 Его формальными параметрами являются переменные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; фактическими –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  <a:ea typeface="Arial"/>
              </a:rPr>
              <a:t>Ключевы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бъект 4"/>
          <p:cNvSpPr/>
          <p:nvPr/>
        </p:nvSpPr>
        <p:spPr>
          <a:xfrm>
            <a:off x="468360" y="1413000"/>
            <a:ext cx="836280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одпрограм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оцед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функ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рекурсивная функ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4"/>
          <p:cNvSpPr/>
          <p:nvPr/>
        </p:nvSpPr>
        <p:spPr>
          <a:xfrm>
            <a:off x="357120" y="260280"/>
            <a:ext cx="87868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  <a:ea typeface="Arial"/>
              </a:rPr>
              <a:t>Схема вызова вспомогательного алгорит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22"/>
          <p:cNvGrpSpPr/>
          <p:nvPr/>
        </p:nvGrpSpPr>
        <p:grpSpPr>
          <a:xfrm>
            <a:off x="2195640" y="1389240"/>
            <a:ext cx="5616360" cy="4897440"/>
            <a:chOff x="2195640" y="1389240"/>
            <a:chExt cx="5616360" cy="4897440"/>
          </a:xfrm>
        </p:grpSpPr>
        <p:sp>
          <p:nvSpPr>
            <p:cNvPr id="183" name="Rectangle 23"/>
            <p:cNvSpPr/>
            <p:nvPr/>
          </p:nvSpPr>
          <p:spPr>
            <a:xfrm>
              <a:off x="2482560" y="1389240"/>
              <a:ext cx="4536720" cy="2303640"/>
            </a:xfrm>
            <a:prstGeom prst="rect">
              <a:avLst/>
            </a:prstGeom>
            <a:solidFill>
              <a:srgbClr val="d1e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сновной алгорит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24"/>
            <p:cNvSpPr/>
            <p:nvPr/>
          </p:nvSpPr>
          <p:spPr>
            <a:xfrm>
              <a:off x="2771640" y="2109960"/>
              <a:ext cx="3816000" cy="1225440"/>
            </a:xfrm>
            <a:prstGeom prst="flowChartPredefined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мя вспомогательног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лгоритма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(списо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фактических параметров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25"/>
            <p:cNvSpPr/>
            <p:nvPr/>
          </p:nvSpPr>
          <p:spPr>
            <a:xfrm>
              <a:off x="2500200" y="4480200"/>
              <a:ext cx="4608000" cy="1584360"/>
            </a:xfrm>
            <a:prstGeom prst="rect">
              <a:avLst/>
            </a:prstGeom>
            <a:solidFill>
              <a:srgbClr val="d1e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спомогательный алгорит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Формальные аргумен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Формальные аргумен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26"/>
            <p:cNvSpPr/>
            <p:nvPr/>
          </p:nvSpPr>
          <p:spPr>
            <a:xfrm>
              <a:off x="4714560" y="189396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7"/>
            <p:cNvSpPr/>
            <p:nvPr/>
          </p:nvSpPr>
          <p:spPr>
            <a:xfrm>
              <a:off x="4714560" y="2975040"/>
              <a:ext cx="0" cy="1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28"/>
            <p:cNvSpPr/>
            <p:nvPr/>
          </p:nvSpPr>
          <p:spPr>
            <a:xfrm>
              <a:off x="4714560" y="3262680"/>
              <a:ext cx="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29"/>
            <p:cNvSpPr/>
            <p:nvPr/>
          </p:nvSpPr>
          <p:spPr>
            <a:xfrm>
              <a:off x="4714560" y="3117960"/>
              <a:ext cx="3097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30"/>
            <p:cNvSpPr/>
            <p:nvPr/>
          </p:nvSpPr>
          <p:spPr>
            <a:xfrm>
              <a:off x="4714560" y="3262680"/>
              <a:ext cx="259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31"/>
            <p:cNvSpPr/>
            <p:nvPr/>
          </p:nvSpPr>
          <p:spPr>
            <a:xfrm>
              <a:off x="2195640" y="3910320"/>
              <a:ext cx="511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32"/>
            <p:cNvSpPr/>
            <p:nvPr/>
          </p:nvSpPr>
          <p:spPr>
            <a:xfrm>
              <a:off x="4714560" y="4197600"/>
              <a:ext cx="3097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33"/>
            <p:cNvSpPr/>
            <p:nvPr/>
          </p:nvSpPr>
          <p:spPr>
            <a:xfrm>
              <a:off x="4714560" y="419760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34"/>
            <p:cNvSpPr/>
            <p:nvPr/>
          </p:nvSpPr>
          <p:spPr>
            <a:xfrm>
              <a:off x="7307280" y="3262680"/>
              <a:ext cx="0" cy="64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35"/>
            <p:cNvSpPr/>
            <p:nvPr/>
          </p:nvSpPr>
          <p:spPr>
            <a:xfrm>
              <a:off x="7812000" y="3117960"/>
              <a:ext cx="0" cy="10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36"/>
            <p:cNvSpPr/>
            <p:nvPr/>
          </p:nvSpPr>
          <p:spPr>
            <a:xfrm>
              <a:off x="2195640" y="3910320"/>
              <a:ext cx="0" cy="23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37"/>
            <p:cNvSpPr/>
            <p:nvPr/>
          </p:nvSpPr>
          <p:spPr>
            <a:xfrm>
              <a:off x="2195640" y="6286680"/>
              <a:ext cx="259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38"/>
            <p:cNvSpPr/>
            <p:nvPr/>
          </p:nvSpPr>
          <p:spPr>
            <a:xfrm>
              <a:off x="4787640" y="607068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edge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0"/>
          <p:cNvSpPr/>
          <p:nvPr/>
        </p:nvSpPr>
        <p:spPr>
          <a:xfrm>
            <a:off x="611280" y="692280"/>
            <a:ext cx="8208720" cy="865080"/>
          </a:xfrm>
          <a:prstGeom prst="rect">
            <a:avLst/>
          </a:prstGeom>
          <a:solidFill>
            <a:srgbClr val="d1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Функции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642960" y="714240"/>
            <a:ext cx="8177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Функци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– подпрограмма, имеющая единственный результат, записываемый в ячейку памя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380880" y="3965400"/>
            <a:ext cx="8425080" cy="22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Функция начинается со служебного слова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. После этого записывается имя функции, скобки и двоеточие. Операторы, которые входят в тело функции, записывается с отступом. После оператор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return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записывается результат, который возвращает функци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 языке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ython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есть встроенная функция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ax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, вычисляющая максимальное знач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2"/>
          <p:cNvSpPr/>
          <p:nvPr/>
        </p:nvSpPr>
        <p:spPr>
          <a:xfrm>
            <a:off x="576360" y="168444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 отличие от процедуры, функция не только выполняет какие-то команды, но возвращает результат в виде числа, символьной строки ил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2"/>
          <p:cNvSpPr/>
          <p:nvPr/>
        </p:nvSpPr>
        <p:spPr>
          <a:xfrm>
            <a:off x="592200" y="240516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писание функции имеет вид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3"/>
          <p:cNvSpPr/>
          <p:nvPr/>
        </p:nvSpPr>
        <p:spPr>
          <a:xfrm>
            <a:off x="2538360" y="2908440"/>
            <a:ext cx="4572000" cy="916920"/>
          </a:xfrm>
          <a:prstGeom prst="rect">
            <a:avLst/>
          </a:prstGeom>
          <a:solidFill>
            <a:srgbClr val="e8fa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имя функции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операторы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результат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Функции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401760" y="765000"/>
            <a:ext cx="842328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 языке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ython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есть встроенная функция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x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, вычисляющая максимальное знач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8"/>
          <p:cNvSpPr/>
          <p:nvPr/>
        </p:nvSpPr>
        <p:spPr>
          <a:xfrm>
            <a:off x="3348000" y="1609560"/>
            <a:ext cx="3384720" cy="1923480"/>
          </a:xfrm>
          <a:prstGeom prst="rect">
            <a:avLst/>
          </a:prstGeom>
          <a:solidFill>
            <a:srgbClr val="e8fa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x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, b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a &gt; b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 =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 =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401760" y="3681360"/>
            <a:ext cx="84232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 функции можно сразу вывести на экран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11"/>
          <p:cNvSpPr/>
          <p:nvPr/>
        </p:nvSpPr>
        <p:spPr>
          <a:xfrm>
            <a:off x="3351240" y="4197240"/>
            <a:ext cx="3384360" cy="398880"/>
          </a:xfrm>
          <a:prstGeom prst="rect">
            <a:avLst/>
          </a:prstGeom>
          <a:solidFill>
            <a:srgbClr val="e8fa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(max(6,8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401760" y="4610160"/>
            <a:ext cx="842328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Также мы можем присвоить результат работы функции любой глобальной переменной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15"/>
          <p:cNvSpPr/>
          <p:nvPr/>
        </p:nvSpPr>
        <p:spPr>
          <a:xfrm>
            <a:off x="3348000" y="5305320"/>
            <a:ext cx="3384720" cy="398880"/>
          </a:xfrm>
          <a:prstGeom prst="rect">
            <a:avLst/>
          </a:prstGeom>
          <a:solidFill>
            <a:srgbClr val="e8fa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max(6,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401760" y="5773680"/>
            <a:ext cx="84232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дна функция может вызвать другу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Функции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401760" y="765000"/>
            <a:ext cx="842328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Запишем программу нахождения максимального из четырех целых чисел, использующую функцию поиска максимального из двух чисе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8"/>
          <p:cNvSpPr/>
          <p:nvPr/>
        </p:nvSpPr>
        <p:spPr>
          <a:xfrm>
            <a:off x="1908000" y="1779480"/>
            <a:ext cx="6372360" cy="2838240"/>
          </a:xfrm>
          <a:prstGeom prst="rect">
            <a:avLst/>
          </a:prstGeom>
          <a:solidFill>
            <a:srgbClr val="e8fa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x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, b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a &gt; b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 =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 =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, b, c, d = map(int,input().split(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 = max(max(a, b),max(c, d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‘f = ’,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1"/>
          <p:cNvSpPr/>
          <p:nvPr/>
        </p:nvSpPr>
        <p:spPr>
          <a:xfrm>
            <a:off x="576360" y="5342040"/>
            <a:ext cx="85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змените программу так, чтобы с ее помощью можно было най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) максимальное из чисел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,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) максимальное из чисел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, c, 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) минимальное из четырех чисе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) разность максимального и минимального из четырех чис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13"/>
          <p:cNvSpPr/>
          <p:nvPr/>
        </p:nvSpPr>
        <p:spPr>
          <a:xfrm>
            <a:off x="611280" y="4695840"/>
            <a:ext cx="85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, b, c, d = map(int,input().split())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вод строковых величин, разделенных пробел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Напишем программ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1"/>
          <p:cNvSpPr/>
          <p:nvPr/>
        </p:nvSpPr>
        <p:spPr>
          <a:xfrm>
            <a:off x="611280" y="765000"/>
            <a:ext cx="85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змените программу так, чтобы с ее помощью можно было най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) максимальное из чисел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,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2"/>
          <p:cNvSpPr/>
          <p:nvPr/>
        </p:nvSpPr>
        <p:spPr>
          <a:xfrm>
            <a:off x="826920" y="1411200"/>
            <a:ext cx="604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max(a, 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a &gt; b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 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 =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, b, c = map(int,input().split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 = max(max(a, b),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'f = ',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3"/>
          <p:cNvSpPr/>
          <p:nvPr/>
        </p:nvSpPr>
        <p:spPr>
          <a:xfrm>
            <a:off x="696240" y="3962520"/>
            <a:ext cx="37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) максимальное из чисел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, c, 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4"/>
          <p:cNvSpPr/>
          <p:nvPr/>
        </p:nvSpPr>
        <p:spPr>
          <a:xfrm>
            <a:off x="826920" y="4272120"/>
            <a:ext cx="6083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max(a, 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a &gt; b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 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 =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, c, d = map(int,input().split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 = max(max(b,c),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'f = ',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" descr="https://www.vinaysahni.com/images/posts/best-practices-for-a-pragmatic-restful-api/_header.png"/>
          <p:cNvPicPr/>
          <p:nvPr/>
        </p:nvPicPr>
        <p:blipFill>
          <a:blip r:embed="rId2"/>
          <a:stretch/>
        </p:blipFill>
        <p:spPr>
          <a:xfrm>
            <a:off x="5595840" y="4272120"/>
            <a:ext cx="3548160" cy="24541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Напишем программу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5"/>
          <p:cNvSpPr/>
          <p:nvPr/>
        </p:nvSpPr>
        <p:spPr>
          <a:xfrm>
            <a:off x="693360" y="646200"/>
            <a:ext cx="396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) минимальное из четырех чисе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6"/>
          <p:cNvSpPr/>
          <p:nvPr/>
        </p:nvSpPr>
        <p:spPr>
          <a:xfrm>
            <a:off x="836640" y="998640"/>
            <a:ext cx="6399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min(a, 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a &lt; b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 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 =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, b, c, d = map(int,input().split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 = min(min(a,b),min(c,d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'f = ',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" descr="https://www.vinaysahni.com/images/posts/best-practices-for-a-pragmatic-restful-api/_header.png"/>
          <p:cNvPicPr/>
          <p:nvPr/>
        </p:nvPicPr>
        <p:blipFill>
          <a:blip r:embed="rId2"/>
          <a:stretch/>
        </p:blipFill>
        <p:spPr>
          <a:xfrm>
            <a:off x="4211640" y="3529080"/>
            <a:ext cx="4487760" cy="31017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Напишем программу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2" descr="https://www.vinaysahni.com/images/posts/best-practices-for-a-pragmatic-restful-api/_header.png"/>
          <p:cNvPicPr/>
          <p:nvPr/>
        </p:nvPicPr>
        <p:blipFill>
          <a:blip r:embed="rId2"/>
          <a:stretch/>
        </p:blipFill>
        <p:spPr>
          <a:xfrm>
            <a:off x="4441680" y="1197000"/>
            <a:ext cx="4486320" cy="3102120"/>
          </a:xfrm>
          <a:prstGeom prst="rect">
            <a:avLst/>
          </a:prstGeom>
          <a:ln w="0">
            <a:noFill/>
          </a:ln>
        </p:spPr>
      </p:pic>
      <p:sp>
        <p:nvSpPr>
          <p:cNvPr id="231" name="Прямоугольник 1"/>
          <p:cNvSpPr/>
          <p:nvPr/>
        </p:nvSpPr>
        <p:spPr>
          <a:xfrm>
            <a:off x="539640" y="609480"/>
            <a:ext cx="718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) разность максимального и минимального из четырех чис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2"/>
          <p:cNvSpPr/>
          <p:nvPr/>
        </p:nvSpPr>
        <p:spPr>
          <a:xfrm>
            <a:off x="1023840" y="1176480"/>
            <a:ext cx="78710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max(a, 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a &gt; b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 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 =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min(a, 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a &lt; b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 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 =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, b, c, d = map(int,input().split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 = max(max(a, b),max(c, d))- min(min(a,b),min(c,d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'f = ',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Напишем программу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1"/>
          <p:cNvSpPr/>
          <p:nvPr/>
        </p:nvSpPr>
        <p:spPr>
          <a:xfrm>
            <a:off x="574560" y="981000"/>
            <a:ext cx="831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оп. главы к учебнику, параграф 2.1, вопросы и задания № 1 – 7 к параграфу, № 87 РТ (часть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  <a:ea typeface="Arial"/>
              </a:rPr>
              <a:t>Опорный кон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2"/>
          <p:cNvSpPr/>
          <p:nvPr/>
        </p:nvSpPr>
        <p:spPr>
          <a:xfrm>
            <a:off x="539640" y="836640"/>
            <a:ext cx="8280360" cy="1099440"/>
          </a:xfrm>
          <a:prstGeom prst="rect">
            <a:avLst/>
          </a:prstGeom>
          <a:noFill/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Запись вспомогательных алгоритмов в языках программирования осуществляется с помощью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дпрограмм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5"/>
          <p:cNvSpPr/>
          <p:nvPr/>
        </p:nvSpPr>
        <p:spPr>
          <a:xfrm>
            <a:off x="611280" y="4292640"/>
            <a:ext cx="3673440" cy="1434600"/>
          </a:xfrm>
          <a:prstGeom prst="rect">
            <a:avLst/>
          </a:prstGeom>
          <a:solidFill>
            <a:srgbClr val="e8fafc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дпрограмма, имеющая произвольное количество входных и выходных данны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6"/>
          <p:cNvSpPr/>
          <p:nvPr/>
        </p:nvSpPr>
        <p:spPr>
          <a:xfrm>
            <a:off x="4643280" y="4221000"/>
            <a:ext cx="4249800" cy="1769760"/>
          </a:xfrm>
          <a:prstGeom prst="rect">
            <a:avLst/>
          </a:prstGeom>
          <a:solidFill>
            <a:srgbClr val="e8fafc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дпрограмма, имеющая единственный результат, записываемый в ячейку памяти, имя которой совпадает с именем функц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8"/>
          <p:cNvSpPr/>
          <p:nvPr/>
        </p:nvSpPr>
        <p:spPr>
          <a:xfrm flipV="1">
            <a:off x="2340000" y="3860640"/>
            <a:ext cx="0" cy="43200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8"/>
          <p:cNvSpPr/>
          <p:nvPr/>
        </p:nvSpPr>
        <p:spPr>
          <a:xfrm flipV="1">
            <a:off x="6732720" y="3789000"/>
            <a:ext cx="0" cy="431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971640" y="3213000"/>
            <a:ext cx="280656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цеду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5292720" y="3141720"/>
            <a:ext cx="280656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унк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8"/>
          <p:cNvSpPr/>
          <p:nvPr/>
        </p:nvSpPr>
        <p:spPr>
          <a:xfrm flipH="1" flipV="1">
            <a:off x="5651280" y="2852280"/>
            <a:ext cx="215640" cy="2890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8"/>
          <p:cNvSpPr/>
          <p:nvPr/>
        </p:nvSpPr>
        <p:spPr>
          <a:xfrm flipV="1">
            <a:off x="3276720" y="2852280"/>
            <a:ext cx="21564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3060720" y="2205000"/>
            <a:ext cx="280656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дпрограм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Заголовок 2"/>
          <p:cNvSpPr/>
          <p:nvPr/>
        </p:nvSpPr>
        <p:spPr>
          <a:xfrm>
            <a:off x="539640" y="189000"/>
            <a:ext cx="8147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Подпрограмм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561960" y="1539720"/>
            <a:ext cx="8424720" cy="1434600"/>
          </a:xfrm>
          <a:prstGeom prst="rect">
            <a:avLst/>
          </a:prstGeom>
          <a:noFill/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Запись вспомогательных алгоритмов в языках программирования осуществляется с помощью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дпрограмм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ython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различают два вида подпрограм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Группа 5"/>
          <p:cNvGrpSpPr/>
          <p:nvPr/>
        </p:nvGrpSpPr>
        <p:grpSpPr>
          <a:xfrm>
            <a:off x="1908000" y="3500280"/>
            <a:ext cx="6050160" cy="1797120"/>
            <a:chOff x="1908000" y="3500280"/>
            <a:chExt cx="6050160" cy="1797120"/>
          </a:xfrm>
        </p:grpSpPr>
        <p:sp>
          <p:nvSpPr>
            <p:cNvPr id="56" name="Rectangle 5"/>
            <p:cNvSpPr/>
            <p:nvPr/>
          </p:nvSpPr>
          <p:spPr>
            <a:xfrm>
              <a:off x="1908000" y="4649760"/>
              <a:ext cx="2809800" cy="647640"/>
            </a:xfrm>
            <a:prstGeom prst="rect">
              <a:avLst/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Arial"/>
                </a:rPr>
                <a:t>Процедура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8"/>
            <p:cNvSpPr/>
            <p:nvPr/>
          </p:nvSpPr>
          <p:spPr>
            <a:xfrm flipV="1">
              <a:off x="4643280" y="4147920"/>
              <a:ext cx="215640" cy="50472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5"/>
            <p:cNvSpPr/>
            <p:nvPr/>
          </p:nvSpPr>
          <p:spPr>
            <a:xfrm>
              <a:off x="5148360" y="4649760"/>
              <a:ext cx="2809800" cy="647640"/>
            </a:xfrm>
            <a:prstGeom prst="rect">
              <a:avLst/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Arial"/>
                </a:rPr>
                <a:t>Функция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8"/>
            <p:cNvSpPr/>
            <p:nvPr/>
          </p:nvSpPr>
          <p:spPr>
            <a:xfrm flipH="1" flipV="1">
              <a:off x="5003280" y="4147920"/>
              <a:ext cx="215640" cy="50472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5"/>
            <p:cNvSpPr/>
            <p:nvPr/>
          </p:nvSpPr>
          <p:spPr>
            <a:xfrm>
              <a:off x="3274920" y="3500280"/>
              <a:ext cx="3299040" cy="635040"/>
            </a:xfrm>
            <a:prstGeom prst="rect">
              <a:avLst/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Подпрограмм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8"/>
          <p:cNvSpPr/>
          <p:nvPr/>
        </p:nvSpPr>
        <p:spPr>
          <a:xfrm>
            <a:off x="558720" y="1386000"/>
            <a:ext cx="8209080" cy="1181160"/>
          </a:xfrm>
          <a:prstGeom prst="rect">
            <a:avLst/>
          </a:prstGeom>
          <a:solidFill>
            <a:srgbClr val="c9c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Процедур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581040" y="1386000"/>
            <a:ext cx="8105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оцедур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– это подпрограмма, выполняющая некоторые действия; она может иметь произвольное количество заданных параметр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1868400" y="2917800"/>
            <a:ext cx="5754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писание процедуры имеет вид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1973160" y="3860640"/>
            <a:ext cx="5545080" cy="1373760"/>
          </a:xfrm>
          <a:prstGeom prst="rect">
            <a:avLst/>
          </a:prstGeom>
          <a:solidFill>
            <a:srgbClr val="c9c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имя процедуры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(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операторы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Процедуры</a:t>
            </a:r>
            <a:r>
              <a:rPr b="1" lang="en-US" sz="4000" spc="-1" strike="noStrike">
                <a:solidFill>
                  <a:srgbClr val="1f497d"/>
                </a:solidFill>
                <a:latin typeface="Calibri"/>
                <a:ea typeface="Arial"/>
              </a:rPr>
              <a:t> Python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539640" y="1268280"/>
            <a:ext cx="858384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оцедура начинается со служебного слова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(от англ.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efin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пределитель). После этого записывается имя процедуры, скобки и двоеточ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ператоры, которые входят в тело процедуры записываются отступом. Так мы показываем, какие команды входят в процедур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Для того, чтобы процедура заработала, ее необходимо вызвать по имени; причем таких вызовов может быть сколько угодн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оцедура должна быть определена к моменту ее вызова, т.е., должна быть выполнена команд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ef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оторая создает объект-процедуру в памяти. Если процедура вызывается из основной программы, то нужно поместить определение процедуры раньше точки ее вызо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Процедуры</a:t>
            </a:r>
            <a:r>
              <a:rPr b="1" lang="en-US" sz="4000" spc="-1" strike="noStrike">
                <a:solidFill>
                  <a:srgbClr val="1f497d"/>
                </a:solidFill>
                <a:latin typeface="Calibri"/>
                <a:ea typeface="Arial"/>
              </a:rPr>
              <a:t> Python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584280" y="2781360"/>
            <a:ext cx="8208720" cy="2654280"/>
          </a:xfrm>
          <a:prstGeom prst="rect">
            <a:avLst/>
          </a:prstGeom>
          <a:solidFill>
            <a:srgbClr val="e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git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11111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‘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Четыре строки из семи единиц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’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gi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gi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gi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gi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6"/>
          <p:cNvSpPr/>
          <p:nvPr/>
        </p:nvSpPr>
        <p:spPr>
          <a:xfrm>
            <a:off x="527040" y="993600"/>
            <a:ext cx="8321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имер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едположим, что требуется вывести четыре строки, каждая из которых состоит из семи единиц. Для этого создадим процедуру, которая выполнит вывод одной строки из семи единиц, и вызовем ее четыре раз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1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10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10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Процедуры</a:t>
            </a:r>
            <a:r>
              <a:rPr b="1" lang="en-US" sz="4000" spc="-1" strike="noStrike">
                <a:solidFill>
                  <a:srgbClr val="1f497d"/>
                </a:solidFill>
                <a:latin typeface="Calibri"/>
                <a:ea typeface="Arial"/>
              </a:rPr>
              <a:t> Python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2884320" y="2863800"/>
            <a:ext cx="3457800" cy="459720"/>
          </a:xfrm>
          <a:prstGeom prst="rect">
            <a:avLst/>
          </a:prstGeom>
          <a:solidFill>
            <a:srgbClr val="e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‘1’ * 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6"/>
          <p:cNvSpPr/>
          <p:nvPr/>
        </p:nvSpPr>
        <p:spPr>
          <a:xfrm>
            <a:off x="452520" y="711360"/>
            <a:ext cx="8321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едположим, что требуется вывести четыре строки, состоящие из семи, восьми, девяти и десяти единиц соответственн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Для этого создадим процедуру с параметром, определяющим длину стро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Чтобы вывести единицу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раз, воспользуемся командой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6"/>
          <p:cNvSpPr/>
          <p:nvPr/>
        </p:nvSpPr>
        <p:spPr>
          <a:xfrm>
            <a:off x="539640" y="3357720"/>
            <a:ext cx="8321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Чтобы использовать эту команду в процедуре, укажем в скобках переменную (параметр), значение которой и будет определять длину стро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4"/>
          <p:cNvSpPr/>
          <p:nvPr/>
        </p:nvSpPr>
        <p:spPr>
          <a:xfrm>
            <a:off x="2489040" y="4570560"/>
            <a:ext cx="4422960" cy="825480"/>
          </a:xfrm>
          <a:prstGeom prst="rect">
            <a:avLst/>
          </a:prstGeom>
          <a:solidFill>
            <a:srgbClr val="e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digit(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‘1’ * 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Процедуры</a:t>
            </a:r>
            <a:r>
              <a:rPr b="1" lang="en-US" sz="4000" spc="-1" strike="noStrike">
                <a:solidFill>
                  <a:srgbClr val="1f497d"/>
                </a:solidFill>
                <a:latin typeface="Calibri"/>
                <a:ea typeface="Arial"/>
              </a:rPr>
              <a:t> Python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6"/>
          <p:cNvSpPr/>
          <p:nvPr/>
        </p:nvSpPr>
        <p:spPr>
          <a:xfrm>
            <a:off x="452520" y="711360"/>
            <a:ext cx="8321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Чтобы вывести строку требуемой длины, нужно вызвать процедуру, указав в скобках значение параметра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т.е., количество символов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‘1’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571680" y="2205000"/>
            <a:ext cx="8243640" cy="2288520"/>
          </a:xfrm>
          <a:prstGeom prst="rect">
            <a:avLst/>
          </a:prstGeom>
          <a:solidFill>
            <a:srgbClr val="e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digit(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‘1’ * 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git(7) #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ыводит 7 единиц: 1111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git(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 #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ыводит 8 единиц: 11111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git(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 #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ыводит 9 единиц: 111111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git(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 #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ыводит 10 единиц: 1111111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1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1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1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1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1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Процедуры</a:t>
            </a:r>
            <a:r>
              <a:rPr b="1" lang="en-US" sz="4000" spc="-1" strike="noStrike">
                <a:solidFill>
                  <a:srgbClr val="1f497d"/>
                </a:solidFill>
                <a:latin typeface="Calibri"/>
                <a:ea typeface="Arial"/>
              </a:rPr>
              <a:t> Python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539640" y="1341360"/>
            <a:ext cx="83217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оцедура может зависеть от нескольких параметров. Давайте немного улучшим процедуру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igit(d,n)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делаем так, чтобы можно было изменять не только длину строки, но и цифры, из которых она строится. Для этого введем процедуру еще один параметр, который назовем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4"/>
          <p:cNvSpPr/>
          <p:nvPr/>
        </p:nvSpPr>
        <p:spPr>
          <a:xfrm>
            <a:off x="2627280" y="3573360"/>
            <a:ext cx="3720960" cy="825480"/>
          </a:xfrm>
          <a:prstGeom prst="rect">
            <a:avLst/>
          </a:prstGeom>
          <a:solidFill>
            <a:srgbClr val="e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digit(d,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d * 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Екатерина Сойникова</cp:lastModifiedBy>
  <dcterms:modified xsi:type="dcterms:W3CDTF">2024-01-03T17:29:55Z</dcterms:modified>
  <cp:revision>190</cp:revision>
  <dc:subject/>
  <dc:title>Презентация PowerPoint</dc:title>
</cp:coreProperties>
</file>