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4BA-EBA9-4CD1-B850-3FE7775C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02E-7D6F-4CA4-8E25-45763173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16C-C600-4FDA-A146-22D4DBB9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134-62F2-41EC-AD63-1A222FA6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E96-C9D1-4130-BD7B-9FCA0E37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366-B9A7-412E-8616-481C4394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B66-9500-49F7-9868-E0252715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8CE-73FE-4BFE-BA95-9FA782C6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105-E15D-45B5-9D01-6A7713D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E10-1EEB-44E8-9D78-5900BFF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DD3-D6E2-460E-8C00-DC1E4F8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26D-0178-4206-804D-24114D6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CAA2-69BD-426B-97DF-B450C0468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6-7 класс –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ид текстовой информации - 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фактуальн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(о чем в тексте сообщается в явном вид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25360"/>
            <a:ext cx="8075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«Называние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ём работы, основанный на присвоени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мени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голов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нализируемому материалу ( слайду, текст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«Исправление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пределение и корректиров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ерминологических или содержательн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й в тек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ерные/неверные утверждения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одержательный и смысловой выбор ответов или суждений, который осуществляется путём соотнесения предлагаемых высказываний с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м прочитанного или прослушанного текст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«Таблица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риём работы, основанный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тбор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внесении в таблицу необходим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«Сопоставление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 нахождение сходств и различий – приём работы, основанный на сравнении двух или более объектов, например: картинок, слов, текстов и т.д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имер: Грибы сочетают в себе признаки растений и животны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8-9 класс - подтекстовый вид текста (о чем в тексте сообщается в неявном виде, читается «между строк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Ассоциация»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анном приеме выстраивается ряд ассоциаций для осмысления определенной т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: Тема Клетка. Функции органоидов и частей клет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связист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ножницы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кухня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склад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белковый автомат -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энергостанция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грузовик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)углеводный автомат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)хранитель устоев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)защитник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school.xvatit.com/images/0/0b/8_7_16_1.png"/>
          <p:cNvPicPr/>
          <p:nvPr/>
        </p:nvPicPr>
        <p:blipFill>
          <a:blip r:embed="rId1"/>
          <a:srcRect l="0" t="0" r="0" b="19701"/>
          <a:stretch/>
        </p:blipFill>
        <p:spPr>
          <a:xfrm>
            <a:off x="250920" y="2852640"/>
            <a:ext cx="44179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ем «Фишбон»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рыбья кость»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прием СЧ позволяет учащимся «разбить» общую проблему  на ряд причин и аргументов. Визуальное изображение этого приема похоже на «рыбную кость» - в «голове» этого скелета обозначена проблема, которая неявно рассматривается в тексте. На самом скелете есть верхние и нижние косточки – это факты, которые ученики по ходу чтения обнаруживают и выписывают, через осмысление фактов решается пробл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: 9 класс Тема «Белки»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чему из сваренного яйца не появится цыплен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8-9 класс - вид текстовой информации -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подтекстов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    (о чем в тексте сообщается в неявном виде, читается «между строк»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ем «Кластер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 графического преобразования текста, суть которого заключается в том, что в середине листа записывается или зарисовывается основное слово     ( тема, термин, процесс), а по сторонам от него фиксируются идеи (слова, рисунки),  с ним связа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здайте кластер к тем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БИОСИНТЕЗ БЕЛКА»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утем нахождения логической связи между терминами и поняти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болизм, рибосома, трансляция, ядро, аминокислота, цитоплазма, триплеты, иРНК, генетический код, тРНК, транскрипция, ДНК, ферменты (ДНК-полимераза, РНК-синтетаза), бел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10-11 класс - вид текстовой информации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онцептуальн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(основная идея текста, его главный смысл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3:58:21Z</dcterms:created>
  <dc:creator>Admin</dc:creator>
  <dc:description/>
  <dc:language>en-US</dc:language>
  <cp:lastModifiedBy>Яна</cp:lastModifiedBy>
  <dcterms:modified xsi:type="dcterms:W3CDTF">2016-10-11T13:20:43Z</dcterms:modified>
  <cp:revision>96</cp:revision>
  <dc:subject/>
  <dc:title>Слайд 1</dc:title>
</cp:coreProperties>
</file>