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79B-18AB-4762-84A6-A7166F2C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1573-59EB-44EF-9461-B9D123F7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6FA-F731-41FA-B215-AD789DE0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48A3-F9B7-410B-B236-AF639C9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7DC-0748-4D6A-958F-05B1118D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D0E5-6BF6-44CA-88A1-3DFFC180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A22-AD5E-45C5-820F-DD077DBB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4A4-76B9-48EA-A8B0-6F030C64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D4B-F8D1-4864-B735-365DD411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0AF-AE49-497F-AC38-90B79157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0B0-3BDE-4759-86F5-84CA4FF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998-4D57-454B-A28F-7531435A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994A-98E7-4BD9-B756-7826565B60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90360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6-7 класс –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вид текстовой информации - 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фак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 чем в тексте сообщается в явном вид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25360"/>
            <a:ext cx="80755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Называние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ём работы, основанный на присвоени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имени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аголов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анализируемому материалу ( слайду, тексту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Испр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определение и корректировк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терминологических или содержательны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рушений в текс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м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ерные/неверные утверждения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содержательный и смысловой выбор ответов или суждений, который осуществляется путём соотнесения предлагаемых высказываний с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м прочитанного или прослушанного текст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«Таблица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приём работы, основанный н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отбор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внесении в таблицу необходимой информаци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«Сопоставление»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 нахождение сходств и различий – приём работы, основанный на сравнении двух или более объектов, например: картинок, слов, текстов и т.д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Пример: Грибы сочетают в себе признаки растений и животных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8-9 класс - подтекстовый вид текста (о чем в тексте сообщается в неявном виде, читается «между строк»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ем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ссоциация»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анном приеме выстраивается ряд ассоциаций для осмысления определенной те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ример: Тема Клетка. Функции органоидов и частей клет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связист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ножницы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кухн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)склад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)белковый автомат -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)энергостанция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)грузов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)углеводный автомат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)хранитель устоев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)защитник клетки - 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school.xvatit.com/images/0/0b/8_7_16_1.png"/>
          <p:cNvPicPr/>
          <p:nvPr/>
        </p:nvPicPr>
        <p:blipFill>
          <a:blip r:embed="rId1"/>
          <a:srcRect l="0" t="0" r="0" b="19701"/>
          <a:stretch/>
        </p:blipFill>
        <p:spPr>
          <a:xfrm>
            <a:off x="250920" y="2852640"/>
            <a:ext cx="44179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Фишбон»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«рыбья кость»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т прием СЧ позволяет учащимся «разбить» общую проблему  на ряд причин и аргументов. Визуальное изображение этого приема похоже на «рыбную кость» - в «голове» этого скелета обозначена проблема, которая неявно рассматривается в тексте. На самом скелете есть верхние и нижние косточки – это факты, которые ученики по ходу чтения обнаруживают и выписывают, через осмысление фактов решается пробле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мер: 9 класс Тема «Белки»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чему из сваренного яйца не появится цыплен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8000" y="274320"/>
            <a:ext cx="925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8-9 класс - вид текстовой информации -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подтекстов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(о чем в тексте сообщается в неявном виде, читается «между строк»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ием «Кластер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 графического преобразования текста, суть которого заключается в том, что в середине листа записывается или зарисовывается основное слово     ( тема, термин, процесс), а по сторонам от него фиксируются идеи (слова, рисунки),  с ним связа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оздайте кластер к тем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БИОСИНТЕЗ БЕЛКА»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утем нахождения логической связи между терминами и понят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болизм, рибосома, трансляция, ядро, аминокислота, цитоплазма, триплеты, иРНК, генетический код, тРНК, транскрипция, ДНК, ферменты (ДНК-полимераза, РНК-синтетаза), бело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10-11 класс - вид текстовой информации </a:t>
            </a:r>
            <a:r>
              <a:rPr b="1" lang="ru-RU" sz="2800" spc="-1" strike="noStrike" u="sng">
                <a:solidFill>
                  <a:srgbClr val="1f497d"/>
                </a:solidFill>
                <a:uFillTx/>
                <a:latin typeface="Calibri"/>
              </a:rPr>
              <a:t>концептуальный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(основная идея текста, его главный смысл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3:58:21Z</dcterms:created>
  <dc:creator>Admin</dc:creator>
  <dc:description/>
  <dc:language>en-US</dc:language>
  <cp:lastModifiedBy>Яна</cp:lastModifiedBy>
  <dcterms:modified xsi:type="dcterms:W3CDTF">2016-10-11T13:20:43Z</dcterms:modified>
  <cp:revision>96</cp:revision>
  <dc:subject/>
  <dc:title>Слайд 1</dc:title>
</cp:coreProperties>
</file>