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3E0-E193-4F30-B092-660F3A4E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300-53AB-404B-AD08-9EE0791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6D0-08D3-4E2A-97B6-6A238CDB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5FE-CEAA-4096-A6C4-CF436FD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CAA-6945-4228-9A87-0802E085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4A2-4E61-419C-A67E-B4882ACC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32B-78E8-4467-B0A4-5E277162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1F0-B850-4516-AF9A-D4281001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395-AA68-44C0-974C-06E08C55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93C-55CF-455C-AC9C-E2D7EEB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BCB-7D9F-42D2-AC51-50F4E33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234-38D5-48BA-929C-CD3A7DD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A5DD-940E-4524-BE13-8E08643717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роном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чувствие и здоровье лучше, кровь лучше омывает мозг, у пожилых людей снижается риск инсуль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о много полных людей – мало физической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яки появляются так 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иес развивается быстрее из-за того, что слюна плохо стекает и не уносит микроорганизмы с зу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ежда на людях выглядит неряшливо – она плохо отвис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оловой матерчатые скат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уда мало б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дкую пищу надо часто мешать, она плохо прогревается, поэтому микроволновки незаме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ильники не нуж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sus\Desktop\АНИСИМОВА\картинки\фотки\луна.jpg"/>
          <p:cNvPicPr/>
          <p:nvPr/>
        </p:nvPicPr>
        <p:blipFill>
          <a:blip r:embed="rId2"/>
          <a:stretch/>
        </p:blipFill>
        <p:spPr>
          <a:xfrm>
            <a:off x="-5181480" y="-2057400"/>
            <a:ext cx="19506960" cy="109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имеет 4 этажа, так как лунный фундамент выдержит ещё один эт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ный метеоритный куп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 – Море Споко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з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ьные кольца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тбольные ворота выс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ч сплошной, без полости вну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ещение лампами без стеклянных бал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искусственном катке кататься трудно, лёд плохо плавится под лезвием конь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ать не легче, чем на Земле, глубина погружения такая 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 в школе высокие, вода по капиллярам поднимается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лья жёсткие. (третий закон Ньюто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коле проводят только влажную уборку, пыль долго не осе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 пылесос. А вот мокрая тряпка быстро сох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олеум служит д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экономили деньги на гвоздях – купили маленькие, но забивали в стену с той же силой, что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и заново учились пользоваться туа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 из сливных бачков вытекает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рная безопасность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ной – огонь не разгорается быстро из-за плохой конв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этой же причине курение не приносит удовольствия – приходится постоянно махать сигаретой, чтобы не потух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бус с двигателем внутреннего сгорания не работает – нет атмосферы. Ездим на электромобиле и солнцемобиле на гусеничном 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 над Луной всегда чёрное, даже днём, а в лунные ночи Земля так освещает Лунную поверхность, что можно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от свечами пользоваться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sus</cp:lastModifiedBy>
  <dcterms:modified xsi:type="dcterms:W3CDTF">2015-04-29T15:59:43Z</dcterms:modified>
  <cp:revision>80</cp:revision>
  <dc:subject/>
  <dc:title>TITLE</dc:title>
</cp:coreProperties>
</file>