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00A-B5F8-4918-92E3-E333F33B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7F4-A493-4EA2-AD9F-D288F2D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886-32ED-4924-939D-078F5533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0AB-BCBF-43E6-8028-8C383A9B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A94-1E1A-4614-8D2F-992AA7A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F9C-E70C-4808-B150-1FD19F21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DB8-CEF3-4AE9-A85F-A0E3652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7D7-075E-498A-ABB4-936029B2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35F-593A-4F3A-921D-2415F28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FFB-DDD1-4B93-848E-0C72337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225-9CA3-4F4D-8308-D007FF7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3B1-51BD-4C24-A06E-143B8CE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43D-E392-432A-B2C6-EE1307D13F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оно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чувствие и здоровье лучше, кровь лучше омывает мозг, у пожилых людей снижается риск инсуль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о много полных людей – мало физической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ки появляются так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иес развивается быстрее из-за того, что слюна плохо стекает и не уносит микроорганизмы с зу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жда на людях выглядит неряшливо – она плохо отви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оловой матерчатые скат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уда мало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дкую пищу надо часто мешать, она плохо прогревается, поэтому микроволновки незаме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ильники не нуж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sus\Desktop\АНИСИМОВА\картинки\фотки\луна.jpg"/>
          <p:cNvPicPr/>
          <p:nvPr/>
        </p:nvPicPr>
        <p:blipFill>
          <a:blip r:embed="rId2"/>
          <a:stretch/>
        </p:blipFill>
        <p:spPr>
          <a:xfrm>
            <a:off x="-5181480" y="-2057400"/>
            <a:ext cx="19506960" cy="109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имеет 4 этажа, так как лунный фундамент выдержит ещё один эт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ный метеоритный ку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 – Море Споко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з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ьные кольца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ьные ворота выс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 сплошной, без полости вну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ие лампами без стеклянных бал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искусственном катке кататься трудно, лёд плохо плавится под лезвием конь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ать не легче, чем на Земле, глубина погружения такая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 в школе высокие, вода по капиллярам поднимается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лья жёсткие. (третий закон Ньюто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коле проводят только влажную уборку, пыль долго не осе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 пылесос. А вот мокрая тряпка быстро сох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олеум служит д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экономили деньги на гвоздях – купили маленькие, но забивали в стену с той же силой, что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заново учились пользоваться туа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 из сливных бачков вытекает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рная безопаснос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ной – огонь не разгорается быстро из-за плохой конв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этой же причине курение не приносит удовольствия – приходится постоянно махать сигаретой, чтобы не потух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бус с двигателем внутреннего сгорания не работает – нет атмосферы. Ездим на электромобиле и солнцемобиле на гусеничном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 над Луной всегда чёрное, даже днём, а в лунные ночи Земля так освещает Лунную поверхность, что можно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т свечами пользоваться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sus</cp:lastModifiedBy>
  <dcterms:modified xsi:type="dcterms:W3CDTF">2015-04-29T15:59:43Z</dcterms:modified>
  <cp:revision>80</cp:revision>
  <dc:subject/>
  <dc:title>TITLE</dc:title>
</cp:coreProperties>
</file>