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B1AC-390A-4B90-89C7-E2C63971F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FA4F-50DB-400D-9E71-6294C4D86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5203-D929-4AE8-A10F-9247AD521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A480-DF98-47E8-AA86-FE8139EA0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B43B-CEE7-495F-8A05-B3D1E2E96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4CAF-4293-4975-94D6-309FBB150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0529-CF5F-422A-99CF-73F1B203D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D4AB-0FA3-4EEE-8E6D-234E21D05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6D5E-8477-4D2F-90C3-B9C2D2765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B75E-FF6B-40DC-B45C-26D4D2411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F162-065B-4EC7-8044-39A983A4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A03F-EA2A-4FA0-BBD2-7064D7A00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41776-4794-4D45-9AE3-13F69AB9595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унная школ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строном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ун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мочувствие и здоровье лучше, кровь лучше омывает мозг, у пожилых людей снижается риск инсуль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ало много полных людей – мало физической нагруз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няки появляются так ж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риес развивается быстрее из-за того, что слюна плохо стекает и не уносит микроорганизмы с зуб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ун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ежда на людях выглядит неряшливо – она плохо отвис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толовой матерчатые скатер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уда мало бьё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идкую пищу надо часто мешать, она плохо прогревается, поэтому микроволновки незамени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олодильники не нужн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C:\Users\Asus\Desktop\АНИСИМОВА\картинки\фотки\луна.jpg"/>
          <p:cNvPicPr/>
          <p:nvPr/>
        </p:nvPicPr>
        <p:blipFill>
          <a:blip r:embed="rId2"/>
          <a:stretch/>
        </p:blipFill>
        <p:spPr>
          <a:xfrm>
            <a:off x="-5181480" y="-2057400"/>
            <a:ext cx="19506960" cy="109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унная школ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а имеет 4 этажа, так как лунный фундамент выдержит ещё один этаж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ный метеоритный купо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дрес – Море Спокойств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ортза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скетбольные кольца высо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утбольные ворота высо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яч сплошной, без полости внут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вещение лампами без стеклянных балло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искусственном катке кататься трудно, лёд плохо плавится под лезвием конь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вать не легче, чем на Земле, глубина погружения такая ж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унная школ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тения в школе высокие, вода по капиллярам поднимается выш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улья жёсткие. (третий закон Ньютон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школе проводят только влажную уборку, пыль долго не осед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ьзуем пылесос. А вот мокрая тряпка быстро сохн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унная школ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нолеум служит дольш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экономили деньги на гвоздях – купили маленькие, но забивали в стену с той же силой, что и на Зем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унная школ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льчики заново учились пользоваться туале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да из сливных бачков вытекает плох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жарная безопасность луч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емной – огонь не разгорается быстро из-за плохой конвек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этой же причине курение не приносит удовольствия – приходится постоянно махать сигаретой, чтобы не потухл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унная школ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втобус с двигателем внутреннего сгорания не работает – нет атмосферы. Ездим на электромобиле и солнцемобиле на гусеничном хо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ун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бо над Луной всегда чёрное, даже днём, а в лунные ночи Земля так освещает Лунную поверхность, что можно чит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вот свечами пользоваться нельз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Asus</cp:lastModifiedBy>
  <dcterms:modified xsi:type="dcterms:W3CDTF">2015-04-29T15:59:43Z</dcterms:modified>
  <cp:revision>80</cp:revision>
  <dc:subject/>
  <dc:title>TITLE</dc:title>
</cp:coreProperties>
</file>